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1.jpeg" ContentType="image/jpeg"/>
  <Override PartName="/ppt/media/image2.jpeg" ContentType="image/jpeg"/>
  <Override PartName="/ppt/media/projctor.wav" ContentType="audio/x-wav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4BD4-0441-4A17-99FC-08EEDB24E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D0BD-B8DC-4D17-9D2D-065D33AA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6DA6-9EC1-4BE3-BDC3-A1CAC9014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03E5-2AB5-4D95-A35D-C609017F2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84E9-B7E4-49BC-989E-91228BB9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5571-7DF1-468D-9E59-F791A8B1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0FCD-C03C-4EE2-BE2B-C2DE6EE7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C70F-43AD-4AC7-A213-28513849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172B-BCD1-4374-8BA6-0382C5BB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BEC2-E477-42D0-8D1A-74438389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D572-D62B-4B54-AD1A-C87B7784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9D2B-E5A3-4FE7-8CB3-72AEC51B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0170-2C14-47C7-8911-0F22DB1C28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file:///tmp/home/.config/libreoffice/4/user/gallery/projctor.wav" TargetMode="External"/><Relationship Id="rId3" Type="http://schemas.microsoft.com/office/2007/relationships/media" Target="file:///tmp/home/.config/libreoffice/4/user/gallery/projctor.wav" TargetMode="Externa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image" Target="../media/image2.jpe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" Target="slide4.xml"/><Relationship Id="rId13" Type="http://schemas.openxmlformats.org/officeDocument/2006/relationships/slide" Target="slide4.xml"/><Relationship Id="rId14" Type="http://schemas.openxmlformats.org/officeDocument/2006/relationships/slide" Target="slide4.xml"/><Relationship Id="rId15" Type="http://schemas.openxmlformats.org/officeDocument/2006/relationships/slide" Target="slide5.xml"/><Relationship Id="rId16" Type="http://schemas.openxmlformats.org/officeDocument/2006/relationships/slide" Target="slide5.xml"/><Relationship Id="rId17" Type="http://schemas.openxmlformats.org/officeDocument/2006/relationships/slide" Target="slide5.xml"/><Relationship Id="rId18" Type="http://schemas.openxmlformats.org/officeDocument/2006/relationships/slide" Target="slide6.xml"/><Relationship Id="rId19" Type="http://schemas.openxmlformats.org/officeDocument/2006/relationships/slide" Target="slide6.xml"/><Relationship Id="rId20" Type="http://schemas.openxmlformats.org/officeDocument/2006/relationships/slide" Target="slide6.xml"/><Relationship Id="rId21" Type="http://schemas.openxmlformats.org/officeDocument/2006/relationships/slide" Target="slide7.xml"/><Relationship Id="rId22" Type="http://schemas.openxmlformats.org/officeDocument/2006/relationships/slide" Target="slide7.xml"/><Relationship Id="rId23" Type="http://schemas.openxmlformats.org/officeDocument/2006/relationships/slide" Target="slide7.xml"/><Relationship Id="rId24" Type="http://schemas.openxmlformats.org/officeDocument/2006/relationships/slide" Target="slide8.xml"/><Relationship Id="rId25" Type="http://schemas.openxmlformats.org/officeDocument/2006/relationships/slide" Target="slide8.xml"/><Relationship Id="rId26" Type="http://schemas.openxmlformats.org/officeDocument/2006/relationships/slide" Target="slide8.xml"/><Relationship Id="rId27" Type="http://schemas.openxmlformats.org/officeDocument/2006/relationships/slide" Target="slide9.xml"/><Relationship Id="rId28" Type="http://schemas.openxmlformats.org/officeDocument/2006/relationships/slide" Target="slide9.xml"/><Relationship Id="rId29" Type="http://schemas.openxmlformats.org/officeDocument/2006/relationships/slide" Target="slide9.xml"/><Relationship Id="rId30" Type="http://schemas.openxmlformats.org/officeDocument/2006/relationships/slide" Target="slide12.xml"/><Relationship Id="rId31" Type="http://schemas.openxmlformats.org/officeDocument/2006/relationships/slide" Target="slide12.xml"/><Relationship Id="rId32" Type="http://schemas.openxmlformats.org/officeDocument/2006/relationships/slide" Target="slide12.xml"/><Relationship Id="rId33" Type="http://schemas.openxmlformats.org/officeDocument/2006/relationships/slide" Target="slide12.xml"/><Relationship Id="rId34" Type="http://schemas.openxmlformats.org/officeDocument/2006/relationships/slide" Target="slide12.xml"/><Relationship Id="rId35" Type="http://schemas.openxmlformats.org/officeDocument/2006/relationships/slide" Target="slide13.xml"/><Relationship Id="rId36" Type="http://schemas.openxmlformats.org/officeDocument/2006/relationships/slide" Target="slide13.xml"/><Relationship Id="rId37" Type="http://schemas.openxmlformats.org/officeDocument/2006/relationships/slide" Target="slide13.xml"/><Relationship Id="rId38" Type="http://schemas.openxmlformats.org/officeDocument/2006/relationships/slide" Target="slide13.xml"/><Relationship Id="rId39" Type="http://schemas.openxmlformats.org/officeDocument/2006/relationships/slide" Target="slide13.xml"/><Relationship Id="rId40" Type="http://schemas.openxmlformats.org/officeDocument/2006/relationships/slide" Target="slide14.xml"/><Relationship Id="rId41" Type="http://schemas.openxmlformats.org/officeDocument/2006/relationships/slide" Target="slide14.xml"/><Relationship Id="rId42" Type="http://schemas.openxmlformats.org/officeDocument/2006/relationships/slide" Target="slide14.xml"/><Relationship Id="rId43" Type="http://schemas.openxmlformats.org/officeDocument/2006/relationships/slide" Target="slide14.xml"/><Relationship Id="rId44" Type="http://schemas.openxmlformats.org/officeDocument/2006/relationships/slide" Target="slide14.xml"/><Relationship Id="rId45" Type="http://schemas.openxmlformats.org/officeDocument/2006/relationships/slide" Target="slide15.xml"/><Relationship Id="rId46" Type="http://schemas.openxmlformats.org/officeDocument/2006/relationships/slide" Target="slide15.xml"/><Relationship Id="rId47" Type="http://schemas.openxmlformats.org/officeDocument/2006/relationships/slide" Target="slide15.xml"/><Relationship Id="rId48" Type="http://schemas.openxmlformats.org/officeDocument/2006/relationships/slide" Target="slide15.xml"/><Relationship Id="rId49" Type="http://schemas.openxmlformats.org/officeDocument/2006/relationships/slide" Target="slide15.xml"/><Relationship Id="rId50" Type="http://schemas.openxmlformats.org/officeDocument/2006/relationships/slide" Target="slide16.xml"/><Relationship Id="rId51" Type="http://schemas.openxmlformats.org/officeDocument/2006/relationships/slide" Target="slide16.xml"/><Relationship Id="rId52" Type="http://schemas.openxmlformats.org/officeDocument/2006/relationships/slide" Target="slide16.xml"/><Relationship Id="rId53" Type="http://schemas.openxmlformats.org/officeDocument/2006/relationships/slide" Target="slide16.xml"/><Relationship Id="rId54" Type="http://schemas.openxmlformats.org/officeDocument/2006/relationships/slide" Target="slide16.xml"/><Relationship Id="rId55" Type="http://schemas.openxmlformats.org/officeDocument/2006/relationships/audio" Target="../media/projctor.wav"/><Relationship Id="rId5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5.jpeg"/><Relationship Id="rId3" Type="http://schemas.openxmlformats.org/officeDocument/2006/relationships/slide" Target="slide2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676520" y="1066680"/>
            <a:ext cx="612144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深情的恋歌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780000" y="5013360"/>
            <a:ext cx="4267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ffcc"/>
                </a:solidFill>
                <a:latin typeface="宋体"/>
              </a:rPr>
              <a:t>制作：全南县第二中学　谭　燕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ffcc"/>
              </a:solidFill>
              <a:latin typeface="宋体"/>
              <a:ea typeface="宋体"/>
            </a:endParaRPr>
          </a:p>
        </p:txBody>
      </p:sp>
      <p:sp>
        <p:nvSpPr>
          <p:cNvPr id="46" name=""/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335268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————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《诗经》之《蒹葭》赏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9005-3_G0122_b001-GG88_COM" descr=""/>
          <p:cNvPicPr/>
          <p:nvPr/>
        </p:nvPicPr>
        <p:blipFill>
          <a:blip r:embed="rId1">
            <a:lum contrast="-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3520" y="533520"/>
            <a:ext cx="662940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讨论环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ff"/>
                </a:solidFill>
                <a:latin typeface="Arial"/>
                <a:ea typeface="仿宋_GB2312"/>
              </a:rPr>
              <a:t>让我们伴着优美的旋律走进水边芦苇。然后谈谈你在品读过此诗后感受到的意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913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7010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-304920" y="-228600"/>
            <a:ext cx="9906120" cy="7315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-304920" y="-304920"/>
            <a:ext cx="9906120" cy="7391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-304920" y="-304920"/>
            <a:ext cx="9906120" cy="73915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-304920" y="-304920"/>
            <a:ext cx="9906120" cy="7391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86868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222146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500"/>
                            </p:stCondLst>
                            <p:childTnLst>
                              <p:par>
                                <p:cTn id="145" nodeType="afterEffect" fill="hold" presetClass="entr" presetID="19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5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75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>
            <a:lum contrast="-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4360" y="1447920"/>
            <a:ext cx="75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  <a:ea typeface="仿宋_GB2312"/>
              </a:rPr>
              <a:t>在深秋的河边，一丛丛芦苇迎风招展，白色的花絮上有晶莹的露珠在闪烁 ，好似主人公——一位英俊少年盛开的心事，纷乱而又纯洁。远处，有个美丽女子的身影飘然而过，少年急忙去追寻。他沿着河岸向上游追溯，可是河水汹涌阻隔，只能远远地朦朦胧胧地看到她的裙裾飘在风中；他又顺着水流往下游寻觅，依然只是隐隐约约地瞥见她在河的中间，好像一个缥缈的幻影，可望而不可及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4000" y="404640"/>
            <a:ext cx="45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全诗共分三章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88680" y="1197000"/>
            <a:ext cx="6069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04920" y="1219320"/>
            <a:ext cx="4284000" cy="5255280"/>
            <a:chOff x="304920" y="1219320"/>
            <a:chExt cx="4284000" cy="5255280"/>
          </a:xfrm>
        </p:grpSpPr>
        <p:cxnSp>
          <p:nvCxnSpPr>
            <p:cNvPr id="122" name="_s22546"/>
            <p:cNvCxnSpPr>
              <a:stCxn id="123" idx="3"/>
              <a:endCxn id="124" idx="2"/>
            </p:cNvCxnSpPr>
            <p:nvPr/>
          </p:nvCxnSpPr>
          <p:spPr>
            <a:xfrm flipV="1">
              <a:off x="2875320" y="2174040"/>
              <a:ext cx="429120" cy="382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22545"/>
            <p:cNvCxnSpPr>
              <a:stCxn id="126" idx="3"/>
              <a:endCxn id="124" idx="2"/>
            </p:cNvCxnSpPr>
            <p:nvPr/>
          </p:nvCxnSpPr>
          <p:spPr>
            <a:xfrm flipV="1">
              <a:off x="2875320" y="2174040"/>
              <a:ext cx="429120" cy="238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22544"/>
            <p:cNvCxnSpPr>
              <a:stCxn id="128" idx="3"/>
              <a:endCxn id="124" idx="2"/>
            </p:cNvCxnSpPr>
            <p:nvPr/>
          </p:nvCxnSpPr>
          <p:spPr>
            <a:xfrm flipV="1">
              <a:off x="2875320" y="2174400"/>
              <a:ext cx="429120" cy="956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4" name="_s22540"/>
            <p:cNvSpPr/>
            <p:nvPr/>
          </p:nvSpPr>
          <p:spPr>
            <a:xfrm>
              <a:off x="2018520" y="1219320"/>
              <a:ext cx="2570400" cy="9554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990099"/>
                  </a:solidFill>
                  <a:latin typeface="Arial"/>
                </a:rPr>
                <a:t>时间的推移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2541"/>
            <p:cNvSpPr/>
            <p:nvPr/>
          </p:nvSpPr>
          <p:spPr>
            <a:xfrm>
              <a:off x="304920" y="2652480"/>
              <a:ext cx="2570400" cy="9554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990099"/>
                  </a:solidFill>
                  <a:latin typeface="Arial"/>
                </a:rPr>
                <a:t>１、白露为霜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2542"/>
            <p:cNvSpPr/>
            <p:nvPr/>
          </p:nvSpPr>
          <p:spPr>
            <a:xfrm>
              <a:off x="304920" y="4086000"/>
              <a:ext cx="2570400" cy="95544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990099"/>
                  </a:solidFill>
                  <a:latin typeface="Arial"/>
                </a:rPr>
                <a:t>２、白露未晞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2543"/>
            <p:cNvSpPr/>
            <p:nvPr/>
          </p:nvSpPr>
          <p:spPr>
            <a:xfrm>
              <a:off x="304920" y="5519160"/>
              <a:ext cx="2570400" cy="95544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990099"/>
                  </a:solidFill>
                  <a:latin typeface="Arial"/>
                </a:rPr>
                <a:t>３、白露未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4859280" y="1413000"/>
            <a:ext cx="3095640" cy="581400"/>
          </a:xfrm>
          <a:prstGeom prst="rect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小伙子的追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2781360"/>
            <a:ext cx="3816360" cy="581400"/>
          </a:xfrm>
          <a:prstGeom prst="rect">
            <a:avLst/>
          </a:prstGeom>
          <a:solidFill>
            <a:srgbClr val="cc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１、宛在水中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3716280"/>
            <a:ext cx="388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4005360"/>
            <a:ext cx="3889440" cy="581400"/>
          </a:xfrm>
          <a:prstGeom prst="rect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２、宛在水中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5445000"/>
            <a:ext cx="3960720" cy="581400"/>
          </a:xfrm>
          <a:prstGeom prst="rect">
            <a:avLst/>
          </a:prstGeom>
          <a:solidFill>
            <a:srgbClr val="cc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３、宛在水中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42900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4648320"/>
            <a:ext cx="533520" cy="761760"/>
          </a:xfrm>
          <a:prstGeom prst="downArrow">
            <a:avLst>
              <a:gd name="adj1" fmla="val 50000"/>
              <a:gd name="adj2" fmla="val 356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8" dur="2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24000" y="26028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体会诗经的语言魅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26828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Arial"/>
                <a:ea typeface="楷体_GB2312"/>
              </a:rPr>
              <a:t>重章叠句：是指一首诗由若干章构成，每章的字句基本相同，只对应地变换少数字词。这种重章叠句、反复咏唱的形式，便于尽情地抒发作者的感情，也便于诵读和记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43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68360" y="549360"/>
            <a:ext cx="748836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课外延伸：体会《蒹葭 》与下面这首诗的异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17720" y="1219320"/>
            <a:ext cx="806436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《木瓜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投我以木瓜， 报之以琼琚。 </a:t>
            </a:r>
            <a:br>
              <a:rPr sz="3200"/>
            </a:br>
            <a:r>
              <a:rPr b="1" i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匪报也， 永以为好也！ </a:t>
            </a:r>
            <a:br>
              <a:rPr sz="3200"/>
            </a:br>
            <a:br>
              <a:rPr sz="3200"/>
            </a:br>
            <a:r>
              <a:rPr b="1" i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投我以木桃， 报之以琼瑶。 </a:t>
            </a:r>
            <a:br>
              <a:rPr sz="3200"/>
            </a:br>
            <a:r>
              <a:rPr b="1" i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匪报也， 永以为好也！ </a:t>
            </a:r>
            <a:br>
              <a:rPr sz="3200"/>
            </a:br>
            <a:br>
              <a:rPr sz="3200"/>
            </a:br>
            <a:r>
              <a:rPr b="1" i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投我以木李， 报之以琼玖。 </a:t>
            </a:r>
            <a:br>
              <a:rPr sz="3200"/>
            </a:br>
            <a:r>
              <a:rPr b="1" i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匪报也， 永以为好也！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>
            <a:grayscl/>
            <a:lum contrast="-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2340000" y="5300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362320" y="548640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感谢评委指导，再见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1981080"/>
            <a:ext cx="8153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本课内容：《诗经》之《蒹葭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适用范围：人教版九年级语文（下册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参考资料：人教版九年级语文教材参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6" dur="222154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52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429000" y="533520"/>
            <a:ext cx="4648320" cy="9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第 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1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 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课件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第３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歌词鉴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第４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导入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第５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主题介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第６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学习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第７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诗歌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第８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字词解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第９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情境朗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第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页………………讨论环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第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11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2" action="ppaction://hlinksldjump"/>
              </a:rPr>
              <a:t>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3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4" action="ppaction://hlinksldjump"/>
              </a:rPr>
              <a:t>感受意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5" action="ppaction://hlinksldjump"/>
              </a:rPr>
              <a:t>第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6" action="ppaction://hlinksldjump"/>
              </a:rPr>
              <a:t>12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7" action="ppaction://hlinksldjump"/>
              </a:rPr>
              <a:t>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8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9" action="ppaction://hlinksldjump"/>
              </a:rPr>
              <a:t>诗歌赏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0" action="ppaction://hlinksldjump"/>
              </a:rPr>
              <a:t>第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1" action="ppaction://hlinksldjump"/>
              </a:rPr>
              <a:t>13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2" action="ppaction://hlinksldjump"/>
              </a:rPr>
              <a:t>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3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4" action="ppaction://hlinksldjump"/>
              </a:rPr>
              <a:t>品味语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5" action="ppaction://hlinksldjump"/>
              </a:rPr>
              <a:t>第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6" action="ppaction://hlinksldjump"/>
              </a:rPr>
              <a:t>14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7" action="ppaction://hlinksldjump"/>
              </a:rPr>
              <a:t>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8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9" action="ppaction://hlinksldjump"/>
              </a:rPr>
              <a:t>课外延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50" action="ppaction://hlinksldjump"/>
              </a:rPr>
              <a:t>第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51" action="ppaction://hlinksldjump"/>
              </a:rPr>
              <a:t>15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52" action="ppaction://hlinksldjump"/>
              </a:rPr>
              <a:t>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53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54" action="ppaction://hlinksldjump"/>
              </a:rPr>
              <a:t>致谢结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 rot="5400000">
            <a:off x="190440" y="2400120"/>
            <a:ext cx="327636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宋体"/>
              </a:rPr>
              <a:t>目 录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>
            <a:grayscl/>
            <a:lum bright="-18000"/>
          </a:blip>
          <a:stretch/>
        </p:blipFill>
        <p:spPr>
          <a:xfrm>
            <a:off x="-18108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76320" y="38160"/>
            <a:ext cx="944892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　　　　　　　在水一方 （琼瑶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绿草苍苍 白雾茫茫　有位佳人 　在水一方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绿草萋萋 白雾迷离　有位佳人 　靠水而居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愿逆流而上　依偎在她身旁　无奈前有险滩　道路又远又长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愿顺流而下　找寻她的方向　却见依稀仿佛　她在水的中央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愿逆流而上　与她轻言细语　无奈前有险滩　道路曲折无已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愿顺流而下　找寻她的踪迹　却见依稀仿佛　她在水中伫立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86868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63640" y="1447920"/>
            <a:ext cx="828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同学们，听了这首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你有何感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你是否在哪里见过这首歌的歌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说一说你悟出了歌曲怎样的主题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7924680" y="63244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9" h="21600">
                <a:moveTo>
                  <a:pt x="12413" y="10800"/>
                </a:moveTo>
                <a:lnTo>
                  <a:pt x="26426" y="3794"/>
                </a:lnTo>
                <a:lnTo>
                  <a:pt x="2642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24000" y="404640"/>
            <a:ext cx="3887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楷体_GB2312"/>
              </a:rPr>
              <a:t>爱情，是人类生活中的一个重要方面，以恋爱和婚姻为题材的作品在《诗经》中占有很大的比重，《诗经》中的爱情诗歌，大部分表现了劳动人民纯洁、朴实、健康的思想感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3" action="ppaction://hlinksldjump"/>
          </p:cNvPr>
          <p:cNvSpPr/>
          <p:nvPr/>
        </p:nvSpPr>
        <p:spPr>
          <a:xfrm>
            <a:off x="784872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86868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68360" y="1341360"/>
            <a:ext cx="79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１、背诵古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2421000"/>
            <a:ext cx="7561440" cy="26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２、理解古诗的内容，了解《诗经》中重章叠唱的表现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37893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３、体会两首诗中蕴涵的思想感情和意境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549360"/>
            <a:ext cx="446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蒹葭》学习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3" action="ppaction://hlinksldjump"/>
          </p:cNvPr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828800" y="457200"/>
            <a:ext cx="3429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457200"/>
            <a:ext cx="3048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蒹葭苍苍，白露为霜。所谓伊人，在水一方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溯洄从之，道阻且长。溯游从之，宛在水中央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蒹葭萋萋，白露未晞。所谓伊人，在水之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溯洄从之，道阻且跻，溯游从之，宛在水中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蒹葭采采，白露未已。所谓伊人，在水之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溯洄从之，道阻且右。溯游从之，宛在水中沚 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71800" y="91440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Arial"/>
                <a:ea typeface="黑体"/>
              </a:rPr>
              <a:t>《蒹葭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3" action="ppaction://hlinksldjump"/>
          </p:cNvPr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68360" y="981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字词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177336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蒹（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ji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ā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）葭（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ji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ā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）：指芦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306864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溯洄：逆流而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37893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溯游：顺流而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443700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跻（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ī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）：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501336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苍苍、萋萋、采采：都是指芦苇茂盛的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242100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伊人：那个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24000" y="692280"/>
            <a:ext cx="8569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932040"/>
            <a:ext cx="837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蒹葭苍苍，白露为霜。所谓伊人，在水一方！溯洄从之，道阻且长。溯游从之，宛在水中央。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蒹葭萋萋，白露未晞。所谓伊人，在水之湄。溯洄从之，道阻且跻，溯游从之，宛在水中坻。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蒹葭采采，白露未已。所谓伊人，在水之涘。溯洄从之，道阻且右。溯游从之，宛在水中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6868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4:16:37Z</dcterms:created>
  <dc:creator>Administrators</dc:creator>
  <dc:description/>
  <dc:language>en-US</dc:language>
  <cp:lastModifiedBy>微软用户</cp:lastModifiedBy>
  <dcterms:modified xsi:type="dcterms:W3CDTF">2008-04-26T05:44:53Z</dcterms:modified>
  <cp:revision>18</cp:revision>
  <dc:subject/>
  <dc:title>幻灯片 1</dc:title>
</cp:coreProperties>
</file>