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projctor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AF8-64BC-4A87-964E-CD644667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99A-729C-4C6B-B4B0-5BC57730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BA1-3914-48E2-AD63-F395772E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C2D-FEFF-47A1-BABF-84768B8B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2D7-77C0-410E-9583-78CBD462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228-AF8B-4E49-830B-9C5BC6E2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419-F06E-4B90-A9C2-EBE14E4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FA3-6AB7-48D0-ABDD-8CA25138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37D-3DA7-492F-8833-15370735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231-D9E6-4371-8F53-B8DFA61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7FC-7281-4EE7-83AA-51BF245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5B1-474B-4522-8F16-14CAF7CE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D41D-8724-4CD5-BBE6-1F2D00725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6.xml"/><Relationship Id="rId20" Type="http://schemas.openxmlformats.org/officeDocument/2006/relationships/slide" Target="slide6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9.xml"/><Relationship Id="rId28" Type="http://schemas.openxmlformats.org/officeDocument/2006/relationships/slide" Target="slide9.xml"/><Relationship Id="rId29" Type="http://schemas.openxmlformats.org/officeDocument/2006/relationships/slide" Target="slide9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12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3.xml"/><Relationship Id="rId40" Type="http://schemas.openxmlformats.org/officeDocument/2006/relationships/slide" Target="slide14.xml"/><Relationship Id="rId41" Type="http://schemas.openxmlformats.org/officeDocument/2006/relationships/slide" Target="slide14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5.xml"/><Relationship Id="rId46" Type="http://schemas.openxmlformats.org/officeDocument/2006/relationships/slide" Target="slide15.xml"/><Relationship Id="rId47" Type="http://schemas.openxmlformats.org/officeDocument/2006/relationships/slide" Target="slide15.xml"/><Relationship Id="rId48" Type="http://schemas.openxmlformats.org/officeDocument/2006/relationships/slide" Target="slide15.xml"/><Relationship Id="rId49" Type="http://schemas.openxmlformats.org/officeDocument/2006/relationships/slide" Target="slide15.xml"/><Relationship Id="rId50" Type="http://schemas.openxmlformats.org/officeDocument/2006/relationships/slide" Target="slide16.xml"/><Relationship Id="rId51" Type="http://schemas.openxmlformats.org/officeDocument/2006/relationships/slide" Target="slide16.xml"/><Relationship Id="rId52" Type="http://schemas.openxmlformats.org/officeDocument/2006/relationships/slide" Target="slide16.xml"/><Relationship Id="rId53" Type="http://schemas.openxmlformats.org/officeDocument/2006/relationships/slide" Target="slide16.xml"/><Relationship Id="rId54" Type="http://schemas.openxmlformats.org/officeDocument/2006/relationships/slide" Target="slide16.xml"/><Relationship Id="rId55" Type="http://schemas.openxmlformats.org/officeDocument/2006/relationships/audio" Target="../media/projctor.wav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066680"/>
            <a:ext cx="61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深情的恋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5013360"/>
            <a:ext cx="426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ffcc"/>
                </a:solidFill>
                <a:latin typeface="宋体"/>
              </a:rPr>
              <a:t>制作：全南县第二中学　谭　燕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ffcc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352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《诗经》之《蒹葭》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9005-3_G0122_b001-GG88_COM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533520"/>
            <a:ext cx="66294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讨论环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仿宋_GB2312"/>
              </a:rPr>
              <a:t>让我们伴着优美的旋律走进水边芦苇。然后谈谈你在品读过此诗后感受到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1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1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90612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221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447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仿宋_GB2312"/>
              </a:rPr>
              <a:t>在深秋的河边，一丛丛芦苇迎风招展，白色的花絮上有晶莹的露珠在闪烁 ，好似主人公——一位英俊少年盛开的心事，纷乱而又纯洁。远处，有个美丽女子的身影飘然而过，少年急忙去追寻。他沿着河岸向上游追溯，可是河水汹涌阻隔，只能远远地朦朦胧胧地看到她的裙裾飘在风中；他又顺着水流往下游寻觅，依然只是隐隐约约地瞥见她在河的中间，好像一个缥缈的幻影，可望而不可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04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诗共分三章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8680" y="1197000"/>
            <a:ext cx="606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1219320"/>
            <a:ext cx="4284000" cy="5255280"/>
            <a:chOff x="304920" y="1219320"/>
            <a:chExt cx="4284000" cy="5255280"/>
          </a:xfrm>
        </p:grpSpPr>
        <p:cxnSp>
          <p:nvCxnSpPr>
            <p:cNvPr id="122" name="_s22546"/>
            <p:cNvCxnSpPr>
              <a:stCxn id="123" idx="3"/>
              <a:endCxn id="124" idx="2"/>
            </p:cNvCxnSpPr>
            <p:nvPr/>
          </p:nvCxnSpPr>
          <p:spPr>
            <a:xfrm flipV="1">
              <a:off x="2875320" y="2174040"/>
              <a:ext cx="429120" cy="38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2545"/>
            <p:cNvCxnSpPr>
              <a:stCxn id="126" idx="3"/>
              <a:endCxn id="124" idx="2"/>
            </p:cNvCxnSpPr>
            <p:nvPr/>
          </p:nvCxnSpPr>
          <p:spPr>
            <a:xfrm flipV="1">
              <a:off x="2875320" y="2174040"/>
              <a:ext cx="429120" cy="238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2544"/>
            <p:cNvCxnSpPr>
              <a:stCxn id="128" idx="3"/>
              <a:endCxn id="124" idx="2"/>
            </p:cNvCxnSpPr>
            <p:nvPr/>
          </p:nvCxnSpPr>
          <p:spPr>
            <a:xfrm flipV="1">
              <a:off x="2875320" y="2174400"/>
              <a:ext cx="429120" cy="95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2540"/>
            <p:cNvSpPr/>
            <p:nvPr/>
          </p:nvSpPr>
          <p:spPr>
            <a:xfrm>
              <a:off x="2018520" y="121932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时间的推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1"/>
            <p:cNvSpPr/>
            <p:nvPr/>
          </p:nvSpPr>
          <p:spPr>
            <a:xfrm>
              <a:off x="304920" y="265248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１、白露为霜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42"/>
            <p:cNvSpPr/>
            <p:nvPr/>
          </p:nvSpPr>
          <p:spPr>
            <a:xfrm>
              <a:off x="304920" y="408600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２、白露未晞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43"/>
            <p:cNvSpPr/>
            <p:nvPr/>
          </p:nvSpPr>
          <p:spPr>
            <a:xfrm>
              <a:off x="304920" y="551916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３、白露未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59280" y="1413000"/>
            <a:ext cx="30956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小伙子的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781360"/>
            <a:ext cx="381636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１、宛在水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71628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05360"/>
            <a:ext cx="38894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２、宛在水中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45000"/>
            <a:ext cx="396072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３、宛在水中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6483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体会诗经的语言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268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重章叠句：是指一首诗由若干章构成，每章的字句基本相同，只对应地变换少数字词。这种重章叠句、反复咏唱的形式，便于尽情地抒发作者的感情，也便于诵读和记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49360"/>
            <a:ext cx="748836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课外延伸：体会《蒹葭 》与下面这首诗的异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7720" y="1219320"/>
            <a:ext cx="8064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《木瓜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瓜， 报之以琼琚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桃， 报之以琼瑶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李， 报之以琼玖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grayscl/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4000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2320" y="5486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感谢评委指导，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815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课内容：《诗经》之《蒹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适用范围：人教版九年级语文（下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考资料：人教版九年级语文教材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2215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533520"/>
            <a:ext cx="464832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第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课件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第３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歌词鉴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第４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第５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主题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第６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第７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诗歌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第８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字词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第９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情境朗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页………………讨论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1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感受意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2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诗歌赏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3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品味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14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课外延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15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致谢结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190440" y="240012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目 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6320" y="38160"/>
            <a:ext cx="9448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　在水一方 （琼瑶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苍苍 白雾茫茫　有位佳人 　在水一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萋萋 白雾迷离　有位佳人 　靠水而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依偎在她身旁　无奈前有险滩　道路又远又长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方向　却见依稀仿佛　她在水的中央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与她轻言细语　无奈前有险滩　道路曲折无已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踪迹　却见依稀仿佛　她在水中伫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144792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学们，听了这首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有何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是否在哪里见过这首歌的歌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说一说你悟出了歌曲怎样的主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9246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爱情，是人类生活中的一个重要方面，以恋爱和婚姻为题材的作品在《诗经》中占有很大的比重，《诗经》中的爱情诗歌，大部分表现了劳动人民纯洁、朴实、健康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784872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34136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１、背诵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756144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２、理解古诗的内容，了解《诗经》中重章叠唱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78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３、体会两首诗中蕴涵的思想感情和意境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蒹葭》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0" y="4572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苍苍，白露为霜。所谓伊人，在水一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长。溯游从之，宛在水中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萋萋，白露未晞。所谓伊人，在水之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跻，溯游从之，宛在水中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采采，白露未已。所谓伊人，在水之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右。溯游从之，宛在水中沚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《蒹葭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981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字词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7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葭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指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68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：逆流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78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游：顺流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437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跻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01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苍苍、萋萋、采采：都是指芦苇茂盛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1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伊人：那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69228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32040"/>
            <a:ext cx="837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苍苍，白露为霜。所谓伊人，在水一方！溯洄从之，道阻且长。溯游从之，宛在水中央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萋萋，白露未晞。所谓伊人，在水之湄。溯洄从之，道阻且跻，溯游从之，宛在水中坻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采采，白露未已。所谓伊人，在水之涘。溯洄从之，道阻且右。溯游从之，宛在水中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16:37Z</dcterms:created>
  <dc:creator>Administrators</dc:creator>
  <dc:description/>
  <dc:language>en-US</dc:language>
  <cp:lastModifiedBy>微软用户</cp:lastModifiedBy>
  <dcterms:modified xsi:type="dcterms:W3CDTF">2008-04-26T05:44:53Z</dcterms:modified>
  <cp:revision>18</cp:revision>
  <dc:subject/>
  <dc:title>幻灯片 1</dc:title>
</cp:coreProperties>
</file>