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5.gif" ContentType="image/gif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916-5C42-4189-857F-D2D8C4CA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A1C8-EC60-4129-87EE-30C782E5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AA2-F914-4228-AAD8-A5BE6C35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F687-29F3-4E04-89E0-7863E0A2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9B8-9A0B-4B1E-A2DE-EBEBD0F2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C8C-7CCB-4FD9-B4AD-ADDE5C24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030E-8DC8-4CBD-BF71-324F421A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EBE-BCFF-4923-BAE8-8E4DCCC2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DC1-1FB2-4704-8919-38E28D56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7E8-3447-4BF5-97E5-705EF683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6C69-289E-4D0B-8441-59BA4408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892-D2B3-41E2-BB81-B85BE35A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D122-3190-44C0-AE5E-BB8A6B8F25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image" Target="../media/image10.gif"/><Relationship Id="rId4" Type="http://schemas.openxmlformats.org/officeDocument/2006/relationships/slide" Target="slide10.xml"/><Relationship Id="rId5" Type="http://schemas.openxmlformats.org/officeDocument/2006/relationships/image" Target="../media/image10.gif"/><Relationship Id="rId6" Type="http://schemas.openxmlformats.org/officeDocument/2006/relationships/slide" Target="slide11.xml"/><Relationship Id="rId7" Type="http://schemas.openxmlformats.org/officeDocument/2006/relationships/image" Target="../media/image10.gif"/><Relationship Id="rId8" Type="http://schemas.openxmlformats.org/officeDocument/2006/relationships/slide" Target="slide24.xml"/><Relationship Id="rId9" Type="http://schemas.openxmlformats.org/officeDocument/2006/relationships/image" Target="../media/image10.gif"/><Relationship Id="rId10" Type="http://schemas.openxmlformats.org/officeDocument/2006/relationships/slide" Target="slide13.xml"/><Relationship Id="rId11" Type="http://schemas.openxmlformats.org/officeDocument/2006/relationships/image" Target="../media/image10.gif"/><Relationship Id="rId12" Type="http://schemas.openxmlformats.org/officeDocument/2006/relationships/slide" Target="slide14.xml"/><Relationship Id="rId13" Type="http://schemas.openxmlformats.org/officeDocument/2006/relationships/image" Target="../media/image10.gif"/><Relationship Id="rId14" Type="http://schemas.openxmlformats.org/officeDocument/2006/relationships/slide" Target="slide28.xml"/><Relationship Id="rId15" Type="http://schemas.openxmlformats.org/officeDocument/2006/relationships/image" Target="../media/image10.gif"/><Relationship Id="rId16" Type="http://schemas.openxmlformats.org/officeDocument/2006/relationships/slide" Target="slide16.xml"/><Relationship Id="rId17" Type="http://schemas.openxmlformats.org/officeDocument/2006/relationships/image" Target="../media/image10.gif"/><Relationship Id="rId18" Type="http://schemas.openxmlformats.org/officeDocument/2006/relationships/slide" Target="slide17.xml"/><Relationship Id="rId19" Type="http://schemas.openxmlformats.org/officeDocument/2006/relationships/image" Target="../media/image10.gif"/><Relationship Id="rId20" Type="http://schemas.openxmlformats.org/officeDocument/2006/relationships/slide" Target="slide18.xml"/><Relationship Id="rId21" Type="http://schemas.openxmlformats.org/officeDocument/2006/relationships/image" Target="../media/image10.gif"/><Relationship Id="rId22" Type="http://schemas.openxmlformats.org/officeDocument/2006/relationships/slide" Target="slide9.xml"/><Relationship Id="rId23" Type="http://schemas.openxmlformats.org/officeDocument/2006/relationships/image" Target="../media/image10.gif"/><Relationship Id="rId24" Type="http://schemas.openxmlformats.org/officeDocument/2006/relationships/slide" Target="slide20.xml"/><Relationship Id="rId25" Type="http://schemas.openxmlformats.org/officeDocument/2006/relationships/image" Target="../media/image10.gif"/><Relationship Id="rId26" Type="http://schemas.openxmlformats.org/officeDocument/2006/relationships/slide" Target="slide21.xml"/><Relationship Id="rId27" Type="http://schemas.openxmlformats.org/officeDocument/2006/relationships/image" Target="../media/image10.gif"/><Relationship Id="rId28" Type="http://schemas.openxmlformats.org/officeDocument/2006/relationships/slide" Target="slide20.xml"/><Relationship Id="rId29" Type="http://schemas.openxmlformats.org/officeDocument/2006/relationships/image" Target="../media/image10.gif"/><Relationship Id="rId30" Type="http://schemas.openxmlformats.org/officeDocument/2006/relationships/slide" Target="slide14.xml"/><Relationship Id="rId31" Type="http://schemas.openxmlformats.org/officeDocument/2006/relationships/slide" Target="slide17.xml"/><Relationship Id="rId32" Type="http://schemas.openxmlformats.org/officeDocument/2006/relationships/slide" Target="slide21.xml"/><Relationship Id="rId33" Type="http://schemas.openxmlformats.org/officeDocument/2006/relationships/slide" Target="slide22.xml"/><Relationship Id="rId34" Type="http://schemas.openxmlformats.org/officeDocument/2006/relationships/slide" Target="slide21.xml"/><Relationship Id="rId35" Type="http://schemas.openxmlformats.org/officeDocument/2006/relationships/slide" Target="slide24.xml"/><Relationship Id="rId36" Type="http://schemas.openxmlformats.org/officeDocument/2006/relationships/slide" Target="slide25.xml"/><Relationship Id="rId37" Type="http://schemas.openxmlformats.org/officeDocument/2006/relationships/slide" Target="slide26.xml"/><Relationship Id="rId38" Type="http://schemas.openxmlformats.org/officeDocument/2006/relationships/slide" Target="slide26.xml"/><Relationship Id="rId39" Type="http://schemas.openxmlformats.org/officeDocument/2006/relationships/slide" Target="slide18.xml"/><Relationship Id="rId40" Type="http://schemas.openxmlformats.org/officeDocument/2006/relationships/slide" Target="slide14.xml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75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4000" y="333360"/>
            <a:ext cx="655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欢迎进入课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3492360" y="6093000"/>
            <a:ext cx="565164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615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5280" y="115920"/>
            <a:ext cx="309564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精读课文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484280"/>
            <a:ext cx="80661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说太和殿是一个怎样的建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参考句式： 太和殿是一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建筑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0" r="0" b="35758"/>
          <a:stretch/>
        </p:blipFill>
        <p:spPr>
          <a:xfrm>
            <a:off x="0" y="2997360"/>
            <a:ext cx="9144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836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殿有一个约两米高的朱漆方台，安放着金漆雕龙宝座，雕龙屏。方台有六根高大的蟠龙金柱，每根大柱上盘绕着矫健的金龙。仰望殿顶，中央藻井有一条巨大的雕金蟠龙。从龙口里垂下一颗银白色大圆珠，环绕着六颗小珠，龙头、宝珠对着宝座。梁坊间彩画绚丽，有双龙戏珠、单龙翔舞，有行龙、升龙、降龙，多态多姿，龙身还衬托着流云火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18900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正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一个约两米高的朱漆方台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上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安放着金漆雕龙宝座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背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雕龙屏。方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六根高大的蟠龙金柱，每根大柱上盘绕着矫健的金龙。仰望殿顶，中央藻井有一条巨大的雕金蟠龙。从龙口里垂下一颗银白色大圆珠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周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环绕着六颗小珠，龙头、宝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下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宝座。梁坊间彩画绚丽，有双龙戏珠、单龙翔舞，有行龙、升龙、降龙，多态多姿，龙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周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衬托着流云火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229360"/>
            <a:ext cx="8064720" cy="581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选定立足点，准确运用方位词，体现说明文语言的准确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797360"/>
            <a:ext cx="8353440" cy="1015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、龙有象征意义，历代历朝的皇帝把自己神化为受命于天的“真龙天子”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把龙作为自己的化身，龙也是皇权的象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、故宫曾是封建统治的中心，它的建筑是为统治者服务，所以这也是说明对象的特征决定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98100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外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692280"/>
            <a:ext cx="287280" cy="2303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27280" y="6206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，面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3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平方米，正面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根红色大圆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80360" y="620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列数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220500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壮丽精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620640"/>
            <a:ext cx="12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气势雄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00360" y="2349360"/>
            <a:ext cx="439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黄色   格外辉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青蓝点金     色彩鲜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292640"/>
            <a:ext cx="86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内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4221000"/>
            <a:ext cx="287640" cy="2303640"/>
          </a:xfrm>
          <a:custGeom>
            <a:avLst/>
            <a:gdLst>
              <a:gd name="textAreaLeft" fmla="*/ 183960 w 287640"/>
              <a:gd name="textAreaRight" fmla="*/ 288000 w 28764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465300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庄严富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472428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龙为主 大殿正中及布置殿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>
            <a:lum bright="12000"/>
          </a:blip>
          <a:srcRect l="64194" t="0" r="0" b="0"/>
          <a:stretch/>
        </p:blipFill>
        <p:spPr>
          <a:xfrm>
            <a:off x="5796000" y="0"/>
            <a:ext cx="3274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057400" y="761760"/>
            <a:ext cx="54100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太和殿金銮殿宝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351360" y="2492280"/>
            <a:ext cx="182628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太和殿藻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4360" y="40464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故宫的其他建筑，作者又是侧重哪一方面介绍？为什么不详写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270828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侧重用途，因为其他建筑与太和殿是相似的构造，无需详写，更体现作者注重了详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79280" y="333360"/>
            <a:ext cx="316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结课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2060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今天，我们顺着指引的路线游览了故宫博物院，已经让我们感受了故宫精美的艺术和独特风格。作者能吧这么美得建筑群介绍得有条不紊，我觉得离不开他根据事物特征精心地选材和合理安排顺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79280" y="333360"/>
            <a:ext cx="316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应用表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2276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运用空间顺序介绍我们的校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6248520" y="-2209680"/>
            <a:ext cx="21907800" cy="9067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042920" y="0"/>
            <a:ext cx="7315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5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故宫博物院</a:t>
            </a:r>
            <a:endParaRPr b="1" lang="en-US" sz="8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0" t="0" r="0" b="357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14320" y="380880"/>
            <a:ext cx="100368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太和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0480" y="496800"/>
            <a:ext cx="2100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举行重大典礼的地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778960" y="6515280"/>
            <a:ext cx="36504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61680" y="304920"/>
            <a:ext cx="100368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中和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1520" y="423720"/>
            <a:ext cx="3167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举行大典前，皇帝先在这里休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778960" y="6515280"/>
            <a:ext cx="36504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0" t="11705" r="0" b="0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64120" y="304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保和殿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63280" y="398520"/>
            <a:ext cx="124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殿试的地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778960" y="6515280"/>
            <a:ext cx="36504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>
            <a:lum bright="6000"/>
          </a:blip>
          <a:srcRect l="0" t="0" r="0" b="98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9100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乾清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97520" y="423720"/>
            <a:ext cx="3167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处理事务，批阅奏章，接见使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778960" y="6515280"/>
            <a:ext cx="36504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0" r="0" b="48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90280" y="0"/>
            <a:ext cx="100368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交泰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778960" y="6515280"/>
            <a:ext cx="36504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>
            <a:lum bright="6000"/>
          </a:blip>
          <a:srcRect l="0" t="0" r="0" b="43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38000" y="304920"/>
            <a:ext cx="100368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坤宁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33840" y="39852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皇帝结婚的地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8778960" y="6515280"/>
            <a:ext cx="36504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861680" y="1557360"/>
            <a:ext cx="10036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御花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778960" y="6515280"/>
            <a:ext cx="36504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60960" y="228600"/>
            <a:ext cx="100368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金水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778960" y="6515280"/>
            <a:ext cx="36504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2334" t="1998" r="10697" b="0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6248520" y="-2209680"/>
            <a:ext cx="21907800" cy="906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042920" y="0"/>
            <a:ext cx="7315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5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故宫博物院</a:t>
            </a:r>
            <a:endParaRPr b="1" lang="en-US" sz="8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9280" y="333360"/>
            <a:ext cx="316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速读课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205000"/>
            <a:ext cx="8424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找出最能概括说明故宫建筑群独特风格的一句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根据作者指引的路线，填写练习一图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328464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故宫建筑群规模宏大壮丽，建筑精美 ，布局统一，集中体现了我国古代建筑艺术的独特风格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3257" t="3183" r="28343" b="4487"/>
          <a:stretch/>
        </p:blipFill>
        <p:spPr>
          <a:xfrm>
            <a:off x="762120" y="0"/>
            <a:ext cx="55623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680" y="31370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ball3.gif (1653 bytes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05320" y="63244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ball3.gif (1653 bytes)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505320" y="57150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ball3.gif (1653 bytes)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05320" y="51055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ball3.gif (1653 bytes)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429000" y="37339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ball3.gif (1653 bytes)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429000" y="32767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ball3.gif (1653 bytes)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429000" y="29718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ball3.gif (1653 bytes)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429000" y="23623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ball3.gif (1653 bytes)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429000" y="16765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ball3.gif (1653 bytes)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3429000" y="12952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ball3.gif (1653 bytes)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3429000" y="9907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ball3.gif (1653 bytes)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3429000" y="5335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ball3.gif (1653 bytes)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3429000" y="2286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ball3.gif (1653 bytes)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6019920" y="533412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ball3.gif (1653 bytes)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914400" y="5257800"/>
            <a:ext cx="160200" cy="160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295880" y="6172200"/>
            <a:ext cx="485640" cy="4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30" action="ppaction://hlinksldjump"/>
              </a:rPr>
              <a:t>午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23440" y="5638680"/>
            <a:ext cx="9428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汉白玉石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23520" y="5013360"/>
            <a:ext cx="637920" cy="4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31" action="ppaction://hlinksldjump"/>
              </a:rPr>
              <a:t>太和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9840" y="3645000"/>
            <a:ext cx="637920" cy="4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32" action="ppaction://hlinksldjump"/>
              </a:rPr>
              <a:t>太和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01280" y="3213000"/>
            <a:ext cx="637920" cy="4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33" action="ppaction://hlinksldjump"/>
              </a:rPr>
              <a:t>中和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01280" y="2781360"/>
            <a:ext cx="6379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保和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77520" y="2205000"/>
            <a:ext cx="637920" cy="4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34" action="ppaction://hlinksldjump"/>
              </a:rPr>
              <a:t>乾清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99840" y="1628640"/>
            <a:ext cx="637920" cy="4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35" action="ppaction://hlinksldjump"/>
              </a:rPr>
              <a:t>乾清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6600" y="1197000"/>
            <a:ext cx="637920" cy="4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36" action="ppaction://hlinksldjump"/>
              </a:rPr>
              <a:t>交泰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9840" y="836640"/>
            <a:ext cx="637920" cy="4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37" action="ppaction://hlinksldjump"/>
              </a:rPr>
              <a:t>坤宁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96600" y="404640"/>
            <a:ext cx="6379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御花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8040" y="0"/>
            <a:ext cx="637920" cy="4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38" action="ppaction://hlinksldjump"/>
              </a:rPr>
              <a:t>神武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81080" y="5334120"/>
            <a:ext cx="637920" cy="4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39" action="ppaction://hlinksldjump"/>
              </a:rPr>
              <a:t>东华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6240" y="5229360"/>
            <a:ext cx="637920" cy="4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hlinkClick r:id="rId40" action="ppaction://hlinksldjump"/>
              </a:rPr>
              <a:t>西华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6160" y="476280"/>
            <a:ext cx="360360" cy="5904000"/>
          </a:xfrm>
          <a:prstGeom prst="upArrow">
            <a:avLst>
              <a:gd name="adj1" fmla="val 50000"/>
              <a:gd name="adj2" fmla="val 409590"/>
            </a:avLst>
          </a:prstGeom>
          <a:solidFill>
            <a:srgbClr val="ff0000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61560" y="6453360"/>
            <a:ext cx="363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32840" y="44280"/>
            <a:ext cx="363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6360" y="2637000"/>
            <a:ext cx="2987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404640"/>
            <a:ext cx="813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这张图表可以看出作者采用了怎样的说明顺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492280"/>
            <a:ext cx="8280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者介绍时抓住了故宫建筑群独特的风格，这独特风格你找到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869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你觉得最能体现故宫建筑群特征的是哪一个建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170028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从南到北的空间顺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4076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规模宏大壮丽，建筑精美 ，布局统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6093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太和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4:40:46Z</dcterms:created>
  <dc:creator>微软用户</dc:creator>
  <dc:description/>
  <dc:language>en-US</dc:language>
  <cp:lastModifiedBy>未知用户</cp:lastModifiedBy>
  <dcterms:modified xsi:type="dcterms:W3CDTF">2010-11-23T07:06:08Z</dcterms:modified>
  <cp:revision>7</cp:revision>
  <dc:subject/>
  <dc:title>幻灯片 1</dc:title>
</cp:coreProperties>
</file>