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9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0DF-DF1C-4BF2-8A34-ACC194AD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8CA-56C8-4D5F-84CF-3B03F500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D88-9FE6-416E-9957-53A3967C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03F-3591-4B4A-8DAE-4AF713FB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EA8-BA52-42F0-AE3D-726AF1A6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A3F-0876-498B-A61A-6F3B1D31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574-076C-48DA-8854-0B3462FA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5FB-9341-41A6-86DE-B6D28313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5D1-6697-4BC7-929E-7F132075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63F2-EE8C-47D3-BCED-0AB6BBAA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38C-CCC7-4AB7-8C42-2C92CF39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920-4A14-4693-A541-0E402D62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3931-D9E0-4AC5-91EF-313A2467B6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2209680"/>
            <a:ext cx="7010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桂枝香</a:t>
            </a:r>
            <a:r>
              <a:rPr b="1" lang="en-US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·</a:t>
            </a: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金陵怀古</a:t>
            </a:r>
            <a:endParaRPr b="1" lang="en-US" sz="9600" spc="1" strike="noStrike">
              <a:ln w="12600">
                <a:solidFill>
                  <a:srgbClr val="0000ff"/>
                </a:solidFill>
                <a:miter/>
              </a:ln>
              <a:solidFill>
                <a:srgbClr val="99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486400" y="403848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ccff"/>
                </a:solidFill>
                <a:latin typeface="宋体"/>
              </a:rPr>
              <a:t>王安石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ccff"/>
              </a:solidFill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4724280"/>
            <a:ext cx="2667240" cy="1797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685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914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长江雄伟壮美，给词人留下了深深的印象，“征帆”二句将目光转向近处：长江里“征帆去棹”，人来人往，依然是如此繁忙喧闹，历史的脚步就是在这样匆匆的忙碌中过去。江边酒楼中的眺望者冷眼旁观，便对历史与现实多了一层感悟。这里突出“征帆”、“酒旗”的形象，而以“西风”、“斜阳”为衬，舟中人的奔波与楼中人的闲逸形成对照。“彩舟”三句目光再度转向远方，以“彩舟”、“白鹭”为主，“云淡”、“星河”为宾，歇拍以“画图难足”总赞一句，略作收束，长江景色美不胜收，很自然地引出了下片对历史兴亡的慨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9144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33360"/>
            <a:ext cx="8586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片集中写吊古伤今之感叹。换头以一个“念”字振起，直贯篇终。所“念”的是“往昔”如同今日，也是如此“繁华竞逐”，但转眼间就被“门外楼头”的家国破灭之悲剧所替代。杜牧《台城曲》有“门外韩擒虎，楼头张丽华”之句，一方面是隋朝大将韩擒虎已经兵临城下，另一方面陈后主依然与宠妃张丽华在楼上寻欢作乐，两相对照，亡国的原因不言自明。这是六朝小王国一个接一个覆灭的根本原因，所谓“悲恨相续”，这也为后人敲响了警钟。词人沉重的“叹”息，充分流露出对现实的隐忧。就是这种忧患意识，敦促词人以大无畏的气概投身到变法革新的运动中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5640" y="260280"/>
            <a:ext cx="784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古凭高”二句，写后人徒叹兴亡，对历史和现实都无可奈何。这是词人抱负不得施展的深自惋惜，胸中磊落不平之气喷薄欲出。“六朝旧事”二句从怀古中跳回，人世全非，故国依旧，眼前惟有“寒烟芳草”。窦巩《南游感兴》说：“伤心欲问前朝事，惟见长江去不回。日暮东风春草绿，鹧鸪飞上越王台。”词人用其诗意而略加变化，寄慨遥深。末三句用杜牧《泊秦淮》“商女不知亡国恨，隔江犹唱《后庭花》”之诗意，向醉生梦死的政治集团再度鸣响警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362320"/>
            <a:ext cx="716292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此词景物有实有虚，色彩有浓有淡，远近交错，虚实结合，浓淡相宜，构成一幅巧夺天工的金陵风景图。其旷远、清新的境界，雄健、壮阔的风格，是那些“小园香径”、“残月落花”之作所无可比拟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363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典贴切自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”乃化用谢朓《晚登三山还望京邑》诗句：“余霞散成绮，澄江静如练。”“星河鹭起”用的是李白《登金陵凤凰台》：“三山半落青天外，二水中分白鹭洲”诗意。“叹门外楼头，悲恨相续”用的是隋灭陈的典故：当隋朝大将韩擒虎兵临城下时，全无心肝的陈后主还正在和宠妃张丽华歌舞作乐。杜牧《台城曲》曾咏此事：“门外韩擒虎，楼头张丽华。”而王安石巧妙地只借用“门外楼头”四个字，“门外”言大军压境，“楼头”说荒淫无耻，就极其精炼而又形象地表现了六朝的覆灭。“悲恨相续”四个字则给南朝的历史作了总结。结句化用杜牧《泊秦淮》诗句，但赋予了它更为深刻、精辟的思想内容。短短的一首词而四用典，在王安石之前实不多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5203800"/>
            <a:ext cx="6781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 rot="5400000">
            <a:off x="132840" y="1619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登临送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5720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2361960" y="533520"/>
            <a:ext cx="40932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2356920" y="1604880"/>
            <a:ext cx="41904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近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2356920" y="2671920"/>
            <a:ext cx="41940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304920"/>
            <a:ext cx="380880" cy="99036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17"/>
                </a:lnTo>
                <a:cubicBezTo>
                  <a:pt x="10800" y="9417"/>
                  <a:pt x="5400" y="10317"/>
                  <a:pt x="0" y="10317"/>
                </a:cubicBezTo>
                <a:cubicBezTo>
                  <a:pt x="5400" y="10317"/>
                  <a:pt x="10800" y="11217"/>
                  <a:pt x="10800" y="121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2480" y="304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澄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52480" y="91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翠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144792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7616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征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7616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酒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25909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76160" y="259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彩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6160" y="2971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8088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03520" y="152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画图难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600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 rot="5400000">
            <a:off x="366480" y="466236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念往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0384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315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繁华竞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3152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886200"/>
            <a:ext cx="1409760" cy="304920"/>
          </a:xfrm>
          <a:prstGeom prst="rightArrow">
            <a:avLst>
              <a:gd name="adj1" fmla="val 50000"/>
              <a:gd name="adj2" fmla="val 115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63868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052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1300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052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旧事流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1300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商女唱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914400" y="198108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收看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4680" y="-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85640" y="-2549520"/>
            <a:ext cx="8172360" cy="5978520"/>
            <a:chOff x="485640" y="-2549520"/>
            <a:chExt cx="8172360" cy="5978520"/>
          </a:xfrm>
        </p:grpSpPr>
        <p:sp>
          <p:nvSpPr>
            <p:cNvPr id="48" name=""/>
            <p:cNvSpPr/>
            <p:nvPr/>
          </p:nvSpPr>
          <p:spPr>
            <a:xfrm>
              <a:off x="485640" y="-2549520"/>
              <a:ext cx="817236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640" y="-2549520"/>
              <a:ext cx="8172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2057400" y="304920"/>
            <a:ext cx="1714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王安石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990720"/>
            <a:ext cx="6933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0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86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北宋政治家、思想家、文学家。字介甫，晚号半山。抚州临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今属江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封谥荆国文公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他强调“权时之变”，反对因循保守，是中国十一世纪的改革家。他主张“绝求正所以经世务”，他的诗文颇有揭露时弊、反映社会矛盾之作，体现了他的政治主张和抱负。散文雄健峭拔，旧时被列为“唐宋八大家”之一。诗歌遒劲清新。词虽不多而风格高峻，《桂枝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陵怀古》颇有名。所著《字说》、《钟山目录》等，多已散佚。今存《王临川集》、《临川集拾遗》、《三经新义》中的《周官新义》残卷、《老子注》若干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0"/>
            <a:ext cx="45720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浣溪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亩中庭半是苔，门前白道水萦回。爱闲能有几人来？小院回廊春寂寂，山桃溪杏两三栽。为谁零落为谁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3716280"/>
            <a:ext cx="583236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泊船瓜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京口瓜洲一水间，钟山只隔数重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又绿江南岸，明月何时照我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1197000"/>
            <a:ext cx="5689800" cy="22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爆竹声中一岁除，春风送暧入屠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门万户瞳瞳日，总把新桃换旧符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005360"/>
            <a:ext cx="561672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炉香尽漏声残，剪剪轻风阵阵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色恼人眠不得，月移花影上栏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480" y="914400"/>
            <a:ext cx="891540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背景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这首词是王安石罢相后</a:t>
            </a:r>
            <a:r>
              <a:rPr b="1" lang="zh-CN" sz="2800" spc="-1" strike="noStrike">
                <a:solidFill>
                  <a:srgbClr val="9999ff"/>
                </a:solidFill>
                <a:latin typeface="Times New Roman"/>
                <a:ea typeface="宋体"/>
              </a:rPr>
              <a:t>在金陵胜地，登高望远，便兴起了满怀愁绪：日月之迁流， 仕途之坎坷，家国之忧患，人生之苦辛，涌凝笔端，写成了名 篇佳作。此文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上片描写金陵的壮丽景色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下片慨叹六朝竞逐豪华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终于亡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据传当时用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lt;&l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桂枝香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gt;&g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咏叹金陵的有三十多人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大家都认为这一首最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86200" y="87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登临送目，正故国晚秋，天气初肃。千里澄江似练，翠峰如簇。征帆去棹残阳里，背西风，酒旗斜矗。彩舟云淡，星河鹭起，画图难足。 念往昔、繁华竞逐。叹门外楼头，悲恨相续。千古凭高，对此漫嗟荣辱。六朝旧事随流水，但寒烟衰草凝绿。至今商女，时时犹唱，《后庭》遗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47628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7301"/>
                </a:moveTo>
                <a:lnTo>
                  <a:pt x="19776" y="7301"/>
                </a:lnTo>
                <a:lnTo>
                  <a:pt x="20159" y="7667"/>
                </a:lnTo>
                <a:lnTo>
                  <a:pt x="29367" y="7667"/>
                </a:lnTo>
                <a:lnTo>
                  <a:pt x="29924" y="8224"/>
                </a:lnTo>
                <a:lnTo>
                  <a:pt x="29924" y="8772"/>
                </a:lnTo>
                <a:lnTo>
                  <a:pt x="31769" y="8772"/>
                </a:lnTo>
                <a:lnTo>
                  <a:pt x="32135" y="8224"/>
                </a:lnTo>
                <a:lnTo>
                  <a:pt x="32875" y="8224"/>
                </a:lnTo>
                <a:lnTo>
                  <a:pt x="32875" y="13376"/>
                </a:lnTo>
                <a:lnTo>
                  <a:pt x="32135" y="13376"/>
                </a:lnTo>
                <a:lnTo>
                  <a:pt x="31769" y="12828"/>
                </a:lnTo>
                <a:lnTo>
                  <a:pt x="29924" y="12828"/>
                </a:lnTo>
                <a:lnTo>
                  <a:pt x="29924" y="14107"/>
                </a:lnTo>
                <a:lnTo>
                  <a:pt x="20341" y="14107"/>
                </a:lnTo>
                <a:lnTo>
                  <a:pt x="20341" y="9877"/>
                </a:lnTo>
                <a:lnTo>
                  <a:pt x="20159" y="9877"/>
                </a:lnTo>
                <a:lnTo>
                  <a:pt x="19776" y="10243"/>
                </a:lnTo>
                <a:lnTo>
                  <a:pt x="18862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宋体"/>
              </a:rPr>
              <a:t>重点字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登临送目：登山临水，举目望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81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：形容长江像一匹长长的白绢。澄江，清澈的长江。练，白色的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844640"/>
            <a:ext cx="9448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续：指亡国悲剧连续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凭高：登高。这里说作者登上高处远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：空叹什么荣耀耻辱。这是作者的感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遗曲：指陈后主所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玉树后庭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人视为亡国之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去棹：停船。棹，划船的一种工具，形似桨，也可引申为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星河鹭起：白鹭从水中沙洲上飞起。星河，指长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图难足：用图画也难以完美地表现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：形容亡国惨剧。语出杜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城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“门外韩擒虎，楼头张丽华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46128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360" y="6324480"/>
            <a:ext cx="951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豪华竞逐：（六朝的达官贵人）争着过豪华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0464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一首登临怀古之作。作者用托古喻今的艺术手法，隐曲地指出北宋王朝潜伏着的现实危机。然而，面对这一现实，统治集团却仍在寻欢逐乐，置国家民族命运于不顾，词人为此深深地忧虑。这首词反映了作者对国家前途的关怀，以及作为一个进步的政治家所应保持的那种清醒的头脑。这与词人在诗文中所表现出来的革新精神是相一致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457200"/>
            <a:ext cx="777240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89000"/>
            <a:ext cx="845820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片写金陵的深秋景色，热爱祖国河山的情感充溢于字里行间，气象开阔宏大。首三句写季节与登眺。词人“登临送目”，又值“晚秋”肃爽时节，眼界开阔，放眼千里，襟怀豁朗，古今同慨。以这样的气局和心胸怀古，才装得下历史的兴亡盛衰。“故国”二字，从漫长的历史着笔，金陵曾是六朝的故都，登临眺望，自然无限感慨。 “晚秋”则兼及当前，立足于现实。这二者拍合在一起，吊古伤今与借古喻今的情感与主题便被暗中托出了。“千里澄江似练，翠峰如簇”，是“送目”之所得，见出金陵河山之胜景与地势之险要，确有“钟山龙蟠，石城虎踞”的气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0:43:10Z</dcterms:created>
  <dc:creator>Legend User</dc:creator>
  <dc:description/>
  <dc:language>en-US</dc:language>
  <cp:lastModifiedBy>微软用户</cp:lastModifiedBy>
  <dcterms:modified xsi:type="dcterms:W3CDTF">2010-05-31T00:43:10Z</dcterms:modified>
  <cp:revision>26</cp:revision>
  <dc:subject/>
  <dc:title>PowerPoint 演示文稿</dc:title>
</cp:coreProperties>
</file>