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93A-6110-4C26-BA4F-8C795BB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C9B-7EF0-4678-8D88-EF6D9F6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351-E00A-496B-A8F1-A03D3568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B1A-D784-4690-8D38-525779A9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4C1-9E3C-4A59-8657-178A5D83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E8E-47FC-4026-9A7A-1182BBC7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816-6678-48FE-B497-04AFF9BD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1BF-EE5F-4526-A7EE-903B7E5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8933-61FB-408F-B6C4-AB3DC9C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369A-CC3C-4CBD-A114-3245B27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1A8-9E4A-4642-8067-D167D217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955-F090-4298-ABD5-C3522BCE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FAFD-56C6-4121-9217-F057FCD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7FD3-A1AB-4EDD-8544-C47858F9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8804-0309-40A8-8913-34013332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F56B-2C24-42FA-9311-136A45C2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65BC-1072-41FB-927A-2DA1373C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9AF-AF28-4989-927F-7E04D7B1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7AB-A61C-425A-9690-8DB7065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EF4-8194-40EA-A70A-BBEBEE8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85F-1CFC-4121-A368-0F0DAF9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B07-5560-4362-8191-0740EE4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C91-5805-4D20-8CCF-587F4CC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0A3-E471-4990-9909-C0F0853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D049-1207-40A6-A55D-08C526152E4C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EA8-DB35-410F-928B-67AB5E77EB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92FF-99FD-468F-B6B8-F5CFC508B051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54D-FA9C-4F5C-8612-4BF46C68FD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C9E-68D4-4F60-B7D2-A9644F22DE7D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5ABA-A9FC-41D9-9120-1CCD6A1751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9E04C6-5C76-4B33-A754-F30F11AF9E46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C5A-0FD6-4A83-8C38-4011DB6D64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7C9E0-4940-447F-BE3D-9354706785D7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CBC-8511-4D8B-8AB1-43EAB80DC9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8B169-B716-4BFE-9873-3C615BDC4758}" type="datetime1">
              <a:rPr lang="en-US"/>
              <a:t>07/29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A2F-A012-46EA-AE64-467FB3055EB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E5385-32FF-4097-87FD-AF25084EF829}" type="datetime1">
              <a:rPr lang="en-US"/>
              <a:t>07/29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EC4-1551-4B14-9839-587C4052C4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6E9F7-5DA1-4DA0-994C-F22621D8FF7F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6A7-C81A-4DFC-A181-BF3B8728DC4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3B491-0EFC-4B0B-9FDE-DF572B46B299}" type="datetime1">
              <a:rPr lang="en-US"/>
              <a:t>07/29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16A-FC11-4EC3-A65C-17BEE65000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CDD52-361A-448D-8F0C-B748152E4DA3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DCA-57C9-4ADD-919C-7A9AC2040027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CF08-CC3A-487D-A8A1-4882E6F7C99A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4D0-15C2-4C8D-B833-A550B662B9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E0F82-ABC3-476C-A6C5-704C35E82D27}" type="datetime1">
              <a:rPr lang="en-US"/>
              <a:t>07/29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BBD-5F8C-43C5-8534-8C7DE22206C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58045-D88D-4DE7-9182-25B1EB6FDCDC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A98-F745-4311-95E1-470855FB37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8F052F-4B05-42C7-9DDB-4A9FCBD24F1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476-9495-4C2B-8684-B372AFD632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E306A-A606-41AC-8D84-F3A2BCE3114E}" type="datetime1">
              <a:rPr lang="en-US"/>
              <a:t>07/29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CA4-931A-402C-B07E-6DE00FAE83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87F6-791B-406C-83B3-1CE210D90BD0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529-117A-49D6-895C-671A4FCA47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24277-334A-48E7-9520-C825D6906ECA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459-25E1-4D2D-B37E-7BC9B739BA6B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E5E52-7819-40AA-B219-CF40B69504C6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D9D-68C8-482C-93CA-898F2E3131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AFD1F-3E54-49D8-9AD5-268110E89198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E2C-B27C-4235-B4D0-1B5EC2602F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B6873-6BCE-491A-AFB9-76975473D373}" type="datetime1">
              <a:rPr lang="en-US"/>
              <a:t>07/29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2B5-034B-4F53-AAF1-CDC1026C6F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83E03-7127-4E52-A051-AC139B603D55}" type="datetime1">
              <a:rPr lang="en-US"/>
              <a:t>07/29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C03-C5F1-430B-9C61-E00D88807A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5D343-5A0D-4BC5-B7B7-B102ED32A99F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3B2-AFC1-4672-9A2F-FBA8F2C77A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1003E-0860-4B75-BA2B-EA9714966FBD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558-DFCB-4AD3-AD53-C30FF983AD5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3A845-7667-429D-A712-D94348093DF1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BD6-34DF-485F-B903-B5DCDC3C05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77B3-3CD8-4115-B700-6E7B02B4F00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