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chimes.wav" ContentType="audio/x-wav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22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885B-77A7-4188-8AA4-B1F53810C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71D6-7987-4E29-BABF-26F0DBA15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EF3A-9A0A-4964-B58D-7D003D518C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A5FA-C7DE-48F5-B049-F66D800C5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9BEAB-0537-44E9-8ECB-A617F80CD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05A17-2788-411B-90B2-13FEABAE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93FA1-7046-4A18-B32D-CF1CC2FB1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BB836-3C05-438A-ADF7-F64735EB4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358E7-4D84-435E-8F86-60C2B1B5F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F6193-432A-4C36-A9D5-E25AEA27C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A8076-3EDB-4773-B01C-C6A9DF49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B4AE-BD16-4653-907A-76C78E8B2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A8845-0D66-4D01-A569-EF026214F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619B5-B299-442D-A4E0-20649FAD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54A5B-0079-4A17-BF52-BB286A8BF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F50EA-66D6-40B7-A525-14381CD5F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78E44-0620-4E47-822C-6532D9658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8F16-6D0E-4682-AEAA-976501427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F13C-2BDC-429E-A072-212645013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E0FE-65DE-48AF-925D-7D4847759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495B-D9B9-4870-826B-0842F2B22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6712-0C29-4F4D-8A42-B85C9AD8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D776-C126-44F5-8EC3-CD00D9F0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F882-B55D-4B7D-97FE-0C2F9D8A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6A121-2CA5-4EE5-AA83-FC4055818E4C}" type="datetime">
              <a:rPr b="0" lang="zh-CN" sz="1400" spc="-1" strike="noStrike">
                <a:solidFill>
                  <a:srgbClr val="ffffff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7C5CF-2E6A-4B20-BBBF-B40669C2CDA3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883D0-361F-44F9-B1C6-FA51077EBE1D}" type="datetime">
              <a:rPr b="0" lang="zh-CN" sz="1400" spc="-1" strike="noStrike">
                <a:solidFill>
                  <a:srgbClr val="ffffff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AA451-EE01-45F7-85FF-CE8B50EFE547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0A1FE-D7A8-4438-ABAC-5DBC04B6E67C}" type="slidenum">
              <a:rPr b="0" lang="zh-CN" sz="5400" spc="-1" strike="noStrike">
                <a:solidFill>
                  <a:srgbClr val="ffffcc"/>
                </a:solidFill>
                <a:latin typeface="宋体"/>
                <a:ea typeface="宋体"/>
              </a:rPr>
              <a:t>&lt;number&gt;</a:t>
            </a:fld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-152640"/>
            <a:ext cx="807732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隶书"/>
                <a:ea typeface="隶书"/>
              </a:rPr>
              <a:t>    </a:t>
            </a:r>
            <a:r>
              <a:rPr b="0" lang="zh-CN" sz="8000" spc="-1" strike="noStrike">
                <a:solidFill>
                  <a:srgbClr val="ffffff"/>
                </a:solidFill>
                <a:latin typeface="隶书"/>
                <a:ea typeface="隶书"/>
              </a:rPr>
              <a:t>古希腊的石头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1006560"/>
            <a:ext cx="8778960" cy="58514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35280" y="537372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肥城六中                  范玉文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203640" y="4437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5486D-AE21-4E69-885E-5975C224F0C3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FAA6AA6-A0C3-4ED7-BDA9-5D5F7977D8D1}" type="datetime1">
              <a:rPr lang="en-US"/>
              <a:t>07/28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236036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71280" y="620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Arial Narrow"/>
                <a:ea typeface="宋体"/>
              </a:rPr>
              <a:t>整体介绍</a:t>
            </a:r>
            <a:endParaRPr b="0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71280" y="184464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本文是文化散文，它以“古希腊的石头”为文化载体，进行理性思考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现在让我们阅读全文，看作者写了古希腊哪些石头？作者又以此思考了什么？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跳读文本，梳理作者行文思路，提炼作者的感受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8E17-4E29-4B9F-90AA-D9244602380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1449EF-E27B-48E3-AD07-EE822D344495}" type="datetime1">
              <a:rPr lang="en-US"/>
              <a:t>07/28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476360" y="609120"/>
            <a:ext cx="7439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宋体"/>
                <a:ea typeface="宋体"/>
              </a:rPr>
              <a:t>整体感知，梳理文本（跳读提炼）</a:t>
            </a:r>
            <a:endParaRPr b="0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7416720" cy="122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4" marL="2057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、文体特征：文化散文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2000" y="2060640"/>
            <a:ext cx="1944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47640" y="2565360"/>
            <a:ext cx="29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行文思路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08360" y="242100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希腊国家考古博物馆（雕像、残臂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72360" y="2637000"/>
            <a:ext cx="16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164360" y="2421000"/>
            <a:ext cx="144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帕果斯山顶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石碑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187280" y="45813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68360" y="4365720"/>
            <a:ext cx="158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迈锡尼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城堡废墟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80000" y="458136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03640" y="4581360"/>
            <a:ext cx="259272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苏纽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海神庙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97DD-1454-4966-8290-EEC26BD76EB4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188D4B-0BBE-41F1-8C88-2FEE311D4332}" type="datetime1">
              <a:rPr lang="en-US"/>
              <a:t>07/28/26</a:t>
            </a:fld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9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539640" y="765000"/>
            <a:ext cx="44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、作者感受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42920" y="1916280"/>
            <a:ext cx="30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喜欢（石头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51280" y="1916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____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932360" y="1916280"/>
            <a:ext cx="30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奇异和美妙的感受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71640" y="32846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_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835280" y="350028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震撼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76720" y="3429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_____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788000" y="3429000"/>
            <a:ext cx="2448000" cy="15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钦佩（希腊人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A6DD-7956-4830-8EE2-D65FC78B533F}" type="slidenum">
              <a:t>1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55BE13-F3E0-4FF4-92E1-8ED0EF53F567}" type="datetime1">
              <a:rPr lang="en-US"/>
              <a:t>07/28/26</a:t>
            </a:fld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3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618920" y="54900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Arial Narrow"/>
                <a:ea typeface="宋体"/>
              </a:rPr>
              <a:t>品读感悟</a:t>
            </a:r>
            <a:endParaRPr b="0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618920" y="184464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作者为什么希腊博物馆的石头呢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发现帕果斯山顶的石碑，为什么有“奇异和美妙的感受”呢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登临苏纽海神庙，为什么“由衷地钦佩希腊人”呢？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让我们再次回到文本，品读感悟，研读探究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E5BF-7FC8-4579-9917-243170C1FFC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49AED0-3A26-4FA8-BB7C-18A5A7C9A89B}" type="datetime1">
              <a:rPr lang="en-US"/>
              <a:t>07/28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cc"/>
                </a:solidFill>
                <a:latin typeface="宋体"/>
                <a:ea typeface="宋体"/>
              </a:rPr>
              <a:t>理解品味（品读感悟）</a:t>
            </a: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47" name=""/>
          <p:cNvSpPr/>
          <p:nvPr/>
        </p:nvSpPr>
        <p:spPr>
          <a:xfrm>
            <a:off x="900000" y="1989000"/>
            <a:ext cx="5977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组：以第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段为例，分析作者如何表达对古希腊石头的喜欢的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26920" y="3645000"/>
            <a:ext cx="705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本段运用拟人、比喻的手法，活画出雕像和壁画人物明亮的眼睛，表达自己对雕像和壁画人物的喜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A95E-BCC7-4428-8B41-74698FC0EAA8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7BC5D3-8517-4735-A841-88E86CD552D1}" type="datetime1">
              <a:rPr lang="en-US"/>
              <a:t>07/28/26</a:t>
            </a:fld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000" y="1125360"/>
            <a:ext cx="8304120" cy="244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宋体"/>
                <a:ea typeface="宋体"/>
              </a:rPr>
              <a:t>B</a:t>
            </a:r>
            <a:r>
              <a:rPr b="0" lang="zh-CN" sz="4000" spc="-1" strike="noStrike">
                <a:solidFill>
                  <a:srgbClr val="ffffcc"/>
                </a:solidFill>
                <a:latin typeface="宋体"/>
                <a:ea typeface="宋体"/>
              </a:rPr>
              <a:t>组：作者为什么喜欢“古希腊的</a:t>
            </a:r>
            <a:br>
              <a:rPr sz="4000"/>
            </a:br>
            <a:r>
              <a:rPr b="0" lang="zh-CN" sz="4000" spc="-1" strike="noStrike">
                <a:solidFill>
                  <a:srgbClr val="ffffcc"/>
                </a:solidFill>
                <a:latin typeface="宋体"/>
                <a:ea typeface="宋体"/>
              </a:rPr>
              <a:t>石头”？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23640" y="299736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喜欢这些刻着历史与艺术的石头，发现了古物的历史美和文化美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BB7E-1BE2-445A-BF84-FCC765611C3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6D34E9-C012-4A70-AF55-0A1FE2606A5D}" type="datetime1">
              <a:rPr lang="en-US"/>
              <a:t>07/28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00000" y="333360"/>
            <a:ext cx="58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197000"/>
            <a:ext cx="784872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组：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007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年高考浙江卷作文材料有这样一段话：苍茫的丛林间，玛雅文化湮没了；丝绸之路上，高昌古国消逝了。人类在消逝中进步。行走在消逝中，既有“流水落花春去也”的怅惘，也有“谁道人生无再少”的旷达……本文作者行走在希腊国家考古博物馆的雕像间有什么感受？作者又是如何“行走”在古希腊“已经满是裂痕和缺口”的石头间的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48000" y="5373720"/>
            <a:ext cx="48243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95280" y="4724280"/>
            <a:ext cx="69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对“行走”的理解——不是仅有喜悦，不是仅陶醉在艺术的 享受中，而是引发理性的思考，得到启示，并付诸行动，做一些对文化保护有意义的工作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7AB8-12B0-4489-AB5E-2A4931F5F4DE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7F82F5-3DD3-4538-BBBF-83E7AE8C1B7A}" type="datetime1">
              <a:rPr lang="en-US"/>
              <a:t>07/28/26</a:t>
            </a:fld>
          </a:p>
        </p:txBody>
      </p:sp>
    </p:spTree>
  </p:cSld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640720" cy="112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Arial Narrow"/>
                <a:ea typeface="宋体"/>
              </a:rPr>
              <a:t>C</a:t>
            </a:r>
            <a:r>
              <a:rPr b="0" lang="zh-CN" sz="5400" spc="-1" strike="noStrike">
                <a:solidFill>
                  <a:srgbClr val="ffffcc"/>
                </a:solidFill>
                <a:latin typeface="Arial Narrow"/>
                <a:ea typeface="宋体"/>
              </a:rPr>
              <a:t>组参考：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240" y="1197000"/>
            <a:ext cx="8915400" cy="63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引发反思，再灿烂的文明也经受不住时光的侵蚀，古老的文明在破损。 意识到文物保护的迫切性，联想到我国文物保护方面的欠缺，更有了历史责任感。 落实到行动上，冯老在文学创作最旺盛的阶段，停下创作，致力于文化发掘与文物保护工作，并发表文章，海外演讲，呼吁保护文化古迹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C19D-01B3-4BF5-B51A-D87B11E402B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999842-E2FA-4BFA-A0BF-7E6F009BD191}" type="datetime1">
              <a:rPr lang="en-US"/>
              <a:t>07/28/26</a:t>
            </a:fld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0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cc"/>
                </a:solidFill>
                <a:latin typeface="Arial Narrow"/>
                <a:ea typeface="宋体"/>
              </a:rPr>
              <a:t>赏析探究</a:t>
            </a: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268280"/>
            <a:ext cx="73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组：作者为什么由衷地钦佩希腊人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1916280"/>
            <a:ext cx="66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希腊人珍视历史，保持古迹原状原貌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4000" y="2924280"/>
            <a:ext cx="72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希腊人决不让文化古迹受任何现代事物的干扰，历史空间受到绝对纯正的保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4000" y="450864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、希腊人对历史有深刻的理解与崇拜，有科学的保护方法，有优雅的美感和高尚的文化品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32896-8746-4179-B7F7-104877813A3D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8D6AAC-9B9C-4244-8E61-A65A39091919}" type="datetime1">
              <a:rPr lang="en-US"/>
              <a:t>07/28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6399360" cy="71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Arial Narrow"/>
                <a:ea typeface="宋体"/>
              </a:rPr>
              <a:t>赏析探究</a:t>
            </a:r>
            <a:endParaRPr b="0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68000" y="980640"/>
            <a:ext cx="8064360" cy="5877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组：曾引起各方争议的圆明园复建工程将陆续启动，也许用不了多久，一个崭新的仿古建筑——圆明园长春园宫门将出现在公众面前。结合本文作者的观点，谈谈你的看法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7A8FD-FF9C-4889-A323-92FDB1C97BA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70E2EB6C-996E-4184-BD92-2F7C44DF1437}" type="datetime1">
              <a:rPr lang="en-US"/>
              <a:t>07/28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900000" y="189000"/>
            <a:ext cx="4464000" cy="69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cc"/>
                </a:solidFill>
                <a:latin typeface="隶书"/>
                <a:ea typeface="隶书"/>
              </a:rPr>
              <a:t>   </a:t>
            </a:r>
            <a:r>
              <a:rPr b="0" lang="zh-CN" sz="4800" spc="-1" strike="noStrike">
                <a:solidFill>
                  <a:srgbClr val="ffffcc"/>
                </a:solidFill>
                <a:latin typeface="隶书"/>
                <a:ea typeface="隶书"/>
              </a:rPr>
              <a:t>古希腊雕像</a:t>
            </a: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-252360" y="1341360"/>
            <a:ext cx="10152000" cy="50133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79280" y="836640"/>
            <a:ext cx="66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表情丰富，眼睛明亮，引发人们神奇的遐想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029E-65DD-4C51-956A-337EB4B0A27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E1732C-BECA-43FF-A6AD-860E3A48B50E}" type="datetime1">
              <a:rPr lang="en-US"/>
              <a:t>07/28/26</a:t>
            </a:fld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cc"/>
                </a:solidFill>
                <a:latin typeface="Arial Narrow"/>
                <a:ea typeface="隶书"/>
              </a:rPr>
              <a:t>探究参考：</a:t>
            </a:r>
            <a:endParaRPr b="0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、古物翻新，甚至更愚蠢的复原，破坏时间在每一件古物的体内全留下的美丽的生命的年轮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、修复圆明园，历史的魂灵就会一下子逃离而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、圆明园遗址是帝国主义侵略中国的鲜活历史见证，供游人参观凭吊，教育后人勿忘国耻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宋体"/>
              </a:rPr>
              <a:t>、今人面对充满屈辱意味的圆明园时，应保持清醒。既然我们无法扑灭英法联军那场可耻的大火，那么，何不让历史继续给后人留下深刻反思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、复建圆明园，劳民伤财，异想天开，有狗尾续貂之嫌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3373F-F9D1-4871-8F47-312EF1EC618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1F4911-2747-4AF6-8C75-00CCC991C22A}" type="datetime1">
              <a:rPr lang="en-US"/>
              <a:t>07/28/26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cc"/>
                </a:solidFill>
                <a:latin typeface="Arial Narrow"/>
                <a:ea typeface="隶书"/>
              </a:rPr>
              <a:t>课堂总结：</a:t>
            </a:r>
            <a:endParaRPr b="0" lang="en-US" sz="7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8288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、自主积累知识，加大知识储备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、整体阅读文章，把握文体特征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、提炼内容要点，理清行文思路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4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、深入文本品味，领会作者情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5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、合作探究疑难，注重迁移实践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D560-D0F3-471F-8B30-CB382F59107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400A08-3CB0-4FB9-9038-C0E8C4A9CB23}" type="datetime1">
              <a:rPr lang="en-US"/>
              <a:t>07/28/26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1476360" y="3141720"/>
            <a:ext cx="5418000" cy="1219320"/>
          </a:xfrm>
          <a:prstGeom prst="rect">
            <a:avLst/>
          </a:prstGeom>
        </p:spPr>
        <p:txBody>
          <a:bodyPr wrap="none" lIns="90000" rIns="90000" tIns="46800" bIns="46800" anchor="t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谢谢大家，再见。</a:t>
            </a:r>
            <a:endParaRPr b="0" lang="en-US" sz="96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8839080" y="4869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33B0-8834-4B86-9E3D-3E4551B44250}" type="slidenum">
              <a:t>2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DBED40-8110-4DAB-98FF-678518A75DA0}" type="datetime1">
              <a:rPr lang="en-US"/>
              <a:t>07/28/26</a:t>
            </a:fld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2" dur="236036" fill="hold"/>
                                        <p:tgtEl>
                                          <p:spTgt spid="1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68580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cc"/>
                </a:solidFill>
                <a:latin typeface="隶书"/>
                <a:ea typeface="隶书"/>
              </a:rPr>
              <a:t>雅典卫城</a:t>
            </a: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457560" y="15238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7543800" cy="37609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916360" y="69228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斑驳的城墙，年代久远，饱经历史沧桑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69F4-65AD-4534-B8AB-1282C2897EE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B928ED-89B7-42CE-A1A3-E4388C600C64}" type="datetime1">
              <a:rPr lang="en-US"/>
              <a:t>07/28/26</a:t>
            </a:fld>
          </a:p>
        </p:txBody>
      </p: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隶书"/>
                <a:ea typeface="隶书"/>
              </a:rPr>
              <a:t>巴比伦遗址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908000" y="620640"/>
            <a:ext cx="69120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4" marL="2057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灰黄的石柱，记载着文明古国非凡的过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8001000" cy="487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A0DE-DB75-4BB8-9CC7-6757B078BA5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53CE6E-0E31-4384-AC9B-DF4E754201CB}" type="datetime1">
              <a:rPr lang="en-US"/>
              <a:t>07/28/26</a:t>
            </a:fld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8915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cc"/>
                </a:solidFill>
                <a:latin typeface="宋体"/>
                <a:ea typeface="宋体"/>
              </a:rPr>
              <a:t>     </a:t>
            </a: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-457560" y="15238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ffffff"/>
              </a:solidFill>
              <a:latin typeface="宋体"/>
              <a:ea typeface="宋体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533520" y="609480"/>
            <a:ext cx="861048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圆明园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破碎的石壁，坍塌的废墟，更是背负着屈辱的历史，镌刻着血与火的印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1376-30A0-431F-A247-3AF6FB5AFBC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B24048-AD95-4D30-A593-4A328C94B764}" type="datetime1">
              <a:rPr lang="en-US"/>
              <a:t>07/28/26</a:t>
            </a:fld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3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6091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cc"/>
                </a:solidFill>
                <a:latin typeface="宋体"/>
                <a:ea typeface="宋体"/>
              </a:rPr>
              <a:t>教学目标：</a:t>
            </a: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792468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1</a:t>
            </a:r>
            <a:r>
              <a:rPr b="0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、解读文本，品味优美语言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2</a:t>
            </a:r>
            <a:r>
              <a:rPr b="0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、领会作者对文化古迹的情感态度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3</a:t>
            </a:r>
            <a:r>
              <a:rPr b="0" lang="zh-CN" sz="4800" spc="-1" strike="noStrike">
                <a:solidFill>
                  <a:srgbClr val="ffffff"/>
                </a:solidFill>
                <a:latin typeface="宋体"/>
                <a:ea typeface="宋体"/>
              </a:rPr>
              <a:t>、探究文化古迹保护的意义作用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7B18-1692-460B-8329-433C61F8393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5EA603-E038-4E07-9F9E-59EF851FAC0F}" type="datetime1">
              <a:rPr lang="en-US"/>
              <a:t>07/28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cc"/>
                </a:solidFill>
                <a:latin typeface="宋体"/>
                <a:ea typeface="宋体"/>
              </a:rPr>
              <a:t>背景介绍：</a:t>
            </a:r>
            <a:endParaRPr b="0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冯骥才是一位很有成就的作家，他对古代文化情有独钟。早在上世纪八十年代，他就凭反思历史、反思传统文化的《神鞭》《三寸金莲》等一系列小说蜚声文坛。当来到古希腊遗址，站在雅典卫城上时，他有了惊人发现，将古希腊文明与中国文明联系在一起，把希腊人文物保护的态度和方法与国人的做法对照起来，表现了作者对历史、对文化古迹保护的深刻反思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E942-1942-4C51-96A2-E0573AF84C7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9E8FE4-FCC0-4E87-BFC7-89D06B43D0A9}" type="datetime1">
              <a:rPr lang="en-US"/>
              <a:t>07/28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24000" y="2997360"/>
            <a:ext cx="144360" cy="1511280"/>
          </a:xfrm>
          <a:custGeom>
            <a:avLst/>
            <a:gdLst>
              <a:gd name="textAreaLeft" fmla="*/ 92160 w 144360"/>
              <a:gd name="textAreaRight" fmla="*/ 144360 w 14436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84720" y="3141720"/>
            <a:ext cx="216000" cy="1511280"/>
          </a:xfrm>
          <a:custGeom>
            <a:avLst/>
            <a:gdLst>
              <a:gd name="textAreaLeft" fmla="*/ 137880 w 216000"/>
              <a:gd name="textAreaRight" fmla="*/ 216360 w 216000"/>
              <a:gd name="textAreaTop" fmla="*/ 39240 h 1511280"/>
              <a:gd name="textAreaBottom" fmla="*/ 1472040 h 151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50920" y="2924280"/>
            <a:ext cx="433440" cy="1873080"/>
          </a:xfrm>
          <a:custGeom>
            <a:avLst/>
            <a:gdLst>
              <a:gd name="textAreaLeft" fmla="*/ 276840 w 433440"/>
              <a:gd name="textAreaRight" fmla="*/ 433800 w 433440"/>
              <a:gd name="textAreaTop" fmla="*/ 48600 h 1873080"/>
              <a:gd name="textAreaBottom" fmla="*/ 1824480 h 187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-102600"/>
            <a:ext cx="1057752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一、知识梳理（自主学习）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正字音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炯炯（   ）有神    暧（    ）昧（    ）  亢（     ）奋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坚不可摧（    ）   葱茏（      ）    头颅（    ） 五彩缤（    ）纷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神谕（     ） 呵（     ）护     坍（    ）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废墟（       ）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磨砺（     ）      甬（    ）道      泯（   ）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灭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23493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、多音字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1280" y="2924280"/>
            <a:ext cx="1439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剥落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剥蚀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9640" y="3789360"/>
            <a:ext cx="115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剥花生    剥皮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484360" y="292428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龟甲    龟鉴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03400" y="2997360"/>
            <a:ext cx="921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藏龙卧虎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藏匿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16360" y="4149720"/>
            <a:ext cx="115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藏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627280" y="3860640"/>
            <a:ext cx="865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龟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56000" y="4365720"/>
            <a:ext cx="93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龟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6224-5B9A-4162-AD31-360B05430D5C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20C056-0ED6-4FE0-80DE-8C76CC0F2E9E}" type="datetime1">
              <a:rPr lang="en-US"/>
              <a:t>07/28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55280" y="620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Arial Narrow"/>
                <a:ea typeface="宋体"/>
              </a:rPr>
              <a:t>.</a:t>
            </a:r>
            <a:r>
              <a:rPr b="0" lang="zh-CN" sz="2800" spc="-1" strike="noStrike">
                <a:solidFill>
                  <a:srgbClr val="ffffcc"/>
                </a:solidFill>
                <a:latin typeface="Arial Narrow"/>
                <a:ea typeface="宋体"/>
              </a:rPr>
              <a:t>3.</a:t>
            </a:r>
            <a:r>
              <a:rPr b="0" lang="zh-CN" sz="2800" spc="-1" strike="noStrike">
                <a:solidFill>
                  <a:srgbClr val="ffffcc"/>
                </a:solidFill>
                <a:latin typeface="Arial Narrow"/>
                <a:ea typeface="宋体"/>
              </a:rPr>
              <a:t>填入下列横线上的词语正确的一项是（    ）</a:t>
            </a:r>
            <a:r>
              <a:rPr b="0" lang="zh-CN" sz="5400" spc="-1" strike="noStrike">
                <a:solidFill>
                  <a:srgbClr val="ffffcc"/>
                </a:solidFill>
                <a:latin typeface="Arial Narrow"/>
                <a:ea typeface="宋体"/>
              </a:rPr>
              <a:t> </a:t>
            </a:r>
            <a:endParaRPr b="0" lang="en-US" sz="5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26920" y="1557360"/>
            <a:ext cx="609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）我静静坐在山顶一块山石上，默默享受着这种奇异和美妙的感受，直到夕阳把整个石碑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得金红，仿佛一块烧透了的熔岩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）被时光的筛子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下来的只有这些破碎的房宇、残垣断壁、断碑，兀自竖立的石柱，东一个西一个的柱头或柱础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）爱琴王如今还在海底吗？他到底身在哪里？在远处那一片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Arial"/>
                <a:ea typeface="宋体"/>
              </a:rPr>
              <a:t>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着波光的“酒绿色的海心”吗？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3827-64FB-4C0A-BFD4-1CA422A4B629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698D95-E949-4363-AB3E-85341FEC991A}" type="datetime1">
              <a:rPr lang="en-US"/>
              <a:t>07/28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novo User</cp:lastModifiedBy>
  <dcterms:modified xsi:type="dcterms:W3CDTF">2009-05-15T01:35:09Z</dcterms:modified>
  <cp:revision>23</cp:revision>
  <dc:subject/>
  <dc:title>PowerPoint 演示文稿</dc:title>
</cp:coreProperties>
</file>