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chimes.wav" ContentType="audio/x-wav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842C-D355-4B64-BD05-3663ACFA7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BDE7-F9C4-4897-B740-CD3358BB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D6EA-D2B1-40B3-AC73-D5B1E04E4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105B-BE35-4748-843C-4A89844EE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9020-B8CB-44FE-9E72-A707AA81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5FA6-418B-4F0D-8D93-BDD00FDA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76B2-8AD0-428D-B016-53A0FA06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8A4F-420A-4CA9-8522-7BCA20EC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7C2F-B2D5-4D82-B178-A10D110F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3A56-25B6-45B8-A0D2-9E7E859E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AECF-4CF6-4683-869A-DB1E2C86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8986-EA73-45BD-AE4B-3BBC8468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EF12-96A0-4899-997E-5D9AACBB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A66A-CCAA-46AF-8273-F59693FD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E25E-7DFA-493D-8C6D-F95E92B0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68E8-70CD-45EA-A23A-01EA2ED1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A0E8-E92E-424C-A194-3DDCE41C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FAAE-A1A5-4B52-8B59-7750E95B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B559-2A8B-4048-AE03-881C949A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D172-76C8-4FE5-8B7B-BC529CB2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D7BC-0586-47D8-BC11-591C9388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0D19-1251-44D4-A647-CADFAF4A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2E3B-F721-42D3-B0B0-E348FF82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CD03-8E14-478C-B3B4-F56B0C4D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69AE-C0C6-4246-B815-09DD7786C809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143E-6670-49FD-AAFF-E005FB6D3B6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58DE-76EA-4E0D-BF42-AE15D15B801D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1013-0D9F-476A-ADBD-F9B8BC59E45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0A6A-247B-4167-AB27-5FEBF108BFB1}" type="slidenum">
              <a:rPr b="0" lang="zh-CN" sz="5400" spc="-1" strike="noStrike">
                <a:solidFill>
                  <a:srgbClr val="ffffcc"/>
                </a:solidFill>
                <a:latin typeface="宋体"/>
                <a:ea typeface="宋体"/>
              </a:rPr>
              <a:t>&lt;number&gt;</a:t>
            </a:fld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-15264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0" lang="zh-CN" sz="8000" spc="-1" strike="noStrike">
                <a:solidFill>
                  <a:srgbClr val="ffffff"/>
                </a:solidFill>
                <a:latin typeface="隶书"/>
                <a:ea typeface="隶书"/>
              </a:rPr>
              <a:t>古希腊的石头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006560"/>
            <a:ext cx="8778960" cy="5851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35280" y="537372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肥城六中                  范玉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203640" y="4437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2FE8-1DF8-4084-8DB0-2BD84251437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5A6856B-3AD5-4498-AAC3-8391D8534CF9}" type="datetime1">
              <a:rPr lang="en-US"/>
              <a:t>07/29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236036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 Narrow"/>
                <a:ea typeface="宋体"/>
              </a:rPr>
              <a:t>整体介绍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本文是文化散文，它以“古希腊的石头”为文化载体，进行理性思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现在让我们阅读全文，看作者写了古希腊哪些石头？作者又以此思考了什么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跳读文本，梳理作者行文思路，提炼作者的感受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3512-25BA-49A4-9796-E8629D65796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121AD-1A1B-441B-9042-94B3671DE7E9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76360" y="609120"/>
            <a:ext cx="743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宋体"/>
                <a:ea typeface="宋体"/>
              </a:rPr>
              <a:t>整体感知，梳理文本（跳读提炼）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741672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文体特征：文化散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2000" y="2060640"/>
            <a:ext cx="19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47640" y="256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行文思路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08360" y="24210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希腊国家考古博物馆（雕像、残臂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72360" y="263700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164360" y="242100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帕果斯山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石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4581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8360" y="4365720"/>
            <a:ext cx="15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迈锡尼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城堡废墟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80000" y="4581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03640" y="4581360"/>
            <a:ext cx="2592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苏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海神庙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B2C1-E8D2-498A-8F51-832CB55825C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D88D47-6383-46A3-B608-DE068D919B3C}" type="datetime1">
              <a:rPr lang="en-US"/>
              <a:t>07/29/26</a:t>
            </a:fld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9640" y="76500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、作者感受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42920" y="191628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喜欢（石头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1916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32360" y="191628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奇异和美妙的感受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3284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35280" y="35002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震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3429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88000" y="3429000"/>
            <a:ext cx="244800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钦佩（希腊人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5200-3798-42C3-8F9E-686CFA8C7B88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BC172F-55D0-446E-95A9-1E4A450286DD}" type="datetime1">
              <a:rPr lang="en-US"/>
              <a:t>07/29/26</a:t>
            </a:fld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 Narrow"/>
                <a:ea typeface="宋体"/>
              </a:rPr>
              <a:t>品读感悟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作者为什么希腊博物馆的石头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发现帕果斯山顶的石碑，为什么有“奇异和美妙的感受”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登临苏纽海神庙，为什么“由衷地钦佩希腊人”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让我们再次回到文本，品读感悟，研读探究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E06F-875B-4CE4-95B1-59C8571691A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09E02E-1AA9-4135-9ADB-6E86EB78F4F8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理解品味（品读感悟）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1989000"/>
            <a:ext cx="597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组：以第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段为例，分析作者如何表达对古希腊石头的喜欢的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364500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本段运用拟人、比喻的手法，活画出雕像和壁画人物明亮的眼睛，表达自己对雕像和壁画人物的喜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66BF-9E62-41F3-B346-4DB49327EB43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E8EDC2-F588-488B-9A57-C79A85B21D59}" type="datetime1">
              <a:rPr lang="en-US"/>
              <a:t>07/29/26</a:t>
            </a:fld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8304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宋体"/>
                <a:ea typeface="宋体"/>
              </a:rPr>
              <a:t>B</a:t>
            </a:r>
            <a:r>
              <a:rPr b="0" lang="zh-CN" sz="4000" spc="-1" strike="noStrike">
                <a:solidFill>
                  <a:srgbClr val="ffffcc"/>
                </a:solidFill>
                <a:latin typeface="宋体"/>
                <a:ea typeface="宋体"/>
              </a:rPr>
              <a:t>组：作者为什么喜欢“古希腊的</a:t>
            </a:r>
            <a:br>
              <a:rPr sz="4000"/>
            </a:br>
            <a:r>
              <a:rPr b="0" lang="zh-CN" sz="4000" spc="-1" strike="noStrike">
                <a:solidFill>
                  <a:srgbClr val="ffffcc"/>
                </a:solidFill>
                <a:latin typeface="宋体"/>
                <a:ea typeface="宋体"/>
              </a:rPr>
              <a:t>石头”？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3640" y="299736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喜欢这些刻着历史与艺术的石头，发现了古物的历史美和文化美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018A-CC92-4E29-864C-8BE3AC510E0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B73B6-C7BB-4970-ADB2-59970A1A2FED}" type="datetime1">
              <a:rPr lang="en-US"/>
              <a:t>07/29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00000" y="333360"/>
            <a:ext cx="58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197000"/>
            <a:ext cx="7848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组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年高考浙江卷作文材料有这样一段话：苍茫的丛林间，玛雅文化湮没了；丝绸之路上，高昌古国消逝了。人类在消逝中进步。行走在消逝中，既有“流水落花春去也”的怅惘，也有“谁道人生无再少”的旷达……本文作者行走在希腊国家考古博物馆的雕像间有什么感受？作者又是如何“行走”在古希腊“已经满是裂痕和缺口”的石头间的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48000" y="5373720"/>
            <a:ext cx="482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472428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对“行走”的理解——不是仅有喜悦，不是仅陶醉在艺术的 享受中，而是引发理性的思考，得到启示，并付诸行动，做一些对文化保护有意义的工作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20C4-DF97-45EC-B836-459BC49EF9AF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44F5E9-B24C-4568-A237-8F634E76545B}" type="datetime1">
              <a:rPr lang="en-US"/>
              <a:t>07/29/26</a:t>
            </a:fld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0720" cy="112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Arial Narrow"/>
                <a:ea typeface="宋体"/>
              </a:rPr>
              <a:t>C</a:t>
            </a:r>
            <a:r>
              <a:rPr b="0" lang="zh-CN" sz="5400" spc="-1" strike="noStrike">
                <a:solidFill>
                  <a:srgbClr val="ffffcc"/>
                </a:solidFill>
                <a:latin typeface="Arial Narrow"/>
                <a:ea typeface="宋体"/>
              </a:rPr>
              <a:t>组参考：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19700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引发反思，再灿烂的文明也经受不住时光的侵蚀，古老的文明在破损。 意识到文物保护的迫切性，联想到我国文物保护方面的欠缺，更有了历史责任感。 落实到行动上，冯老在文学创作最旺盛的阶段，停下创作，致力于文化发掘与文物保护工作，并发表文章，海外演讲，呼吁保护文化古迹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9F6A-9D8A-4116-BDE5-51C50DA2DBF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AA90F-5501-4F1F-B724-0C5EEBD78C83}" type="datetime1">
              <a:rPr lang="en-US"/>
              <a:t>07/29/26</a:t>
            </a:fld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Arial Narrow"/>
                <a:ea typeface="宋体"/>
              </a:rPr>
              <a:t>赏析探究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268280"/>
            <a:ext cx="73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：作者为什么由衷地钦佩希腊人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91628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希腊人珍视历史，保持古迹原状原貌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2924280"/>
            <a:ext cx="72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希腊人决不让文化古迹受任何现代事物的干扰，历史空间受到绝对纯正的保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450864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希腊人对历史有深刻的理解与崇拜，有科学的保护方法，有优雅的美感和高尚的文化品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DE17-320F-4427-972B-E69649B797FB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8BAEAA-EE00-47FD-9F05-609B0018369E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6399360" cy="71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 Narrow"/>
                <a:ea typeface="宋体"/>
              </a:rPr>
              <a:t>赏析探究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68000" y="980640"/>
            <a:ext cx="806436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组：曾引起各方争议的圆明园复建工程将陆续启动，也许用不了多久，一个崭新的仿古建筑——圆明园长春园宫门将出现在公众面前。结合本文作者的观点，谈谈你的看法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8DC9-F6FA-42E4-A2B8-C5B3921D45F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4CCC188-6E88-4301-99A8-7E3C002086FB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900000" y="189000"/>
            <a:ext cx="4464000" cy="69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隶书"/>
                <a:ea typeface="隶书"/>
              </a:rPr>
              <a:t>   </a:t>
            </a:r>
            <a:r>
              <a:rPr b="0" lang="zh-CN" sz="4800" spc="-1" strike="noStrike">
                <a:solidFill>
                  <a:srgbClr val="ffffcc"/>
                </a:solidFill>
                <a:latin typeface="隶书"/>
                <a:ea typeface="隶书"/>
              </a:rPr>
              <a:t>古希腊雕像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252360" y="1341360"/>
            <a:ext cx="10152000" cy="5013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9280" y="83664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表情丰富，眼睛明亮，引发人们神奇的遐想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43DD-8392-461B-9732-59E220CFB07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4BB6C5-850A-446C-824E-D35D010171F8}" type="datetime1">
              <a:rPr lang="en-US"/>
              <a:t>07/29/26</a:t>
            </a:fld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Arial Narrow"/>
                <a:ea typeface="隶书"/>
              </a:rPr>
              <a:t>探究参考：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古物翻新，甚至更愚蠢的复原，破坏时间在每一件古物的体内全留下的美丽的生命的年轮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修复圆明园，历史的魂灵就会一下子逃离而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圆明园遗址是帝国主义侵略中国的鲜活历史见证，供游人参观凭吊，教育后人勿忘国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今人面对充满屈辱意味的圆明园时，应保持清醒。既然我们无法扑灭英法联军那场可耻的大火，那么，何不让历史继续给后人留下深刻反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、复建圆明园，劳民伤财，异想天开，有狗尾续貂之嫌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EF40-9BC5-4143-AF21-B3DE030FC28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12472-AE2E-4E79-9389-71D79E82E408}" type="datetime1">
              <a:rPr lang="en-US"/>
              <a:t>07/29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cc"/>
                </a:solidFill>
                <a:latin typeface="Arial Narrow"/>
                <a:ea typeface="隶书"/>
              </a:rPr>
              <a:t>课堂总结：</a:t>
            </a:r>
            <a:endParaRPr b="0" lang="en-US" sz="7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自主积累知识，加大知识储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整体阅读文章，把握文体特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提炼内容要点，理清行文思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深入文本品味，领会作者情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合作探究疑难，注重迁移实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D716-A0A0-4B60-9BA6-7E4C74F7228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8D8A9-17CD-4EFE-82DE-B626CD7A2D97}" type="datetime1">
              <a:rPr lang="en-US"/>
              <a:t>07/29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476360" y="3141720"/>
            <a:ext cx="5418000" cy="121932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谢谢大家，再见。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839080" y="486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936F-9D07-4246-92E2-D80070B62105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F6A563-53AF-4A7A-A477-B17B9B4E2769}" type="datetime1">
              <a:rPr lang="en-US"/>
              <a:t>07/29/26</a:t>
            </a:fld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236036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6858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隶书"/>
                <a:ea typeface="隶书"/>
              </a:rPr>
              <a:t>雅典卫城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45756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7543800" cy="3760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916360" y="69228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斑驳的城墙，年代久远，饱经历史沧桑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FD1E-930C-4C9A-A36A-BA9F526B25C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860499-0C3F-458D-B211-89B3FC33DF59}" type="datetime1">
              <a:rPr lang="en-US"/>
              <a:t>07/29/26</a:t>
            </a:fld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隶书"/>
                <a:ea typeface="隶书"/>
              </a:rPr>
              <a:t>巴比伦遗址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08000" y="620640"/>
            <a:ext cx="6912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灰黄的石柱，记载着文明古国非凡的过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8001000" cy="487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35CE-BF43-433C-A86A-D41DEC95254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AFDF9-C647-4A2D-AA2F-B02AEBC8E81E}" type="datetime1">
              <a:rPr lang="en-US"/>
              <a:t>07/29/26</a:t>
            </a:fld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     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45756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3520" y="609480"/>
            <a:ext cx="861048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圆明园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破碎的石壁，坍塌的废墟，更是背负着屈辱的历史，镌刻着血与火的印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739E-E7A7-4D84-9354-D85BEAD9D39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9B60F-EC66-480B-8C71-1A494B166065}" type="datetime1">
              <a:rPr lang="en-US"/>
              <a:t>07/29/26</a:t>
            </a:fld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教学目标：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79246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、解读文本，品味优美语言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、领会作者对文化古迹的情感态度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、探究文化古迹保护的意义作用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2A1D-4E62-47F7-9CF8-E117A5C4C3F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B4086-7C4E-4F15-A039-F27D91093042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背景介绍：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冯骥才是一位很有成就的作家，他对古代文化情有独钟。早在上世纪八十年代，他就凭反思历史、反思传统文化的《神鞭》《三寸金莲》等一系列小说蜚声文坛。当来到古希腊遗址，站在雅典卫城上时，他有了惊人发现，将古希腊文明与中国文明联系在一起，把希腊人文物保护的态度和方法与国人的做法对照起来，表现了作者对历史、对文化古迹保护的深刻反思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B7B7-E756-4C7D-82F4-15898B64C60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1EE8C5-EB72-4E51-9906-44037C2AF38C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4000" y="2997360"/>
            <a:ext cx="144360" cy="1511280"/>
          </a:xfrm>
          <a:custGeom>
            <a:avLst/>
            <a:gdLst>
              <a:gd name="textAreaLeft" fmla="*/ 92160 w 144360"/>
              <a:gd name="textAreaRight" fmla="*/ 144360 w 14436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84720" y="3141720"/>
            <a:ext cx="216000" cy="1511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50920" y="2924280"/>
            <a:ext cx="433440" cy="1873080"/>
          </a:xfrm>
          <a:custGeom>
            <a:avLst/>
            <a:gdLst>
              <a:gd name="textAreaLeft" fmla="*/ 276840 w 433440"/>
              <a:gd name="textAreaRight" fmla="*/ 433800 w 43344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-102600"/>
            <a:ext cx="105775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、知识梳理（自主学习）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正字音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炯炯（   ）有神    暧（    ）昧（    ）  亢（     ）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坚不可摧（    ）   葱茏（      ）    头颅（    ） 五彩缤（    ）纷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神谕（     ） 呵（     ）护     坍（    ）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废墟（       ）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磨砺（     ）      甬（    ）道      泯（   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2349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多音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2924280"/>
            <a:ext cx="1439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剥落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剥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3789360"/>
            <a:ext cx="11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剥花生    剥皮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292428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龟甲    龟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03400" y="2997360"/>
            <a:ext cx="92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藏龙卧虎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藏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414972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藏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27280" y="3860640"/>
            <a:ext cx="865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龟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56000" y="4365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龟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A1EB-C057-46CD-B7C2-8F7960F3B9E8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A4E111-955B-4CF8-A0C2-E4C05B41D4E6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 Narrow"/>
                <a:ea typeface="宋体"/>
              </a:rPr>
              <a:t>.</a:t>
            </a:r>
            <a:r>
              <a:rPr b="0" lang="zh-CN" sz="2800" spc="-1" strike="noStrike">
                <a:solidFill>
                  <a:srgbClr val="ffffcc"/>
                </a:solidFill>
                <a:latin typeface="Arial Narrow"/>
                <a:ea typeface="宋体"/>
              </a:rPr>
              <a:t>3.</a:t>
            </a:r>
            <a:r>
              <a:rPr b="0" lang="zh-CN" sz="2800" spc="-1" strike="noStrike">
                <a:solidFill>
                  <a:srgbClr val="ffffcc"/>
                </a:solidFill>
                <a:latin typeface="Arial Narrow"/>
                <a:ea typeface="宋体"/>
              </a:rPr>
              <a:t>填入下列横线上的词语正确的一项是（    ）</a:t>
            </a:r>
            <a:r>
              <a:rPr b="0" lang="zh-CN" sz="5400" spc="-1" strike="noStrike">
                <a:solidFill>
                  <a:srgbClr val="ffffcc"/>
                </a:solidFill>
                <a:latin typeface="Arial Narrow"/>
                <a:ea typeface="宋体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我静静坐在山顶一块山石上，默默享受着这种奇异和美妙的感受，直到夕阳把整个石碑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得金红，仿佛一块烧透了的熔岩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被时光的筛子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下来的只有这些破碎的房宇、残垣断壁、断碑，兀自竖立的石柱，东一个西一个的柱头或柱础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爱琴王如今还在海底吗？他到底身在哪里？在远处那一片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着波光的“酒绿色的海心”吗？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7EF9-743D-4FF3-915B-8F29A87C785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7A654-3C1B-4C61-8B66-C236DB6755EE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 User</cp:lastModifiedBy>
  <dcterms:modified xsi:type="dcterms:W3CDTF">2009-05-15T01:35:09Z</dcterms:modified>
  <cp:revision>23</cp:revision>
  <dc:subject/>
  <dc:title>PowerPoint 演示文稿</dc:title>
</cp:coreProperties>
</file>