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chimes.wav" ContentType="audio/x-wav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2BF9-C3D8-41D7-A2EE-82B7048D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1F62-4763-42BD-9E60-E5B89BCC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5240-5815-48CF-AB3C-E9AD88698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EB85-257B-448C-9D38-8AA2C2F83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AC31-1F68-413D-B4D6-14C5CE679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7F06-3410-44FD-8C75-D658C73B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4FD0-3857-4E14-A4FF-290FDA54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7746-F067-496A-8D3D-8387380B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8AD0-43FF-4F8A-9918-FD5F05F2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D934-753D-4576-B0CA-60F5E9D3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3BF4-989E-4898-A502-C82F15A3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F031-ADFB-4A71-9BBA-60F82151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1535-8CDF-4EA6-9FA1-061AE389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1A79-CE3A-43AA-BF5D-C74B733E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0570-248E-46AC-9CDA-652379D7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A223-1829-4BED-8864-8235C8AE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3D35-A29B-4A86-91E9-C52C35FE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C013-9262-4561-8374-304C6AF5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E361-9841-42ED-9E2E-3AD9E214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C3DC-CF1E-418F-8AEB-108B707A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6C7A-8A2B-43EF-884E-C866AA42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DF81-B84D-4DE2-95E4-8877FFA9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3546-FC05-4CFA-892D-BD5B29FE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C44B-C82A-4463-A5E4-290B5395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FB27-18A7-4502-B848-E17B7C7C20A6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FDFA-14CD-45AF-AE32-AC6B2D5D63D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64A3-FB6D-48F4-AB70-4EC417F06255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708F-2233-43A3-9570-D344FE1D948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BACE-1D93-4F30-84AF-C08724C8F0FB}" type="slidenum">
              <a:rPr b="0" lang="zh-CN" sz="5400" spc="-1" strike="noStrike">
                <a:solidFill>
                  <a:srgbClr val="ffffcc"/>
                </a:solidFill>
                <a:latin typeface="宋体"/>
                <a:ea typeface="宋体"/>
              </a:rPr>
              <a:t>&lt;number&gt;</a:t>
            </a:fld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-15264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0" lang="zh-CN" sz="8000" spc="-1" strike="noStrike">
                <a:solidFill>
                  <a:srgbClr val="ffffff"/>
                </a:solidFill>
                <a:latin typeface="隶书"/>
                <a:ea typeface="隶书"/>
              </a:rPr>
              <a:t>古希腊的石头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006560"/>
            <a:ext cx="8778960" cy="5851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35280" y="537372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肥城六中                  范玉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203640" y="4437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9F81-91CC-4891-9C4E-27313BDB644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AC2A368-7A1B-4806-A566-0752161A9CC7}" type="datetime1">
              <a:rPr lang="en-US"/>
              <a:t>07/30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236036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 Narrow"/>
                <a:ea typeface="宋体"/>
              </a:rPr>
              <a:t>整体介绍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本文是文化散文，它以“古希腊的石头”为文化载体，进行理性思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现在让我们阅读全文，看作者写了古希腊哪些石头？作者又以此思考了什么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跳读文本，梳理作者行文思路，提炼作者的感受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701B-047C-472E-9E49-18DA0E6B107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D4BBA5-B6B3-40C2-82E7-03C4AC447E1A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76360" y="609120"/>
            <a:ext cx="743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宋体"/>
                <a:ea typeface="宋体"/>
              </a:rPr>
              <a:t>整体感知，梳理文本（跳读提炼）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741672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文体特征：文化散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2000" y="2060640"/>
            <a:ext cx="19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47640" y="256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行文思路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08360" y="24210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希腊国家考古博物馆（雕像、残臂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72360" y="263700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164360" y="242100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帕果斯山顶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石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87280" y="4581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8360" y="4365720"/>
            <a:ext cx="15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迈锡尼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城堡废墟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80000" y="4581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03640" y="4581360"/>
            <a:ext cx="2592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苏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海神庙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9019-0CD9-4911-8959-B179C599DF7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A12BF-3EB7-4F17-AC6C-54B4CC4AB395}" type="datetime1">
              <a:rPr lang="en-US"/>
              <a:t>07/30/26</a:t>
            </a:fld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9640" y="76500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、作者感受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42920" y="191628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喜欢（石头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1916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32360" y="191628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奇异和美妙的感受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3284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35280" y="35002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震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3429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88000" y="3429000"/>
            <a:ext cx="244800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钦佩（希腊人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3E25-2D4D-4D3E-8EFA-4830BCD62A4D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F4E96-D076-4028-A316-3A8931E860DA}" type="datetime1">
              <a:rPr lang="en-US"/>
              <a:t>07/30/26</a:t>
            </a:fld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 Narrow"/>
                <a:ea typeface="宋体"/>
              </a:rPr>
              <a:t>品读感悟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作者为什么希腊博物馆的石头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发现帕果斯山顶的石碑，为什么有“奇异和美妙的感受”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登临苏纽海神庙，为什么“由衷地钦佩希腊人”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让我们再次回到文本，品读感悟，研读探究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BC0C-875B-4409-BCAE-392EE7AE2C1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AF71C-80B9-4195-8F11-E19F8803E708}" type="datetime1">
              <a:rPr lang="en-US"/>
              <a:t>07/30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理解品味（品读感悟）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1989000"/>
            <a:ext cx="597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组：以第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段为例，分析作者如何表达对古希腊石头的喜欢的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3645000"/>
            <a:ext cx="70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本段运用拟人、比喻的手法，活画出雕像和壁画人物明亮的眼睛，表达自己对雕像和壁画人物的喜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B30F-7F8F-4B3A-8A0F-140D1D22576C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61F243-B2D5-44D6-BC63-0214A240F44C}" type="datetime1">
              <a:rPr lang="en-US"/>
              <a:t>07/30/26</a:t>
            </a:fld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8304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宋体"/>
                <a:ea typeface="宋体"/>
              </a:rPr>
              <a:t>B</a:t>
            </a:r>
            <a:r>
              <a:rPr b="0" lang="zh-CN" sz="4000" spc="-1" strike="noStrike">
                <a:solidFill>
                  <a:srgbClr val="ffffcc"/>
                </a:solidFill>
                <a:latin typeface="宋体"/>
                <a:ea typeface="宋体"/>
              </a:rPr>
              <a:t>组：作者为什么喜欢“古希腊的</a:t>
            </a:r>
            <a:br>
              <a:rPr sz="4000"/>
            </a:br>
            <a:r>
              <a:rPr b="0" lang="zh-CN" sz="4000" spc="-1" strike="noStrike">
                <a:solidFill>
                  <a:srgbClr val="ffffcc"/>
                </a:solidFill>
                <a:latin typeface="宋体"/>
                <a:ea typeface="宋体"/>
              </a:rPr>
              <a:t>石头”？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3640" y="299736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喜欢这些刻着历史与艺术的石头，发现了古物的历史美和文化美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7F3E-672E-453E-BA27-ACD6C492417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206A1-EDAA-40F4-BF5C-59E03CA43191}" type="datetime1">
              <a:rPr lang="en-US"/>
              <a:t>07/30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00000" y="333360"/>
            <a:ext cx="58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197000"/>
            <a:ext cx="7848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组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年高考浙江卷作文材料有这样一段话：苍茫的丛林间，玛雅文化湮没了；丝绸之路上，高昌古国消逝了。人类在消逝中进步。行走在消逝中，既有“流水落花春去也”的怅惘，也有“谁道人生无再少”的旷达……本文作者行走在希腊国家考古博物馆的雕像间有什么感受？作者又是如何“行走”在古希腊“已经满是裂痕和缺口”的石头间的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48000" y="5373720"/>
            <a:ext cx="482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472428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对“行走”的理解——不是仅有喜悦，不是仅陶醉在艺术的 享受中，而是引发理性的思考，得到启示，并付诸行动，做一些对文化保护有意义的工作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551A-1589-4C9D-BE9D-BA28CF22060A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87141-2A88-41A8-89B1-743CFE20BFD7}" type="datetime1">
              <a:rPr lang="en-US"/>
              <a:t>07/30/26</a:t>
            </a:fld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0720" cy="112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Arial Narrow"/>
                <a:ea typeface="宋体"/>
              </a:rPr>
              <a:t>C</a:t>
            </a:r>
            <a:r>
              <a:rPr b="0" lang="zh-CN" sz="5400" spc="-1" strike="noStrike">
                <a:solidFill>
                  <a:srgbClr val="ffffcc"/>
                </a:solidFill>
                <a:latin typeface="Arial Narrow"/>
                <a:ea typeface="宋体"/>
              </a:rPr>
              <a:t>组参考：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197000"/>
            <a:ext cx="89154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引发反思，再灿烂的文明也经受不住时光的侵蚀，古老的文明在破损。 意识到文物保护的迫切性，联想到我国文物保护方面的欠缺，更有了历史责任感。 落实到行动上，冯老在文学创作最旺盛的阶段，停下创作，致力于文化发掘与文物保护工作，并发表文章，海外演讲，呼吁保护文化古迹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FA99-C4A3-4FF4-A277-57DCB362702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A0840-B54C-4144-A042-162611E9C554}" type="datetime1">
              <a:rPr lang="en-US"/>
              <a:t>07/30/26</a:t>
            </a:fld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Arial Narrow"/>
                <a:ea typeface="宋体"/>
              </a:rPr>
              <a:t>赏析探究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268280"/>
            <a:ext cx="73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：作者为什么由衷地钦佩希腊人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91628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希腊人珍视历史，保持古迹原状原貌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2924280"/>
            <a:ext cx="72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希腊人决不让文化古迹受任何现代事物的干扰，历史空间受到绝对纯正的保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450864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希腊人对历史有深刻的理解与崇拜，有科学的保护方法，有优雅的美感和高尚的文化品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74CD-C121-46F5-B2C5-29746635EF71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2F61DF-A967-4E16-8771-125F5ACFB66B}" type="datetime1">
              <a:rPr lang="en-US"/>
              <a:t>07/30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6399360" cy="71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 Narrow"/>
                <a:ea typeface="宋体"/>
              </a:rPr>
              <a:t>赏析探究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68000" y="980640"/>
            <a:ext cx="806436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组：曾引起各方争议的圆明园复建工程将陆续启动，也许用不了多久，一个崭新的仿古建筑——圆明园长春园宫门将出现在公众面前。结合本文作者的观点，谈谈你的看法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B01F-5BE3-48C7-B670-E66C44E8C32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0FA843A-0992-44C6-AB53-D8BA5A0F6C35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900000" y="189000"/>
            <a:ext cx="4464000" cy="69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隶书"/>
                <a:ea typeface="隶书"/>
              </a:rPr>
              <a:t>   </a:t>
            </a:r>
            <a:r>
              <a:rPr b="0" lang="zh-CN" sz="4800" spc="-1" strike="noStrike">
                <a:solidFill>
                  <a:srgbClr val="ffffcc"/>
                </a:solidFill>
                <a:latin typeface="隶书"/>
                <a:ea typeface="隶书"/>
              </a:rPr>
              <a:t>古希腊雕像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252360" y="1341360"/>
            <a:ext cx="10152000" cy="5013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9280" y="83664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表情丰富，眼睛明亮，引发人们神奇的遐想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8F0A-5835-42A6-A4CD-51ED8F5FCDE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384AAB-B826-4A81-A69B-9F967892557C}" type="datetime1">
              <a:rPr lang="en-US"/>
              <a:t>07/30/26</a:t>
            </a:fld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Arial Narrow"/>
                <a:ea typeface="隶书"/>
              </a:rPr>
              <a:t>探究参考：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古物翻新，甚至更愚蠢的复原，破坏时间在每一件古物的体内全留下的美丽的生命的年轮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修复圆明园，历史的魂灵就会一下子逃离而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圆明园遗址是帝国主义侵略中国的鲜活历史见证，供游人参观凭吊，教育后人勿忘国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今人面对充满屈辱意味的圆明园时，应保持清醒。既然我们无法扑灭英法联军那场可耻的大火，那么，何不让历史继续给后人留下深刻反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、复建圆明园，劳民伤财，异想天开，有狗尾续貂之嫌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0A2B-1D93-40C4-B57C-13109E67191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E65749-7A29-4C9C-805D-5F392821117C}" type="datetime1">
              <a:rPr lang="en-US"/>
              <a:t>07/30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cc"/>
                </a:solidFill>
                <a:latin typeface="Arial Narrow"/>
                <a:ea typeface="隶书"/>
              </a:rPr>
              <a:t>课堂总结：</a:t>
            </a:r>
            <a:endParaRPr b="0" lang="en-US" sz="7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自主积累知识，加大知识储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整体阅读文章，把握文体特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提炼内容要点，理清行文思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深入文本品味，领会作者情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合作探究疑难，注重迁移实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FE8E-FA4E-4668-8915-06AC55BC235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09FB9C-F16F-49B3-A8F9-8A0AB8E502B1}" type="datetime1">
              <a:rPr lang="en-US"/>
              <a:t>07/30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476360" y="3141720"/>
            <a:ext cx="5418000" cy="1219320"/>
          </a:xfrm>
          <a:prstGeom prst="rect">
            <a:avLst/>
          </a:prstGeom>
        </p:spPr>
        <p:txBody>
          <a:bodyPr wrap="none" lIns="90000" rIns="90000" tIns="46800" bIns="46800" anchor="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谢谢大家，再见。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839080" y="486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05EB-6747-4889-9382-7F400F9C7F2F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F399AF-1B82-463E-A297-E50414140D40}" type="datetime1">
              <a:rPr lang="en-US"/>
              <a:t>07/30/26</a:t>
            </a:fld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236036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6858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隶书"/>
                <a:ea typeface="隶书"/>
              </a:rPr>
              <a:t>雅典卫城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45756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7543800" cy="3760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916360" y="69228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斑驳的城墙，年代久远，饱经历史沧桑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667E-9FFE-4BC9-B8B8-EE58B32FFDC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1E4DF-5345-442E-8C97-D30B02430740}" type="datetime1">
              <a:rPr lang="en-US"/>
              <a:t>07/30/26</a:t>
            </a:fld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隶书"/>
                <a:ea typeface="隶书"/>
              </a:rPr>
              <a:t>巴比伦遗址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08000" y="620640"/>
            <a:ext cx="6912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灰黄的石柱，记载着文明古国非凡的过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8001000" cy="487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E6F6-4F6C-4C66-AE7C-E6074A348BD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C1DB83-650C-41B1-AED9-6315608DDA3D}" type="datetime1">
              <a:rPr lang="en-US"/>
              <a:t>07/30/26</a:t>
            </a:fld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     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45756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3520" y="609480"/>
            <a:ext cx="861048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圆明园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破碎的石壁，坍塌的废墟，更是背负着屈辱的历史，镌刻着血与火的印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F242-8CB9-4958-8F42-9100CAD1FCD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581CE1-F904-4692-8BB9-1E72B4885FCC}" type="datetime1">
              <a:rPr lang="en-US"/>
              <a:t>07/30/26</a:t>
            </a:fld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教学目标：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79246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、解读文本，品味优美语言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、领会作者对文化古迹的情感态度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、探究文化古迹保护的意义作用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7322-BEBE-4482-B99E-6DA55D748EF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91CB63-BC16-4A43-B1FF-A263957FFB9F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背景介绍：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冯骥才是一位很有成就的作家，他对古代文化情有独钟。早在上世纪八十年代，他就凭反思历史、反思传统文化的《神鞭》《三寸金莲》等一系列小说蜚声文坛。当来到古希腊遗址，站在雅典卫城上时，他有了惊人发现，将古希腊文明与中国文明联系在一起，把希腊人文物保护的态度和方法与国人的做法对照起来，表现了作者对历史、对文化古迹保护的深刻反思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AADD-1A4A-4EAB-975A-19B02818F06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DEF16-CDC1-4F10-86C2-AB1AF44E71F0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24000" y="2997360"/>
            <a:ext cx="144360" cy="1511280"/>
          </a:xfrm>
          <a:custGeom>
            <a:avLst/>
            <a:gdLst>
              <a:gd name="textAreaLeft" fmla="*/ 92160 w 144360"/>
              <a:gd name="textAreaRight" fmla="*/ 144360 w 14436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84720" y="3141720"/>
            <a:ext cx="216000" cy="1511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50920" y="2924280"/>
            <a:ext cx="433440" cy="1873080"/>
          </a:xfrm>
          <a:custGeom>
            <a:avLst/>
            <a:gdLst>
              <a:gd name="textAreaLeft" fmla="*/ 276840 w 433440"/>
              <a:gd name="textAreaRight" fmla="*/ 433800 w 43344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-102600"/>
            <a:ext cx="105775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、知识梳理（自主学习）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正字音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炯炯（   ）有神    暧（    ）昧（    ）  亢（     ）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坚不可摧（    ）   葱茏（      ）    头颅（    ） 五彩缤（    ）纷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神谕（     ） 呵（     ）护     坍（    ）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废墟（       ）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磨砺（     ）      甬（    ）道      泯（   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2349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多音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2924280"/>
            <a:ext cx="1439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剥落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剥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3789360"/>
            <a:ext cx="11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剥花生    剥皮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292428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龟甲    龟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03400" y="2997360"/>
            <a:ext cx="92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藏龙卧虎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藏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414972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藏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27280" y="3860640"/>
            <a:ext cx="865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龟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56000" y="436572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龟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CD09-33D2-498A-84F0-496BB140116E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A75366-4C12-42E1-A67F-B9DAF7A82442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 Narrow"/>
                <a:ea typeface="宋体"/>
              </a:rPr>
              <a:t>.</a:t>
            </a:r>
            <a:r>
              <a:rPr b="0" lang="zh-CN" sz="2800" spc="-1" strike="noStrike">
                <a:solidFill>
                  <a:srgbClr val="ffffcc"/>
                </a:solidFill>
                <a:latin typeface="Arial Narrow"/>
                <a:ea typeface="宋体"/>
              </a:rPr>
              <a:t>3.</a:t>
            </a:r>
            <a:r>
              <a:rPr b="0" lang="zh-CN" sz="2800" spc="-1" strike="noStrike">
                <a:solidFill>
                  <a:srgbClr val="ffffcc"/>
                </a:solidFill>
                <a:latin typeface="Arial Narrow"/>
                <a:ea typeface="宋体"/>
              </a:rPr>
              <a:t>填入下列横线上的词语正确的一项是（    ）</a:t>
            </a:r>
            <a:r>
              <a:rPr b="0" lang="zh-CN" sz="5400" spc="-1" strike="noStrike">
                <a:solidFill>
                  <a:srgbClr val="ffffcc"/>
                </a:solidFill>
                <a:latin typeface="Arial Narrow"/>
                <a:ea typeface="宋体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我静静坐在山顶一块山石上，默默享受着这种奇异和美妙的感受，直到夕阳把整个石碑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得金红，仿佛一块烧透了的熔岩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被时光的筛子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下来的只有这些破碎的房宇、残垣断壁、断碑，兀自竖立的石柱，东一个西一个的柱头或柱础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爱琴王如今还在海底吗？他到底身在哪里？在远处那一片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着波光的“酒绿色的海心”吗？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C82D-F83B-435D-8A28-531917C3546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2E6F9C-16A2-42D8-BF6C-8D65E73F2D5D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 User</cp:lastModifiedBy>
  <dcterms:modified xsi:type="dcterms:W3CDTF">2009-05-15T01:35:09Z</dcterms:modified>
  <cp:revision>23</cp:revision>
  <dc:subject/>
  <dc:title>PowerPoint 演示文稿</dc:title>
</cp:coreProperties>
</file>