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3CD-082E-4716-BF4B-B2D6FCAB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F17-0480-4C3E-B046-C9931E16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99D-70DE-4C0F-87C1-53C497DB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462-F898-458A-A5D1-1623D205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E848-C5C5-4E12-BE28-48F077D1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632F-5E32-4EFA-85D3-DB0BDB4F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8CDE-DB4D-4151-85E0-60503AC8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CB98-755D-49CB-B617-69B4342D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2307-FED3-4BD9-90CD-9DD4A502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DDE8-9D54-46E0-84D0-7EF54417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7C47-5FFE-4C90-8E9B-E08CE4E1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C05-FCEC-4B37-BAE2-8CBCDF8D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2E1E-934E-46C4-BFFC-B32B56F2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8797-22C0-4160-BFE6-37ADFF48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6621-2735-4D74-A9E9-3E9EE26E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B539-24D1-4CB8-90CC-523C4985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AB2E-785A-4FC0-86E9-7FEE3FAA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BB9-8C4B-4C9A-BB14-E2E126DE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566-1346-453E-80C7-2213A82D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F00-7C96-463C-9FAF-681B7B77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D21-A152-43E7-AF08-AE3037CC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A4A9-A703-41DA-B030-BB495FAE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A0B-260A-45A6-BF02-35F9474F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B11-E094-4CCB-B24B-4ACE68C3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BE72-0B60-4F07-9A86-33121CDB3C86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1281-138F-4CA5-9867-FAA6106869C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D8C9-B7AD-4EEB-AEEC-6DB8D2BB568C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B460-9AAE-4D56-8CD5-CF9352489C9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4381-D6CA-4CF1-8288-A50EF32776CF}" type="slidenum">
              <a:rPr b="0" lang="zh-CN" sz="5400" spc="-1" strike="noStrike">
                <a:solidFill>
                  <a:srgbClr val="ffffcc"/>
                </a:solidFill>
                <a:latin typeface="宋体"/>
                <a:ea typeface="宋体"/>
              </a:rPr>
              <a:t>&lt;number&gt;</a:t>
            </a:fld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-15264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8000" spc="-1" strike="noStrike">
                <a:solidFill>
                  <a:srgbClr val="ffffff"/>
                </a:solidFill>
                <a:latin typeface="隶书"/>
                <a:ea typeface="隶书"/>
              </a:rPr>
              <a:t>古希腊的石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006560"/>
            <a:ext cx="8778960" cy="5851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35280" y="5373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肥城六中                  范玉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03640" y="4437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AC84-38AD-427E-B2EA-F7A8D2FE562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826B09F-D4A0-442F-A145-57A2CE2C9F62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3603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整体介绍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本文是文化散文，它以“古希腊的石头”为文化载体，进行理性思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现在让我们阅读全文，看作者写了古希腊哪些石头？作者又以此思考了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跳读文本，梳理作者行文思路，提炼作者的感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749-13BD-4B6A-A77E-1FBF2AF4FB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44182-C976-4242-9742-9EB21D8BB1A0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360" y="60912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整体感知，梳理文本（跳读提炼）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文体特征：文化散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206064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256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行文思路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2421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希腊国家考古博物馆（雕像、残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26370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42100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帕果斯山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石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45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8360" y="436572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迈锡尼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城堡废墟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4581360"/>
            <a:ext cx="2592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苏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海神庙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FB8-86CE-4C51-B383-A03D040ABAB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01F39-99B3-4199-9052-E2F63D3C01A2}" type="datetime1">
              <a:rPr lang="en-US"/>
              <a:t>07/31/26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、作者感受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91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喜欢（石头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1916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191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奇异和美妙的感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3284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50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震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429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3429000"/>
            <a:ext cx="244800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钦佩（希腊人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229-E726-4077-BDBB-0934EFB8F9DF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414F2-CE99-4055-9FB4-478CDBF34752}" type="datetime1">
              <a:rPr lang="en-US"/>
              <a:t>07/31/26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品读感悟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作者为什么希腊博物馆的石头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发现帕果斯山顶的石碑，为什么有“奇异和美妙的感受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登临苏纽海神庙，为什么“由衷地钦佩希腊人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让我们再次回到文本，品读感悟，研读探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BB3-9258-47E4-A2E8-EEA7C2BE283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45216-1BAA-458D-B13E-E3AD4B70DB8D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理解品味（品读感悟）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989000"/>
            <a:ext cx="59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组：以第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段为例，分析作者如何表达对古希腊石头的喜欢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64500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本段运用拟人、比喻的手法，活画出雕像和壁画人物明亮的眼睛，表达自己对雕像和壁画人物的喜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049-989A-42C2-AAC6-CF85C85FA85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D6034-9177-4CBE-9BF8-E17415268F09}" type="datetime1">
              <a:rPr lang="en-US"/>
              <a:t>07/31/26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304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B</a:t>
            </a: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组：作者为什么喜欢“古希腊的</a:t>
            </a:r>
            <a:br>
              <a:rPr sz="4000"/>
            </a:b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石头”？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299736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喜欢这些刻着历史与艺术的石头，发现了古物的历史美和文化美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3CA-CCA0-4F1B-97F4-20117C9E948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3F891-F4C1-4FA1-88F6-246B5CB9506E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0000" y="333360"/>
            <a:ext cx="58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197000"/>
            <a:ext cx="784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高考浙江卷作文材料有这样一段话：苍茫的丛林间，玛雅文化湮没了；丝绸之路上，高昌古国消逝了。人类在消逝中进步。行走在消逝中，既有“流水落花春去也”的怅惘，也有“谁道人生无再少”的旷达……本文作者行走在希腊国家考古博物馆的雕像间有什么感受？作者又是如何“行走”在古希腊“已经满是裂痕和缺口”的石头间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373720"/>
            <a:ext cx="48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724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“行走”的理解——不是仅有喜悦，不是仅陶醉在艺术的 享受中，而是引发理性的思考，得到启示，并付诸行动，做一些对文化保护有意义的工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5FB-0DD7-458B-873B-3FC58F21E882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A8986-1F02-4AE9-985C-CA38D063E1A3}" type="datetime1">
              <a:rPr lang="en-US"/>
              <a:t>07/31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072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C</a:t>
            </a: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组参考：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引发反思，再灿烂的文明也经受不住时光的侵蚀，古老的文明在破损。 意识到文物保护的迫切性，联想到我国文物保护方面的欠缺，更有了历史责任感。 落实到行动上，冯老在文学创作最旺盛的阶段，停下创作，致力于文化发掘与文物保护工作，并发表文章，海外演讲，呼吁保护文化古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F77-81FB-4FB9-A419-1C55DF89F2A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5847A-0827-4FCC-B274-D02D8B77D228}" type="datetime1">
              <a:rPr lang="en-US"/>
              <a:t>07/31/26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宋体"/>
              </a:rPr>
              <a:t>赏析探究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26828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：作者为什么由衷地钦佩希腊人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91628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珍视历史，保持古迹原状原貌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292428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决不让文化古迹受任何现代事物的干扰，历史空间受到绝对纯正的保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4508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对历史有深刻的理解与崇拜，有科学的保护方法，有优雅的美感和高尚的文化品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DC7-9DDA-4899-83EB-B081C7F5184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4A68C-FDC6-42D7-9F2E-27E19DF3950B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639936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赏析探究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68000" y="980640"/>
            <a:ext cx="8064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组：曾引起各方争议的圆明园复建工程将陆续启动，也许用不了多久，一个崭新的仿古建筑——圆明园长春园宫门将出现在公众面前。结合本文作者的观点，谈谈你的看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8D78-BD2C-4447-8344-1CBF6335526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C678D48-AED2-446A-A0B5-F2BFE747C049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900000" y="189000"/>
            <a:ext cx="44640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古希腊雕像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2360" y="1341360"/>
            <a:ext cx="10152000" cy="501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83664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表情丰富，眼睛明亮，引发人们神奇的遐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542-67AC-470A-9C9F-74BBB88F66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99DE9-278A-4F5B-808B-BCA8DAC9EEAD}" type="datetime1">
              <a:rPr lang="en-US"/>
              <a:t>07/31/26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隶书"/>
              </a:rPr>
              <a:t>探究参考：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古物翻新，甚至更愚蠢的复原，破坏时间在每一件古物的体内全留下的美丽的生命的年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修复圆明园，历史的魂灵就会一下子逃离而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圆明园遗址是帝国主义侵略中国的鲜活历史见证，供游人参观凭吊，教育后人勿忘国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今人面对充满屈辱意味的圆明园时，应保持清醒。既然我们无法扑灭英法联军那场可耻的大火，那么，何不让历史继续给后人留下深刻反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复建圆明园，劳民伤财，异想天开，有狗尾续貂之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801-A7C2-480F-A414-CFD54ED8446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3A4E8-DFFB-4F67-97F1-B80A012F2C13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cc"/>
                </a:solidFill>
                <a:latin typeface="Arial Narrow"/>
                <a:ea typeface="隶书"/>
              </a:rPr>
              <a:t>课堂总结：</a:t>
            </a:r>
            <a:endParaRPr b="0" lang="en-US" sz="7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自主积累知识，加大知识储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整体阅读文章，把握文体特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提炼内容要点，理清行文思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深入文本品味，领会作者情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合作探究疑难，注重迁移实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C41-BBC2-4C8B-99C9-9B9C1679D2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4B179-6129-4F85-8F97-99ABA8C4F138}" type="datetime1">
              <a:rPr lang="en-US"/>
              <a:t>07/31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476360" y="3141720"/>
            <a:ext cx="541800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大家，再见。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839080" y="486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FEB-0058-4328-83C6-DD1F4E9DDB3A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BB34B-D6C7-4421-8099-9B0B8AA6CC21}" type="datetime1">
              <a:rPr lang="en-US"/>
              <a:t>07/31/26</a:t>
            </a:fld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36036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雅典卫城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4575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7543800" cy="3760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16360" y="692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斑驳的城墙，年代久远，饱经历史沧桑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924-5E22-490A-A262-B34344DDE3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2BDEF-AC06-4CEB-B063-D7650C9353B7}" type="datetime1">
              <a:rPr lang="en-US"/>
              <a:t>07/31/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隶书"/>
                <a:ea typeface="隶书"/>
              </a:rPr>
              <a:t>巴比伦遗址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8000" y="620640"/>
            <a:ext cx="6912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灰黄的石柱，记载着文明古国非凡的过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8875-0E6A-4530-8BCD-186F098E51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06234-7632-4AF8-9341-EF1AFE3FB28F}" type="datetime1">
              <a:rPr lang="en-US"/>
              <a:t>07/31/26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     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4575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609480"/>
            <a:ext cx="86104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圆明园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破碎的石壁，坍塌的废墟，更是背负着屈辱的历史，镌刻着血与火的印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A6A-8777-4A45-8BEC-7959766393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3C82C-91EA-46B4-BF34-5E3C147910F4}" type="datetime1">
              <a:rPr lang="en-US"/>
              <a:t>07/31/26</a:t>
            </a:fld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教学目标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解读文本，品味优美语言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领会作者对文化古迹的情感态度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探究文化古迹保护的意义作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A56-B05C-4FA6-A973-63B06E5A95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1E3A4-837B-4C38-BA73-0299F1F95A40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背景介绍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冯骥才是一位很有成就的作家，他对古代文化情有独钟。早在上世纪八十年代，他就凭反思历史、反思传统文化的《神鞭》《三寸金莲》等一系列小说蜚声文坛。当来到古希腊遗址，站在雅典卫城上时，他有了惊人发现，将古希腊文明与中国文明联系在一起，把希腊人文物保护的态度和方法与国人的做法对照起来，表现了作者对历史、对文化古迹保护的深刻反思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6B9-2177-4279-B108-957F64B664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88F66-A995-4E95-AB59-4C5386788349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299736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3141720"/>
            <a:ext cx="216000" cy="1511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2924280"/>
            <a:ext cx="433440" cy="1873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-102600"/>
            <a:ext cx="105775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知识梳理（自主学习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正字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炯炯（   ）有神    暧（    ）昧（    ）  亢（     ）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坚不可摧（    ）   葱茏（      ）    头颅（    ） 五彩缤（    ）纷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神谕（     ） 呵（     ）护     坍（    ）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废墟（       ）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磨砺（     ）      甬（    ）道      泯（   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3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多音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2924280"/>
            <a:ext cx="143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89360"/>
            <a:ext cx="11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花生    剥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924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甲    龟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3400" y="2997360"/>
            <a:ext cx="9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龙卧虎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149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3860640"/>
            <a:ext cx="86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4365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A0D-666C-4D37-9A50-40D1C3D5527F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E1B67-D597-45CB-9273-323FCC3394E9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 Narrow"/>
                <a:ea typeface="宋体"/>
              </a:rPr>
              <a:t>.</a:t>
            </a:r>
            <a:r>
              <a:rPr b="0" lang="zh-CN" sz="2800" spc="-1" strike="noStrike">
                <a:solidFill>
                  <a:srgbClr val="ffffcc"/>
                </a:solidFill>
                <a:latin typeface="Arial Narrow"/>
                <a:ea typeface="宋体"/>
              </a:rPr>
              <a:t>3.</a:t>
            </a:r>
            <a:r>
              <a:rPr b="0" lang="zh-CN" sz="2800" spc="-1" strike="noStrike">
                <a:solidFill>
                  <a:srgbClr val="ffffcc"/>
                </a:solidFill>
                <a:latin typeface="Arial Narrow"/>
                <a:ea typeface="宋体"/>
              </a:rPr>
              <a:t>填入下列横线上的词语正确的一项是（    ）</a:t>
            </a: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我静静坐在山顶一块山石上，默默享受着这种奇异和美妙的感受，直到夕阳把整个石碑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得金红，仿佛一块烧透了的熔岩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被时光的筛子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下来的只有这些破碎的房宇、残垣断壁、断碑，兀自竖立的石柱，东一个西一个的柱头或柱础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爱琴王如今还在海底吗？他到底身在哪里？在远处那一片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着波光的“酒绿色的海心”吗？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ED8-B7D4-4749-B88B-361461B221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DF977-7C39-4D02-96E7-AD3F968CA4BC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09-05-15T01:35:09Z</dcterms:modified>
  <cp:revision>23</cp:revision>
  <dc:subject/>
  <dc:title>PowerPoint 演示文稿</dc:title>
</cp:coreProperties>
</file>