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chimes.wav" ContentType="audio/x-wav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4F03-C4C0-4FD5-821F-AD132D1E6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9D4F-C0FF-43D3-AD06-38EEA614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3114-AFD3-4431-8F3A-B6C1DFCC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F9AB-04D9-43C1-AD7F-13B3F251A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EBA3-9B16-47B2-967C-C18F26B39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FB6B-AF99-41E0-85B3-945B1F55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5249-9195-4047-9D12-23397248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1A76-13F5-4ABF-8E0B-171E122B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44F4-0ACD-462C-976A-DA9A20A5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D487-BBA0-4878-A43E-6519B748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D503-E5EE-4A2D-98A8-25D93C72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A1CD-5741-491C-9C6C-C18A22C0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3511-202C-4DEC-8B24-1AFC2C7E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9DF2-D276-4625-903A-F736E806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6669-707C-42F2-B86B-45354F99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6E03-357E-4206-A7E1-9954186A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81B7-49A3-4E57-96F0-E885D68F1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8428-94D7-4C91-830F-43051101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E43B-94B5-40EA-B2D8-50314CE3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3F3B-A652-412E-9294-40DAD634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8A1D-C31D-4CCF-AA56-5E460BA7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3045-7A7A-405E-8B80-58822A4E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ED83-9F27-4D80-84A2-5FAD283E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16BC-7A82-494D-996B-ABB72C2A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75CE-0DC9-4289-81A4-1470058B379B}" type="datetime">
              <a:rPr b="0" lang="zh-CN" sz="1400" spc="-1" strike="noStrike">
                <a:solidFill>
                  <a:srgbClr val="ffffff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FA46-5F9B-46A3-98D1-08186DB9F09B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21F1-DBCE-4419-B567-77E2884066BD}" type="datetime">
              <a:rPr b="0" lang="zh-CN" sz="1400" spc="-1" strike="noStrike">
                <a:solidFill>
                  <a:srgbClr val="ffffff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80B1-2AB1-4A89-82B7-41007AA619F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090E-7FDA-4499-9AF7-E5561046C34D}" type="slidenum">
              <a:rPr b="0" lang="zh-CN" sz="5400" spc="-1" strike="noStrike">
                <a:solidFill>
                  <a:srgbClr val="ffffcc"/>
                </a:solidFill>
                <a:latin typeface="宋体"/>
                <a:ea typeface="宋体"/>
              </a:rPr>
              <a:t>&lt;number&gt;</a:t>
            </a:fld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-15264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0" lang="zh-CN" sz="8000" spc="-1" strike="noStrike">
                <a:solidFill>
                  <a:srgbClr val="ffffff"/>
                </a:solidFill>
                <a:latin typeface="隶书"/>
                <a:ea typeface="隶书"/>
              </a:rPr>
              <a:t>古希腊的石头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1006560"/>
            <a:ext cx="8778960" cy="5851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35280" y="537372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肥城六中                  范玉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203640" y="4437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C896-BB75-4C1A-B653-60C6E9A2CAD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409D57D-42EB-425A-9E16-0159CDA5AA07}" type="datetime1">
              <a:rPr lang="en-US"/>
              <a:t>07/29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236036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71280" y="620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 Narrow"/>
                <a:ea typeface="宋体"/>
              </a:rPr>
              <a:t>整体介绍</a:t>
            </a: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本文是文化散文，它以“古希腊的石头”为文化载体，进行理性思考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现在让我们阅读全文，看作者写了古希腊哪些石头？作者又以此思考了什么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跳读文本，梳理作者行文思路，提炼作者的感受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0D34-AD67-4C7A-B1AF-04427E360E5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AE4E9D-5A97-4FB3-8DDC-3D1721E15515}" type="datetime1">
              <a:rPr lang="en-US"/>
              <a:t>07/29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76360" y="609120"/>
            <a:ext cx="7439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宋体"/>
                <a:ea typeface="宋体"/>
              </a:rPr>
              <a:t>整体感知，梳理文本（跳读提炼）</a:t>
            </a: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741672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文体特征：文化散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2000" y="2060640"/>
            <a:ext cx="19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47640" y="256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行文思路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08360" y="24210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希腊国家考古博物馆（雕像、残臂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72360" y="263700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164360" y="242100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帕果斯山顶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石碑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87280" y="4581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68360" y="4365720"/>
            <a:ext cx="15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迈锡尼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城堡废墟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80000" y="4581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03640" y="4581360"/>
            <a:ext cx="2592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苏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海神庙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E426-7DCF-45AC-ADE2-950EC9167E6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117B71-884C-4EE0-BEA8-A6F14A5A9BDE}" type="datetime1">
              <a:rPr lang="en-US"/>
              <a:t>07/29/26</a:t>
            </a:fld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39640" y="76500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、作者感受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42920" y="191628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喜欢（石头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51280" y="1916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32360" y="191628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奇异和美妙的感受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3284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35280" y="350028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震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3429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88000" y="3429000"/>
            <a:ext cx="244800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钦佩（希腊人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D166-EEDD-4357-ACBA-5A85B52145EC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1D17BC-0C0C-4437-95C6-C65117490B26}" type="datetime1">
              <a:rPr lang="en-US"/>
              <a:t>07/29/26</a:t>
            </a:fld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 Narrow"/>
                <a:ea typeface="宋体"/>
              </a:rPr>
              <a:t>品读感悟</a:t>
            </a: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18920" y="184464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作者为什么希腊博物馆的石头呢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发现帕果斯山顶的石碑，为什么有“奇异和美妙的感受”呢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登临苏纽海神庙，为什么“由衷地钦佩希腊人”呢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让我们再次回到文本，品读感悟，研读探究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D96F-5899-40D2-856D-AB7B2C8DD0C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6AEFF5-3A5D-49E2-9C3D-2AA89EACF272}" type="datetime1">
              <a:rPr lang="en-US"/>
              <a:t>07/29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宋体"/>
                <a:ea typeface="宋体"/>
              </a:rPr>
              <a:t>理解品味（品读感悟）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1989000"/>
            <a:ext cx="5977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组：以第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段为例，分析作者如何表达对古希腊石头的喜欢的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3645000"/>
            <a:ext cx="70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本段运用拟人、比喻的手法，活画出雕像和壁画人物明亮的眼睛，表达自己对雕像和壁画人物的喜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4971-94B6-4BE4-9DEE-E4BA218558DC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59C332-98FB-4D67-8968-7106A9274B5E}" type="datetime1">
              <a:rPr lang="en-US"/>
              <a:t>07/29/26</a:t>
            </a:fld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1125360"/>
            <a:ext cx="830412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宋体"/>
                <a:ea typeface="宋体"/>
              </a:rPr>
              <a:t>B</a:t>
            </a:r>
            <a:r>
              <a:rPr b="0" lang="zh-CN" sz="4000" spc="-1" strike="noStrike">
                <a:solidFill>
                  <a:srgbClr val="ffffcc"/>
                </a:solidFill>
                <a:latin typeface="宋体"/>
                <a:ea typeface="宋体"/>
              </a:rPr>
              <a:t>组：作者为什么喜欢“古希腊的</a:t>
            </a:r>
            <a:br>
              <a:rPr sz="4000"/>
            </a:br>
            <a:r>
              <a:rPr b="0" lang="zh-CN" sz="4000" spc="-1" strike="noStrike">
                <a:solidFill>
                  <a:srgbClr val="ffffcc"/>
                </a:solidFill>
                <a:latin typeface="宋体"/>
                <a:ea typeface="宋体"/>
              </a:rPr>
              <a:t>石头”？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3640" y="299736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喜欢这些刻着历史与艺术的石头，发现了古物的历史美和文化美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1D09-E678-4BBB-BC96-0940BE9498F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24E2FD-27C6-4908-90E0-09286F2F387D}" type="datetime1">
              <a:rPr lang="en-US"/>
              <a:t>07/29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00000" y="333360"/>
            <a:ext cx="58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197000"/>
            <a:ext cx="7848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组：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年高考浙江卷作文材料有这样一段话：苍茫的丛林间，玛雅文化湮没了；丝绸之路上，高昌古国消逝了。人类在消逝中进步。行走在消逝中，既有“流水落花春去也”的怅惘，也有“谁道人生无再少”的旷达……本文作者行走在希腊国家考古博物馆的雕像间有什么感受？作者又是如何“行走”在古希腊“已经满是裂痕和缺口”的石头间的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48000" y="5373720"/>
            <a:ext cx="482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472428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对“行走”的理解——不是仅有喜悦，不是仅陶醉在艺术的 享受中，而是引发理性的思考，得到启示，并付诸行动，做一些对文化保护有意义的工作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F128-D074-4772-8FAE-E78D892DDCC1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13E43E-6E8F-4AE1-80D0-0BA99E7F3CDB}" type="datetime1">
              <a:rPr lang="en-US"/>
              <a:t>07/29/26</a:t>
            </a:fld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0720" cy="112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Arial Narrow"/>
                <a:ea typeface="宋体"/>
              </a:rPr>
              <a:t>C</a:t>
            </a:r>
            <a:r>
              <a:rPr b="0" lang="zh-CN" sz="5400" spc="-1" strike="noStrike">
                <a:solidFill>
                  <a:srgbClr val="ffffcc"/>
                </a:solidFill>
                <a:latin typeface="Arial Narrow"/>
                <a:ea typeface="宋体"/>
              </a:rPr>
              <a:t>组参考：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197000"/>
            <a:ext cx="89154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引发反思，再灿烂的文明也经受不住时光的侵蚀，古老的文明在破损。 意识到文物保护的迫切性，联想到我国文物保护方面的欠缺，更有了历史责任感。 落实到行动上，冯老在文学创作最旺盛的阶段，停下创作，致力于文化发掘与文物保护工作，并发表文章，海外演讲，呼吁保护文化古迹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599C-8786-4865-BAF5-0BADBEB440A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47BC17-4AA9-46B8-802D-98CD5ECB7040}" type="datetime1">
              <a:rPr lang="en-US"/>
              <a:t>07/29/26</a:t>
            </a:fld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Arial Narrow"/>
                <a:ea typeface="宋体"/>
              </a:rPr>
              <a:t>赏析探究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268280"/>
            <a:ext cx="73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：作者为什么由衷地钦佩希腊人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191628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希腊人珍视历史，保持古迹原状原貌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2924280"/>
            <a:ext cx="72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希腊人决不让文化古迹受任何现代事物的干扰，历史空间受到绝对纯正的保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450864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希腊人对历史有深刻的理解与崇拜，有科学的保护方法，有优雅的美感和高尚的文化品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4F28-63A9-4328-8D54-367009D98518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A09728-9FEA-443A-AAE6-7BF46222265F}" type="datetime1">
              <a:rPr lang="en-US"/>
              <a:t>07/29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6399360" cy="71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 Narrow"/>
                <a:ea typeface="宋体"/>
              </a:rPr>
              <a:t>赏析探究</a:t>
            </a: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68000" y="980640"/>
            <a:ext cx="806436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组：曾引起各方争议的圆明园复建工程将陆续启动，也许用不了多久，一个崭新的仿古建筑——圆明园长春园宫门将出现在公众面前。结合本文作者的观点，谈谈你的看法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826B-6B7B-4802-9287-6760C45BACF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D920E69-EE37-4122-AE65-4DB13243B73E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900000" y="189000"/>
            <a:ext cx="4464000" cy="69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隶书"/>
                <a:ea typeface="隶书"/>
              </a:rPr>
              <a:t>   </a:t>
            </a:r>
            <a:r>
              <a:rPr b="0" lang="zh-CN" sz="4800" spc="-1" strike="noStrike">
                <a:solidFill>
                  <a:srgbClr val="ffffcc"/>
                </a:solidFill>
                <a:latin typeface="隶书"/>
                <a:ea typeface="隶书"/>
              </a:rPr>
              <a:t>古希腊雕像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252360" y="1341360"/>
            <a:ext cx="10152000" cy="5013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79280" y="83664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表情丰富，眼睛明亮，引发人们神奇的遐想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CF6D-8D73-4D85-AA1A-317246A1805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C49A0F-6769-40E6-9C00-01E4DD9E94EA}" type="datetime1">
              <a:rPr lang="en-US"/>
              <a:t>07/29/26</a:t>
            </a:fld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Arial Narrow"/>
                <a:ea typeface="隶书"/>
              </a:rPr>
              <a:t>探究参考：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古物翻新，甚至更愚蠢的复原，破坏时间在每一件古物的体内全留下的美丽的生命的年轮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修复圆明园，历史的魂灵就会一下子逃离而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圆明园遗址是帝国主义侵略中国的鲜活历史见证，供游人参观凭吊，教育后人勿忘国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今人面对充满屈辱意味的圆明园时，应保持清醒。既然我们无法扑灭英法联军那场可耻的大火，那么，何不让历史继续给后人留下深刻反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、复建圆明园，劳民伤财，异想天开，有狗尾续貂之嫌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F2C8-C351-48A3-BC1E-286C0A6E62C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FDEFD0-D76A-48A3-8BB3-ADE1B2CE637A}" type="datetime1">
              <a:rPr lang="en-US"/>
              <a:t>07/29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cc"/>
                </a:solidFill>
                <a:latin typeface="Arial Narrow"/>
                <a:ea typeface="隶书"/>
              </a:rPr>
              <a:t>课堂总结：</a:t>
            </a:r>
            <a:endParaRPr b="0" lang="en-US" sz="7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、自主积累知识，加大知识储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、整体阅读文章，把握文体特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、提炼内容要点，理清行文思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、深入文本品味，领会作者情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、合作探究疑难，注重迁移实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BC8B-9F1F-49D6-9A86-A8B84ACA615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BBDAF-0ACD-47A7-8D43-033078649EF5}" type="datetime1">
              <a:rPr lang="en-US"/>
              <a:t>07/29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476360" y="3141720"/>
            <a:ext cx="5418000" cy="1219320"/>
          </a:xfrm>
          <a:prstGeom prst="rect">
            <a:avLst/>
          </a:prstGeom>
        </p:spPr>
        <p:txBody>
          <a:bodyPr wrap="none" lIns="90000" rIns="90000" tIns="46800" bIns="46800" anchor="t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谢谢大家，再见。</a:t>
            </a:r>
            <a:endParaRPr b="0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839080" y="4869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F7C0-8ABF-43FB-BCE9-84050413D123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5DDAAC-5AB1-4B84-97B9-E837A6F8E7AC}" type="datetime1">
              <a:rPr lang="en-US"/>
              <a:t>07/29/26</a:t>
            </a:fld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236036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6858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隶书"/>
                <a:ea typeface="隶书"/>
              </a:rPr>
              <a:t>雅典卫城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45756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7543800" cy="3760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916360" y="69228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斑驳的城墙，年代久远，饱经历史沧桑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9E41-8407-44DB-8D40-44D12DD37D5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F45AEC-5F1A-4098-BB7F-6AE86D9E0578}" type="datetime1">
              <a:rPr lang="en-US"/>
              <a:t>07/29/26</a:t>
            </a:fld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隶书"/>
                <a:ea typeface="隶书"/>
              </a:rPr>
              <a:t>巴比伦遗址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08000" y="620640"/>
            <a:ext cx="6912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灰黄的石柱，记载着文明古国非凡的过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8001000" cy="487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BB9F-38AD-4F4E-A76D-7475E3C8D1B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0D4AEC-1A8F-4FEC-9CCE-850D9D453BCF}" type="datetime1">
              <a:rPr lang="en-US"/>
              <a:t>07/29/26</a:t>
            </a:fld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宋体"/>
                <a:ea typeface="宋体"/>
              </a:rPr>
              <a:t>     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45756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3520" y="609480"/>
            <a:ext cx="861048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圆明园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破碎的石壁，坍塌的废墟，更是背负着屈辱的历史，镌刻着血与火的印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31F1-0450-49E5-8AA0-FDF583E7F31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274BD6-0E82-4F9E-BF0A-29CE8F9E0C32}" type="datetime1">
              <a:rPr lang="en-US"/>
              <a:t>07/29/26</a:t>
            </a:fld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宋体"/>
                <a:ea typeface="宋体"/>
              </a:rPr>
              <a:t>教学目标：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79246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、解读文本，品味优美语言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、领会作者对文化古迹的情感态度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、探究文化古迹保护的意义作用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A876-16C3-4236-A048-D5DC2B2A63C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344BA0-84F3-46D6-A378-345BC6E95AF0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宋体"/>
                <a:ea typeface="宋体"/>
              </a:rPr>
              <a:t>背景介绍：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冯骥才是一位很有成就的作家，他对古代文化情有独钟。早在上世纪八十年代，他就凭反思历史、反思传统文化的《神鞭》《三寸金莲》等一系列小说蜚声文坛。当来到古希腊遗址，站在雅典卫城上时，他有了惊人发现，将古希腊文明与中国文明联系在一起，把希腊人文物保护的态度和方法与国人的做法对照起来，表现了作者对历史、对文化古迹保护的深刻反思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6F2B-FAF0-4694-95BB-A595BB59709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79394D-5071-4419-8621-C9CC7AC973BB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24000" y="2997360"/>
            <a:ext cx="144360" cy="1511280"/>
          </a:xfrm>
          <a:custGeom>
            <a:avLst/>
            <a:gdLst>
              <a:gd name="textAreaLeft" fmla="*/ 92160 w 144360"/>
              <a:gd name="textAreaRight" fmla="*/ 144360 w 14436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84720" y="3141720"/>
            <a:ext cx="216000" cy="1511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50920" y="2924280"/>
            <a:ext cx="433440" cy="1873080"/>
          </a:xfrm>
          <a:custGeom>
            <a:avLst/>
            <a:gdLst>
              <a:gd name="textAreaLeft" fmla="*/ 276840 w 433440"/>
              <a:gd name="textAreaRight" fmla="*/ 433800 w 43344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-102600"/>
            <a:ext cx="105775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、知识梳理（自主学习）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正字音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炯炯（   ）有神    暧（    ）昧（    ）  亢（     ）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坚不可摧（    ）   葱茏（      ）    头颅（    ） 五彩缤（    ）纷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神谕（     ） 呵（     ）护     坍（    ）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废墟（       ）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磨砺（     ）      甬（    ）道      泯（   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2349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多音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2924280"/>
            <a:ext cx="1439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剥落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剥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3789360"/>
            <a:ext cx="11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剥花生    剥皮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292428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龟甲    龟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03400" y="2997360"/>
            <a:ext cx="92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藏龙卧虎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藏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414972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藏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27280" y="3860640"/>
            <a:ext cx="865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龟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56000" y="436572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龟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65F7-1B5B-4AB7-9743-31D3BF3D3FA6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54C37-1A5F-421E-8732-079080D215DA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 Narrow"/>
                <a:ea typeface="宋体"/>
              </a:rPr>
              <a:t>.</a:t>
            </a:r>
            <a:r>
              <a:rPr b="0" lang="zh-CN" sz="2800" spc="-1" strike="noStrike">
                <a:solidFill>
                  <a:srgbClr val="ffffcc"/>
                </a:solidFill>
                <a:latin typeface="Arial Narrow"/>
                <a:ea typeface="宋体"/>
              </a:rPr>
              <a:t>3.</a:t>
            </a:r>
            <a:r>
              <a:rPr b="0" lang="zh-CN" sz="2800" spc="-1" strike="noStrike">
                <a:solidFill>
                  <a:srgbClr val="ffffcc"/>
                </a:solidFill>
                <a:latin typeface="Arial Narrow"/>
                <a:ea typeface="宋体"/>
              </a:rPr>
              <a:t>填入下列横线上的词语正确的一项是（    ）</a:t>
            </a:r>
            <a:r>
              <a:rPr b="0" lang="zh-CN" sz="5400" spc="-1" strike="noStrike">
                <a:solidFill>
                  <a:srgbClr val="ffffcc"/>
                </a:solidFill>
                <a:latin typeface="Arial Narrow"/>
                <a:ea typeface="宋体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我静静坐在山顶一块山石上，默默享受着这种奇异和美妙的感受，直到夕阳把整个石碑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得金红，仿佛一块烧透了的熔岩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被时光的筛子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下来的只有这些破碎的房宇、残垣断壁、断碑，兀自竖立的石柱，东一个西一个的柱头或柱础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爱琴王如今还在海底吗？他到底身在哪里？在远处那一片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着波光的“酒绿色的海心”吗？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B26A-B5E6-4995-9536-82BFAA9368D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0A19F5-5B28-4AD0-8598-F90BF837DCD0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 User</cp:lastModifiedBy>
  <dcterms:modified xsi:type="dcterms:W3CDTF">2009-05-15T01:35:09Z</dcterms:modified>
  <cp:revision>23</cp:revision>
  <dc:subject/>
  <dc:title>PowerPoint 演示文稿</dc:title>
</cp:coreProperties>
</file>