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17.jpeg" ContentType="image/jpeg"/>
  <Override PartName="/ppt/media/image3.png" ContentType="image/png"/>
  <Override PartName="/ppt/media/image26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camera.wav" ContentType="audio/x-wav"/>
  <Override PartName="/ppt/media/image7.png" ContentType="image/png"/>
  <Override PartName="/ppt/media/image16.jpeg" ContentType="image/jpeg"/>
  <Override PartName="/ppt/media/image21.jpeg" ContentType="image/jpeg"/>
  <Override PartName="/ppt/media/chimes.wav" ContentType="audio/x-wav"/>
  <Override PartName="/ppt/media/image11.jpeg" ContentType="image/jpeg"/>
  <Override PartName="/ppt/media/image9.jpeg" ContentType="image/jpeg"/>
  <Override PartName="/ppt/media/image28.jpeg" ContentType="image/jpeg"/>
  <Override PartName="/ppt/media/image2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23.png" ContentType="image/png"/>
  <Override PartName="/ppt/media/image14.jpeg" ContentType="image/jpeg"/>
  <Override PartName="/ppt/media/image15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2.png" ContentType="image/png"/>
  <Override PartName="/ppt/media/image2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1DAC-CC33-405F-8184-38AB53DD4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E3CA-0379-48A8-A49B-2C80DBA7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7190-7013-4F6A-B868-D58D55620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28AB-EBD1-434C-8672-51EB22FCE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BDA8-194C-4799-BE2C-3E1E79528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AB3D-5DB9-4413-B56A-7BB54FDD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1C80-52B9-4C49-BDD7-E45A8A27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C886-387F-4E87-8F5C-404E33E4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5FF9-DD06-4C1D-A533-0884357C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A040-A1C0-4CCA-B8A6-10DE5752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3DA8-87D7-4C60-9A32-361EF488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B28F-2CC5-4339-9AF1-7BBEFC44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0983-4016-4C8C-8F0C-840347A8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A8C6-BC53-454D-B614-AF3698F1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4C3D-25B1-4650-9EB0-D5C63DED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CD2F-0204-46EA-88A5-1F898CD5B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CB02-FD34-433B-A695-536B83331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D673D-5040-47FF-914E-36E3437B9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F1586-03FE-443A-9C92-3E8D6169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8FDDD-1378-41F1-9EDD-187BCC8F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D76A2-1936-4B51-BC92-8CB482ED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F8D1B-1711-4B44-AC15-DE7602BD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E0D1-583F-423D-9644-26E909DB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EC887-1374-44B7-A1CE-E45AE6CA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19BBB-B420-4F71-833C-021319D9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FA8D8-91EB-4A0B-845A-F4818F81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61A20-E138-4555-9273-5DB0000F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A902F-86A5-475E-95E2-2085BD4B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2C0D9-4103-4851-9A72-25C228AF2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B6484-44F5-4B12-907B-0DC0E5E03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DF205-1B41-4315-AFBB-E940B25BC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5CDAE-8FA8-474F-967D-D5F51A70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D0689-29EA-4350-A622-4BCFDC90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4958-54EA-4820-B802-5C8E9021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B9BAF-85E9-40CC-BF02-D80AA1A9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A8879-C94C-4A35-BF4C-1D7501DC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0C8CB-F526-46A4-BC2A-682C725A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D166E-54CA-4D5B-9C7F-64C7D0FA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C0C6A-773D-416B-903A-BF164F2F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2BB63-CD0F-494B-BCF4-554B1CBE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3731B-78EA-4065-AE06-1B66F9C5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54ED7-6843-445A-B623-42B0F21D4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C0767-F1C0-45B9-B1DA-D96B4168E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26DC5-A790-4D7E-B473-6E1143ACC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7376-70D6-4239-A0F2-69DBD839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4AE06-015A-4386-AD3F-261BAB9C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42FA8-D33C-4735-B1E6-653DDABE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72A29-78DC-4482-8260-41909464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B5CB7-2972-48ED-AF99-895A5F0B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D68F4-12E0-4903-9DB1-4158707C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44985-E652-482D-A1D1-CEA71C61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9FFDF-D636-4C6E-B67F-EFF65045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991E1-F0D4-4297-9492-CCB2C222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12E00-138C-4707-935F-7E34BDB7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DC33D-5FE8-4DF3-AA85-0D5E24630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33D1-F1BD-4FD0-ACC8-A77B3F33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6D8A4-AE5C-4583-81B4-34BE843C9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5387-68F5-4C2C-8540-B9C966B6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EBAE-AB70-4118-9740-F0A96C10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92B4-0230-49F7-A01D-C867C2D9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AE2B-F8DC-42C2-BECA-016159F090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DB4B-13C5-43E5-9CF8-1232617BC1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-212760" y="666720"/>
            <a:ext cx="8672040" cy="6191280"/>
            <a:chOff x="-212760" y="666720"/>
            <a:chExt cx="8672040" cy="6191280"/>
          </a:xfrm>
        </p:grpSpPr>
        <p:sp>
          <p:nvSpPr>
            <p:cNvPr id="82" name=""/>
            <p:cNvSpPr/>
            <p:nvPr/>
          </p:nvSpPr>
          <p:spPr>
            <a:xfrm>
              <a:off x="699840" y="666720"/>
              <a:ext cx="77594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243360" y="3733920"/>
              <a:ext cx="124668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4"/>
            <a:stretch/>
          </p:blipFill>
          <p:spPr>
            <a:xfrm>
              <a:off x="-212760" y="4916520"/>
              <a:ext cx="37756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PlaceHolder 1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6BAC-624B-4C99-939F-738C5CAE0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127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4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PlaceHolder 1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9374-5FCF-4F0E-BA5A-86389B767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97BE-D713-4B94-972C-B16F394833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-33480" y="-1440"/>
            <a:ext cx="9145800" cy="68608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547640" y="1628640"/>
            <a:ext cx="633744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</a:rPr>
              <a:t>爱   莲   说</a:t>
            </a:r>
            <a:br>
              <a:rPr sz="7200"/>
            </a:b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周敦颐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68360" y="4653000"/>
            <a:ext cx="5399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长岭县第六中学  宋丽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1258920" y="907920"/>
            <a:ext cx="6719400" cy="4825800"/>
            <a:chOff x="1258920" y="907920"/>
            <a:chExt cx="6719400" cy="4825800"/>
          </a:xfrm>
        </p:grpSpPr>
        <p:sp>
          <p:nvSpPr>
            <p:cNvPr id="233" name=""/>
            <p:cNvSpPr/>
            <p:nvPr/>
          </p:nvSpPr>
          <p:spPr>
            <a:xfrm>
              <a:off x="3358800" y="907920"/>
              <a:ext cx="4619520" cy="48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00"/>
                  </a:solidFill>
                  <a:latin typeface="Arial"/>
                  <a:ea typeface="华文新魏"/>
                </a:rPr>
                <a:t>作者简介</a:t>
              </a:r>
              <a:r>
                <a:rPr b="1" lang="zh-CN" sz="2800" spc="-1" strike="noStrike">
                  <a:solidFill>
                    <a:srgbClr val="990000"/>
                  </a:solidFill>
                  <a:latin typeface="Arial"/>
                  <a:ea typeface="华文新魏"/>
                </a:rPr>
                <a:t>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66"/>
                  </a:solidFill>
                  <a:latin typeface="Arial"/>
                </a:rPr>
                <a:t>      </a:t>
              </a:r>
              <a:r>
                <a:rPr b="1" lang="zh-CN" sz="18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zh-CN" sz="3200" spc="-1" strike="noStrike">
                  <a:solidFill>
                    <a:srgbClr val="990000"/>
                  </a:solidFill>
                  <a:latin typeface="Arial"/>
                  <a:ea typeface="华文新魏"/>
                </a:rPr>
                <a:t>周敦颐</a:t>
              </a:r>
              <a:r>
                <a:rPr b="1" lang="zh-CN" sz="3200" spc="-1" strike="noStrike">
                  <a:solidFill>
                    <a:srgbClr val="006600"/>
                  </a:solidFill>
                  <a:latin typeface="Arial"/>
                </a:rPr>
                <a:t>：</a:t>
              </a:r>
              <a:r>
                <a:rPr b="0" lang="zh-CN" sz="2800" spc="-1" strike="noStrike">
                  <a:solidFill>
                    <a:srgbClr val="006600"/>
                  </a:solidFill>
                  <a:latin typeface="华文新魏"/>
                  <a:ea typeface="华文新魏"/>
                </a:rPr>
                <a:t>宋代道洲</a:t>
              </a:r>
              <a:r>
                <a:rPr b="0" lang="en-US" sz="2800" spc="-1" strike="noStrike">
                  <a:solidFill>
                    <a:srgbClr val="006600"/>
                  </a:solidFill>
                  <a:latin typeface="华文新魏"/>
                  <a:ea typeface="华文新魏"/>
                </a:rPr>
                <a:t>(</a:t>
              </a:r>
              <a:r>
                <a:rPr b="0" lang="zh-CN" sz="2800" spc="-1" strike="noStrike">
                  <a:solidFill>
                    <a:srgbClr val="006600"/>
                  </a:solidFill>
                  <a:latin typeface="华文新魏"/>
                  <a:ea typeface="华文新魏"/>
                </a:rPr>
                <a:t>现在湖南省道县</a:t>
              </a:r>
              <a:r>
                <a:rPr b="0" lang="en-US" sz="2800" spc="-1" strike="noStrike">
                  <a:solidFill>
                    <a:srgbClr val="006600"/>
                  </a:solidFill>
                  <a:latin typeface="华文新魏"/>
                  <a:ea typeface="华文新魏"/>
                </a:rPr>
                <a:t>)</a:t>
              </a:r>
              <a:r>
                <a:rPr b="0" lang="zh-CN" sz="2800" spc="-1" strike="noStrike">
                  <a:solidFill>
                    <a:srgbClr val="006600"/>
                  </a:solidFill>
                  <a:latin typeface="华文新魏"/>
                  <a:ea typeface="华文新魏"/>
                </a:rPr>
                <a:t>人，字茂叔，哲学家，因他世居道县濂溪，后居庐山莲花峰前，峰下有溪，也命名为濂溪，学者就称他为濂溪先生</a:t>
              </a:r>
              <a:r>
                <a:rPr b="0" lang="zh-CN" sz="3200" spc="-1" strike="noStrike">
                  <a:solidFill>
                    <a:srgbClr val="006600"/>
                  </a:solidFill>
                  <a:latin typeface="华文新魏"/>
                  <a:ea typeface="华文新魏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4" name="" descr=""/>
            <p:cNvPicPr/>
            <p:nvPr/>
          </p:nvPicPr>
          <p:blipFill>
            <a:blip r:embed="rId1"/>
            <a:stretch/>
          </p:blipFill>
          <p:spPr>
            <a:xfrm>
              <a:off x="1258920" y="1056600"/>
              <a:ext cx="2568240" cy="4456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heel spokes="1"/>
    <p:sndAc>
      <p:stSnd>
        <p:snd r:embed="rId2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⒈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有感情的朗读、背诵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爱莲说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，并把握词、语句，疏通文意。 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⒉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学习本文托物言志和衬托的手法。 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、体会语言特色及多种表达方式的综合运用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、学习莲花高洁的品质，培养“出淤泥而不染”的良好的道德品质。 领悟文中君子的高洁品质，并把其化为自己对崇高道德的追求。 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>
    <p:blinds dir="horz"/>
    <p:sndAc>
      <p:stSnd>
        <p:snd r:embed="rId2" name="camera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文学常识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文体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说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“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说”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是一种文学体裁，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“说”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是议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论文的一种文体，可以直接说明事物或论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述道理，也可以借人借事或借物和记载来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论述道理。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爱莲说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就是说说爱好莲花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的问题。本文是一篇借物咏志讽世的散文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>
    <p:blinds dir="vert"/>
    <p:sndAc>
      <p:stSnd>
        <p:snd r:embed="rId2" name="camera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6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4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2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419560" y="1523880"/>
            <a:ext cx="4304520" cy="43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水陆草木之花，可爱者甚蕃。晋陶渊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独爱菊。自李唐来，世人甚爱牡丹。予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爱莲之出淤泥而不染，濯清涟而不妖，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通外直，不蔓不枝，香远益清，亭亭净植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可远观而不可亵玩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予谓菊，花之隐逸者也；牡丹，花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富贵者也；莲，花之君子者也。噫！菊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爱，陶后鲜有闻。莲之爱，同予者何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牡丹之爱，宜乎众矣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7621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06440" y="7063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朗读课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80360" y="544500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8" y="8406"/>
                </a:moveTo>
                <a:lnTo>
                  <a:pt x="9559" y="8406"/>
                </a:lnTo>
                <a:lnTo>
                  <a:pt x="13980" y="3794"/>
                </a:lnTo>
                <a:lnTo>
                  <a:pt x="13980" y="17806"/>
                </a:lnTo>
                <a:lnTo>
                  <a:pt x="9559" y="13194"/>
                </a:lnTo>
                <a:lnTo>
                  <a:pt x="5128" y="13194"/>
                </a:lnTo>
                <a:close/>
              </a:path>
              <a:path fill="darken" w="24270" h="21600">
                <a:moveTo>
                  <a:pt x="15634" y="10800"/>
                </a:moveTo>
                <a:lnTo>
                  <a:pt x="19141" y="10800"/>
                </a:lnTo>
              </a:path>
              <a:path fill="darken" w="24270" h="21600">
                <a:moveTo>
                  <a:pt x="15634" y="8406"/>
                </a:moveTo>
                <a:lnTo>
                  <a:pt x="19141" y="5639"/>
                </a:lnTo>
              </a:path>
              <a:path fill="darken" w="24270" h="21600">
                <a:moveTo>
                  <a:pt x="15634" y="13194"/>
                </a:moveTo>
                <a:lnTo>
                  <a:pt x="19141" y="15961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10666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课文分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990720"/>
            <a:ext cx="48006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爱莲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              </a:t>
            </a:r>
            <a:r>
              <a:rPr b="1" lang="zh-CN" sz="20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周敦</a:t>
            </a:r>
            <a:r>
              <a:rPr b="1" lang="zh-CN" sz="2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  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水陆草木之花，可爱者甚</a:t>
            </a:r>
            <a:r>
              <a:rPr b="1" lang="zh-CN" sz="2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蕃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晋陶渊明独爱菊；自李唐来，世人甚爱牡丹；予独爱莲之出</a:t>
            </a:r>
            <a:r>
              <a:rPr b="1" lang="zh-CN" sz="2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淤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泥而不染，</a:t>
            </a:r>
            <a:r>
              <a:rPr b="1" lang="zh-CN" sz="2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濯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清涟而不妖，中通外直</a:t>
            </a:r>
            <a:r>
              <a:rPr b="1" lang="en-US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不蔓不枝，香远益清</a:t>
            </a:r>
            <a:r>
              <a:rPr b="1" lang="en-US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亭亭净植，可远观而不可</a:t>
            </a:r>
            <a:r>
              <a:rPr b="1" lang="zh-CN" sz="2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亵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玩焉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予谓菊，花之隐逸者也；牡丹，花之富贵者也；莲，花之君子者也。噫！菊之爱，陶后</a:t>
            </a:r>
            <a:r>
              <a:rPr b="1" lang="zh-CN" sz="2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鲜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有闻；莲之爱，同予者何人</a:t>
            </a:r>
            <a:r>
              <a:rPr b="1" lang="en-US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?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牡丹之爱，宜乎众矣</a:t>
            </a:r>
            <a:r>
              <a:rPr b="0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81480" y="99072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95880" y="18288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án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48360" y="29718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洗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508720" y="1339920"/>
            <a:ext cx="6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颐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84720" y="1295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435640" y="1843200"/>
            <a:ext cx="120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508720" y="2924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95880" y="2971800"/>
            <a:ext cx="9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uó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508720" y="3643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940360" y="371808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i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77080" y="3657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亲近而不庄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08720" y="4867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56360" y="487692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iǎ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453080" y="48762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39240" y="2419200"/>
            <a:ext cx="6678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72200" y="23623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ū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508720" y="907920"/>
            <a:ext cx="2808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8000"/>
                </a:solidFill>
                <a:latin typeface="华文新魏"/>
                <a:ea typeface="华文新魏"/>
              </a:rPr>
              <a:t>一 、生词学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 rot="20896800">
            <a:off x="250560" y="5719320"/>
            <a:ext cx="504720" cy="11383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755640" y="6165720"/>
            <a:ext cx="503280" cy="47160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3" name="camera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0" y="-77760"/>
            <a:ext cx="9182160" cy="92678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Arial Black"/>
              </a:rPr>
              <a:t>讨论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50920" y="765000"/>
            <a:ext cx="40384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带着下列问题品读课文：（全班朗读）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作者如此爱莲，莲花的可爱之处表现在哪里呢？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作者如此深情地为莲花高唱赞歌，文章是不是仅仅写莲花呢？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本文主体是写莲，为什么要写菊和牡丹？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为什么作者在第一段连用两个“独”字？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课文前面按“菊</a:t>
            </a:r>
            <a:r>
              <a:rPr b="0" lang="en-US" sz="2400" spc="-1" strike="noStrike">
                <a:solidFill>
                  <a:srgbClr val="ff3300"/>
                </a:solidFill>
                <a:latin typeface="Arial Rounded MT Bold"/>
              </a:rPr>
              <a:t>——</a:t>
            </a: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牡丹</a:t>
            </a:r>
            <a:r>
              <a:rPr b="0" lang="en-US" sz="2400" spc="-1" strike="noStrike">
                <a:solidFill>
                  <a:srgbClr val="ff3300"/>
                </a:solidFill>
                <a:latin typeface="Arial Rounded MT Bold"/>
              </a:rPr>
              <a:t>——</a:t>
            </a: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莲”的顺序写，为什么文末却按“菊</a:t>
            </a:r>
            <a:r>
              <a:rPr b="0" lang="en-US" sz="2400" spc="-1" strike="noStrike">
                <a:solidFill>
                  <a:srgbClr val="ff3300"/>
                </a:solidFill>
                <a:latin typeface="Arial Rounded MT Bold"/>
              </a:rPr>
              <a:t>——</a:t>
            </a: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莲</a:t>
            </a:r>
            <a:r>
              <a:rPr b="0" lang="en-US" sz="2400" spc="-1" strike="noStrike">
                <a:solidFill>
                  <a:srgbClr val="ff3300"/>
                </a:solidFill>
                <a:latin typeface="Arial Rounded MT Bold"/>
              </a:rPr>
              <a:t>——</a:t>
            </a: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牡丹”的顺序呢？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请同学们找出直接描写莲花的句子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予独爱莲之出淤泥而不染，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濯清涟而不妖，中通外直，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不蔓不枝，香远益清亭亭净植，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可远观而不可亵玩焉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>
    <p:blinds dir="horz"/>
    <p:sndAc>
      <p:stSnd>
        <p:snd r:embed="rId2" name="camera.wav"/>
      </p:stSnd>
    </p:sndAc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17880" y="2209680"/>
            <a:ext cx="1521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隶书"/>
                <a:ea typeface="隶书"/>
              </a:rPr>
              <a:t>莲花</a:t>
            </a:r>
            <a:r>
              <a:rPr b="1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28800" y="762120"/>
            <a:ext cx="76320" cy="4419360"/>
          </a:xfrm>
          <a:custGeom>
            <a:avLst/>
            <a:gdLst>
              <a:gd name="textAreaLeft" fmla="*/ 48960 w 76320"/>
              <a:gd name="textAreaRight" fmla="*/ 76320 w 76320"/>
              <a:gd name="textAreaTop" fmla="*/ 115200 h 4419360"/>
              <a:gd name="textAreaBottom" fmla="*/ 4304160 h 4419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828800" y="457200"/>
            <a:ext cx="26226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生长环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（不染不妖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981080" y="1523880"/>
            <a:ext cx="266724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     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体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（中通外直                            不蔓不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7400" y="3048120"/>
            <a:ext cx="30481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     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香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（香远益清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209680" y="4038480"/>
            <a:ext cx="27432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    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气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（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隶书"/>
              </a:rPr>
              <a:t>亭亭   可远观不可亵玩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76920" y="838080"/>
            <a:ext cx="75960" cy="4114800"/>
          </a:xfrm>
          <a:custGeom>
            <a:avLst/>
            <a:gdLst>
              <a:gd name="textAreaLeft" fmla="*/ 0 w 75960"/>
              <a:gd name="textAreaRight" fmla="*/ 27360 w 7596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75"/>
                </a:lnTo>
                <a:cubicBezTo>
                  <a:pt x="10800" y="9975"/>
                  <a:pt x="16200" y="10875"/>
                  <a:pt x="21600" y="10875"/>
                </a:cubicBezTo>
                <a:cubicBezTo>
                  <a:pt x="16200" y="10875"/>
                  <a:pt x="10800" y="11775"/>
                  <a:pt x="10800" y="1267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310000" y="22096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Times New Roman"/>
                <a:ea typeface="隶书"/>
              </a:rPr>
              <a:t>君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rId2" action="ppaction://hlinksldjump"/>
          </p:cNvPr>
          <p:cNvSpPr/>
          <p:nvPr/>
        </p:nvSpPr>
        <p:spPr>
          <a:xfrm>
            <a:off x="819360" y="594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托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67480" y="5867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言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990720" y="4953240"/>
            <a:ext cx="7009560" cy="990360"/>
            <a:chOff x="990720" y="4953240"/>
            <a:chExt cx="7009560" cy="990360"/>
          </a:xfrm>
        </p:grpSpPr>
        <p:sp>
          <p:nvSpPr>
            <p:cNvPr id="280" name=""/>
            <p:cNvSpPr/>
            <p:nvPr/>
          </p:nvSpPr>
          <p:spPr>
            <a:xfrm flipV="1">
              <a:off x="990720" y="5133240"/>
              <a:ext cx="0" cy="81036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90720" y="5943600"/>
              <a:ext cx="7009560" cy="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8000280" y="4953240"/>
              <a:ext cx="0" cy="99036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6553080" y="914400"/>
            <a:ext cx="76320" cy="4191120"/>
          </a:xfrm>
          <a:custGeom>
            <a:avLst/>
            <a:gdLst>
              <a:gd name="textAreaLeft" fmla="*/ 48960 w 76320"/>
              <a:gd name="textAreaRight" fmla="*/ 76320 w 7632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001280" y="685800"/>
            <a:ext cx="164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既不同流合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又不孤芳自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191000" y="167652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正直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行为端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191000" y="266688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Times New Roman"/>
                <a:ea typeface="隶书"/>
              </a:rPr>
              <a:t>声名远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Times New Roman"/>
                <a:ea typeface="隶书"/>
              </a:rPr>
              <a:t>流芳百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115040" y="3581280"/>
            <a:ext cx="1155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Times New Roman"/>
                <a:ea typeface="隶书"/>
              </a:rPr>
              <a:t>志洁行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Times New Roman"/>
                <a:ea typeface="隶书"/>
              </a:rPr>
              <a:t>仪态端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Times New Roman"/>
                <a:ea typeface="隶书"/>
              </a:rPr>
              <a:t>令人敬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Times New Roman"/>
                <a:ea typeface="隶书"/>
              </a:rPr>
              <a:t>不可玷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35040" y="648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作者分别从哪方面描写莲花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4728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484360" y="90792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品读赏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0" y="2833560"/>
            <a:ext cx="567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你读了作者描写莲花的这些 句子之后，你觉得作者赞美的仅仅是莲花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不是。是为了歌颂具有莲花那样高尚品质的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本文以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“爱”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为脉络，写出了对莲花的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喜爱，为何还要写菊花和牡丹？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衬托手法。从而更好地达到托物言志（象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征）的目的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7020000" y="1773360"/>
            <a:ext cx="1027080" cy="16556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191280" y="981000"/>
            <a:ext cx="29527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自李唐来，世人甚爱牡丹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牡丹，花之富贵者也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804000" y="4005360"/>
            <a:ext cx="1584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3300"/>
                </a:solidFill>
                <a:latin typeface="Arial"/>
                <a:ea typeface="楷体_GB2312"/>
              </a:rPr>
              <a:t>贪慕富贵追逐名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1403280" y="1846440"/>
            <a:ext cx="1046160" cy="1584000"/>
          </a:xfrm>
          <a:prstGeom prst="rect">
            <a:avLst/>
          </a:prstGeom>
          <a:ln w="25560">
            <a:solidFill>
              <a:srgbClr val="f60202"/>
            </a:solidFill>
            <a:miter/>
          </a:ln>
        </p:spPr>
      </p:pic>
      <p:sp>
        <p:nvSpPr>
          <p:cNvPr id="300" name=""/>
          <p:cNvSpPr/>
          <p:nvPr/>
        </p:nvSpPr>
        <p:spPr>
          <a:xfrm>
            <a:off x="1337760" y="990720"/>
            <a:ext cx="12171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晋陶渊明独爱菊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菊，花之隐逸者也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062000" y="3943440"/>
            <a:ext cx="151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3300"/>
                </a:solidFill>
                <a:latin typeface="Arial"/>
                <a:ea typeface="楷体_GB2312"/>
              </a:rPr>
              <a:t>品格高洁超凡脱俗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4284720" y="1846440"/>
            <a:ext cx="1041480" cy="1584000"/>
          </a:xfrm>
          <a:prstGeom prst="rect">
            <a:avLst/>
          </a:prstGeom>
          <a:ln w="25560">
            <a:solidFill>
              <a:srgbClr val="f60202"/>
            </a:solidFill>
            <a:miter/>
          </a:ln>
        </p:spPr>
      </p:pic>
      <p:sp>
        <p:nvSpPr>
          <p:cNvPr id="303" name=""/>
          <p:cNvSpPr/>
          <p:nvPr/>
        </p:nvSpPr>
        <p:spPr>
          <a:xfrm>
            <a:off x="3708360" y="981000"/>
            <a:ext cx="24480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楷体_GB2312"/>
              </a:rPr>
              <a:t>予独爱莲之</a:t>
            </a:r>
            <a:r>
              <a:rPr b="1" lang="en-US" sz="1700" spc="-1" strike="noStrike">
                <a:solidFill>
                  <a:srgbClr val="333399"/>
                </a:solidFill>
                <a:latin typeface="Arial"/>
                <a:ea typeface="楷体_GB2312"/>
              </a:rPr>
              <a:t>…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楷体_GB2312"/>
              </a:rPr>
              <a:t>莲，花之君子者也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067280" y="4005360"/>
            <a:ext cx="1655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3300"/>
                </a:solidFill>
                <a:latin typeface="Arial"/>
                <a:ea typeface="楷体_GB2312"/>
              </a:rPr>
              <a:t>质朴正直志洁行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627280" y="2637000"/>
            <a:ext cx="1368360" cy="762120"/>
            <a:chOff x="2627280" y="2637000"/>
            <a:chExt cx="1368360" cy="762120"/>
          </a:xfrm>
        </p:grpSpPr>
        <p:sp>
          <p:nvSpPr>
            <p:cNvPr id="306" name=""/>
            <p:cNvSpPr/>
            <p:nvPr/>
          </p:nvSpPr>
          <p:spPr>
            <a:xfrm>
              <a:off x="2627280" y="2637000"/>
              <a:ext cx="136836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771640" y="2924280"/>
              <a:ext cx="10080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cc0000"/>
                  </a:solidFill>
                  <a:latin typeface="Arial"/>
                  <a:ea typeface="华文新魏"/>
                </a:rPr>
                <a:t>正衬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5579640" y="2637000"/>
            <a:ext cx="1297080" cy="762120"/>
            <a:chOff x="5579640" y="2637000"/>
            <a:chExt cx="1297080" cy="762120"/>
          </a:xfrm>
        </p:grpSpPr>
        <p:sp>
          <p:nvSpPr>
            <p:cNvPr id="309" name=""/>
            <p:cNvSpPr/>
            <p:nvPr/>
          </p:nvSpPr>
          <p:spPr>
            <a:xfrm flipH="1">
              <a:off x="5579640" y="2637000"/>
              <a:ext cx="129708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867280" y="2924280"/>
              <a:ext cx="9349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cc0000"/>
                  </a:solidFill>
                  <a:latin typeface="Arial"/>
                  <a:ea typeface="华文新魏"/>
                </a:rPr>
                <a:t>反衬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611280" y="580536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5"/>
          <a:stretch/>
        </p:blipFill>
        <p:spPr>
          <a:xfrm rot="20949000">
            <a:off x="684000" y="5444640"/>
            <a:ext cx="588960" cy="6480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6"/>
          <a:stretch/>
        </p:blipFill>
        <p:spPr>
          <a:xfrm rot="20706000">
            <a:off x="323640" y="5660640"/>
            <a:ext cx="458640" cy="504720"/>
          </a:xfrm>
          <a:prstGeom prst="rect">
            <a:avLst/>
          </a:prstGeom>
          <a:ln w="0">
            <a:noFill/>
          </a:ln>
        </p:spPr>
      </p:pic>
    </p:spTree>
  </p:cSld>
  <p:transition>
    <p:wipe dir="u"/>
    <p:sndAc>
      <p:stSnd>
        <p:snd r:embed="rId7" name="camera.wav"/>
      </p:stSnd>
    </p:sndAc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920600" y="54756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陶渊明为什么独爱菊花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1965240"/>
            <a:ext cx="809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　　因为菊花不畏严寒，傲霜斗雪，品格高洁。菊花又是花中的隐士，</a:t>
            </a:r>
            <a:r>
              <a:rPr b="0" lang="zh-CN" sz="4000" spc="-1" strike="noStrike">
                <a:solidFill>
                  <a:srgbClr val="ff0303"/>
                </a:solidFill>
                <a:latin typeface="Arial"/>
                <a:ea typeface="华文行楷"/>
              </a:rPr>
              <a:t>不愿与世俗同流合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，</a:t>
            </a:r>
            <a:r>
              <a:rPr b="0" lang="zh-CN" sz="4000" spc="-1" strike="noStrike">
                <a:solidFill>
                  <a:srgbClr val="ff0303"/>
                </a:solidFill>
                <a:latin typeface="Arial"/>
                <a:ea typeface="华文行楷"/>
              </a:rPr>
              <a:t>超凡脱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，这符合陶渊明的处世态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36840" y="4937040"/>
            <a:ext cx="41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　　写菊是为了</a:t>
            </a:r>
            <a:r>
              <a:rPr b="0" lang="zh-CN" sz="4000" spc="-1" strike="noStrike">
                <a:solidFill>
                  <a:srgbClr val="ff0303"/>
                </a:solidFill>
                <a:latin typeface="Arial"/>
                <a:ea typeface="华文行楷"/>
              </a:rPr>
              <a:t>正面衬托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莲的形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2" name="camera.wav"/>
      </p:stSnd>
    </p:sndAc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1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539640" y="549360"/>
            <a:ext cx="8016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菊之爱，陶后鲜有闻，莲之爱，同予者何人，牡丹之爱，宜乎众矣”表明了作者怎样的人生态度？                他既不愿像陶渊明那样消极避世，也不愿像世人那样追逐功名富贵，他要在污浊的世间独立不移，永远保持清白操守和正直品德。作者写牡丹实际上是从反面衬托莲的君子形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camera.wav"/>
      </p:stSnd>
    </p:sndAc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怎么理解“莲之爱，予者何人”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你你读完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爱莲说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之后是否同意作者的观点？他的观点目前有什么现实意义？（谈“人与环境”的关系。也可与现实社会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公民职业道德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联系等等，言之有理即可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 Black"/>
              </a:rPr>
              <a:t>写作手法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Rounded MT Bold"/>
              </a:rPr>
              <a:t>托物言志（象征手法）作者借物（莲花）来表达自已的志向。我们可以仿照作者用莲花来寄托自己的感情的方法，用“我特喜欢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……”</a:t>
            </a:r>
            <a:r>
              <a:rPr b="0" lang="zh-CN" sz="3600" spc="-1" strike="noStrike">
                <a:solidFill>
                  <a:srgbClr val="ffffff"/>
                </a:solidFill>
                <a:latin typeface="Arial Rounded MT Bold"/>
              </a:rPr>
              <a:t>句式说一段话，所借之物不拘泥于花草树木。但要注意两点：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Arial Rounded MT Bold"/>
              </a:rPr>
              <a:t>、要注意内部联系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 Rounded MT Bold"/>
              </a:rPr>
              <a:t>、要有新意。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 Black"/>
              </a:rPr>
              <a:t>结束语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通过一节课的学习，相信同学们对本文有了较深的理解，也相信同学们对自己将来成为什么样的人有了新的认识，希望所有的同学都能成为一个品德高尚的人，一个对社会有用的人！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 Black"/>
              </a:rPr>
              <a:t>实践语言，习得感受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707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 Rounded MT Bold"/>
              </a:rPr>
              <a:t>在改革开放的今天，社会上出现了一些不正之风，今天作为中学生的你该怎么对待这些问题呢？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-33480" y="-3240"/>
            <a:ext cx="9141120" cy="686124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755640" y="314172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6ff33"/>
                </a:solidFill>
                <a:latin typeface="Arial"/>
                <a:ea typeface="楷体_GB2312"/>
              </a:rPr>
              <a:t>再   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55640" y="105264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通过本课的学习，希望同学们能够树立正确的人生观、价值观，都能成为品德高尚的人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-33480" y="-9360"/>
            <a:ext cx="9155160" cy="68673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7956720" y="5877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8406"/>
                </a:moveTo>
                <a:lnTo>
                  <a:pt x="9748" y="8406"/>
                </a:lnTo>
                <a:lnTo>
                  <a:pt x="14169" y="3794"/>
                </a:lnTo>
                <a:lnTo>
                  <a:pt x="14169" y="17806"/>
                </a:lnTo>
                <a:lnTo>
                  <a:pt x="9748" y="13194"/>
                </a:lnTo>
                <a:lnTo>
                  <a:pt x="5318" y="13194"/>
                </a:lnTo>
                <a:close/>
              </a:path>
              <a:path fill="darken" w="24648" h="21600">
                <a:moveTo>
                  <a:pt x="15823" y="10800"/>
                </a:moveTo>
                <a:lnTo>
                  <a:pt x="19331" y="10800"/>
                </a:lnTo>
              </a:path>
              <a:path fill="darken" w="24648" h="21600">
                <a:moveTo>
                  <a:pt x="15823" y="8406"/>
                </a:moveTo>
                <a:lnTo>
                  <a:pt x="19331" y="5639"/>
                </a:lnTo>
              </a:path>
              <a:path fill="darken" w="24648" h="21600">
                <a:moveTo>
                  <a:pt x="15823" y="13194"/>
                </a:moveTo>
                <a:lnTo>
                  <a:pt x="19331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3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-33480" y="-23760"/>
            <a:ext cx="9209160" cy="6908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-33480" y="0"/>
            <a:ext cx="9274320" cy="69562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-33480" y="-15840"/>
            <a:ext cx="9277560" cy="6973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-33480" y="0"/>
            <a:ext cx="9161640" cy="6885000"/>
          </a:xfrm>
          <a:prstGeom prst="rect">
            <a:avLst/>
          </a:prstGeom>
          <a:ln w="0">
            <a:noFill/>
          </a:ln>
        </p:spPr>
      </p:pic>
    </p:spTree>
  </p:cSld>
  <p:transition>
    <p:comb dir="vert"/>
    <p:sndAc>
      <p:stSnd>
        <p:snd r:embed="rId3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09160" cy="69087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-33480" y="0"/>
            <a:ext cx="9272880" cy="69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23:06:50Z</dcterms:created>
  <dc:creator>lo</dc:creator>
  <dc:description/>
  <cp:keywords/>
  <dc:language>en-US</dc:language>
  <cp:lastModifiedBy>姚春风</cp:lastModifiedBy>
  <cp:lastPrinted>1899-12-30T00:00:00Z</cp:lastPrinted>
  <dcterms:modified xsi:type="dcterms:W3CDTF">2009-07-13T11:48:09Z</dcterms:modified>
  <cp:revision>32</cp:revision>
  <dc:subject/>
  <dc:title>爱莲说 </dc:title>
</cp:coreProperties>
</file>