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E7A2-6B21-49E9-8B3F-A500E95F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BEDB-20C8-4D09-BADD-42150D8E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F030-B079-43E9-824E-F73B669A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E5DE-58F6-447F-BF23-C14044E0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901F-99B1-47B9-92C9-B74EDA7C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282E-C756-45EA-983E-139BC39B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4C34-AE51-482E-9B78-6E033029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282F-C571-4B61-BFB0-EB7F2C12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EE52-3C62-407B-9477-984E3688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06FD-5DBB-4CC4-B1D2-90677F76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E7F9-D180-4D24-955F-1FAF6D9C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DCA0-9D1A-4287-A0E4-0E0589F8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57E1-1E6C-4F54-B62A-A72EA65B32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5599800" y="2705040"/>
            <a:ext cx="48769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隶书"/>
              </a:rPr>
              <a:t>古代诗词五首</a:t>
            </a:r>
            <a:endParaRPr b="1" lang="en-US" sz="5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1371600"/>
            <a:ext cx="38862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1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观沧海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2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次北固山下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3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钱塘湖春行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4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西江月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5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天净沙秋思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5334120" y="167652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5334120" y="251460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5334120" y="335268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5334120" y="426708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5334120" y="510552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7772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987280" y="1219320"/>
            <a:ext cx="3277440" cy="6426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上片写的是前半夜的景象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84760" y="3200400"/>
            <a:ext cx="3317040" cy="6426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下片写的是后半夜的景象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88920" y="4876920"/>
            <a:ext cx="3826080" cy="11912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华文行楷"/>
                <a:ea typeface="华文行楷"/>
              </a:rPr>
              <a:t>这首词上片写景其实是烘托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华文行楷"/>
                <a:ea typeface="华文行楷"/>
              </a:rPr>
              <a:t>下片写避雨才是词人本意所在</a:t>
            </a:r>
            <a:r>
              <a:rPr b="0" lang="zh-CN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934320" y="304920"/>
            <a:ext cx="2209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西江月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1" name=""/>
          <p:cNvSpPr/>
          <p:nvPr/>
        </p:nvSpPr>
        <p:spPr>
          <a:xfrm>
            <a:off x="8305920" y="6095880"/>
            <a:ext cx="228600" cy="15264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24" h="21600">
                <a:moveTo>
                  <a:pt x="9155" y="10800"/>
                </a:moveTo>
                <a:lnTo>
                  <a:pt x="23168" y="3794"/>
                </a:lnTo>
                <a:lnTo>
                  <a:pt x="231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80840" y="946080"/>
            <a:ext cx="42645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天净沙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(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秋思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) 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马致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枯藤老树昏鸦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小桥流水人家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古道西风瘦马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夕阳西下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断肠人在天涯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229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477120" y="5257800"/>
            <a:ext cx="2209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7517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天净沙秋思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7517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5" name=""/>
          <p:cNvSpPr/>
          <p:nvPr/>
        </p:nvSpPr>
        <p:spPr>
          <a:xfrm>
            <a:off x="3276000" y="3505320"/>
            <a:ext cx="304272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漂泊他乡的游子的悲哀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4572000"/>
            <a:ext cx="300312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运用了景物烘托的写法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93280" y="609480"/>
            <a:ext cx="577656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枯藤”“老树”“昏鸦”“小桥”“流水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人家” “古道” “西风” “瘦马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762120"/>
            <a:ext cx="990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景：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情：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" name=""/>
          <p:cNvSpPr/>
          <p:nvPr/>
        </p:nvSpPr>
        <p:spPr>
          <a:xfrm>
            <a:off x="2521080" y="2362320"/>
            <a:ext cx="200952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断肠人在天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365760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主题：</a:t>
            </a:r>
            <a:endParaRPr b="1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464832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艺术手法：</a:t>
            </a:r>
            <a:endParaRPr b="1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952720" y="835200"/>
            <a:ext cx="41432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步出夏门行（观沧海）  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曹 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东临碣石，以观沧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水何澹澹，山岛竦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树木丛生，百草丰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秋风萧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瑟，洪波涌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日月之行，若出其中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星汉灿烂，若出其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幸甚至哉，歌以咏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0010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609480"/>
            <a:ext cx="1904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观沧海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一层：交代观海的？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二层：先描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写和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荡漾，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态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耸立，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态，相互映衬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显示了大海的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？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？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再写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？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，仍然是？  态，以及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”，又回到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态，显示了大海的惊人力量和宏伟气象。这一层全是写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景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13920" y="114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地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51800" y="1600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海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88000" y="155736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山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32160" y="20606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48000" y="2514600"/>
            <a:ext cx="6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35812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草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40384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洪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8006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79840" y="284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3581280"/>
            <a:ext cx="6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08360" y="40384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18080" y="390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44956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幼圆"/>
              </a:rPr>
              <a:t>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3800" y="2060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海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256536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山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4232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辽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71120" y="3124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威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95280" y="1143000"/>
            <a:ext cx="6805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第三层：借助奇特的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来表现大海吞吐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   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气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这写的是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景即诗人的主观感受，从“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”字可以看出来的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121932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想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3276720"/>
            <a:ext cx="59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幼圆"/>
                <a:ea typeface="幼圆"/>
              </a:rPr>
              <a:t>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45240" y="3860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ff33"/>
                </a:solidFill>
                <a:latin typeface="幼圆"/>
                <a:ea typeface="幼圆"/>
              </a:rPr>
              <a:t>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32400" y="182880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日、月、星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29600" y="5867280"/>
            <a:ext cx="228600" cy="15264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24" h="21600">
                <a:moveTo>
                  <a:pt x="9155" y="10800"/>
                </a:moveTo>
                <a:lnTo>
                  <a:pt x="23168" y="3794"/>
                </a:lnTo>
                <a:lnTo>
                  <a:pt x="231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066680" y="533520"/>
            <a:ext cx="3657600" cy="612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次北固山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王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客路青山外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行舟绿水前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潮平两岸阔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风正一帆悬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海日生残夜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江春入旧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乡书何处达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?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归雁洛阳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059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14920" y="1981080"/>
            <a:ext cx="457920" cy="5814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开头两句点题。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64120" y="1981080"/>
            <a:ext cx="2619000" cy="5814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颔联写船上所见景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4038480"/>
            <a:ext cx="6172200" cy="1556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平”“阔”“正”“悬”四字炼得好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潮平”，两岸才显得宽阔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风正”，帆才有悬空的态势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72880" y="2743200"/>
            <a:ext cx="457920" cy="5814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颈联既写景又点明了时令。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" y="5334120"/>
            <a:ext cx="19051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次北固山下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95360" y="304920"/>
            <a:ext cx="815328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1.</a:t>
            </a: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首联、颔联、颈联、尾联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各写什么内容？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2.</a:t>
            </a: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点评诗中的语言。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3.</a:t>
            </a: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诗的主题。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</p:txBody>
      </p:sp>
      <p:sp>
        <p:nvSpPr>
          <p:cNvPr id="86" name=""/>
          <p:cNvSpPr/>
          <p:nvPr/>
        </p:nvSpPr>
        <p:spPr>
          <a:xfrm>
            <a:off x="2424240" y="3352680"/>
            <a:ext cx="378720" cy="5814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尾联抒发思乡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8440" y="5616720"/>
            <a:ext cx="235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华文彩云"/>
                <a:ea typeface="华文彩云"/>
              </a:rPr>
              <a:t>主题——乡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10480" y="6172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990720"/>
            <a:ext cx="8588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钱塘湖春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白居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孤山寺北贾亭西，水面初平云脚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几处早莺争暖树，谁家新燕啄春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乱花渐欲迷人眼，浅草才能没马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最爱湖东行不足，绿杨阴里白沙堤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22960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581280" y="228600"/>
            <a:ext cx="22100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钱塘湖春行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2" name=""/>
          <p:cNvSpPr/>
          <p:nvPr/>
        </p:nvSpPr>
        <p:spPr>
          <a:xfrm>
            <a:off x="8004600" y="-537120"/>
            <a:ext cx="667800" cy="84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诗中描写了西湖早春的明媚风光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0" y="645120"/>
            <a:ext cx="1033560" cy="57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抒发了诗人喜悦的感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890720" y="4876920"/>
            <a:ext cx="5362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1.</a:t>
            </a:r>
            <a:r>
              <a:rPr b="1" i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诗的主要内容和思想感情。</a:t>
            </a:r>
            <a:endParaRPr b="1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姚体"/>
              <a:ea typeface="方正姚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2.</a:t>
            </a:r>
            <a:r>
              <a:rPr b="1" i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描写了哪些景物</a:t>
            </a: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?</a:t>
            </a:r>
            <a:endParaRPr b="1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61722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77240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1:52:46Z</dcterms:created>
  <dc:creator>Batman</dc:creator>
  <dc:description/>
  <dc:language>en-US</dc:language>
  <cp:lastModifiedBy>MC SYSTEM</cp:lastModifiedBy>
  <dcterms:modified xsi:type="dcterms:W3CDTF">2008-02-11T01:45:21Z</dcterms:modified>
  <cp:revision>23</cp:revision>
  <dc:subject/>
  <dc:title>PowerPoint 演示文稿</dc:title>
</cp:coreProperties>
</file>