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chimes.wav" ContentType="audio/x-wav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DDAD-FA37-4B03-AD70-99475D60A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3365-36C4-4311-94EF-D7499734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9C83-D781-497A-BC34-BEF30E735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6B2A-5813-4A69-B165-496025075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9835-8AC1-480E-A9A0-ADAAB37E6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8A74-A835-4DD3-A29B-F335557C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3B99-5762-4917-8854-5E2E7E74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FA8DD-7408-43CB-AE57-8D3E5EE3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1FD2-EBCC-498E-AA41-4A92545C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AC4C-7485-48ED-A749-86CBCDC7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F923-F529-49D1-AFBF-7D54CFDB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EE4E-6959-4C67-AA1B-4D5FA33C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2BF8-A481-4ED1-B6F3-E98D36DC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B161-8848-42C8-A0C7-7911BF84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9E35-D88E-4D86-B65A-DCA265F6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862C-C089-4F22-B604-A3EF4CC8D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E4B3-3942-4B5C-9552-CE4EFFACA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6CD5-6056-4AEA-ACD0-3B4E0961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E1FE-2EFE-4282-8988-CF1EB11C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AEE4-B5BE-4F77-A350-17C50FD3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13F2-29A9-4149-96CD-FF6F071F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347A-4F60-4094-87DC-29ACC9E9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F62C-90C7-4950-9DB8-991D4AD1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B03A-663A-4F9F-AB6E-EED6748A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D063-D645-4FA6-99C5-600C0DAC2F65}" type="datetime">
              <a:rPr b="0" lang="zh-CN" sz="1400" spc="-1" strike="noStrike">
                <a:solidFill>
                  <a:srgbClr val="ffffff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3B45-1848-48D8-A577-2FCD4BDEA67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0591-EB52-46F1-9522-9B9D145EF31B}" type="datetime">
              <a:rPr b="0" lang="zh-CN" sz="1400" spc="-1" strike="noStrike">
                <a:solidFill>
                  <a:srgbClr val="ffffff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0C5C-CBDA-4119-AF98-B22E189F99A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D286-779F-4004-ACEA-9E9AA382025E}" type="slidenum">
              <a:rPr b="0" lang="zh-CN" sz="5400" spc="-1" strike="noStrike">
                <a:solidFill>
                  <a:srgbClr val="ffffcc"/>
                </a:solidFill>
                <a:latin typeface="宋体"/>
                <a:ea typeface="宋体"/>
              </a:rPr>
              <a:t>&lt;number&gt;</a:t>
            </a:fld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-15264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0" lang="zh-CN" sz="8000" spc="-1" strike="noStrike">
                <a:solidFill>
                  <a:srgbClr val="ffffff"/>
                </a:solidFill>
                <a:latin typeface="隶书"/>
                <a:ea typeface="隶书"/>
              </a:rPr>
              <a:t>古希腊的石头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1006560"/>
            <a:ext cx="8778960" cy="5851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35280" y="537372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肥城六中                  范玉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203640" y="4437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4033-4337-40F7-A83F-0C172E2B1CDE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B63CA7A-826C-4E22-A4F6-CD36B1194BC6}" type="datetime1">
              <a:rPr lang="en-US"/>
              <a:t>07/28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236036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71280" y="620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Arial Narrow"/>
                <a:ea typeface="宋体"/>
              </a:rPr>
              <a:t>整体介绍</a:t>
            </a: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本文是文化散文，它以“古希腊的石头”为文化载体，进行理性思考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现在让我们阅读全文，看作者写了古希腊哪些石头？作者又以此思考了什么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跳读文本，梳理作者行文思路，提炼作者的感受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8391-DB78-4145-8DDE-D7A86F36AD8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99B89A-0382-4CC5-8669-973170311876}" type="datetime1">
              <a:rPr lang="en-US"/>
              <a:t>07/28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76360" y="609120"/>
            <a:ext cx="7439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宋体"/>
                <a:ea typeface="宋体"/>
              </a:rPr>
              <a:t>整体感知，梳理文本（跳读提炼）</a:t>
            </a: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741672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文体特征：文化散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2000" y="2060640"/>
            <a:ext cx="19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47640" y="256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行文思路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08360" y="24210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希腊国家考古博物馆（雕像、残臂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72360" y="263700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164360" y="242100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帕果斯山顶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石碑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87280" y="4581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68360" y="4365720"/>
            <a:ext cx="158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迈锡尼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城堡废墟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80000" y="4581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03640" y="4581360"/>
            <a:ext cx="2592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苏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海神庙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5C45-6421-472F-817F-9D82808A778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9B08C9-DE5B-479D-9AD9-AA74C85F2F95}" type="datetime1">
              <a:rPr lang="en-US"/>
              <a:t>07/28/26</a:t>
            </a:fld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39640" y="76500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、作者感受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42920" y="191628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喜欢（石头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51280" y="1916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32360" y="191628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奇异和美妙的感受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3284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35280" y="350028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震撼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3429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88000" y="3429000"/>
            <a:ext cx="244800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钦佩（希腊人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2C06-6F52-47D9-B044-CF1460FB660C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DA39D4-7790-4A1B-B989-640B9E1AA188}" type="datetime1">
              <a:rPr lang="en-US"/>
              <a:t>07/28/26</a:t>
            </a:fld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1892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Arial Narrow"/>
                <a:ea typeface="宋体"/>
              </a:rPr>
              <a:t>品读感悟</a:t>
            </a: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18920" y="184464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作者为什么希腊博物馆的石头呢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发现帕果斯山顶的石碑，为什么有“奇异和美妙的感受”呢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登临苏纽海神庙，为什么“由衷地钦佩希腊人”呢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让我们再次回到文本，品读感悟，研读探究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D036-1683-42DB-A92D-F2BAF164DC2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E65361-60FE-4613-A1B0-E3CFAA740921}" type="datetime1">
              <a:rPr lang="en-US"/>
              <a:t>07/28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宋体"/>
                <a:ea typeface="宋体"/>
              </a:rPr>
              <a:t>理解品味（品读感悟）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1989000"/>
            <a:ext cx="5977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组：以第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段为例，分析作者如何表达对古希腊石头的喜欢的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3645000"/>
            <a:ext cx="70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本段运用拟人、比喻的手法，活画出雕像和壁画人物明亮的眼睛，表达自己对雕像和壁画人物的喜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2728-8F6F-491A-B310-B6E6D1FE4A5F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7C96F5-E14D-4593-9D8F-778C946569B9}" type="datetime1">
              <a:rPr lang="en-US"/>
              <a:t>07/28/26</a:t>
            </a:fld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1125360"/>
            <a:ext cx="830412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宋体"/>
                <a:ea typeface="宋体"/>
              </a:rPr>
              <a:t>B</a:t>
            </a:r>
            <a:r>
              <a:rPr b="0" lang="zh-CN" sz="4000" spc="-1" strike="noStrike">
                <a:solidFill>
                  <a:srgbClr val="ffffcc"/>
                </a:solidFill>
                <a:latin typeface="宋体"/>
                <a:ea typeface="宋体"/>
              </a:rPr>
              <a:t>组：作者为什么喜欢“古希腊的</a:t>
            </a:r>
            <a:br>
              <a:rPr sz="4000"/>
            </a:br>
            <a:r>
              <a:rPr b="0" lang="zh-CN" sz="4000" spc="-1" strike="noStrike">
                <a:solidFill>
                  <a:srgbClr val="ffffcc"/>
                </a:solidFill>
                <a:latin typeface="宋体"/>
                <a:ea typeface="宋体"/>
              </a:rPr>
              <a:t>石头”？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3640" y="299736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喜欢这些刻着历史与艺术的石头，发现了古物的历史美和文化美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D151-03F8-4B07-A34B-D9994B4AF47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CB150C-FF0F-42E9-8022-D0F0C5C771EF}" type="datetime1">
              <a:rPr lang="en-US"/>
              <a:t>07/28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00000" y="333360"/>
            <a:ext cx="58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197000"/>
            <a:ext cx="7848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组：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年高考浙江卷作文材料有这样一段话：苍茫的丛林间，玛雅文化湮没了；丝绸之路上，高昌古国消逝了。人类在消逝中进步。行走在消逝中，既有“流水落花春去也”的怅惘，也有“谁道人生无再少”的旷达……本文作者行走在希腊国家考古博物馆的雕像间有什么感受？作者又是如何“行走”在古希腊“已经满是裂痕和缺口”的石头间的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48000" y="5373720"/>
            <a:ext cx="4824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472428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对“行走”的理解——不是仅有喜悦，不是仅陶醉在艺术的 享受中，而是引发理性的思考，得到启示，并付诸行动，做一些对文化保护有意义的工作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2F51-7CCE-482F-9EF7-C5A16A66E862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A02E63-141F-481A-AD24-9568093E7773}" type="datetime1">
              <a:rPr lang="en-US"/>
              <a:t>07/28/26</a:t>
            </a:fld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0720" cy="112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Arial Narrow"/>
                <a:ea typeface="宋体"/>
              </a:rPr>
              <a:t>C</a:t>
            </a:r>
            <a:r>
              <a:rPr b="0" lang="zh-CN" sz="5400" spc="-1" strike="noStrike">
                <a:solidFill>
                  <a:srgbClr val="ffffcc"/>
                </a:solidFill>
                <a:latin typeface="Arial Narrow"/>
                <a:ea typeface="宋体"/>
              </a:rPr>
              <a:t>组参考：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197000"/>
            <a:ext cx="89154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引发反思，再灿烂的文明也经受不住时光的侵蚀，古老的文明在破损。 意识到文物保护的迫切性，联想到我国文物保护方面的欠缺，更有了历史责任感。 落实到行动上，冯老在文学创作最旺盛的阶段，停下创作，致力于文化发掘与文物保护工作，并发表文章，海外演讲，呼吁保护文化古迹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9D03-332E-42B3-AD1A-9D2E7370A8B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45ADB3-A393-4B14-9E8C-8FAA54009E55}" type="datetime1">
              <a:rPr lang="en-US"/>
              <a:t>07/28/26</a:t>
            </a:fld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Arial Narrow"/>
                <a:ea typeface="宋体"/>
              </a:rPr>
              <a:t>赏析探究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268280"/>
            <a:ext cx="73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：作者为什么由衷地钦佩希腊人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191628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希腊人珍视历史，保持古迹原状原貌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2924280"/>
            <a:ext cx="72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希腊人决不让文化古迹受任何现代事物的干扰，历史空间受到绝对纯正的保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450864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希腊人对历史有深刻的理解与崇拜，有科学的保护方法，有优雅的美感和高尚的文化品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51AD-4F50-4AA1-91A5-8F38589FA7E3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53DFDF-0379-4E74-90BA-A11931F2E860}" type="datetime1">
              <a:rPr lang="en-US"/>
              <a:t>07/28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6399360" cy="71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Arial Narrow"/>
                <a:ea typeface="宋体"/>
              </a:rPr>
              <a:t>赏析探究</a:t>
            </a: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68000" y="980640"/>
            <a:ext cx="806436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组：曾引起各方争议的圆明园复建工程将陆续启动，也许用不了多久，一个崭新的仿古建筑——圆明园长春园宫门将出现在公众面前。结合本文作者的观点，谈谈你的看法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3AB5-6AB8-4355-B4A4-1F909D2618A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DEDF0CA-DA04-4685-962E-4793724BD6A4}" type="datetime1">
              <a:rPr lang="en-US"/>
              <a:t>07/28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900000" y="189000"/>
            <a:ext cx="4464000" cy="69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隶书"/>
                <a:ea typeface="隶书"/>
              </a:rPr>
              <a:t>   </a:t>
            </a:r>
            <a:r>
              <a:rPr b="0" lang="zh-CN" sz="4800" spc="-1" strike="noStrike">
                <a:solidFill>
                  <a:srgbClr val="ffffcc"/>
                </a:solidFill>
                <a:latin typeface="隶书"/>
                <a:ea typeface="隶书"/>
              </a:rPr>
              <a:t>古希腊雕像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252360" y="1341360"/>
            <a:ext cx="10152000" cy="5013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79280" y="83664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表情丰富，眼睛明亮，引发人们神奇的遐想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1547-8330-4114-BE66-1E8ED256EB9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0B5367-103F-4B16-89B8-404180E6964A}" type="datetime1">
              <a:rPr lang="en-US"/>
              <a:t>07/28/26</a:t>
            </a:fld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Arial Narrow"/>
                <a:ea typeface="隶书"/>
              </a:rPr>
              <a:t>探究参考：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古物翻新，甚至更愚蠢的复原，破坏时间在每一件古物的体内全留下的美丽的生命的年轮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修复圆明园，历史的魂灵就会一下子逃离而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圆明园遗址是帝国主义侵略中国的鲜活历史见证，供游人参观凭吊，教育后人勿忘国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今人面对充满屈辱意味的圆明园时，应保持清醒。既然我们无法扑灭英法联军那场可耻的大火，那么，何不让历史继续给后人留下深刻反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、复建圆明园，劳民伤财，异想天开，有狗尾续貂之嫌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E6B0-24CA-4BA9-88B2-380E912DF16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71FC8D-FC3D-4364-A15D-D0F4656CB0BF}" type="datetime1">
              <a:rPr lang="en-US"/>
              <a:t>07/28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cc"/>
                </a:solidFill>
                <a:latin typeface="Arial Narrow"/>
                <a:ea typeface="隶书"/>
              </a:rPr>
              <a:t>课堂总结：</a:t>
            </a:r>
            <a:endParaRPr b="0" lang="en-US" sz="7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、自主积累知识，加大知识储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、整体阅读文章，把握文体特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、提炼内容要点，理清行文思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、深入文本品味，领会作者情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、合作探究疑难，注重迁移实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6B81-3966-43E4-B707-799352C402F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FD659B-A720-4737-BA50-45789C4ECF66}" type="datetime1">
              <a:rPr lang="en-US"/>
              <a:t>07/28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476360" y="3141720"/>
            <a:ext cx="5418000" cy="1219320"/>
          </a:xfrm>
          <a:prstGeom prst="rect">
            <a:avLst/>
          </a:prstGeom>
        </p:spPr>
        <p:txBody>
          <a:bodyPr wrap="none" lIns="90000" rIns="90000" tIns="46800" bIns="46800" anchor="t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谢谢大家，再见。</a:t>
            </a:r>
            <a:endParaRPr b="0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839080" y="4869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2562-5CCB-44E6-B239-291F3CA9AFC0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8D850E-E22C-48C2-9592-DBA87D806B73}" type="datetime1">
              <a:rPr lang="en-US"/>
              <a:t>07/28/26</a:t>
            </a:fld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236036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6858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隶书"/>
                <a:ea typeface="隶书"/>
              </a:rPr>
              <a:t>雅典卫城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45756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7543800" cy="3760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916360" y="69228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斑驳的城墙，年代久远，饱经历史沧桑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839E-332E-4952-B171-A28D730DD40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6DE12C-CD87-4D64-96B5-A63864BCCF13}" type="datetime1">
              <a:rPr lang="en-US"/>
              <a:t>07/28/26</a:t>
            </a:fld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隶书"/>
                <a:ea typeface="隶书"/>
              </a:rPr>
              <a:t>巴比伦遗址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08000" y="620640"/>
            <a:ext cx="6912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灰黄的石柱，记载着文明古国非凡的过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8001000" cy="487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5606-8FF2-4BE7-9904-9E495241257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7DE7B0-6D9C-43EC-92B5-CF1E538B7602}" type="datetime1">
              <a:rPr lang="en-US"/>
              <a:t>07/28/26</a:t>
            </a:fld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宋体"/>
                <a:ea typeface="宋体"/>
              </a:rPr>
              <a:t>     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45756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3520" y="609480"/>
            <a:ext cx="861048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圆明园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破碎的石壁，坍塌的废墟，更是背负着屈辱的历史，镌刻着血与火的印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9BEA-3F18-4059-A369-F8D48DD8295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BFD8BC-DA7E-4B9D-B463-B72F9F25BFF7}" type="datetime1">
              <a:rPr lang="en-US"/>
              <a:t>07/28/26</a:t>
            </a:fld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宋体"/>
                <a:ea typeface="宋体"/>
              </a:rPr>
              <a:t>教学目标：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79246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、解读文本，品味优美语言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、领会作者对文化古迹的情感态度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、探究文化古迹保护的意义作用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C881-57BD-4F1A-821A-467D70FEC27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C92EF9-529A-4911-8B3F-BD57F6EC8D25}" type="datetime1">
              <a:rPr lang="en-US"/>
              <a:t>07/28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宋体"/>
                <a:ea typeface="宋体"/>
              </a:rPr>
              <a:t>背景介绍：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冯骥才是一位很有成就的作家，他对古代文化情有独钟。早在上世纪八十年代，他就凭反思历史、反思传统文化的《神鞭》《三寸金莲》等一系列小说蜚声文坛。当来到古希腊遗址，站在雅典卫城上时，他有了惊人发现，将古希腊文明与中国文明联系在一起，把希腊人文物保护的态度和方法与国人的做法对照起来，表现了作者对历史、对文化古迹保护的深刻反思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F249-82D1-4DE2-98C9-1BDC215E815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25B011-A52D-43BE-A796-C0B56084CE67}" type="datetime1">
              <a:rPr lang="en-US"/>
              <a:t>07/28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24000" y="2997360"/>
            <a:ext cx="144360" cy="1511280"/>
          </a:xfrm>
          <a:custGeom>
            <a:avLst/>
            <a:gdLst>
              <a:gd name="textAreaLeft" fmla="*/ 92160 w 144360"/>
              <a:gd name="textAreaRight" fmla="*/ 144360 w 14436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84720" y="3141720"/>
            <a:ext cx="216000" cy="1511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50920" y="2924280"/>
            <a:ext cx="433440" cy="1873080"/>
          </a:xfrm>
          <a:custGeom>
            <a:avLst/>
            <a:gdLst>
              <a:gd name="textAreaLeft" fmla="*/ 276840 w 433440"/>
              <a:gd name="textAreaRight" fmla="*/ 433800 w 43344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-102600"/>
            <a:ext cx="105775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一、知识梳理（自主学习）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正字音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炯炯（   ）有神    暧（    ）昧（    ）  亢（     ）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坚不可摧（    ）   葱茏（      ）    头颅（    ） 五彩缤（    ）纷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神谕（     ） 呵（     ）护     坍（    ）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废墟（       ）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磨砺（     ）      甬（    ）道      泯（   ）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2349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多音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1280" y="2924280"/>
            <a:ext cx="1439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剥落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剥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3789360"/>
            <a:ext cx="11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剥花生    剥皮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292428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龟甲    龟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03400" y="2997360"/>
            <a:ext cx="92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藏龙卧虎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藏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414972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藏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27280" y="3860640"/>
            <a:ext cx="865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龟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56000" y="436572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龟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EFFC-4E29-4788-897B-2AA9A667FFBC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6D720C-E5CC-4104-A20D-D9D6B3DC0A70}" type="datetime1">
              <a:rPr lang="en-US"/>
              <a:t>07/28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 Narrow"/>
                <a:ea typeface="宋体"/>
              </a:rPr>
              <a:t>.</a:t>
            </a:r>
            <a:r>
              <a:rPr b="0" lang="zh-CN" sz="2800" spc="-1" strike="noStrike">
                <a:solidFill>
                  <a:srgbClr val="ffffcc"/>
                </a:solidFill>
                <a:latin typeface="Arial Narrow"/>
                <a:ea typeface="宋体"/>
              </a:rPr>
              <a:t>3.</a:t>
            </a:r>
            <a:r>
              <a:rPr b="0" lang="zh-CN" sz="2800" spc="-1" strike="noStrike">
                <a:solidFill>
                  <a:srgbClr val="ffffcc"/>
                </a:solidFill>
                <a:latin typeface="Arial Narrow"/>
                <a:ea typeface="宋体"/>
              </a:rPr>
              <a:t>填入下列横线上的词语正确的一项是（    ）</a:t>
            </a:r>
            <a:r>
              <a:rPr b="0" lang="zh-CN" sz="5400" spc="-1" strike="noStrike">
                <a:solidFill>
                  <a:srgbClr val="ffffcc"/>
                </a:solidFill>
                <a:latin typeface="Arial Narrow"/>
                <a:ea typeface="宋体"/>
              </a:rPr>
              <a:t> 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）我静静坐在山顶一块山石上，默默享受着这种奇异和美妙的感受，直到夕阳把整个石碑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得金红，仿佛一块烧透了的熔岩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）被时光的筛子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下来的只有这些破碎的房宇、残垣断壁、断碑，兀自竖立的石柱，东一个西一个的柱头或柱础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）爱琴王如今还在海底吗？他到底身在哪里？在远处那一片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着波光的“酒绿色的海心”吗？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1D28-AABC-4ACA-B8AE-151754DF5F9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17C689-511F-4877-8097-9FDE7762B197}" type="datetime1">
              <a:rPr lang="en-US"/>
              <a:t>07/28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 User</cp:lastModifiedBy>
  <dcterms:modified xsi:type="dcterms:W3CDTF">2009-05-15T01:35:09Z</dcterms:modified>
  <cp:revision>23</cp:revision>
  <dc:subject/>
  <dc:title>PowerPoint 演示文稿</dc:title>
</cp:coreProperties>
</file>