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7C67-C7B1-4EC9-B28B-1C199FD0C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E390-0624-41E8-A47A-CAAF1A00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3628-55A3-474F-BA73-1AA7E3AF0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1F54-9EB0-4062-AD79-0411DF1B2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7C9B-80EC-4778-A14B-C89AC420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9F14-8925-45FF-BBF3-604C83DF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912F-066C-4C22-A084-BF262833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7F63-82FA-4ADF-A07D-AD7C6B69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08A3-BFA3-4011-95C4-D2159CA3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40D6-3C11-4F53-B13A-795A1B4F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3139-8ED6-4EBB-920A-41DED7AB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8B78-EB4B-4AA6-9D4C-FBE5ACFD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F48C-A035-4A23-8E1E-14DEA7EFF0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810108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0"/>
                            </p:stCondLst>
                            <p:childTnLst>
                              <p:par>
                                <p:cTn id="2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0"/>
                            </p:stCondLst>
                            <p:childTnLst>
                              <p:par>
                                <p:cTn id="28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104760"/>
            <a:ext cx="9001080" cy="67532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763640" y="83664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问题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421000"/>
            <a:ext cx="62276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行楷简体"/>
              </a:rPr>
              <a:t>一、文下注释说这篇文章是韩愈写给他的学生李蟠的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中有没有相关信息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377040" y="476280"/>
            <a:ext cx="2658960" cy="28814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6753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95280" y="119700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二、作《师说》赠李蟠的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原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2781360"/>
            <a:ext cx="5832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好古文，六艺经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皆通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拘于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学于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能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古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04760"/>
            <a:ext cx="9001080" cy="6753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268280"/>
            <a:ext cx="629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行楷简体"/>
              </a:rPr>
              <a:t>三、不拘于时，当时的社会风气是怎样的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377040" y="476280"/>
            <a:ext cx="2658960" cy="2881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350028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耻学于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2590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彩云"/>
              </a:rPr>
              <a:t>写作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86800" cy="591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唐代，魏晋以来的门阀制度仍有沿袭。贵族子弟都入弘文馆、崇文馆和国子学。他们无论学业如何，都有官可做。柳宗元《答韦中立论师道书》 ：“由魏晋以下，人益不事师。今之世不闻有师，有，辄哗笑之，以为狂人。独韩愈奋不顾流俗，犯笑侮，召后学，做《师说》，因抗颜而为师。世果群怪聚骂，指目牵引，而增与为言辞。愈以是得狂名。居长安，炊不暇熟，又挈挈而东，如是者数矣。”由此可见，韩愈作《师说》，大张旗鼓地宣扬自己的观点，是难能可贵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9640" y="1268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耻学于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50920" y="3068640"/>
          <a:ext cx="8424720" cy="3344760"/>
        </p:xfrm>
        <a:graphic>
          <a:graphicData uri="http://schemas.openxmlformats.org/drawingml/2006/table">
            <a:tbl>
              <a:tblPr/>
              <a:tblGrid>
                <a:gridCol w="766800"/>
                <a:gridCol w="1912680"/>
                <a:gridCol w="2487600"/>
                <a:gridCol w="1746360"/>
                <a:gridCol w="151128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对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从师的态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结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观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1302840" y="3383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古圣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02840" y="3816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今众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05000" y="42199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于其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05360" y="45802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于其身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42920" y="4921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巫医乐师百工之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53240" y="5688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士大夫之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90400" y="3383640"/>
            <a:ext cx="13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从师而问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90400" y="3815280"/>
            <a:ext cx="13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耻学于师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05200" y="3427920"/>
            <a:ext cx="11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圣益圣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48000" y="508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耻相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92360" y="4581360"/>
            <a:ext cx="12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耻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16360" y="5661000"/>
            <a:ext cx="25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曰师曰弟子……群聚而笑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80000" y="4581360"/>
            <a:ext cx="12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大 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508464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士大夫之智不及巫医乐师百工之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08720" y="3500280"/>
            <a:ext cx="12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通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正反对比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，论证了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从师学习的重要性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59280" y="42210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择师而教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05200" y="3859560"/>
            <a:ext cx="11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愚益愚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80000" y="4221000"/>
            <a:ext cx="12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小 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15240" y="1916280"/>
            <a:ext cx="6678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批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211640" y="1699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16360" y="476280"/>
            <a:ext cx="55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404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、作者是从哪几个角度来分析并批判这种风气的？运用了什么论证手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11280" y="2276640"/>
            <a:ext cx="74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试说说作者的观点在今天有什么借鉴意义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92360" y="62064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彩云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10000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26920" y="0"/>
            <a:ext cx="734544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国运兴衰系于教育，只有一流的教育，才有一流的人才，才能建设一流的国家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45964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828800" y="1143000"/>
            <a:ext cx="4648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304920"/>
            <a:ext cx="80010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黑体"/>
              </a:rPr>
              <a:t>在老师面前，我永远是学生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962520" y="380880"/>
            <a:ext cx="5181480" cy="64771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19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2900"/>
                </a:solidFill>
                <a:latin typeface="Arial"/>
              </a:rPr>
              <a:t>一个要求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优先发展教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高教师待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1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1400"/>
                </a:solidFill>
                <a:latin typeface="Arial"/>
              </a:rPr>
              <a:t>一个氛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让尊师重教蔚然成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1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1400"/>
                </a:solidFill>
                <a:latin typeface="Arial"/>
              </a:rPr>
              <a:t>一个希望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学高为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身正为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1341360"/>
            <a:ext cx="93250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黑体"/>
              </a:rPr>
              <a:t>老师，您好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979640" y="1125360"/>
            <a:ext cx="642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古今异义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492280"/>
            <a:ext cx="9144000" cy="35478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古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学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必有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所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传道受业解惑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贵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贱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小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大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众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21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15920"/>
            <a:ext cx="2195640" cy="581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力检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692280"/>
            <a:ext cx="223200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一词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2760" y="2070000"/>
            <a:ext cx="3657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古之学者必有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吾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道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吾从而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道之不传也久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巫医乐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百工之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十年春，齐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伐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5276880"/>
            <a:ext cx="23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词，军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211788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词，老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276552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词作动词，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3270240"/>
            <a:ext cx="39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意动用法，以……为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39895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词，从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00720" y="4638600"/>
            <a:ext cx="39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词，有专门技艺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2920" y="104760"/>
            <a:ext cx="9001080" cy="6753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24000" y="765000"/>
            <a:ext cx="2303280" cy="6426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词类活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989000"/>
            <a:ext cx="3106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圣人也亦远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而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于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而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位卑则足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24360" y="2276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方位名词作动词，低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19640" y="328464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名词的意动用法，以……为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407664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作名词，小的方面，大的方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47242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词的意动用法，以……为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6753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771640" y="457200"/>
            <a:ext cx="2952720" cy="6415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56000" y="189000"/>
            <a:ext cx="344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特殊句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1413000"/>
            <a:ext cx="3960720" cy="5814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拘于时，学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于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34120" y="1413000"/>
            <a:ext cx="3809880" cy="5814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于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84720" y="162864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2205000"/>
            <a:ext cx="3960720" cy="5814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其无礼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于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84720" y="227664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4120" y="2133720"/>
            <a:ext cx="3809880" cy="5814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于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2997360"/>
            <a:ext cx="3960720" cy="5814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愿大王少假借之，使毕使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于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84720" y="33577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34120" y="3284640"/>
            <a:ext cx="3809880" cy="5814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于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毕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4149720"/>
            <a:ext cx="3960720" cy="5814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沛公居山东时，贪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于财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84720" y="443700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34120" y="4365720"/>
            <a:ext cx="3809880" cy="5814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于财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300640"/>
            <a:ext cx="3960720" cy="5814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良曰：“长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于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544500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5373720"/>
            <a:ext cx="3809880" cy="5814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于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500"/>
                            </p:stCondLst>
                            <p:childTnLst>
                              <p:par>
                                <p:cTn id="39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500"/>
                            </p:stCondLst>
                            <p:childTnLst>
                              <p:par>
                                <p:cTn id="4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介词结构后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称为“状语后置”、“介宾短语后置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言结构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主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谓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宾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介词结构”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译时语序应调整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主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介词结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谓语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宾语）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翻译下列句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吾师道也，夫庸知其年之先后生于吾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然而卒无补于明亡也，何与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考江苏卷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4221000"/>
            <a:ext cx="786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436572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然而最终对明朝的灭亡没有起到补救作用，为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95280" y="1125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姚体简体"/>
              </a:rPr>
              <a:t>三、古人的从师之道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9280" y="260280"/>
            <a:ext cx="2592360" cy="703440"/>
          </a:xfrm>
          <a:prstGeom prst="rect">
            <a:avLst/>
          </a:pr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问题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体味语言     把握情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249192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14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1400"/>
                </a:solidFill>
                <a:latin typeface="黑体"/>
                <a:ea typeface="华文中宋"/>
              </a:rPr>
              <a:t>嗟乎！师道之不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华文中宋"/>
              </a:rPr>
              <a:t>也</a:t>
            </a:r>
            <a:r>
              <a:rPr b="1" lang="zh-CN" sz="3600" spc="-1" strike="noStrike">
                <a:solidFill>
                  <a:srgbClr val="ff1400"/>
                </a:solidFill>
                <a:latin typeface="黑体"/>
                <a:ea typeface="华文中宋"/>
              </a:rPr>
              <a:t>久矣，欲人之无惑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华文中宋"/>
              </a:rPr>
              <a:t>也</a:t>
            </a:r>
            <a:r>
              <a:rPr b="1" lang="zh-CN" sz="3600" spc="-1" strike="noStrike">
                <a:solidFill>
                  <a:srgbClr val="ff1400"/>
                </a:solidFill>
                <a:latin typeface="黑体"/>
                <a:ea typeface="华文中宋"/>
              </a:rPr>
              <a:t>难矣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14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1400"/>
                </a:solidFill>
                <a:latin typeface="黑体"/>
                <a:ea typeface="华文中宋"/>
              </a:rPr>
              <a:t>呜呼！师道之不复，可知矣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师说</a:t>
            </a:r>
            <a:br>
              <a:rPr sz="9600"/>
            </a:b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韩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68000" y="5157720"/>
            <a:ext cx="828036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驻马店市汝南一高 ：张富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三维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14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14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ff1400"/>
                </a:solidFill>
                <a:latin typeface="宋体"/>
              </a:rPr>
              <a:t>掌握积累“师、之”等文言实词虚词的用法，注意特殊句式及文句的翻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14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14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ff1400"/>
                </a:solidFill>
                <a:latin typeface="宋体"/>
              </a:rPr>
              <a:t>学习借鉴本文正反对比的论证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1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14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1400"/>
                </a:solidFill>
                <a:latin typeface="Times New Roman"/>
              </a:rPr>
              <a:t>树立尊师重教思想，培养谦虚好学的学风。</a:t>
            </a:r>
            <a:r>
              <a:rPr b="1" lang="zh-CN" sz="3200" spc="-1" strike="noStrike">
                <a:solidFill>
                  <a:srgbClr val="ff14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整体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圈点疑难字词，留意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字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字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断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感受韩愈散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气势磅礴，汪洋恣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风格，感受文中所蕴含的作者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情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文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中心论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5280" y="692280"/>
            <a:ext cx="122400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实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2760" y="2070000"/>
            <a:ext cx="36576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古之学者必有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吾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道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道之不传也久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十年春，齐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伐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43280" y="4005360"/>
            <a:ext cx="23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名词，军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211788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名词，老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27082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名词作动词，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3280" y="3429000"/>
            <a:ext cx="22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动词，从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40384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爱其子，择师而教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巫医乐师百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师道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复，可知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句读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03280" y="1484280"/>
            <a:ext cx="44960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代词，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代词，这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3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助词，取消独立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4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助词，宾语前置的标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260280"/>
            <a:ext cx="122400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虚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6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句读之不知，惑之不解，或师焉，或不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260280"/>
            <a:ext cx="12240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文句翻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050920" y="836640"/>
            <a:ext cx="36734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00000" y="333360"/>
            <a:ext cx="73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内容梳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26920" y="1773360"/>
            <a:ext cx="7632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段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提出中心论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段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批判不重师道的错误态度和耻于从师的不良风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三段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以孔子为例，进一步阐明从师的必要性和以能者为师的道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四段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赞扬李蟠“不拘于时”“能行古道”，说明写作本文的缘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10:07:07Z</dcterms:created>
  <dc:creator>zhangfusong</dc:creator>
  <dc:description/>
  <dc:language>en-US</dc:language>
  <cp:lastModifiedBy>微软用户</cp:lastModifiedBy>
  <dcterms:modified xsi:type="dcterms:W3CDTF">2009-09-19T09:50:55Z</dcterms:modified>
  <cp:revision>169</cp:revision>
  <dc:subject/>
  <dc:title>幻灯片 1</dc:title>
</cp:coreProperties>
</file>