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CF38-4EB2-4F8F-9A40-FE4F70C2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B2DE-FC0E-4298-AB6B-58437131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4F7A-4A54-4857-B94A-E63B8322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0E4-8994-4232-8D3B-E6E9EA62D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2BA-706E-4066-B4DA-DD6B074A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6C6-F6D7-4D73-9288-9BCCC49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845-F3B8-4C68-B4B1-1A593B9A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A8F6-4C44-4FF4-911A-7F669746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C41-F8DC-417E-94D3-582EE9E9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60AF-18A2-480B-809F-F0084E96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897-A7E6-458D-B6E6-7343587E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7FD5-A8B8-4CFD-B778-F414EE0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05F9-C824-443E-BC74-934D8A3082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810108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0"/>
                            </p:stCondLst>
                            <p:childTnLst>
                              <p:par>
                                <p:cTn id="2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63640" y="836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421000"/>
            <a:ext cx="62276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一、文下注释说这篇文章是韩愈写给他的学生李蟠的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中有没有相关信息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1970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二、作《师说》赠李蟠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2781360"/>
            <a:ext cx="583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古文，六艺经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皆通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拘于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学于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能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古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268280"/>
            <a:ext cx="62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行楷简体"/>
              </a:rPr>
              <a:t>三、不拘于时，当时的社会风气是怎样的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77040" y="476280"/>
            <a:ext cx="2658960" cy="288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350028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耻学于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2590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彩云"/>
              </a:rPr>
              <a:t>写作背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91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唐代，魏晋以来的门阀制度仍有沿袭。贵族子弟都入弘文馆、崇文馆和国子学。他们无论学业如何，都有官可做。柳宗元《答韦中立论师道书》 ：“由魏晋以下，人益不事师。今之世不闻有师，有，辄哗笑之，以为狂人。独韩愈奋不顾流俗，犯笑侮，召后学，做《师说》，因抗颜而为师。世果群怪聚骂，指目牵引，而增与为言辞。愈以是得狂名。居长安，炊不暇熟，又挈挈而东，如是者数矣。”由此可见，韩愈作《师说》，大张旗鼓地宣扬自己的观点，是难能可贵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9640" y="126828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耻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3068640"/>
          <a:ext cx="8424720" cy="3344760"/>
        </p:xfrm>
        <a:graphic>
          <a:graphicData uri="http://schemas.openxmlformats.org/drawingml/2006/table">
            <a:tbl>
              <a:tblPr/>
              <a:tblGrid>
                <a:gridCol w="766800"/>
                <a:gridCol w="1912680"/>
                <a:gridCol w="2487600"/>
                <a:gridCol w="1746360"/>
                <a:gridCol w="15112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对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从师的态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1302840" y="33836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古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02840" y="381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今众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05000" y="421992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5360" y="45802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其身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42920" y="4921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巫医乐师百工之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53240" y="56883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90400" y="338364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从师而问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90400" y="3815280"/>
            <a:ext cx="133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学于师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05200" y="342792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圣益圣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508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耻相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360" y="4581360"/>
            <a:ext cx="12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耻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16360" y="5661000"/>
            <a:ext cx="25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曰师曰弟子……群聚而笑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580000" y="458136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 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士大夫之智不及巫医乐师百工之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08720" y="3500280"/>
            <a:ext cx="122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正反对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，论证了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从师学习的重要性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4221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择师而教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605200" y="385956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愚益愚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80000" y="4221000"/>
            <a:ext cx="12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 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5240" y="1916280"/>
            <a:ext cx="66780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批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11640" y="1699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16360" y="476280"/>
            <a:ext cx="55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40464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四、作者是从哪几个角度来分析并批判这种风气的？运用了什么论证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276640"/>
            <a:ext cx="74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试说说作者的观点在今天有什么借鉴意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620640"/>
            <a:ext cx="25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彩云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0000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26920" y="0"/>
            <a:ext cx="734544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国运兴衰系于教育，只有一流的教育，才有一流的人才，才能建设一流的国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45964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28800" y="1143000"/>
            <a:ext cx="4648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304920"/>
            <a:ext cx="800100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黑体"/>
              </a:rPr>
              <a:t>在老师面前，我永远是学生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962520" y="380880"/>
            <a:ext cx="5181480" cy="64771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194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2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2900"/>
                </a:solidFill>
                <a:latin typeface="Arial"/>
              </a:rPr>
              <a:t>一个要求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优先发展教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高教师待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氛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让尊师重教蔚然成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1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1400"/>
                </a:solidFill>
                <a:latin typeface="Arial"/>
              </a:rPr>
              <a:t>一个希望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学高为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身正为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93250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黑体"/>
              </a:rPr>
              <a:t>老师，您好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9640" y="1125360"/>
            <a:ext cx="64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古今异义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492280"/>
            <a:ext cx="9144000" cy="354780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学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必有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传道受业解惑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贵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贱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大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1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15920"/>
            <a:ext cx="219564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力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692280"/>
            <a:ext cx="2232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词多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760" y="2070000"/>
            <a:ext cx="3657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从而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巫医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百工之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5276880"/>
            <a:ext cx="23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655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27024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意动用法，以……为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39895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463860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词，有专门技艺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42920" y="10476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24000" y="765000"/>
            <a:ext cx="2303280" cy="6426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词类活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1989000"/>
            <a:ext cx="3106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圣人也亦远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于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学而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位卑则足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4360" y="227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位名词作动词，低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19640" y="32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的意动用法，以……为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76720" y="407664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形容词作名词，小的方面，大的方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4724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的意动用法，以……为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1080" cy="6753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71640" y="457200"/>
            <a:ext cx="2952720" cy="6415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189000"/>
            <a:ext cx="344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413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拘于时，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141300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84720" y="162864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220500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其无礼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227664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4120" y="213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299736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大王少假借之，使毕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357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4120" y="328464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毕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414972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沛公居山东时，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财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4437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4365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财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300640"/>
            <a:ext cx="3960720" cy="581400"/>
          </a:xfrm>
          <a:prstGeom prst="rect">
            <a:avLst/>
          </a:prstGeom>
          <a:noFill/>
          <a:ln w="93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良曰：“长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5445000"/>
            <a:ext cx="762120" cy="38124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5373720"/>
            <a:ext cx="3809880" cy="5814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于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500"/>
                            </p:stCondLst>
                            <p:childTnLst>
                              <p:par>
                                <p:cTn id="3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介词结构后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称为“状语后置”、“介宾短语后置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文言结构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宾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介词结构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时语序应调整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主语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介词结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谓语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宾语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翻译下列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吾师道也，夫庸知其年之先后生于吾乎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卒无补于明亡也，何与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高考江苏卷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4221000"/>
            <a:ext cx="7869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4365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然而最终对明朝的灭亡没有起到补救作用，为什么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95280" y="1125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姚体简体"/>
              </a:rPr>
              <a:t>三、古人的从师之道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260280"/>
            <a:ext cx="2592360" cy="703440"/>
          </a:xfrm>
          <a:prstGeom prst="rect">
            <a:avLst/>
          </a:prstGeom>
          <a:noFill/>
          <a:ln w="284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问题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体味语言     把握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5280" y="249192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嗟乎！师道之不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久矣，欲人之无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华文中宋"/>
              </a:rPr>
              <a:t>也</a:t>
            </a: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难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14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1400"/>
                </a:solidFill>
                <a:latin typeface="黑体"/>
                <a:ea typeface="华文中宋"/>
              </a:rPr>
              <a:t>呜呼！师道之不复，可知矣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师说</a:t>
            </a:r>
            <a:br>
              <a:rPr sz="96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韩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68000" y="5157720"/>
            <a:ext cx="828036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驻马店市汝南一高 ：张富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三维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掌握积累“师、之”等文言实词虚词的用法，注意特殊句式及文句的翻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学习借鉴本文正反对比的论证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14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1400"/>
                </a:solidFill>
                <a:latin typeface="Times New Roman"/>
              </a:rPr>
              <a:t>树立尊师重教思想，培养谦虚好学的学风。</a:t>
            </a:r>
            <a:r>
              <a:rPr b="1" lang="zh-CN" sz="3200" spc="-1" strike="noStrike">
                <a:solidFill>
                  <a:srgbClr val="ff14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圈点疑难字词，留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音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字形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受韩愈散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势磅礴，汪洋恣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风格，感受文中所蕴含的作者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情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心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5280" y="692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实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207000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之学者必有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吾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道之不传也久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年春，齐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伐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43280" y="4005360"/>
            <a:ext cx="23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军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1178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，老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2708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名词作动词，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42900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动词，从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40384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其子，择师而教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巫医乐师百工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师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复，可知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句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03280" y="1484280"/>
            <a:ext cx="44960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词，这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取消独立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助词，宾语前置的标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260280"/>
            <a:ext cx="122400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虚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句读之不知，惑之不解，或师焉，或不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12240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文句翻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050920" y="836640"/>
            <a:ext cx="36734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333360"/>
            <a:ext cx="73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内容梳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773360"/>
            <a:ext cx="763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出中心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判不重师道的错误态度和耻于从师的不良风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三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孔子为例，进一步阐明从师的必要性和以能者为师的道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四段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赞扬李蟠“不拘于时”“能行古道”，说明写作本文的缘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10:07:07Z</dcterms:created>
  <dc:creator>zhangfusong</dc:creator>
  <dc:description/>
  <dc:language>en-US</dc:language>
  <cp:lastModifiedBy>微软用户</cp:lastModifiedBy>
  <dcterms:modified xsi:type="dcterms:W3CDTF">2009-09-19T09:50:55Z</dcterms:modified>
  <cp:revision>169</cp:revision>
  <dc:subject/>
  <dc:title>幻灯片 1</dc:title>
</cp:coreProperties>
</file>