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17.jpeg" ContentType="image/jpeg"/>
  <Override PartName="/ppt/media/image3.png" ContentType="image/png"/>
  <Override PartName="/ppt/media/image26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camera.wav" ContentType="audio/x-wav"/>
  <Override PartName="/ppt/media/image7.png" ContentType="image/png"/>
  <Override PartName="/ppt/media/image16.jpeg" ContentType="image/jpeg"/>
  <Override PartName="/ppt/media/image21.jpeg" ContentType="image/jpeg"/>
  <Override PartName="/ppt/media/chimes.wav" ContentType="audio/x-wav"/>
  <Override PartName="/ppt/media/image11.jpeg" ContentType="image/jpeg"/>
  <Override PartName="/ppt/media/image9.jpeg" ContentType="image/jpeg"/>
  <Override PartName="/ppt/media/image28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12.jpeg" ContentType="image/jpe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2.png" ContentType="image/png"/>
  <Override PartName="/ppt/media/image2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1DA-A488-423D-9907-FB23D5FC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A6FF-318F-4965-812C-6D607D71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759D-1D0E-4B35-9BA4-B1EBD8DFE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4B0-58D1-4080-BA07-4E57BD37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6628-6D76-4439-AA1A-3019A86F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B2606-19A9-4993-BEE0-6A8D5FB6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23495-8CBC-4E89-83DA-161E1A1D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0CB2-8064-4F2D-A3D3-9976C893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EFBF-F317-43A6-A218-770E956B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E5E1-BF66-417C-A3E6-23555C83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CF09-00E5-4787-9282-7046A162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E98-B6E8-4E99-956F-9109AD03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9D2F2-A490-491C-B3D3-4FEEC1C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007C-F008-445C-B219-86C3D1EA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E64-592E-4E82-888F-B56AB096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316A-3BB1-4560-9804-98798036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3564-625F-4CCE-848C-C5057DD1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1966-294E-40C5-8301-AA354732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81BC8-FA25-4F01-A80E-7280157E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2EF5-06D4-4DCA-9C68-9FEF1326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D26D-4A25-42E2-B17B-020F3557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899EA-2A96-4998-B11E-11A02C4D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1C1-49C3-4D96-9255-3A285123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A8EA1-8A9E-45E3-AB87-AA50A67B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2EF7F-F34E-4FAE-9A4A-6A2D9675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E7F5-AF59-4F08-B828-E6A14C69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2D29C-18A8-4473-8B5E-C1A8D149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3806E-0830-4CEB-9733-2A521375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D37B8-AF04-4BC3-86AB-B94B781D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B6938-FADD-4119-ADFA-87E4625E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44D89-876F-4EB5-BBC1-837C6CAA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1C4EB-06F7-4DEC-874A-B2EC9089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26A9-3A0A-4F5F-84BA-807EA332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47B-2530-4FBF-855A-DF7A518A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3E724-A3C3-4AF9-BD77-79B1BE9E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CBCF-4703-4C10-9D64-31A1ECE4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9E16F-47FD-40A5-A932-84DFA9D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A8016-B315-467E-9AB3-EC8412E1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6669-2953-4C50-A930-824A822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F1A5E-9DD8-4CA3-910B-10657F30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D98EC-C346-4AA1-BFBA-5817897F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8DE5-5788-44AE-B5B5-1FAA4973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2D126-85D5-4EB7-90B0-4283DA77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2D67B-BFC5-4DF9-8BB1-CB4BFE5B8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539-99BA-4337-9E25-52D85FB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52200-E51F-4EC8-8B82-F262F329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5ADD3-C285-4B55-9DDC-325B9801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62DE-A492-4918-AF0D-40C4BBEE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8CC3-5E97-455E-830D-F1956C91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E3E56-1B01-4AA3-8BAE-665FF507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A7291-DCB3-4F88-96F1-A699EAAD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6E415-A284-43B8-A2D7-18A1CCDC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21836-0D76-4E87-AFAD-9685C3C9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34F50-4DE8-4500-AE43-A6550324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73856-CD2D-44F1-852B-CF278BB3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5DA-0051-4997-9EAC-D030F462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9ACAE-61B9-410B-9C69-34C9ABA3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CEE-183D-4789-B1D2-73430DCE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2CC0-7631-4D41-BF4C-51F8B0EB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F86-651E-4134-AD2C-EEA5679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86C4-09CB-4F24-B099-2871BDA66D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753D-1EF5-436A-95D0-676A1795A8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-212760" y="666720"/>
            <a:ext cx="8672040" cy="6191280"/>
            <a:chOff x="-212760" y="666720"/>
            <a:chExt cx="8672040" cy="6191280"/>
          </a:xfrm>
        </p:grpSpPr>
        <p:sp>
          <p:nvSpPr>
            <p:cNvPr id="82" name=""/>
            <p:cNvSpPr/>
            <p:nvPr/>
          </p:nvSpPr>
          <p:spPr>
            <a:xfrm>
              <a:off x="699840" y="666720"/>
              <a:ext cx="77594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243360" y="3733920"/>
              <a:ext cx="124668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-212760" y="4916520"/>
              <a:ext cx="37756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F983-B968-425F-82D0-B6E711577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2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PlaceHolder 1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1123-87FD-4C8F-A86E-8C9B37915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4F8C-9905-4943-9D91-DF4270405D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-33480" y="-1440"/>
            <a:ext cx="9145800" cy="6860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47640" y="1628640"/>
            <a:ext cx="63374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</a:rPr>
              <a:t>爱   莲   说</a:t>
            </a:r>
            <a:br>
              <a:rPr sz="7200"/>
            </a:b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周敦颐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4653000"/>
            <a:ext cx="539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长岭县第六中学  宋丽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258920" y="907920"/>
            <a:ext cx="6719400" cy="4825800"/>
            <a:chOff x="1258920" y="907920"/>
            <a:chExt cx="6719400" cy="4825800"/>
          </a:xfrm>
        </p:grpSpPr>
        <p:sp>
          <p:nvSpPr>
            <p:cNvPr id="233" name=""/>
            <p:cNvSpPr/>
            <p:nvPr/>
          </p:nvSpPr>
          <p:spPr>
            <a:xfrm>
              <a:off x="3358800" y="907920"/>
              <a:ext cx="4619520" cy="48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作者简介</a:t>
              </a:r>
              <a:r>
                <a:rPr b="1" lang="zh-CN" sz="28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66"/>
                  </a:solidFill>
                  <a:latin typeface="Arial"/>
                </a:rPr>
                <a:t>      </a:t>
              </a:r>
              <a:r>
                <a:rPr b="1" lang="zh-CN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zh-CN" sz="3200" spc="-1" strike="noStrike">
                  <a:solidFill>
                    <a:srgbClr val="990000"/>
                  </a:solidFill>
                  <a:latin typeface="Arial"/>
                  <a:ea typeface="华文新魏"/>
                </a:rPr>
                <a:t>周敦颐</a:t>
              </a:r>
              <a:r>
                <a:rPr b="1" lang="zh-CN" sz="3200" spc="-1" strike="noStrike">
                  <a:solidFill>
                    <a:srgbClr val="006600"/>
                  </a:solidFill>
                  <a:latin typeface="Arial"/>
                </a:rPr>
                <a:t>：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宋代道洲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(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现在湖南省道县</a:t>
              </a:r>
              <a:r>
                <a:rPr b="0" lang="en-US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)</a:t>
              </a:r>
              <a:r>
                <a:rPr b="0" lang="zh-CN" sz="28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人，字茂叔，哲学家，因他世居道县濂溪，后居庐山莲花峰前，峰下有溪，也命名为濂溪，学者就称他为濂溪先生</a:t>
              </a:r>
              <a:r>
                <a:rPr b="0" lang="zh-CN" sz="3200" spc="-1" strike="noStrike">
                  <a:solidFill>
                    <a:srgbClr val="006600"/>
                  </a:solidFill>
                  <a:latin typeface="华文新魏"/>
                  <a:ea typeface="华文新魏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1258920" y="1056600"/>
              <a:ext cx="2568240" cy="4456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heel spokes="1"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⒈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有感情的朗读、背诵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，并把握词、语句，疏通文意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⒉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学习本文托物言志和衬托的手法。 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体会语言特色及多种表达方式的综合运用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、学习莲花高洁的品质，培养“出淤泥而不染”的良好的道德品质。 领悟文中君子的高洁品质，并把其化为自己对崇高道德的追求。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文学常识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文体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说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一种文学体裁，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说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是议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文的一种文体，可以直接说明事物或论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述道理，也可以借人借事或借物和记载来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论述道理。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就是说说爱好莲花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的问题。本文是一篇借物咏志讽世的散文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vert"/>
    <p:sndAc>
      <p:stSnd>
        <p:snd r:embed="rId2" name="camera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6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4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419560" y="1523880"/>
            <a:ext cx="4304520" cy="43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陆草木之花，可爱者甚蕃。晋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独爱菊。自李唐来，世人甚爱牡丹。予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莲之出淤泥而不染，濯清涟而不妖，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通外直，不蔓不枝，香远益清，亭亭净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可远观而不可亵玩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予谓菊，花之隐逸者也；牡丹，花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富贵者也；莲，花之君子者也。噫！菊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爱，陶后鲜有闻。莲之爱，同予者何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牡丹之爱，宜乎众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7621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06440" y="7063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新魏"/>
              </a:rPr>
              <a:t>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5445000"/>
            <a:ext cx="647640" cy="5763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4270" h="21600">
                <a:moveTo>
                  <a:pt x="0" y="0"/>
                </a:moveTo>
                <a:lnTo>
                  <a:pt x="24270" y="0"/>
                </a:lnTo>
                <a:lnTo>
                  <a:pt x="24270" y="21600"/>
                </a:lnTo>
                <a:lnTo>
                  <a:pt x="0" y="21600"/>
                </a:lnTo>
                <a:close/>
              </a:path>
              <a:path fill="lightenLess" w="24270" h="21600">
                <a:moveTo>
                  <a:pt x="0" y="0"/>
                </a:moveTo>
                <a:lnTo>
                  <a:pt x="24270" y="0"/>
                </a:lnTo>
                <a:lnTo>
                  <a:pt x="22870" y="1400"/>
                </a:lnTo>
                <a:lnTo>
                  <a:pt x="1400" y="1400"/>
                </a:lnTo>
                <a:close/>
              </a:path>
              <a:path fill="darken" w="24270" h="21600">
                <a:moveTo>
                  <a:pt x="24270" y="0"/>
                </a:moveTo>
                <a:lnTo>
                  <a:pt x="24270" y="21600"/>
                </a:lnTo>
                <a:lnTo>
                  <a:pt x="22870" y="20200"/>
                </a:lnTo>
                <a:lnTo>
                  <a:pt x="22870" y="1400"/>
                </a:lnTo>
                <a:close/>
              </a:path>
              <a:path fill="darkenLess" w="24270" h="21600">
                <a:moveTo>
                  <a:pt x="24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70" y="20200"/>
                </a:lnTo>
                <a:close/>
              </a:path>
              <a:path fill="lighten" w="24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70" h="21600">
                <a:moveTo>
                  <a:pt x="5128" y="8406"/>
                </a:moveTo>
                <a:lnTo>
                  <a:pt x="9559" y="8406"/>
                </a:lnTo>
                <a:lnTo>
                  <a:pt x="13980" y="3794"/>
                </a:lnTo>
                <a:lnTo>
                  <a:pt x="13980" y="17806"/>
                </a:lnTo>
                <a:lnTo>
                  <a:pt x="9559" y="13194"/>
                </a:lnTo>
                <a:lnTo>
                  <a:pt x="5128" y="13194"/>
                </a:lnTo>
                <a:close/>
              </a:path>
              <a:path fill="darken" w="24270" h="21600">
                <a:moveTo>
                  <a:pt x="15634" y="10800"/>
                </a:moveTo>
                <a:lnTo>
                  <a:pt x="19141" y="10800"/>
                </a:lnTo>
              </a:path>
              <a:path fill="darken" w="24270" h="21600">
                <a:moveTo>
                  <a:pt x="15634" y="8406"/>
                </a:moveTo>
                <a:lnTo>
                  <a:pt x="19141" y="5639"/>
                </a:lnTo>
              </a:path>
              <a:path fill="darken" w="24270" h="21600">
                <a:moveTo>
                  <a:pt x="15634" y="13194"/>
                </a:moveTo>
                <a:lnTo>
                  <a:pt x="19141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10666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分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990720"/>
            <a:ext cx="48006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爱莲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20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周敦</a:t>
            </a:r>
            <a:r>
              <a:rPr b="1" lang="zh-CN" sz="2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水陆草木之花，可爱者甚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蕃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晋陶渊明独爱菊；自李唐来，世人甚爱牡丹；予独爱莲之出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淤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泥而不染，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濯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清涟而不妖，中通外直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不蔓不枝，香远益清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亭亭净植，可远观而不可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亵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玩焉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予谓菊，花之隐逸者也；牡丹，花之富贵者也；莲，花之君子者也。噫！菊之爱，陶后</a:t>
            </a:r>
            <a:r>
              <a:rPr b="1" lang="zh-CN" sz="2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鲜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闻；莲之爱，同予者何人</a:t>
            </a:r>
            <a:r>
              <a:rPr b="1" lang="en-US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?</a:t>
            </a:r>
            <a:r>
              <a:rPr b="1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牡丹之爱，宜乎众矣</a:t>
            </a:r>
            <a:r>
              <a:rPr b="0" lang="zh-CN" sz="2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99072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án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29718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洗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1339920"/>
            <a:ext cx="65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颐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84720" y="1295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1843200"/>
            <a:ext cx="120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29242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971800"/>
            <a:ext cx="9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uó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508720" y="3643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940360" y="371808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77080" y="36576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近而不庄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486720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87692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ǎ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53080" y="4876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39240" y="2419200"/>
            <a:ext cx="6678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23623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08720" y="90792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一 、生词学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 rot="20896800">
            <a:off x="250560" y="5719320"/>
            <a:ext cx="504720" cy="11383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755640" y="6165720"/>
            <a:ext cx="503280" cy="471600"/>
          </a:xfrm>
          <a:prstGeom prst="rect">
            <a:avLst/>
          </a:prstGeom>
          <a:ln w="0">
            <a:noFill/>
          </a:ln>
        </p:spPr>
      </p:pic>
    </p:spTree>
  </p:cSld>
  <p:transition>
    <p:wheel spokes="1"/>
    <p:sndAc>
      <p:stSnd>
        <p:snd r:embed="rId3" name="camera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0" y="-77760"/>
            <a:ext cx="9182160" cy="92678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 Black"/>
              </a:rPr>
              <a:t>讨论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50920" y="765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带着下列问题品读课文：（全班朗读）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爱莲，莲花的可爱之处表现在哪里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作者如此深情地为莲花高唱赞歌，文章是不是仅仅写莲花呢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本文主体是写莲，为什么要写菊和牡丹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为什么作者在第一段连用两个“独”字？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课文前面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”的顺序写，为什么文末却按“菊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莲</a:t>
            </a:r>
            <a:r>
              <a:rPr b="0" lang="en-US" sz="2400" spc="-1" strike="noStrike">
                <a:solidFill>
                  <a:srgbClr val="ff3300"/>
                </a:solidFill>
                <a:latin typeface="Arial Rounded MT Bold"/>
              </a:rPr>
              <a:t>——</a:t>
            </a:r>
            <a:r>
              <a:rPr b="0" lang="zh-CN" sz="2400" spc="-1" strike="noStrike">
                <a:solidFill>
                  <a:srgbClr val="ff3300"/>
                </a:solidFill>
                <a:latin typeface="Arial Rounded MT Bold"/>
              </a:rPr>
              <a:t>牡丹”的顺序呢？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请同学们找出直接描写莲花的句子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予独爱莲之出淤泥而不染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濯清涟而不妖，中通外直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不蔓不枝，香远益清亭亭净植，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可远观而不可亵玩焉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blinds dir="horz"/>
    <p:sndAc>
      <p:stSnd>
        <p:snd r:embed="rId2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17880" y="2209680"/>
            <a:ext cx="152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隶书"/>
                <a:ea typeface="隶书"/>
              </a:rPr>
              <a:t>莲花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762120"/>
            <a:ext cx="76320" cy="4419360"/>
          </a:xfrm>
          <a:custGeom>
            <a:avLst/>
            <a:gdLst>
              <a:gd name="textAreaLeft" fmla="*/ 48960 w 76320"/>
              <a:gd name="textAreaRight" fmla="*/ 76320 w 76320"/>
              <a:gd name="textAreaTop" fmla="*/ 115200 h 4419360"/>
              <a:gd name="textAreaBottom" fmla="*/ 4304160 h 44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28800" y="457200"/>
            <a:ext cx="26226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生长环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不染不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981080" y="1523880"/>
            <a:ext cx="266724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体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中通外直                            不蔓不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7400" y="3048120"/>
            <a:ext cx="3048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香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（香远益清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09680" y="4038480"/>
            <a:ext cx="27432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气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亭亭   可远观不可亵玩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838080"/>
            <a:ext cx="75960" cy="4114800"/>
          </a:xfrm>
          <a:custGeom>
            <a:avLst/>
            <a:gdLst>
              <a:gd name="textAreaLeft" fmla="*/ 0 w 75960"/>
              <a:gd name="textAreaRight" fmla="*/ 27360 w 7596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5"/>
                </a:lnTo>
                <a:cubicBezTo>
                  <a:pt x="10800" y="9975"/>
                  <a:pt x="16200" y="10875"/>
                  <a:pt x="21600" y="10875"/>
                </a:cubicBezTo>
                <a:cubicBezTo>
                  <a:pt x="16200" y="10875"/>
                  <a:pt x="10800" y="11775"/>
                  <a:pt x="10800" y="126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310000" y="2209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君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2" action="ppaction://hlinksldjump"/>
          </p:cNvPr>
          <p:cNvSpPr/>
          <p:nvPr/>
        </p:nvSpPr>
        <p:spPr>
          <a:xfrm>
            <a:off x="819360" y="5943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托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4674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言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990720" y="4953240"/>
            <a:ext cx="7009560" cy="990360"/>
            <a:chOff x="990720" y="4953240"/>
            <a:chExt cx="7009560" cy="990360"/>
          </a:xfrm>
        </p:grpSpPr>
        <p:sp>
          <p:nvSpPr>
            <p:cNvPr id="280" name=""/>
            <p:cNvSpPr/>
            <p:nvPr/>
          </p:nvSpPr>
          <p:spPr>
            <a:xfrm flipV="1">
              <a:off x="990720" y="5133240"/>
              <a:ext cx="0" cy="81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0720" y="5943600"/>
              <a:ext cx="7009560" cy="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8000280" y="4953240"/>
              <a:ext cx="0" cy="990360"/>
            </a:xfrm>
            <a:prstGeom prst="line">
              <a:avLst/>
            </a:prstGeom>
            <a:ln w="63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553080" y="914400"/>
            <a:ext cx="76320" cy="4191120"/>
          </a:xfrm>
          <a:custGeom>
            <a:avLst/>
            <a:gdLst>
              <a:gd name="textAreaLeft" fmla="*/ 48960 w 76320"/>
              <a:gd name="textAreaRight" fmla="*/ 76320 w 7632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01280" y="68580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既不同流合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又不孤芳自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91000" y="167652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正直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行为端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191000" y="266688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声名远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  <a:ea typeface="隶书"/>
              </a:rPr>
              <a:t>流芳百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15040" y="3581280"/>
            <a:ext cx="1155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志洁行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仪态端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令人敬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ff"/>
                </a:solidFill>
                <a:latin typeface="Times New Roman"/>
                <a:ea typeface="隶书"/>
              </a:rPr>
              <a:t>不可玷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35040" y="64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作者分别从哪方面描写莲花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64728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484360" y="90792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品读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0" y="2833560"/>
            <a:ext cx="567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你读了作者描写莲花的这些 句子之后，你觉得作者赞美的仅仅是莲花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不是。是为了歌颂具有莲花那样高尚品质的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本文以</a:t>
            </a:r>
            <a:r>
              <a:rPr b="0" lang="zh-CN" sz="3200" spc="-1" strike="noStrike">
                <a:solidFill>
                  <a:srgbClr val="ff3300"/>
                </a:solidFill>
                <a:latin typeface="Arial Rounded MT Bold"/>
              </a:rPr>
              <a:t>“爱”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为脉络，写出了对莲花的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喜爱，为何还要写菊花和牡丹？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衬托手法。从而更好地达到托物言志（象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征）的目的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u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7020000" y="1773360"/>
            <a:ext cx="1027080" cy="16556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191280" y="981000"/>
            <a:ext cx="2952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自李唐来，世人甚爱牡丹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牡丹，花之富贵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804000" y="4005360"/>
            <a:ext cx="15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贪慕富贵追逐名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3"/>
          <a:stretch/>
        </p:blipFill>
        <p:spPr>
          <a:xfrm>
            <a:off x="1403280" y="1846440"/>
            <a:ext cx="104616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1337760" y="990720"/>
            <a:ext cx="1217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晋陶渊明独爱菊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菊，花之隐逸者也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2000" y="3943440"/>
            <a:ext cx="151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品格高洁超凡脱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4284720" y="1846440"/>
            <a:ext cx="1041480" cy="1584000"/>
          </a:xfrm>
          <a:prstGeom prst="rect">
            <a:avLst/>
          </a:prstGeom>
          <a:ln w="25560">
            <a:solidFill>
              <a:srgbClr val="f60202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3708360" y="981000"/>
            <a:ext cx="2448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予独爱莲之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…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333399"/>
                </a:solidFill>
                <a:latin typeface="Arial"/>
                <a:ea typeface="楷体_GB2312"/>
              </a:rPr>
              <a:t>莲，花之君子者也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67280" y="4005360"/>
            <a:ext cx="1655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993300"/>
                </a:solidFill>
                <a:latin typeface="Arial"/>
                <a:ea typeface="楷体_GB2312"/>
              </a:rPr>
              <a:t>质朴正直志洁行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27280" y="2637000"/>
            <a:ext cx="1368360" cy="762120"/>
            <a:chOff x="2627280" y="2637000"/>
            <a:chExt cx="1368360" cy="762120"/>
          </a:xfrm>
        </p:grpSpPr>
        <p:sp>
          <p:nvSpPr>
            <p:cNvPr id="306" name=""/>
            <p:cNvSpPr/>
            <p:nvPr/>
          </p:nvSpPr>
          <p:spPr>
            <a:xfrm>
              <a:off x="2627280" y="2637000"/>
              <a:ext cx="13683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71640" y="2924280"/>
              <a:ext cx="1008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正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79640" y="2637000"/>
            <a:ext cx="1297080" cy="762120"/>
            <a:chOff x="5579640" y="2637000"/>
            <a:chExt cx="1297080" cy="762120"/>
          </a:xfrm>
        </p:grpSpPr>
        <p:sp>
          <p:nvSpPr>
            <p:cNvPr id="309" name=""/>
            <p:cNvSpPr/>
            <p:nvPr/>
          </p:nvSpPr>
          <p:spPr>
            <a:xfrm flipH="1">
              <a:off x="5579640" y="2637000"/>
              <a:ext cx="12970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867280" y="2924280"/>
              <a:ext cx="934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500" spc="-1" strike="noStrike">
                  <a:solidFill>
                    <a:srgbClr val="cc0000"/>
                  </a:solidFill>
                  <a:latin typeface="Arial"/>
                  <a:ea typeface="华文新魏"/>
                </a:rPr>
                <a:t>反衬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611280" y="5805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5"/>
          <a:stretch/>
        </p:blipFill>
        <p:spPr>
          <a:xfrm rot="20949000">
            <a:off x="684000" y="5444640"/>
            <a:ext cx="588960" cy="648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6"/>
          <a:stretch/>
        </p:blipFill>
        <p:spPr>
          <a:xfrm rot="20706000">
            <a:off x="323640" y="5660640"/>
            <a:ext cx="458640" cy="5047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7" name="camera.wav"/>
      </p:stSnd>
    </p:sndAc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20600" y="54756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华文行楷"/>
              </a:rPr>
              <a:t>陶渊明为什么独爱菊花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965240"/>
            <a:ext cx="809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因为菊花不畏严寒，傲霜斗雪，品格高洁。菊花又是花中的隐士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不愿与世俗同流合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超凡脱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，这符合陶渊明的处世态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36840" y="4937040"/>
            <a:ext cx="418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　　写菊是为了</a:t>
            </a:r>
            <a:r>
              <a:rPr b="0" lang="zh-CN" sz="4000" spc="-1" strike="noStrike">
                <a:solidFill>
                  <a:srgbClr val="ff0303"/>
                </a:solidFill>
                <a:latin typeface="Arial"/>
                <a:ea typeface="华文行楷"/>
              </a:rPr>
              <a:t>正面衬托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莲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1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9640" y="549360"/>
            <a:ext cx="801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菊之爱，陶后鲜有闻，莲之爱，同予者何人，牡丹之爱，宜乎众矣”表明了作者怎样的人生态度？                他既不愿像陶渊明那样消极避世，也不愿像世人那样追逐功名富贵，他要在污浊的世间独立不移，永远保持清白操守和正直品德。作者写牡丹实际上是从反面衬托莲的君子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2" name="camera.wav"/>
      </p:stSnd>
    </p:sndAc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怎么理解“莲之爱，予者何人”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你你读完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爱莲说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之后是否同意作者的观点？他的观点目前有什么现实意义？（谈“人与环境”的关系。也可与现实社会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公民职业道德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联系等等，言之有理即可。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写作手法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托物言志（象征手法）作者借物（莲花）来表达自已的志向。我们可以仿照作者用莲花来寄托自己的感情的方法，用“我特喜欢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……”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句式说一段话，所借之物不拘泥于花草树木。但要注意两点：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注意内部联系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、要有新意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wheel spokes="8"/>
    <p:sndAc>
      <p:stSnd>
        <p:snd r:embed="rId2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结束语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Rounded MT Bold"/>
              </a:rPr>
              <a:t>通过一节课的学习，相信同学们对本文有了较深的理解，也相信同学们对自己将来成为什么样的人有了新的认识，希望所有的同学都能成为一个品德高尚的人，一个对社会有用的人！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 Black"/>
              </a:rPr>
              <a:t>实践语言，习得感受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 Rounded MT Bold"/>
              </a:rPr>
              <a:t>在改革开放的今天，社会上出现了一些不正之风，今天作为中学生的你该怎么对待这些问题呢？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-33480" y="-3240"/>
            <a:ext cx="9141120" cy="68612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755640" y="31417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Arial"/>
                <a:ea typeface="楷体_GB2312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" y="1052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通过本课的学习，希望同学们能够树立正确的人生观、价值观，都能成为品德高尚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33480" y="-936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7956720" y="5877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8406"/>
                </a:moveTo>
                <a:lnTo>
                  <a:pt x="9748" y="8406"/>
                </a:lnTo>
                <a:lnTo>
                  <a:pt x="14169" y="3794"/>
                </a:lnTo>
                <a:lnTo>
                  <a:pt x="14169" y="17806"/>
                </a:lnTo>
                <a:lnTo>
                  <a:pt x="9748" y="13194"/>
                </a:lnTo>
                <a:lnTo>
                  <a:pt x="5318" y="13194"/>
                </a:lnTo>
                <a:close/>
              </a:path>
              <a:path fill="darken" w="24648" h="21600">
                <a:moveTo>
                  <a:pt x="15823" y="10800"/>
                </a:moveTo>
                <a:lnTo>
                  <a:pt x="19331" y="10800"/>
                </a:lnTo>
              </a:path>
              <a:path fill="darken" w="24648" h="21600">
                <a:moveTo>
                  <a:pt x="15823" y="8406"/>
                </a:moveTo>
                <a:lnTo>
                  <a:pt x="19331" y="5639"/>
                </a:lnTo>
              </a:path>
              <a:path fill="darken" w="24648" h="21600">
                <a:moveTo>
                  <a:pt x="15823" y="13194"/>
                </a:moveTo>
                <a:lnTo>
                  <a:pt x="1933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33480" y="-2376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4320" cy="6956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3480" y="-15840"/>
            <a:ext cx="9277560" cy="6973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161640" cy="688500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09160" cy="69087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-33480" y="0"/>
            <a:ext cx="927288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06:50Z</dcterms:created>
  <dc:creator>lo</dc:creator>
  <dc:description/>
  <cp:keywords/>
  <dc:language>en-US</dc:language>
  <cp:lastModifiedBy>姚春风</cp:lastModifiedBy>
  <cp:lastPrinted>1899-12-30T00:00:00Z</cp:lastPrinted>
  <dcterms:modified xsi:type="dcterms:W3CDTF">2009-07-13T11:48:09Z</dcterms:modified>
  <cp:revision>32</cp:revision>
  <dc:subject/>
  <dc:title>爱莲说 </dc:title>
</cp:coreProperties>
</file>