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chimes.wav" ContentType="audio/x-wav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22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CBEE-9834-4A22-834C-B92295175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44C7-1340-48C5-A043-08B44900E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F7EF-1EA3-4E7C-9167-57A57BCC9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917C-3486-47E1-8F3C-F75E2B971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782FE-50FF-489E-AF9A-B6C165259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E3AB4-C2FE-4799-9082-7B5E73AAC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E4862-CC15-4698-8032-D8F876FF5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3E4A2-BFCD-4242-822D-F9ADF52CE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9DE7C-1124-4625-99D5-0340F1BAF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FB21B-9686-4EEC-8A29-A80B51389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3670A-78AD-4076-A6F8-ED6C5F47A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4B09-E7B9-47F6-A0A2-366A14B22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E5CC9-6E52-42E5-A97C-66C64F24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19C58-1B8F-498D-8795-1836832B1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EE55A-8B05-42AE-B75E-2F9528310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063F0-FC9E-48B5-B351-671BF83E2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858A9-2971-44DC-8557-53AB53C90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517C-72EC-4DF9-A7D5-8CAF69995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66C5-5BDA-45F4-BFB9-DC27F599F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61B0-F86D-4A9C-B6C0-E7A35AFA3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F07B-A9D4-4FD0-9C3F-7F67D2585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02C5-05C4-4339-89FA-59E5BC315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C830-7670-4A1E-A086-F1A36CF38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89C7-39EB-4DFB-A8CB-57910EEAC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00EE8-4B4F-4B66-AC22-69B11F7DCFD3}" type="datetime">
              <a:rPr b="0" lang="zh-CN" sz="1400" spc="-1" strike="noStrike">
                <a:solidFill>
                  <a:srgbClr val="ffffff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D9531-FC5C-4948-89BA-04C4B0466829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B4C47-5711-4BC6-84DE-BD8293DE697D}" type="datetime">
              <a:rPr b="0" lang="zh-CN" sz="1400" spc="-1" strike="noStrike">
                <a:solidFill>
                  <a:srgbClr val="ffffff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32AEC-2C61-407B-96D2-8FBA3BB856D9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F5B32-290D-47F8-BD22-C7616C2C2065}" type="slidenum">
              <a:rPr b="0" lang="zh-CN" sz="5400" spc="-1" strike="noStrike">
                <a:solidFill>
                  <a:srgbClr val="ffffcc"/>
                </a:solidFill>
                <a:latin typeface="宋体"/>
                <a:ea typeface="宋体"/>
              </a:rPr>
              <a:t>&lt;number&gt;</a:t>
            </a:fld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-15264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隶书"/>
                <a:ea typeface="隶书"/>
              </a:rPr>
              <a:t>    </a:t>
            </a:r>
            <a:r>
              <a:rPr b="0" lang="zh-CN" sz="8000" spc="-1" strike="noStrike">
                <a:solidFill>
                  <a:srgbClr val="ffffff"/>
                </a:solidFill>
                <a:latin typeface="隶书"/>
                <a:ea typeface="隶书"/>
              </a:rPr>
              <a:t>古希腊的石头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1006560"/>
            <a:ext cx="8778960" cy="58514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35280" y="537372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肥城六中                  范玉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203640" y="4437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F8CEA-7AE4-4351-A949-0652D64A06AD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31ABC745-73BB-4CB9-B7EE-AB236CBA9119}" type="datetime1">
              <a:rPr lang="en-US"/>
              <a:t>07/30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236036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71280" y="620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Arial Narrow"/>
                <a:ea typeface="宋体"/>
              </a:rPr>
              <a:t>整体介绍</a:t>
            </a:r>
            <a:endParaRPr b="0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71280" y="184464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本文是文化散文，它以“古希腊的石头”为文化载体，进行理性思考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现在让我们阅读全文，看作者写了古希腊哪些石头？作者又以此思考了什么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跳读文本，梳理作者行文思路，提炼作者的感受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2D9C-34A5-4FDE-8FDB-1E83F50D1A0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C06A70-47EB-44F6-B7E1-B131AFE1C834}" type="datetime1">
              <a:rPr lang="en-US"/>
              <a:t>07/30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76360" y="609120"/>
            <a:ext cx="7439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宋体"/>
                <a:ea typeface="宋体"/>
              </a:rPr>
              <a:t>整体感知，梳理文本（跳读提炼）</a:t>
            </a:r>
            <a:endParaRPr b="0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741672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4" marL="2057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、文体特征：文化散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2000" y="2060640"/>
            <a:ext cx="19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47640" y="2565360"/>
            <a:ext cx="29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、行文思路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08360" y="242100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希腊国家考古博物馆（雕像、残臂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72360" y="2637000"/>
            <a:ext cx="165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164360" y="2421000"/>
            <a:ext cx="14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帕果斯山顶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石碑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87280" y="4581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68360" y="4365720"/>
            <a:ext cx="158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迈锡尼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城堡废墟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780000" y="458136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03640" y="4581360"/>
            <a:ext cx="259272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苏纽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海神庙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C4B6-9432-474F-B3DD-4E4C7EFEC92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CC4AA2-20EF-4176-8E1A-EBDBF6C59872}" type="datetime1">
              <a:rPr lang="en-US"/>
              <a:t>07/30/26</a:t>
            </a:fld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9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539640" y="765000"/>
            <a:ext cx="44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、作者感受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42920" y="1916280"/>
            <a:ext cx="30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喜欢（石头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51280" y="19162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_______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932360" y="1916280"/>
            <a:ext cx="30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奇异和美妙的感受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71640" y="328464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____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35280" y="350028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震撼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76720" y="342900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________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788000" y="3429000"/>
            <a:ext cx="2448000" cy="15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钦佩（希腊人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0D9D-62BC-4AEF-85EB-E8CFFFBC2F13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4ACBBF-97A4-4E9E-ADCE-3AC4B078F994}" type="datetime1">
              <a:rPr lang="en-US"/>
              <a:t>07/30/26</a:t>
            </a:fld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3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18920" y="54900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Arial Narrow"/>
                <a:ea typeface="宋体"/>
              </a:rPr>
              <a:t>品读感悟</a:t>
            </a:r>
            <a:endParaRPr b="0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618920" y="184464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作者为什么希腊博物馆的石头呢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发现帕果斯山顶的石碑，为什么有“奇异和美妙的感受”呢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登临苏纽海神庙，为什么“由衷地钦佩希腊人”呢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让我们再次回到文本，品读感悟，研读探究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99AF-9958-402E-9329-9F3DB2A77F0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751C21-5AC2-4027-8652-1F7D7C419EE0}" type="datetime1">
              <a:rPr lang="en-US"/>
              <a:t>07/30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cc"/>
                </a:solidFill>
                <a:latin typeface="宋体"/>
                <a:ea typeface="宋体"/>
              </a:rPr>
              <a:t>理解品味（品读感悟）</a:t>
            </a: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7" name=""/>
          <p:cNvSpPr/>
          <p:nvPr/>
        </p:nvSpPr>
        <p:spPr>
          <a:xfrm>
            <a:off x="900000" y="1989000"/>
            <a:ext cx="5977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组：以第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段为例，分析作者如何表达对古希腊石头的喜欢的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26920" y="3645000"/>
            <a:ext cx="70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本段运用拟人、比喻的手法，活画出雕像和壁画人物明亮的眼睛，表达自己对雕像和壁画人物的喜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4BDD-2396-4877-BF8B-543303FE2E41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78A23D-648F-4121-B1DD-C4C8458D5D64}" type="datetime1">
              <a:rPr lang="en-US"/>
              <a:t>07/30/26</a:t>
            </a:fld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0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000" y="1125360"/>
            <a:ext cx="830412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宋体"/>
                <a:ea typeface="宋体"/>
              </a:rPr>
              <a:t>B</a:t>
            </a:r>
            <a:r>
              <a:rPr b="0" lang="zh-CN" sz="4000" spc="-1" strike="noStrike">
                <a:solidFill>
                  <a:srgbClr val="ffffcc"/>
                </a:solidFill>
                <a:latin typeface="宋体"/>
                <a:ea typeface="宋体"/>
              </a:rPr>
              <a:t>组：作者为什么喜欢“古希腊的</a:t>
            </a:r>
            <a:br>
              <a:rPr sz="4000"/>
            </a:br>
            <a:r>
              <a:rPr b="0" lang="zh-CN" sz="4000" spc="-1" strike="noStrike">
                <a:solidFill>
                  <a:srgbClr val="ffffcc"/>
                </a:solidFill>
                <a:latin typeface="宋体"/>
                <a:ea typeface="宋体"/>
              </a:rPr>
              <a:t>石头”？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23640" y="299736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喜欢这些刻着历史与艺术的石头，发现了古物的历史美和文化美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797E-EFF6-43BC-971E-FEC47088131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33CF27-5F17-43E2-8C68-EDA02DF0D389}" type="datetime1">
              <a:rPr lang="en-US"/>
              <a:t>07/30/26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900000" y="333360"/>
            <a:ext cx="58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197000"/>
            <a:ext cx="78487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组：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年高考浙江卷作文材料有这样一段话：苍茫的丛林间，玛雅文化湮没了；丝绸之路上，高昌古国消逝了。人类在消逝中进步。行走在消逝中，既有“流水落花春去也”的怅惘，也有“谁道人生无再少”的旷达……本文作者行走在希腊国家考古博物馆的雕像间有什么感受？作者又是如何“行走”在古希腊“已经满是裂痕和缺口”的石头间的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48000" y="5373720"/>
            <a:ext cx="4824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95280" y="472428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对“行走”的理解——不是仅有喜悦，不是仅陶醉在艺术的 享受中，而是引发理性的思考，得到启示，并付诸行动，做一些对文化保护有意义的工作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BD05-81E5-44C9-959A-6C07AB0601ED}" type="slidenum">
              <a:t>1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8DFE19-C4FD-4D0B-8443-5C43238E9779}" type="datetime1">
              <a:rPr lang="en-US"/>
              <a:t>07/30/26</a:t>
            </a:fld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9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4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40720" cy="112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Arial Narrow"/>
                <a:ea typeface="宋体"/>
              </a:rPr>
              <a:t>C</a:t>
            </a:r>
            <a:r>
              <a:rPr b="0" lang="zh-CN" sz="5400" spc="-1" strike="noStrike">
                <a:solidFill>
                  <a:srgbClr val="ffffcc"/>
                </a:solidFill>
                <a:latin typeface="Arial Narrow"/>
                <a:ea typeface="宋体"/>
              </a:rPr>
              <a:t>组参考：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240" y="1197000"/>
            <a:ext cx="8915400" cy="63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引发反思，再灿烂的文明也经受不住时光的侵蚀，古老的文明在破损。 意识到文物保护的迫切性，联想到我国文物保护方面的欠缺，更有了历史责任感。 落实到行动上，冯老在文学创作最旺盛的阶段，停下创作，致力于文化发掘与文物保护工作，并发表文章，海外演讲，呼吁保护文化古迹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D9C7-E879-4991-AF4C-6337E22B2B5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E8459C-E125-47F9-BACE-4756F780C206}" type="datetime1">
              <a:rPr lang="en-US"/>
              <a:t>07/30/26</a:t>
            </a:fld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0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cc"/>
                </a:solidFill>
                <a:latin typeface="Arial Narrow"/>
                <a:ea typeface="宋体"/>
              </a:rPr>
              <a:t>赏析探究</a:t>
            </a:r>
            <a:endParaRPr b="0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268280"/>
            <a:ext cx="73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组：作者为什么由衷地钦佩希腊人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1916280"/>
            <a:ext cx="66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希腊人珍视历史，保持古迹原状原貌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2924280"/>
            <a:ext cx="72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希腊人决不让文化古迹受任何现代事物的干扰，历史空间受到绝对纯正的保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4000" y="450864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希腊人对历史有深刻的理解与崇拜，有科学的保护方法，有优雅的美感和高尚的文化品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D681-7FDB-4289-A5ED-2887240150C3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BA0F7D-B28D-47C8-85A9-DF6BA8FAB5D5}" type="datetime1">
              <a:rPr lang="en-US"/>
              <a:t>07/30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6399360" cy="71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Arial Narrow"/>
                <a:ea typeface="宋体"/>
              </a:rPr>
              <a:t>赏析探究</a:t>
            </a:r>
            <a:endParaRPr b="0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68000" y="980640"/>
            <a:ext cx="8064360" cy="58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组：曾引起各方争议的圆明园复建工程将陆续启动，也许用不了多久，一个崭新的仿古建筑——圆明园长春园宫门将出现在公众面前。结合本文作者的观点，谈谈你的看法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215BA-3085-417B-A3A8-D69FD6EC84D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538B3E83-A40E-4E6D-912B-F1C1D23D4F9D}" type="datetime1">
              <a:rPr lang="en-US"/>
              <a:t>07/30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900000" y="189000"/>
            <a:ext cx="4464000" cy="69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cc"/>
                </a:solidFill>
                <a:latin typeface="隶书"/>
                <a:ea typeface="隶书"/>
              </a:rPr>
              <a:t>   </a:t>
            </a:r>
            <a:r>
              <a:rPr b="0" lang="zh-CN" sz="4800" spc="-1" strike="noStrike">
                <a:solidFill>
                  <a:srgbClr val="ffffcc"/>
                </a:solidFill>
                <a:latin typeface="隶书"/>
                <a:ea typeface="隶书"/>
              </a:rPr>
              <a:t>古希腊雕像</a:t>
            </a: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-252360" y="1341360"/>
            <a:ext cx="10152000" cy="50133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79280" y="836640"/>
            <a:ext cx="66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表情丰富，眼睛明亮，引发人们神奇的遐想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9D27-2C50-4E31-990A-CD35875F489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B20A01-A18F-4156-AC7C-68A82C12801D}" type="datetime1">
              <a:rPr lang="en-US"/>
              <a:t>07/30/26</a:t>
            </a:fld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cc"/>
                </a:solidFill>
                <a:latin typeface="Arial Narrow"/>
                <a:ea typeface="隶书"/>
              </a:rPr>
              <a:t>探究参考：</a:t>
            </a:r>
            <a:endParaRPr b="0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、古物翻新，甚至更愚蠢的复原，破坏时间在每一件古物的体内全留下的美丽的生命的年轮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、修复圆明园，历史的魂灵就会一下子逃离而去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、圆明园遗址是帝国主义侵略中国的鲜活历史见证，供游人参观凭吊，教育后人勿忘国耻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、今人面对充满屈辱意味的圆明园时，应保持清醒。既然我们无法扑灭英法联军那场可耻的大火，那么，何不让历史继续给后人留下深刻反思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、复建圆明园，劳民伤财，异想天开，有狗尾续貂之嫌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1A35-B760-48C9-AB21-A8B8360C693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EB3A85-75A9-4175-B682-F967C4A9ADDD}" type="datetime1">
              <a:rPr lang="en-US"/>
              <a:t>07/30/26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cc"/>
                </a:solidFill>
                <a:latin typeface="Arial Narrow"/>
                <a:ea typeface="隶书"/>
              </a:rPr>
              <a:t>课堂总结：</a:t>
            </a:r>
            <a:endParaRPr b="0" lang="en-US" sz="7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、自主积累知识，加大知识储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、整体阅读文章，把握文体特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、提炼内容要点，理清行文思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、深入文本品味，领会作者情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、合作探究疑难，注重迁移实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37C6-AAC8-430B-A0BC-1BE616AE8B7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B900CE-5907-45DC-A628-A93F2ABE4B23}" type="datetime1">
              <a:rPr lang="en-US"/>
              <a:t>07/30/26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1476360" y="3141720"/>
            <a:ext cx="5418000" cy="1219320"/>
          </a:xfrm>
          <a:prstGeom prst="rect">
            <a:avLst/>
          </a:prstGeom>
        </p:spPr>
        <p:txBody>
          <a:bodyPr wrap="none" lIns="90000" rIns="90000" tIns="46800" bIns="46800" anchor="t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谢谢大家，再见。</a:t>
            </a:r>
            <a:endParaRPr b="0" lang="en-US" sz="9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8839080" y="4869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2D0B-14BE-4A46-A71C-5665BAC7D045}" type="slidenum">
              <a:t>2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33A6AD-3DAB-4E2F-88D0-9088C67CC868}" type="datetime1">
              <a:rPr lang="en-US"/>
              <a:t>07/30/26</a:t>
            </a:fld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2" dur="236036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6858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cc"/>
                </a:solidFill>
                <a:latin typeface="隶书"/>
                <a:ea typeface="隶书"/>
              </a:rPr>
              <a:t>雅典卫城</a:t>
            </a: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457560" y="15238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7543800" cy="37609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916360" y="69228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斑驳的城墙，年代久远，饱经历史沧桑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72C7-952F-4B98-A0D5-BD690CF134E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40B346-B4C3-4892-A37B-63ACAF35091C}" type="datetime1">
              <a:rPr lang="en-US"/>
              <a:t>07/30/26</a:t>
            </a:fld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隶书"/>
                <a:ea typeface="隶书"/>
              </a:rPr>
              <a:t>巴比伦遗址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908000" y="620640"/>
            <a:ext cx="69120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4" marL="205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灰黄的石柱，记载着文明古国非凡的过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8001000" cy="487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6224-E333-4831-8DA9-B05D09F876A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C9DF3C-5CCE-4F00-B4C3-80F41BDFAAD2}" type="datetime1">
              <a:rPr lang="en-US"/>
              <a:t>07/30/26</a:t>
            </a:fld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83808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cc"/>
                </a:solidFill>
                <a:latin typeface="宋体"/>
                <a:ea typeface="宋体"/>
              </a:rPr>
              <a:t>     </a:t>
            </a: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-457560" y="15238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33520" y="609480"/>
            <a:ext cx="861048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6000" spc="-1" strike="noStrike">
                <a:solidFill>
                  <a:srgbClr val="ffffff"/>
                </a:solidFill>
                <a:latin typeface="隶书"/>
                <a:ea typeface="隶书"/>
              </a:rPr>
              <a:t>圆明园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破碎的石壁，坍塌的废墟，更是背负着屈辱的历史，镌刻着血与火的印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839C-DDF2-4CBC-8521-B6967F05085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D67270-B56F-44F3-AAAF-E42DCB5A4B7E}" type="datetime1">
              <a:rPr lang="en-US"/>
              <a:t>07/30/26</a:t>
            </a:fld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cc"/>
                </a:solidFill>
                <a:latin typeface="宋体"/>
                <a:ea typeface="宋体"/>
              </a:rPr>
              <a:t>教学目标：</a:t>
            </a: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792468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、解读文本，品味优美语言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0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、领会作者对文化古迹的情感态度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0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、探究文化古迹保护的意义作用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85B6-4612-48E5-A266-CEBE3F89674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DC3EF1-093C-416D-BAF2-50A768FEF8CC}" type="datetime1">
              <a:rPr lang="en-US"/>
              <a:t>07/30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cc"/>
                </a:solidFill>
                <a:latin typeface="宋体"/>
                <a:ea typeface="宋体"/>
              </a:rPr>
              <a:t>背景介绍：</a:t>
            </a: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冯骥才是一位很有成就的作家，他对古代文化情有独钟。早在上世纪八十年代，他就凭反思历史、反思传统文化的《神鞭》《三寸金莲》等一系列小说蜚声文坛。当来到古希腊遗址，站在雅典卫城上时，他有了惊人发现，将古希腊文明与中国文明联系在一起，把希腊人文物保护的态度和方法与国人的做法对照起来，表现了作者对历史、对文化古迹保护的深刻反思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8909-9CBA-4F5A-88FE-DBD43E4E807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530F1A-2409-4913-8DF9-78BCC9B03787}" type="datetime1">
              <a:rPr lang="en-US"/>
              <a:t>07/30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24000" y="2997360"/>
            <a:ext cx="144360" cy="1511280"/>
          </a:xfrm>
          <a:custGeom>
            <a:avLst/>
            <a:gdLst>
              <a:gd name="textAreaLeft" fmla="*/ 92160 w 144360"/>
              <a:gd name="textAreaRight" fmla="*/ 144360 w 14436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84720" y="3141720"/>
            <a:ext cx="216000" cy="1511280"/>
          </a:xfrm>
          <a:custGeom>
            <a:avLst/>
            <a:gdLst>
              <a:gd name="textAreaLeft" fmla="*/ 137880 w 216000"/>
              <a:gd name="textAreaRight" fmla="*/ 216360 w 21600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50920" y="2924280"/>
            <a:ext cx="433440" cy="1873080"/>
          </a:xfrm>
          <a:custGeom>
            <a:avLst/>
            <a:gdLst>
              <a:gd name="textAreaLeft" fmla="*/ 276840 w 433440"/>
              <a:gd name="textAreaRight" fmla="*/ 433800 w 433440"/>
              <a:gd name="textAreaTop" fmla="*/ 48600 h 1873080"/>
              <a:gd name="textAreaBottom" fmla="*/ 1824480 h 187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-102600"/>
            <a:ext cx="1057752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一、知识梳理（自主学习）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正字音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炯炯（   ）有神    暧（    ）昧（    ）  亢（     ）奋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坚不可摧（    ）   葱茏（      ）    头颅（    ） 五彩缤（    ）纷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神谕（     ） 呵（     ）护     坍（    ）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废墟（       ）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磨砺（     ）      甬（    ）道      泯（   ）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灭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234936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多音字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1280" y="2924280"/>
            <a:ext cx="1439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剥落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剥蚀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9640" y="3789360"/>
            <a:ext cx="115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剥花生    剥皮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84360" y="292428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龟甲    龟鉴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03400" y="2997360"/>
            <a:ext cx="921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藏龙卧虎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藏匿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16360" y="414972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藏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627280" y="3860640"/>
            <a:ext cx="865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龟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56000" y="436572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龟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8D26-659E-45B2-A9F4-336D2AC8B3E8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AFA2D3-8095-47AA-A3F1-F207D99079CD}" type="datetime1">
              <a:rPr lang="en-US"/>
              <a:t>07/30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55280" y="620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 Narrow"/>
                <a:ea typeface="宋体"/>
              </a:rPr>
              <a:t>.</a:t>
            </a:r>
            <a:r>
              <a:rPr b="0" lang="zh-CN" sz="2800" spc="-1" strike="noStrike">
                <a:solidFill>
                  <a:srgbClr val="ffffcc"/>
                </a:solidFill>
                <a:latin typeface="Arial Narrow"/>
                <a:ea typeface="宋体"/>
              </a:rPr>
              <a:t>3.</a:t>
            </a:r>
            <a:r>
              <a:rPr b="0" lang="zh-CN" sz="2800" spc="-1" strike="noStrike">
                <a:solidFill>
                  <a:srgbClr val="ffffcc"/>
                </a:solidFill>
                <a:latin typeface="Arial Narrow"/>
                <a:ea typeface="宋体"/>
              </a:rPr>
              <a:t>填入下列横线上的词语正确的一项是（    ）</a:t>
            </a:r>
            <a:r>
              <a:rPr b="0" lang="zh-CN" sz="5400" spc="-1" strike="noStrike">
                <a:solidFill>
                  <a:srgbClr val="ffffcc"/>
                </a:solidFill>
                <a:latin typeface="Arial Narrow"/>
                <a:ea typeface="宋体"/>
              </a:rPr>
              <a:t> 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26920" y="155736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）我静静坐在山顶一块山石上，默默享受着这种奇异和美妙的感受，直到夕阳把整个石碑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得金红，仿佛一块烧透了的熔岩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）被时光的筛子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下来的只有这些破碎的房宇、残垣断壁、断碑，兀自竖立的石柱，东一个西一个的柱头或柱础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）爱琴王如今还在海底吗？他到底身在哪里？在远处那一片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着波光的“酒绿色的海心”吗？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C322-6B35-4340-B46F-57327D47A0E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1CBAD9-A5B5-45D0-9D67-6F99CA0EED11}" type="datetime1">
              <a:rPr lang="en-US"/>
              <a:t>07/30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novo User</cp:lastModifiedBy>
  <dcterms:modified xsi:type="dcterms:W3CDTF">2009-05-15T01:35:09Z</dcterms:modified>
  <cp:revision>23</cp:revision>
  <dc:subject/>
  <dc:title>PowerPoint 演示文稿</dc:title>
</cp:coreProperties>
</file>