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07B-E82C-4412-BD37-8F9D46D9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D54-3E1C-4B6B-A930-8CA46AFB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2C2-509D-46B7-A5A8-C1F45099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7B6-24C5-419B-8719-07A93D55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F8C-3C41-4600-8C0C-80EE4A7E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BE6-6A1E-458F-95CB-CD6CD548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CCB-1BFD-4259-8B78-F0D7ED47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503-0996-4E78-AAF4-F1213FFD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CE8-288B-42C5-BE21-F6EEDEF4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A73-6F2C-481C-9FA0-F298151C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654-DACC-4CDC-9928-33BDC413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AE5-2600-4477-88AB-050C137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9AF5-7752-450A-B415-4D9E4B325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63640" y="836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421000"/>
            <a:ext cx="6227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一、文下注释说这篇文章是韩愈写给他的学生李蟠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有没有相关信息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197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、作《师说》赠李蟠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781360"/>
            <a:ext cx="583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古文，六艺经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皆通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拘于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学于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古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68280"/>
            <a:ext cx="62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三、不拘于时，当时的社会风气是怎样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50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耻学于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9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代，魏晋以来的门阀制度仍有沿袭。贵族子弟都入弘文馆、崇文馆和国子学。他们无论学业如何，都有官可做。柳宗元《答韦中立论师道书》 ：“由魏晋以下，人益不事师。今之世不闻有师，有，辄哗笑之，以为狂人。独韩愈奋不顾流俗，犯笑侮，召后学，做《师说》，因抗颜而为师。世果群怪聚骂，指目牵引，而增与为言辞。愈以是得狂名。居长安，炊不暇熟，又挈挈而东，如是者数矣。”由此可见，韩愈作《师说》，大张旗鼓地宣扬自己的观点，是难能可贵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268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耻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3068640"/>
          <a:ext cx="8424720" cy="3344760"/>
        </p:xfrm>
        <a:graphic>
          <a:graphicData uri="http://schemas.openxmlformats.org/drawingml/2006/table">
            <a:tbl>
              <a:tblPr/>
              <a:tblGrid>
                <a:gridCol w="766800"/>
                <a:gridCol w="1912680"/>
                <a:gridCol w="2487600"/>
                <a:gridCol w="1746360"/>
                <a:gridCol w="15112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师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观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302840" y="3383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古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2840" y="381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今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05000" y="4219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5360" y="4580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921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巫医乐师百工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3240" y="5688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0400" y="338364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师而问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90400" y="38152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学于师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5200" y="34279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圣益圣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508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耻相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45813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661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曰师曰弟子……群聚而笑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58136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 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508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智不及巫医乐师百工之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3500280"/>
            <a:ext cx="12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反对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论证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师学习的重要性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42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择师而教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0" y="385956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愚益愚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422100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 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5240" y="1916280"/>
            <a:ext cx="667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批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11640" y="1699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476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作者是从哪几个角度来分析并批判这种风气的？运用了什么论证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2766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试说说作者的观点在今天有什么借鉴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620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000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0"/>
            <a:ext cx="73454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国运兴衰系于教育，只有一流的教育，才有一流的人才，才能建设一流的国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114300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304920"/>
            <a:ext cx="8001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在老师面前，我永远是学生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6477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900"/>
                </a:solidFill>
                <a:latin typeface="Arial"/>
              </a:rPr>
              <a:t>一个要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优先发展教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教师待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氛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让尊师重教蔚然成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希望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学高为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正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9325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老师，您好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9640" y="1125360"/>
            <a:ext cx="64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古今异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492280"/>
            <a:ext cx="9144000" cy="3547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有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道受业解惑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贱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大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众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1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5920"/>
            <a:ext cx="219564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92280"/>
            <a:ext cx="2232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2760" y="207000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巫医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工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276880"/>
            <a:ext cx="23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655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27024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89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463860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有专门技艺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292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765000"/>
            <a:ext cx="230328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89000"/>
            <a:ext cx="3106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卑则足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227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位名词作动词，低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32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的意动用法，以……为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076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名词，小的方面，大的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724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的意动用法，以……为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71640" y="457200"/>
            <a:ext cx="2952720" cy="641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189000"/>
            <a:ext cx="344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特殊句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拘于时，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141300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162864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205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其无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227664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13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大王少假借之，使毕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357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8464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14972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沛公居山东时，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财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437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365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财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30064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曰：“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5445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7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介词结构后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称为“状语后置”、“介宾短语后置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言结构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宾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介词结构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时语序应调整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结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宾语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师道也，夫庸知其年之先后生于吾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卒无补于明亡也，何与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江苏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221000"/>
            <a:ext cx="78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3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而最终对明朝的灭亡没有起到补救作用，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5280" y="1125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三、古人的从师之道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60280"/>
            <a:ext cx="2592360" cy="70344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味语言     把握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嗟乎！师道之不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久矣，欲人之无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难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呜呼！师道之不复，可知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师说</a:t>
            </a:r>
            <a:br>
              <a:rPr sz="96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韩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5157720"/>
            <a:ext cx="8280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驻马店市汝南一高 ：张富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三维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掌握积累“师、之”等文言实词虚词的用法，注意特殊句式及文句的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学习借鉴本文正反对比的论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树立尊师重教思想，培养谦虚好学的学风。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点疑难字词，留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韩愈散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势磅礴，汪洋恣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风格，感受文中所蕴含的作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心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692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760" y="207000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005360"/>
            <a:ext cx="23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70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爱其子，择师而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巫医乐师百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师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复，可知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句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3280" y="1484280"/>
            <a:ext cx="4496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这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取消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宾语前置的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60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虚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句读之不知，惑之不解，或师焉，或不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1224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文句翻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0920" y="836640"/>
            <a:ext cx="3673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3336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773360"/>
            <a:ext cx="76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出中心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判不重师道的错误态度和耻于从师的不良风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孔子为例，进一步阐明从师的必要性和以能者为师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扬李蟠“不拘于时”“能行古道”，说明写作本文的缘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0:07:07Z</dcterms:created>
  <dc:creator>zhangfusong</dc:creator>
  <dc:description/>
  <dc:language>en-US</dc:language>
  <cp:lastModifiedBy>微软用户</cp:lastModifiedBy>
  <dcterms:modified xsi:type="dcterms:W3CDTF">2009-09-19T09:50:55Z</dcterms:modified>
  <cp:revision>169</cp:revision>
  <dc:subject/>
  <dc:title>幻灯片 1</dc:title>
</cp:coreProperties>
</file>