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C6B-1C1E-40F6-B0A7-2A9E0FE4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071-6297-4195-AF91-99E322BD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D41-D6B5-4A37-A42E-9062B893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E0D6-3AAE-4D69-9841-24CD2E72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CF7-D7A9-49F6-B9F8-FE1FE936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62E-70D9-454A-86A8-C6A288DE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461-2924-4592-96B3-C4FD89B2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9F8-B5F1-4936-A566-411F9267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834-FC94-4BF3-9D61-0D17648B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941-46C1-48D6-B609-14D8C49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194-3201-4DD7-B934-41B94EFE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FB1-7B12-462E-BA81-89BC5AF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BE87-FA7A-4FD2-B326-FD114F2B8E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99800" y="270504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古代诗词五首</a:t>
            </a:r>
            <a:endParaRPr b="1" lang="en-US" sz="5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371600"/>
            <a:ext cx="3886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1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观沧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2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次北固山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3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钱塘湖春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4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西江月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5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天净沙秋思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334120" y="42670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87280" y="1219320"/>
            <a:ext cx="32774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上片写的是前半夜的景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4760" y="3200400"/>
            <a:ext cx="33170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片写的是后半夜的景象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8920" y="4876920"/>
            <a:ext cx="382608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这首词上片写景其实是烘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下片写避雨才是词人本意所在</a:t>
            </a: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30492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西江月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095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0840" y="946080"/>
            <a:ext cx="4264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天净沙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秋思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枯藤老树昏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桥流水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古道西风瘦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夕阳西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断肠人在天涯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7120" y="52578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天净沙秋思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3276000" y="3505320"/>
            <a:ext cx="3042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漂泊他乡的游子的悲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572000"/>
            <a:ext cx="3003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运用了景物烘托的写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93280" y="609480"/>
            <a:ext cx="5776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枯藤”“老树”“昏鸦”“小桥”“流水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人家” “古道” “西风” “瘦马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762120"/>
            <a:ext cx="990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景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情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521080" y="2362320"/>
            <a:ext cx="20095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断肠人在天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主题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6483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艺术手法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52720" y="835200"/>
            <a:ext cx="4143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步出夏门行（观沧海）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曹 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东临碣石，以观沧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水何澹澹，山岛竦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树木丛生，百草丰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秋风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瑟，洪波涌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日月之行，若出其中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星汉灿烂，若出其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幸甚至哉，歌以咏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609480"/>
            <a:ext cx="1904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观沧海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：交代观海的？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：先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写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荡漾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耸立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相互映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了大海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再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仍然是？  态，以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，又回到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显示了大海的惊人力量和宏伟气象。这一层全是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1392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5180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557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060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51460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581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038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洪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358128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0384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0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幼圆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38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565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232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711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威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143000"/>
            <a:ext cx="680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三层：借助奇特的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来表现大海吞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气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这写的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景即诗人的主观感受，从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”字可以看出来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2193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想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524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幼圆"/>
                <a:ea typeface="幼圆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240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日、月、星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5867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533520"/>
            <a:ext cx="3657600" cy="61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次北固山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王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客路青山外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行舟绿水前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潮平两岸阔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风正一帆悬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海日生残夜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江春入旧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乡书何处达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归雁洛阳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4920" y="1981080"/>
            <a:ext cx="4579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开头两句点题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1981080"/>
            <a:ext cx="261900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颔联写船上所见景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172200" cy="1556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平”“阔”“正”“悬”四字炼得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潮平”，两岸才显得宽阔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风正”，帆才有悬空的态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2880" y="2743200"/>
            <a:ext cx="457920" cy="581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联既写景又点明了时令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5334120"/>
            <a:ext cx="1905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次北固山下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304920"/>
            <a:ext cx="81532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1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首联、颔联、颈联、尾联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各写什么内容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2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点评诗中的语言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3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诗的主题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86" name=""/>
          <p:cNvSpPr/>
          <p:nvPr/>
        </p:nvSpPr>
        <p:spPr>
          <a:xfrm>
            <a:off x="2424240" y="3352680"/>
            <a:ext cx="3787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尾联抒发思乡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440" y="561672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华文彩云"/>
                <a:ea typeface="华文彩云"/>
              </a:rPr>
              <a:t>主题——乡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90720"/>
            <a:ext cx="8588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钱塘湖春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白居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孤山寺北贾亭西，水面初平云脚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几处早莺争暖树，谁家新燕啄春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乱花渐欲迷人眼，浅草才能没马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最爱湖东行不足，绿杨阴里白沙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581280" y="228600"/>
            <a:ext cx="221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钱塘湖春行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8004600" y="-53712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诗中描写了西湖早春的明媚风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645120"/>
            <a:ext cx="1033560" cy="57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抒发了诗人喜悦的感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90720" y="4876920"/>
            <a:ext cx="53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1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诗的主要内容和思想感情。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2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描写了哪些景物</a:t>
            </a: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?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52:46Z</dcterms:created>
  <dc:creator>Batman</dc:creator>
  <dc:description/>
  <dc:language>en-US</dc:language>
  <cp:lastModifiedBy>MC SYSTEM</cp:lastModifiedBy>
  <dcterms:modified xsi:type="dcterms:W3CDTF">2008-02-11T01:45:21Z</dcterms:modified>
  <cp:revision>23</cp:revision>
  <dc:subject/>
  <dc:title>PowerPoint 演示文稿</dc:title>
</cp:coreProperties>
</file>