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5F4-998F-4835-BE65-9E1FB5F4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9F5C-3C4B-46C2-86EC-70A87225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27B-B6AA-4CBD-88D0-7F0133E2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13DC-6B21-4C24-95F1-8D217A00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B5AA-F05A-464F-8350-F564025C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5CFB-9FBE-4537-9FEB-69C05C69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34A3-EABA-4821-9691-11F2BFA5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CE0D-A70D-4345-80C9-F50E1EB2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E390-EE84-4B94-A20E-2FDA8569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714-7430-4DA4-8221-06B28E4B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9DD4-98F7-496E-AFAA-A00B1BCB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28F-FBCD-4073-B09C-84EB9601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6ABB-D43E-442C-B94E-595B5D97DB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0"/>
                            </p:stCondLst>
                            <p:childTnLst>
                              <p:par>
                                <p:cTn id="28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63640" y="836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问题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421000"/>
            <a:ext cx="62276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行楷简体"/>
              </a:rPr>
              <a:t>一、文下注释说这篇文章是韩愈写给他的学生李蟠的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有没有相关信息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377040" y="476280"/>
            <a:ext cx="2658960" cy="2881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1197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二、作《师说》赠李蟠的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原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2781360"/>
            <a:ext cx="5832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古文，六艺经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皆通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拘于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学于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古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268280"/>
            <a:ext cx="629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行楷简体"/>
              </a:rPr>
              <a:t>三、不拘于时，当时的社会风气是怎样的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77040" y="476280"/>
            <a:ext cx="2658960" cy="288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3500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耻学于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2590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彩云"/>
              </a:rPr>
              <a:t>写作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86800" cy="591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唐代，魏晋以来的门阀制度仍有沿袭。贵族子弟都入弘文馆、崇文馆和国子学。他们无论学业如何，都有官可做。柳宗元《答韦中立论师道书》 ：“由魏晋以下，人益不事师。今之世不闻有师，有，辄哗笑之，以为狂人。独韩愈奋不顾流俗，犯笑侮，召后学，做《师说》，因抗颜而为师。世果群怪聚骂，指目牵引，而增与为言辞。愈以是得狂名。居长安，炊不暇熟，又挈挈而东，如是者数矣。”由此可见，韩愈作《师说》，大张旗鼓地宣扬自己的观点，是难能可贵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1268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耻学于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3068640"/>
          <a:ext cx="8424720" cy="3344760"/>
        </p:xfrm>
        <a:graphic>
          <a:graphicData uri="http://schemas.openxmlformats.org/drawingml/2006/table">
            <a:tbl>
              <a:tblPr/>
              <a:tblGrid>
                <a:gridCol w="766800"/>
                <a:gridCol w="1912680"/>
                <a:gridCol w="2487600"/>
                <a:gridCol w="1746360"/>
                <a:gridCol w="15112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从师的态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观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302840" y="3383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古圣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02840" y="3816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今众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05000" y="4219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于其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05360" y="4580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于其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4921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巫医乐师百工之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53240" y="5688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士大夫之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90400" y="338364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从师而问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90400" y="381528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耻学于师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05200" y="342792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圣益圣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000" y="508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耻相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458136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耻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566100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曰师曰弟子……群聚而笑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458136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 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50846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士大夫之智不及巫医乐师百工之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08720" y="3500280"/>
            <a:ext cx="12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通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反对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论证了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从师学习的重要性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4221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择师而教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05200" y="385956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愚益愚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422100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 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5240" y="1916280"/>
            <a:ext cx="667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批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211640" y="1699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47628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04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作者是从哪几个角度来分析并批判这种风气的？运用了什么论证手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2276640"/>
            <a:ext cx="74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试说说作者的观点在今天有什么借鉴意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62064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0000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26920" y="0"/>
            <a:ext cx="73454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国运兴衰系于教育，只有一流的教育，才有一流的人才，才能建设一流的国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459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28800" y="1143000"/>
            <a:ext cx="4648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304920"/>
            <a:ext cx="8001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黑体"/>
              </a:rPr>
              <a:t>在老师面前，我永远是学生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62520" y="380880"/>
            <a:ext cx="5181480" cy="64771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19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2900"/>
                </a:solidFill>
                <a:latin typeface="Arial"/>
              </a:rPr>
              <a:t>一个要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优先发展教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高教师待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1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1400"/>
                </a:solidFill>
                <a:latin typeface="Arial"/>
              </a:rPr>
              <a:t>一个氛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让尊师重教蔚然成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1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1400"/>
                </a:solidFill>
                <a:latin typeface="Arial"/>
              </a:rPr>
              <a:t>一个希望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学高为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身正为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341360"/>
            <a:ext cx="9325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黑体"/>
              </a:rPr>
              <a:t>老师，您好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79640" y="1125360"/>
            <a:ext cx="642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古今异义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492280"/>
            <a:ext cx="9144000" cy="35478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古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学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必有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传道受业解惑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贱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大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众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1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5920"/>
            <a:ext cx="219564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力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692280"/>
            <a:ext cx="22320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2760" y="207000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古之学者必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从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之不传也久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巫医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百工之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十年春，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伐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5276880"/>
            <a:ext cx="23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，军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11788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，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76552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作动词，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27024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意动用法，以……为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39895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词，从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463860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，有专门技艺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2920" y="10476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4000" y="765000"/>
            <a:ext cx="230328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989000"/>
            <a:ext cx="3106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圣人也亦远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于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位卑则足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4360" y="2276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位名词作动词，低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3284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词的意动用法，以……为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407664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作名词，小的方面，大的方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4724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词的意动用法，以……为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771640" y="457200"/>
            <a:ext cx="2952720" cy="6415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189000"/>
            <a:ext cx="344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特殊句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41300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拘于时，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141300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84720" y="162864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220500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其无礼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227664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213372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299736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愿大王少假借之，使毕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4720" y="33577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328464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毕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414972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沛公居山东时，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财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443700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436572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财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30064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良曰：“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544500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537372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介词结构后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称为“状语后置”、“介宾短语后置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言结构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主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谓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宾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介词结构”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译时语序应调整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主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介词结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谓语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宾语）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下列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吾师道也，夫庸知其年之先后生于吾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而卒无补于明亡也，何与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考江苏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4221000"/>
            <a:ext cx="786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43657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然而最终对明朝的灭亡没有起到补救作用，为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95280" y="1125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姚体简体"/>
              </a:rPr>
              <a:t>三、古人的从师之道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260280"/>
            <a:ext cx="2592360" cy="70344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问题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体味语言     把握情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2491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14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嗟乎！师道之不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中宋"/>
              </a:rPr>
              <a:t>也</a:t>
            </a: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久矣，欲人之无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中宋"/>
              </a:rPr>
              <a:t>也</a:t>
            </a: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难矣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14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呜呼！师道之不复，可知矣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师说</a:t>
            </a:r>
            <a:br>
              <a:rPr sz="9600"/>
            </a:b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韩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000" y="5157720"/>
            <a:ext cx="82803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驻马店市汝南一高 ：张富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三维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14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掌握积累“师、之”等文言实词虚词的用法，注意特殊句式及文句的翻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14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学习借鉴本文正反对比的论证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1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4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1400"/>
                </a:solidFill>
                <a:latin typeface="Times New Roman"/>
              </a:rPr>
              <a:t>树立尊师重教思想，培养谦虚好学的学风。</a:t>
            </a: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圈点疑难字词，留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字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字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断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受韩愈散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气势磅礴，汪洋恣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风格，感受文中所蕴含的作者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情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中心论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692280"/>
            <a:ext cx="12240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2760" y="2070000"/>
            <a:ext cx="3657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古之学者必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之不传也久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十年春，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伐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4005360"/>
            <a:ext cx="23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名词，军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11788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名词，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2708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名词作动词，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342900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动词，从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40384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爱其子，择师而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巫医乐师百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师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复，可知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句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03280" y="1484280"/>
            <a:ext cx="44960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词，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词，这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助词，取消独立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助词，宾语前置的标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260280"/>
            <a:ext cx="12240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虚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句读之不知，惑之不解，或师焉，或不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60280"/>
            <a:ext cx="1224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文句翻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50920" y="836640"/>
            <a:ext cx="36734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333360"/>
            <a:ext cx="73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内容梳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1773360"/>
            <a:ext cx="7632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提出中心论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批判不重师道的错误态度和耻于从师的不良风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孔子为例，进一步阐明从师的必要性和以能者为师的道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赞扬李蟠“不拘于时”“能行古道”，说明写作本文的缘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0:07:07Z</dcterms:created>
  <dc:creator>zhangfusong</dc:creator>
  <dc:description/>
  <dc:language>en-US</dc:language>
  <cp:lastModifiedBy>微软用户</cp:lastModifiedBy>
  <dcterms:modified xsi:type="dcterms:W3CDTF">2009-09-19T09:50:55Z</dcterms:modified>
  <cp:revision>169</cp:revision>
  <dc:subject/>
  <dc:title>幻灯片 1</dc:title>
</cp:coreProperties>
</file>