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5.jpeg" ContentType="image/jpeg"/>
  <Override PartName="/ppt/media/image13.jpeg" ContentType="image/jpeg"/>
  <Override PartName="/ppt/media/image1.jpeg" ContentType="image/jpeg"/>
  <Override PartName="/ppt/media/image3.jpeg" ContentType="image/jpe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%E9%B8%9F%E5%8F%AB%E5%A3%B0.wav" ContentType="audio/x-wav"/>
  <Override PartName="/ppt/media/image12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  <p:custShowLst>
    <p:custShow name="自定义放映1" id="0">
      <p:sldLst>
        <p:sld r:id="rId7"/>
      </p:sldLst>
    </p:custShow>
    <p:custShow name="自定义放映2" id="1">
      <p:sldLst>
        <p:sld r:id="rId8"/>
      </p:sldLst>
    </p:custShow>
    <p:custShow name="自定义放映4" id="2">
      <p:sldLst>
        <p:sld r:id="rId10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723D1-508F-499C-BA88-24E1BADD58A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饿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8DDA-5B10-4F17-ABF7-07BFA296C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CB65-607C-473D-9779-6CB8B9549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0EF1-06D0-4951-9526-1166CD518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FE20-7120-452A-A9A7-00178ABCB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11EB-50F0-4C98-96EC-F764F3A93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CE34-7894-48F9-98B1-675FE968A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243D-36F5-4CBF-A123-E1253D9FA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09A6-107B-419A-81DC-0D888605A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C215-F3AA-4A83-BDA8-2FABBD046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EDF6-56C1-40EC-B2EC-A2C4A719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67DC-3317-4DF6-93A2-3F0833C2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C4CD-B94E-490F-AEAB-947507464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62E03-E033-4675-9184-9D4863F3DE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&#40479;&#21483;&#22768;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nsjy.com/dy-upload/science/No5/teacher/wyxx/luoweibinxuhaisheng/gerenzuopin/luyuling/luyuling4.htm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audio" Target="../media/&#40479;&#21483;&#22768;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52880" y="12952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7162200" y="5334120"/>
            <a:ext cx="1981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8305920" y="6781680"/>
            <a:ext cx="75960" cy="76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2209680" y="2133720"/>
            <a:ext cx="42483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sq" w="1260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珍珠鸟</a:t>
            </a:r>
            <a:endParaRPr b="0" lang="en-US" sz="1800" spc="1" strike="noStrike">
              <a:ln cap="sq" w="1260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E9%B8%9F%E5%8F%AB%E5%A3%B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22400"/>
            <a:ext cx="9288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、由文中人和鸟之间的信赖，你能联想到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1600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38862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1447920"/>
            <a:ext cx="89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2240" y="34513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3581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752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3600" spc="-1" strike="noStrike">
                <a:solidFill>
                  <a:srgbClr val="00cc00"/>
                </a:solidFill>
                <a:latin typeface="宋体"/>
              </a:rPr>
              <a:t>不仅是人与鸟，人与动物、人与人也是如此，尊重对方的生存空间、思想空间，真正做到不以强凌弱，不以大欺小，这是建立信赖关系的前提条件。而有了信赖，无疑会使世界多一抹温柔的色彩。</a:t>
            </a:r>
            <a:r>
              <a:rPr b="0" lang="zh-CN" sz="36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914400"/>
            <a:ext cx="6095880" cy="59436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343400" y="990720"/>
            <a:ext cx="455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文章许多地方表达作者对珍珠鸟的喜爱之情，你最喜欢哪一处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请找出来，说说你的理由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1680" y="0"/>
            <a:ext cx="304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写作技巧点拨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活学活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生活中，你们或许见过也如珍珠鸟那样逗人喜爱的鸟儿，也许还喂养过令你难忘的宠物，请选择印象最深的一点，写一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片段作文。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要求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用拟人的手法；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综合运用外貌、神态、动作等描写方法；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描写叙述中融入自己的感情，有议论句或抒情句最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总结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篇散文通过人鸟相依相亲的细腻描写和浓郁的诗意、深刻的哲理，表现作者对自然、生命的挚爱之情，展示了人与动物间充满爱和信赖的理想境界。现代著名作家冰心早在她的《山中杂记》中写到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：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我爱自己，也爱雏鸟；我爱我的双亲，也爱雏鸟的双亲！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让爱的泉水流淌在我们的心田，流淌在万物之间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943600" y="4343400"/>
            <a:ext cx="279396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8534520" y="6095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066680" y="-304920"/>
            <a:ext cx="9601200" cy="7848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-1295280" y="-1295280"/>
            <a:ext cx="12953880" cy="83818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-914400" y="-1600200"/>
            <a:ext cx="11201400" cy="8001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-762120" y="-1219320"/>
            <a:ext cx="10515600" cy="84297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10667880" y="59436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648320" cy="68486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-1006560" y="1687680"/>
            <a:ext cx="2683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3657600"/>
            <a:ext cx="3352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514600" y="2057400"/>
            <a:ext cx="4419720" cy="210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再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教学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知识能力目标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阅读积累品味文中传神描写珍珠鸟的语句，领会并学习作者将自己的喜爱之情融注在叙述描写之中的写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情感目标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体会珍珠鸟与作者逐渐亲近信赖的情感历程，感受“信赖，往往能创造出美好的境界”的深刻含义，感受人与动物、人与自然和谐相处的意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133720"/>
            <a:ext cx="1905120" cy="1434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a800"/>
                </a:solidFill>
                <a:latin typeface="Arial"/>
              </a:rPr>
              <a:t>冯骥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2819520"/>
            <a:ext cx="4191120" cy="4038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91120" y="2819520"/>
            <a:ext cx="4952880" cy="4038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0" y="838080"/>
            <a:ext cx="42480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sq" w="1260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珍珠鸟</a:t>
            </a:r>
            <a:endParaRPr b="0" lang="en-US" sz="1800" spc="1" strike="noStrike">
              <a:ln cap="sq" w="1260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9" name=""/>
          <p:cNvSpPr/>
          <p:nvPr/>
        </p:nvSpPr>
        <p:spPr>
          <a:xfrm>
            <a:off x="4343400" y="0"/>
            <a:ext cx="4800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珍珠鸟羽毛的颜色艳丽，体形娇小玲珑，叫声细柔给人以美的享受，深受人们的喜爱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E9%B8%9F%E5%8F%AB%E5%A3%B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-1219320"/>
            <a:ext cx="11810880" cy="88585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133720" y="-723960"/>
            <a:ext cx="4724280" cy="1447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048120" y="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Arial"/>
              </a:rPr>
              <a:t>整  体  感  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228600"/>
            <a:ext cx="914400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华文彩云"/>
              </a:rPr>
              <a:t>听课文范读　思考问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课文写了几只鸟？他们之间是什么关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哪些自然段写大鸟？哪些自然段写小鸟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“我” 与大鸟、雏鸟之间关系分别发生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样的变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用一句话概括文章的主要内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3962520"/>
            <a:ext cx="10058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大 鸟 和 “我” 由 怕 人到 熟 悉 的过 程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雏 鸟 和 “我” 由 疏 远 到 亲 近 的 过 程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" action="ppaction://hlinkshowjump?jump=nextslide"/>
          </p:cNvPr>
          <p:cNvSpPr/>
          <p:nvPr/>
        </p:nvSpPr>
        <p:spPr>
          <a:xfrm>
            <a:off x="914400" y="144792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三只；两只大鸟生了一只可爱的小珍珠鸟。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236232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第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－５自然段写大鸟，第６－１４自然段写小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5486400"/>
            <a:ext cx="754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文章叙述了“我”和珍珠鸟一家三口从相识、熟悉、亲近，到相依相伴的关系变化过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9144000" y="50292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63744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380880"/>
            <a:ext cx="89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cc"/>
                </a:solidFill>
                <a:latin typeface="Arial"/>
              </a:rPr>
              <a:t>　　</a:t>
            </a:r>
            <a:r>
              <a:rPr b="1" lang="zh-CN" sz="4400" spc="-1" strike="noStrike">
                <a:solidFill>
                  <a:srgbClr val="ff00ff"/>
                </a:solidFill>
                <a:latin typeface="Arial"/>
              </a:rPr>
              <a:t>品读课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cc"/>
                </a:solidFill>
                <a:latin typeface="Arial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0066cc"/>
                </a:solidFill>
                <a:latin typeface="Arial"/>
                <a:ea typeface="黑体"/>
              </a:rPr>
              <a:t>1</a:t>
            </a:r>
            <a:r>
              <a:rPr b="0" lang="zh-CN" sz="3600" spc="-1" strike="noStrike">
                <a:solidFill>
                  <a:srgbClr val="0066cc"/>
                </a:solidFill>
                <a:latin typeface="Arial"/>
                <a:ea typeface="黑体"/>
              </a:rPr>
              <a:t>、我针对珍珠鸟“怕人”这一特点是怎么做的呢？结果怎样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2286000"/>
            <a:ext cx="914400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　①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设置环境：　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挂鸟笼、盖垂蔓――温暖、舒适、安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　②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不加干扰：　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很少扒开叶蔓去惊动它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结果：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　怕人－－熟悉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、我对雏鸟有怎样的呵护，小鸟又是怎样一步步亲近我的？请结合起来说一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、“我”从中得到怎样的感悟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523880" y="68580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  <a:ea typeface="黑体"/>
              </a:rPr>
              <a:t>信赖，往往创造出美好的境界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2300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黑体"/>
              </a:rPr>
              <a:t>感悟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438280" y="1447920"/>
            <a:ext cx="4673880" cy="3835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981080" y="2819520"/>
            <a:ext cx="76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05720" y="281952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2438280"/>
            <a:ext cx="2971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关爱尊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67080" y="3276720"/>
            <a:ext cx="23623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信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90600" y="832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18288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文章用一个感人的故事诠释了“信赖”的含义，现在请同学们根据你的理解用一个比喻句来对“信赖”一词作形象化的赞美，可以参考“信赖像……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句式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456876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如：</a:t>
            </a:r>
            <a:r>
              <a:rPr b="1" lang="zh-CN" sz="3600" spc="-1" strike="noStrike">
                <a:solidFill>
                  <a:srgbClr val="00cc00"/>
                </a:solidFill>
                <a:latin typeface="宋体"/>
              </a:rPr>
              <a:t>信赖像一座桥梁，让我们心灵相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3600" spc="-1" strike="noStrike">
                <a:solidFill>
                  <a:srgbClr val="666699"/>
                </a:solidFill>
                <a:latin typeface="宋体"/>
              </a:rPr>
              <a:t>信赖如一泓清泉，滋润你干涸的心田。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6699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信赖像</a:t>
            </a:r>
            <a:r>
              <a:rPr b="1" lang="zh-CN" sz="3600" spc="-1" strike="noStrike">
                <a:solidFill>
                  <a:srgbClr val="666699"/>
                </a:solidFill>
                <a:latin typeface="宋体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04920"/>
            <a:ext cx="848664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探究拓展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cc"/>
                </a:solidFill>
                <a:latin typeface="Arial"/>
              </a:rPr>
              <a:t>信赖，往往创造出美好的境界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3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3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9-04T09:38:56Z</dcterms:modified>
  <cp:revision>7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