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%E9%B8%9F%E5%8F%AB%E5%A3%B0.wav" ContentType="audio/x-wav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自定义放映1" id="0">
      <p:sldLst>
        <p:sld r:id="rId7"/>
      </p:sldLst>
    </p:custShow>
    <p:custShow name="自定义放映2" id="1">
      <p:sldLst>
        <p:sld r:id="rId8"/>
      </p:sldLst>
    </p:custShow>
    <p:custShow name="自定义放映4" id="2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D185-9257-47E6-84AE-042FA2C42C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9EA-B027-4303-9784-C2FE6E3C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941-4582-4A0A-960A-D8095A16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6A2-BA9C-42FB-ABB1-A02506D7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AD0-6D36-45A0-9754-7466E026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CFD-C2D6-4668-8CEA-6A26B62A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562-F10E-47C0-863D-C9CAC9B5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B6B-ED59-4C74-8509-A759C7CF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F1D-EF08-4C67-8FD1-0403DF82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5E0-816D-4D46-9A85-0F11C0BD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CF8-7712-449F-956E-39541D8E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9D0-156B-435F-9953-70246131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1A1-F4B9-457F-B3F1-C36E03C4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EAE2-3721-46E2-9834-D9050A16B0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&#40479;&#21483;&#22768;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&#40479;&#21483;&#22768;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52880" y="1295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162200" y="5334120"/>
            <a:ext cx="19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05920" y="678168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209680" y="2133720"/>
            <a:ext cx="4248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0" lang="en-US" sz="1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B8%9F%E5%8F%AB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22400"/>
            <a:ext cx="92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由文中人和鸟之间的信赖，你能联想到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86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4479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2240" y="345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不仅是人与鸟，人与动物、人与人也是如此，尊重对方的生存空间、思想空间，真正做到不以强凌弱，不以大欺小，这是建立信赖关系的前提条件。而有了信赖，无疑会使世界多一抹温柔的色彩。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144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43400" y="990720"/>
            <a:ext cx="455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许多地方表达作者对珍珠鸟的喜爱之情，你最喜欢哪一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找出来，说说你的理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1680" y="0"/>
            <a:ext cx="304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写作技巧点拨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活学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生活中，你们或许见过也如珍珠鸟那样逗人喜爱的鸟儿，也许还喂养过令你难忘的宠物，请选择印象最深的一点，写一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片段作文。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拟人的手法；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综合运用外貌、神态、动作等描写方法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描写叙述中融入自己的感情，有议论句或抒情句最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散文通过人鸟相依相亲的细腻描写和浓郁的诗意、深刻的哲理，表现作者对自然、生命的挚爱之情，展示了人与动物间充满爱和信赖的理想境界。现代著名作家冰心早在她的《山中杂记》中写到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爱自己，也爱雏鸟；我爱我的双亲，也爱雏鸟的双亲！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爱的泉水流淌在我们的心田，流淌在万物之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66680" y="-304920"/>
            <a:ext cx="9601200" cy="784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-1295280" y="-1295280"/>
            <a:ext cx="12953880" cy="8381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-914400" y="-1600200"/>
            <a:ext cx="11201400" cy="8001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-762120" y="-1219320"/>
            <a:ext cx="10515600" cy="842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066788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8320" cy="684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-1006560" y="1687680"/>
            <a:ext cx="2683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6576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14600" y="2057400"/>
            <a:ext cx="4419720" cy="21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知识能力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积累品味文中传神描写珍珠鸟的语句，领会并学习作者将自己的喜爱之情融注在叙述描写之中的写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情感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会珍珠鸟与作者逐渐亲近信赖的情感历程，感受“信赖，往往能创造出美好的境界”的深刻含义，感受人与动物、人与自然和谐相处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133720"/>
            <a:ext cx="1905120" cy="1434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a800"/>
                </a:solidFill>
                <a:latin typeface="Arial"/>
              </a:rPr>
              <a:t>冯骥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2819520"/>
            <a:ext cx="419112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91120" y="2819520"/>
            <a:ext cx="495288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0" y="838080"/>
            <a:ext cx="424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0" lang="en-US" sz="1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珍珠鸟羽毛的颜色艳丽，体形娇小玲珑，叫声细柔给人以美的享受，深受人们的喜爱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B8%9F%E5%8F%AB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11810880" cy="885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33720" y="-723960"/>
            <a:ext cx="4724280" cy="1447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812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整  体  感  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860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彩云"/>
              </a:rPr>
              <a:t>听课文范读　思考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几只鸟？他们之间是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哪些自然段写大鸟？哪些自然段写小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 与大鸟、雏鸟之间关系分别发生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用一句话概括文章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962520"/>
            <a:ext cx="1005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 鸟 和 “我” 由 怕 人到 熟 悉 的过 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雏 鸟 和 “我” 由 疏 远 到 亲 近 的 过 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914400" y="1447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三只；两只大鸟生了一只可爱的小珍珠鸟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５自然段写大鸟，第６－１４自然段写小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486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文章叙述了“我”和珍珠鸟一家三口从相识、熟悉、亲近，到相依相伴的关系变化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0" y="5029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637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80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品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1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、我针对珍珠鸟“怕人”这一特点是怎么做的呢？结果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①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设置环境：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挂鸟笼、盖垂蔓――温暖、舒适、安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②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加干扰：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很少扒开叶蔓去惊动它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结果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怕人－－熟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、我对雏鸟有怎样的呵护，小鸟又是怎样一步步亲近我的？请结合起来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、“我”从中得到怎样的感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3880" y="6858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信赖，往往创造出美好的境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23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感悟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673880" cy="383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1080" y="28195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819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43828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爱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276720"/>
            <a:ext cx="2362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信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0600" y="832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8288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文章用一个感人的故事诠释了“信赖”的含义，现在请同学们根据你的理解用一个比喻句来对“信赖”一词作形象化的赞美，可以参考“信赖像…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句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568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：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信赖像一座桥梁，让我们心灵相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信赖如一泓清泉，滋润你干涸的心田。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信赖像</a:t>
            </a: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8486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探究拓展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信赖，往往创造出美好的境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09:38:56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