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4225-02BA-43A6-BB48-B7B9BEFF0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F123-C3EE-4266-A5D7-FF6E88805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AA32-3900-4B84-A0C9-F8A7007E7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6E01-5A86-4665-9BD8-3923E974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5FECC-991F-4AFB-8261-B6D1A5D39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0619-90B6-4BA7-BDD1-26472BDB5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F5F07-41BF-4AC3-BAA5-1D62B7D79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F299A-3DAD-4677-88A9-965BCC06C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F340-4728-4CC6-BBE7-869CB897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3BCE-3892-45D6-BCFE-07B2D41A4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42BB6-54BB-48EE-A2DC-CCA71BD7A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F17B-6CA0-4B63-BD79-1AC6BF1F4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6B46C-6980-4537-AC1C-9E5D9FB08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3255C-4AF3-4CBE-A497-9F4D0EC1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AF25A-1F11-40EA-8B8C-35E2AAD71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6DC55-9E7A-4A62-AEFE-B8C311397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E6217-281F-414D-8038-A4A13E6D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0ED3-6162-463E-A491-491109199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4A9-CA4B-445E-8D19-A9DE874F9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016F-4A6E-4292-BEFC-4753FD662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A4A6-4715-4A68-969A-AB9A1EDA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E167-5575-4F30-80D7-E57D179B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6016-C417-4CD0-8B37-22D674992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61453-A342-490D-A672-83BBB719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0E70-78BF-4AB5-AC03-D20DE9316AD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8C578-25BF-4CC9-B99F-63B261D125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:\&#20851;&#38606;\&#20851;&#38606;&#21160;&#30011;&#35270;&#39057;.flv" TargetMode="External"/><Relationship Id="rId4" Type="http://schemas.openxmlformats.org/officeDocument/2006/relationships/hyperlink" Target="file:///&#20851;&#38606;&#21160;&#30011;&#35270;&#39057;.flv_6.mp4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7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2193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Arial"/>
                <a:ea typeface="楷体_GB2312"/>
              </a:rPr>
              <a:t>欢迎步入语文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447920"/>
            <a:ext cx="9220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流之。窈窕淑女，寤寐求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求之不得，寤寐思服。悠哉悠哉，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991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流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寤寐求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求之不得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寤寐思服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悠哉悠哉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辗转反侧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75680" y="5737320"/>
            <a:ext cx="146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关　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47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采之。窈窕淑女，琴瑟友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2096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芼之。窈窕淑女，钟鼓乐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70760" y="581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447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采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琴瑟友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2096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芼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钟鼓乐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90720" y="2971800"/>
            <a:ext cx="7543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乐而不淫，哀而不伤。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---</a:t>
            </a: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孔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001000" y="838080"/>
            <a:ext cx="685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雎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153280" y="6172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800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48082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447920"/>
            <a:ext cx="716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在读“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关关雎鸠，在河之洲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”这句诗的时候，眼前不禁浮现出这样的情景：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碧蓝如洗的天空下，一条玉带似的河流静静流淌。河中的小岛上，芳草如茵，一对对雎鸠鸟在草丛里、河水边悠然自得地玩耍嬉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的眼里心里会出现什么情景呢？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7238880" y="685800"/>
            <a:ext cx="1143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雎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33520" y="6019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48006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4808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280" y="1215360"/>
            <a:ext cx="92203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蒹葭苍苍，白露为霜，所谓伊人，在水一方。（《蒹葭》） </a:t>
            </a:r>
            <a:br>
              <a:rPr sz="2400"/>
            </a:b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追求而不可得的惆怅、迷惘的愁情恰似苍茫的秋水，萧瑟的芦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死生契阔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与子成说。执子之手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与子偕老。（《击鼓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——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是一种古老而坚定的承诺，是浪漫而美丽的传说。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月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秋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岁兮。（《 采葛》） </a:t>
            </a:r>
            <a:br>
              <a:rPr sz="2400"/>
            </a:b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男子对女子刻骨铭心的思念，以致度日如年，精神恍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38088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经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9520" y="762120"/>
            <a:ext cx="5334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诗经》是我国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最早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一部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诗歌总集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收录了西周初年至春秋中叶大约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00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间的诗歌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05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篇，原称“诗”或“诗三百”，是儒家经典之一。这些诗歌分为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“风”“雅”“颂”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三个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风”又叫“国风”，是地方歌谣，人民大众的口头创作，是《诗经》中的精华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风、雅、颂、赋、比、兴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合称为诗经的“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六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诗经》在篇章结构上多采用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重章叠句、反复咏唱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4046400" cy="5410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868320"/>
            <a:ext cx="4572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朝吟风雅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暮唱赋比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秋看鱼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春观草木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848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3388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895480" y="1905120"/>
            <a:ext cx="4114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4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43800" y="380880"/>
            <a:ext cx="9144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67080" y="609480"/>
            <a:ext cx="33530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29292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雎</a:t>
            </a:r>
            <a:endParaRPr b="1" lang="en-US" sz="6000" spc="1" strike="noStrike">
              <a:ln w="0">
                <a:noFill/>
              </a:ln>
              <a:solidFill>
                <a:srgbClr val="29292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华文隶书"/>
              </a:rPr>
              <a:t>《诗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18288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雎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ūjiū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  窈窕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yǎotiǎo)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好逑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hǎoqi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ú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    参差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cēncī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荇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x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ì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ng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菜　　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寤寐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w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ù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m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辗转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zhǎnzhuǎn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琴瑟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s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左右芼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m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o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　    钟鼓乐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l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80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读准字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80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4808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371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窈窕淑女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514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心美曰“窈”，形美曰“窕”，善良曰“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36920" y="19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039760"/>
            <a:ext cx="4190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流之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采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芼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990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关关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雎鸠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，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666880"/>
            <a:ext cx="76201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楷体_GB2312"/>
              </a:rPr>
              <a:t>兴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借助其他事物作为诗歌的发端，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引起所要歌咏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楷体_GB2312"/>
              </a:rPr>
              <a:t>雎鸠：生有定偶而不相乱，偶常并游而不相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9907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520" y="762120"/>
            <a:ext cx="5257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Times New Roman"/>
                <a:ea typeface="华文中宋"/>
              </a:rPr>
              <a:t>《诗经》三种表现手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5400" y="2286000"/>
            <a:ext cx="36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敷陈其事而直言之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81240" y="32004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以彼物比此物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1640" y="4191120"/>
            <a:ext cx="44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先言他物以引起所咏之物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0-11-09T07:27:11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