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08B8-56EA-4E87-B7EA-044D17084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3367-F013-456C-A914-48499CE25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0B5D-5930-44C7-9C3C-5E570FF88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7323-46B1-46F8-8520-AEF1EE635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E55A5-FA61-492F-89AB-A323DA42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67C4-E7E3-4BEB-8BFA-3F824AF4F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BC208-AF67-4444-9513-32B4D54F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2A8B6-FBB6-47B1-9924-DC980C6F4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1E06-05A8-4926-BBD0-13380094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476F7-3AA3-4121-B918-C16BC96AB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CC8F9-2CE2-4740-8FF9-CAFF1C46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9DE7-65EE-4877-8CBB-B5EE4C5FC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0C97-B9D2-491F-B8D1-C54FBAC5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55DE7-20DE-4E56-A80E-93DB898E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A67A-2F5D-4DB9-8B8B-D5B21E100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9E273-CDA7-41C7-BDBE-D39F47C32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61D11-8BE8-45B1-A8CB-B62F57681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5E39-DE9E-49B2-8597-019747EF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B064-C15A-41F2-AAC5-60891E06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5C7B-04D8-4A0E-9D93-F55528535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DC1D-0954-4F45-A951-AE53DF479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E8EC-E95D-4D5E-BA45-44993A7DA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ED1C-42B8-4CCA-9C81-5E780BE7F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DC66-86C7-4CCE-B7BD-0DBA6C96A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BD93-9F6A-4B3E-AE44-533FB318F9A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87639-4341-4B8F-82C2-1FE6CA92184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hyperlink" Target="H:\&#20851;&#38606;\&#20851;&#38606;&#21160;&#30011;&#35270;&#39057;.flv" TargetMode="External"/><Relationship Id="rId4" Type="http://schemas.openxmlformats.org/officeDocument/2006/relationships/hyperlink" Target="file:///&#20851;&#38606;&#21160;&#30011;&#35270;&#39057;.flv_6.mp4" TargetMode="External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151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2362320" y="17524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121932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5f5f5f"/>
                </a:solidFill>
                <a:latin typeface="Arial"/>
                <a:ea typeface="楷体_GB2312"/>
              </a:rPr>
              <a:t>欢迎步入语文世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447920"/>
            <a:ext cx="9220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流之。窈窕淑女，寤寐求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求之不得，寤寐思服。悠哉悠哉，辗转反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447920"/>
            <a:ext cx="8991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流之。窈窕淑女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寤寐求之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求之不得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寤寐思服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悠哉悠哉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辗转反侧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>
            <a:hlinkClick r:id="rId3"/>
          </p:cNvPr>
          <p:cNvSpPr/>
          <p:nvPr/>
        </p:nvSpPr>
        <p:spPr>
          <a:xfrm>
            <a:off x="8686800" y="65530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16187" y="3837"/>
                </a:moveTo>
                <a:lnTo>
                  <a:pt x="18764" y="6448"/>
                </a:ln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lnTo>
                  <a:pt x="23150" y="10800"/>
                </a:lnTo>
                <a:lnTo>
                  <a:pt x="21497" y="10800"/>
                </a:lnTo>
                <a:lnTo>
                  <a:pt x="21497" y="17989"/>
                </a:lnTo>
                <a:lnTo>
                  <a:pt x="10878" y="17989"/>
                </a:lnTo>
                <a:lnTo>
                  <a:pt x="10878" y="10800"/>
                </a:lnTo>
                <a:lnTo>
                  <a:pt x="9224" y="10800"/>
                </a:lnTo>
                <a:close/>
              </a:path>
              <a:path fill="darkenLess" w="32375" h="21600">
                <a:moveTo>
                  <a:pt x="18764" y="6448"/>
                </a:moveTo>
                <a:lnTo>
                  <a:pt x="18764" y="4707"/>
                </a:lnTo>
                <a:lnTo>
                  <a:pt x="20539" y="4707"/>
                </a:lnTo>
                <a:lnTo>
                  <a:pt x="20539" y="8224"/>
                </a:lnTo>
                <a:close/>
              </a:path>
              <a:path fill="darkenLess" w="32375" h="21600">
                <a:moveTo>
                  <a:pt x="15265" y="14299"/>
                </a:moveTo>
                <a:lnTo>
                  <a:pt x="17110" y="14299"/>
                </a:lnTo>
                <a:lnTo>
                  <a:pt x="17110" y="17989"/>
                </a:lnTo>
                <a:lnTo>
                  <a:pt x="21497" y="17989"/>
                </a:lnTo>
                <a:lnTo>
                  <a:pt x="21497" y="10800"/>
                </a:lnTo>
                <a:lnTo>
                  <a:pt x="10878" y="10800"/>
                </a:lnTo>
                <a:lnTo>
                  <a:pt x="10878" y="17989"/>
                </a:lnTo>
                <a:lnTo>
                  <a:pt x="15265" y="1798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375680" y="5737320"/>
            <a:ext cx="1463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800080"/>
                </a:solidFill>
                <a:uFillTx/>
                <a:latin typeface="Arial"/>
                <a:hlinkClick r:id="rId4"/>
              </a:rPr>
              <a:t>关　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1447920"/>
            <a:ext cx="891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采之。窈窕淑女，琴瑟友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57200" y="22096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芼之。窈窕淑女，钟鼓乐之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70760" y="5813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144792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采之。窈窕淑女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琴瑟友之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209680"/>
            <a:ext cx="906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参差荇菜，左右芼之。窈窕淑女，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钟鼓乐之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7400" y="19810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990720" y="2971800"/>
            <a:ext cx="754380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乐而不淫，哀而不伤。</a:t>
            </a: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                 </a:t>
            </a:r>
            <a:r>
              <a:rPr b="1" lang="zh-CN" sz="4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---</a:t>
            </a:r>
            <a:r>
              <a:rPr b="1" lang="zh-CN" sz="48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孔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47800" y="3079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001000" y="838080"/>
            <a:ext cx="6858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关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雎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8153280" y="6172200"/>
            <a:ext cx="381240" cy="380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8088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8" dur="indefinite" restart="never" nodeType="tmRoot">
          <p:childTnLst>
            <p:seq>
              <p:cTn id="79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80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" dur="248006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248082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14264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4560" y="2209680"/>
            <a:ext cx="88390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057400" y="19810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847800" y="3079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90720" y="1447920"/>
            <a:ext cx="71625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我在读“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关关雎鸠，在河之洲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”这句诗的时候，眼前不禁浮现出这样的情景：</a:t>
            </a:r>
            <a:r>
              <a:rPr b="1" lang="zh-CN" sz="3200" spc="-1" strike="noStrike">
                <a:solidFill>
                  <a:srgbClr val="d60093"/>
                </a:solidFill>
                <a:latin typeface="楷体_GB2312"/>
                <a:ea typeface="楷体_GB2312"/>
              </a:rPr>
              <a:t>碧蓝如洗的天空下，一条玉带似的河流静静流淌。河中的小岛上，芳草如茵，一对对雎鸠鸟在草丛里、河水边悠然自得地玩耍嬉戏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你的眼里心里会出现什么情景呢？</a:t>
            </a:r>
            <a:r>
              <a:rPr b="1" lang="zh-CN" sz="32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8229600" y="6172200"/>
            <a:ext cx="380880" cy="3808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 txBox="1"/>
          <p:nvPr/>
        </p:nvSpPr>
        <p:spPr>
          <a:xfrm>
            <a:off x="7238880" y="685800"/>
            <a:ext cx="11430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关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1" strike="noStrike">
                <a:ln w="9360">
                  <a:solidFill>
                    <a:srgbClr val="669900"/>
                  </a:solidFill>
                  <a:miter/>
                </a:ln>
                <a:solidFill>
                  <a:srgbClr val="33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雎</a:t>
            </a:r>
            <a:endParaRPr b="0" lang="en-US" sz="5400" spc="1" strike="noStrike">
              <a:ln w="9360">
                <a:solidFill>
                  <a:srgbClr val="669900"/>
                </a:solidFill>
                <a:miter/>
              </a:ln>
              <a:solidFill>
                <a:srgbClr val="33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33520" y="6019920"/>
            <a:ext cx="380880" cy="3808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89" dur="indefinite" restart="never" nodeType="tmRoot">
          <p:childTnLst>
            <p:seq>
              <p:cTn id="9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9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" dur="248006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" dur="248082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52280" y="1215360"/>
            <a:ext cx="922032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蒹葭苍苍，白露为霜，所谓伊人，在水一方。（《蒹葭》） </a:t>
            </a:r>
            <a:br>
              <a:rPr sz="2400"/>
            </a:b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——追求而不可得的惆怅、迷惘的愁情恰似苍茫的秋水，萧瑟的芦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死生契阔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与子成说。执子之手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,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与子偕老。（《击鼓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  ——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是一种古老而坚定的承诺，是浪漫而美丽的传说。</a:t>
            </a:r>
            <a:r>
              <a:rPr b="1" lang="zh-CN" sz="2000" spc="-1" strike="noStrike">
                <a:solidFill>
                  <a:srgbClr val="cc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日不见，如三月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日不见，如三秋兮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一日不见，如三岁兮。（《 采葛》） </a:t>
            </a:r>
            <a:br>
              <a:rPr sz="2400"/>
            </a:br>
            <a:r>
              <a:rPr b="1" lang="zh-CN" sz="1800" spc="-1" strike="noStrike">
                <a:solidFill>
                  <a:srgbClr val="ff6600"/>
                </a:solidFill>
                <a:latin typeface="Arial"/>
              </a:rPr>
              <a:t>        </a:t>
            </a:r>
            <a:r>
              <a:rPr b="1" lang="zh-CN" sz="20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——男子对女子刻骨铭心的思念，以致度日如年，精神恍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685800" y="380880"/>
            <a:ext cx="1828800" cy="7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阅读经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09520" y="762120"/>
            <a:ext cx="53341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诗经》是我国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最早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一部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诗歌总集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，收录了西周初年至春秋中叶大约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500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年间的诗歌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305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篇，原称“诗”或“诗三百”，是儒家经典之一。这些诗歌分为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“风”“雅”“颂”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三个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“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风”又叫“国风”，是地方歌谣，人民大众的口头创作，是《诗经》中的精华部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而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风、雅、颂、赋、比、兴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合称为诗经的“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六义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《诗经》在篇章结构上多采用</a:t>
            </a:r>
            <a:r>
              <a:rPr b="1" lang="zh-CN" sz="24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重章叠句、反复咏唱</a:t>
            </a:r>
            <a:r>
              <a:rPr b="1" lang="zh-CN" sz="2400" spc="-1" strike="noStrike">
                <a:solidFill>
                  <a:srgbClr val="000099"/>
                </a:solidFill>
                <a:latin typeface="楷体_GB2312"/>
                <a:ea typeface="楷体_GB2312"/>
              </a:rPr>
              <a:t>的形式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609480"/>
            <a:ext cx="4046400" cy="54104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057400" y="1981080"/>
            <a:ext cx="426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847800" y="307980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0" y="868320"/>
            <a:ext cx="4572000" cy="518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朝吟风雅颂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暮唱赋比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秋看鱼虫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d60093"/>
                </a:solidFill>
                <a:latin typeface="Times New Roman"/>
              </a:rPr>
              <a:t>春观草木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7848720" y="59436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100" dur="indefinite" restart="never" nodeType="tmRoot">
          <p:childTnLst>
            <p:seq>
              <p:cTn id="101" restart="whenNotActive" nodeType="interactiveSeq" fill="hold">
                <p:stCondLst>
                  <p:cond evt="onClick">
                    <p:tgtEl>
                      <p:spTgt spid="163"/>
                    </p:tgtEl>
                  </p:cond>
                </p:stCondLst>
                <p:childTnLst>
                  <p:par>
                    <p:cTn id="102" fill="hold">
                      <p:stCondLst>
                        <p:cond evt="onClick">
                          <p:tgtEl>
                            <p:spTgt spid="163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" dur="233887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 txBox="1"/>
          <p:nvPr/>
        </p:nvSpPr>
        <p:spPr>
          <a:xfrm>
            <a:off x="2895480" y="1905120"/>
            <a:ext cx="4114800" cy="25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0">
                  <a:noFill/>
                </a:ln>
                <a:solidFill>
                  <a:srgbClr val="0033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谢谢！</a:t>
            </a:r>
            <a:endParaRPr b="1" lang="en-US" sz="4800" spc="1" strike="noStrike">
              <a:ln w="0">
                <a:noFill/>
              </a:ln>
              <a:solidFill>
                <a:srgbClr val="0033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7543800" y="380880"/>
            <a:ext cx="9144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267080" y="609480"/>
            <a:ext cx="335304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0">
                  <a:noFill/>
                </a:ln>
                <a:solidFill>
                  <a:srgbClr val="29292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楷体_GB2312"/>
              </a:rPr>
              <a:t>关雎</a:t>
            </a:r>
            <a:endParaRPr b="1" lang="en-US" sz="6000" spc="1" strike="noStrike">
              <a:ln w="0">
                <a:noFill/>
              </a:ln>
              <a:solidFill>
                <a:srgbClr val="29292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9" name=""/>
          <p:cNvSpPr/>
          <p:nvPr/>
        </p:nvSpPr>
        <p:spPr>
          <a:xfrm>
            <a:off x="6172200" y="25909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华文隶书"/>
              </a:rPr>
              <a:t>《诗经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371600" y="1828800"/>
            <a:ext cx="777240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雎鸠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（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jūjiū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）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   窈窕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yǎotiǎo)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好逑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hǎoqi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ú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     参差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cēncī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荇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x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ì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ng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菜　　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    寤寐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w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ù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m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辗转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zhǎnzhuǎn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　 琴瑟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s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左右芼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m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à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o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之　    钟鼓乐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(l</a:t>
            </a:r>
            <a:r>
              <a:rPr b="0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è</a:t>
            </a:r>
            <a:r>
              <a:rPr b="1" lang="zh-CN" sz="2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)</a:t>
            </a:r>
            <a:r>
              <a:rPr b="1" lang="zh-CN" sz="32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6680" y="380880"/>
            <a:ext cx="304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00"/>
                </a:solidFill>
                <a:latin typeface="Arial"/>
                <a:ea typeface="楷体_GB2312"/>
              </a:rPr>
              <a:t>读准字音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9154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8305920" y="6172200"/>
            <a:ext cx="380880" cy="3808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7" dur="indefinite" restart="never" nodeType="tmRoot">
          <p:childTnLst>
            <p:seq>
              <p:cTn id="18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248006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248082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85406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66"/>
                </a:solidFill>
                <a:latin typeface="Arial"/>
                <a:ea typeface="楷体_GB2312"/>
              </a:rPr>
              <a:t>关　雎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83908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关关雎鸠，在河之洲。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流之。窈窕淑女，寤寐求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求之不得，寤寐思服。悠哉悠哉，辗转反侧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采之。窈窕淑女，琴瑟友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楷体_GB2312"/>
                <a:ea typeface="楷体_GB2312"/>
              </a:rPr>
              <a:t>参差荇菜，左右芼之。窈窕淑女，钟鼓乐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137160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  <a:ea typeface="楷体_GB2312"/>
              </a:rPr>
              <a:t>窈窕淑女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25146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心美曰“窈”，形美曰“窕”，善良曰“淑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36920" y="1973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2039760"/>
            <a:ext cx="419076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参差荇菜，左右流之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参差荇菜，左右采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楷体_GB2312"/>
                <a:ea typeface="楷体_GB2312"/>
              </a:rPr>
              <a:t>参差荇菜，左右芼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20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685800"/>
            <a:ext cx="259092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9907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关关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雎鸠</a:t>
            </a: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，在河之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666880"/>
            <a:ext cx="7620120" cy="12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cc"/>
                </a:solidFill>
                <a:latin typeface="Arial"/>
                <a:ea typeface="楷体_GB2312"/>
              </a:rPr>
              <a:t>兴</a:t>
            </a:r>
            <a:r>
              <a:rPr b="1" lang="zh-CN" sz="3200" spc="-1" strike="noStrike">
                <a:solidFill>
                  <a:srgbClr val="cc00cc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借助其他事物作为诗歌的发端，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cc00cc"/>
                </a:solidFill>
                <a:latin typeface="Arial"/>
                <a:ea typeface="楷体_GB2312"/>
              </a:rPr>
              <a:t>引起所要歌咏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8288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cc"/>
                </a:solidFill>
                <a:latin typeface="Arial"/>
                <a:ea typeface="楷体_GB2312"/>
              </a:rPr>
              <a:t>雎鸠：生有定偶而不相乱，偶常并游而不相狎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48320" y="99072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92929"/>
                </a:solidFill>
                <a:latin typeface="Arial"/>
                <a:ea typeface="楷体_GB2312"/>
              </a:rPr>
              <a:t>窈窕淑女，君子好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33520" y="762120"/>
            <a:ext cx="5257800" cy="1371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66"/>
                </a:solidFill>
                <a:latin typeface="Times New Roman"/>
                <a:ea typeface="华文中宋"/>
              </a:rPr>
              <a:t>《诗经》三种表现手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45400" y="2286000"/>
            <a:ext cx="36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者，敷陈其事而直言之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81240" y="3200400"/>
            <a:ext cx="32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比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者，以彼物比此物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91640" y="4191120"/>
            <a:ext cx="442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兴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者，先言他物以引起所咏之物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novo User</cp:lastModifiedBy>
  <dcterms:modified xsi:type="dcterms:W3CDTF">2010-11-09T07:27:11Z</dcterms:modified>
  <cp:revision>13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