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%E9%B8%9F%E5%8F%AB%E5%A3%B0.wav" ContentType="audio/x-wav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7"/>
      </p:sldLst>
    </p:custShow>
    <p:custShow name="自定义放映2" id="1">
      <p:sldLst>
        <p:sld r:id="rId8"/>
      </p:sldLst>
    </p:custShow>
    <p:custShow name="自定义放映4" id="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481-9CD7-43BF-9D30-319466CA59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372-51F8-4C71-B3A7-FF0AED12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2DC-2A05-4AE5-A006-0744424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FD8-6E3F-430B-B943-E65036CB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55B-769E-45BB-B801-819FD7D4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853-5835-43F7-9A3E-7C563D9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5EE-978C-4C0F-ABB4-FF36A29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B5F-316F-405C-8B88-3F9DE09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3CE-12CC-4723-B34D-ED4FD0C8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BB1-9381-4455-991C-029477E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ACB-578F-41A7-81C9-1AC022D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BE9-7FD9-4D18-88E9-5521454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A3C-9514-4A76-8C89-5143D73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5585-A38B-43DC-9D07-438DF91C4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162200" y="533412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05920" y="6781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09680" y="2133720"/>
            <a:ext cx="42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240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由文中人和鸟之间的信赖，你能联想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2240" y="345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不仅是人与鸟，人与动物、人与人也是如此，尊重对方的生存空间、思想空间，真正做到不以强凌弱，不以大欺小，这是建立信赖关系的前提条件。而有了信赖，无疑会使世界多一抹温柔的色彩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3400" y="99072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许多地方表达作者对珍珠鸟的喜爱之情，你最喜欢哪一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找出来，说说你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680" y="0"/>
            <a:ext cx="30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写作技巧点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学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生活中，你们或许见过也如珍珠鸟那样逗人喜爱的鸟儿，也许还喂养过令你难忘的宠物，请选择印象最深的一点，写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片段作文。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拟人的手法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运用外貌、神态、动作等描写方法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叙述中融入自己的感情，有议论句或抒情句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散文通过人鸟相依相亲的细腻描写和浓郁的诗意、深刻的哲理，表现作者对自然、生命的挚爱之情，展示了人与动物间充满爱和信赖的理想境界。现代著名作家冰心早在她的《山中杂记》中写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爱自己，也爱雏鸟；我爱我的双亲，也爱雏鸟的双亲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爱的泉水流淌在我们的心田，流淌在万物之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-304920"/>
            <a:ext cx="9601200" cy="784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295280" y="-1295280"/>
            <a:ext cx="12953880" cy="838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-914400" y="-1600200"/>
            <a:ext cx="11201400" cy="800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762120" y="-1219320"/>
            <a:ext cx="10515600" cy="842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06678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684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1006560" y="1687680"/>
            <a:ext cx="268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6576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2057400"/>
            <a:ext cx="441972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识能力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积累品味文中传神描写珍珠鸟的语句，领会并学习作者将自己的喜爱之情融注在叙述描写之中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感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珍珠鸟与作者逐渐亲近信赖的情感历程，感受“信赖，往往能创造出美好的境界”的深刻含义，感受人与动物、人与自然和谐相处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1905120" cy="1434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a800"/>
                </a:solidFill>
                <a:latin typeface="Arial"/>
              </a:rPr>
              <a:t>冯骥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28195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838080"/>
            <a:ext cx="424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珍珠鸟羽毛的颜色艳丽，体形娇小玲珑，叫声细柔给人以美的享受，深受人们的喜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11810880" cy="885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-723960"/>
            <a:ext cx="4724280" cy="14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812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整  体  感  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听课文范读　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几只鸟？他们之间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些自然段写大鸟？哪些自然段写小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 与大鸟、雏鸟之间关系分别发生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一句话概括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962520"/>
            <a:ext cx="100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 鸟 和 “我” 由 怕 人到 熟 悉 的过 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雏 鸟 和 “我” 由 疏 远 到 亲 近 的 过 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14400" y="1447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只；两只大鸟生了一只可爱的小珍珠鸟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５自然段写大鸟，第６－１４自然段写小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86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叙述了“我”和珍珠鸟一家三口从相识、熟悉、亲近，到相依相伴的关系变化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0" y="5029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37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品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、我针对珍珠鸟“怕人”这一特点是怎么做的呢？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设置环境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挂鸟笼、盖垂蔓――温暖、舒适、安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加干扰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很少扒开叶蔓去惊动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结果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怕人－－熟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我对雏鸟有怎样的呵护，小鸟又是怎样一步步亲近我的？请结合起来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“我”从中得到怎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6858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信赖，往往创造出美好的境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23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感悟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673880" cy="383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28195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43828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爱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信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0600" y="832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28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章用一个感人的故事诠释了“信赖”的含义，现在请同学们根据你的理解用一个比喻句来对“信赖”一词作形象化的赞美，可以参考“信赖像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句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信赖像一座桥梁，让我们心灵相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信赖如一泓清泉，滋润你干涸的心田。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赖像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8486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拓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信赖，往往创造出美好的境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09:38:5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