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CE5D-FF99-4FE0-AA73-8235C29B5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5A5D-0FD6-4CBF-8783-1CB4AAF4D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2531-A060-48BB-BE8C-7C2C52322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AC61-BEA9-42AE-A3D6-BC2454360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6E211-9887-468A-AF74-C6B9209DB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AD59A-C75A-44E9-9461-8697BF489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B09DD-DADE-422C-934A-435BCED33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CC8F2-2B9F-4E4D-8C18-E59344E7B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DCECD-61CF-4E7E-9AAC-15156E9F0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3123F-2A50-4036-9361-E60E1381B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4429C-627D-4450-B772-1AEBB2D87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E672-C36D-4E8F-8E37-E72F18C12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0CA62-D60C-4299-8D4D-17925F7CF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3B52D-3522-4760-B34A-7B9AFB903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F6125-F8B8-4552-9BDF-1F724EB2D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3B1F1-C2A7-459E-B0E0-8E4D14B1A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2FD37-FE4A-4267-8927-26571DF06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8170-C4F1-4196-A1AE-12A5E3BBC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71F8-2CD9-4CCE-B1C6-9C5EE2CC9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E70B-DDB0-4030-BEAD-500195AFD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7C40-E53D-479E-AC46-2734888A5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F9DF-DD39-43F5-8219-942834FF3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1237-004D-4EAE-8ECA-5645847A6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3EA1-0EE0-4A1B-9452-29E18617A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4A3E1-ACDD-4238-A802-1B0252B4A70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3AD6B-D096-4578-9BED-A283FB38060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hyperlink" Target="H:\&#20851;&#38606;\&#20851;&#38606;&#21160;&#30011;&#35270;&#39057;.flv" TargetMode="External"/><Relationship Id="rId4" Type="http://schemas.openxmlformats.org/officeDocument/2006/relationships/hyperlink" Target="file:///&#20851;&#38606;&#21160;&#30011;&#35270;&#39057;.flv_6.mp4" TargetMode="Externa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151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362320" y="1752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1219320"/>
            <a:ext cx="624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f5f5f"/>
                </a:solidFill>
                <a:latin typeface="Arial"/>
                <a:ea typeface="楷体_GB2312"/>
              </a:rPr>
              <a:t>欢迎步入语文世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85800" y="685800"/>
            <a:ext cx="259092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1447920"/>
            <a:ext cx="9220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  <a:ea typeface="楷体_GB2312"/>
              </a:rPr>
              <a:t>参差荇菜，左右流之。窈窕淑女，寤寐求之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  <a:ea typeface="楷体_GB2312"/>
              </a:rPr>
              <a:t>求之不得，寤寐思服。悠哉悠哉，辗转反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85800" y="685800"/>
            <a:ext cx="259092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447920"/>
            <a:ext cx="8991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  <a:ea typeface="楷体_GB2312"/>
              </a:rPr>
              <a:t>参差荇菜，左右流之。窈窕淑女，</a:t>
            </a:r>
            <a:r>
              <a:rPr b="1" lang="zh-CN" sz="3200" spc="-1" strike="noStrike">
                <a:solidFill>
                  <a:srgbClr val="cc0099"/>
                </a:solidFill>
                <a:latin typeface="Arial"/>
                <a:ea typeface="楷体_GB2312"/>
              </a:rPr>
              <a:t>寤寐求之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  <a:ea typeface="楷体_GB2312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  <a:ea typeface="楷体_GB2312"/>
              </a:rPr>
              <a:t>求之不得，</a:t>
            </a:r>
            <a:r>
              <a:rPr b="1" lang="zh-CN" sz="3200" spc="-1" strike="noStrike">
                <a:solidFill>
                  <a:srgbClr val="cc0099"/>
                </a:solidFill>
                <a:latin typeface="Arial"/>
                <a:ea typeface="楷体_GB2312"/>
              </a:rPr>
              <a:t>寤寐思服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  <a:ea typeface="楷体_GB2312"/>
              </a:rPr>
              <a:t>。悠哉悠哉，</a:t>
            </a:r>
            <a:r>
              <a:rPr b="1" lang="zh-CN" sz="3200" spc="-1" strike="noStrike">
                <a:solidFill>
                  <a:srgbClr val="cc0099"/>
                </a:solidFill>
                <a:latin typeface="Arial"/>
                <a:ea typeface="楷体_GB2312"/>
              </a:rPr>
              <a:t>辗转反侧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>
            <a:hlinkClick r:id="rId3"/>
          </p:cNvPr>
          <p:cNvSpPr/>
          <p:nvPr/>
        </p:nvSpPr>
        <p:spPr>
          <a:xfrm>
            <a:off x="8686800" y="65530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16187" y="3837"/>
                </a:moveTo>
                <a:lnTo>
                  <a:pt x="18764" y="6448"/>
                </a:lnTo>
                <a:lnTo>
                  <a:pt x="18764" y="4707"/>
                </a:lnTo>
                <a:lnTo>
                  <a:pt x="20539" y="4707"/>
                </a:lnTo>
                <a:lnTo>
                  <a:pt x="20539" y="8224"/>
                </a:lnTo>
                <a:lnTo>
                  <a:pt x="23150" y="10800"/>
                </a:lnTo>
                <a:lnTo>
                  <a:pt x="21497" y="10800"/>
                </a:lnTo>
                <a:lnTo>
                  <a:pt x="21497" y="17989"/>
                </a:lnTo>
                <a:lnTo>
                  <a:pt x="10878" y="17989"/>
                </a:lnTo>
                <a:lnTo>
                  <a:pt x="10878" y="10800"/>
                </a:lnTo>
                <a:lnTo>
                  <a:pt x="9224" y="10800"/>
                </a:lnTo>
                <a:close/>
              </a:path>
              <a:path fill="darkenLess" w="32375" h="21600">
                <a:moveTo>
                  <a:pt x="18764" y="6448"/>
                </a:moveTo>
                <a:lnTo>
                  <a:pt x="18764" y="4707"/>
                </a:lnTo>
                <a:lnTo>
                  <a:pt x="20539" y="4707"/>
                </a:lnTo>
                <a:lnTo>
                  <a:pt x="20539" y="8224"/>
                </a:lnTo>
                <a:close/>
              </a:path>
              <a:path fill="darkenLess" w="32375" h="21600">
                <a:moveTo>
                  <a:pt x="15265" y="14299"/>
                </a:moveTo>
                <a:lnTo>
                  <a:pt x="17110" y="14299"/>
                </a:lnTo>
                <a:lnTo>
                  <a:pt x="17110" y="17989"/>
                </a:lnTo>
                <a:lnTo>
                  <a:pt x="21497" y="17989"/>
                </a:lnTo>
                <a:lnTo>
                  <a:pt x="21497" y="10800"/>
                </a:lnTo>
                <a:lnTo>
                  <a:pt x="10878" y="10800"/>
                </a:lnTo>
                <a:lnTo>
                  <a:pt x="10878" y="17989"/>
                </a:lnTo>
                <a:lnTo>
                  <a:pt x="15265" y="1798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375680" y="5737320"/>
            <a:ext cx="14634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800080"/>
                </a:solidFill>
                <a:uFillTx/>
                <a:latin typeface="Arial"/>
                <a:hlinkClick r:id="rId4"/>
              </a:rPr>
              <a:t>关　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85800" y="685800"/>
            <a:ext cx="259092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144792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  <a:ea typeface="楷体_GB2312"/>
              </a:rPr>
              <a:t>参差荇菜，左右采之。窈窕淑女，琴瑟友之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2209680"/>
            <a:ext cx="906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  <a:ea typeface="楷体_GB2312"/>
              </a:rPr>
              <a:t>参差荇菜，左右芼之。窈窕淑女，钟鼓乐之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070760" y="581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85800" y="685800"/>
            <a:ext cx="259092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144792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  <a:ea typeface="楷体_GB2312"/>
              </a:rPr>
              <a:t>参差荇菜，左右采之。窈窕淑女，</a:t>
            </a:r>
            <a:r>
              <a:rPr b="1" lang="zh-CN" sz="3200" spc="-1" strike="noStrike">
                <a:solidFill>
                  <a:srgbClr val="cc0099"/>
                </a:solidFill>
                <a:latin typeface="Arial"/>
                <a:ea typeface="楷体_GB2312"/>
              </a:rPr>
              <a:t>琴瑟友之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  <a:ea typeface="楷体_GB2312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209680"/>
            <a:ext cx="906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  <a:ea typeface="楷体_GB2312"/>
              </a:rPr>
              <a:t>参差荇菜，左右芼之。窈窕淑女，</a:t>
            </a:r>
            <a:r>
              <a:rPr b="1" lang="zh-CN" sz="3200" spc="-1" strike="noStrike">
                <a:solidFill>
                  <a:srgbClr val="cc0099"/>
                </a:solidFill>
                <a:latin typeface="Arial"/>
                <a:ea typeface="楷体_GB2312"/>
              </a:rPr>
              <a:t>钟鼓乐之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  <a:ea typeface="楷体_GB2312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057400" y="1981080"/>
            <a:ext cx="426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990720" y="2971800"/>
            <a:ext cx="75438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乐而不淫，哀而不伤。</a:t>
            </a:r>
            <a:r>
              <a:rPr b="1" lang="zh-CN" sz="40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                 </a:t>
            </a:r>
            <a:r>
              <a:rPr b="1" lang="zh-CN" sz="48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---</a:t>
            </a:r>
            <a:r>
              <a:rPr b="1" lang="zh-CN" sz="48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孔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47800" y="30798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001000" y="838080"/>
            <a:ext cx="68580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9360">
                  <a:solidFill>
                    <a:srgbClr val="669900"/>
                  </a:solidFill>
                  <a:miter/>
                </a:ln>
                <a:solidFill>
                  <a:srgbClr val="33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楷体_GB2312"/>
              </a:rPr>
              <a:t>关</a:t>
            </a:r>
            <a:endParaRPr b="0" lang="en-US" sz="5400" spc="1" strike="noStrike">
              <a:ln w="9360">
                <a:solidFill>
                  <a:srgbClr val="669900"/>
                </a:solidFill>
                <a:miter/>
              </a:ln>
              <a:solidFill>
                <a:srgbClr val="33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9360">
                  <a:solidFill>
                    <a:srgbClr val="669900"/>
                  </a:solidFill>
                  <a:miter/>
                </a:ln>
                <a:solidFill>
                  <a:srgbClr val="33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楷体_GB2312"/>
              </a:rPr>
              <a:t>雎</a:t>
            </a:r>
            <a:endParaRPr b="0" lang="en-US" sz="5400" spc="1" strike="noStrike">
              <a:ln w="9360">
                <a:solidFill>
                  <a:srgbClr val="669900"/>
                </a:solidFill>
                <a:miter/>
              </a:ln>
              <a:solidFill>
                <a:srgbClr val="33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 spd="slow">
    <p:dissolv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8540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Arial"/>
                <a:ea typeface="楷体_GB2312"/>
              </a:rPr>
              <a:t>关　雎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560" y="2209680"/>
            <a:ext cx="88390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关关雎鸠，在河之洲。窈窕淑女，君子好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参差荇菜，左右流之。窈窕淑女，寤寐求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求之不得，寤寐思服。悠哉悠哉，辗转反侧。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参差荇菜，左右采之。窈窕淑女，琴瑟友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参差荇菜，左右芼之。窈窕淑女，钟鼓乐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8153280" y="617220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3808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78" dur="indefinite" restart="never" nodeType="tmRoot">
          <p:childTnLst>
            <p:seq>
              <p:cTn id="79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248006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248082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8540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Arial"/>
                <a:ea typeface="楷体_GB2312"/>
              </a:rPr>
              <a:t>关　雎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560" y="2209680"/>
            <a:ext cx="88390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关关雎鸠，在河之洲。窈窕淑女，君子好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参差荇菜，左右流之。窈窕淑女，寤寐求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求之不得，寤寐思服。悠哉悠哉，辗转反侧。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参差荇菜，左右采之。窈窕淑女，琴瑟友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参差荇菜，左右芼之。窈窕淑女，钟鼓乐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057400" y="1981080"/>
            <a:ext cx="426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847800" y="30798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90720" y="1447920"/>
            <a:ext cx="7162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我在读“</a:t>
            </a:r>
            <a:r>
              <a:rPr b="1" lang="zh-CN" sz="32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关关雎鸠，在河之洲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”这句诗的时候，眼前不禁浮现出这样的情景：</a:t>
            </a:r>
            <a:r>
              <a:rPr b="1" lang="zh-CN" sz="32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碧蓝如洗的天空下，一条玉带似的河流静静流淌。河中的小岛上，芳草如茵，一对对雎鸠鸟在草丛里、河水边悠然自得地玩耍嬉戏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你的眼里心里会出现什么情景呢？</a:t>
            </a: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8229600" y="617220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7238880" y="685800"/>
            <a:ext cx="11430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9360">
                  <a:solidFill>
                    <a:srgbClr val="669900"/>
                  </a:solidFill>
                  <a:miter/>
                </a:ln>
                <a:solidFill>
                  <a:srgbClr val="33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楷体_GB2312"/>
              </a:rPr>
              <a:t>关</a:t>
            </a:r>
            <a:endParaRPr b="0" lang="en-US" sz="5400" spc="1" strike="noStrike">
              <a:ln w="9360">
                <a:solidFill>
                  <a:srgbClr val="669900"/>
                </a:solidFill>
                <a:miter/>
              </a:ln>
              <a:solidFill>
                <a:srgbClr val="33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9360">
                  <a:solidFill>
                    <a:srgbClr val="669900"/>
                  </a:solidFill>
                  <a:miter/>
                </a:ln>
                <a:solidFill>
                  <a:srgbClr val="33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楷体_GB2312"/>
              </a:rPr>
              <a:t>雎</a:t>
            </a:r>
            <a:endParaRPr b="0" lang="en-US" sz="5400" spc="1" strike="noStrike">
              <a:ln w="9360">
                <a:solidFill>
                  <a:srgbClr val="669900"/>
                </a:solidFill>
                <a:miter/>
              </a:ln>
              <a:solidFill>
                <a:srgbClr val="33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533520" y="6019920"/>
            <a:ext cx="380880" cy="380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89" dur="indefinite" restart="never" nodeType="tmRoot">
          <p:childTnLst>
            <p:seq>
              <p:cTn id="90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" dur="248006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248082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52280" y="1215360"/>
            <a:ext cx="9220320" cy="43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蒹葭苍苍，白露为霜，所谓伊人，在水一方。（《蒹葭》） </a:t>
            </a:r>
            <a:br>
              <a:rPr sz="2400"/>
            </a:br>
            <a:r>
              <a:rPr b="1" lang="zh-CN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   </a:t>
            </a:r>
            <a:r>
              <a:rPr b="1" lang="zh-CN" sz="2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——追求而不可得的惆怅、迷惘的愁情恰似苍茫的秋水，萧瑟的芦苇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死生契阔</a:t>
            </a:r>
            <a:r>
              <a:rPr b="1" lang="zh-CN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与子成说。执子之手</a:t>
            </a:r>
            <a:r>
              <a:rPr b="1" lang="zh-CN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与子偕老。（《击鼓》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  ——</a:t>
            </a:r>
            <a:r>
              <a:rPr b="1" lang="zh-CN" sz="2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是一种古老而坚定的承诺，是浪漫而美丽的传说。</a:t>
            </a: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一日不见，如三月兮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一日不见，如三秋兮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一日不见，如三岁兮。（《 采葛》） </a:t>
            </a:r>
            <a:br>
              <a:rPr sz="2400"/>
            </a:br>
            <a:r>
              <a:rPr b="1" lang="zh-CN" sz="1800" spc="-1" strike="noStrike">
                <a:solidFill>
                  <a:srgbClr val="ff6600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——男子对女子刻骨铭心的思念，以致度日如年，精神恍惚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85800" y="380880"/>
            <a:ext cx="182880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阅读经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809520" y="762120"/>
            <a:ext cx="53341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《诗经》是我国</a:t>
            </a:r>
            <a:r>
              <a:rPr b="1" lang="zh-CN" sz="24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最早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的一部</a:t>
            </a:r>
            <a:r>
              <a:rPr b="1" lang="zh-CN" sz="24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诗歌总集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，收录了西周初年至春秋中叶大约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500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年间的诗歌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305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篇，原称“诗”或“诗三百”，是儒家经典之一。这些诗歌分为</a:t>
            </a:r>
            <a:r>
              <a:rPr b="1" lang="zh-CN" sz="24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“风”“雅”“颂”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三个部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  “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风”又叫“国风”，是地方歌谣，人民大众的口头创作，是《诗经》中的精华部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而</a:t>
            </a:r>
            <a:r>
              <a:rPr b="1" lang="zh-CN" sz="24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风、雅、颂、赋、比、兴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合称为诗经的“</a:t>
            </a:r>
            <a:r>
              <a:rPr b="1" lang="zh-CN" sz="24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六义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《诗经》在篇章结构上多采用</a:t>
            </a:r>
            <a:r>
              <a:rPr b="1" lang="zh-CN" sz="24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重章叠句、反复咏唱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的形式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609480"/>
            <a:ext cx="4046400" cy="54104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057400" y="1981080"/>
            <a:ext cx="426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847800" y="30798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0" y="868320"/>
            <a:ext cx="4572000" cy="51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d60093"/>
                </a:solidFill>
                <a:latin typeface="Times New Roman"/>
              </a:rPr>
              <a:t>朝吟风雅颂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d60093"/>
                </a:solidFill>
                <a:latin typeface="Times New Roman"/>
              </a:rPr>
              <a:t>暮唱赋比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1" lang="zh-CN" sz="6000" spc="-1" strike="noStrike">
                <a:solidFill>
                  <a:srgbClr val="d60093"/>
                </a:solidFill>
                <a:latin typeface="Times New Roman"/>
              </a:rPr>
              <a:t>秋看鱼虫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1" lang="zh-CN" sz="6000" spc="-1" strike="noStrike">
                <a:solidFill>
                  <a:srgbClr val="d60093"/>
                </a:solidFill>
                <a:latin typeface="Times New Roman"/>
              </a:rPr>
              <a:t>春观草木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7848720" y="5943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00" dur="indefinite" restart="never" nodeType="tmRoot">
          <p:childTnLst>
            <p:seq>
              <p:cTn id="101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102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233887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2895480" y="1905120"/>
            <a:ext cx="411480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楷体_GB2312"/>
              </a:rPr>
              <a:t>谢谢！</a:t>
            </a:r>
            <a:endParaRPr b="1" lang="en-US" sz="4800" spc="1" strike="noStrike">
              <a:ln w="0">
                <a:noFill/>
              </a:ln>
              <a:solidFill>
                <a:srgbClr val="00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7543800" y="380880"/>
            <a:ext cx="914400" cy="19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267080" y="609480"/>
            <a:ext cx="335304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0">
                  <a:noFill/>
                </a:ln>
                <a:solidFill>
                  <a:srgbClr val="29292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楷体_GB2312"/>
              </a:rPr>
              <a:t>关雎</a:t>
            </a:r>
            <a:endParaRPr b="1" lang="en-US" sz="6000" spc="1" strike="noStrike">
              <a:ln w="0">
                <a:noFill/>
              </a:ln>
              <a:solidFill>
                <a:srgbClr val="29292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89" name=""/>
          <p:cNvSpPr/>
          <p:nvPr/>
        </p:nvSpPr>
        <p:spPr>
          <a:xfrm>
            <a:off x="6172200" y="25909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  <a:ea typeface="华文隶书"/>
              </a:rPr>
              <a:t>《诗经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371600" y="182880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雎鸠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jūjiū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）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　   窈窕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(yǎotiǎo)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好逑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(hǎoqi</a:t>
            </a:r>
            <a:r>
              <a:rPr b="0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ú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　     参差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(cēncī)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荇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(x</a:t>
            </a:r>
            <a:r>
              <a:rPr b="0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ì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ng)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菜　　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　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   寤寐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(w</a:t>
            </a:r>
            <a:r>
              <a:rPr b="0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ù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m</a:t>
            </a:r>
            <a:r>
              <a:rPr b="0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è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辗转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(zhǎnzhuǎn)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　 琴瑟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(s</a:t>
            </a:r>
            <a:r>
              <a:rPr b="0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è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)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左右芼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(m</a:t>
            </a:r>
            <a:r>
              <a:rPr b="0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à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o)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之　    钟鼓乐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(l</a:t>
            </a:r>
            <a:r>
              <a:rPr b="0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è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38088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00"/>
                </a:solidFill>
                <a:latin typeface="Arial"/>
                <a:ea typeface="楷体_GB2312"/>
              </a:rPr>
              <a:t>读准字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8540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Arial"/>
                <a:ea typeface="楷体_GB2312"/>
              </a:rPr>
              <a:t>关　雎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160" y="2133360"/>
            <a:ext cx="8915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关关雎鸠，在河之洲。窈窕淑女，君子好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参差荇菜，左右流之。窈窕淑女，寤寐求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求之不得，寤寐思服。悠哉悠哉，辗转反侧。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参差荇菜，左右采之。窈窕淑女，琴瑟友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参差荇菜，左右芼之。窈窕淑女，钟鼓乐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8305920" y="6172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8088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7" dur="indefinite" restart="never" nodeType="tmRoot">
          <p:childTnLst>
            <p:seq>
              <p:cTn id="18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248006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248082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8540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Arial"/>
                <a:ea typeface="楷体_GB2312"/>
              </a:rPr>
              <a:t>关　雎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160" y="2133360"/>
            <a:ext cx="8839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关关雎鸠，在河之洲。窈窕淑女，君子好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参差荇菜，左右流之。窈窕淑女，寤寐求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求之不得，寤寐思服。悠哉悠哉，辗转反侧。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参差荇菜，左右采之。窈窕淑女，琴瑟友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参差荇菜，左右芼之。窈窕淑女，钟鼓乐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85800" y="685800"/>
            <a:ext cx="259092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137160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  <a:ea typeface="楷体_GB2312"/>
              </a:rPr>
              <a:t>窈窕淑女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  <a:ea typeface="楷体_GB2312"/>
              </a:rPr>
              <a:t>，君子好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25146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  <a:ea typeface="楷体_GB2312"/>
              </a:rPr>
              <a:t>心美曰“窈”，形美曰“窕”，善良曰“淑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36920" y="1973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219320" y="2039760"/>
            <a:ext cx="419076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参差荇菜，左右流之。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参差荇菜，左右采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参差荇菜，左右芼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85800" y="685800"/>
            <a:ext cx="259092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9907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  <a:ea typeface="楷体_GB2312"/>
              </a:rPr>
              <a:t>关关</a:t>
            </a:r>
            <a:r>
              <a:rPr b="1" lang="zh-CN" sz="3200" spc="-1" strike="noStrike">
                <a:solidFill>
                  <a:srgbClr val="cc00cc"/>
                </a:solidFill>
                <a:latin typeface="Arial"/>
                <a:ea typeface="楷体_GB2312"/>
              </a:rPr>
              <a:t>雎鸠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  <a:ea typeface="楷体_GB2312"/>
              </a:rPr>
              <a:t>，在河之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66680" y="2666880"/>
            <a:ext cx="7620120" cy="12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Arial"/>
                <a:ea typeface="楷体_GB2312"/>
              </a:rPr>
              <a:t>兴</a:t>
            </a:r>
            <a:r>
              <a:rPr b="1" lang="zh-CN" sz="3200" spc="-1" strike="noStrike">
                <a:solidFill>
                  <a:srgbClr val="cc00cc"/>
                </a:solidFill>
                <a:latin typeface="Arial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cc00cc"/>
                </a:solidFill>
                <a:latin typeface="Arial"/>
                <a:ea typeface="楷体_GB2312"/>
              </a:rPr>
              <a:t>借助其他事物作为诗歌的发端，以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cc00cc"/>
                </a:solidFill>
                <a:latin typeface="Arial"/>
                <a:ea typeface="楷体_GB2312"/>
              </a:rPr>
              <a:t>引起所要歌咏的内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66680" y="1828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Arial"/>
                <a:ea typeface="楷体_GB2312"/>
              </a:rPr>
              <a:t>雎鸠：生有定偶而不相乱，偶常并游而不相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48320" y="99072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  <a:ea typeface="楷体_GB2312"/>
              </a:rPr>
              <a:t>窈窕淑女，君子好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33520" y="762120"/>
            <a:ext cx="525780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66"/>
                </a:solidFill>
                <a:latin typeface="Times New Roman"/>
                <a:ea typeface="华文中宋"/>
              </a:rPr>
              <a:t>《诗经》三种表现手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345400" y="2286000"/>
            <a:ext cx="369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赋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者，敷陈其事而直言之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81240" y="3200400"/>
            <a:ext cx="32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比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者，以彼物比此物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91640" y="4191120"/>
            <a:ext cx="442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兴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者，先言他物以引起所咏之物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novo User</cp:lastModifiedBy>
  <dcterms:modified xsi:type="dcterms:W3CDTF">2010-11-09T07:27:11Z</dcterms:modified>
  <cp:revision>1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