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9.wmf" ContentType="image/x-wmf"/>
  <Override PartName="/ppt/media/image10.png" ContentType="image/pn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EAD-0DEF-4FD3-A230-BBB69ECE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AE6-6BE7-42A7-A382-4900DDF5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F92-574A-495D-B472-BA5362E3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D61-6EBA-423E-9C13-8A49DBE6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DCE1-BFA6-400C-A017-0C82D959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562F-DBF9-4DA4-A923-A67011B3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6121-2DDB-4483-8A41-2F145D37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A6A1-D51E-45F5-BC77-77FA0159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AD2C-FEC0-45EE-98F8-F0FC8F5C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0838-E30E-4B54-8D83-0CDE74B2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3ECF-4C13-4955-9F90-D5C298C1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AD2-E5C9-47E8-8E37-697A3278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4C68-635F-4BA2-918E-C28BB2F7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AC23-4019-4BB4-97A0-ACF61BDF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5366-3B53-45C6-A3E1-C2D9D495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D8AD-80F6-4522-804F-10322898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86D9-CB55-4756-898B-01DA3889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940-9815-4831-8519-F4A761D1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CEE-3BCB-4FDE-AC00-5445EBAD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6C2-03F2-4522-BD56-6DB1A9F5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4B1-D468-4E90-AD57-A0780ED3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E9C-F438-498C-8078-6F881D74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C9F-35C4-4480-BBFC-F33C174D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3D7-8CBC-47EC-A6AD-CB2FCE46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BA81-D57C-4659-BDD5-784938BCEFE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DB3A-516D-4ADF-92AC-E4D63A02DEF1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G:\&#39118;&#31581;&#35838;&#20214;\&#28201;&#26262;.exe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28201;&#26262;.ex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8201;&#26262;.ex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966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8366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狂人日记》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向沉滞落后的中国社会发出了“从来如此，便对么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?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的严厉质问，发出了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“救救孩子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的呐喊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2276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我们现在怎样做父亲》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1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里先生发出了这样的呼唤：“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爱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就是各自解放了自己的孩子。就是自己背着因袭的重担，肩扛住了黑暗的闸门，放他们到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宽阔光明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的地方去；此后幸福地度日，合理地做人。 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4292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故乡》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2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里，先生希望下一代“宏儿、水生” 过着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新的生活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“为我们未曾生活过的”， 告诉他们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“世上本没有路，走的人多了，也便成了路……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88000" y="5445000"/>
            <a:ext cx="1008360" cy="88128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/>
          </p:cNvPr>
          <p:cNvSpPr/>
          <p:nvPr/>
        </p:nvSpPr>
        <p:spPr>
          <a:xfrm>
            <a:off x="755640" y="5805360"/>
            <a:ext cx="1873440" cy="432000"/>
          </a:xfrm>
          <a:custGeom>
            <a:avLst/>
            <a:gdLst>
              <a:gd name="textAreaLeft" fmla="*/ 27720 w 1873440"/>
              <a:gd name="textAreaRight" fmla="*/ 1845720 w 187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3612" h="21600">
                <a:moveTo>
                  <a:pt x="0" y="0"/>
                </a:moveTo>
                <a:lnTo>
                  <a:pt x="93612" y="0"/>
                </a:lnTo>
                <a:lnTo>
                  <a:pt x="93612" y="21600"/>
                </a:lnTo>
                <a:lnTo>
                  <a:pt x="0" y="21600"/>
                </a:lnTo>
                <a:close/>
              </a:path>
              <a:path fill="lightenLess" w="93612" h="21600">
                <a:moveTo>
                  <a:pt x="0" y="0"/>
                </a:moveTo>
                <a:lnTo>
                  <a:pt x="93612" y="0"/>
                </a:lnTo>
                <a:lnTo>
                  <a:pt x="92212" y="1400"/>
                </a:lnTo>
                <a:lnTo>
                  <a:pt x="1400" y="1400"/>
                </a:lnTo>
                <a:close/>
              </a:path>
              <a:path fill="darken" w="93612" h="21600">
                <a:moveTo>
                  <a:pt x="93612" y="0"/>
                </a:moveTo>
                <a:lnTo>
                  <a:pt x="93612" y="21600"/>
                </a:lnTo>
                <a:lnTo>
                  <a:pt x="92212" y="20200"/>
                </a:lnTo>
                <a:lnTo>
                  <a:pt x="92212" y="1400"/>
                </a:lnTo>
                <a:close/>
              </a:path>
              <a:path fill="darkenLess" w="93612" h="21600">
                <a:moveTo>
                  <a:pt x="9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12" y="20200"/>
                </a:lnTo>
                <a:close/>
              </a:path>
              <a:path fill="lighten" w="9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12" h="21600">
                <a:moveTo>
                  <a:pt x="39800" y="3794"/>
                </a:moveTo>
                <a:lnTo>
                  <a:pt x="53812" y="10800"/>
                </a:lnTo>
                <a:lnTo>
                  <a:pt x="39800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9843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92360" y="4437000"/>
            <a:ext cx="5112000" cy="2135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4272120" cy="2217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58920" y="2565360"/>
            <a:ext cx="6697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游戏是儿童最正当的行为，玩具是儿童的天使。”你小时侯也做过许多游戏，玩过不少玩具吧？选一个你最难忘的说给同学听，然后写下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7477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050920" y="1125360"/>
            <a:ext cx="49690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278964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我不但善于解剖别人，更善于解剖自己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5300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鲁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32360" y="907920"/>
            <a:ext cx="3209760" cy="5112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92360" y="5734080"/>
            <a:ext cx="863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11280" y="1557360"/>
            <a:ext cx="3924360" cy="2668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被虐杀者不知自己被虐杀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奴役者不知自己被奴役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32360" y="907920"/>
            <a:ext cx="3209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3500280"/>
            <a:ext cx="2247840" cy="2926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42920" y="1268280"/>
            <a:ext cx="73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儿童的每一次游戏都等于是登上发现的旅途：发现自己，发现自己能力和智力，发现自己周围的世界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                                            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91b44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c91b44"/>
                </a:solidFill>
                <a:latin typeface="黑体"/>
                <a:ea typeface="黑体"/>
              </a:rPr>
              <a:t>（英）心理学家  莫里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方正祥隶简体"/>
                <a:ea typeface="方正祥隶简体"/>
              </a:rPr>
              <a:t>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8207280" cy="3671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858080" y="0"/>
            <a:ext cx="1285920" cy="1808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372360" y="2276640"/>
            <a:ext cx="1822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鲁迅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03280" y="765000"/>
            <a:ext cx="5004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黑体"/>
              </a:rPr>
              <a:t>风筝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08720" y="5157720"/>
            <a:ext cx="11527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6123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8207280" cy="3671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858080" y="0"/>
            <a:ext cx="1285920" cy="1808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372360" y="2276640"/>
            <a:ext cx="1822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鲁迅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03280" y="765000"/>
            <a:ext cx="5004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黑体"/>
              </a:rPr>
              <a:t>风筝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611280" y="2133720"/>
            <a:ext cx="784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即刻伸手抓断了胡蝶的一支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骨，又将风轮掷在地下，踏扁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611280" y="692280"/>
            <a:ext cx="1620720" cy="1025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651640" y="1268280"/>
            <a:ext cx="25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17080" y="1484280"/>
            <a:ext cx="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148360" y="4724280"/>
            <a:ext cx="2933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611280" y="126828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即刻伸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抓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胡蝶的一支翅骨，又将风轮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地下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踏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50920" y="404640"/>
            <a:ext cx="1620720" cy="1025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56360" y="620640"/>
            <a:ext cx="25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75640" y="692280"/>
            <a:ext cx="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88000" y="5373720"/>
            <a:ext cx="2933640" cy="107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2852640"/>
            <a:ext cx="7777080" cy="24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论长幼，论力气，他是都敌不过我的，我当然得到完全的胜利，于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傲然走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留他绝望地站在小屋里。后来他怎样，我不知道，也没有留心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7640" y="765000"/>
            <a:ext cx="66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00ff"/>
                </a:solidFill>
                <a:latin typeface="黑体"/>
                <a:ea typeface="黑体"/>
              </a:rPr>
              <a:t>他心想……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637000"/>
            <a:ext cx="7345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205000"/>
            <a:ext cx="770580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4560" y="98100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送他风筝，赞成他放，劝他放，我和他一同放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1197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他风筝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赞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他放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他放，我和他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同放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076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然而他其时已经和我一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早已有了胡子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256536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们</a:t>
            </a:r>
            <a:r>
              <a:rPr b="1" lang="zh-CN" sz="4800" spc="-1" strike="noStrike">
                <a:solidFill>
                  <a:srgbClr val="9900ff"/>
                </a:solidFill>
                <a:latin typeface="黑体"/>
                <a:ea typeface="黑体"/>
              </a:rPr>
              <a:t>嚷着，跑着，笑着。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1413000"/>
            <a:ext cx="8534520" cy="113004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《风筝》写于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92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。当时，中国社会新旧斗争十分尖锐。中国几千年的旧文化、旧制度、旧传统层层因袭，到这时，已经是黑暗腐朽无比，它像一个巨大的毒瘤，寄生在国民身上，禁锢着国民的身心，使国民畏惧而麻木，虽经辛亥革命和“五四运动”，封建统治，尤其是封建文化、传统思想仍还是根深蒂固。鲁迅在《灯下漫笔》一文中曾经写到：“我们极容易变成奴隶，而变了之后还万分喜欢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00360" y="189000"/>
            <a:ext cx="273672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背景</a:t>
            </a:r>
            <a:endParaRPr b="0" lang="en-US" sz="1800" spc="1" strike="noStrike">
              <a:ln w="1908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93080" y="5516640"/>
            <a:ext cx="12952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9843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2:37:37Z</dcterms:created>
  <dc:creator>ibm</dc:creator>
  <dc:description/>
  <dc:language>en-US</dc:language>
  <cp:lastModifiedBy>上海绿茶网络科技</cp:lastModifiedBy>
  <dcterms:modified xsi:type="dcterms:W3CDTF">2010-11-15T11:58:09Z</dcterms:modified>
  <cp:revision>59</cp:revision>
  <dc:subject/>
  <dc:title>幻灯片 1</dc:title>
</cp:coreProperties>
</file>