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262-B5AC-4D42-92F6-C85906AA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A24-5960-46E4-99AB-02FA0DBF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A43-6339-47DA-8E0D-31378DD6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F31-9E26-4588-B643-24038250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B688-FD91-48A5-BAA6-D8F7308B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C819-8DEA-4C7F-9740-3D92CCC7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A612-6966-4F54-84E1-D9D3219F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FB22-BC81-4609-9BA8-75C03F67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5261-53F3-4ABE-A4E1-4B3DD828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36AB-BA15-48C8-9CE5-AEEBDC83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E106-9790-4474-BE02-C9BA140B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003-E61E-4C76-B14F-208CA0A6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284A-9701-4DFB-8B1E-8B816BF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A853-3BFD-495A-8A8B-20476A96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D52B-29AA-48D3-8E5E-39FB9AC6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9954-73BD-4DD8-A47A-021DFAF1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9969-E004-4831-A5CD-89DD4F68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EEF-11DC-4854-A70E-3D3E05F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D02-9E0A-458B-A181-988C16A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4E2-3259-4B26-A983-7DD375D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1BE-CA56-433C-985E-27A6A5D7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FA0-AD76-4BBA-8B4A-03D18B4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83A-C85D-4F6D-B0C2-C95DAC99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6DC-812A-470E-8626-7BE5E75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C4CF-1255-44BE-9251-DC41D1B29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124-7028-4D88-81EA-579507F83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:\&#20851;&#38606;\&#20851;&#38606;&#21160;&#30011;&#35270;&#39057;.flv" TargetMode="External"/><Relationship Id="rId4" Type="http://schemas.openxmlformats.org/officeDocument/2006/relationships/hyperlink" Target="file:///&#20851;&#38606;&#21160;&#30011;&#35270;&#39057;.flv_6.mp4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7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2193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  <a:ea typeface="楷体_GB2312"/>
              </a:rPr>
              <a:t>欢迎步入语文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447920"/>
            <a:ext cx="9220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寤寐求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寤寐思服。悠哉悠哉，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991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求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思服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悠哉悠哉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辗转反侧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75680" y="5737320"/>
            <a:ext cx="146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关　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47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琴瑟友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钟鼓乐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70760" y="581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447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琴瑟友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钟鼓乐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2971800"/>
            <a:ext cx="754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乐而不淫，哀而不伤。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---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孔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01000" y="838080"/>
            <a:ext cx="685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800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48082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44792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在读“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关关雎鸠，在河之洲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”这句诗的时候，眼前不禁浮现出这样的情景：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碧蓝如洗的天空下，一条玉带似的河流静静流淌。河中的小岛上，芳草如茵，一对对雎鸠鸟在草丛里、河水边悠然自得地玩耍嬉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的眼里心里会出现什么情景呢？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7238880" y="685800"/>
            <a:ext cx="1143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33520" y="6019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48006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4808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1215360"/>
            <a:ext cx="92203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蒹葭苍苍，白露为霜，所谓伊人，在水一方。（《蒹葭》） </a:t>
            </a: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追求而不可得的惆怅、迷惘的愁情恰似苍茫的秋水，萧瑟的芦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死生契阔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成说。执子之手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偕老。（《击鼓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——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是一种古老而坚定的承诺，是浪漫而美丽的传说。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月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秋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岁兮。（《 采葛》） </a:t>
            </a:r>
            <a:br>
              <a:rPr sz="2400"/>
            </a:b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男子对女子刻骨铭心的思念，以致度日如年，精神恍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38088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经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9520" y="76212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是我国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最早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一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诗歌总集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收录了西周初年至春秋中叶大约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00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间的诗歌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05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篇，原称“诗”或“诗三百”，是儒家经典之一。这些诗歌分为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“风”“雅”“颂”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个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风”又叫“国风”，是地方歌谣，人民大众的口头创作，是《诗经》中的精华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风、雅、颂、赋、比、兴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合称为诗经的“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六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在篇章结构上多采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重章叠句、反复咏唱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04640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868320"/>
            <a:ext cx="4572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朝吟风雅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暮唱赋比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秋看鱼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春观草木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848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3388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895480" y="1905120"/>
            <a:ext cx="4114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4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43800" y="380880"/>
            <a:ext cx="914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67080" y="609480"/>
            <a:ext cx="33530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29292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雎</a:t>
            </a:r>
            <a:endParaRPr b="1" lang="en-US" sz="6000" spc="1" strike="noStrike">
              <a:ln w="0">
                <a:noFill/>
              </a:ln>
              <a:solidFill>
                <a:srgbClr val="29292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华文隶书"/>
              </a:rPr>
              <a:t>《诗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18288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雎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ūjiū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窈窕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yǎotiǎo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好逑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hǎoqi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ú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  参差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cēncī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荇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x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g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菜　　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寤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w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ù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辗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zhǎnzhuǎn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琴瑟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s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左右芼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o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　    钟鼓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l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80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读准字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80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4808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371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窈窕淑女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514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心美曰“窈”，形美曰“窕”，善良曰“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36920" y="19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39760"/>
            <a:ext cx="4190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流之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采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芼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990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关关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雎鸠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666880"/>
            <a:ext cx="7620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借助其他事物作为诗歌的发端，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引起所要歌咏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楷体_GB2312"/>
              </a:rPr>
              <a:t>雎鸠：生有定偶而不相乱，偶常并游而不相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990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520" y="762120"/>
            <a:ext cx="5257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Times New Roman"/>
                <a:ea typeface="华文中宋"/>
              </a:rPr>
              <a:t>《诗经》三种表现手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5400" y="2286000"/>
            <a:ext cx="36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敷陈其事而直言之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81240" y="32004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以彼物比此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1640" y="419112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先言他物以引起所咏之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0-11-09T07:27:11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