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9.wmf" ContentType="image/x-wmf"/>
  <Override PartName="/ppt/media/image10.png" ContentType="image/pn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B39-4C3B-4031-BA8D-31D4417E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940-5918-4D7D-BC0E-E19267D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E10-20A7-42CD-B76D-D81E32D4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126-5305-4F41-BC92-6F92047F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FB37-5666-4F90-B1EF-B57BAE02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45A9-7677-4007-A091-D0E90D27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F038-7C46-486D-8329-4A95B0EE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9E47-DEC1-405A-A554-D1E76D0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3F7A-4FA2-4E49-9032-56D741C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7D7C-B6FB-4C5C-AB83-66B4183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5C1F-FF7E-4E9E-B248-32116C7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5B0-85F4-4799-BF4D-5348414E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F942-5890-40DD-B88D-E785DC2E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5363-DCB3-4E93-8A0D-143E2DF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5EAF-D147-4987-916B-D8BE6A21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5B87-FEF6-4AFF-B604-18F9735B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D6E8-6B95-4927-B0F8-DCC3266F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CB7-56ED-479A-A71E-8AC12F5F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1C2-3240-4D1F-8EB2-0C59057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5C8-2F5C-4854-BFB4-333042F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6E5-242B-4E94-A6F4-9B24492E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26E-2FEF-441D-A101-036F6767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42F-1E21-4895-B669-4931960E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429-252E-4C41-BC39-117D9C2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B57B-557C-405F-B55F-B10CB9FD2DC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B9BA-F037-4B22-96DE-273495028269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G:\&#39118;&#31581;&#35838;&#20214;\&#28201;&#26262;.ex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8201;&#26262;.ex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8201;&#26262;.ex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66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8366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狂人日记》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向沉滞落后的中国社会发出了“从来如此，便对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?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严厉质问，发出了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“救救孩子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呐喊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276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我们现在怎样做父亲》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里先生发出了这样的呼唤：“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爱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就是各自解放了自己的孩子。就是自己背着因袭的重担，肩扛住了黑暗的闸门，放他们到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宽阔光明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地方去；此后幸福地度日，合理地做人。 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4292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故乡》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里，先生希望下一代“宏儿、水生” 过着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新的生活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“为我们未曾生活过的”， 告诉他们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“世上本没有路，走的人多了，也便成了路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88000" y="5445000"/>
            <a:ext cx="1008360" cy="88128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755640" y="5805360"/>
            <a:ext cx="1873440" cy="432000"/>
          </a:xfrm>
          <a:custGeom>
            <a:avLst/>
            <a:gdLst>
              <a:gd name="textAreaLeft" fmla="*/ 27720 w 1873440"/>
              <a:gd name="textAreaRight" fmla="*/ 1845720 w 187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612" h="21600">
                <a:moveTo>
                  <a:pt x="0" y="0"/>
                </a:moveTo>
                <a:lnTo>
                  <a:pt x="93612" y="0"/>
                </a:lnTo>
                <a:lnTo>
                  <a:pt x="93612" y="21600"/>
                </a:lnTo>
                <a:lnTo>
                  <a:pt x="0" y="21600"/>
                </a:lnTo>
                <a:close/>
              </a:path>
              <a:path fill="lightenLess" w="93612" h="21600">
                <a:moveTo>
                  <a:pt x="0" y="0"/>
                </a:moveTo>
                <a:lnTo>
                  <a:pt x="93612" y="0"/>
                </a:lnTo>
                <a:lnTo>
                  <a:pt x="92212" y="1400"/>
                </a:lnTo>
                <a:lnTo>
                  <a:pt x="1400" y="1400"/>
                </a:lnTo>
                <a:close/>
              </a:path>
              <a:path fill="darken" w="93612" h="21600">
                <a:moveTo>
                  <a:pt x="93612" y="0"/>
                </a:moveTo>
                <a:lnTo>
                  <a:pt x="93612" y="21600"/>
                </a:lnTo>
                <a:lnTo>
                  <a:pt x="92212" y="20200"/>
                </a:lnTo>
                <a:lnTo>
                  <a:pt x="92212" y="1400"/>
                </a:lnTo>
                <a:close/>
              </a:path>
              <a:path fill="darkenLess" w="93612" h="21600">
                <a:moveTo>
                  <a:pt x="9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12" y="20200"/>
                </a:lnTo>
                <a:close/>
              </a:path>
              <a:path fill="lighten" w="9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12" h="21600">
                <a:moveTo>
                  <a:pt x="39800" y="3794"/>
                </a:moveTo>
                <a:lnTo>
                  <a:pt x="53812" y="10800"/>
                </a:lnTo>
                <a:lnTo>
                  <a:pt x="3980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9843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92360" y="4437000"/>
            <a:ext cx="5112000" cy="2135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272120" cy="2217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2565360"/>
            <a:ext cx="6697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游戏是儿童最正当的行为，玩具是儿童的天使。”你小时侯也做过许多游戏，玩过不少玩具吧？选一个你最难忘的说给同学听，然后写下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7477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1125360"/>
            <a:ext cx="4969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2789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我不但善于解剖别人，更善于解剖自己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300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鲁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209760" cy="511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92360" y="5734080"/>
            <a:ext cx="863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1557360"/>
            <a:ext cx="3924360" cy="2668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被虐杀者不知自己被虐杀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奴役者不知自己被奴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209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3500280"/>
            <a:ext cx="2247840" cy="2926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1268280"/>
            <a:ext cx="73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儿童的每一次游戏都等于是登上发现的旅途：发现自己，发现自己能力和智力，发现自己周围的世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                                      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91b44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c91b44"/>
                </a:solidFill>
                <a:latin typeface="黑体"/>
                <a:ea typeface="黑体"/>
              </a:rPr>
              <a:t>（英）心理学家  莫里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方正祥隶简体"/>
                <a:ea typeface="方正祥隶简体"/>
              </a:rPr>
              <a:t>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207280" cy="3671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858080" y="0"/>
            <a:ext cx="1285920" cy="180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72360" y="2276640"/>
            <a:ext cx="1822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鲁迅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03280" y="765000"/>
            <a:ext cx="50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黑体"/>
              </a:rPr>
              <a:t>风筝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1527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6123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207280" cy="367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858080" y="0"/>
            <a:ext cx="1285920" cy="1808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372360" y="2276640"/>
            <a:ext cx="18223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鲁迅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03280" y="765000"/>
            <a:ext cx="500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黑体"/>
              </a:rPr>
              <a:t>风筝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11280" y="2133720"/>
            <a:ext cx="784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即刻伸手抓断了胡蝶的一支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骨，又将风轮掷在地下，踏扁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11280" y="692280"/>
            <a:ext cx="1620720" cy="102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51640" y="126828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17080" y="1484280"/>
            <a:ext cx="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48360" y="4724280"/>
            <a:ext cx="2933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611280" y="126828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即刻伸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抓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胡蝶的一支翅骨，又将风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地下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踏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50920" y="404640"/>
            <a:ext cx="1620720" cy="102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56360" y="620640"/>
            <a:ext cx="25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75640" y="692280"/>
            <a:ext cx="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88000" y="5373720"/>
            <a:ext cx="2933640" cy="107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2852640"/>
            <a:ext cx="777708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论长幼，论力气，他是都敌不过我的，我当然得到完全的胜利，于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傲然走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留他绝望地站在小屋里。后来他怎样，我不知道，也没有留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7640" y="76500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ff"/>
                </a:solidFill>
                <a:latin typeface="黑体"/>
                <a:ea typeface="黑体"/>
              </a:rPr>
              <a:t>他心想……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37000"/>
            <a:ext cx="734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05000"/>
            <a:ext cx="770580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4560" y="98100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送他风筝，赞成他放，劝他放，我和他一同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1197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风筝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赞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放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放，我和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同放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076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而他其时已经和我一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早已有了胡子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565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们</a:t>
            </a: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嚷着，跑着，笑着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413000"/>
            <a:ext cx="8534520" cy="113004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《风筝》写于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2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。当时，中国社会新旧斗争十分尖锐。中国几千年的旧文化、旧制度、旧传统层层因袭，到这时，已经是黑暗腐朽无比，它像一个巨大的毒瘤，寄生在国民身上，禁锢着国民的身心，使国民畏惧而麻木，虽经辛亥革命和“五四运动”，封建统治，尤其是封建文化、传统思想仍还是根深蒂固。鲁迅在《灯下漫笔》一文中曾经写到：“我们极容易变成奴隶，而变了之后还万分喜欢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0360" y="189000"/>
            <a:ext cx="27367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背景</a:t>
            </a:r>
            <a:endParaRPr b="0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93080" y="5516640"/>
            <a:ext cx="1295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9843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2:37:37Z</dcterms:created>
  <dc:creator>ibm</dc:creator>
  <dc:description/>
  <dc:language>en-US</dc:language>
  <cp:lastModifiedBy>上海绿茶网络科技</cp:lastModifiedBy>
  <dcterms:modified xsi:type="dcterms:W3CDTF">2010-11-15T11:58:09Z</dcterms:modified>
  <cp:revision>59</cp:revision>
  <dc:subject/>
  <dc:title>幻灯片 1</dc:title>
</cp:coreProperties>
</file>