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chimes.wav" ContentType="audio/x-wav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613-9BE0-42A9-9CE9-6D875699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E0AE-68FD-4C7B-A736-1AE92DAF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338-B65D-49FD-96A6-4FD77E2B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2EC-A3FC-4581-9123-C7880589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AB9-1DA9-4D5D-85DE-BE9D93D0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E9F-13BA-4AAB-B992-3A509BFC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1A1-516A-45F1-8FCC-38F4F014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DA1-C145-4114-AC9B-FB037B98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3AE-4CE0-40F3-BCA7-2F22AFE1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E3A-8E12-4BBB-9AE7-FF67EE3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7F4-84C4-40BC-A9CB-BDEBC081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3E1-3220-4D51-B0A4-141AE55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D020-14C8-45EA-9447-06375CD679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slide" Target="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557360"/>
            <a:ext cx="842472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99cc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大家</a:t>
            </a:r>
            <a:endParaRPr b="1" lang="en-US" sz="1800" spc="1" strike="noStrike">
              <a:ln w="25560">
                <a:solidFill>
                  <a:srgbClr val="99cc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50920" y="2997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语言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9240" y="33163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89240" y="2554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55920" y="3011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舞蹈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75240" y="1563840"/>
            <a:ext cx="380880" cy="3657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4400" y="1920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神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857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服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3760" y="12477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形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720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1563840"/>
            <a:ext cx="304920" cy="3657600"/>
          </a:xfrm>
          <a:custGeom>
            <a:avLst/>
            <a:gdLst>
              <a:gd name="textAreaLeft" fmla="*/ 0 w 304920"/>
              <a:gd name="textAreaRight" fmla="*/ 11016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380360" y="2857680"/>
            <a:ext cx="100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行楷"/>
              </a:rPr>
              <a:t>飞动之美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行楷"/>
              <a:ea typeface="华文行楷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2060640"/>
            <a:ext cx="360360" cy="2448000"/>
          </a:xfrm>
          <a:custGeom>
            <a:avLst/>
            <a:gdLst>
              <a:gd name="textAreaLeft" fmla="*/ 0 w 360360"/>
              <a:gd name="textAreaRight" fmla="*/ 129960 w 360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19162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优美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637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比     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357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排     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0766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引     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640720" y="493236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4513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心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98568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       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40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读    探 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9640" y="1844640"/>
            <a:ext cx="7885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请学习 本文的写法，用优美的词语和恰当的修辞表现自己所看到和所想到情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哪怕是一个句子都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60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当       堂      练       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1219320"/>
            <a:ext cx="755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明亮的眼睛去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聪敏的双耳去倾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美好的心灵去感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灵巧的双手去描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用你优美的语言去表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33"/>
                </a:solidFill>
                <a:latin typeface="Times New Roman"/>
                <a:ea typeface="仿宋_GB2312"/>
              </a:rPr>
              <a:t>艺术——就在你我身边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96080" y="6172200"/>
            <a:ext cx="99396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620120" y="762120"/>
            <a:ext cx="1047600" cy="600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049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总结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24000" y="-1108080"/>
            <a:ext cx="831672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</a:t>
            </a:r>
            <a:endParaRPr b="0" lang="en-US" sz="8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再 见</a:t>
            </a:r>
            <a:endParaRPr b="0" lang="en-US" sz="8000" spc="1" strike="noStrike">
              <a:ln w="255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900000" y="1413000"/>
            <a:ext cx="75596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0000">
                    <a:alpha val="98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谢谢大家</a:t>
            </a:r>
            <a:endParaRPr b="0" lang="en-US" sz="1800" spc="1" strike="noStrike">
              <a:ln w="34920">
                <a:solidFill>
                  <a:srgbClr val="008000"/>
                </a:solidFill>
                <a:miter/>
              </a:ln>
              <a:solidFill>
                <a:srgbClr val="ff0000">
                  <a:alpha val="98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remove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1" nodeType="afterEffect" fill="hold" presetClass="entr" presetID="5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740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10360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8515" y="3794"/>
                </a:lnTo>
                <a:lnTo>
                  <a:pt x="8515" y="17806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494560" y="6381720"/>
            <a:ext cx="649440" cy="476280"/>
          </a:xfrm>
          <a:custGeom>
            <a:avLst/>
            <a:gdLst>
              <a:gd name="textAreaLeft" fmla="*/ 30600 w 649440"/>
              <a:gd name="textAreaRight" fmla="*/ 618840 w 6494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9447" h="21600">
                <a:moveTo>
                  <a:pt x="0" y="0"/>
                </a:moveTo>
                <a:lnTo>
                  <a:pt x="29447" y="0"/>
                </a:lnTo>
                <a:lnTo>
                  <a:pt x="29447" y="21600"/>
                </a:lnTo>
                <a:lnTo>
                  <a:pt x="0" y="21600"/>
                </a:lnTo>
                <a:close/>
              </a:path>
              <a:path fill="lightenLess" w="29447" h="21600">
                <a:moveTo>
                  <a:pt x="0" y="0"/>
                </a:moveTo>
                <a:lnTo>
                  <a:pt x="29447" y="0"/>
                </a:lnTo>
                <a:lnTo>
                  <a:pt x="28047" y="1400"/>
                </a:lnTo>
                <a:lnTo>
                  <a:pt x="1400" y="1400"/>
                </a:lnTo>
                <a:close/>
              </a:path>
              <a:path fill="darken" w="29447" h="21600">
                <a:moveTo>
                  <a:pt x="29447" y="0"/>
                </a:moveTo>
                <a:lnTo>
                  <a:pt x="29447" y="21600"/>
                </a:lnTo>
                <a:lnTo>
                  <a:pt x="28047" y="20200"/>
                </a:lnTo>
                <a:lnTo>
                  <a:pt x="28047" y="1400"/>
                </a:lnTo>
                <a:close/>
              </a:path>
              <a:path fill="darkenLess" w="29447" h="21600">
                <a:moveTo>
                  <a:pt x="29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7" y="20200"/>
                </a:lnTo>
                <a:close/>
              </a:path>
              <a:path fill="lighten" w="29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7" h="21600">
                <a:moveTo>
                  <a:pt x="18222" y="10800"/>
                </a:moveTo>
                <a:lnTo>
                  <a:pt x="7717" y="17806"/>
                </a:lnTo>
                <a:lnTo>
                  <a:pt x="7717" y="3794"/>
                </a:lnTo>
                <a:close/>
              </a:path>
              <a:path fill="darken" w="29447" h="21600">
                <a:moveTo>
                  <a:pt x="20068" y="3794"/>
                </a:moveTo>
                <a:lnTo>
                  <a:pt x="20068" y="17806"/>
                </a:lnTo>
                <a:lnTo>
                  <a:pt x="21730" y="17806"/>
                </a:lnTo>
                <a:lnTo>
                  <a:pt x="2173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53737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是什么地方的舞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你用几句话来描述你所看到的舞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7920"/>
            <a:ext cx="9188280" cy="934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-380880"/>
            <a:ext cx="1066680" cy="248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观                    舞                    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050480" y="380880"/>
            <a:ext cx="3184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献给印度舞蹈家卡拉玛姐妹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冰 心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2004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685800" y="0"/>
            <a:ext cx="8458200" cy="3355200"/>
            <a:chOff x="685800" y="0"/>
            <a:chExt cx="8458200" cy="3355200"/>
          </a:xfrm>
        </p:grpSpPr>
        <p:sp>
          <p:nvSpPr>
            <p:cNvPr id="53" name=""/>
            <p:cNvSpPr/>
            <p:nvPr/>
          </p:nvSpPr>
          <p:spPr>
            <a:xfrm>
              <a:off x="685800" y="0"/>
              <a:ext cx="259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观舞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95680" y="1676520"/>
              <a:ext cx="38862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现代著名女作家，儿童文学家。原名谢婉莹，福建长乐人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        </a:t>
              </a:r>
              <a:r>
                <a:rPr b="1" lang="zh-CN" sz="3200" spc="-1" strike="noStrike">
                  <a:solidFill>
                    <a:srgbClr val="003399"/>
                  </a:solidFill>
                  <a:latin typeface="Times New Roman"/>
                </a:rPr>
                <a:t>作品有：散文集《寄小读者》，诗集《春水》、《繁星》，儿童文学集《小桔灯》。</a:t>
              </a:r>
              <a:r>
                <a:rPr b="1" lang="zh-CN" sz="3600" spc="-1" strike="noStrike">
                  <a:solidFill>
                    <a:srgbClr val="333399"/>
                  </a:solidFill>
                  <a:latin typeface="Times New Roman"/>
                  <a:ea typeface="华文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657600" y="222480"/>
              <a:ext cx="205740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486400" y="38124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（</a:t>
              </a: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1900—1999</a:t>
              </a:r>
              <a:r>
                <a:rPr b="1" lang="zh-CN" sz="3600" spc="-1" strike="noStrike">
                  <a:solidFill>
                    <a:srgbClr val="cc6633"/>
                  </a:solidFill>
                  <a:latin typeface="Times New Roman"/>
                  <a:ea typeface="华文宋体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00000" y="1860480"/>
            <a:ext cx="8839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轻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捷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　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咿哑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阐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述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褶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裙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颦蹙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粲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嗔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视　　　　　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妥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帖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雏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凤                  斗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薮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　　　           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发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髻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宿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蔓                  惆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本色当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行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                                        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叱咤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风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浑身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数                                       尽态极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妍</a:t>
            </a:r>
            <a:r>
              <a:rPr b="0" lang="zh-CN" sz="2400" spc="-1" strike="noStrike">
                <a:solidFill>
                  <a:srgbClr val="000000"/>
                </a:solidFill>
                <a:latin typeface="Monotype Corsiv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38440" y="309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81280" y="1798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2560" y="1716120"/>
            <a:ext cx="12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ī y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6720" y="1838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38440" y="22557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0360" y="2292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pín c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46720" y="2371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09640" y="2865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ē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38440" y="339876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97280" y="33735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s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73640" y="3429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50864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508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hì zh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0133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50133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6720" y="279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zh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3760" y="2797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t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46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检       查      预     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12536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给</a:t>
            </a:r>
            <a:r>
              <a:rPr b="1" lang="zh-CN" sz="2400" spc="-1" strike="noStrike">
                <a:solidFill>
                  <a:srgbClr val="ff3300"/>
                </a:solidFill>
                <a:latin typeface="Monotype Corsiva"/>
              </a:rPr>
              <a:t>红</a:t>
            </a:r>
            <a:r>
              <a:rPr b="1" lang="zh-CN" sz="2400" spc="-1" strike="noStrike">
                <a:solidFill>
                  <a:srgbClr val="000000"/>
                </a:solidFill>
                <a:latin typeface="Monotype Corsiva"/>
              </a:rPr>
              <a:t>字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07664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x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10160" y="4005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364500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hóu  c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00000" y="1341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解      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2060640"/>
            <a:ext cx="58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做本行的事，成绩十分显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2708280"/>
            <a:ext cx="627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皱着眉头，形容忧愁的样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3357720"/>
            <a:ext cx="43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笑容灿烂的样子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400536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生气地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4653000"/>
            <a:ext cx="37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形容威力极大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522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惊飞的鸿雁，形容美人体态轻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5950080"/>
            <a:ext cx="63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Monotype Corsiva"/>
              </a:rPr>
              <a:t>使仪态和丽质最充分地显示出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989000"/>
            <a:ext cx="50292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本色当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颦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粲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嗔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叱咤风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惊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Monotype Corsiva"/>
                <a:ea typeface="黑体"/>
              </a:rPr>
              <a:t>尽态极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9228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检 查 预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8640720" y="609300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263700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词）用得好，好在它写出了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3860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句）用得好，它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方法，好在它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197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好词好句，读一读，以下面的形式来品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602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读    探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105264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8640720" y="6093000"/>
            <a:ext cx="503280" cy="76500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765000"/>
              <a:gd name="textAreaBottom" fmla="*/ 732600 h 765000"/>
            </a:gdLst>
            <a:ahLst/>
            <a:rect l="textAreaLeft" t="textAreaTop" r="textAreaRight" b="textAreaBottom"/>
            <a:pathLst>
              <a:path w="21600" h="32825">
                <a:moveTo>
                  <a:pt x="0" y="0"/>
                </a:moveTo>
                <a:lnTo>
                  <a:pt x="21600" y="0"/>
                </a:lnTo>
                <a:lnTo>
                  <a:pt x="21600" y="32825"/>
                </a:lnTo>
                <a:lnTo>
                  <a:pt x="0" y="32825"/>
                </a:lnTo>
                <a:close/>
              </a:path>
              <a:path fill="lightenLess" w="21600" h="328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25">
                <a:moveTo>
                  <a:pt x="21600" y="0"/>
                </a:moveTo>
                <a:lnTo>
                  <a:pt x="21600" y="32825"/>
                </a:lnTo>
                <a:lnTo>
                  <a:pt x="20200" y="31425"/>
                </a:lnTo>
                <a:lnTo>
                  <a:pt x="20200" y="1400"/>
                </a:lnTo>
                <a:close/>
              </a:path>
              <a:path fill="darkenLess" w="21600" h="32825">
                <a:moveTo>
                  <a:pt x="21600" y="32825"/>
                </a:moveTo>
                <a:lnTo>
                  <a:pt x="0" y="32825"/>
                </a:lnTo>
                <a:lnTo>
                  <a:pt x="1400" y="31425"/>
                </a:lnTo>
                <a:lnTo>
                  <a:pt x="20200" y="31425"/>
                </a:lnTo>
                <a:close/>
              </a:path>
              <a:path fill="lighten" w="21600" h="32825">
                <a:moveTo>
                  <a:pt x="0" y="3282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25"/>
                </a:lnTo>
                <a:close/>
              </a:path>
              <a:path fill="darken" w="21600" h="32825">
                <a:moveTo>
                  <a:pt x="10800" y="9449"/>
                </a:moveTo>
                <a:lnTo>
                  <a:pt x="13376" y="12060"/>
                </a:ln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lnTo>
                  <a:pt x="17763" y="16412"/>
                </a:lnTo>
                <a:lnTo>
                  <a:pt x="16109" y="16412"/>
                </a:lnTo>
                <a:lnTo>
                  <a:pt x="16109" y="23602"/>
                </a:lnTo>
                <a:lnTo>
                  <a:pt x="5491" y="23602"/>
                </a:lnTo>
                <a:lnTo>
                  <a:pt x="5491" y="16412"/>
                </a:lnTo>
                <a:lnTo>
                  <a:pt x="3837" y="16412"/>
                </a:lnTo>
                <a:close/>
              </a:path>
              <a:path fill="darkenLess" w="21600" h="32825">
                <a:moveTo>
                  <a:pt x="13376" y="12060"/>
                </a:moveTo>
                <a:lnTo>
                  <a:pt x="13376" y="10320"/>
                </a:lnTo>
                <a:lnTo>
                  <a:pt x="15152" y="10320"/>
                </a:lnTo>
                <a:lnTo>
                  <a:pt x="15152" y="13836"/>
                </a:lnTo>
                <a:close/>
              </a:path>
              <a:path fill="darkenLess" w="21600" h="32825">
                <a:moveTo>
                  <a:pt x="9877" y="19911"/>
                </a:moveTo>
                <a:lnTo>
                  <a:pt x="11723" y="19911"/>
                </a:lnTo>
                <a:lnTo>
                  <a:pt x="11723" y="23602"/>
                </a:lnTo>
                <a:lnTo>
                  <a:pt x="16109" y="23602"/>
                </a:lnTo>
                <a:lnTo>
                  <a:pt x="16109" y="16412"/>
                </a:lnTo>
                <a:lnTo>
                  <a:pt x="5491" y="16412"/>
                </a:lnTo>
                <a:lnTo>
                  <a:pt x="5491" y="23602"/>
                </a:lnTo>
                <a:lnTo>
                  <a:pt x="9877" y="23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63700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词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得好，好在它写出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4437000"/>
            <a:ext cx="788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觉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好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了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方法，好在它形象地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476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研     读    探     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126828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找美句，读一读，以下面的形式来品味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8680" y="2637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双眉频蹙、笑颊粲然、喜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34290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舞蹈家的丰富的神态</a:t>
            </a:r>
            <a:r>
              <a:rPr b="0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59280" y="443700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轻云般慢移，旋风般疾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5300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6093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舞蹈家的舞技的变幻多姿精妙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052640"/>
            <a:ext cx="82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印度舞蹈美，美在哪里？边听朗读边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学生听读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14——18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自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2276640"/>
            <a:ext cx="7058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形体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秀丽的面庞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神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限的哀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服饰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妥贴的梳妆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动作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挺身屹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66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心灵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忘怀了观众，也忘怀了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72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研      读     探    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97120" y="1484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59640" y="69228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201259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7:39:36Z</dcterms:created>
  <dc:creator>yihai</dc:creator>
  <dc:description/>
  <dc:language>en-US</dc:language>
  <cp:lastModifiedBy>*</cp:lastModifiedBy>
  <dcterms:modified xsi:type="dcterms:W3CDTF">2010-04-01T09:23:43Z</dcterms:modified>
  <cp:revision>65</cp:revision>
  <dc:subject/>
  <dc:title>幻灯片 1</dc:title>
</cp:coreProperties>
</file>