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chimes.wav" ContentType="audio/x-wav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711-2044-4130-B990-A2254B01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6CF-A988-4803-8A64-86EEF47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B25-9273-454F-BF2B-D5F6056C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630-2979-4858-B471-99FE61FF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D56-1EA1-406C-A60B-CEDEA2E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535-7265-4C33-A008-B92BAFAF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117-A06D-4EBC-A94C-C188843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18E-92BB-4DE9-AC29-4EBFBC1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7CE-11E5-4EA0-9D34-0EE8BC9A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49D-4162-4488-AD1F-3F6E108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2A7-8E17-43B3-B237-3826BFE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64F-CB42-485E-A843-4D66DDB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A0B-0186-463C-889A-D8F0D5CD9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slide" Target="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557360"/>
            <a:ext cx="8424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大家</a:t>
            </a:r>
            <a:endParaRPr b="1" lang="en-US" sz="1800" spc="1" strike="noStrike">
              <a:ln w="255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0920" y="2997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语言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9240" y="3316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89240" y="2554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55920" y="3011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舞蹈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240" y="156384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4400" y="19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857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服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3760" y="1247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7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1563840"/>
            <a:ext cx="304920" cy="3657600"/>
          </a:xfrm>
          <a:custGeom>
            <a:avLst/>
            <a:gdLst>
              <a:gd name="textAreaLeft" fmla="*/ 0 w 304920"/>
              <a:gd name="textAreaRight" fmla="*/ 11016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380360" y="285768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行楷"/>
              </a:rPr>
              <a:t>飞动之美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060640"/>
            <a:ext cx="360360" cy="244800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916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优美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637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     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357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排     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076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 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640720" y="493236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4513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9856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    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40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844640"/>
            <a:ext cx="78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请学习 本文的写法，用优美的词语和恰当的修辞表现自己所看到和所想到情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哪怕是一个句子都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6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当       堂      练       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219320"/>
            <a:ext cx="755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明亮的眼睛去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聪敏的双耳去倾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美好的心灵去感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灵巧的双手去描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优美的语言去表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艺术——就在你我身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6172200"/>
            <a:ext cx="99396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762120"/>
            <a:ext cx="1047600" cy="6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049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总结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24000" y="-1108080"/>
            <a:ext cx="831672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 见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900000" y="1413000"/>
            <a:ext cx="75596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0000">
                    <a:alpha val="9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0000">
                  <a:alpha val="9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remove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1" nodeType="after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0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0360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8515" y="3794"/>
                </a:lnTo>
                <a:lnTo>
                  <a:pt x="8515" y="17806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494560" y="6381720"/>
            <a:ext cx="649440" cy="476280"/>
          </a:xfrm>
          <a:custGeom>
            <a:avLst/>
            <a:gdLst>
              <a:gd name="textAreaLeft" fmla="*/ 30600 w 649440"/>
              <a:gd name="textAreaRight" fmla="*/ 618840 w 649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447" h="21600">
                <a:moveTo>
                  <a:pt x="0" y="0"/>
                </a:moveTo>
                <a:lnTo>
                  <a:pt x="29447" y="0"/>
                </a:lnTo>
                <a:lnTo>
                  <a:pt x="29447" y="21600"/>
                </a:lnTo>
                <a:lnTo>
                  <a:pt x="0" y="21600"/>
                </a:lnTo>
                <a:close/>
              </a:path>
              <a:path fill="lightenLess" w="29447" h="21600">
                <a:moveTo>
                  <a:pt x="0" y="0"/>
                </a:moveTo>
                <a:lnTo>
                  <a:pt x="29447" y="0"/>
                </a:lnTo>
                <a:lnTo>
                  <a:pt x="28047" y="1400"/>
                </a:lnTo>
                <a:lnTo>
                  <a:pt x="1400" y="1400"/>
                </a:lnTo>
                <a:close/>
              </a:path>
              <a:path fill="darken" w="29447" h="21600">
                <a:moveTo>
                  <a:pt x="29447" y="0"/>
                </a:moveTo>
                <a:lnTo>
                  <a:pt x="29447" y="21600"/>
                </a:lnTo>
                <a:lnTo>
                  <a:pt x="28047" y="20200"/>
                </a:lnTo>
                <a:lnTo>
                  <a:pt x="28047" y="1400"/>
                </a:lnTo>
                <a:close/>
              </a:path>
              <a:path fill="darkenLess" w="29447" h="21600">
                <a:moveTo>
                  <a:pt x="29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7" y="20200"/>
                </a:lnTo>
                <a:close/>
              </a:path>
              <a:path fill="lighten" w="29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7" h="21600">
                <a:moveTo>
                  <a:pt x="18222" y="10800"/>
                </a:moveTo>
                <a:lnTo>
                  <a:pt x="7717" y="17806"/>
                </a:lnTo>
                <a:lnTo>
                  <a:pt x="7717" y="3794"/>
                </a:lnTo>
                <a:close/>
              </a:path>
              <a:path fill="darken" w="29447" h="21600">
                <a:moveTo>
                  <a:pt x="20068" y="3794"/>
                </a:moveTo>
                <a:lnTo>
                  <a:pt x="20068" y="17806"/>
                </a:lnTo>
                <a:lnTo>
                  <a:pt x="21730" y="17806"/>
                </a:lnTo>
                <a:lnTo>
                  <a:pt x="2173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53737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是什么地方的舞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你用几句话来描述你所看到的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88280" cy="934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-380880"/>
            <a:ext cx="1066680" cy="24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观                    舞                    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050480" y="380880"/>
            <a:ext cx="3184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献给印度舞蹈家卡拉玛姐妹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冰 心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004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685800" y="0"/>
            <a:ext cx="8458200" cy="3355200"/>
            <a:chOff x="685800" y="0"/>
            <a:chExt cx="8458200" cy="3355200"/>
          </a:xfrm>
        </p:grpSpPr>
        <p:sp>
          <p:nvSpPr>
            <p:cNvPr id="53" name=""/>
            <p:cNvSpPr/>
            <p:nvPr/>
          </p:nvSpPr>
          <p:spPr>
            <a:xfrm>
              <a:off x="685800" y="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观舞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5680" y="1676520"/>
              <a:ext cx="38862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现代著名女作家，儿童文学家。原名谢婉莹，福建长乐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作品有：散文集《寄小读者》，诗集《春水》、《繁星》，儿童文学集《小桔灯》。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华文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657600" y="222480"/>
              <a:ext cx="20574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486400" y="38124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（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1900—1999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1860480"/>
            <a:ext cx="883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轻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捷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咿哑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阐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述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褶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裙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颦蹙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粲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嗔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视　　　　　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妥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帖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雏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凤                  斗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           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发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髻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宿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蔓                  惆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本色当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叱咤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风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浑身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数                                       尽态极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妍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8440" y="309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81280" y="1798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2560" y="171612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ī y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6720" y="1838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38440" y="2255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0360" y="2292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ín c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2371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09640" y="2865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8440" y="3398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97280" y="33735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364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508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ì z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013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5013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6720" y="279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3760" y="2797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t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      查      预     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给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红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字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076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10160" y="4005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364500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hóu  c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134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解      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2060640"/>
            <a:ext cx="58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做本行的事，成绩十分显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70828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皱着眉头，形容忧愁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3357720"/>
            <a:ext cx="43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笑容灿烂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400536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生气地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4653000"/>
            <a:ext cx="37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形容威力极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惊飞的鸿雁，形容美人体态轻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595008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使仪态和丽质最充分地显示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989000"/>
            <a:ext cx="50292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本色当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颦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粲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嗔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叱咤风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惊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尽态极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92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查 预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2637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用得好，好在它写出了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860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用得好，它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197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好词好句，读一读，以下面的形式来品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60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052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3700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得好，好在它写出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4437000"/>
            <a:ext cx="788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形象地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7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1268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美句，读一读，以下面的形式来品味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8680" y="2637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双眉频蹙、笑颊粲然、喜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342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丰富的神态</a:t>
            </a:r>
            <a:r>
              <a:rPr b="0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43700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轻云般慢移，旋风般疾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6093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舞技的变幻多姿精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05264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印度舞蹈美，美在哪里？边听朗读边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生听读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4——18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276640"/>
            <a:ext cx="70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形体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秀丽的面庞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神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限的哀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服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妥贴的梳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动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挺身屹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心灵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忘怀了观众，也忘怀了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研      读     探    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97120" y="1484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9640" y="692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0125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7:39:36Z</dcterms:created>
  <dc:creator>yihai</dc:creator>
  <dc:description/>
  <dc:language>en-US</dc:language>
  <cp:lastModifiedBy>*</cp:lastModifiedBy>
  <dcterms:modified xsi:type="dcterms:W3CDTF">2010-04-01T09:23:43Z</dcterms:modified>
  <cp:revision>65</cp:revision>
  <dc:subject/>
  <dc:title>幻灯片 1</dc:title>
</cp:coreProperties>
</file>