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camera.wav" ContentType="audio/x-wav"/>
  <Override PartName="/ppt/media/chimes.wav" ContentType="audio/x-wav"/>
  <Override PartName="/ppt/media/image8.png" ContentType="image/png"/>
  <Override PartName="/ppt/media/image11.jpeg" ContentType="image/jpeg"/>
  <Override PartName="/ppt/media/image7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27E-7197-4043-A98D-5C2AD4E3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B88-F03C-4A63-9254-F1DE1C24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933-AA2F-451E-B7FC-5D617398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E77-4AD4-4594-9E8A-854703AE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9CB-4B2D-4853-A206-5FEF5D1C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342-1A08-4493-919D-F43BE1E6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114-82C9-43EF-BB92-5744A717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845-34FD-4F11-A646-BCB38C7E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030-2BF9-451A-92E2-D67F28D2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78C-7F2F-482A-952F-AF3B8379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B29-A9E0-4325-B00D-E5C9C2B7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161-7516-4A4F-87DF-460B6B1D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224F-54D1-435F-B13D-6AA0E8EECD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gif"/><Relationship Id="rId4" Type="http://schemas.openxmlformats.org/officeDocument/2006/relationships/slide" Target="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1557360"/>
            <a:ext cx="8424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99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大家</a:t>
            </a:r>
            <a:endParaRPr b="1" lang="en-US" sz="1800" spc="1" strike="noStrike">
              <a:ln w="25560">
                <a:solidFill>
                  <a:srgbClr val="99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50920" y="2997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语言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89240" y="3316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89240" y="2554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55920" y="3011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舞蹈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5240" y="1563840"/>
            <a:ext cx="380880" cy="3657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4400" y="1920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神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2857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服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73760" y="12477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形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720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动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1563840"/>
            <a:ext cx="304920" cy="3657600"/>
          </a:xfrm>
          <a:custGeom>
            <a:avLst/>
            <a:gdLst>
              <a:gd name="textAreaLeft" fmla="*/ 0 w 304920"/>
              <a:gd name="textAreaRight" fmla="*/ 110160 w 3049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380360" y="285768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华文行楷"/>
              </a:rPr>
              <a:t>飞动之美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华文行楷"/>
              <a:ea typeface="华文行楷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060640"/>
            <a:ext cx="360360" cy="2448000"/>
          </a:xfrm>
          <a:custGeom>
            <a:avLst/>
            <a:gdLst>
              <a:gd name="textAreaLeft" fmla="*/ 0 w 360360"/>
              <a:gd name="textAreaRight" fmla="*/ 129960 w 36036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00" y="19162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优美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637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比     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357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排     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4076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     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640720" y="4932360"/>
            <a:ext cx="503280" cy="765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765000"/>
              <a:gd name="textAreaBottom" fmla="*/ 732600 h 765000"/>
            </a:gdLst>
            <a:ahLst/>
            <a:rect l="textAreaLeft" t="textAreaTop" r="textAreaRight" b="textAreaBottom"/>
            <a:pathLst>
              <a:path w="21600" h="32825">
                <a:moveTo>
                  <a:pt x="0" y="0"/>
                </a:moveTo>
                <a:lnTo>
                  <a:pt x="21600" y="0"/>
                </a:lnTo>
                <a:lnTo>
                  <a:pt x="21600" y="32825"/>
                </a:lnTo>
                <a:lnTo>
                  <a:pt x="0" y="32825"/>
                </a:lnTo>
                <a:close/>
              </a:path>
              <a:path fill="lightenLess" w="21600" h="328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25">
                <a:moveTo>
                  <a:pt x="21600" y="0"/>
                </a:moveTo>
                <a:lnTo>
                  <a:pt x="21600" y="32825"/>
                </a:lnTo>
                <a:lnTo>
                  <a:pt x="20200" y="31425"/>
                </a:lnTo>
                <a:lnTo>
                  <a:pt x="20200" y="1400"/>
                </a:lnTo>
                <a:close/>
              </a:path>
              <a:path fill="darkenLess" w="21600" h="32825">
                <a:moveTo>
                  <a:pt x="21600" y="32825"/>
                </a:moveTo>
                <a:lnTo>
                  <a:pt x="0" y="32825"/>
                </a:lnTo>
                <a:lnTo>
                  <a:pt x="1400" y="31425"/>
                </a:lnTo>
                <a:lnTo>
                  <a:pt x="20200" y="31425"/>
                </a:lnTo>
                <a:close/>
              </a:path>
              <a:path fill="lighten" w="21600" h="32825">
                <a:moveTo>
                  <a:pt x="0" y="3282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25"/>
                </a:lnTo>
                <a:close/>
              </a:path>
              <a:path fill="darken" w="21600" h="32825">
                <a:moveTo>
                  <a:pt x="10800" y="9449"/>
                </a:moveTo>
                <a:lnTo>
                  <a:pt x="13376" y="12060"/>
                </a:ln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lnTo>
                  <a:pt x="17763" y="16412"/>
                </a:lnTo>
                <a:lnTo>
                  <a:pt x="16109" y="16412"/>
                </a:lnTo>
                <a:lnTo>
                  <a:pt x="16109" y="23602"/>
                </a:lnTo>
                <a:lnTo>
                  <a:pt x="5491" y="23602"/>
                </a:lnTo>
                <a:lnTo>
                  <a:pt x="5491" y="16412"/>
                </a:lnTo>
                <a:lnTo>
                  <a:pt x="3837" y="16412"/>
                </a:lnTo>
                <a:close/>
              </a:path>
              <a:path fill="darkenLess" w="21600" h="32825">
                <a:moveTo>
                  <a:pt x="13376" y="12060"/>
                </a:move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close/>
              </a:path>
              <a:path fill="darkenLess" w="21600" h="32825">
                <a:moveTo>
                  <a:pt x="9877" y="19911"/>
                </a:moveTo>
                <a:lnTo>
                  <a:pt x="11723" y="19911"/>
                </a:lnTo>
                <a:lnTo>
                  <a:pt x="11723" y="23602"/>
                </a:lnTo>
                <a:lnTo>
                  <a:pt x="16109" y="23602"/>
                </a:lnTo>
                <a:lnTo>
                  <a:pt x="16109" y="16412"/>
                </a:lnTo>
                <a:lnTo>
                  <a:pt x="5491" y="16412"/>
                </a:lnTo>
                <a:lnTo>
                  <a:pt x="5491" y="23602"/>
                </a:lnTo>
                <a:lnTo>
                  <a:pt x="9877" y="2360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4400" y="4513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心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9856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       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4046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研    读    探     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1844640"/>
            <a:ext cx="7885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请学习 本文的写法，用优美的词语和恰当的修辞表现自己所看到和所想到情景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哪怕是一个句子都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60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当       堂      练       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1219320"/>
            <a:ext cx="755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明亮的眼睛去观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聪敏的双耳去倾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美好的心灵去感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灵巧的双手去描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优美的语言去表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艺术——就在你我身边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96080" y="6172200"/>
            <a:ext cx="99396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0120" y="762120"/>
            <a:ext cx="1047600" cy="60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3049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总结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24000" y="-1108080"/>
            <a:ext cx="831672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 </a:t>
            </a:r>
            <a:endParaRPr b="0" lang="en-US" sz="8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 见</a:t>
            </a:r>
            <a:endParaRPr b="0" lang="en-US" sz="8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900000" y="1413000"/>
            <a:ext cx="755964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0000">
                    <a:alpha val="98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大家</a:t>
            </a:r>
            <a:endParaRPr b="0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0000">
                  <a:alpha val="98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remove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31" nodeType="after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740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10360" y="10800"/>
                </a:moveTo>
                <a:lnTo>
                  <a:pt x="20865" y="3794"/>
                </a:lnTo>
                <a:lnTo>
                  <a:pt x="20865" y="17806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8515" y="3794"/>
                </a:lnTo>
                <a:lnTo>
                  <a:pt x="8515" y="17806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494560" y="6381720"/>
            <a:ext cx="649440" cy="476280"/>
          </a:xfrm>
          <a:custGeom>
            <a:avLst/>
            <a:gdLst>
              <a:gd name="textAreaLeft" fmla="*/ 30600 w 649440"/>
              <a:gd name="textAreaRight" fmla="*/ 618840 w 649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447" h="21600">
                <a:moveTo>
                  <a:pt x="0" y="0"/>
                </a:moveTo>
                <a:lnTo>
                  <a:pt x="29447" y="0"/>
                </a:lnTo>
                <a:lnTo>
                  <a:pt x="29447" y="21600"/>
                </a:lnTo>
                <a:lnTo>
                  <a:pt x="0" y="21600"/>
                </a:lnTo>
                <a:close/>
              </a:path>
              <a:path fill="lightenLess" w="29447" h="21600">
                <a:moveTo>
                  <a:pt x="0" y="0"/>
                </a:moveTo>
                <a:lnTo>
                  <a:pt x="29447" y="0"/>
                </a:lnTo>
                <a:lnTo>
                  <a:pt x="28047" y="1400"/>
                </a:lnTo>
                <a:lnTo>
                  <a:pt x="1400" y="1400"/>
                </a:lnTo>
                <a:close/>
              </a:path>
              <a:path fill="darken" w="29447" h="21600">
                <a:moveTo>
                  <a:pt x="29447" y="0"/>
                </a:moveTo>
                <a:lnTo>
                  <a:pt x="29447" y="21600"/>
                </a:lnTo>
                <a:lnTo>
                  <a:pt x="28047" y="20200"/>
                </a:lnTo>
                <a:lnTo>
                  <a:pt x="28047" y="1400"/>
                </a:lnTo>
                <a:close/>
              </a:path>
              <a:path fill="darkenLess" w="29447" h="21600">
                <a:moveTo>
                  <a:pt x="29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7" y="20200"/>
                </a:lnTo>
                <a:close/>
              </a:path>
              <a:path fill="lighten" w="29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7" h="21600">
                <a:moveTo>
                  <a:pt x="18222" y="10800"/>
                </a:moveTo>
                <a:lnTo>
                  <a:pt x="7717" y="17806"/>
                </a:lnTo>
                <a:lnTo>
                  <a:pt x="7717" y="3794"/>
                </a:lnTo>
                <a:close/>
              </a:path>
              <a:path fill="darken" w="29447" h="21600">
                <a:moveTo>
                  <a:pt x="20068" y="3794"/>
                </a:moveTo>
                <a:lnTo>
                  <a:pt x="20068" y="17806"/>
                </a:lnTo>
                <a:lnTo>
                  <a:pt x="21730" y="17806"/>
                </a:lnTo>
                <a:lnTo>
                  <a:pt x="2173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537372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是什么地方的舞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你用几句话来描述你所看到的舞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06200"/>
            <a:ext cx="914400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7920"/>
            <a:ext cx="9188280" cy="934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14600" y="-380880"/>
            <a:ext cx="1066680" cy="248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观                    舞                    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050480" y="380880"/>
            <a:ext cx="3184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献给印度舞蹈家卡拉玛姐妹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冰 心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2004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685800" y="0"/>
            <a:ext cx="8458200" cy="3355200"/>
            <a:chOff x="685800" y="0"/>
            <a:chExt cx="8458200" cy="3355200"/>
          </a:xfrm>
        </p:grpSpPr>
        <p:sp>
          <p:nvSpPr>
            <p:cNvPr id="53" name=""/>
            <p:cNvSpPr/>
            <p:nvPr/>
          </p:nvSpPr>
          <p:spPr>
            <a:xfrm>
              <a:off x="685800" y="0"/>
              <a:ext cx="259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观舞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95680" y="1676520"/>
              <a:ext cx="38862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003399"/>
                  </a:solidFill>
                  <a:latin typeface="Times New Roman"/>
                </a:rPr>
                <a:t>现代著名女作家，儿童文学家。原名谢婉莹，福建长乐人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003399"/>
                  </a:solidFill>
                  <a:latin typeface="Times New Roman"/>
                </a:rPr>
                <a:t>作品有：散文集《寄小读者》，诗集《春水》、《繁星》，儿童文学集《小桔灯》。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  <a:ea typeface="华文宋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657600" y="222480"/>
              <a:ext cx="205740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486400" y="38124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6633"/>
                  </a:solidFill>
                  <a:latin typeface="Times New Roman"/>
                  <a:ea typeface="华文宋体"/>
                </a:rPr>
                <a:t>（</a:t>
              </a:r>
              <a:r>
                <a:rPr b="1" lang="zh-CN" sz="3600" spc="-1" strike="noStrike">
                  <a:solidFill>
                    <a:srgbClr val="cc6633"/>
                  </a:solidFill>
                  <a:latin typeface="Times New Roman"/>
                  <a:ea typeface="华文宋体"/>
                </a:rPr>
                <a:t>1900—1999</a:t>
              </a:r>
              <a:r>
                <a:rPr b="1" lang="zh-CN" sz="3600" spc="-1" strike="noStrike">
                  <a:solidFill>
                    <a:srgbClr val="cc6633"/>
                  </a:solidFill>
                  <a:latin typeface="Times New Roman"/>
                  <a:ea typeface="华文宋体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0000" y="1860480"/>
            <a:ext cx="8839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轻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捷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　　　　　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咿哑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阐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述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褶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裙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颦蹙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　　　　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粲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嗔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视　　　　　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妥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帖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铮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铮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雏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凤                  斗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薮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　　　           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发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髻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星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宿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花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蔓                  惆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本色当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行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叱咤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风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浑身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数                                       尽态极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妍</a:t>
            </a:r>
            <a:r>
              <a:rPr b="0" lang="zh-CN" sz="2400" spc="-1" strike="noStrike">
                <a:solidFill>
                  <a:srgbClr val="000000"/>
                </a:solidFill>
                <a:latin typeface="Monotype Corsiv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38440" y="3094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81280" y="1798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2560" y="1716120"/>
            <a:ext cx="12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yī y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6720" y="1838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h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38440" y="225576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zh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70360" y="2292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pín c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6720" y="2371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09640" y="2865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hē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38440" y="339876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h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97280" y="337356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sǒ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364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50864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h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45086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hì zh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0133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50133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6720" y="279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zh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3760" y="2797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ti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046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检       查      预     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12536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给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红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字注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40766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x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10160" y="4005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m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364500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hóu  ch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00000" y="134136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解      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2060640"/>
            <a:ext cx="58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做本行的事，成绩十分显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270828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皱着眉头，形容忧愁的样子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3357720"/>
            <a:ext cx="43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笑容灿烂的样子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4005360"/>
            <a:ext cx="32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生气地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4653000"/>
            <a:ext cx="37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形容威力极大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5229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惊飞的鸿雁，形容美人体态轻盈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595008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使仪态和丽质最充分地显示出来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989000"/>
            <a:ext cx="502920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本色当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颦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粲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嗔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叱咤风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惊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尽态极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69228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检 查 预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8640720" y="6093000"/>
            <a:ext cx="503280" cy="765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765000"/>
              <a:gd name="textAreaBottom" fmla="*/ 732600 h 765000"/>
            </a:gdLst>
            <a:ahLst/>
            <a:rect l="textAreaLeft" t="textAreaTop" r="textAreaRight" b="textAreaBottom"/>
            <a:pathLst>
              <a:path w="21600" h="32825">
                <a:moveTo>
                  <a:pt x="0" y="0"/>
                </a:moveTo>
                <a:lnTo>
                  <a:pt x="21600" y="0"/>
                </a:lnTo>
                <a:lnTo>
                  <a:pt x="21600" y="32825"/>
                </a:lnTo>
                <a:lnTo>
                  <a:pt x="0" y="32825"/>
                </a:lnTo>
                <a:close/>
              </a:path>
              <a:path fill="lightenLess" w="21600" h="328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25">
                <a:moveTo>
                  <a:pt x="21600" y="0"/>
                </a:moveTo>
                <a:lnTo>
                  <a:pt x="21600" y="32825"/>
                </a:lnTo>
                <a:lnTo>
                  <a:pt x="20200" y="31425"/>
                </a:lnTo>
                <a:lnTo>
                  <a:pt x="20200" y="1400"/>
                </a:lnTo>
                <a:close/>
              </a:path>
              <a:path fill="darkenLess" w="21600" h="32825">
                <a:moveTo>
                  <a:pt x="21600" y="32825"/>
                </a:moveTo>
                <a:lnTo>
                  <a:pt x="0" y="32825"/>
                </a:lnTo>
                <a:lnTo>
                  <a:pt x="1400" y="31425"/>
                </a:lnTo>
                <a:lnTo>
                  <a:pt x="20200" y="31425"/>
                </a:lnTo>
                <a:close/>
              </a:path>
              <a:path fill="lighten" w="21600" h="32825">
                <a:moveTo>
                  <a:pt x="0" y="3282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25"/>
                </a:lnTo>
                <a:close/>
              </a:path>
              <a:path fill="darken" w="21600" h="32825">
                <a:moveTo>
                  <a:pt x="10800" y="9449"/>
                </a:moveTo>
                <a:lnTo>
                  <a:pt x="13376" y="12060"/>
                </a:ln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lnTo>
                  <a:pt x="17763" y="16412"/>
                </a:lnTo>
                <a:lnTo>
                  <a:pt x="16109" y="16412"/>
                </a:lnTo>
                <a:lnTo>
                  <a:pt x="16109" y="23602"/>
                </a:lnTo>
                <a:lnTo>
                  <a:pt x="5491" y="23602"/>
                </a:lnTo>
                <a:lnTo>
                  <a:pt x="5491" y="16412"/>
                </a:lnTo>
                <a:lnTo>
                  <a:pt x="3837" y="16412"/>
                </a:lnTo>
                <a:close/>
              </a:path>
              <a:path fill="darkenLess" w="21600" h="32825">
                <a:moveTo>
                  <a:pt x="13376" y="12060"/>
                </a:move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close/>
              </a:path>
              <a:path fill="darkenLess" w="21600" h="32825">
                <a:moveTo>
                  <a:pt x="9877" y="19911"/>
                </a:moveTo>
                <a:lnTo>
                  <a:pt x="11723" y="19911"/>
                </a:lnTo>
                <a:lnTo>
                  <a:pt x="11723" y="23602"/>
                </a:lnTo>
                <a:lnTo>
                  <a:pt x="16109" y="23602"/>
                </a:lnTo>
                <a:lnTo>
                  <a:pt x="16109" y="16412"/>
                </a:lnTo>
                <a:lnTo>
                  <a:pt x="5491" y="16412"/>
                </a:lnTo>
                <a:lnTo>
                  <a:pt x="5491" y="23602"/>
                </a:lnTo>
                <a:lnTo>
                  <a:pt x="9877" y="2360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16000" y="263700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好词）用得好，好在它写出了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386064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好句）用得好，它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辞方法，好在它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11970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找好词好句，读一读，以下面的形式来品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602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研    读    探    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1052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8640720" y="6093000"/>
            <a:ext cx="503280" cy="765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765000"/>
              <a:gd name="textAreaBottom" fmla="*/ 732600 h 765000"/>
            </a:gdLst>
            <a:ahLst/>
            <a:rect l="textAreaLeft" t="textAreaTop" r="textAreaRight" b="textAreaBottom"/>
            <a:pathLst>
              <a:path w="21600" h="32825">
                <a:moveTo>
                  <a:pt x="0" y="0"/>
                </a:moveTo>
                <a:lnTo>
                  <a:pt x="21600" y="0"/>
                </a:lnTo>
                <a:lnTo>
                  <a:pt x="21600" y="32825"/>
                </a:lnTo>
                <a:lnTo>
                  <a:pt x="0" y="32825"/>
                </a:lnTo>
                <a:close/>
              </a:path>
              <a:path fill="lightenLess" w="21600" h="328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25">
                <a:moveTo>
                  <a:pt x="21600" y="0"/>
                </a:moveTo>
                <a:lnTo>
                  <a:pt x="21600" y="32825"/>
                </a:lnTo>
                <a:lnTo>
                  <a:pt x="20200" y="31425"/>
                </a:lnTo>
                <a:lnTo>
                  <a:pt x="20200" y="1400"/>
                </a:lnTo>
                <a:close/>
              </a:path>
              <a:path fill="darkenLess" w="21600" h="32825">
                <a:moveTo>
                  <a:pt x="21600" y="32825"/>
                </a:moveTo>
                <a:lnTo>
                  <a:pt x="0" y="32825"/>
                </a:lnTo>
                <a:lnTo>
                  <a:pt x="1400" y="31425"/>
                </a:lnTo>
                <a:lnTo>
                  <a:pt x="20200" y="31425"/>
                </a:lnTo>
                <a:close/>
              </a:path>
              <a:path fill="lighten" w="21600" h="32825">
                <a:moveTo>
                  <a:pt x="0" y="3282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25"/>
                </a:lnTo>
                <a:close/>
              </a:path>
              <a:path fill="darken" w="21600" h="32825">
                <a:moveTo>
                  <a:pt x="10800" y="9449"/>
                </a:moveTo>
                <a:lnTo>
                  <a:pt x="13376" y="12060"/>
                </a:ln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lnTo>
                  <a:pt x="17763" y="16412"/>
                </a:lnTo>
                <a:lnTo>
                  <a:pt x="16109" y="16412"/>
                </a:lnTo>
                <a:lnTo>
                  <a:pt x="16109" y="23602"/>
                </a:lnTo>
                <a:lnTo>
                  <a:pt x="5491" y="23602"/>
                </a:lnTo>
                <a:lnTo>
                  <a:pt x="5491" y="16412"/>
                </a:lnTo>
                <a:lnTo>
                  <a:pt x="3837" y="16412"/>
                </a:lnTo>
                <a:close/>
              </a:path>
              <a:path fill="darkenLess" w="21600" h="32825">
                <a:moveTo>
                  <a:pt x="13376" y="12060"/>
                </a:move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close/>
              </a:path>
              <a:path fill="darkenLess" w="21600" h="32825">
                <a:moveTo>
                  <a:pt x="9877" y="19911"/>
                </a:moveTo>
                <a:lnTo>
                  <a:pt x="11723" y="19911"/>
                </a:lnTo>
                <a:lnTo>
                  <a:pt x="11723" y="23602"/>
                </a:lnTo>
                <a:lnTo>
                  <a:pt x="16109" y="23602"/>
                </a:lnTo>
                <a:lnTo>
                  <a:pt x="16109" y="16412"/>
                </a:lnTo>
                <a:lnTo>
                  <a:pt x="5491" y="16412"/>
                </a:lnTo>
                <a:lnTo>
                  <a:pt x="5491" y="23602"/>
                </a:lnTo>
                <a:lnTo>
                  <a:pt x="9877" y="2360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637000"/>
            <a:ext cx="66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好词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得好，好在它写出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4437000"/>
            <a:ext cx="788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好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辞方法，好在它形象地写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476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研     读    探     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126828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找美句，读一读，以下面的形式来品味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8680" y="2637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双眉频蹙、笑颊粲然、喜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3429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舞蹈家的丰富的神态</a:t>
            </a:r>
            <a:r>
              <a:rPr b="0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4437000"/>
            <a:ext cx="35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轻云般慢移，旋风般疾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5300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6093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舞蹈家的舞技的变幻多姿精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1052640"/>
            <a:ext cx="82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印度舞蹈美，美在哪里？边听朗读边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学生听读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14——18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2276640"/>
            <a:ext cx="705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形体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秀丽的面庞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神态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限的哀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服饰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妥贴的梳妆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动作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挺身屹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心灵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忘怀了观众，也忘怀了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研      读     探     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97120" y="1484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59640" y="692280"/>
            <a:ext cx="368280" cy="3682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himes.wav"/>
      </p:stSnd>
    </p:sndAc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201259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07:39:36Z</dcterms:created>
  <dc:creator>yihai</dc:creator>
  <dc:description/>
  <dc:language>en-US</dc:language>
  <cp:lastModifiedBy>*</cp:lastModifiedBy>
  <dcterms:modified xsi:type="dcterms:W3CDTF">2010-04-01T09:23:43Z</dcterms:modified>
  <cp:revision>65</cp:revision>
  <dc:subject/>
  <dc:title>幻灯片 1</dc:title>
</cp:coreProperties>
</file>