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2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503-3EFE-42A9-91E1-AE4E83D1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AF4-ECEE-436C-89AC-7B7B3EAC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FBB-6009-4F6E-8361-9672B95B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368-CE3D-45D9-B6CC-AC18F4C3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EF1-BBCD-4C1E-BFD0-0D9CF459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075-F11F-479A-9112-0F18DA71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149-2F5B-4454-80D8-2C65F6BE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5A4-7CA8-430F-BB9F-C69A244D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90E-61D4-408D-8597-608252F9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928-5ED7-4ED1-B49A-A9F37150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386-2351-4A1A-9300-71B999CF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0D7-C653-43AC-AF6F-F59AF2EF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5FA-1B19-4B3D-8283-F83F1D0886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6200" y="146160"/>
            <a:ext cx="71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导入：明确漫画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 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、看标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0" y="355752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378936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48624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373536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342900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820960"/>
            <a:ext cx="39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漫画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2781360"/>
            <a:ext cx="32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习    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21440" cy="511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9200" y="5950080"/>
            <a:ext cx="85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寓意：讽刺不接受新事物的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、看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200" y="314172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71680" y="342900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3141720"/>
            <a:ext cx="35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83320" y="3429000"/>
            <a:ext cx="1049400" cy="917640"/>
          </a:xfrm>
          <a:prstGeom prst="rightArrow">
            <a:avLst>
              <a:gd name="adj1" fmla="val 50000"/>
              <a:gd name="adj2" fmla="val 285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14172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79720" y="258588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细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256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55640" y="260280"/>
            <a:ext cx="7993080" cy="6337440"/>
            <a:chOff x="755640" y="260280"/>
            <a:chExt cx="7993080" cy="63374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635280" y="4984920"/>
              <a:ext cx="158436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3203640" y="2852640"/>
              <a:ext cx="266364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rot="18931200">
              <a:off x="5543640" y="2133360"/>
              <a:ext cx="1476360" cy="323640"/>
            </a:xfrm>
            <a:prstGeom prst="leftArrow">
              <a:avLst>
                <a:gd name="adj1" fmla="val 50000"/>
                <a:gd name="adj2" fmla="val 1140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3565400">
              <a:off x="2050920" y="2133000"/>
              <a:ext cx="1476360" cy="324000"/>
            </a:xfrm>
            <a:prstGeom prst="leftArrow">
              <a:avLst>
                <a:gd name="adj1" fmla="val 50000"/>
                <a:gd name="adj2" fmla="val 1139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940360" y="260280"/>
              <a:ext cx="28083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067280" y="4437000"/>
              <a:ext cx="720720" cy="863640"/>
            </a:xfrm>
            <a:prstGeom prst="downArrow">
              <a:avLst>
                <a:gd name="adj1" fmla="val 50000"/>
                <a:gd name="adj2" fmla="val 29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755640" y="345960"/>
              <a:ext cx="1152360" cy="1138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0560" y="981000"/>
            <a:ext cx="83534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人类对地球环境的破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378000"/>
            <a:ext cx="7704000" cy="521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20560" y="5648400"/>
            <a:ext cx="84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寓意：告诫人们不要眼睛朝上，要脚踏实地，在摸索中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３、看画中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29462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画中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306864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76552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301608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27115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224460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17080" cy="518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6200" y="54450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了社会生活中“名人效应”的泛滥和“‘商’风败俗”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478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36920" y="-77760"/>
            <a:ext cx="43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武大郎开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040" y="5013360"/>
            <a:ext cx="868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我们掌柜的有个脾气，比他高的都不用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573880"/>
            <a:ext cx="84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批评了生活中那些“嫉贤妒能”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15920"/>
            <a:ext cx="874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讽刺性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2205000"/>
            <a:ext cx="748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批评性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32200" y="4506840"/>
            <a:ext cx="7580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幽默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、看夸张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2997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夸张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314172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276552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308772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71152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237960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弦外之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23796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260280"/>
            <a:ext cx="45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484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某些不学无术，却喜欢摆架子的人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赞扬具有真才实学，却谦虚谨慎的人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200" y="4221000"/>
            <a:ext cx="81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了一种不正常的社会现象：不学无术之徒反倒对饱学谦恭之士颐指气使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43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476280"/>
            <a:ext cx="8013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当诚信的心灵被金钱禁锢的时候，美德就会消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504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这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219852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现实生活中没有原则立场、缺乏是非标准的人；尤其对那些长于逢迎、弄虚作假、把工作中的失误巧饰为成绩的人和事提出了深刻的批评。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112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2616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7840" y="536400"/>
            <a:ext cx="815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了那些“这山望着那山高”，只知羡慕，不能脚踏实地把握自己位置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5080" cy="482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321080" cy="482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两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5493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生活现象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中取材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1320"/>
            <a:ext cx="103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夸张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比喻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象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等手法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013280"/>
            <a:ext cx="106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讽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表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某些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人和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658800"/>
            <a:ext cx="7920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社会上“重钱轻文”的现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498600"/>
            <a:ext cx="125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漫画作文审图立意步骤、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916280"/>
            <a:ext cx="8084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：仔细观察图画，把握画面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：根据画面感悟主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：展开合理想象，联系实际丰富画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：确定自己的立意。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852560"/>
            <a:ext cx="7417080" cy="4816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-11736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课 后 作 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认真审读下面的漫画，弄清其寓意，联系现实，写一篇不少于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800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字的议论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59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取材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18900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社会现实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87308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热点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62592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时代感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现实性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71628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幼圆"/>
                <a:ea typeface="幼圆"/>
              </a:rPr>
              <a:t>强烈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1604880" y="2476440"/>
            <a:ext cx="590544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ff">
                    <a:alpha val="67000"/>
                  </a:srgbClr>
                </a:solidFill>
                <a:latin typeface="宋体"/>
              </a:rPr>
              <a:t>漫画作文指导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ffff">
                  <a:alpha val="67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33720" y="476280"/>
            <a:ext cx="4454640" cy="6000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88320" y="1700280"/>
            <a:ext cx="78984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考材料作文类型之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836640"/>
            <a:ext cx="867564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了解漫画作文的特点，掌握解读漫画的步骤、方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通过练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培养学生审图立意的能力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4103640" cy="532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11640" y="579600"/>
            <a:ext cx="49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漫画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72548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针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捕捉人事物的本质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变形、夸张、比喻等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幽默或讽刺的效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5084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5373720"/>
            <a:ext cx="7056720" cy="1150920"/>
          </a:xfrm>
          <a:prstGeom prst="wedgeRectCallout">
            <a:avLst>
              <a:gd name="adj1" fmla="val -49416"/>
              <a:gd name="adj2" fmla="val -7275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标题（可以没有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即题目，往往告知或暗示漫画的主题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3789360"/>
            <a:ext cx="3816360" cy="1224000"/>
          </a:xfrm>
          <a:prstGeom prst="wedgeRectCallout">
            <a:avLst>
              <a:gd name="adj1" fmla="val -119967"/>
              <a:gd name="adj2" fmla="val -9318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主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画面各“因素”构成的情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1557360"/>
            <a:ext cx="3384360" cy="1584360"/>
          </a:xfrm>
          <a:prstGeom prst="wedgeRectCallout">
            <a:avLst>
              <a:gd name="adj1" fmla="val -65620"/>
              <a:gd name="adj2" fmla="val 48495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注释（可以没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)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对画面情景的提示与注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6360" y="231840"/>
            <a:ext cx="39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漫画的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653000"/>
            <a:ext cx="79200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720" y="333360"/>
            <a:ext cx="4390920" cy="4319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0"/>
            <a:ext cx="1763640" cy="1197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3080" y="2781360"/>
            <a:ext cx="790560" cy="792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916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了解漫画作文审图立意的步骤、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2:28:05Z</dcterms:created>
  <dc:creator>李新建</dc:creator>
  <dc:description/>
  <dc:language>en-US</dc:language>
  <cp:lastModifiedBy>微软用户</cp:lastModifiedBy>
  <dcterms:modified xsi:type="dcterms:W3CDTF">2009-05-23T08:32:20Z</dcterms:modified>
  <cp:revision>62</cp:revision>
  <dc:subject/>
  <dc:title>高考漫画作文审图立意</dc:title>
</cp:coreProperties>
</file>