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261-352D-44A3-BABB-449A0EEA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B5D-6E0C-47C4-A4DD-492AABF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8F5-E32E-4DE1-8CFC-B2585CE0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45C-2227-4D20-AF8E-25206D65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B72C-D1AE-4AE4-A1D1-A2C1E69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741-C049-4F3C-B2C1-6BC154B0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BE2-2115-4ECA-8D59-CAA9D69F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B5A-B4AA-485B-8F98-0BBAA27C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AEC-86B1-4E8F-B4C7-6CEEF40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30F-2566-464A-8D30-DEFD442F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F548-59E7-4AF2-AF98-DE9F496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77B9-CDA3-42E2-B32E-978E6E33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9C80-B8DC-4DCF-BC1F-A9EBF95562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蜀道难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25760" y="1981080"/>
          <a:ext cx="4092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1981080"/>
                    <a:ext cx="4092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山15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有六龙回日之高标，下有冲波逆折之回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黄鹤之飞尚不得过，猿猱欲度愁攀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山17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青泥何盘盘，百步九折萦岩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扪参历井仰胁息，以手抚膺坐长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8" name="山22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君西游何时还？畏途巉岩不可攀。但见悲鸟号古木，雄飞雌从绕林间。又闻子规啼夜月，愁空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7960" y="228600"/>
            <a:ext cx="3809880" cy="5867280"/>
          </a:xfrm>
          <a:prstGeom prst="rect">
            <a:avLst/>
          </a:prstGeom>
          <a:ln w="0">
            <a:noFill/>
          </a:ln>
        </p:spPr>
      </p:pic>
      <p:pic>
        <p:nvPicPr>
          <p:cNvPr id="71" name="山19" descr=""/>
          <p:cNvPicPr/>
          <p:nvPr/>
        </p:nvPicPr>
        <p:blipFill>
          <a:blip r:embed="rId2"/>
          <a:stretch/>
        </p:blipFill>
        <p:spPr>
          <a:xfrm>
            <a:off x="403848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山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8610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685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880"/>
            <a:ext cx="30481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蜀道之难，难于上青天，使人听此凋朱颜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05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峰去天不盈尺，枯松倒挂倚绝壁。飞湍瀑流争喧豗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ē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转石万壑雷。其险也如此，嗟尔远道之人胡为乎来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7960" y="456840"/>
            <a:ext cx="3809880" cy="5638680"/>
          </a:xfrm>
          <a:prstGeom prst="rect">
            <a:avLst/>
          </a:prstGeom>
          <a:ln w="0">
            <a:noFill/>
          </a:ln>
        </p:spPr>
      </p:pic>
      <p:pic>
        <p:nvPicPr>
          <p:cNvPr id="77" name="山25" descr=""/>
          <p:cNvPicPr/>
          <p:nvPr/>
        </p:nvPicPr>
        <p:blipFill>
          <a:blip r:embed="rId2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剑阁峥嵘而崔嵬，一夫当关，万夫莫开。所守或匪亲，化为狼与豺。朝避猛虎，夕避长蛇。磨牙吮血，杀人如麻。锦城虽云乐，不如早还家。蜀道之难，难于上青天，侧身西望长咨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80" name="山27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按文章思路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—高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难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来历）←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高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—险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可畏—劝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景物凄清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山水险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—惨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战祸惨烈—告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剑阁险要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杀人惨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诗歌艺术特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背诵相关语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一、大胆的夸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雄伟奇险、强烈深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蜀道难、写山高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写激流瀑布、写蜀地历史、写人的惊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、奇特的想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心游万仞、思接千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历史传说、写人惊魂未定、写山高阻日（神话故事—六龙回日）、写黄鹤之飞、写连绵高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、强烈的感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赞叹惊异、震撼人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复出现的惊叹、磅礴的气势、深刻的感受、强烈充沛起伏动荡变化多端的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、变幻的语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长短不齐、纵横崛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诗句子有三字、四字、五字、七字、九字，前半部分多用长句，气势畅达夸张表现蜀道的高山险川；后半部分写剑阁险恶，多用四字句，跳荡有力，表现惊恐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山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2880" y="5410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80040" y="1828800"/>
            <a:ext cx="549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2382840"/>
            <a:ext cx="245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7440" y="1116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朗读品味，尝试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李白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李白（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701-762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），字太白，号青莲居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祖籍陇西成纪（今甘肃省秦安县），先世隋时因罪流徙中亚，他出生在安西都护府的碎叶城（今吉尔吉斯境内），五岁时随父迁居绵州彰明县（今四川省江油县）的青莲乡。他自青年时就漫游全国各地，天宝初年曾进住长安，供奉翰林，但不久就遭贬去职。晚年漂泊东南一带，六十二岁病死在当涂县令李阳冰家。李白幼时，他的父亲对他进行过传统教育，青年时接触过道士和纵横家，也受过儒家的影响，思想比较复杂，这在他的作品中有所反映。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他性格豪迈，渴望建功立业，但对当时的黑暗社会现实极为不满，他热爱祖国山川，同情下层人民，蔑视权贵，但也有一些饮酒求仙、放纵享乐的思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的诗现存九百多首，都收在《李太白集》中。在他所有的作品中乐府诗约占四分之一，其代表作为《蜀道难》、《梁父吟》 等，代表了其浪漫主义诗歌的最高成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也是五言、七言绝句的圣手。五言含蓄、深远，只有王维可以相比；七绝韵味醇美，音节和谐流畅，和王昌龄齐名，被评为有唐三百年的典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李白诗歌的浪漫主义风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烈的浪漫主义色彩，是李白作品的艺术特点，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风格雄健奔放，色调瑰玮绚丽，语言清新自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继屈原以后我国最伟大的浪漫主义诗人。他驰骋想象，运用神话的离奇境界，把自己热烈的感情倾注到所描写的对象之中，以惊俗骇世的笔墨，恣意挥洒，描写了壮丽奇谲的世界，借以抒发个人怀抱的抑郁和不平。他鞭挞封建社会的丑恶淋漓尽致，杜甫曾说他：“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笔落惊风雨，诗成泣鬼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”，皮日休说他：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“言出天地外，思出鬼神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韩愈说：“李杜文章在，光焰万丈长。”是的，李白诗歌中强烈的爱憎之情和艺术魅力，千百年来一直鼓舞着人们，激发着人们，是我国人民精神财富中的瑰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《蜀道难》的写作背景及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唐代蜀中商业经济极为发达，入蜀的人乐不思返，而没有认识到这一地区形势险要，自古为封建割据之地，随时有发生叛乱的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首诗大约是唐玄宗天宝元年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4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李白初入长安之作。《蜀道难》是乐府古题，古辞都以蜀道险阻为内容，寓有功业难成之意。正是这一点，触动了李白初入长安追求功名未成的心事。当友人入蜀时，，他便用这一古题写诗送别友人。</a:t>
            </a:r>
            <a:r>
              <a:rPr b="0" lang="zh-CN" sz="2800" spc="-1" strike="noStrike" u="sng">
                <a:solidFill>
                  <a:srgbClr val="00cc99"/>
                </a:solidFill>
                <a:uFillTx/>
                <a:latin typeface="Times New Roman"/>
              </a:rPr>
              <a:t>诗中极力描绘入蜀道路的艰难险阻，表达对蜀中军阀割据作乱和友人旅蜀安危的担忧，更借此抒发世道艰难，志士功业难成的悲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疏通字词，看图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噫吁</a:t>
            </a:r>
            <a:r>
              <a:rPr b="0" lang="zh-CN" sz="3200" spc="-1" strike="noStrike" baseline="16000">
                <a:solidFill>
                  <a:srgbClr val="000000"/>
                </a:solidFill>
                <a:latin typeface="Times New Roman"/>
              </a:rPr>
              <a:t> 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戏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ī xū x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鱼凫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ú f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猿猱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á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扪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é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参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ē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历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膺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ī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巉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飞湍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uā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喧豗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u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 baseline="16000">
                <a:solidFill>
                  <a:srgbClr val="ff3300"/>
                </a:solidFill>
                <a:uFillTx/>
                <a:latin typeface="Times New Roman"/>
              </a:rPr>
              <a:t>石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ē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崖            万壑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峥嵘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hēngró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崔嵬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uīwé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吮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ǔ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血               咨嗟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īji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419112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山1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21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471024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噫吁 </a:t>
            </a:r>
            <a:r>
              <a:rPr b="1" lang="zh-CN" sz="5400" spc="-1" strike="noStrike" baseline="16000">
                <a:solidFill>
                  <a:srgbClr val="66ff33"/>
                </a:solidFill>
                <a:latin typeface="Times New Roman"/>
              </a:rPr>
              <a:t>口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戏，危乎高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蜀道之难，难于上青天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山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4266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蚕丛及鱼凫，开国何茫然。尔来四万八千岁，不与秦塞通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124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当太白有鸟道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以横绝峨眉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山10" descr=""/>
          <p:cNvPicPr/>
          <p:nvPr/>
        </p:nvPicPr>
        <p:blipFill>
          <a:blip r:embed="rId2"/>
          <a:stretch/>
        </p:blipFill>
        <p:spPr>
          <a:xfrm>
            <a:off x="38098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地崩山摧壮士死，然后天梯石栈相钩连。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62" name="山23" descr=""/>
          <p:cNvPicPr/>
          <p:nvPr/>
        </p:nvPicPr>
        <p:blipFill>
          <a:blip r:embed="rId2"/>
          <a:stretch/>
        </p:blipFill>
        <p:spPr>
          <a:xfrm>
            <a:off x="3581280" y="0"/>
            <a:ext cx="556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0:18:04Z</dcterms:created>
  <dc:creator>plf</dc:creator>
  <dc:description/>
  <dc:language>en-US</dc:language>
  <cp:lastModifiedBy>zxj</cp:lastModifiedBy>
  <dcterms:modified xsi:type="dcterms:W3CDTF">2007-05-25T01:00:47Z</dcterms:modified>
  <cp:revision>29</cp:revision>
  <dc:subject/>
  <dc:title>蜀道难</dc:title>
</cp:coreProperties>
</file>