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190-F8FB-467B-89BB-087ED7DA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B55B-B0E2-4021-A1A0-D25CB47C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A5DF-29EC-4B03-90B9-0BC98DFA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2F9-2353-48B3-94CF-895C04E4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8FD2-99D5-4706-B4E1-78251436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2DD1-07F1-4603-9316-862A25E6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3AE-5E79-4344-AA43-577293A2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2480-215E-4FBC-85AE-97A89919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52B-A7DC-4B09-8156-4A822C15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053C-6335-4EA5-AAC9-E01C04EF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49E-4FD4-46DF-8AED-E03BF5EC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60A7-7BE9-4B21-9DCD-70585FAD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1ED6-235D-4C82-9E5C-A995E9B7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3CD5-CD31-4074-B02D-A20F99FA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EE90-503F-439F-86A2-D539B855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15CB-E3B9-4E02-8EE5-A12EC30B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9B8-732A-4590-8443-AE80C346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8566-E885-49DF-BD8E-B11DC879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815-7558-4325-8E5B-48CB8C17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E9E-BD4A-4026-BAF9-35AA6CD5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A15-F8DE-4083-8A51-D6E01461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09F-FBD5-4EFC-BA3A-60EB3721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0D20-DDEF-4E51-8FFC-CAD755B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DC9-1153-458B-AB26-B97D94BA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347-FF33-4CBA-AF62-D0AD5B338AF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98A6-A17D-45D3-88A6-688A4F13424C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lm900.com/poem/poem/poem46.htm" TargetMode="External"/><Relationship Id="rId2" Type="http://schemas.openxmlformats.org/officeDocument/2006/relationships/hyperlink" Target="http://www.alm900.com/poem/poem/poem59.htm" TargetMode="External"/><Relationship Id="rId3" Type="http://schemas.openxmlformats.org/officeDocument/2006/relationships/hyperlink" Target="http://www.alm900.com/poem/poem/poem80.htm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200400" y="6019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Monotype Corsiva"/>
              </a:rPr>
              <a:t>江阴市一中高三语文备课组改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40280" y="2590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白居易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609480"/>
            <a:ext cx="4343400" cy="131292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eb00b"/>
                </a:solidFill>
                <a:latin typeface="Times New Roman"/>
                <a:ea typeface="华文行楷"/>
              </a:rPr>
              <a:t>琵琶行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0" y="1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73120" y="115920"/>
            <a:ext cx="8001000" cy="5622840"/>
            <a:chOff x="573120" y="115920"/>
            <a:chExt cx="8001000" cy="5622840"/>
          </a:xfrm>
        </p:grpSpPr>
        <p:sp>
          <p:nvSpPr>
            <p:cNvPr id="115" name=""/>
            <p:cNvSpPr/>
            <p:nvPr/>
          </p:nvSpPr>
          <p:spPr>
            <a:xfrm>
              <a:off x="573120" y="115920"/>
              <a:ext cx="80010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3120" y="11592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71600" y="304920"/>
            <a:ext cx="7772400" cy="632448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唐宪宗元和十年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(815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跟拥兵割据的藩镇吴元济有勾结的朝中重臣派人刺死宰相武元衡，长安城顿时一片混乱。白居易当时任东宫赞善大夫，是个陪侍太子的闲职，不能过问朝政，但他压抑不住自己的愤怒，上书请求缉捕凶手，终以越职言事的罪名被贬为江州司马。五年后，宪宗去世，穆宗即位，才被调回长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447920" y="1111320"/>
          <a:ext cx="7238880" cy="5443560"/>
        </p:xfrm>
        <a:graphic>
          <a:graphicData uri="http://schemas.openxmlformats.org/drawingml/2006/table">
            <a:tbl>
              <a:tblPr/>
              <a:tblGrid>
                <a:gridCol w="1752480"/>
                <a:gridCol w="3276720"/>
                <a:gridCol w="220968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时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生活特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诗歌特点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0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前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（从入仕到贬江州司马以前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仕途一帆风顺，始终抱着</a:t>
                      </a:r>
                      <a:r>
                        <a:rPr b="0" lang="zh-CN" sz="24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“为民请命”</a:t>
                      </a: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“兼济天下”的宗旨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以讽喻诗为主。代表作品为《卖炭翁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后期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（即自贬江州司马到死）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是他“独善其身”的时期，揉和儒家“乐天知命”道家“知足不辱”和佛家“四大皆空”来作“明哲保身”的法宝。悔恨“三十气太壮，胸中多是非”。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以闲适诗和感伤诗为主。感伤诗：《长恨歌》《琵琶行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eaeaea"/>
                          </a:solidFill>
                          <a:latin typeface="Times New Roman"/>
                          <a:ea typeface="华文新魏"/>
                        </a:rPr>
                        <a:t>闲适诗：《赋得古原草送别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362320" y="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方正舒体"/>
              </a:rPr>
              <a:t>白居易生平与诗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24080" y="380880"/>
            <a:ext cx="3276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华文行楷"/>
                <a:ea typeface="华文行楷"/>
              </a:rPr>
              <a:t>代表作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33cc"/>
                </a:solidFill>
                <a:uFillTx/>
                <a:latin typeface="华文新魏"/>
                <a:ea typeface="华文新魏"/>
                <a:hlinkClick r:id="rId1"/>
              </a:rPr>
              <a:t>白牡丹</a:t>
            </a: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 u="sng">
                <a:solidFill>
                  <a:srgbClr val="ff33cc"/>
                </a:solidFill>
                <a:uFillTx/>
                <a:latin typeface="华文新魏"/>
                <a:ea typeface="华文新魏"/>
                <a:hlinkClick r:id="rId2"/>
              </a:rPr>
              <a:t>买花 </a:t>
            </a: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</a:t>
            </a:r>
            <a:r>
              <a:rPr b="0" lang="zh-CN" sz="3600" spc="-1" strike="noStrike" u="sng">
                <a:solidFill>
                  <a:srgbClr val="ff33cc"/>
                </a:solidFill>
                <a:uFillTx/>
                <a:latin typeface="华文新魏"/>
                <a:ea typeface="华文新魏"/>
                <a:hlinkClick r:id="rId3"/>
              </a:rPr>
              <a:t>暮江吟 </a:t>
            </a: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长恨歌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琵琶行    观游鱼    鸟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赋得古原草送别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问刘十九         宫词  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0" y="11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3120" y="115920"/>
            <a:ext cx="8001000" cy="5622840"/>
            <a:chOff x="573120" y="115920"/>
            <a:chExt cx="8001000" cy="5622840"/>
          </a:xfrm>
        </p:grpSpPr>
        <p:sp>
          <p:nvSpPr>
            <p:cNvPr id="124" name=""/>
            <p:cNvSpPr/>
            <p:nvPr/>
          </p:nvSpPr>
          <p:spPr>
            <a:xfrm>
              <a:off x="573120" y="115920"/>
              <a:ext cx="8001000" cy="56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3120" y="115920"/>
              <a:ext cx="8001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828800" y="990720"/>
            <a:ext cx="7315200" cy="5562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——古诗的一种体裁。宋王灼《碧鸡漫志》卷一：“古诗或名曰乐府，谓诗之可歌也。故乐府中有歌有谣，有吟有引，有行有曲。”宋赵德操《北窗炙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ｇｕ</a:t>
            </a:r>
            <a:r>
              <a:rPr b="0" lang="en-US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ǒ)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卷上：“凡歌始发声，谓之引……既引矣，其声稍放焉，故谓之行。行者，其声行也。”歌、行、引是古代歌曲的三种开形式，后成为古代诗歌的一种体裁，采用五言、七言、杂言的古体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  <a:ea typeface="华文彩云"/>
              </a:rPr>
              <a:t>解题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19320" y="2438280"/>
            <a:ext cx="7619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诗前小序，共一百三十八字。扼要地交代了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时间、地点、人物和故事的主要经过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，概括了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琵琶女的身世，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说明了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本诗的写作动机，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定下了全诗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凄切伤怀的感情基调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。本诗是一篇</a:t>
            </a:r>
            <a:r>
              <a:rPr b="0" lang="zh-CN" sz="40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抒情色彩很浓的长篇叙事诗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     </a:t>
            </a:r>
            <a:r>
              <a:rPr b="0" lang="zh-CN" sz="4000" spc="-1" strike="noStrike">
                <a:solidFill>
                  <a:srgbClr val="eeb00b"/>
                </a:solidFill>
                <a:latin typeface="Times New Roman"/>
                <a:ea typeface="华文新魏"/>
              </a:rPr>
              <a:t>自读诗前小序，疏通文意。思考：诗前小序有些什么内容？对全诗有何作用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97144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文章结构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12193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江头送客闻琵琶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362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江上聆听琵琶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4191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歌女倾诉身世苦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3341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同病相怜伤迁谪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6216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重闻琵琶青衫湿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20574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80988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1523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邀见歌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22096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演奏名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2895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听者陶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少年欢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191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晚年沦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悲苦心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505320" y="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秋江夜送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838080"/>
            <a:ext cx="243864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月夜听琵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838080"/>
            <a:ext cx="228600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月夜弹琵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828800"/>
            <a:ext cx="304776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东船西舫悄无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828800"/>
            <a:ext cx="228600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凄凉话身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2819520"/>
            <a:ext cx="304812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我闻琵琶已叹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2666880"/>
            <a:ext cx="3886200" cy="1127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自言本是京城女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梦啼妆泪红阑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038480"/>
            <a:ext cx="769608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同是天涯沦落人                 相逢何必曾相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952880"/>
            <a:ext cx="312408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为君翻作琵琶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5029200"/>
            <a:ext cx="304776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却坐促弦弦转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5943600"/>
            <a:ext cx="6781680" cy="581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满座重闻皆叹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609480"/>
            <a:ext cx="0" cy="304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609480"/>
            <a:ext cx="4724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6094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14479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4479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2438280"/>
            <a:ext cx="0" cy="3812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3623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429000"/>
            <a:ext cx="0" cy="609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648320"/>
            <a:ext cx="0" cy="3045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38098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46483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556272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563868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2590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演奏琵琶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838080"/>
            <a:ext cx="457200" cy="4191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4572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调弦校音，情随声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11430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演奏名曲，倾诉悲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9051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珠落玉盘，急切愉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5909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幽咽凝绝，幽愁暗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327672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铁骑突出，激越雄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14600" y="39625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曲终收拨，戛然而止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46483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江心月白，余韵无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457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序曲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84880" y="1112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总写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1828800"/>
            <a:ext cx="23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第一乐段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21400" y="251460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第二乐段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640" y="3322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第三乐段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886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曲终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37160" y="461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（魅力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666880" y="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aeaea"/>
                </a:solidFill>
                <a:latin typeface="方正舒体"/>
                <a:ea typeface="方正舒体"/>
              </a:rPr>
              <a:t>鲜明的对比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76520" y="7621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诗歌的第三部分：自诉身世苦是为了塑造一个封建社会被玩弄、被侮辱的妇女的典型形象，控诉世人的重色轻才和丈夫的重利寡情，这一部分采用了对比的手法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33526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少年得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3733920"/>
            <a:ext cx="114300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52880" y="3352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老年失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4952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门庭若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5257800"/>
            <a:ext cx="114300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14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年轻貌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495680"/>
            <a:ext cx="114300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昔日欢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6095880"/>
            <a:ext cx="1219320" cy="0"/>
          </a:xfrm>
          <a:prstGeom prst="line">
            <a:avLst/>
          </a:prstGeom>
          <a:ln cap="sq" w="1260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4952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独守空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57913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今日辛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7976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年长色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676520" y="914400"/>
            <a:ext cx="746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华文新魏"/>
                <a:ea typeface="华文新魏"/>
              </a:rPr>
              <a:t>一个飘泊江湖的曾经名噪京都、红极一时的长安歌妓。青春欢笑、老大沦落、年老色衰。“重色重利”的社会使色艺双绝的琵琶女“独守空船”，反映了封建社会中被侮辱、损害的歌伎们的悲惨命运。她有一种“曾经沧海”，却仍不失其率真及女性矜持端庄风格的成熟美。   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97680" y="5867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华文新魏"/>
                <a:ea typeface="华文新魏"/>
              </a:rPr>
              <a:t>同是天涯沦落人，相逢何必曾相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5160" y="228600"/>
            <a:ext cx="282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华文新魏"/>
                <a:ea typeface="华文新魏"/>
              </a:rPr>
              <a:t>如何理解琵琶女形象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44197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eaeaea"/>
                </a:solidFill>
                <a:latin typeface="华文新魏"/>
                <a:ea typeface="华文新魏"/>
              </a:rPr>
              <a:t>诗人着力刻画琵琶女的目的只是为了更好地</a:t>
            </a:r>
            <a:r>
              <a:rPr b="0" lang="zh-CN" sz="2800" spc="-1" strike="noStrike">
                <a:solidFill>
                  <a:srgbClr val="ff33cc"/>
                </a:solidFill>
                <a:latin typeface="华文新魏"/>
                <a:ea typeface="华文新魏"/>
              </a:rPr>
              <a:t>抒写自己的天涯沦落之恨</a:t>
            </a:r>
            <a:r>
              <a:rPr b="0" lang="zh-CN" sz="28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。那么，本文的主旨句是什么呢？   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2240" y="3886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为什么要极力铺写这一形象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教学目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情感目标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从失意者的互相同情慰藉之情中受到悲剧美的陶冶，从而认识封建社会（压制人才）的黑暗，激发学生珍视今朝的成才环境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华文行楷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B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知识目标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学习本文通过比喻描写音乐和借景抒情的写法。</a:t>
            </a:r>
            <a:br>
              <a:rPr sz="2800"/>
            </a:br>
            <a:r>
              <a:rPr b="0" lang="zh-CN" sz="2800" spc="-1" strike="noStrike">
                <a:solidFill>
                  <a:srgbClr val="eaeaea"/>
                </a:solidFill>
                <a:latin typeface="华文行楷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C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</a:t>
            </a:r>
            <a:r>
              <a:rPr b="0" lang="zh-CN" sz="2800" spc="-1" strike="noStrike">
                <a:solidFill>
                  <a:srgbClr val="33cc33"/>
                </a:solidFill>
                <a:latin typeface="华文行楷"/>
                <a:ea typeface="华文行楷"/>
              </a:rPr>
              <a:t>能力目标</a:t>
            </a:r>
            <a:r>
              <a:rPr b="0" lang="zh-CN" sz="2800" spc="-1" strike="noStrike">
                <a:solidFill>
                  <a:srgbClr val="eaeaea"/>
                </a:solidFill>
                <a:latin typeface="华文行楷"/>
                <a:ea typeface="华文行楷"/>
              </a:rPr>
              <a:t>：进一步巩固并领会对古代诗歌鉴赏的基本方法：通过分析如何塑造艺术形象把握主题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62160" y="-360"/>
            <a:ext cx="16002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主题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琵琶行</a:t>
            </a:r>
            <a:r>
              <a:rPr b="0" lang="en-US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》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是一首歌行体的长篇叙事诗，颇富抒情色彩，它是白居易</a:t>
            </a:r>
            <a:r>
              <a:rPr b="0" lang="zh-CN" sz="3600" spc="-1" strike="noStrike">
                <a:solidFill>
                  <a:srgbClr val="ff66ff"/>
                </a:solidFill>
                <a:latin typeface="华文行楷"/>
                <a:ea typeface="华文行楷"/>
              </a:rPr>
              <a:t>感伤诗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的代表作。鉴赏诗歌要准确而深入把握艺术形象。长篇叙事诗多通过人物形象的塑造来表现主题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          </a:t>
            </a:r>
            <a:r>
              <a:rPr b="0" lang="en-US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《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琵琶行</a:t>
            </a:r>
            <a:r>
              <a:rPr b="0" lang="en-US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》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主要叙述了诗人与一飘泊江湖的长安歌伎邂逅相遇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,</a:t>
            </a:r>
            <a:r>
              <a:rPr b="0" lang="zh-CN" sz="3600" spc="-1" strike="noStrike">
                <a:solidFill>
                  <a:srgbClr val="eaeaea"/>
                </a:solidFill>
                <a:latin typeface="华文行楷"/>
                <a:ea typeface="华文行楷"/>
              </a:rPr>
              <a:t>并被其琴声和凄苦身世感动的故事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990720"/>
            <a:ext cx="746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        </a:t>
            </a: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一个是处于封建社会底层的艺伎，一个是被压抑的真正知识分子，虽地位悬隔，在这风清月白的环境下自然产生强烈的感情共鸣和交流，成为知音，可见其</a:t>
            </a:r>
            <a:r>
              <a:rPr b="0" lang="zh-CN" sz="3200" spc="-1" strike="noStrike">
                <a:solidFill>
                  <a:srgbClr val="33cc33"/>
                </a:solidFill>
                <a:latin typeface="华文新魏"/>
                <a:ea typeface="华文新魏"/>
              </a:rPr>
              <a:t>对歌伎人格尊重的进步思想</a:t>
            </a: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。二者的遭遇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揭示 了封建社会压抑人才、不容贤能的黑暗。“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同是天涯沦落人，相逢何必曾相识</a:t>
            </a: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”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蕴含着许多</a:t>
            </a:r>
            <a:r>
              <a:rPr b="0" lang="zh-CN" sz="3200" spc="-1" strike="noStrike">
                <a:solidFill>
                  <a:srgbClr val="33cc33"/>
                </a:solidFill>
                <a:latin typeface="华文新魏"/>
                <a:ea typeface="华文新魏"/>
              </a:rPr>
              <a:t>能使人从悲哀中出甘美的人生哲理，已超越时代、阶级的局限，成为后世饱经忧患的人邂逅时的共同心声</a:t>
            </a: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。（美学价值，现实意义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25160" y="1522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回顾全文，拓展主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0" y="-431640"/>
            <a:ext cx="9144000" cy="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73120" y="304920"/>
            <a:ext cx="8001000" cy="4886280"/>
            <a:chOff x="573120" y="304920"/>
            <a:chExt cx="8001000" cy="4886280"/>
          </a:xfrm>
        </p:grpSpPr>
        <p:sp>
          <p:nvSpPr>
            <p:cNvPr id="209" name=""/>
            <p:cNvSpPr/>
            <p:nvPr/>
          </p:nvSpPr>
          <p:spPr>
            <a:xfrm>
              <a:off x="573120" y="304920"/>
              <a:ext cx="8001000" cy="488628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120" y="304920"/>
              <a:ext cx="8001000" cy="36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33cc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暗写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诗人送客闻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醉不成欢惨将别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暗示沦落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人忘归客不发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侧面烘托琴技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二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写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彼此相见，琵琶女奏《霓裳》《六幺》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详写</a:t>
            </a: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琵琶女自叙身世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诗人述“迁谪意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三次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写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我此言”“却坐促弦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略写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州司马青衫湿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侧面烘托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58128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同是天涯沦落人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5105520"/>
            <a:ext cx="75960" cy="685800"/>
          </a:xfrm>
          <a:custGeom>
            <a:avLst/>
            <a:gdLst>
              <a:gd name="textAreaLeft" fmla="*/ 0 w 75960"/>
              <a:gd name="textAreaRight" fmla="*/ 53280 w 7596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44197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照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9600" y="4191120"/>
            <a:ext cx="0" cy="114300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000640" y="5334120"/>
            <a:ext cx="228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明主旨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琵琶女三次演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685800"/>
            <a:ext cx="7924680" cy="30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琵琶行》里写道：“大弦嘈嘈如急雨，小弦切切如私语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嘈嘈切切错杂弹，大珠小珠落玉盘。”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大弦的嘈嘈和小弦的切切，到底是怎样的音响，读者很难想象，而比之于急雨，比之于私语，</a:t>
            </a:r>
            <a:r>
              <a:rPr b="0" lang="zh-CN" sz="3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比之于大小珍珠坠落在玉盘中敲出的音响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，就可以使读者感受到两弦的美妙各具特色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诗里还用“间关莺语花底滑，幽咽泉流冰下难”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比喻曲调的流转和凝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用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“银瓶乍破水浆迸，铁骑突出刀枪鸣”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比喻曲调的高亢雄壮，都把琵琶的声音描写得淋漓尽致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元稹《琵琶歌》里的“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泪垂捍拨朱弦湿，冰泉呜咽流莺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”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李绅《悲善才》里的“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秋吹动摇神女佩。月珠敲击水晶盘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”，也都是以声喻声的。元诗比白诗为早，白诗“莺语”二句，可能受到元诗的影响，但较元诗为胜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0"/>
            <a:ext cx="56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鉴赏《琵琶行》的音乐描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295280" y="304920"/>
            <a:ext cx="78487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   </a:t>
            </a:r>
            <a:r>
              <a:rPr b="0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以声喻声，不在于声音的完全相似，不能过于黏滞。如“莺”在“花底”，“泉”在“冰下”，“瓶”是“银瓶”，“骑”是“铁骑”，“佩”，是“神女佩”，“盘”是“水晶盘”等等，有的并不直接关系到音响，却能够令人从中联想到音乐的美妙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 </a:t>
            </a:r>
            <a:r>
              <a:rPr b="0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描写音乐，除了较多地运用比喻之外，还运用其他的手法。妙语点睛，也是一种常用的手法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71600" y="457200"/>
            <a:ext cx="77724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《琵琶行》写道：“转轴拨弦三两声，未成曲调先有情。弦弦掩抑声声思，似诉平生不得志。低眉信手续续弹，说尽心中无限事。”又写道：“别有幽愁暗恨生，此时无声胜有声。”</a:t>
            </a:r>
            <a:r>
              <a:rPr b="0" lang="zh-CN" sz="32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音乐是用来抒发感情的。奏曲的能手，能够通过演奏表达自己的哀愁或欢乐。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听曲的行家，也能够从曲调中领会到奏曲者的情思，受到感染</a:t>
            </a:r>
            <a:r>
              <a:rPr b="0" lang="zh-CN" sz="3200" spc="-1" strike="noStrike">
                <a:solidFill>
                  <a:srgbClr val="33cc33"/>
                </a:solidFill>
                <a:latin typeface="Times New Roman"/>
                <a:ea typeface="华文新魏"/>
              </a:rPr>
              <a:t>。倘若听曲者和奏曲者有同样的心情，那感受会是很强烈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白居易真不愧为听曲的行家，于琵琶未成曲调时已经感到弦声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饱含感情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于演奏的过程中又听出琵琶女有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无限心事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于演奏终结时更听到了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弦外之音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听到了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于无声处表露的哀愁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。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47920" y="36036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同是天涯沦落人”，白居易与琵琶女有类似的遭遇，所以感动得青衫泪湿。这里，用比喻已经不够了，诗人就直接出面为乐曲解说。诗人的解说犹如画龙点睛，点到了妙处。只轻轻一点，就提示出乐曲的无穷含蕴。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“未成曲调先有情”，“此时无声胜有声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，已经成为千古传诵的妙句。说一句题外话，</a:t>
            </a:r>
            <a:r>
              <a:rPr b="0" lang="zh-CN" sz="27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古人有的责备白居易不该于谪居中夜入离妇之船，认为有违礼法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我们倒认为，</a:t>
            </a:r>
            <a:r>
              <a:rPr b="0" lang="zh-CN" sz="2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白居易能冲破封建的等级观念，平等地看待一个地位卑贱的琵琶女，将自己的仕途坎坷同她的昔为倡家女、今为商人妇的遭遇作类比，是非常难能可贵的。我国古代诗人虽有自比美人芳草的传统，但大都比的是纯洁</a:t>
            </a:r>
            <a:r>
              <a:rPr b="0" lang="zh-CN" sz="27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的少女或者高尚的贵妇，自比歌伎是较少见的。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3880" y="1522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 </a:t>
            </a:r>
            <a:r>
              <a:rPr b="0" lang="zh-CN" sz="33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《明湖居听书》中也运用了这种手法。</a:t>
            </a:r>
            <a:r>
              <a:rPr b="0" lang="zh-CN" sz="3100" spc="-1" strike="noStrike">
                <a:solidFill>
                  <a:srgbClr val="eaeaea"/>
                </a:solidFill>
                <a:latin typeface="华文新魏"/>
                <a:ea typeface="华文新魏"/>
              </a:rPr>
              <a:t>写白妞开始（唱）的情景，“</a:t>
            </a:r>
            <a:r>
              <a:rPr b="0" lang="zh-CN" sz="3100" spc="-1" strike="noStrike">
                <a:solidFill>
                  <a:srgbClr val="00ff00"/>
                </a:solidFill>
                <a:latin typeface="华文新魏"/>
                <a:ea typeface="华文新魏"/>
              </a:rPr>
              <a:t>声音初不甚大，只觉入耳有说不出来的妙境：五脏六腑里，像熨斗熨过，无一处不伏贴；三万六千个毛孔，像吃了人参果，无一个毛孔不畅快。</a:t>
            </a:r>
            <a:r>
              <a:rPr b="0" lang="zh-CN" sz="3100" spc="-1" strike="noStrike">
                <a:solidFill>
                  <a:srgbClr val="eaeaea"/>
                </a:solidFill>
                <a:latin typeface="华文新魏"/>
                <a:ea typeface="华文新魏"/>
              </a:rPr>
              <a:t>”也是由作者直接讲出自己的感受，只是就中又使用了比喻罢了。</a:t>
            </a:r>
            <a:r>
              <a:rPr b="0" lang="zh-CN" sz="3100" spc="-1" strike="noStrike">
                <a:solidFill>
                  <a:srgbClr val="ff9900"/>
                </a:solidFill>
                <a:latin typeface="华文新魏"/>
                <a:ea typeface="华文新魏"/>
              </a:rPr>
              <a:t>《琵琶行》写音乐，意不在写音乐而在写人，在慨叹琵琶女身世凄凉和抒发自己的不满。《明湖居听书》只不过极力形容唱腔的美妙，无弦外之音。</a:t>
            </a:r>
            <a:r>
              <a:rPr b="0" lang="zh-CN" sz="3100" spc="-1" strike="noStrike">
                <a:solidFill>
                  <a:srgbClr val="eaeaea"/>
                </a:solidFill>
                <a:latin typeface="华文新魏"/>
                <a:ea typeface="华文新魏"/>
              </a:rPr>
              <a:t>两者相较，我以为《琵琶行》胜过一筹。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762120"/>
            <a:ext cx="8001000" cy="556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3045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白居易简介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            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白居易（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772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－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846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），字乐天，号香山居士，下邽（今陕西省渭南县境）人。贞元十五年（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798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）进士，任翰林学士，左拾遗。因直言极谏，贬江州司马，移忠州刺史。后被召为主客郎中，知制诰。太和年间，任太子宾客及太子少傅。会昌二年（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842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），以刑部尚书致仕，死时年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75</a:t>
            </a: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华文新魏"/>
              </a:rPr>
              <a:t>岁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3520" y="0"/>
            <a:ext cx="7620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华文新魏"/>
                <a:ea typeface="华文新魏"/>
              </a:rPr>
              <a:t>               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杜甫而后，白居易是我国古代一位杰出的现实主义诗人。他所生活的七十多年里，正是安史之乱后各种矛盾冲突急剧发展的时期，也正是唐朝走向衰微的时期。错综复杂的社会现实，在白居易诗中得到了较全面的反映。今存白居易诗近三千首，数量之多在唐代诗人中首屈一指。他的成就，主要表现在两个方面：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一是政治讽喻诗；一是以</a:t>
            </a:r>
            <a:r>
              <a:rPr b="0" lang="en-US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《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长恨歌</a:t>
            </a:r>
            <a:r>
              <a:rPr b="0" lang="en-US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》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、</a:t>
            </a:r>
            <a:r>
              <a:rPr b="0" lang="en-US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《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琵琶行</a:t>
            </a:r>
            <a:r>
              <a:rPr b="0" lang="en-US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》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为代表的长篇叙事诗。</a:t>
            </a:r>
            <a:r>
              <a:rPr b="0" lang="zh-CN" sz="3000" spc="-1" strike="noStrike">
                <a:solidFill>
                  <a:srgbClr val="ff9900"/>
                </a:solidFill>
                <a:latin typeface="华文新魏"/>
                <a:ea typeface="华文新魏"/>
              </a:rPr>
              <a:t>前者把当时社会病态的症结所在，几乎全部呈露在他的笔底。</a:t>
            </a:r>
            <a:r>
              <a:rPr b="0" lang="zh-CN" sz="3000" spc="-1" strike="noStrike">
                <a:solidFill>
                  <a:srgbClr val="33cc33"/>
                </a:solidFill>
                <a:latin typeface="华文新魏"/>
                <a:ea typeface="华文新魏"/>
              </a:rPr>
              <a:t>后者则有着曲折离奇、自具首尾的细致的情节描写，和完整而鲜明的人物形象的塑造。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在语言和音调上又显得特别得流畅匀称，优美和谐。这是一种新型的诗，当时号称</a:t>
            </a:r>
            <a:r>
              <a:rPr b="0" lang="zh-CN" sz="3000" spc="-1" strike="noStrike">
                <a:solidFill>
                  <a:srgbClr val="33cc33"/>
                </a:solidFill>
                <a:latin typeface="华文新魏"/>
                <a:ea typeface="华文新魏"/>
              </a:rPr>
              <a:t>“千字律诗”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，流传极广，正如宣宗李忱所说：</a:t>
            </a:r>
            <a:r>
              <a:rPr b="0" lang="zh-CN" sz="3000" spc="-1" strike="noStrike">
                <a:solidFill>
                  <a:srgbClr val="ff66ff"/>
                </a:solidFill>
                <a:latin typeface="华文新魏"/>
                <a:ea typeface="华文新魏"/>
              </a:rPr>
              <a:t>“童子解吟长恨曲，胡儿能唱琵琶篇”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。著有</a:t>
            </a:r>
            <a:r>
              <a:rPr b="0" lang="en-US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《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白氏长庆集</a:t>
            </a:r>
            <a:r>
              <a:rPr b="0" lang="en-US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》</a:t>
            </a:r>
            <a:r>
              <a:rPr b="0" lang="zh-CN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七十一卷</a:t>
            </a:r>
            <a:r>
              <a:rPr b="0" lang="en-US" sz="3000" spc="-1" strike="noStrike">
                <a:solidFill>
                  <a:srgbClr val="eaeaea"/>
                </a:solidFill>
                <a:latin typeface="华文新魏"/>
                <a:ea typeface="华文新魏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05:35:39Z</dcterms:created>
  <dc:creator>陆益彰</dc:creator>
  <dc:description/>
  <dc:language>en-US</dc:language>
  <cp:lastModifiedBy>江阴一中</cp:lastModifiedBy>
  <dcterms:modified xsi:type="dcterms:W3CDTF">2001-07-12T10:04:39Z</dcterms:modified>
  <cp:revision>185</cp:revision>
  <dc:subject/>
  <dc:title>请在此处添加班会主题</dc:title>
</cp:coreProperties>
</file>