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applause.wav" ContentType="audio/x-wav"/>
  <Override PartName="/ppt/media/image10.png" ContentType="image/png"/>
  <Override PartName="/ppt/media/type.wav" ContentType="audio/x-wav"/>
  <Override PartName="/ppt/media/image14.gif" ContentType="image/gif"/>
  <Override PartName="/ppt/media/image8.gif" ContentType="image/gif"/>
  <Override PartName="/ppt/media/laser.wav" ContentType="audio/x-wav"/>
  <Override PartName="/ppt/media/image5.gif" ContentType="image/gif"/>
  <Override PartName="/ppt/media/chimes.wav" ContentType="audio/x-wav"/>
  <Override PartName="/ppt/media/image13.gif" ContentType="image/gif"/>
  <Override PartName="/ppt/media/ricochet.wav" ContentType="audio/x-wav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1.png" ContentType="image/png"/>
  <Override PartName="/ppt/media/image2.gif" ContentType="image/gif"/>
  <Override PartName="/ppt/media/image6.png" ContentType="image/png"/>
  <Override PartName="/ppt/media/image9.png" ContentType="image/png"/>
  <Override PartName="/ppt/media/camera.wav" ContentType="audio/x-wav"/>
  <Override PartName="/ppt/media/image17.gif" ContentType="image/gif"/>
  <Override PartName="/ppt/media/image3.jpeg" ContentType="image/jpeg"/>
  <Override PartName="/ppt/media/image1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0F3-C417-451B-A1A1-DE2400BA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899-7664-4061-B715-AAEF29A0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FAF-46EE-4B9F-BD48-678784D0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48E-9877-4C89-8CCD-A9D938A4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F905-161C-487A-BADA-34F4D15A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6BF6-5DF9-4808-A654-151F6DCA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24D3-2E7F-44D2-BA39-06EC0430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9391-CE4D-457D-B0EC-4F584835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7BD1-46B2-47E8-8DFC-41439D80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3634-A662-401B-A858-FC444CC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1B8F-85E5-4A8E-81CB-C79B4F46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CDFD-7994-442D-BA49-57196C7C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7131-DF41-4117-9826-F6B12088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C748-6B92-46B0-8F57-FA038D19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CA99-1738-4686-964C-61554729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833E-8B36-495E-9164-CFDE7D03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C84A-6531-4496-97A1-9147D631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14D0-7664-4B31-8B01-FF3BA1BC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250-2ED7-4D1E-B95F-D4A6166A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448-C5F5-4B69-A026-9B3F778A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9A7-4C3D-4C5F-893A-A6FC9DD0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BDE-247B-44CD-8A05-E7D25508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6AC-8422-4F6A-B6C9-FC15E167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17C0-365F-4A8E-AF0A-7494E636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EB9-DD69-43F9-A5C2-BE76523285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36EA-081A-4D71-BF36-57EB36F42D0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11.png"/><Relationship Id="rId3" Type="http://schemas.openxmlformats.org/officeDocument/2006/relationships/slide" Target="slide10.xml"/><Relationship Id="rId4" Type="http://schemas.openxmlformats.org/officeDocument/2006/relationships/image" Target="../media/image11.png"/><Relationship Id="rId5" Type="http://schemas.openxmlformats.org/officeDocument/2006/relationships/slide" Target="slide11.xml"/><Relationship Id="rId6" Type="http://schemas.openxmlformats.org/officeDocument/2006/relationships/image" Target="../media/image11.png"/><Relationship Id="rId7" Type="http://schemas.openxmlformats.org/officeDocument/2006/relationships/slide" Target="slide8.xm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28.xml"/><Relationship Id="rId8" Type="http://schemas.openxmlformats.org/officeDocument/2006/relationships/slide" Target="slide28.xml"/><Relationship Id="rId9" Type="http://schemas.openxmlformats.org/officeDocument/2006/relationships/slide" Target="slide8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19.xml"/><Relationship Id="rId7" Type="http://schemas.openxmlformats.org/officeDocument/2006/relationships/slide" Target="slide22.xml"/><Relationship Id="rId8" Type="http://schemas.openxmlformats.org/officeDocument/2006/relationships/slide" Target="slide7.xml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7.xml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8.xml"/><Relationship Id="rId4" Type="http://schemas.openxmlformats.org/officeDocument/2006/relationships/slide" Target="slide38.xml"/><Relationship Id="rId5" Type="http://schemas.openxmlformats.org/officeDocument/2006/relationships/slide" Target="slide39.xml"/><Relationship Id="rId6" Type="http://schemas.openxmlformats.org/officeDocument/2006/relationships/slide" Target="slide39.xml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19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ricochet.wav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20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7.xml"/><Relationship Id="rId3" Type="http://schemas.openxmlformats.org/officeDocument/2006/relationships/slide" Target="slide23.xml"/><Relationship Id="rId4" Type="http://schemas.openxmlformats.org/officeDocument/2006/relationships/slide" Target="slide27.xml"/><Relationship Id="rId5" Type="http://schemas.openxmlformats.org/officeDocument/2006/relationships/slide" Target="slide3.xml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7.xml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11280" y="1773360"/>
            <a:ext cx="79930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王玉忠 工作单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辽宁省开原市高级中学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QQ:1170977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版权所有，盗用必究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本作品版权由王玉忠老师所有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授权予北京校园之星科技有限公司，任何机构或个人均不得擅自复制、传播。本公司热忱欢迎广大一线教师加入我们的作者队伍。有意者请登录高考资源网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(www.ks5u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1800" y="914400"/>
            <a:ext cx="5410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同现在的“所以”。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......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的原因。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靠（他）来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......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的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14600" y="19051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14600" y="457200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514600" y="33526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67480" y="5181480"/>
            <a:ext cx="36540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1" action="ppaction://hlinksldjump"/>
              </a:rPr>
              <a:t>A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2" action="ppaction://hlinksldjump"/>
              </a:rPr>
              <a:t>、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老师。名词。</a:t>
            </a:r>
            <a:br>
              <a:rPr sz="4400"/>
            </a:br>
            <a:br>
              <a:rPr sz="4400"/>
            </a:b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3" action="ppaction://hlinksldjump"/>
              </a:rPr>
              <a:t>B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4" action="ppaction://hlinksldjump"/>
              </a:rPr>
              <a:t>、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以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......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为师。意动用法。</a:t>
            </a:r>
            <a:br>
              <a:rPr sz="4400"/>
            </a:br>
            <a:br>
              <a:rPr sz="4400"/>
            </a:b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5" action="ppaction://hlinksldjump"/>
              </a:rPr>
              <a:t>C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6" action="ppaction://hlinksldjump"/>
              </a:rPr>
              <a:t>、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学习。名词活用为动词。</a:t>
            </a:r>
            <a:br>
              <a:rPr sz="4400"/>
            </a:br>
            <a:br>
              <a:rPr sz="4400"/>
            </a:b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7" action="ppaction://hlinksldjump"/>
              </a:rPr>
              <a:t>D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8" action="ppaction://hlinksldjump"/>
              </a:rPr>
              <a:t>、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效法。动词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781680" y="556272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120" y="1752480"/>
            <a:ext cx="63248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介词，相当于“于”，</a:t>
            </a:r>
            <a:br>
              <a:rPr sz="4400"/>
            </a:b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           此处翻译为“在”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91520" y="4114800"/>
            <a:ext cx="365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A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、老师。名词。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B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、以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......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为师。意动用法。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C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、学习。名词活用为动词。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D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、效法。动词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e0000"/>
                </a:solidFill>
                <a:latin typeface="华文行楷"/>
                <a:ea typeface="华文行楷"/>
              </a:rPr>
              <a:t>也，与“亦”相同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e0000"/>
                </a:solidFill>
                <a:latin typeface="华文行楷"/>
                <a:ea typeface="华文行楷"/>
              </a:rPr>
              <a:t>不翻译，助词，舒缓语气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1680" y="556272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1" action="ppaction://hlinksldjump"/>
              </a:rPr>
              <a:t>A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2" action="ppaction://hlinksldjump"/>
              </a:rPr>
              <a:t>、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老师。名词。</a:t>
            </a:r>
            <a:br>
              <a:rPr sz="4400"/>
            </a:br>
            <a:br>
              <a:rPr sz="4400"/>
            </a:b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3" action="ppaction://hlinksldjump"/>
              </a:rPr>
              <a:t>B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4" action="ppaction://hlinksldjump"/>
              </a:rPr>
              <a:t>、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以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......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为师。意动用法。</a:t>
            </a:r>
            <a:br>
              <a:rPr sz="4400"/>
            </a:br>
            <a:br>
              <a:rPr sz="4400"/>
            </a:b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5" action="ppaction://hlinksldjump"/>
              </a:rPr>
              <a:t>C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6" action="ppaction://hlinksldjump"/>
              </a:rPr>
              <a:t>、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学习。名词活用为动词。</a:t>
            </a:r>
            <a:br>
              <a:rPr sz="4400"/>
            </a:br>
            <a:br>
              <a:rPr sz="4400"/>
            </a:b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7" action="ppaction://hlinksldjump"/>
              </a:rPr>
              <a:t>D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华文行楷"/>
                <a:ea typeface="华文行楷"/>
                <a:hlinkClick r:id="rId8" action="ppaction://hlinksldjump"/>
              </a:rPr>
              <a:t>、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效法。动词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781680" y="556272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6880" y="19047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e0000"/>
                </a:solidFill>
                <a:latin typeface="华文行楷"/>
                <a:ea typeface="华文行楷"/>
              </a:rPr>
              <a:t>无论。连词。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53080" y="388620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600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ahoma"/>
                <a:ea typeface="华文隶书"/>
              </a:rPr>
              <a:t>第二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嗟乎！师道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1" action="ppaction://hlinksldjump"/>
              </a:rPr>
              <a:t>之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不传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也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久矣，欲人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2" action="ppaction://hlinksldjump"/>
              </a:rPr>
              <a:t>之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无惑也难矣。古之圣人，其出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人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也远矣，犹且从师而问焉；今之众人，其下圣人也亦远矣，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3" action="ppaction://hlinksldjump"/>
              </a:rPr>
              <a:t>耻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学於师。是故圣益圣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愚益愚。圣人之所以为圣，愚人之所以为愚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4" action="ppaction://hlinksldjump"/>
              </a:rPr>
              <a:t>其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皆出於此乎？爱其子，择师而教之，於其</a:t>
            </a: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身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也，则耻师焉，惑焉。彼童子之师，授之书而习其句读者，非吾所谓传其道、解其惑者也。句读之不知，惑之不解，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5" action="ppaction://hlinksldjump"/>
              </a:rPr>
              <a:t>或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师焉，或不焉，小学而大遗，吾未见其明也。巫医、乐师、百工之人，不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6" action="ppaction://hlinksldjump"/>
              </a:rPr>
              <a:t>耻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相师，士大夫之族曰“师”曰“弟子”云者，则群聚而笑之。问之，则曰：彼与彼年相若也，道相似也，位卑则足羞，官盛则近谀。呜呼！师道之不复，可知矣。巫医、乐师、百工之人，吾子不齿，今其智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7" action="ppaction://hlinksldjump"/>
              </a:rPr>
              <a:t>乃</a:t>
            </a:r>
            <a:r>
              <a:rPr b="0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反不能及，其可怪也欤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77240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1371600"/>
            <a:ext cx="6248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60093"/>
                </a:solidFill>
                <a:latin typeface="黑体"/>
                <a:ea typeface="黑体"/>
              </a:rPr>
              <a:t>助词。</a:t>
            </a:r>
            <a:br>
              <a:rPr sz="5400"/>
            </a:br>
            <a:r>
              <a:rPr b="0" lang="zh-CN" sz="5400" spc="-1" strike="noStrike">
                <a:solidFill>
                  <a:srgbClr val="d60093"/>
                </a:solidFill>
                <a:latin typeface="黑体"/>
                <a:ea typeface="黑体"/>
              </a:rPr>
              <a:t>取消句子的独立性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105520"/>
            <a:ext cx="11430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477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黑体"/>
                <a:ea typeface="黑体"/>
              </a:rPr>
              <a:t>意动用法：</a:t>
            </a:r>
            <a:br>
              <a:rPr sz="4400"/>
            </a:br>
            <a:r>
              <a:rPr b="0" lang="zh-CN" sz="4400" spc="-1" strike="noStrike">
                <a:solidFill>
                  <a:srgbClr val="d60093"/>
                </a:solidFill>
                <a:latin typeface="黑体"/>
                <a:ea typeface="黑体"/>
              </a:rPr>
              <a:t>   以‥‥‥为耻辱，</a:t>
            </a:r>
            <a:br>
              <a:rPr sz="4400"/>
            </a:br>
            <a:r>
              <a:rPr b="0" lang="zh-CN" sz="4400" spc="-1" strike="noStrike">
                <a:solidFill>
                  <a:srgbClr val="d60093"/>
                </a:solidFill>
                <a:latin typeface="黑体"/>
                <a:ea typeface="黑体"/>
              </a:rPr>
              <a:t>   觉得‥‥‥是可耻的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86600" y="5029200"/>
            <a:ext cx="11430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492360" y="256536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新魏"/>
              </a:rPr>
              <a:t>师说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6248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60093"/>
                </a:solidFill>
                <a:latin typeface="黑体"/>
                <a:ea typeface="黑体"/>
              </a:rPr>
              <a:t>大概。</a:t>
            </a:r>
            <a:br>
              <a:rPr sz="5400"/>
            </a:br>
            <a:r>
              <a:rPr b="0" lang="zh-CN" sz="5400" spc="-1" strike="noStrike">
                <a:solidFill>
                  <a:srgbClr val="d60093"/>
                </a:solidFill>
                <a:latin typeface="黑体"/>
                <a:ea typeface="黑体"/>
              </a:rPr>
              <a:t>表示推测语气。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05520"/>
            <a:ext cx="1143000" cy="99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代词。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有的。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此指“句读之不知”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4952880"/>
            <a:ext cx="11430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0920" y="1828440"/>
            <a:ext cx="3581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竟然。</a:t>
            </a:r>
            <a:br>
              <a:rPr sz="6000"/>
            </a:br>
            <a:r>
              <a:rPr b="0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副词。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4952880"/>
            <a:ext cx="114300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523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ahoma"/>
                <a:ea typeface="华文隶书"/>
              </a:rPr>
              <a:t>第三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523520" y="175248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圣人无</a:t>
            </a:r>
            <a:r>
              <a:rPr b="0" lang="zh-CN" sz="3200" spc="-1" strike="noStrike">
                <a:solidFill>
                  <a:srgbClr val="ff0033"/>
                </a:solidFill>
                <a:latin typeface="黑体"/>
                <a:ea typeface="黑体"/>
              </a:rPr>
              <a:t>常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师。孔子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师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郯子、苌弘、师襄、老聃。郯子之徒，其贤不及孔子。孔子曰：“三人行，必有我师。”是故弟子</a:t>
            </a:r>
            <a:r>
              <a:rPr b="0" lang="zh-CN" sz="3200" spc="-1" strike="noStrike">
                <a:solidFill>
                  <a:srgbClr val="cc0033"/>
                </a:solidFill>
                <a:latin typeface="黑体"/>
                <a:ea typeface="黑体"/>
              </a:rPr>
              <a:t>不必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不如师，师不必</a:t>
            </a:r>
            <a:r>
              <a:rPr b="0" lang="zh-CN" sz="3200" spc="-1" strike="noStrike">
                <a:solidFill>
                  <a:srgbClr val="ee0000"/>
                </a:solidFill>
                <a:latin typeface="黑体"/>
                <a:ea typeface="黑体"/>
              </a:rPr>
              <a:t>贤於弟子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闻道有先後，术业有专攻，如是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而已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8280" y="190476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固定的。形容词。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4724280"/>
            <a:ext cx="3999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4600" y="1447560"/>
            <a:ext cx="4648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cc66"/>
                </a:solidFill>
                <a:latin typeface="华文行楷"/>
                <a:ea typeface="华文行楷"/>
              </a:rPr>
              <a:t>意动用法。</a:t>
            </a:r>
            <a:br>
              <a:rPr sz="5400"/>
            </a:br>
            <a:r>
              <a:rPr b="0" lang="zh-CN" sz="5400" spc="-1" strike="noStrike">
                <a:solidFill>
                  <a:srgbClr val="00cc66"/>
                </a:solidFill>
                <a:latin typeface="华文行楷"/>
                <a:ea typeface="华文行楷"/>
              </a:rPr>
              <a:t>以</a:t>
            </a:r>
            <a:r>
              <a:rPr b="0" lang="zh-CN" sz="5400" spc="-1" strike="noStrike">
                <a:solidFill>
                  <a:srgbClr val="00cc66"/>
                </a:solidFill>
                <a:latin typeface="华文行楷"/>
                <a:ea typeface="华文行楷"/>
              </a:rPr>
              <a:t>...</a:t>
            </a:r>
            <a:r>
              <a:rPr b="0" lang="zh-CN" sz="5400" spc="-1" strike="noStrike">
                <a:solidFill>
                  <a:srgbClr val="00cc66"/>
                </a:solidFill>
                <a:latin typeface="华文行楷"/>
                <a:ea typeface="华文行楷"/>
              </a:rPr>
              <a:t>为师。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4724280"/>
            <a:ext cx="3999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81080" y="144792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隶书"/>
                <a:ea typeface="华文隶书"/>
              </a:rPr>
              <a:t>状语后置。</a:t>
            </a:r>
            <a:br>
              <a:rPr sz="5400"/>
            </a:br>
            <a:r>
              <a:rPr b="0" lang="zh-CN" sz="5400" spc="-1" strike="noStrike">
                <a:solidFill>
                  <a:srgbClr val="ff00ff"/>
                </a:solidFill>
                <a:latin typeface="华文隶书"/>
                <a:ea typeface="华文隶书"/>
              </a:rPr>
              <a:t>比弟子贤能。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4724280"/>
            <a:ext cx="39996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李氏子蟠，年十七，好古文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,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六艺经传皆通习之，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1" action="ppaction://hlinksldjump"/>
              </a:rPr>
              <a:t>不拘於时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，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2" action="ppaction://hlinksldjump"/>
              </a:rPr>
              <a:t>学於余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。余嘉其能行古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3" action="ppaction://hlinksldjump"/>
              </a:rPr>
              <a:t>道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，作《师说》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4" action="ppaction://hlinksldjump"/>
              </a:rPr>
              <a:t>以</a:t>
            </a:r>
            <a:r>
              <a:rPr b="0" lang="zh-CN" sz="4400" spc="-1" strike="noStrike">
                <a:solidFill>
                  <a:srgbClr val="3333cc"/>
                </a:solidFill>
                <a:latin typeface="黑体"/>
                <a:ea typeface="黑体"/>
              </a:rPr>
              <a:t>贻之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152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隶书"/>
              </a:rPr>
              <a:t>第四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72400" y="5867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219320" y="1447920"/>
            <a:ext cx="7162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状语后置。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“</a:t>
            </a:r>
            <a:r>
              <a:rPr b="0" lang="zh-CN" sz="5400" spc="-1" strike="noStrike">
                <a:solidFill>
                  <a:srgbClr val="ff00ff"/>
                </a:solidFill>
                <a:latin typeface="华文新魏"/>
                <a:ea typeface="华文新魏"/>
              </a:rPr>
              <a:t>不被世俗限制。”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23976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华文琥珀"/>
                <a:ea typeface="华文琥珀"/>
              </a:rPr>
              <a:t>状语后置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华文琥珀"/>
                <a:ea typeface="华文琥珀"/>
              </a:rPr>
              <a:t>“</a:t>
            </a:r>
            <a:r>
              <a:rPr b="0" lang="zh-CN" sz="6600" spc="-1" strike="noStrike">
                <a:solidFill>
                  <a:srgbClr val="ff00ff"/>
                </a:solidFill>
                <a:latin typeface="华文琥珀"/>
                <a:ea typeface="华文琥珀"/>
              </a:rPr>
              <a:t>向我学习。”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23976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2514600"/>
            <a:ext cx="167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  <a:hlinkClick r:id="rId1" action="ppaction://hlinksldjump"/>
              </a:rPr>
              <a:t>作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352680"/>
            <a:ext cx="167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  <a:hlinkClick r:id="rId2" action="ppaction://hlinksldjump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038480"/>
            <a:ext cx="1676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  <a:hlinkClick r:id="rId3" action="ppaction://hlinksldjump"/>
              </a:rPr>
              <a:t>文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4952880"/>
            <a:ext cx="2210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  <a:hlinkClick r:id="rId4" action="ppaction://hlinksldjump"/>
              </a:rPr>
              <a:t>疏通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2590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分析课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家庭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23623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821880"/>
            <a:ext cx="3812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99"/>
                </a:solidFill>
                <a:latin typeface="Tahoma"/>
              </a:rPr>
              <a:t>主页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24080" y="838080"/>
            <a:ext cx="2286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华文新魏"/>
              </a:rPr>
              <a:t>师说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934320" y="5029200"/>
            <a:ext cx="1406520" cy="1028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086600" y="5791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Tahoma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53800" y="0"/>
            <a:ext cx="790200" cy="1219320"/>
          </a:xfrm>
          <a:prstGeom prst="rect">
            <a:avLst/>
          </a:prstGeom>
          <a:noFill/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隶书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523880" y="22093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古人从师之道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华文行楷"/>
                <a:ea typeface="华文行楷"/>
              </a:rPr>
              <a:t>名词。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23976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143000" y="1828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ff"/>
                </a:solidFill>
                <a:latin typeface="华文新魏"/>
                <a:ea typeface="华文新魏"/>
              </a:rPr>
              <a:t>以：连词，表目的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0" y="5181480"/>
            <a:ext cx="23976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19160" y="914040"/>
            <a:ext cx="2819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第一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228600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第二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352680" y="3505320"/>
            <a:ext cx="2362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第三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5029200"/>
            <a:ext cx="2514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1" action="ppaction://hlinksldjump"/>
              </a:rPr>
              <a:t>结构框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5480" y="228600"/>
            <a:ext cx="11552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整理思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336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第一段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209320" y="23623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提出中心论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4114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正面阐述道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62856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09320" y="175212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cc"/>
                </a:solidFill>
                <a:latin typeface="黑体"/>
                <a:ea typeface="黑体"/>
              </a:rPr>
              <a:t>古之学者必有师。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45720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57150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从师的道理：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、从师的原因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、从师的标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4952880" y="205740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古之学者必有师……人非生而知之者，孰能无惑？惑而不从师，其为惑也，终不解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无贵无贱，无长无少，道之所存，师之所存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371240" y="9140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1" action="ppaction://hlinksldjump"/>
              </a:rPr>
              <a:t>1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2" action="ppaction://hlinksldjump"/>
              </a:rPr>
              <a:t>、此段与上一段是怎样联系的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3" action="ppaction://hlinksldjump"/>
              </a:rPr>
              <a:t>2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4" action="ppaction://hlinksldjump"/>
              </a:rPr>
              <a:t>、此段分论点</a:t>
            </a: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5" action="ppaction://hlinksldjump"/>
              </a:rPr>
              <a:t>3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6" action="ppaction://hlinksldjump"/>
              </a:rPr>
              <a:t>、作者从那三方面进行了对比论证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304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第二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6934320" y="5105520"/>
            <a:ext cx="62856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440" y="990720"/>
            <a:ext cx="655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通过针砭时弊，从</a:t>
            </a:r>
            <a:r>
              <a:rPr b="0" lang="zh-CN" sz="4400" spc="-1" strike="noStrike">
                <a:solidFill>
                  <a:srgbClr val="6600cc"/>
                </a:solidFill>
                <a:latin typeface="黑体"/>
                <a:ea typeface="黑体"/>
              </a:rPr>
              <a:t>反面</a:t>
            </a: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论证第一段所提出的中心论点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2578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52120" y="1447920"/>
            <a:ext cx="5715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cc"/>
                </a:solidFill>
                <a:latin typeface="黑体"/>
                <a:ea typeface="黑体"/>
              </a:rPr>
              <a:t>师道之不传也久矣！欲人之无惑也难矣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1828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分论点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25780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76176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cc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00cc"/>
                </a:solidFill>
                <a:latin typeface="黑体"/>
                <a:ea typeface="黑体"/>
              </a:rPr>
              <a:t>、纵比：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523520" y="22856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、自比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2578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33520" y="4038480"/>
            <a:ext cx="31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、横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cc"/>
                </a:solidFill>
                <a:latin typeface="黑体"/>
                <a:ea typeface="黑体"/>
              </a:rPr>
              <a:t>         </a:t>
            </a:r>
            <a:r>
              <a:rPr b="0" lang="zh-CN" sz="3600" spc="-1" strike="noStrike">
                <a:solidFill>
                  <a:srgbClr val="ff00cc"/>
                </a:solidFill>
                <a:latin typeface="黑体"/>
                <a:ea typeface="黑体"/>
              </a:rPr>
              <a:t>古之圣人，从师而问；</a:t>
            </a:r>
            <a:br>
              <a:rPr sz="3600"/>
            </a:br>
            <a:r>
              <a:rPr b="0" lang="zh-CN" sz="3600" spc="-1" strike="noStrike">
                <a:solidFill>
                  <a:srgbClr val="ff00cc"/>
                </a:solidFill>
                <a:latin typeface="黑体"/>
                <a:ea typeface="黑体"/>
              </a:rPr>
              <a:t>         今之众人，耻学于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69600" y="762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057400"/>
            <a:ext cx="678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对其子，择师而教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对其身，耻学于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45920" y="2281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3657600"/>
            <a:ext cx="7391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百工之人，不耻相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00cc"/>
                </a:solidFill>
                <a:latin typeface="黑体"/>
                <a:ea typeface="黑体"/>
              </a:rPr>
              <a:t>士大夫：群聚而笑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69600" y="4033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893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>
              <a:lnSpc>
                <a:spcPct val="100000"/>
              </a:lnSpc>
              <a:buClr>
                <a:srgbClr val="ff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99"/>
                </a:solidFill>
                <a:latin typeface="黑体"/>
                <a:ea typeface="黑体"/>
              </a:rPr>
              <a:t>韩愈：退之</a:t>
            </a:r>
            <a:r>
              <a:rPr b="0" lang="zh-CN" sz="4400" spc="-1" strike="noStrike">
                <a:solidFill>
                  <a:srgbClr val="3300ff"/>
                </a:solidFill>
                <a:latin typeface="黑体"/>
                <a:ea typeface="黑体"/>
              </a:rPr>
              <a:t>，</a:t>
            </a:r>
            <a:r>
              <a:rPr b="0" lang="zh-CN" sz="4400" spc="-1" strike="noStrike">
                <a:solidFill>
                  <a:srgbClr val="ff0099"/>
                </a:solidFill>
                <a:latin typeface="黑体"/>
                <a:ea typeface="黑体"/>
              </a:rPr>
              <a:t>古文运动的    者。 著有《    先生文集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14400" y="2590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99"/>
                </a:solidFill>
                <a:latin typeface="黑体"/>
                <a:ea typeface="黑体"/>
              </a:rPr>
              <a:t>他和       一起提出“文以载道”、“文道结合”的观点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457200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99"/>
                </a:solidFill>
                <a:latin typeface="黑体"/>
                <a:ea typeface="黑体"/>
              </a:rPr>
              <a:t>唐宋八大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19760" y="836640"/>
            <a:ext cx="9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00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3300ff"/>
                </a:solidFill>
                <a:latin typeface="黑体"/>
                <a:ea typeface="黑体"/>
              </a:rPr>
              <a:t>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680" y="148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00ff"/>
                </a:solidFill>
                <a:latin typeface="黑体"/>
                <a:ea typeface="黑体"/>
              </a:rPr>
              <a:t>倡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69040" y="1557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00ff"/>
                </a:solidFill>
                <a:latin typeface="黑体"/>
                <a:ea typeface="黑体"/>
              </a:rPr>
              <a:t>昌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9040" y="2637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00ff"/>
                </a:solidFill>
                <a:latin typeface="黑体"/>
                <a:ea typeface="黑体"/>
              </a:rPr>
              <a:t>柳宗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96080" y="5410080"/>
            <a:ext cx="446040" cy="4352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86200" y="4572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99"/>
                </a:solidFill>
                <a:latin typeface="黑体"/>
                <a:ea typeface="黑体"/>
              </a:rPr>
              <a:t>之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cc"/>
                </a:solidFill>
                <a:latin typeface="华文新魏"/>
                <a:ea typeface="华文新魏"/>
              </a:rPr>
              <a:t>、作者用孔子的言行，阐述了什么观点？    （本段分论点）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00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cc"/>
                </a:solidFill>
                <a:latin typeface="华文新魏"/>
                <a:ea typeface="华文新魏"/>
              </a:rPr>
              <a:t>、本段用的是什么论证方法？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228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行楷"/>
              </a:rPr>
              <a:t>第三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57400" y="4800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cc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ff00cc"/>
                </a:solidFill>
                <a:latin typeface="华文琥珀"/>
                <a:ea typeface="华文琥珀"/>
              </a:rPr>
              <a:t>举例论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048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cc"/>
                </a:solidFill>
                <a:latin typeface="华文琥珀"/>
                <a:ea typeface="华文琥珀"/>
              </a:rPr>
              <a:t>圣人无常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772400" y="5486400"/>
            <a:ext cx="62856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304920"/>
            <a:ext cx="7772400" cy="6324480"/>
          </a:xfrm>
          <a:prstGeom prst="rect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304920"/>
            <a:ext cx="0" cy="6324480"/>
          </a:xfrm>
          <a:prstGeom prst="line">
            <a:avLst/>
          </a:prstGeom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762120"/>
            <a:ext cx="7772400" cy="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1523880"/>
            <a:ext cx="7772400" cy="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2743200"/>
            <a:ext cx="7772400" cy="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5029200"/>
            <a:ext cx="7772400" cy="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304920"/>
            <a:ext cx="0" cy="6324480"/>
          </a:xfrm>
          <a:prstGeom prst="line">
            <a:avLst/>
          </a:prstGeom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90160" y="304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e0000"/>
                </a:solidFill>
                <a:latin typeface="华文新魏"/>
                <a:ea typeface="华文新魏"/>
              </a:rPr>
              <a:t>段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04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cc"/>
                </a:solidFill>
                <a:latin typeface="华文新魏"/>
                <a:ea typeface="华文新魏"/>
              </a:rPr>
              <a:t>段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304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cc"/>
                </a:solidFill>
                <a:latin typeface="华文新魏"/>
                <a:ea typeface="华文新魏"/>
              </a:rPr>
              <a:t>论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914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cc"/>
                </a:solidFill>
                <a:latin typeface="华文新魏"/>
                <a:ea typeface="华文新魏"/>
              </a:rPr>
              <a:t>阐述从师的道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685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cc"/>
                </a:solidFill>
                <a:latin typeface="华文新魏"/>
                <a:ea typeface="华文新魏"/>
              </a:rPr>
              <a:t>中心论点：古之学者必有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cc"/>
                </a:solidFill>
                <a:latin typeface="华文新魏"/>
                <a:ea typeface="华文新魏"/>
              </a:rPr>
              <a:t>评述当时不从师的不良风气。（反面论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65320" y="98280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19810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3657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5638680"/>
            <a:ext cx="5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  <a:ea typeface="华文隶书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1523880"/>
            <a:ext cx="34290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cc"/>
                </a:solidFill>
                <a:latin typeface="黑体"/>
                <a:ea typeface="黑体"/>
              </a:rPr>
              <a:t>分论点：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cc"/>
                </a:solidFill>
                <a:latin typeface="黑体"/>
                <a:ea typeface="黑体"/>
              </a:rPr>
              <a:t>师道之不传也久矣，欲人之无惑也难矣</a:t>
            </a:r>
            <a:r>
              <a:rPr b="0" lang="zh-CN" sz="2400" spc="-1" strike="noStrike">
                <a:solidFill>
                  <a:srgbClr val="ff00cc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429000"/>
            <a:ext cx="3504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cc"/>
                </a:solidFill>
                <a:latin typeface="华文新魏"/>
                <a:ea typeface="华文新魏"/>
              </a:rPr>
              <a:t>以历史事实证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cc"/>
                </a:solidFill>
                <a:latin typeface="华文新魏"/>
                <a:ea typeface="华文新魏"/>
              </a:rPr>
              <a:t>（正面论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3124080"/>
            <a:ext cx="281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cc"/>
                </a:solidFill>
                <a:latin typeface="华文新魏"/>
                <a:ea typeface="华文新魏"/>
              </a:rPr>
              <a:t>分论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cc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ff00cc"/>
                </a:solidFill>
                <a:latin typeface="华文新魏"/>
                <a:ea typeface="华文新魏"/>
              </a:rPr>
              <a:t>圣人无常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108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00cc"/>
                </a:solidFill>
                <a:latin typeface="华文新魏"/>
                <a:ea typeface="华文新魏"/>
              </a:rPr>
              <a:t>交代写作缘由，激励后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34120" y="510552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cc"/>
                </a:solidFill>
                <a:latin typeface="华文新魏"/>
                <a:ea typeface="华文新魏"/>
              </a:rPr>
              <a:t>号召：不拘于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cc"/>
                </a:solidFill>
                <a:latin typeface="华文新魏"/>
                <a:ea typeface="华文新魏"/>
              </a:rPr>
              <a:t>            </a:t>
            </a:r>
            <a:r>
              <a:rPr b="0" lang="zh-CN" sz="2400" spc="-1" strike="noStrike">
                <a:solidFill>
                  <a:srgbClr val="ff00cc"/>
                </a:solidFill>
                <a:latin typeface="华文新魏"/>
                <a:ea typeface="华文新魏"/>
              </a:rPr>
              <a:t>能行古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57800" y="6172200"/>
            <a:ext cx="571680" cy="4572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85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框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28800" y="18284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  <a:ea typeface="华文行楷"/>
              </a:rPr>
              <a:t>课后作业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背诵全文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完成《基础训练》本课练习</a:t>
            </a:r>
            <a:r>
              <a:rPr b="0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7315200" y="2362320"/>
            <a:ext cx="571680" cy="4572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85800" y="5257800"/>
            <a:ext cx="1406520" cy="1028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62120" y="60199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Broadway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948360" y="134136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ahoma"/>
                <a:ea typeface="华文新魏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153280" y="6477120"/>
            <a:ext cx="990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de Latin"/>
              </a:rPr>
              <a:t>end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99"/>
                </a:solidFill>
                <a:latin typeface="黑体"/>
                <a:ea typeface="黑体"/>
              </a:rPr>
              <a:t>在中国，自古以来就有从师的风尚，但是唐朝时候，人们却以从师为耻。柳宗元说：“今之世，不闻有师；有辄哗笑之，以为狂人。独韩愈不顾流俗，收召后学，作《师说》。”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599840" y="3962160"/>
            <a:ext cx="721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99"/>
                </a:solidFill>
                <a:latin typeface="黑体"/>
                <a:ea typeface="黑体"/>
              </a:rPr>
              <a:t>韩愈倡言师道，触犯流俗，勇气可贵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556272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228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3300"/>
                </a:solidFill>
                <a:latin typeface="Tahoma"/>
              </a:rPr>
              <a:t>社会背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0099"/>
              </a:buClr>
              <a:buFont typeface="系统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99"/>
                </a:solidFill>
                <a:latin typeface="系统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0099"/>
                </a:solidFill>
                <a:latin typeface="系统"/>
                <a:ea typeface="华文行楷"/>
              </a:rPr>
              <a:t>说”是一种议论文的文体，可以先叙后议，也可夹叙夹议。“说”与“议”相比，随便些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23623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99"/>
                </a:solidFill>
                <a:latin typeface="系统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ff0099"/>
                </a:solidFill>
                <a:latin typeface="系统"/>
                <a:ea typeface="华文新魏"/>
              </a:rPr>
              <a:t>说”，古义为陈述和解说，因而对这类文体，都可按“解说……的道理”来理解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38862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99"/>
              </a:buClr>
              <a:buFont typeface="系统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99"/>
                </a:solidFill>
                <a:latin typeface="系统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ff0099"/>
                </a:solidFill>
                <a:latin typeface="系统"/>
                <a:ea typeface="华文新魏"/>
              </a:rPr>
              <a:t>师说”意思是：解说关于“从师”的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4800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99"/>
                </a:solidFill>
                <a:latin typeface="黑体"/>
                <a:ea typeface="黑体"/>
              </a:rPr>
              <a:t>《捕蛇者说》、《马说》、《爱莲说》等都属于“说”这种文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867280"/>
            <a:ext cx="365040" cy="3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32637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6699"/>
                </a:solidFill>
                <a:latin typeface="Tahoma"/>
                <a:ea typeface="华文琥珀"/>
              </a:rPr>
              <a:t>疏通课文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95120" y="20574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1" action="ppaction://hlinksldjump"/>
              </a:rPr>
              <a:t>第一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2" action="ppaction://hlinksldjump"/>
              </a:rPr>
              <a:t>第二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3" action="ppaction://hlinksldjump"/>
              </a:rPr>
              <a:t>第三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  <a:hlinkClick r:id="rId4" action="ppaction://hlinksldjump"/>
              </a:rPr>
              <a:t>第四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238880" y="5105520"/>
            <a:ext cx="571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-609480"/>
            <a:ext cx="822960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古之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华文行楷"/>
                <a:ea typeface="华文行楷"/>
                <a:hlinkClick r:id="rId1" action="ppaction://hlinksldjump"/>
              </a:rPr>
              <a:t>学者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必有师。师者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2" action="ppaction://hlinksldjump"/>
              </a:rPr>
              <a:t>，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华文行楷"/>
                <a:ea typeface="华文行楷"/>
                <a:hlinkClick r:id="rId3" action="ppaction://hlinksldjump"/>
              </a:rPr>
              <a:t>所以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传道受业解惑也。人非生而知之者，孰能无惑？惑而不从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华文行楷"/>
                <a:ea typeface="华文行楷"/>
                <a:hlinkClick r:id="rId4" action="ppaction://hlinksldjump"/>
              </a:rPr>
              <a:t>师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，其为惑也，终不解矣。生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华文行楷"/>
                <a:ea typeface="华文行楷"/>
                <a:hlinkClick r:id="rId5" action="ppaction://hlinksldjump"/>
              </a:rPr>
              <a:t>乎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吾前，其闻道也固先乎吾，吾从而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华文行楷"/>
                <a:ea typeface="华文行楷"/>
                <a:hlinkClick r:id="rId6" action="ppaction://hlinksldjump"/>
              </a:rPr>
              <a:t>师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之；生乎吾後，其闻道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7" action="ppaction://hlinksldjump"/>
              </a:rPr>
              <a:t>也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亦先乎吾，吾从而师之。吾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8" action="ppaction://hlinksldjump"/>
              </a:rPr>
              <a:t>师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道也，夫庸知其年之先後生於吾乎！是故无贵无贱无长</a:t>
            </a:r>
            <a:r>
              <a:rPr b="0" lang="zh-CN" sz="3600" spc="-1" strike="noStrike" u="sng">
                <a:solidFill>
                  <a:srgbClr val="ff3399"/>
                </a:solidFill>
                <a:uFillTx/>
                <a:latin typeface="黑体"/>
                <a:ea typeface="黑体"/>
                <a:hlinkClick r:id="rId9" action="ppaction://hlinksldjump"/>
              </a:rPr>
              <a:t>无</a:t>
            </a:r>
            <a:r>
              <a:rPr b="0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少，道之所存，师之所存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772400" y="5867280"/>
            <a:ext cx="365040" cy="3654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82520"/>
            <a:ext cx="3808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</a:rPr>
              <a:t>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80720" y="144756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      </a:t>
            </a:r>
            <a:r>
              <a:rPr b="0" lang="zh-CN" sz="4400" spc="-1" strike="noStrike">
                <a:solidFill>
                  <a:srgbClr val="ee0000"/>
                </a:solidFill>
                <a:latin typeface="华文行楷"/>
                <a:ea typeface="华文行楷"/>
              </a:rPr>
              <a:t>求学的人。非“教授、学者”之“学者”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8880" y="4648320"/>
            <a:ext cx="36540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4:26:31Z</dcterms:created>
  <dc:creator>校园之星科技有限公司</dc:creator>
  <dc:description>校园之星科技有限公司</dc:description>
  <cp:keywords>校园之星科技有限公司</cp:keywords>
  <dc:language>en-US</dc:language>
  <cp:lastModifiedBy>mawei</cp:lastModifiedBy>
  <dcterms:modified xsi:type="dcterms:W3CDTF">2007-01-26T01:27:38Z</dcterms:modified>
  <cp:revision>14</cp:revision>
  <dc:subject>校园之星科技有限公司</dc:subject>
  <dc:title>校园之星科技有限公司</dc:title>
</cp:coreProperties>
</file>