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hjiang1.wav" ContentType="audio/x-wav"/>
  <Override PartName="/ppt/media/image6.jpeg" ContentType="image/jpeg"/>
  <Override PartName="/ppt/media/Auddrv.wav" ContentType="audio/x-wav"/>
  <Override PartName="/ppt/media/image7.jpeg" ContentType="image/jpeg"/>
  <Override PartName="/ppt/media/PROJCTOR.WAV" ContentType="audio/x-wav"/>
  <Override PartName="/ppt/media/image1.png" ContentType="image/png"/>
  <Override PartName="/ppt/media/Stepwav.wav" ContentType="audio/x-wav"/>
  <Override PartName="/ppt/media/image2.jpeg" ContentType="image/jpeg"/>
  <Override PartName="/ppt/media/Ring.wav" ContentType="audio/x-wav"/>
  <Override PartName="/ppt/media/image3.png" ContentType="image/png"/>
  <Override PartName="/ppt/media/Rom1.wav" ContentType="audio/x-wav"/>
  <Override PartName="/ppt/media/CAMERA.WAV" ContentType="audio/x-wav"/>
  <Override PartName="/ppt/media/image4.png" ContentType="image/png"/>
  <Override PartName="/ppt/media/image5.jpeg" ContentType="image/jpeg"/>
  <Override PartName="/ppt/media/Lizt04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350000" cy="8582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1429-7BB5-4EB7-A6CC-9E20C797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2CB5-9FE8-40F3-9D12-B25ED412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DD5-881B-419B-B508-D33A9A7C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A70-DB72-4BD6-BB7B-0C4D9A52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BE9C-4950-4CE1-8614-48A12967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8D27-4D9A-4B84-8C17-C86F5126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AD12-0D17-445C-ABAA-55B5887E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67F4-D3CF-4B82-B351-466391AC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EA5F-40A5-43D9-B421-700D99FB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02B6-F6FF-4645-A8D1-5FD322D1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0B2B-AD08-471D-8EDF-ED75261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C75-7BD7-4529-B949-50F477FF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3A30-187A-42EC-AAC6-490C2132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4B62-2D3C-448D-92BC-AF2FDE47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9873-F407-49DE-87BF-D8C7F67D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2E1B-D804-4C45-A03C-9A2E13F3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9078-AD00-4052-AA54-F2AC61BD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E863-4E0E-4AE4-8809-ACEA2E9C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7F5-3465-4473-BCD4-EE66EE30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F64-AA8B-4C9A-81CD-AFD54FFB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F1D-4549-4802-87E4-6B70E06A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892-E019-46EF-89EF-013F010A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8CF-7715-49AB-84B8-2E90CC99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D26-9F8C-4651-B3F5-F8F4F374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AB3A-6CC0-4CB8-93E9-9F08290B8D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CFA0-1501-4B0D-844B-58DAF350E7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audio" Target="../media/Chjiang1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Ring.wav"/><Relationship Id="rId4" Type="http://schemas.openxmlformats.org/officeDocument/2006/relationships/audio" Target="../media/Rom1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audio" Target="../media/Auddrv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audio" Target="../media/Stepwav.wav"/><Relationship Id="rId4" Type="http://schemas.openxmlformats.org/officeDocument/2006/relationships/audio" Target="../media/Lizt04a.wav"/><Relationship Id="rId5" Type="http://schemas.openxmlformats.org/officeDocument/2006/relationships/audio" Target="../media/Lizt04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Lizt04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2565360"/>
            <a:ext cx="7993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作者</a:t>
            </a: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王玉忠 工作单位</a:t>
            </a: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辽宁省开原市高级中学 </a:t>
            </a: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QQ:1170977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版权所有，盗用必究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本作品版权由王玉忠老师所有</a:t>
            </a: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授权予北京校园之星科技有限公司，任何机构或个人均不得擅自复制、传播。本公司热忱欢迎广大一线教师加入我们的作者队伍。有意者请登录高考资源网</a:t>
            </a:r>
            <a:r>
              <a:rPr b="1" lang="zh-CN" sz="2400" spc="-1" strike="noStrike">
                <a:solidFill>
                  <a:srgbClr val="339933"/>
                </a:solidFill>
                <a:latin typeface="Arial"/>
              </a:rPr>
              <a:t>(www.ks5u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隶书"/>
              </a:rPr>
              <a:t>内容深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990720"/>
            <a:ext cx="8458200" cy="862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章第二段中“句读之不知，惑之不解，或师焉，或不焉”一句，按平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顺序可改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1447920"/>
            <a:ext cx="594360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句读之不知，或师焉；惑之不解，或不焉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74320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3124080"/>
            <a:ext cx="358128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句读之不知”，“或师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981080"/>
            <a:ext cx="259092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爱其子，择师而教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81080" y="2437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2514600"/>
            <a:ext cx="990360" cy="45972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981080" y="27432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8108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3657600"/>
            <a:ext cx="9144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9810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4191120"/>
            <a:ext cx="83808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3200400"/>
            <a:ext cx="365760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惑之不解”，“或不焉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172200" y="2437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057400"/>
            <a:ext cx="259056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于其身也，则耻师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590920"/>
            <a:ext cx="990720" cy="45972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617184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3581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4267080"/>
            <a:ext cx="83808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3733920"/>
            <a:ext cx="9144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17184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4800600"/>
            <a:ext cx="670572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“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吾未见其明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句相呼应的两个字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4800600"/>
            <a:ext cx="9907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惑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5805360"/>
            <a:ext cx="2819520" cy="520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说理严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562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55627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0880" y="301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找出古今异义的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066680"/>
            <a:ext cx="830592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古之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学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必有师：（古）泛指求学的人；读书人。（今）指有专门学问的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981080"/>
            <a:ext cx="845820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所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传道受业解惑也：（古）特殊指示代词“所”与介词“以”结合，译为㈠用来……办法（方式、工具、依据等）；㈡……的原因（或缘由）。（今）表因果关系的连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3276720"/>
            <a:ext cx="838224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贵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贱，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少：（古）无论，不论。（今）没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3962520"/>
            <a:ext cx="845820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小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而大遗：（古）①小的方面；②一般指研究文字、训诂、音韵的学问。     （今）对儿童、少年实施初等教育的学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5029200"/>
            <a:ext cx="845820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句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不知：（古）句子停顿的地方。（今）看字发出声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943600"/>
            <a:ext cx="845820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之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众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（古）一般人、普通人。（今）许多的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900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7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457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一词多义现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828800"/>
            <a:ext cx="3048120" cy="3240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巫医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百工之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1828800"/>
            <a:ext cx="411480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老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从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有专门技艺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军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09480" y="2971800"/>
            <a:ext cx="317988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师道之不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授业解惑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六艺经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皆通习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朔气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相如广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2971800"/>
            <a:ext cx="421164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流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传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古代解释经书的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传递，传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客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457200"/>
            <a:ext cx="4267080" cy="8251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cc00ff"/>
                </a:solidFill>
                <a:latin typeface="Times New Roman"/>
                <a:ea typeface="隶书"/>
              </a:rPr>
              <a:t>一词多义现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685800"/>
            <a:ext cx="3504960" cy="6426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词类活用现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3040" y="2819520"/>
            <a:ext cx="2057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圣人也亦远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学于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学而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卑则足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2819520"/>
            <a:ext cx="4062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方位名词作动词，低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动用法，以……为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形容词作名词，小的方面，大的方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动用法，以……为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名词作动词，学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4040" y="2968560"/>
            <a:ext cx="1219320" cy="862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耻</a:t>
            </a: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师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耻</a:t>
            </a: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相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6652800" y="3273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66960" y="3654360"/>
            <a:ext cx="1600200" cy="862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益圣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益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614320" y="388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457200"/>
            <a:ext cx="3505320" cy="6415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50000">
                <a:srgbClr val="ffffff"/>
              </a:gs>
              <a:gs pos="100000">
                <a:srgbClr val="66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380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  <a:ea typeface="隶书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191120"/>
            <a:ext cx="215604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拘于时，学于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3048120"/>
            <a:ext cx="678168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宾语前置，“之”为提宾标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1905120"/>
            <a:ext cx="777240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读之不知，惑之不解，或师焉，或不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5715000"/>
            <a:ext cx="24382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动句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4419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宾短语后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3400" y="25146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572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1080" y="5181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380880"/>
            <a:ext cx="2361960" cy="7034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修辞探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752480"/>
            <a:ext cx="6933960" cy="23716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者，所以传道受业解惑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孰能无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不从师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闻道也固先乎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师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故弟子不必不如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必贤于弟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9000" y="2133720"/>
            <a:ext cx="606960" cy="17524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顶    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4648320"/>
            <a:ext cx="7086600" cy="18788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前后紧凑，气势通畅，前后事理有机联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充分阐明它们之间的辨证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27432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41911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581280" y="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Times New Roman"/>
                <a:ea typeface="隶书"/>
              </a:rPr>
              <a:t>学会举一反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585144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Times New Roman"/>
                <a:ea typeface="隶书"/>
              </a:rPr>
              <a:t>学会举一反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jiang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04920" y="0"/>
            <a:ext cx="579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Times New Roman"/>
                <a:ea typeface="隶书"/>
              </a:rPr>
              <a:t>课堂作  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914400"/>
            <a:ext cx="3276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解释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057400"/>
            <a:ext cx="2819520" cy="3240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其皆出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此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拜送书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学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耻学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其身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不必贤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弟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不拘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057400"/>
            <a:ext cx="5562720" cy="3240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处所，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处所，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趋向，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对象，对，对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比较， 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被动，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1981080"/>
            <a:ext cx="3504960" cy="324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非蛇鳝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穴无可寄托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择师而教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道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不传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句读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不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巫医乐师百工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辍耕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垄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1981080"/>
            <a:ext cx="3962520" cy="324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助词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助词，取消句子独立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助词，宾语前置的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这类，这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动词，到，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Times New Roman"/>
                <a:ea typeface="隶书"/>
              </a:rPr>
              <a:t>课堂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990720"/>
            <a:ext cx="3276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解释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-910440" y="914400"/>
            <a:ext cx="2009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Times New Roman"/>
                <a:ea typeface="隶书"/>
              </a:rPr>
              <a:t>师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029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ff"/>
                </a:solidFill>
                <a:latin typeface="Times New Roman"/>
              </a:rPr>
              <a:t>作者：韩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om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33520" y="762120"/>
            <a:ext cx="3276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解释下列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1752480"/>
            <a:ext cx="28195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有碑仆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吾师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之不传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策之不以其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何可胜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也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相似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1752480"/>
            <a:ext cx="251460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道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道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风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规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动词，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道德学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ff"/>
                </a:solidFill>
                <a:latin typeface="Times New Roman"/>
                <a:ea typeface="黑体"/>
              </a:rPr>
              <a:t>课外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04920" y="2209680"/>
            <a:ext cx="3200400" cy="324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爱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子，择师而教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闻道也亦先乎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为惑也终不解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皆出于此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可怪也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传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道解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惑者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09680"/>
            <a:ext cx="5791320" cy="3240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表领属关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们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他，他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表远指，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副词，表推测、估计语气，大概，或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副词，表反诘语气，难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真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前指老师的；后指学生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808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66ff"/>
                </a:solidFill>
                <a:latin typeface="Times New Roman"/>
                <a:ea typeface="黑体"/>
              </a:rPr>
              <a:t>课外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219320"/>
            <a:ext cx="3276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解释下列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0"/>
            <a:ext cx="2590920" cy="9169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00ff"/>
                </a:solidFill>
                <a:latin typeface="Times New Roman"/>
                <a:ea typeface="隶书"/>
              </a:rPr>
              <a:t>小作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914400"/>
            <a:ext cx="3276720" cy="58140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Times New Roman"/>
                <a:ea typeface="幼圆"/>
              </a:rPr>
              <a:t>谈谈老师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2666880" y="655308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uddrv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文学常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762120"/>
            <a:ext cx="792504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ff"/>
                </a:solidFill>
                <a:latin typeface="Times New Roman"/>
              </a:rPr>
              <a:t>《师说》选自《昌黎先生集》。韩愈，字退之，唐代著名文学家、哲学家。自谓郡望昌黎，世称韩昌黎。列唐宋八大散文家之首，</a:t>
            </a:r>
            <a:r>
              <a:rPr b="1" i="1" lang="zh-CN" sz="2400" spc="-1" strike="noStrike">
                <a:solidFill>
                  <a:srgbClr val="ff3399"/>
                </a:solidFill>
                <a:latin typeface="Times New Roman"/>
              </a:rPr>
              <a:t>唐宋八大散文家</a:t>
            </a:r>
            <a:r>
              <a:rPr b="1" i="1" lang="zh-CN" sz="2400" spc="-1" strike="noStrike">
                <a:solidFill>
                  <a:srgbClr val="cc00ff"/>
                </a:solidFill>
                <a:latin typeface="Times New Roman"/>
              </a:rPr>
              <a:t>为韩愈、柳宗元、欧阳修、王安石、曾巩、苏洵、苏轼、苏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743200"/>
            <a:ext cx="7848720" cy="520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韩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zh-CN" sz="2400" spc="-1" strike="noStrike">
                <a:solidFill>
                  <a:srgbClr val="cc00ff"/>
                </a:solidFill>
                <a:latin typeface="Times New Roman"/>
              </a:rPr>
              <a:t>古文运动的倡导者，在文学史上，“古文”的概念是韩愈提出来的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是一种与内容空洞、重视词藻、堆砌典故、讲究对偶的骈文相对立的散文</a:t>
            </a:r>
            <a:r>
              <a:rPr b="1" i="1" lang="zh-CN" sz="2400" spc="-1" strike="noStrike">
                <a:solidFill>
                  <a:srgbClr val="cc00ff"/>
                </a:solidFill>
                <a:latin typeface="Times New Roman"/>
              </a:rPr>
              <a:t>。它以儒家思想为基本内容，取法先秦两汉散文文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800600"/>
            <a:ext cx="7924680" cy="88632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zh-CN" sz="2800" spc="-1" strike="noStrike">
                <a:solidFill>
                  <a:srgbClr val="993300"/>
                </a:solidFill>
                <a:latin typeface="Times New Roman"/>
              </a:rPr>
              <a:t>说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i="1" lang="zh-CN" sz="2400" spc="-1" strike="noStrike">
                <a:solidFill>
                  <a:srgbClr val="cc00ff"/>
                </a:solidFill>
                <a:latin typeface="Times New Roman"/>
              </a:rPr>
              <a:t>是古文中的一种文体，属议论文范围，一般为陈述自己对某种事物的见解。如《马说》、《捕蛇者说》、《爱莲说》、《师说》等都属于这一种文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590920" y="304920"/>
          <a:ext cx="5105160" cy="624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304920"/>
                    <a:ext cx="51051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1160640" y="1676520"/>
            <a:ext cx="1277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唐代古文运动倡导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71080" y="5410080"/>
            <a:ext cx="127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pperplate Gothic Bold"/>
                <a:ea typeface="隶书"/>
              </a:rPr>
              <a:t>韩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057400" y="533520"/>
          <a:ext cx="57913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533520"/>
                    <a:ext cx="57913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598680" y="1523880"/>
            <a:ext cx="1277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唐代古文运动倡导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19720" y="3657600"/>
            <a:ext cx="72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柳宗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304920"/>
            <a:ext cx="3048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80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隶书"/>
              </a:rPr>
              <a:t>字词注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143000"/>
            <a:ext cx="8153280" cy="21283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 ò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或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ǒu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经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huà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 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có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书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 ù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uá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cōng)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dān)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pán)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cháng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近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ú)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rǎn)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pān)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zhǎng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须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ú)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191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隶书"/>
              </a:rPr>
              <a:t>通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18148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传道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受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业解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不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焉，或师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5105520"/>
            <a:ext cx="3809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受”通“授”，传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5715000"/>
            <a:ext cx="365760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”通“否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447920" y="1447560"/>
            <a:ext cx="2514600" cy="4267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4038480"/>
            <a:ext cx="1676160" cy="45972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514600" y="38858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304920"/>
            <a:ext cx="5334120" cy="703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阅读、思考、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4920"/>
            <a:ext cx="5334120" cy="703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Times New Roman"/>
                <a:ea typeface="隶书"/>
              </a:rPr>
              <a:t>阅读、思考、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tepwav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izt04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izt04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2895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找出文中古今异义的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733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找出文中一词多义的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4197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找出文中词类活用的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找出文中的特殊句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533520"/>
            <a:ext cx="3733920" cy="916920"/>
          </a:xfrm>
          <a:prstGeom prst="rect">
            <a:avLst/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00ff"/>
                </a:solidFill>
                <a:latin typeface="Times New Roman"/>
                <a:ea typeface="隶书"/>
              </a:rPr>
              <a:t>阅读思考题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2096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      </a:t>
            </a: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隶书"/>
              </a:rPr>
              <a:t>读懂全文，简析文章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izt04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457200"/>
            <a:ext cx="2133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内容简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1219320"/>
            <a:ext cx="6553080" cy="15721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第一段：在正面阐述中提出论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古之学者必有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人非生而知之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057400"/>
            <a:ext cx="2057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993300"/>
                </a:solidFill>
                <a:latin typeface="Times New Roman"/>
              </a:rPr>
              <a:t>从师的必要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971800"/>
            <a:ext cx="6629400" cy="10159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第二段：从批判反面现象中阐发论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用了对比论证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419720"/>
            <a:ext cx="6629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第三段：以历史名人为例，进一步论证观点</a:t>
            </a:r>
            <a:r>
              <a:rPr b="1" i="1" lang="zh-CN" sz="1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5486400"/>
            <a:ext cx="66294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第四段：说明写作本文的缘由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6T13:50:19Z</dcterms:created>
  <dc:creator>校园之星科技有限公司</dc:creator>
  <dc:description>校园之星科技有限公司</dc:description>
  <cp:keywords>校园之星科技有限公司</cp:keywords>
  <dc:language>en-US</dc:language>
  <cp:lastModifiedBy>mawei</cp:lastModifiedBy>
  <cp:lastPrinted>1998-10-20T02:13:45Z</cp:lastPrinted>
  <dcterms:modified xsi:type="dcterms:W3CDTF">2007-01-26T01:28:04Z</dcterms:modified>
  <cp:revision>182</cp:revision>
  <dc:subject>校园之星科技有限公司</dc:subject>
  <dc:title>校园之星科技有限公司</dc:title>
</cp:coreProperties>
</file>