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1.png" ContentType="image/png"/>
  <Override PartName="/ppt/media/image3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4.jpeg" ContentType="image/jpeg"/>
  <Override PartName="/ppt/media/image14.png" ContentType="image/png"/>
  <Override PartName="/ppt/media/image22.jpeg" ContentType="image/jpeg"/>
  <Override PartName="/ppt/media/image15.wmf" ContentType="image/x-wmf"/>
  <Override PartName="/ppt/media/image1.png" ContentType="image/png"/>
  <Override PartName="/ppt/media/image5.jpeg" ContentType="image/jpeg"/>
  <Override PartName="/ppt/media/image20.wmf" ContentType="image/x-wmf"/>
  <Override PartName="/ppt/media/image18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8D93-6A6C-4881-91BE-C8DEF4A61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1D95-D3AE-4102-AA47-BEB1CA814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38C0-CC4F-469C-992E-96BD052F7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EA4D-4545-410E-916B-F1D1B4A4E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2369-46BD-44ED-8D41-3D48A1CE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C449-CC79-4698-827D-E8ED88EC8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39EF-5147-45C2-90DE-863DF4F30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9834-7300-49D2-ACCB-B43D31366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C107-AAA2-4114-9B06-6ECAAFC96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CB2D-BD4A-4111-A1BE-EA274637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2A6A-3A0E-46E8-80F6-D3DB9612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0726-6B63-436A-A176-4B2CEDA0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2633E-F829-4B1A-BA7B-FC4628C4839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" Target="slide22.xml"/><Relationship Id="rId3" Type="http://schemas.openxmlformats.org/officeDocument/2006/relationships/slide" Target="slide23.xml"/><Relationship Id="rId4" Type="http://schemas.openxmlformats.org/officeDocument/2006/relationships/slide" Target="slide24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" Target="slide20.xml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7.wmf"/><Relationship Id="rId3" Type="http://schemas.openxmlformats.org/officeDocument/2006/relationships/slide" Target="slide20.xm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" Target="slide20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wmf"/><Relationship Id="rId3" Type="http://schemas.openxmlformats.org/officeDocument/2006/relationships/image" Target="../media/image4.jpe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garden.2118.com.cn/Hongri/jiayi/biane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743200" y="1752480"/>
            <a:ext cx="487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c0000"/>
                </a:solidFill>
                <a:latin typeface="Times New Roman"/>
                <a:ea typeface="隶书"/>
              </a:rPr>
              <a:t>过秦论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396252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Times New Roman"/>
                <a:ea typeface="隶书"/>
              </a:rPr>
              <a:t>贾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04920" y="533520"/>
            <a:ext cx="419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给斜体字注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1752480"/>
            <a:ext cx="8153640" cy="45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合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缔交       赢粮而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景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万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乘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之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宁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越         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翟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景         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召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滑        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逡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巡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度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德量力         内立法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鞭笞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瓮牖绳枢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黔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首       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蹑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足      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猗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锄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耰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棘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矜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一夫作难 而七庙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295280" y="2438280"/>
            <a:ext cx="924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Times New Roman"/>
              </a:rPr>
              <a:t>《过秦论》知识点总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33520" y="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一词多义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609480"/>
            <a:ext cx="32004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追亡逐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北 北收要害之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将军战河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838080"/>
            <a:ext cx="76320" cy="1295640"/>
          </a:xfrm>
          <a:custGeom>
            <a:avLst/>
            <a:gdLst>
              <a:gd name="textAreaLeft" fmla="*/ 22320 w 76320"/>
              <a:gd name="textAreaRight" fmla="*/ 76320 w 76320"/>
              <a:gd name="textAreaTop" fmla="*/ 54000 h 1295640"/>
              <a:gd name="textAreaBottom" fmla="*/ 124200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81280" y="609480"/>
            <a:ext cx="5562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名词         败逃的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名词作状语   向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名词           北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2590920"/>
            <a:ext cx="4114800" cy="23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因力乘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因 因遗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虎因喜，计之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66680" y="2666880"/>
            <a:ext cx="76320" cy="1371600"/>
          </a:xfrm>
          <a:custGeom>
            <a:avLst/>
            <a:gdLst>
              <a:gd name="textAreaLeft" fmla="*/ 22320 w 76320"/>
              <a:gd name="textAreaRight" fmla="*/ 76320 w 76320"/>
              <a:gd name="textAreaTop" fmla="*/ 56880 h 1371600"/>
              <a:gd name="textAreaBottom" fmla="*/ 131472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62520" y="2514600"/>
            <a:ext cx="2971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介词       趁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动词       沿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介词       因此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4648320"/>
            <a:ext cx="46483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以致天下之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致 致万乘之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而致千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5029200"/>
            <a:ext cx="75960" cy="1143000"/>
          </a:xfrm>
          <a:custGeom>
            <a:avLst/>
            <a:gdLst>
              <a:gd name="textAreaLeft" fmla="*/ 22320 w 75960"/>
              <a:gd name="textAreaRight" fmla="*/ 76320 w 75960"/>
              <a:gd name="textAreaTop" fmla="*/ 47520 h 1143000"/>
              <a:gd name="textAreaBottom" fmla="*/ 1095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62520" y="4648320"/>
            <a:ext cx="35812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动词       招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动词       达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动词        到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80880" y="304920"/>
            <a:ext cx="39625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延及孝文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延 秦人开关延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余人各复延至其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609480"/>
            <a:ext cx="76320" cy="1295640"/>
          </a:xfrm>
          <a:custGeom>
            <a:avLst/>
            <a:gdLst>
              <a:gd name="textAreaLeft" fmla="*/ 22320 w 76320"/>
              <a:gd name="textAreaRight" fmla="*/ 76320 w 76320"/>
              <a:gd name="textAreaTop" fmla="*/ 54000 h 1295640"/>
              <a:gd name="textAreaBottom" fmla="*/ 124200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91120" y="304920"/>
            <a:ext cx="3886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动词      延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动词      引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动词      邀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2514600"/>
            <a:ext cx="3505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因遗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振长策而御宇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27432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91120" y="2514600"/>
            <a:ext cx="3047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名词        策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名词        鞭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4038480"/>
            <a:ext cx="30481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会盟而谋弱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弱 弱国入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不若孀妻弱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4267080"/>
            <a:ext cx="76320" cy="1295640"/>
          </a:xfrm>
          <a:custGeom>
            <a:avLst/>
            <a:gdLst>
              <a:gd name="textAreaLeft" fmla="*/ 22320 w 76320"/>
              <a:gd name="textAreaRight" fmla="*/ 76320 w 76320"/>
              <a:gd name="textAreaTop" fmla="*/ 54000 h 1295640"/>
              <a:gd name="textAreaBottom" fmla="*/ 124200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86200" y="4038480"/>
            <a:ext cx="48769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形容词的使动用法  削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形容词            弱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形容词            年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28600" y="228600"/>
            <a:ext cx="8381880" cy="70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古今异义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于是秦人拱手而取西河之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古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黄河以西一带          今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河的西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赢粮而景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古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担负                          今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输赢的“赢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山东豪俊并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古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崤山以东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即东方     今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指山东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流血漂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古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盾牌                今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使船前进的工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80880" y="457200"/>
            <a:ext cx="7010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-74520"/>
            <a:ext cx="8305560" cy="70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词类活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席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卷天下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包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举宇内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囊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括四海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名作状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赢粮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景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从                            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名作状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云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响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应                                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名作状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内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立法度                                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方位词作状语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外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连衡                                    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方位词作状语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南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取百越之地                        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方位词作状语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斗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诸侯                                    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动词作使动用法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序八洲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朝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同列                    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动词作使动用法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会盟而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弱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秦                        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形容词使动用法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愚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黔首                                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形容词使动用法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04920" y="457200"/>
            <a:ext cx="883908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难句译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1)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外连衡而斗诸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斗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使动用法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使……争斗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文言中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不及物动词的后边有宾语时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这种不及物动词大都是使动词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这里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在“斗”的后边带有宾语“诸侯”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译文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对外采取连衡的策略来使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其他六国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诸侯相互争斗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2)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于是秦人拱手而取西河之外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于是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连词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相当于“因而”  “之”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助词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译文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这样一来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秦国就毫不费力地取得了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魏国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黄河以西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的大片土地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57200" y="228600"/>
            <a:ext cx="731520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3)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会盟而谋弱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会盟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聚在一起订立盟约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.“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盟”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动词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订立盟约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文言中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当用“而”把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或动词短语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和名词连接起来时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这种名词就用作动词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弱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使动用法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使……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译文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: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他们便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聚在一起订立盟约来谋划削弱秦国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的势力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4)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追亡逐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亡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逃亡的败兵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.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北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败逃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这里指溃败的军队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这句用了互文的修辞手法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.“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追”和“逐”为互文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“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亡”和“北”为互文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译文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追逐逃亡的败兵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28600" y="228600"/>
            <a:ext cx="861048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5)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信臣精卒陈利兵而谁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信臣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可靠的大臣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陈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陈列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布置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.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利兵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锐利的兵器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而谁何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即“其谁奈之何”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也就是“那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阵势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有谁敢惹他”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译文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用忠臣的臣子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带领精锐的士兵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陈列着锐利的武器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缉查盘问往来的人们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6)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斩木为兵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揭竿为旗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天下云集响应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赢粮而景从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为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当作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.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云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作“集”的状语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应译为“像云一样”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景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像影子一样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译文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: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他们砍伐树木作为武器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举起竹竿作为旗帜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天下人像浮云一样聚集起来响应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他们的号召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),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大家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担着粮食像影子随形那样跟着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他们起来造反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62120" y="685800"/>
            <a:ext cx="70866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7)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锄耰棘矜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非銛于钩戟长铩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于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介词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在形容词之后引出比较对象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相当于“比”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译文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锄头 枪把并不比钩戟长矛更锋利呀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3352680"/>
            <a:ext cx="7315200" cy="29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5.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通假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从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纵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)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衡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横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)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景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影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)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倔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崛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)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有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又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)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没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殁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)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66680" y="762120"/>
            <a:ext cx="7467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533520"/>
            <a:ext cx="78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隶书"/>
                <a:ea typeface="隶书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6248520"/>
            <a:ext cx="9144000" cy="382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1471320" cy="963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86000" y="304920"/>
            <a:ext cx="4191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隶书"/>
              </a:rPr>
              <a:t>过秦：指出秦的过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隶书"/>
              </a:rPr>
              <a:t>论，表明文体是一篇议论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2952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Times New Roman"/>
                <a:ea typeface="隶书"/>
              </a:rPr>
              <a:t>　　秦始皇统一天下之后，为了帝王享受而横征暴敛；为了修城造宫而滥征民力；为了钳制思想而焚书坑儒；为了防止人民反抗而实行严酷的刑罚，终于导致农民大起义，秦朝迅速灭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3124080"/>
            <a:ext cx="8001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隶书"/>
              </a:rPr>
              <a:t>　　西汉初期，经历了春秋战乱到楚汉战争，社会经济遭到了极大的破坏，土地荒芜，人民流亡，人口减少，经济凋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4648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Times New Roman"/>
                <a:ea typeface="隶书"/>
              </a:rPr>
              <a:t>　　贾谊的《过秦论》正是针对这种现实而写。他希望汉统治者能吸取秦灭亡的教训，推行“仁政”以求经济发展，社会安定。即所谓“前事不忘后事之师”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3048120"/>
            <a:ext cx="3124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隶书"/>
              </a:rPr>
              <a:t> </a:t>
            </a:r>
            <a:r>
              <a:rPr b="1" lang="zh-CN" sz="4000" spc="-1" strike="noStrike">
                <a:solidFill>
                  <a:srgbClr val="003399"/>
                </a:solidFill>
                <a:latin typeface="Times New Roman"/>
                <a:ea typeface="隶书"/>
              </a:rPr>
              <a:t>《过秦论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Times New Roman"/>
                <a:ea typeface="隶书"/>
              </a:rPr>
              <a:t>   </a:t>
            </a:r>
            <a:r>
              <a:rPr b="1" lang="zh-CN" sz="4000" spc="-1" strike="noStrike">
                <a:solidFill>
                  <a:srgbClr val="003399"/>
                </a:solidFill>
                <a:latin typeface="Times New Roman"/>
                <a:ea typeface="隶书"/>
              </a:rPr>
              <a:t>内容结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95480" y="2438280"/>
            <a:ext cx="3124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一、兴亡过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(1-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95480" y="48006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二、分析原因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(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43600" y="14479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隶书"/>
                <a:ea typeface="隶书"/>
              </a:rPr>
              <a:t>兴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43600" y="35812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隶书"/>
              </a:rPr>
              <a:t>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781680" y="609480"/>
            <a:ext cx="2057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崛起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发展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极盛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74880" cy="1935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819520" y="2743200"/>
            <a:ext cx="75960" cy="2209680"/>
          </a:xfrm>
          <a:custGeom>
            <a:avLst/>
            <a:gdLst>
              <a:gd name="textAreaLeft" fmla="*/ 22320 w 75960"/>
              <a:gd name="textAreaRight" fmla="*/ 76320 w 75960"/>
              <a:gd name="textAreaTop" fmla="*/ 91800 h 2209680"/>
              <a:gd name="textAreaBottom" fmla="*/ 21178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1828800"/>
            <a:ext cx="75960" cy="1981080"/>
          </a:xfrm>
          <a:custGeom>
            <a:avLst/>
            <a:gdLst>
              <a:gd name="textAreaLeft" fmla="*/ 22320 w 75960"/>
              <a:gd name="textAreaRight" fmla="*/ 76320 w 75960"/>
              <a:gd name="textAreaTop" fmla="*/ 82440 h 1981080"/>
              <a:gd name="textAreaBottom" fmla="*/ 189864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05720" y="990720"/>
            <a:ext cx="75960" cy="1447560"/>
          </a:xfrm>
          <a:custGeom>
            <a:avLst/>
            <a:gdLst>
              <a:gd name="textAreaLeft" fmla="*/ 22320 w 75960"/>
              <a:gd name="textAreaRight" fmla="*/ 76320 w 75960"/>
              <a:gd name="textAreaTop" fmla="*/ 60120 h 1447560"/>
              <a:gd name="textAreaBottom" fmla="*/ 138744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324480" y="35812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隶书"/>
              </a:rPr>
              <a:t>(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286000"/>
            <a:ext cx="152280" cy="1066680"/>
          </a:xfrm>
          <a:prstGeom prst="downArrow">
            <a:avLst>
              <a:gd name="adj1" fmla="val 50000"/>
              <a:gd name="adj2" fmla="val 175118"/>
            </a:avLst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nextslide"/>
          </p:cNvPr>
          <p:cNvSpPr/>
          <p:nvPr/>
        </p:nvSpPr>
        <p:spPr>
          <a:xfrm>
            <a:off x="8381880" y="838080"/>
            <a:ext cx="152640" cy="152640"/>
          </a:xfrm>
          <a:custGeom>
            <a:avLst/>
            <a:gdLst>
              <a:gd name="textAreaLeft" fmla="*/ 9720 w 152640"/>
              <a:gd name="textAreaRight" fmla="*/ 142920 w 15264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2" action="ppaction://hlinksldjump"/>
          </p:cNvPr>
          <p:cNvSpPr/>
          <p:nvPr/>
        </p:nvSpPr>
        <p:spPr>
          <a:xfrm>
            <a:off x="8381880" y="1600200"/>
            <a:ext cx="152640" cy="152280"/>
          </a:xfrm>
          <a:custGeom>
            <a:avLst/>
            <a:gdLst>
              <a:gd name="textAreaLeft" fmla="*/ 9720 w 152640"/>
              <a:gd name="textAreaRight" fmla="*/ 142920 w 15264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21651" h="21600">
                <a:moveTo>
                  <a:pt x="0" y="0"/>
                </a:moveTo>
                <a:lnTo>
                  <a:pt x="21651" y="0"/>
                </a:lnTo>
                <a:lnTo>
                  <a:pt x="21651" y="21600"/>
                </a:lnTo>
                <a:lnTo>
                  <a:pt x="0" y="21600"/>
                </a:lnTo>
                <a:close/>
              </a:path>
              <a:path fill="lightenLess" w="21651" h="21600">
                <a:moveTo>
                  <a:pt x="0" y="0"/>
                </a:moveTo>
                <a:lnTo>
                  <a:pt x="21651" y="0"/>
                </a:lnTo>
                <a:lnTo>
                  <a:pt x="20251" y="1400"/>
                </a:lnTo>
                <a:lnTo>
                  <a:pt x="1400" y="1400"/>
                </a:lnTo>
                <a:close/>
              </a:path>
              <a:path fill="darken" w="21651" h="21600">
                <a:moveTo>
                  <a:pt x="21651" y="0"/>
                </a:moveTo>
                <a:lnTo>
                  <a:pt x="21651" y="21600"/>
                </a:lnTo>
                <a:lnTo>
                  <a:pt x="20251" y="20200"/>
                </a:lnTo>
                <a:lnTo>
                  <a:pt x="20251" y="1400"/>
                </a:lnTo>
                <a:close/>
              </a:path>
              <a:path fill="darkenLess" w="21651" h="21600">
                <a:moveTo>
                  <a:pt x="216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1" y="20200"/>
                </a:lnTo>
                <a:close/>
              </a:path>
              <a:path fill="lighten" w="216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1" h="21600">
                <a:moveTo>
                  <a:pt x="3819" y="3794"/>
                </a:moveTo>
                <a:lnTo>
                  <a:pt x="17832" y="10800"/>
                </a:lnTo>
                <a:lnTo>
                  <a:pt x="3819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rId3" action="ppaction://hlinksldjump"/>
          </p:cNvPr>
          <p:cNvSpPr/>
          <p:nvPr/>
        </p:nvSpPr>
        <p:spPr>
          <a:xfrm>
            <a:off x="8381880" y="2286000"/>
            <a:ext cx="152640" cy="152280"/>
          </a:xfrm>
          <a:custGeom>
            <a:avLst/>
            <a:gdLst>
              <a:gd name="textAreaLeft" fmla="*/ 9720 w 152640"/>
              <a:gd name="textAreaRight" fmla="*/ 142920 w 15264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21651" h="21600">
                <a:moveTo>
                  <a:pt x="0" y="0"/>
                </a:moveTo>
                <a:lnTo>
                  <a:pt x="21651" y="0"/>
                </a:lnTo>
                <a:lnTo>
                  <a:pt x="21651" y="21600"/>
                </a:lnTo>
                <a:lnTo>
                  <a:pt x="0" y="21600"/>
                </a:lnTo>
                <a:close/>
              </a:path>
              <a:path fill="lightenLess" w="21651" h="21600">
                <a:moveTo>
                  <a:pt x="0" y="0"/>
                </a:moveTo>
                <a:lnTo>
                  <a:pt x="21651" y="0"/>
                </a:lnTo>
                <a:lnTo>
                  <a:pt x="20251" y="1400"/>
                </a:lnTo>
                <a:lnTo>
                  <a:pt x="1400" y="1400"/>
                </a:lnTo>
                <a:close/>
              </a:path>
              <a:path fill="darken" w="21651" h="21600">
                <a:moveTo>
                  <a:pt x="21651" y="0"/>
                </a:moveTo>
                <a:lnTo>
                  <a:pt x="21651" y="21600"/>
                </a:lnTo>
                <a:lnTo>
                  <a:pt x="20251" y="20200"/>
                </a:lnTo>
                <a:lnTo>
                  <a:pt x="20251" y="1400"/>
                </a:lnTo>
                <a:close/>
              </a:path>
              <a:path fill="darkenLess" w="21651" h="21600">
                <a:moveTo>
                  <a:pt x="216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1" y="20200"/>
                </a:lnTo>
                <a:close/>
              </a:path>
              <a:path fill="lighten" w="216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1" h="21600">
                <a:moveTo>
                  <a:pt x="3819" y="3794"/>
                </a:moveTo>
                <a:lnTo>
                  <a:pt x="17832" y="10800"/>
                </a:lnTo>
                <a:lnTo>
                  <a:pt x="3819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rId4" action="ppaction://hlinksldjump"/>
          </p:cNvPr>
          <p:cNvSpPr/>
          <p:nvPr/>
        </p:nvSpPr>
        <p:spPr>
          <a:xfrm>
            <a:off x="7162920" y="3886200"/>
            <a:ext cx="152280" cy="152280"/>
          </a:xfrm>
          <a:custGeom>
            <a:avLst/>
            <a:gdLst>
              <a:gd name="textAreaLeft" fmla="*/ 9720 w 152280"/>
              <a:gd name="textAreaRight" fmla="*/ 142560 w 15228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rId5" action="ppaction://hlinksldjump"/>
          </p:cNvPr>
          <p:cNvSpPr/>
          <p:nvPr/>
        </p:nvSpPr>
        <p:spPr>
          <a:xfrm>
            <a:off x="6400800" y="5029200"/>
            <a:ext cx="152280" cy="152280"/>
          </a:xfrm>
          <a:custGeom>
            <a:avLst/>
            <a:gdLst>
              <a:gd name="textAreaLeft" fmla="*/ 9720 w 152280"/>
              <a:gd name="textAreaRight" fmla="*/ 142560 w 15228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04920" y="990720"/>
            <a:ext cx="83055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隶书"/>
                <a:ea typeface="隶书"/>
              </a:rPr>
              <a:t>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301680"/>
          </a:xfrm>
          <a:custGeom>
            <a:avLst/>
            <a:gdLst/>
            <a:ahLst/>
            <a:rect l="l" t="t" r="r" b="b"/>
            <a:pathLst>
              <a:path w="5760" h="380">
                <a:moveTo>
                  <a:pt x="5411" y="136"/>
                </a:moveTo>
                <a:lnTo>
                  <a:pt x="5410" y="160"/>
                </a:lnTo>
                <a:lnTo>
                  <a:pt x="5411" y="181"/>
                </a:lnTo>
                <a:lnTo>
                  <a:pt x="5416" y="201"/>
                </a:lnTo>
                <a:lnTo>
                  <a:pt x="5425" y="217"/>
                </a:lnTo>
                <a:lnTo>
                  <a:pt x="5438" y="231"/>
                </a:lnTo>
                <a:lnTo>
                  <a:pt x="5454" y="243"/>
                </a:lnTo>
                <a:lnTo>
                  <a:pt x="5473" y="251"/>
                </a:lnTo>
                <a:lnTo>
                  <a:pt x="5495" y="256"/>
                </a:lnTo>
                <a:lnTo>
                  <a:pt x="5515" y="254"/>
                </a:lnTo>
                <a:lnTo>
                  <a:pt x="5533" y="246"/>
                </a:lnTo>
                <a:lnTo>
                  <a:pt x="5548" y="236"/>
                </a:lnTo>
                <a:lnTo>
                  <a:pt x="5561" y="222"/>
                </a:lnTo>
                <a:lnTo>
                  <a:pt x="5569" y="205"/>
                </a:lnTo>
                <a:lnTo>
                  <a:pt x="5572" y="186"/>
                </a:lnTo>
                <a:lnTo>
                  <a:pt x="5571" y="167"/>
                </a:lnTo>
                <a:lnTo>
                  <a:pt x="5563" y="147"/>
                </a:lnTo>
                <a:lnTo>
                  <a:pt x="5553" y="137"/>
                </a:lnTo>
                <a:lnTo>
                  <a:pt x="5544" y="129"/>
                </a:lnTo>
                <a:lnTo>
                  <a:pt x="5534" y="125"/>
                </a:lnTo>
                <a:lnTo>
                  <a:pt x="5523" y="123"/>
                </a:lnTo>
                <a:lnTo>
                  <a:pt x="5514" y="123"/>
                </a:lnTo>
                <a:lnTo>
                  <a:pt x="5503" y="126"/>
                </a:lnTo>
                <a:lnTo>
                  <a:pt x="5493" y="133"/>
                </a:lnTo>
                <a:lnTo>
                  <a:pt x="5484" y="142"/>
                </a:lnTo>
                <a:lnTo>
                  <a:pt x="5479" y="150"/>
                </a:lnTo>
                <a:lnTo>
                  <a:pt x="5477" y="160"/>
                </a:lnTo>
                <a:lnTo>
                  <a:pt x="5477" y="168"/>
                </a:lnTo>
                <a:lnTo>
                  <a:pt x="5477" y="175"/>
                </a:lnTo>
                <a:lnTo>
                  <a:pt x="5479" y="183"/>
                </a:lnTo>
                <a:lnTo>
                  <a:pt x="5482" y="191"/>
                </a:lnTo>
                <a:lnTo>
                  <a:pt x="5485" y="199"/>
                </a:lnTo>
                <a:lnTo>
                  <a:pt x="5487" y="207"/>
                </a:lnTo>
                <a:lnTo>
                  <a:pt x="5493" y="213"/>
                </a:lnTo>
                <a:lnTo>
                  <a:pt x="5498" y="215"/>
                </a:lnTo>
                <a:lnTo>
                  <a:pt x="5501" y="213"/>
                </a:lnTo>
                <a:lnTo>
                  <a:pt x="5504" y="210"/>
                </a:lnTo>
                <a:lnTo>
                  <a:pt x="5506" y="207"/>
                </a:lnTo>
                <a:lnTo>
                  <a:pt x="5506" y="202"/>
                </a:lnTo>
                <a:lnTo>
                  <a:pt x="5501" y="199"/>
                </a:lnTo>
                <a:lnTo>
                  <a:pt x="5496" y="197"/>
                </a:lnTo>
                <a:lnTo>
                  <a:pt x="5488" y="180"/>
                </a:lnTo>
                <a:lnTo>
                  <a:pt x="5487" y="163"/>
                </a:lnTo>
                <a:lnTo>
                  <a:pt x="5492" y="149"/>
                </a:lnTo>
                <a:lnTo>
                  <a:pt x="5500" y="139"/>
                </a:lnTo>
                <a:lnTo>
                  <a:pt x="5512" y="134"/>
                </a:lnTo>
                <a:lnTo>
                  <a:pt x="5526" y="134"/>
                </a:lnTo>
                <a:lnTo>
                  <a:pt x="5541" y="139"/>
                </a:lnTo>
                <a:lnTo>
                  <a:pt x="5555" y="154"/>
                </a:lnTo>
                <a:lnTo>
                  <a:pt x="5560" y="165"/>
                </a:lnTo>
                <a:lnTo>
                  <a:pt x="5561" y="176"/>
                </a:lnTo>
                <a:lnTo>
                  <a:pt x="5563" y="188"/>
                </a:lnTo>
                <a:lnTo>
                  <a:pt x="5561" y="197"/>
                </a:lnTo>
                <a:lnTo>
                  <a:pt x="5558" y="207"/>
                </a:lnTo>
                <a:lnTo>
                  <a:pt x="5553" y="217"/>
                </a:lnTo>
                <a:lnTo>
                  <a:pt x="5547" y="223"/>
                </a:lnTo>
                <a:lnTo>
                  <a:pt x="5539" y="230"/>
                </a:lnTo>
                <a:lnTo>
                  <a:pt x="5531" y="236"/>
                </a:lnTo>
                <a:lnTo>
                  <a:pt x="5522" y="239"/>
                </a:lnTo>
                <a:lnTo>
                  <a:pt x="5512" y="243"/>
                </a:lnTo>
                <a:lnTo>
                  <a:pt x="5501" y="244"/>
                </a:lnTo>
                <a:lnTo>
                  <a:pt x="5490" y="244"/>
                </a:lnTo>
                <a:lnTo>
                  <a:pt x="5479" y="243"/>
                </a:lnTo>
                <a:lnTo>
                  <a:pt x="5468" y="239"/>
                </a:lnTo>
                <a:lnTo>
                  <a:pt x="5459" y="235"/>
                </a:lnTo>
                <a:lnTo>
                  <a:pt x="5444" y="225"/>
                </a:lnTo>
                <a:lnTo>
                  <a:pt x="5435" y="215"/>
                </a:lnTo>
                <a:lnTo>
                  <a:pt x="5427" y="202"/>
                </a:lnTo>
                <a:lnTo>
                  <a:pt x="5422" y="188"/>
                </a:lnTo>
                <a:lnTo>
                  <a:pt x="5419" y="173"/>
                </a:lnTo>
                <a:lnTo>
                  <a:pt x="5419" y="157"/>
                </a:lnTo>
                <a:lnTo>
                  <a:pt x="5421" y="142"/>
                </a:lnTo>
                <a:lnTo>
                  <a:pt x="5424" y="126"/>
                </a:lnTo>
                <a:lnTo>
                  <a:pt x="5425" y="123"/>
                </a:lnTo>
                <a:lnTo>
                  <a:pt x="5429" y="118"/>
                </a:lnTo>
                <a:lnTo>
                  <a:pt x="5427" y="118"/>
                </a:lnTo>
                <a:lnTo>
                  <a:pt x="5432" y="113"/>
                </a:lnTo>
                <a:lnTo>
                  <a:pt x="5438" y="105"/>
                </a:lnTo>
                <a:lnTo>
                  <a:pt x="5447" y="99"/>
                </a:lnTo>
                <a:lnTo>
                  <a:pt x="5460" y="91"/>
                </a:lnTo>
                <a:lnTo>
                  <a:pt x="5476" y="84"/>
                </a:lnTo>
                <a:lnTo>
                  <a:pt x="5495" y="78"/>
                </a:lnTo>
                <a:lnTo>
                  <a:pt x="5518" y="74"/>
                </a:lnTo>
                <a:lnTo>
                  <a:pt x="5545" y="74"/>
                </a:lnTo>
                <a:lnTo>
                  <a:pt x="5564" y="76"/>
                </a:lnTo>
                <a:lnTo>
                  <a:pt x="5582" y="82"/>
                </a:lnTo>
                <a:lnTo>
                  <a:pt x="5599" y="91"/>
                </a:lnTo>
                <a:lnTo>
                  <a:pt x="5616" y="102"/>
                </a:lnTo>
                <a:lnTo>
                  <a:pt x="5634" y="115"/>
                </a:lnTo>
                <a:lnTo>
                  <a:pt x="5650" y="129"/>
                </a:lnTo>
                <a:lnTo>
                  <a:pt x="5665" y="146"/>
                </a:lnTo>
                <a:lnTo>
                  <a:pt x="5679" y="162"/>
                </a:lnTo>
                <a:lnTo>
                  <a:pt x="5692" y="180"/>
                </a:lnTo>
                <a:lnTo>
                  <a:pt x="5705" y="196"/>
                </a:lnTo>
                <a:lnTo>
                  <a:pt x="5716" y="212"/>
                </a:lnTo>
                <a:lnTo>
                  <a:pt x="5725" y="228"/>
                </a:lnTo>
                <a:lnTo>
                  <a:pt x="5733" y="241"/>
                </a:lnTo>
                <a:lnTo>
                  <a:pt x="5739" y="252"/>
                </a:lnTo>
                <a:lnTo>
                  <a:pt x="5744" y="262"/>
                </a:lnTo>
                <a:lnTo>
                  <a:pt x="5746" y="270"/>
                </a:lnTo>
                <a:lnTo>
                  <a:pt x="5749" y="275"/>
                </a:lnTo>
                <a:lnTo>
                  <a:pt x="5752" y="283"/>
                </a:lnTo>
                <a:lnTo>
                  <a:pt x="5755" y="291"/>
                </a:lnTo>
                <a:lnTo>
                  <a:pt x="5758" y="299"/>
                </a:lnTo>
                <a:lnTo>
                  <a:pt x="5760" y="307"/>
                </a:lnTo>
                <a:lnTo>
                  <a:pt x="5760" y="317"/>
                </a:lnTo>
                <a:lnTo>
                  <a:pt x="5758" y="327"/>
                </a:lnTo>
                <a:lnTo>
                  <a:pt x="5754" y="335"/>
                </a:lnTo>
                <a:lnTo>
                  <a:pt x="5746" y="345"/>
                </a:lnTo>
                <a:lnTo>
                  <a:pt x="5736" y="353"/>
                </a:lnTo>
                <a:lnTo>
                  <a:pt x="5721" y="361"/>
                </a:lnTo>
                <a:lnTo>
                  <a:pt x="5700" y="367"/>
                </a:lnTo>
                <a:lnTo>
                  <a:pt x="5675" y="372"/>
                </a:lnTo>
                <a:lnTo>
                  <a:pt x="5643" y="377"/>
                </a:lnTo>
                <a:lnTo>
                  <a:pt x="5607" y="378"/>
                </a:lnTo>
                <a:lnTo>
                  <a:pt x="5561" y="380"/>
                </a:lnTo>
                <a:lnTo>
                  <a:pt x="5533" y="380"/>
                </a:lnTo>
                <a:lnTo>
                  <a:pt x="5493" y="380"/>
                </a:lnTo>
                <a:lnTo>
                  <a:pt x="5444" y="380"/>
                </a:lnTo>
                <a:lnTo>
                  <a:pt x="5386" y="380"/>
                </a:lnTo>
                <a:lnTo>
                  <a:pt x="5318" y="380"/>
                </a:lnTo>
                <a:lnTo>
                  <a:pt x="5242" y="380"/>
                </a:lnTo>
                <a:lnTo>
                  <a:pt x="5160" y="380"/>
                </a:lnTo>
                <a:lnTo>
                  <a:pt x="5072" y="380"/>
                </a:lnTo>
                <a:lnTo>
                  <a:pt x="4977" y="380"/>
                </a:lnTo>
                <a:lnTo>
                  <a:pt x="4878" y="380"/>
                </a:lnTo>
                <a:lnTo>
                  <a:pt x="4773" y="380"/>
                </a:lnTo>
                <a:lnTo>
                  <a:pt x="4666" y="380"/>
                </a:lnTo>
                <a:lnTo>
                  <a:pt x="4557" y="380"/>
                </a:lnTo>
                <a:lnTo>
                  <a:pt x="4445" y="380"/>
                </a:lnTo>
                <a:lnTo>
                  <a:pt x="4331" y="380"/>
                </a:lnTo>
                <a:lnTo>
                  <a:pt x="4218" y="380"/>
                </a:lnTo>
                <a:lnTo>
                  <a:pt x="4103" y="380"/>
                </a:lnTo>
                <a:lnTo>
                  <a:pt x="3989" y="380"/>
                </a:lnTo>
                <a:lnTo>
                  <a:pt x="3878" y="380"/>
                </a:lnTo>
                <a:lnTo>
                  <a:pt x="3768" y="380"/>
                </a:lnTo>
                <a:lnTo>
                  <a:pt x="3661" y="380"/>
                </a:lnTo>
                <a:lnTo>
                  <a:pt x="3558" y="380"/>
                </a:lnTo>
                <a:lnTo>
                  <a:pt x="3460" y="380"/>
                </a:lnTo>
                <a:lnTo>
                  <a:pt x="3367" y="380"/>
                </a:lnTo>
                <a:lnTo>
                  <a:pt x="3279" y="380"/>
                </a:lnTo>
                <a:lnTo>
                  <a:pt x="3198" y="380"/>
                </a:lnTo>
                <a:lnTo>
                  <a:pt x="3124" y="380"/>
                </a:lnTo>
                <a:lnTo>
                  <a:pt x="3058" y="380"/>
                </a:lnTo>
                <a:lnTo>
                  <a:pt x="3001" y="380"/>
                </a:lnTo>
                <a:lnTo>
                  <a:pt x="2953" y="380"/>
                </a:lnTo>
                <a:lnTo>
                  <a:pt x="2916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2" y="380"/>
                </a:lnTo>
                <a:lnTo>
                  <a:pt x="2862" y="380"/>
                </a:lnTo>
                <a:lnTo>
                  <a:pt x="2829" y="380"/>
                </a:lnTo>
                <a:lnTo>
                  <a:pt x="2784" y="380"/>
                </a:lnTo>
                <a:lnTo>
                  <a:pt x="2728" y="380"/>
                </a:lnTo>
                <a:lnTo>
                  <a:pt x="2663" y="380"/>
                </a:lnTo>
                <a:lnTo>
                  <a:pt x="2587" y="380"/>
                </a:lnTo>
                <a:lnTo>
                  <a:pt x="2505" y="380"/>
                </a:lnTo>
                <a:lnTo>
                  <a:pt x="2414" y="380"/>
                </a:lnTo>
                <a:lnTo>
                  <a:pt x="2317" y="380"/>
                </a:lnTo>
                <a:lnTo>
                  <a:pt x="2215" y="380"/>
                </a:lnTo>
                <a:lnTo>
                  <a:pt x="2106" y="380"/>
                </a:lnTo>
                <a:lnTo>
                  <a:pt x="1994" y="380"/>
                </a:lnTo>
                <a:lnTo>
                  <a:pt x="1878" y="380"/>
                </a:lnTo>
                <a:lnTo>
                  <a:pt x="1760" y="380"/>
                </a:lnTo>
                <a:lnTo>
                  <a:pt x="1640" y="380"/>
                </a:lnTo>
                <a:lnTo>
                  <a:pt x="1520" y="380"/>
                </a:lnTo>
                <a:lnTo>
                  <a:pt x="1400" y="380"/>
                </a:lnTo>
                <a:lnTo>
                  <a:pt x="1280" y="380"/>
                </a:lnTo>
                <a:lnTo>
                  <a:pt x="1163" y="380"/>
                </a:lnTo>
                <a:lnTo>
                  <a:pt x="1048" y="380"/>
                </a:lnTo>
                <a:lnTo>
                  <a:pt x="938" y="380"/>
                </a:lnTo>
                <a:lnTo>
                  <a:pt x="830" y="380"/>
                </a:lnTo>
                <a:lnTo>
                  <a:pt x="728" y="380"/>
                </a:lnTo>
                <a:lnTo>
                  <a:pt x="631" y="380"/>
                </a:lnTo>
                <a:lnTo>
                  <a:pt x="543" y="380"/>
                </a:lnTo>
                <a:lnTo>
                  <a:pt x="461" y="380"/>
                </a:lnTo>
                <a:lnTo>
                  <a:pt x="388" y="380"/>
                </a:lnTo>
                <a:lnTo>
                  <a:pt x="324" y="380"/>
                </a:lnTo>
                <a:lnTo>
                  <a:pt x="270" y="380"/>
                </a:lnTo>
                <a:lnTo>
                  <a:pt x="229" y="380"/>
                </a:lnTo>
                <a:lnTo>
                  <a:pt x="197" y="380"/>
                </a:lnTo>
                <a:lnTo>
                  <a:pt x="153" y="378"/>
                </a:lnTo>
                <a:lnTo>
                  <a:pt x="115" y="377"/>
                </a:lnTo>
                <a:lnTo>
                  <a:pt x="84" y="372"/>
                </a:lnTo>
                <a:lnTo>
                  <a:pt x="58" y="367"/>
                </a:lnTo>
                <a:lnTo>
                  <a:pt x="38" y="361"/>
                </a:lnTo>
                <a:lnTo>
                  <a:pt x="22" y="353"/>
                </a:lnTo>
                <a:lnTo>
                  <a:pt x="11" y="345"/>
                </a:lnTo>
                <a:lnTo>
                  <a:pt x="5" y="335"/>
                </a:lnTo>
                <a:lnTo>
                  <a:pt x="2" y="327"/>
                </a:lnTo>
                <a:lnTo>
                  <a:pt x="0" y="317"/>
                </a:lnTo>
                <a:lnTo>
                  <a:pt x="0" y="307"/>
                </a:lnTo>
                <a:lnTo>
                  <a:pt x="2" y="299"/>
                </a:lnTo>
                <a:lnTo>
                  <a:pt x="3" y="291"/>
                </a:lnTo>
                <a:lnTo>
                  <a:pt x="6" y="283"/>
                </a:lnTo>
                <a:lnTo>
                  <a:pt x="9" y="275"/>
                </a:lnTo>
                <a:lnTo>
                  <a:pt x="11" y="270"/>
                </a:lnTo>
                <a:lnTo>
                  <a:pt x="14" y="262"/>
                </a:lnTo>
                <a:lnTo>
                  <a:pt x="19" y="252"/>
                </a:lnTo>
                <a:lnTo>
                  <a:pt x="25" y="241"/>
                </a:lnTo>
                <a:lnTo>
                  <a:pt x="33" y="228"/>
                </a:lnTo>
                <a:lnTo>
                  <a:pt x="43" y="212"/>
                </a:lnTo>
                <a:lnTo>
                  <a:pt x="54" y="196"/>
                </a:lnTo>
                <a:lnTo>
                  <a:pt x="66" y="180"/>
                </a:lnTo>
                <a:lnTo>
                  <a:pt x="79" y="162"/>
                </a:lnTo>
                <a:lnTo>
                  <a:pt x="93" y="146"/>
                </a:lnTo>
                <a:lnTo>
                  <a:pt x="109" y="131"/>
                </a:lnTo>
                <a:lnTo>
                  <a:pt x="125" y="115"/>
                </a:lnTo>
                <a:lnTo>
                  <a:pt x="142" y="102"/>
                </a:lnTo>
                <a:lnTo>
                  <a:pt x="159" y="92"/>
                </a:lnTo>
                <a:lnTo>
                  <a:pt x="177" y="82"/>
                </a:lnTo>
                <a:lnTo>
                  <a:pt x="196" y="78"/>
                </a:lnTo>
                <a:lnTo>
                  <a:pt x="213" y="74"/>
                </a:lnTo>
                <a:lnTo>
                  <a:pt x="242" y="76"/>
                </a:lnTo>
                <a:lnTo>
                  <a:pt x="264" y="79"/>
                </a:lnTo>
                <a:lnTo>
                  <a:pt x="283" y="84"/>
                </a:lnTo>
                <a:lnTo>
                  <a:pt x="298" y="91"/>
                </a:lnTo>
                <a:lnTo>
                  <a:pt x="311" y="99"/>
                </a:lnTo>
                <a:lnTo>
                  <a:pt x="320" y="107"/>
                </a:lnTo>
                <a:lnTo>
                  <a:pt x="327" y="113"/>
                </a:lnTo>
                <a:lnTo>
                  <a:pt x="331" y="118"/>
                </a:lnTo>
                <a:lnTo>
                  <a:pt x="330" y="120"/>
                </a:lnTo>
                <a:lnTo>
                  <a:pt x="333" y="125"/>
                </a:lnTo>
                <a:lnTo>
                  <a:pt x="335" y="128"/>
                </a:lnTo>
                <a:lnTo>
                  <a:pt x="338" y="142"/>
                </a:lnTo>
                <a:lnTo>
                  <a:pt x="339" y="159"/>
                </a:lnTo>
                <a:lnTo>
                  <a:pt x="339" y="173"/>
                </a:lnTo>
                <a:lnTo>
                  <a:pt x="336" y="189"/>
                </a:lnTo>
                <a:lnTo>
                  <a:pt x="331" y="202"/>
                </a:lnTo>
                <a:lnTo>
                  <a:pt x="325" y="215"/>
                </a:lnTo>
                <a:lnTo>
                  <a:pt x="314" y="226"/>
                </a:lnTo>
                <a:lnTo>
                  <a:pt x="301" y="235"/>
                </a:lnTo>
                <a:lnTo>
                  <a:pt x="290" y="239"/>
                </a:lnTo>
                <a:lnTo>
                  <a:pt x="279" y="243"/>
                </a:lnTo>
                <a:lnTo>
                  <a:pt x="268" y="244"/>
                </a:lnTo>
                <a:lnTo>
                  <a:pt x="259" y="244"/>
                </a:lnTo>
                <a:lnTo>
                  <a:pt x="248" y="244"/>
                </a:lnTo>
                <a:lnTo>
                  <a:pt x="238" y="241"/>
                </a:lnTo>
                <a:lnTo>
                  <a:pt x="229" y="236"/>
                </a:lnTo>
                <a:lnTo>
                  <a:pt x="219" y="231"/>
                </a:lnTo>
                <a:lnTo>
                  <a:pt x="213" y="225"/>
                </a:lnTo>
                <a:lnTo>
                  <a:pt x="207" y="217"/>
                </a:lnTo>
                <a:lnTo>
                  <a:pt x="202" y="207"/>
                </a:lnTo>
                <a:lnTo>
                  <a:pt x="199" y="199"/>
                </a:lnTo>
                <a:lnTo>
                  <a:pt x="197" y="188"/>
                </a:lnTo>
                <a:lnTo>
                  <a:pt x="197" y="176"/>
                </a:lnTo>
                <a:lnTo>
                  <a:pt x="200" y="165"/>
                </a:lnTo>
                <a:lnTo>
                  <a:pt x="205" y="154"/>
                </a:lnTo>
                <a:lnTo>
                  <a:pt x="219" y="141"/>
                </a:lnTo>
                <a:lnTo>
                  <a:pt x="234" y="134"/>
                </a:lnTo>
                <a:lnTo>
                  <a:pt x="248" y="134"/>
                </a:lnTo>
                <a:lnTo>
                  <a:pt x="259" y="141"/>
                </a:lnTo>
                <a:lnTo>
                  <a:pt x="268" y="150"/>
                </a:lnTo>
                <a:lnTo>
                  <a:pt x="272" y="163"/>
                </a:lnTo>
                <a:lnTo>
                  <a:pt x="270" y="180"/>
                </a:lnTo>
                <a:lnTo>
                  <a:pt x="262" y="197"/>
                </a:lnTo>
                <a:lnTo>
                  <a:pt x="257" y="199"/>
                </a:lnTo>
                <a:lnTo>
                  <a:pt x="254" y="202"/>
                </a:lnTo>
                <a:lnTo>
                  <a:pt x="253" y="207"/>
                </a:lnTo>
                <a:lnTo>
                  <a:pt x="254" y="210"/>
                </a:lnTo>
                <a:lnTo>
                  <a:pt x="257" y="213"/>
                </a:lnTo>
                <a:lnTo>
                  <a:pt x="260" y="215"/>
                </a:lnTo>
                <a:lnTo>
                  <a:pt x="265" y="213"/>
                </a:lnTo>
                <a:lnTo>
                  <a:pt x="272" y="207"/>
                </a:lnTo>
                <a:lnTo>
                  <a:pt x="273" y="199"/>
                </a:lnTo>
                <a:lnTo>
                  <a:pt x="276" y="191"/>
                </a:lnTo>
                <a:lnTo>
                  <a:pt x="279" y="183"/>
                </a:lnTo>
                <a:lnTo>
                  <a:pt x="281" y="175"/>
                </a:lnTo>
                <a:lnTo>
                  <a:pt x="281" y="168"/>
                </a:lnTo>
                <a:lnTo>
                  <a:pt x="281" y="160"/>
                </a:lnTo>
                <a:lnTo>
                  <a:pt x="279" y="152"/>
                </a:lnTo>
                <a:lnTo>
                  <a:pt x="275" y="142"/>
                </a:lnTo>
                <a:lnTo>
                  <a:pt x="265" y="133"/>
                </a:lnTo>
                <a:lnTo>
                  <a:pt x="256" y="128"/>
                </a:lnTo>
                <a:lnTo>
                  <a:pt x="246" y="125"/>
                </a:lnTo>
                <a:lnTo>
                  <a:pt x="235" y="125"/>
                </a:lnTo>
                <a:lnTo>
                  <a:pt x="226" y="126"/>
                </a:lnTo>
                <a:lnTo>
                  <a:pt x="216" y="131"/>
                </a:lnTo>
                <a:lnTo>
                  <a:pt x="207" y="137"/>
                </a:lnTo>
                <a:lnTo>
                  <a:pt x="197" y="147"/>
                </a:lnTo>
                <a:lnTo>
                  <a:pt x="189" y="168"/>
                </a:lnTo>
                <a:lnTo>
                  <a:pt x="188" y="188"/>
                </a:lnTo>
                <a:lnTo>
                  <a:pt x="191" y="205"/>
                </a:lnTo>
                <a:lnTo>
                  <a:pt x="199" y="222"/>
                </a:lnTo>
                <a:lnTo>
                  <a:pt x="210" y="236"/>
                </a:lnTo>
                <a:lnTo>
                  <a:pt x="226" y="246"/>
                </a:lnTo>
                <a:lnTo>
                  <a:pt x="245" y="254"/>
                </a:lnTo>
                <a:lnTo>
                  <a:pt x="265" y="256"/>
                </a:lnTo>
                <a:lnTo>
                  <a:pt x="287" y="251"/>
                </a:lnTo>
                <a:lnTo>
                  <a:pt x="306" y="243"/>
                </a:lnTo>
                <a:lnTo>
                  <a:pt x="322" y="231"/>
                </a:lnTo>
                <a:lnTo>
                  <a:pt x="335" y="218"/>
                </a:lnTo>
                <a:lnTo>
                  <a:pt x="343" y="201"/>
                </a:lnTo>
                <a:lnTo>
                  <a:pt x="349" y="183"/>
                </a:lnTo>
                <a:lnTo>
                  <a:pt x="350" y="160"/>
                </a:lnTo>
                <a:lnTo>
                  <a:pt x="349" y="136"/>
                </a:lnTo>
                <a:lnTo>
                  <a:pt x="347" y="131"/>
                </a:lnTo>
                <a:lnTo>
                  <a:pt x="346" y="126"/>
                </a:lnTo>
                <a:lnTo>
                  <a:pt x="344" y="121"/>
                </a:lnTo>
                <a:lnTo>
                  <a:pt x="343" y="116"/>
                </a:lnTo>
                <a:lnTo>
                  <a:pt x="349" y="112"/>
                </a:lnTo>
                <a:lnTo>
                  <a:pt x="355" y="107"/>
                </a:lnTo>
                <a:lnTo>
                  <a:pt x="363" y="102"/>
                </a:lnTo>
                <a:lnTo>
                  <a:pt x="371" y="97"/>
                </a:lnTo>
                <a:lnTo>
                  <a:pt x="379" y="92"/>
                </a:lnTo>
                <a:lnTo>
                  <a:pt x="387" y="89"/>
                </a:lnTo>
                <a:lnTo>
                  <a:pt x="396" y="86"/>
                </a:lnTo>
                <a:lnTo>
                  <a:pt x="404" y="82"/>
                </a:lnTo>
                <a:lnTo>
                  <a:pt x="414" y="79"/>
                </a:lnTo>
                <a:lnTo>
                  <a:pt x="423" y="78"/>
                </a:lnTo>
                <a:lnTo>
                  <a:pt x="433" y="76"/>
                </a:lnTo>
                <a:lnTo>
                  <a:pt x="442" y="74"/>
                </a:lnTo>
                <a:lnTo>
                  <a:pt x="451" y="73"/>
                </a:lnTo>
                <a:lnTo>
                  <a:pt x="463" y="71"/>
                </a:lnTo>
                <a:lnTo>
                  <a:pt x="472" y="71"/>
                </a:lnTo>
                <a:lnTo>
                  <a:pt x="481" y="71"/>
                </a:lnTo>
                <a:lnTo>
                  <a:pt x="497" y="73"/>
                </a:lnTo>
                <a:lnTo>
                  <a:pt x="511" y="74"/>
                </a:lnTo>
                <a:lnTo>
                  <a:pt x="526" y="76"/>
                </a:lnTo>
                <a:lnTo>
                  <a:pt x="541" y="79"/>
                </a:lnTo>
                <a:lnTo>
                  <a:pt x="554" y="84"/>
                </a:lnTo>
                <a:lnTo>
                  <a:pt x="568" y="87"/>
                </a:lnTo>
                <a:lnTo>
                  <a:pt x="581" y="92"/>
                </a:lnTo>
                <a:lnTo>
                  <a:pt x="594" y="97"/>
                </a:lnTo>
                <a:lnTo>
                  <a:pt x="581" y="104"/>
                </a:lnTo>
                <a:lnTo>
                  <a:pt x="570" y="113"/>
                </a:lnTo>
                <a:lnTo>
                  <a:pt x="560" y="121"/>
                </a:lnTo>
                <a:lnTo>
                  <a:pt x="552" y="133"/>
                </a:lnTo>
                <a:lnTo>
                  <a:pt x="545" y="142"/>
                </a:lnTo>
                <a:lnTo>
                  <a:pt x="540" y="154"/>
                </a:lnTo>
                <a:lnTo>
                  <a:pt x="537" y="165"/>
                </a:lnTo>
                <a:lnTo>
                  <a:pt x="537" y="178"/>
                </a:lnTo>
                <a:lnTo>
                  <a:pt x="537" y="189"/>
                </a:lnTo>
                <a:lnTo>
                  <a:pt x="540" y="201"/>
                </a:lnTo>
                <a:lnTo>
                  <a:pt x="545" y="212"/>
                </a:lnTo>
                <a:lnTo>
                  <a:pt x="551" y="223"/>
                </a:lnTo>
                <a:lnTo>
                  <a:pt x="560" y="233"/>
                </a:lnTo>
                <a:lnTo>
                  <a:pt x="570" y="243"/>
                </a:lnTo>
                <a:lnTo>
                  <a:pt x="581" y="252"/>
                </a:lnTo>
                <a:lnTo>
                  <a:pt x="594" y="260"/>
                </a:lnTo>
                <a:lnTo>
                  <a:pt x="608" y="268"/>
                </a:lnTo>
                <a:lnTo>
                  <a:pt x="622" y="275"/>
                </a:lnTo>
                <a:lnTo>
                  <a:pt x="639" y="281"/>
                </a:lnTo>
                <a:lnTo>
                  <a:pt x="657" y="286"/>
                </a:lnTo>
                <a:lnTo>
                  <a:pt x="674" y="290"/>
                </a:lnTo>
                <a:lnTo>
                  <a:pt x="693" y="293"/>
                </a:lnTo>
                <a:lnTo>
                  <a:pt x="713" y="294"/>
                </a:lnTo>
                <a:lnTo>
                  <a:pt x="734" y="296"/>
                </a:lnTo>
                <a:lnTo>
                  <a:pt x="755" y="294"/>
                </a:lnTo>
                <a:lnTo>
                  <a:pt x="778" y="293"/>
                </a:lnTo>
                <a:lnTo>
                  <a:pt x="803" y="290"/>
                </a:lnTo>
                <a:lnTo>
                  <a:pt x="830" y="285"/>
                </a:lnTo>
                <a:lnTo>
                  <a:pt x="859" y="278"/>
                </a:lnTo>
                <a:lnTo>
                  <a:pt x="889" y="270"/>
                </a:lnTo>
                <a:lnTo>
                  <a:pt x="920" y="262"/>
                </a:lnTo>
                <a:lnTo>
                  <a:pt x="952" y="254"/>
                </a:lnTo>
                <a:lnTo>
                  <a:pt x="985" y="244"/>
                </a:lnTo>
                <a:lnTo>
                  <a:pt x="1018" y="233"/>
                </a:lnTo>
                <a:lnTo>
                  <a:pt x="1053" y="222"/>
                </a:lnTo>
                <a:lnTo>
                  <a:pt x="1088" y="210"/>
                </a:lnTo>
                <a:lnTo>
                  <a:pt x="1122" y="199"/>
                </a:lnTo>
                <a:lnTo>
                  <a:pt x="1155" y="186"/>
                </a:lnTo>
                <a:lnTo>
                  <a:pt x="1190" y="173"/>
                </a:lnTo>
                <a:lnTo>
                  <a:pt x="1225" y="162"/>
                </a:lnTo>
                <a:lnTo>
                  <a:pt x="1258" y="149"/>
                </a:lnTo>
                <a:lnTo>
                  <a:pt x="1291" y="136"/>
                </a:lnTo>
                <a:lnTo>
                  <a:pt x="1323" y="125"/>
                </a:lnTo>
                <a:lnTo>
                  <a:pt x="1353" y="112"/>
                </a:lnTo>
                <a:lnTo>
                  <a:pt x="1381" y="100"/>
                </a:lnTo>
                <a:lnTo>
                  <a:pt x="1410" y="89"/>
                </a:lnTo>
                <a:lnTo>
                  <a:pt x="1435" y="79"/>
                </a:lnTo>
                <a:lnTo>
                  <a:pt x="1459" y="70"/>
                </a:lnTo>
                <a:lnTo>
                  <a:pt x="1481" y="60"/>
                </a:lnTo>
                <a:lnTo>
                  <a:pt x="1501" y="52"/>
                </a:lnTo>
                <a:lnTo>
                  <a:pt x="1517" y="45"/>
                </a:lnTo>
                <a:lnTo>
                  <a:pt x="1531" y="39"/>
                </a:lnTo>
                <a:lnTo>
                  <a:pt x="1544" y="34"/>
                </a:lnTo>
                <a:lnTo>
                  <a:pt x="1552" y="31"/>
                </a:lnTo>
                <a:lnTo>
                  <a:pt x="1558" y="29"/>
                </a:lnTo>
                <a:lnTo>
                  <a:pt x="1560" y="27"/>
                </a:lnTo>
                <a:lnTo>
                  <a:pt x="1567" y="26"/>
                </a:lnTo>
                <a:lnTo>
                  <a:pt x="1577" y="23"/>
                </a:lnTo>
                <a:lnTo>
                  <a:pt x="1586" y="21"/>
                </a:lnTo>
                <a:lnTo>
                  <a:pt x="1596" y="19"/>
                </a:lnTo>
                <a:lnTo>
                  <a:pt x="1605" y="18"/>
                </a:lnTo>
                <a:lnTo>
                  <a:pt x="1616" y="16"/>
                </a:lnTo>
                <a:lnTo>
                  <a:pt x="1624" y="15"/>
                </a:lnTo>
                <a:lnTo>
                  <a:pt x="1634" y="13"/>
                </a:lnTo>
                <a:lnTo>
                  <a:pt x="1645" y="13"/>
                </a:lnTo>
                <a:lnTo>
                  <a:pt x="1656" y="11"/>
                </a:lnTo>
                <a:lnTo>
                  <a:pt x="1665" y="13"/>
                </a:lnTo>
                <a:lnTo>
                  <a:pt x="1676" y="15"/>
                </a:lnTo>
                <a:lnTo>
                  <a:pt x="1687" y="16"/>
                </a:lnTo>
                <a:lnTo>
                  <a:pt x="1697" y="19"/>
                </a:lnTo>
                <a:lnTo>
                  <a:pt x="1708" y="24"/>
                </a:lnTo>
                <a:lnTo>
                  <a:pt x="1717" y="27"/>
                </a:lnTo>
                <a:lnTo>
                  <a:pt x="1727" y="34"/>
                </a:lnTo>
                <a:lnTo>
                  <a:pt x="1735" y="39"/>
                </a:lnTo>
                <a:lnTo>
                  <a:pt x="1744" y="45"/>
                </a:lnTo>
                <a:lnTo>
                  <a:pt x="1752" y="52"/>
                </a:lnTo>
                <a:lnTo>
                  <a:pt x="1760" y="60"/>
                </a:lnTo>
                <a:lnTo>
                  <a:pt x="1768" y="66"/>
                </a:lnTo>
                <a:lnTo>
                  <a:pt x="1774" y="74"/>
                </a:lnTo>
                <a:lnTo>
                  <a:pt x="1781" y="82"/>
                </a:lnTo>
                <a:lnTo>
                  <a:pt x="1785" y="73"/>
                </a:lnTo>
                <a:lnTo>
                  <a:pt x="1793" y="63"/>
                </a:lnTo>
                <a:lnTo>
                  <a:pt x="1803" y="55"/>
                </a:lnTo>
                <a:lnTo>
                  <a:pt x="1814" y="47"/>
                </a:lnTo>
                <a:lnTo>
                  <a:pt x="1828" y="42"/>
                </a:lnTo>
                <a:lnTo>
                  <a:pt x="1842" y="37"/>
                </a:lnTo>
                <a:lnTo>
                  <a:pt x="1858" y="34"/>
                </a:lnTo>
                <a:lnTo>
                  <a:pt x="1875" y="32"/>
                </a:lnTo>
                <a:lnTo>
                  <a:pt x="1889" y="34"/>
                </a:lnTo>
                <a:lnTo>
                  <a:pt x="1904" y="36"/>
                </a:lnTo>
                <a:lnTo>
                  <a:pt x="1918" y="39"/>
                </a:lnTo>
                <a:lnTo>
                  <a:pt x="1929" y="44"/>
                </a:lnTo>
                <a:lnTo>
                  <a:pt x="1940" y="50"/>
                </a:lnTo>
                <a:lnTo>
                  <a:pt x="1951" y="57"/>
                </a:lnTo>
                <a:lnTo>
                  <a:pt x="1959" y="65"/>
                </a:lnTo>
                <a:lnTo>
                  <a:pt x="1965" y="73"/>
                </a:lnTo>
                <a:lnTo>
                  <a:pt x="1948" y="81"/>
                </a:lnTo>
                <a:lnTo>
                  <a:pt x="1931" y="91"/>
                </a:lnTo>
                <a:lnTo>
                  <a:pt x="1916" y="100"/>
                </a:lnTo>
                <a:lnTo>
                  <a:pt x="1902" y="110"/>
                </a:lnTo>
                <a:lnTo>
                  <a:pt x="1893" y="123"/>
                </a:lnTo>
                <a:lnTo>
                  <a:pt x="1885" y="134"/>
                </a:lnTo>
                <a:lnTo>
                  <a:pt x="1878" y="147"/>
                </a:lnTo>
                <a:lnTo>
                  <a:pt x="1877" y="160"/>
                </a:lnTo>
                <a:lnTo>
                  <a:pt x="1878" y="170"/>
                </a:lnTo>
                <a:lnTo>
                  <a:pt x="1880" y="178"/>
                </a:lnTo>
                <a:lnTo>
                  <a:pt x="1885" y="188"/>
                </a:lnTo>
                <a:lnTo>
                  <a:pt x="1889" y="196"/>
                </a:lnTo>
                <a:lnTo>
                  <a:pt x="1897" y="205"/>
                </a:lnTo>
                <a:lnTo>
                  <a:pt x="1905" y="213"/>
                </a:lnTo>
                <a:lnTo>
                  <a:pt x="1915" y="220"/>
                </a:lnTo>
                <a:lnTo>
                  <a:pt x="1926" y="228"/>
                </a:lnTo>
                <a:lnTo>
                  <a:pt x="1937" y="235"/>
                </a:lnTo>
                <a:lnTo>
                  <a:pt x="1949" y="239"/>
                </a:lnTo>
                <a:lnTo>
                  <a:pt x="1964" y="244"/>
                </a:lnTo>
                <a:lnTo>
                  <a:pt x="1978" y="249"/>
                </a:lnTo>
                <a:lnTo>
                  <a:pt x="1992" y="252"/>
                </a:lnTo>
                <a:lnTo>
                  <a:pt x="2008" y="254"/>
                </a:lnTo>
                <a:lnTo>
                  <a:pt x="2025" y="256"/>
                </a:lnTo>
                <a:lnTo>
                  <a:pt x="2041" y="257"/>
                </a:lnTo>
                <a:lnTo>
                  <a:pt x="2058" y="256"/>
                </a:lnTo>
                <a:lnTo>
                  <a:pt x="2074" y="254"/>
                </a:lnTo>
                <a:lnTo>
                  <a:pt x="2092" y="252"/>
                </a:lnTo>
                <a:lnTo>
                  <a:pt x="2106" y="249"/>
                </a:lnTo>
                <a:lnTo>
                  <a:pt x="2122" y="244"/>
                </a:lnTo>
                <a:lnTo>
                  <a:pt x="2136" y="239"/>
                </a:lnTo>
                <a:lnTo>
                  <a:pt x="2148" y="235"/>
                </a:lnTo>
                <a:lnTo>
                  <a:pt x="2161" y="228"/>
                </a:lnTo>
                <a:lnTo>
                  <a:pt x="2172" y="220"/>
                </a:lnTo>
                <a:lnTo>
                  <a:pt x="2182" y="213"/>
                </a:lnTo>
                <a:lnTo>
                  <a:pt x="2189" y="205"/>
                </a:lnTo>
                <a:lnTo>
                  <a:pt x="2197" y="196"/>
                </a:lnTo>
                <a:lnTo>
                  <a:pt x="2202" y="188"/>
                </a:lnTo>
                <a:lnTo>
                  <a:pt x="2205" y="178"/>
                </a:lnTo>
                <a:lnTo>
                  <a:pt x="2207" y="170"/>
                </a:lnTo>
                <a:lnTo>
                  <a:pt x="2205" y="160"/>
                </a:lnTo>
                <a:lnTo>
                  <a:pt x="2204" y="149"/>
                </a:lnTo>
                <a:lnTo>
                  <a:pt x="2199" y="139"/>
                </a:lnTo>
                <a:lnTo>
                  <a:pt x="2193" y="129"/>
                </a:lnTo>
                <a:lnTo>
                  <a:pt x="2186" y="120"/>
                </a:lnTo>
                <a:lnTo>
                  <a:pt x="2177" y="112"/>
                </a:lnTo>
                <a:lnTo>
                  <a:pt x="2167" y="102"/>
                </a:lnTo>
                <a:lnTo>
                  <a:pt x="2156" y="94"/>
                </a:lnTo>
                <a:lnTo>
                  <a:pt x="2145" y="86"/>
                </a:lnTo>
                <a:lnTo>
                  <a:pt x="2155" y="76"/>
                </a:lnTo>
                <a:lnTo>
                  <a:pt x="2164" y="68"/>
                </a:lnTo>
                <a:lnTo>
                  <a:pt x="2175" y="60"/>
                </a:lnTo>
                <a:lnTo>
                  <a:pt x="2185" y="52"/>
                </a:lnTo>
                <a:lnTo>
                  <a:pt x="2197" y="45"/>
                </a:lnTo>
                <a:lnTo>
                  <a:pt x="2208" y="39"/>
                </a:lnTo>
                <a:lnTo>
                  <a:pt x="2221" y="32"/>
                </a:lnTo>
                <a:lnTo>
                  <a:pt x="2234" y="27"/>
                </a:lnTo>
                <a:lnTo>
                  <a:pt x="2246" y="23"/>
                </a:lnTo>
                <a:lnTo>
                  <a:pt x="2260" y="18"/>
                </a:lnTo>
                <a:lnTo>
                  <a:pt x="2275" y="15"/>
                </a:lnTo>
                <a:lnTo>
                  <a:pt x="2289" y="11"/>
                </a:lnTo>
                <a:lnTo>
                  <a:pt x="2301" y="10"/>
                </a:lnTo>
                <a:lnTo>
                  <a:pt x="2317" y="8"/>
                </a:lnTo>
                <a:lnTo>
                  <a:pt x="2331" y="6"/>
                </a:lnTo>
                <a:lnTo>
                  <a:pt x="2347" y="6"/>
                </a:lnTo>
                <a:lnTo>
                  <a:pt x="2361" y="6"/>
                </a:lnTo>
                <a:lnTo>
                  <a:pt x="2376" y="8"/>
                </a:lnTo>
                <a:lnTo>
                  <a:pt x="2388" y="8"/>
                </a:lnTo>
                <a:lnTo>
                  <a:pt x="2402" y="11"/>
                </a:lnTo>
                <a:lnTo>
                  <a:pt x="2415" y="13"/>
                </a:lnTo>
                <a:lnTo>
                  <a:pt x="2429" y="16"/>
                </a:lnTo>
                <a:lnTo>
                  <a:pt x="2442" y="21"/>
                </a:lnTo>
                <a:lnTo>
                  <a:pt x="2455" y="24"/>
                </a:lnTo>
                <a:lnTo>
                  <a:pt x="2466" y="29"/>
                </a:lnTo>
                <a:lnTo>
                  <a:pt x="2478" y="34"/>
                </a:lnTo>
                <a:lnTo>
                  <a:pt x="2489" y="40"/>
                </a:lnTo>
                <a:lnTo>
                  <a:pt x="2500" y="45"/>
                </a:lnTo>
                <a:lnTo>
                  <a:pt x="2510" y="52"/>
                </a:lnTo>
                <a:lnTo>
                  <a:pt x="2521" y="58"/>
                </a:lnTo>
                <a:lnTo>
                  <a:pt x="2530" y="66"/>
                </a:lnTo>
                <a:lnTo>
                  <a:pt x="2540" y="73"/>
                </a:lnTo>
                <a:lnTo>
                  <a:pt x="2535" y="82"/>
                </a:lnTo>
                <a:lnTo>
                  <a:pt x="2530" y="94"/>
                </a:lnTo>
                <a:lnTo>
                  <a:pt x="2526" y="104"/>
                </a:lnTo>
                <a:lnTo>
                  <a:pt x="2522" y="115"/>
                </a:lnTo>
                <a:lnTo>
                  <a:pt x="2521" y="128"/>
                </a:lnTo>
                <a:lnTo>
                  <a:pt x="2518" y="139"/>
                </a:lnTo>
                <a:lnTo>
                  <a:pt x="2518" y="150"/>
                </a:lnTo>
                <a:lnTo>
                  <a:pt x="2516" y="162"/>
                </a:lnTo>
                <a:lnTo>
                  <a:pt x="2518" y="180"/>
                </a:lnTo>
                <a:lnTo>
                  <a:pt x="2521" y="196"/>
                </a:lnTo>
                <a:lnTo>
                  <a:pt x="2524" y="212"/>
                </a:lnTo>
                <a:lnTo>
                  <a:pt x="2530" y="226"/>
                </a:lnTo>
                <a:lnTo>
                  <a:pt x="2538" y="239"/>
                </a:lnTo>
                <a:lnTo>
                  <a:pt x="2548" y="251"/>
                </a:lnTo>
                <a:lnTo>
                  <a:pt x="2557" y="262"/>
                </a:lnTo>
                <a:lnTo>
                  <a:pt x="2568" y="272"/>
                </a:lnTo>
                <a:lnTo>
                  <a:pt x="2581" y="280"/>
                </a:lnTo>
                <a:lnTo>
                  <a:pt x="2593" y="285"/>
                </a:lnTo>
                <a:lnTo>
                  <a:pt x="2608" y="290"/>
                </a:lnTo>
                <a:lnTo>
                  <a:pt x="2623" y="293"/>
                </a:lnTo>
                <a:lnTo>
                  <a:pt x="2638" y="293"/>
                </a:lnTo>
                <a:lnTo>
                  <a:pt x="2655" y="293"/>
                </a:lnTo>
                <a:lnTo>
                  <a:pt x="2671" y="290"/>
                </a:lnTo>
                <a:lnTo>
                  <a:pt x="2687" y="283"/>
                </a:lnTo>
                <a:lnTo>
                  <a:pt x="2699" y="278"/>
                </a:lnTo>
                <a:lnTo>
                  <a:pt x="2710" y="273"/>
                </a:lnTo>
                <a:lnTo>
                  <a:pt x="2721" y="265"/>
                </a:lnTo>
                <a:lnTo>
                  <a:pt x="2729" y="259"/>
                </a:lnTo>
                <a:lnTo>
                  <a:pt x="2739" y="249"/>
                </a:lnTo>
                <a:lnTo>
                  <a:pt x="2745" y="241"/>
                </a:lnTo>
                <a:lnTo>
                  <a:pt x="2751" y="231"/>
                </a:lnTo>
                <a:lnTo>
                  <a:pt x="2756" y="220"/>
                </a:lnTo>
                <a:lnTo>
                  <a:pt x="2759" y="210"/>
                </a:lnTo>
                <a:lnTo>
                  <a:pt x="2761" y="199"/>
                </a:lnTo>
                <a:lnTo>
                  <a:pt x="2761" y="188"/>
                </a:lnTo>
                <a:lnTo>
                  <a:pt x="2761" y="176"/>
                </a:lnTo>
                <a:lnTo>
                  <a:pt x="2758" y="165"/>
                </a:lnTo>
                <a:lnTo>
                  <a:pt x="2753" y="154"/>
                </a:lnTo>
                <a:lnTo>
                  <a:pt x="2747" y="142"/>
                </a:lnTo>
                <a:lnTo>
                  <a:pt x="2737" y="131"/>
                </a:lnTo>
                <a:lnTo>
                  <a:pt x="2729" y="123"/>
                </a:lnTo>
                <a:lnTo>
                  <a:pt x="2721" y="116"/>
                </a:lnTo>
                <a:lnTo>
                  <a:pt x="2713" y="112"/>
                </a:lnTo>
                <a:lnTo>
                  <a:pt x="2704" y="107"/>
                </a:lnTo>
                <a:lnTo>
                  <a:pt x="2695" y="104"/>
                </a:lnTo>
                <a:lnTo>
                  <a:pt x="2685" y="102"/>
                </a:lnTo>
                <a:lnTo>
                  <a:pt x="2676" y="100"/>
                </a:lnTo>
                <a:lnTo>
                  <a:pt x="2666" y="102"/>
                </a:lnTo>
                <a:lnTo>
                  <a:pt x="2657" y="102"/>
                </a:lnTo>
                <a:lnTo>
                  <a:pt x="2647" y="105"/>
                </a:lnTo>
                <a:lnTo>
                  <a:pt x="2639" y="108"/>
                </a:lnTo>
                <a:lnTo>
                  <a:pt x="2630" y="113"/>
                </a:lnTo>
                <a:lnTo>
                  <a:pt x="2623" y="120"/>
                </a:lnTo>
                <a:lnTo>
                  <a:pt x="2616" y="126"/>
                </a:lnTo>
                <a:lnTo>
                  <a:pt x="2609" y="136"/>
                </a:lnTo>
                <a:lnTo>
                  <a:pt x="2605" y="146"/>
                </a:lnTo>
                <a:lnTo>
                  <a:pt x="2601" y="155"/>
                </a:lnTo>
                <a:lnTo>
                  <a:pt x="2600" y="165"/>
                </a:lnTo>
                <a:lnTo>
                  <a:pt x="2598" y="173"/>
                </a:lnTo>
                <a:lnTo>
                  <a:pt x="2598" y="183"/>
                </a:lnTo>
                <a:lnTo>
                  <a:pt x="2600" y="191"/>
                </a:lnTo>
                <a:lnTo>
                  <a:pt x="2601" y="199"/>
                </a:lnTo>
                <a:lnTo>
                  <a:pt x="2605" y="205"/>
                </a:lnTo>
                <a:lnTo>
                  <a:pt x="2608" y="210"/>
                </a:lnTo>
                <a:lnTo>
                  <a:pt x="2614" y="218"/>
                </a:lnTo>
                <a:lnTo>
                  <a:pt x="2620" y="220"/>
                </a:lnTo>
                <a:lnTo>
                  <a:pt x="2625" y="218"/>
                </a:lnTo>
                <a:lnTo>
                  <a:pt x="2630" y="213"/>
                </a:lnTo>
                <a:lnTo>
                  <a:pt x="2630" y="209"/>
                </a:lnTo>
                <a:lnTo>
                  <a:pt x="2630" y="202"/>
                </a:lnTo>
                <a:lnTo>
                  <a:pt x="2625" y="199"/>
                </a:lnTo>
                <a:lnTo>
                  <a:pt x="2617" y="201"/>
                </a:lnTo>
                <a:lnTo>
                  <a:pt x="2614" y="196"/>
                </a:lnTo>
                <a:lnTo>
                  <a:pt x="2612" y="191"/>
                </a:lnTo>
                <a:lnTo>
                  <a:pt x="2611" y="173"/>
                </a:lnTo>
                <a:lnTo>
                  <a:pt x="2612" y="157"/>
                </a:lnTo>
                <a:lnTo>
                  <a:pt x="2617" y="142"/>
                </a:lnTo>
                <a:lnTo>
                  <a:pt x="2625" y="131"/>
                </a:lnTo>
                <a:lnTo>
                  <a:pt x="2636" y="121"/>
                </a:lnTo>
                <a:lnTo>
                  <a:pt x="2649" y="115"/>
                </a:lnTo>
                <a:lnTo>
                  <a:pt x="2665" y="112"/>
                </a:lnTo>
                <a:lnTo>
                  <a:pt x="2682" y="112"/>
                </a:lnTo>
                <a:lnTo>
                  <a:pt x="2695" y="115"/>
                </a:lnTo>
                <a:lnTo>
                  <a:pt x="2704" y="120"/>
                </a:lnTo>
                <a:lnTo>
                  <a:pt x="2713" y="125"/>
                </a:lnTo>
                <a:lnTo>
                  <a:pt x="2723" y="131"/>
                </a:lnTo>
                <a:lnTo>
                  <a:pt x="2731" y="139"/>
                </a:lnTo>
                <a:lnTo>
                  <a:pt x="2737" y="147"/>
                </a:lnTo>
                <a:lnTo>
                  <a:pt x="2742" y="155"/>
                </a:lnTo>
                <a:lnTo>
                  <a:pt x="2747" y="165"/>
                </a:lnTo>
                <a:lnTo>
                  <a:pt x="2750" y="175"/>
                </a:lnTo>
                <a:lnTo>
                  <a:pt x="2751" y="186"/>
                </a:lnTo>
                <a:lnTo>
                  <a:pt x="2751" y="196"/>
                </a:lnTo>
                <a:lnTo>
                  <a:pt x="2750" y="207"/>
                </a:lnTo>
                <a:lnTo>
                  <a:pt x="2747" y="217"/>
                </a:lnTo>
                <a:lnTo>
                  <a:pt x="2742" y="228"/>
                </a:lnTo>
                <a:lnTo>
                  <a:pt x="2737" y="238"/>
                </a:lnTo>
                <a:lnTo>
                  <a:pt x="2729" y="247"/>
                </a:lnTo>
                <a:lnTo>
                  <a:pt x="2715" y="259"/>
                </a:lnTo>
                <a:lnTo>
                  <a:pt x="2699" y="268"/>
                </a:lnTo>
                <a:lnTo>
                  <a:pt x="2683" y="275"/>
                </a:lnTo>
                <a:lnTo>
                  <a:pt x="2668" y="280"/>
                </a:lnTo>
                <a:lnTo>
                  <a:pt x="2652" y="283"/>
                </a:lnTo>
                <a:lnTo>
                  <a:pt x="2636" y="283"/>
                </a:lnTo>
                <a:lnTo>
                  <a:pt x="2620" y="281"/>
                </a:lnTo>
                <a:lnTo>
                  <a:pt x="2606" y="278"/>
                </a:lnTo>
                <a:lnTo>
                  <a:pt x="2592" y="273"/>
                </a:lnTo>
                <a:lnTo>
                  <a:pt x="2578" y="265"/>
                </a:lnTo>
                <a:lnTo>
                  <a:pt x="2565" y="257"/>
                </a:lnTo>
                <a:lnTo>
                  <a:pt x="2554" y="246"/>
                </a:lnTo>
                <a:lnTo>
                  <a:pt x="2545" y="231"/>
                </a:lnTo>
                <a:lnTo>
                  <a:pt x="2537" y="217"/>
                </a:lnTo>
                <a:lnTo>
                  <a:pt x="2530" y="199"/>
                </a:lnTo>
                <a:lnTo>
                  <a:pt x="2527" y="181"/>
                </a:lnTo>
                <a:lnTo>
                  <a:pt x="2526" y="170"/>
                </a:lnTo>
                <a:lnTo>
                  <a:pt x="2527" y="157"/>
                </a:lnTo>
                <a:lnTo>
                  <a:pt x="2527" y="144"/>
                </a:lnTo>
                <a:lnTo>
                  <a:pt x="2530" y="129"/>
                </a:lnTo>
                <a:lnTo>
                  <a:pt x="2534" y="115"/>
                </a:lnTo>
                <a:lnTo>
                  <a:pt x="2537" y="102"/>
                </a:lnTo>
                <a:lnTo>
                  <a:pt x="2541" y="89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56" y="73"/>
                </a:lnTo>
                <a:lnTo>
                  <a:pt x="2564" y="65"/>
                </a:lnTo>
                <a:lnTo>
                  <a:pt x="2571" y="57"/>
                </a:lnTo>
                <a:lnTo>
                  <a:pt x="2579" y="49"/>
                </a:lnTo>
                <a:lnTo>
                  <a:pt x="2589" y="42"/>
                </a:lnTo>
                <a:lnTo>
                  <a:pt x="2598" y="36"/>
                </a:lnTo>
                <a:lnTo>
                  <a:pt x="2608" y="29"/>
                </a:lnTo>
                <a:lnTo>
                  <a:pt x="2617" y="23"/>
                </a:lnTo>
                <a:lnTo>
                  <a:pt x="2628" y="18"/>
                </a:lnTo>
                <a:lnTo>
                  <a:pt x="2639" y="13"/>
                </a:lnTo>
                <a:lnTo>
                  <a:pt x="2649" y="10"/>
                </a:lnTo>
                <a:lnTo>
                  <a:pt x="2660" y="6"/>
                </a:lnTo>
                <a:lnTo>
                  <a:pt x="2672" y="3"/>
                </a:lnTo>
                <a:lnTo>
                  <a:pt x="2683" y="2"/>
                </a:lnTo>
                <a:lnTo>
                  <a:pt x="2695" y="0"/>
                </a:lnTo>
                <a:lnTo>
                  <a:pt x="2707" y="0"/>
                </a:lnTo>
                <a:lnTo>
                  <a:pt x="2728" y="3"/>
                </a:lnTo>
                <a:lnTo>
                  <a:pt x="2747" y="6"/>
                </a:lnTo>
                <a:lnTo>
                  <a:pt x="2766" y="13"/>
                </a:lnTo>
                <a:lnTo>
                  <a:pt x="2781" y="21"/>
                </a:lnTo>
                <a:lnTo>
                  <a:pt x="2796" y="31"/>
                </a:lnTo>
                <a:lnTo>
                  <a:pt x="2808" y="42"/>
                </a:lnTo>
                <a:lnTo>
                  <a:pt x="2819" y="53"/>
                </a:lnTo>
                <a:lnTo>
                  <a:pt x="2830" y="66"/>
                </a:lnTo>
                <a:lnTo>
                  <a:pt x="2840" y="79"/>
                </a:lnTo>
                <a:lnTo>
                  <a:pt x="2848" y="94"/>
                </a:lnTo>
                <a:lnTo>
                  <a:pt x="2854" y="108"/>
                </a:lnTo>
                <a:lnTo>
                  <a:pt x="2860" y="121"/>
                </a:lnTo>
                <a:lnTo>
                  <a:pt x="2867" y="136"/>
                </a:lnTo>
                <a:lnTo>
                  <a:pt x="2871" y="150"/>
                </a:lnTo>
                <a:lnTo>
                  <a:pt x="2876" y="163"/>
                </a:lnTo>
                <a:lnTo>
                  <a:pt x="2879" y="176"/>
                </a:lnTo>
                <a:lnTo>
                  <a:pt x="2884" y="163"/>
                </a:lnTo>
                <a:lnTo>
                  <a:pt x="2887" y="150"/>
                </a:lnTo>
                <a:lnTo>
                  <a:pt x="2890" y="136"/>
                </a:lnTo>
                <a:lnTo>
                  <a:pt x="2895" y="121"/>
                </a:lnTo>
                <a:lnTo>
                  <a:pt x="2900" y="108"/>
                </a:lnTo>
                <a:lnTo>
                  <a:pt x="2906" y="94"/>
                </a:lnTo>
                <a:lnTo>
                  <a:pt x="2914" y="79"/>
                </a:lnTo>
                <a:lnTo>
                  <a:pt x="2922" y="66"/>
                </a:lnTo>
                <a:lnTo>
                  <a:pt x="2931" y="53"/>
                </a:lnTo>
                <a:lnTo>
                  <a:pt x="2942" y="42"/>
                </a:lnTo>
                <a:lnTo>
                  <a:pt x="2955" y="31"/>
                </a:lnTo>
                <a:lnTo>
                  <a:pt x="2971" y="21"/>
                </a:lnTo>
                <a:lnTo>
                  <a:pt x="2988" y="13"/>
                </a:lnTo>
                <a:lnTo>
                  <a:pt x="3007" y="6"/>
                </a:lnTo>
                <a:lnTo>
                  <a:pt x="3028" y="2"/>
                </a:lnTo>
                <a:lnTo>
                  <a:pt x="3053" y="0"/>
                </a:lnTo>
                <a:lnTo>
                  <a:pt x="3064" y="0"/>
                </a:lnTo>
                <a:lnTo>
                  <a:pt x="3077" y="2"/>
                </a:lnTo>
                <a:lnTo>
                  <a:pt x="3088" y="3"/>
                </a:lnTo>
                <a:lnTo>
                  <a:pt x="3099" y="5"/>
                </a:lnTo>
                <a:lnTo>
                  <a:pt x="3110" y="8"/>
                </a:lnTo>
                <a:lnTo>
                  <a:pt x="3121" y="13"/>
                </a:lnTo>
                <a:lnTo>
                  <a:pt x="3130" y="18"/>
                </a:lnTo>
                <a:lnTo>
                  <a:pt x="3141" y="23"/>
                </a:lnTo>
                <a:lnTo>
                  <a:pt x="3151" y="29"/>
                </a:lnTo>
                <a:lnTo>
                  <a:pt x="3160" y="34"/>
                </a:lnTo>
                <a:lnTo>
                  <a:pt x="3170" y="42"/>
                </a:lnTo>
                <a:lnTo>
                  <a:pt x="3179" y="49"/>
                </a:lnTo>
                <a:lnTo>
                  <a:pt x="3187" y="57"/>
                </a:lnTo>
                <a:lnTo>
                  <a:pt x="3195" y="65"/>
                </a:lnTo>
                <a:lnTo>
                  <a:pt x="3203" y="73"/>
                </a:lnTo>
                <a:lnTo>
                  <a:pt x="3211" y="81"/>
                </a:lnTo>
                <a:lnTo>
                  <a:pt x="3211" y="81"/>
                </a:lnTo>
                <a:lnTo>
                  <a:pt x="3211" y="81"/>
                </a:lnTo>
                <a:lnTo>
                  <a:pt x="3211" y="81"/>
                </a:lnTo>
                <a:lnTo>
                  <a:pt x="3212" y="81"/>
                </a:lnTo>
                <a:lnTo>
                  <a:pt x="3217" y="89"/>
                </a:lnTo>
                <a:lnTo>
                  <a:pt x="3222" y="100"/>
                </a:lnTo>
                <a:lnTo>
                  <a:pt x="3226" y="115"/>
                </a:lnTo>
                <a:lnTo>
                  <a:pt x="3230" y="128"/>
                </a:lnTo>
                <a:lnTo>
                  <a:pt x="3231" y="142"/>
                </a:lnTo>
                <a:lnTo>
                  <a:pt x="3231" y="157"/>
                </a:lnTo>
                <a:lnTo>
                  <a:pt x="3233" y="170"/>
                </a:lnTo>
                <a:lnTo>
                  <a:pt x="3231" y="181"/>
                </a:lnTo>
                <a:lnTo>
                  <a:pt x="3228" y="199"/>
                </a:lnTo>
                <a:lnTo>
                  <a:pt x="3222" y="217"/>
                </a:lnTo>
                <a:lnTo>
                  <a:pt x="3214" y="231"/>
                </a:lnTo>
                <a:lnTo>
                  <a:pt x="3204" y="246"/>
                </a:lnTo>
                <a:lnTo>
                  <a:pt x="3193" y="257"/>
                </a:lnTo>
                <a:lnTo>
                  <a:pt x="3181" y="265"/>
                </a:lnTo>
                <a:lnTo>
                  <a:pt x="3167" y="273"/>
                </a:lnTo>
                <a:lnTo>
                  <a:pt x="3152" y="278"/>
                </a:lnTo>
                <a:lnTo>
                  <a:pt x="3138" y="281"/>
                </a:lnTo>
                <a:lnTo>
                  <a:pt x="3122" y="283"/>
                </a:lnTo>
                <a:lnTo>
                  <a:pt x="3107" y="283"/>
                </a:lnTo>
                <a:lnTo>
                  <a:pt x="3091" y="280"/>
                </a:lnTo>
                <a:lnTo>
                  <a:pt x="3075" y="275"/>
                </a:lnTo>
                <a:lnTo>
                  <a:pt x="3059" y="268"/>
                </a:lnTo>
                <a:lnTo>
                  <a:pt x="3043" y="259"/>
                </a:lnTo>
                <a:lnTo>
                  <a:pt x="3029" y="247"/>
                </a:lnTo>
                <a:lnTo>
                  <a:pt x="3021" y="238"/>
                </a:lnTo>
                <a:lnTo>
                  <a:pt x="3017" y="228"/>
                </a:lnTo>
                <a:lnTo>
                  <a:pt x="3012" y="217"/>
                </a:lnTo>
                <a:lnTo>
                  <a:pt x="3009" y="207"/>
                </a:lnTo>
                <a:lnTo>
                  <a:pt x="3007" y="196"/>
                </a:lnTo>
                <a:lnTo>
                  <a:pt x="3007" y="186"/>
                </a:lnTo>
                <a:lnTo>
                  <a:pt x="3009" y="175"/>
                </a:lnTo>
                <a:lnTo>
                  <a:pt x="3012" y="165"/>
                </a:lnTo>
                <a:lnTo>
                  <a:pt x="3017" y="155"/>
                </a:lnTo>
                <a:lnTo>
                  <a:pt x="3021" y="147"/>
                </a:lnTo>
                <a:lnTo>
                  <a:pt x="3028" y="139"/>
                </a:lnTo>
                <a:lnTo>
                  <a:pt x="3035" y="131"/>
                </a:lnTo>
                <a:lnTo>
                  <a:pt x="3045" y="125"/>
                </a:lnTo>
                <a:lnTo>
                  <a:pt x="3054" y="120"/>
                </a:lnTo>
                <a:lnTo>
                  <a:pt x="3064" y="115"/>
                </a:lnTo>
                <a:lnTo>
                  <a:pt x="3077" y="112"/>
                </a:lnTo>
                <a:lnTo>
                  <a:pt x="3094" y="112"/>
                </a:lnTo>
                <a:lnTo>
                  <a:pt x="3110" y="115"/>
                </a:lnTo>
                <a:lnTo>
                  <a:pt x="3122" y="121"/>
                </a:lnTo>
                <a:lnTo>
                  <a:pt x="3133" y="131"/>
                </a:lnTo>
                <a:lnTo>
                  <a:pt x="3141" y="142"/>
                </a:lnTo>
                <a:lnTo>
                  <a:pt x="3146" y="157"/>
                </a:lnTo>
                <a:lnTo>
                  <a:pt x="3148" y="173"/>
                </a:lnTo>
                <a:lnTo>
                  <a:pt x="3146" y="191"/>
                </a:lnTo>
                <a:lnTo>
                  <a:pt x="3144" y="196"/>
                </a:lnTo>
                <a:lnTo>
                  <a:pt x="3141" y="201"/>
                </a:lnTo>
                <a:lnTo>
                  <a:pt x="3133" y="199"/>
                </a:lnTo>
                <a:lnTo>
                  <a:pt x="3129" y="202"/>
                </a:lnTo>
                <a:lnTo>
                  <a:pt x="3129" y="209"/>
                </a:lnTo>
                <a:lnTo>
                  <a:pt x="3130" y="213"/>
                </a:lnTo>
                <a:lnTo>
                  <a:pt x="3133" y="218"/>
                </a:lnTo>
                <a:lnTo>
                  <a:pt x="3138" y="220"/>
                </a:lnTo>
                <a:lnTo>
                  <a:pt x="3144" y="218"/>
                </a:lnTo>
                <a:lnTo>
                  <a:pt x="3151" y="210"/>
                </a:lnTo>
                <a:lnTo>
                  <a:pt x="3154" y="205"/>
                </a:lnTo>
                <a:lnTo>
                  <a:pt x="3157" y="199"/>
                </a:lnTo>
                <a:lnTo>
                  <a:pt x="3159" y="191"/>
                </a:lnTo>
                <a:lnTo>
                  <a:pt x="3160" y="183"/>
                </a:lnTo>
                <a:lnTo>
                  <a:pt x="3160" y="173"/>
                </a:lnTo>
                <a:lnTo>
                  <a:pt x="3159" y="165"/>
                </a:lnTo>
                <a:lnTo>
                  <a:pt x="3157" y="155"/>
                </a:lnTo>
                <a:lnTo>
                  <a:pt x="3154" y="146"/>
                </a:lnTo>
                <a:lnTo>
                  <a:pt x="3149" y="136"/>
                </a:lnTo>
                <a:lnTo>
                  <a:pt x="3143" y="126"/>
                </a:lnTo>
                <a:lnTo>
                  <a:pt x="3135" y="120"/>
                </a:lnTo>
                <a:lnTo>
                  <a:pt x="3129" y="113"/>
                </a:lnTo>
                <a:lnTo>
                  <a:pt x="3119" y="108"/>
                </a:lnTo>
                <a:lnTo>
                  <a:pt x="3111" y="105"/>
                </a:lnTo>
                <a:lnTo>
                  <a:pt x="3102" y="102"/>
                </a:lnTo>
                <a:lnTo>
                  <a:pt x="3092" y="102"/>
                </a:lnTo>
                <a:lnTo>
                  <a:pt x="3083" y="100"/>
                </a:lnTo>
                <a:lnTo>
                  <a:pt x="3073" y="102"/>
                </a:lnTo>
                <a:lnTo>
                  <a:pt x="3064" y="104"/>
                </a:lnTo>
                <a:lnTo>
                  <a:pt x="3054" y="107"/>
                </a:lnTo>
                <a:lnTo>
                  <a:pt x="3045" y="112"/>
                </a:lnTo>
                <a:lnTo>
                  <a:pt x="3037" y="116"/>
                </a:lnTo>
                <a:lnTo>
                  <a:pt x="3029" y="123"/>
                </a:lnTo>
                <a:lnTo>
                  <a:pt x="3021" y="131"/>
                </a:lnTo>
                <a:lnTo>
                  <a:pt x="3012" y="142"/>
                </a:lnTo>
                <a:lnTo>
                  <a:pt x="3005" y="154"/>
                </a:lnTo>
                <a:lnTo>
                  <a:pt x="3001" y="165"/>
                </a:lnTo>
                <a:lnTo>
                  <a:pt x="2998" y="176"/>
                </a:lnTo>
                <a:lnTo>
                  <a:pt x="2998" y="188"/>
                </a:lnTo>
                <a:lnTo>
                  <a:pt x="2998" y="199"/>
                </a:lnTo>
                <a:lnTo>
                  <a:pt x="2999" y="210"/>
                </a:lnTo>
                <a:lnTo>
                  <a:pt x="3002" y="220"/>
                </a:lnTo>
                <a:lnTo>
                  <a:pt x="3007" y="231"/>
                </a:lnTo>
                <a:lnTo>
                  <a:pt x="3013" y="241"/>
                </a:lnTo>
                <a:lnTo>
                  <a:pt x="3020" y="249"/>
                </a:lnTo>
                <a:lnTo>
                  <a:pt x="3029" y="259"/>
                </a:lnTo>
                <a:lnTo>
                  <a:pt x="3037" y="265"/>
                </a:lnTo>
                <a:lnTo>
                  <a:pt x="3048" y="273"/>
                </a:lnTo>
                <a:lnTo>
                  <a:pt x="3059" y="278"/>
                </a:lnTo>
                <a:lnTo>
                  <a:pt x="3072" y="283"/>
                </a:lnTo>
                <a:lnTo>
                  <a:pt x="3088" y="290"/>
                </a:lnTo>
                <a:lnTo>
                  <a:pt x="3103" y="293"/>
                </a:lnTo>
                <a:lnTo>
                  <a:pt x="3121" y="293"/>
                </a:lnTo>
                <a:lnTo>
                  <a:pt x="3135" y="293"/>
                </a:lnTo>
                <a:lnTo>
                  <a:pt x="3151" y="290"/>
                </a:lnTo>
                <a:lnTo>
                  <a:pt x="3165" y="285"/>
                </a:lnTo>
                <a:lnTo>
                  <a:pt x="3178" y="280"/>
                </a:lnTo>
                <a:lnTo>
                  <a:pt x="3190" y="272"/>
                </a:lnTo>
                <a:lnTo>
                  <a:pt x="3201" y="262"/>
                </a:lnTo>
                <a:lnTo>
                  <a:pt x="3211" y="251"/>
                </a:lnTo>
                <a:lnTo>
                  <a:pt x="3220" y="239"/>
                </a:lnTo>
                <a:lnTo>
                  <a:pt x="3228" y="226"/>
                </a:lnTo>
                <a:lnTo>
                  <a:pt x="3234" y="212"/>
                </a:lnTo>
                <a:lnTo>
                  <a:pt x="3238" y="196"/>
                </a:lnTo>
                <a:lnTo>
                  <a:pt x="3241" y="180"/>
                </a:lnTo>
                <a:lnTo>
                  <a:pt x="3242" y="162"/>
                </a:lnTo>
                <a:lnTo>
                  <a:pt x="3241" y="150"/>
                </a:lnTo>
                <a:lnTo>
                  <a:pt x="3241" y="139"/>
                </a:lnTo>
                <a:lnTo>
                  <a:pt x="3238" y="128"/>
                </a:lnTo>
                <a:lnTo>
                  <a:pt x="3236" y="115"/>
                </a:lnTo>
                <a:lnTo>
                  <a:pt x="3233" y="104"/>
                </a:lnTo>
                <a:lnTo>
                  <a:pt x="3228" y="94"/>
                </a:lnTo>
                <a:lnTo>
                  <a:pt x="3225" y="82"/>
                </a:lnTo>
                <a:lnTo>
                  <a:pt x="3220" y="73"/>
                </a:lnTo>
                <a:lnTo>
                  <a:pt x="3228" y="66"/>
                </a:lnTo>
                <a:lnTo>
                  <a:pt x="3238" y="58"/>
                </a:lnTo>
                <a:lnTo>
                  <a:pt x="3249" y="52"/>
                </a:lnTo>
                <a:lnTo>
                  <a:pt x="3258" y="45"/>
                </a:lnTo>
                <a:lnTo>
                  <a:pt x="3269" y="39"/>
                </a:lnTo>
                <a:lnTo>
                  <a:pt x="3282" y="34"/>
                </a:lnTo>
                <a:lnTo>
                  <a:pt x="3293" y="29"/>
                </a:lnTo>
                <a:lnTo>
                  <a:pt x="3305" y="24"/>
                </a:lnTo>
                <a:lnTo>
                  <a:pt x="3318" y="19"/>
                </a:lnTo>
                <a:lnTo>
                  <a:pt x="3331" y="16"/>
                </a:lnTo>
                <a:lnTo>
                  <a:pt x="3343" y="13"/>
                </a:lnTo>
                <a:lnTo>
                  <a:pt x="3356" y="11"/>
                </a:lnTo>
                <a:lnTo>
                  <a:pt x="3370" y="8"/>
                </a:lnTo>
                <a:lnTo>
                  <a:pt x="3384" y="6"/>
                </a:lnTo>
                <a:lnTo>
                  <a:pt x="3399" y="6"/>
                </a:lnTo>
                <a:lnTo>
                  <a:pt x="3413" y="6"/>
                </a:lnTo>
                <a:lnTo>
                  <a:pt x="3427" y="6"/>
                </a:lnTo>
                <a:lnTo>
                  <a:pt x="3443" y="8"/>
                </a:lnTo>
                <a:lnTo>
                  <a:pt x="3455" y="10"/>
                </a:lnTo>
                <a:lnTo>
                  <a:pt x="3470" y="11"/>
                </a:lnTo>
                <a:lnTo>
                  <a:pt x="3484" y="15"/>
                </a:lnTo>
                <a:lnTo>
                  <a:pt x="3498" y="18"/>
                </a:lnTo>
                <a:lnTo>
                  <a:pt x="3512" y="23"/>
                </a:lnTo>
                <a:lnTo>
                  <a:pt x="3525" y="27"/>
                </a:lnTo>
                <a:lnTo>
                  <a:pt x="3537" y="32"/>
                </a:lnTo>
                <a:lnTo>
                  <a:pt x="3550" y="39"/>
                </a:lnTo>
                <a:lnTo>
                  <a:pt x="3561" y="45"/>
                </a:lnTo>
                <a:lnTo>
                  <a:pt x="3574" y="52"/>
                </a:lnTo>
                <a:lnTo>
                  <a:pt x="3585" y="60"/>
                </a:lnTo>
                <a:lnTo>
                  <a:pt x="3594" y="68"/>
                </a:lnTo>
                <a:lnTo>
                  <a:pt x="3605" y="76"/>
                </a:lnTo>
                <a:lnTo>
                  <a:pt x="3615" y="86"/>
                </a:lnTo>
                <a:lnTo>
                  <a:pt x="3602" y="94"/>
                </a:lnTo>
                <a:lnTo>
                  <a:pt x="3591" y="102"/>
                </a:lnTo>
                <a:lnTo>
                  <a:pt x="3582" y="110"/>
                </a:lnTo>
                <a:lnTo>
                  <a:pt x="3574" y="120"/>
                </a:lnTo>
                <a:lnTo>
                  <a:pt x="3566" y="129"/>
                </a:lnTo>
                <a:lnTo>
                  <a:pt x="3560" y="139"/>
                </a:lnTo>
                <a:lnTo>
                  <a:pt x="3556" y="149"/>
                </a:lnTo>
                <a:lnTo>
                  <a:pt x="3553" y="159"/>
                </a:lnTo>
                <a:lnTo>
                  <a:pt x="3552" y="168"/>
                </a:lnTo>
                <a:lnTo>
                  <a:pt x="3553" y="178"/>
                </a:lnTo>
                <a:lnTo>
                  <a:pt x="3556" y="188"/>
                </a:lnTo>
                <a:lnTo>
                  <a:pt x="3563" y="196"/>
                </a:lnTo>
                <a:lnTo>
                  <a:pt x="3569" y="204"/>
                </a:lnTo>
                <a:lnTo>
                  <a:pt x="3577" y="212"/>
                </a:lnTo>
                <a:lnTo>
                  <a:pt x="3586" y="220"/>
                </a:lnTo>
                <a:lnTo>
                  <a:pt x="3597" y="226"/>
                </a:lnTo>
                <a:lnTo>
                  <a:pt x="3610" y="233"/>
                </a:lnTo>
                <a:lnTo>
                  <a:pt x="3623" y="239"/>
                </a:lnTo>
                <a:lnTo>
                  <a:pt x="3637" y="244"/>
                </a:lnTo>
                <a:lnTo>
                  <a:pt x="3653" y="249"/>
                </a:lnTo>
                <a:lnTo>
                  <a:pt x="3668" y="252"/>
                </a:lnTo>
                <a:lnTo>
                  <a:pt x="3684" y="254"/>
                </a:lnTo>
                <a:lnTo>
                  <a:pt x="3700" y="256"/>
                </a:lnTo>
                <a:lnTo>
                  <a:pt x="3717" y="257"/>
                </a:lnTo>
                <a:lnTo>
                  <a:pt x="3733" y="256"/>
                </a:lnTo>
                <a:lnTo>
                  <a:pt x="3751" y="254"/>
                </a:lnTo>
                <a:lnTo>
                  <a:pt x="3766" y="252"/>
                </a:lnTo>
                <a:lnTo>
                  <a:pt x="3781" y="249"/>
                </a:lnTo>
                <a:lnTo>
                  <a:pt x="3795" y="244"/>
                </a:lnTo>
                <a:lnTo>
                  <a:pt x="3809" y="239"/>
                </a:lnTo>
                <a:lnTo>
                  <a:pt x="3822" y="233"/>
                </a:lnTo>
                <a:lnTo>
                  <a:pt x="3833" y="226"/>
                </a:lnTo>
                <a:lnTo>
                  <a:pt x="3844" y="220"/>
                </a:lnTo>
                <a:lnTo>
                  <a:pt x="3853" y="212"/>
                </a:lnTo>
                <a:lnTo>
                  <a:pt x="3861" y="204"/>
                </a:lnTo>
                <a:lnTo>
                  <a:pt x="3869" y="196"/>
                </a:lnTo>
                <a:lnTo>
                  <a:pt x="3874" y="188"/>
                </a:lnTo>
                <a:lnTo>
                  <a:pt x="3878" y="178"/>
                </a:lnTo>
                <a:lnTo>
                  <a:pt x="3880" y="168"/>
                </a:lnTo>
                <a:lnTo>
                  <a:pt x="3882" y="159"/>
                </a:lnTo>
                <a:lnTo>
                  <a:pt x="3880" y="146"/>
                </a:lnTo>
                <a:lnTo>
                  <a:pt x="3874" y="134"/>
                </a:lnTo>
                <a:lnTo>
                  <a:pt x="3866" y="121"/>
                </a:lnTo>
                <a:lnTo>
                  <a:pt x="3856" y="110"/>
                </a:lnTo>
                <a:lnTo>
                  <a:pt x="3842" y="100"/>
                </a:lnTo>
                <a:lnTo>
                  <a:pt x="3828" y="91"/>
                </a:lnTo>
                <a:lnTo>
                  <a:pt x="3811" y="81"/>
                </a:lnTo>
                <a:lnTo>
                  <a:pt x="3793" y="73"/>
                </a:lnTo>
                <a:lnTo>
                  <a:pt x="3799" y="65"/>
                </a:lnTo>
                <a:lnTo>
                  <a:pt x="3807" y="57"/>
                </a:lnTo>
                <a:lnTo>
                  <a:pt x="3818" y="49"/>
                </a:lnTo>
                <a:lnTo>
                  <a:pt x="3829" y="44"/>
                </a:lnTo>
                <a:lnTo>
                  <a:pt x="3841" y="39"/>
                </a:lnTo>
                <a:lnTo>
                  <a:pt x="3855" y="36"/>
                </a:lnTo>
                <a:lnTo>
                  <a:pt x="3869" y="32"/>
                </a:lnTo>
                <a:lnTo>
                  <a:pt x="3883" y="32"/>
                </a:lnTo>
                <a:lnTo>
                  <a:pt x="3901" y="32"/>
                </a:lnTo>
                <a:lnTo>
                  <a:pt x="3916" y="36"/>
                </a:lnTo>
                <a:lnTo>
                  <a:pt x="3931" y="40"/>
                </a:lnTo>
                <a:lnTo>
                  <a:pt x="3945" y="47"/>
                </a:lnTo>
                <a:lnTo>
                  <a:pt x="3956" y="55"/>
                </a:lnTo>
                <a:lnTo>
                  <a:pt x="3965" y="63"/>
                </a:lnTo>
                <a:lnTo>
                  <a:pt x="3973" y="71"/>
                </a:lnTo>
                <a:lnTo>
                  <a:pt x="3978" y="81"/>
                </a:lnTo>
                <a:lnTo>
                  <a:pt x="3984" y="73"/>
                </a:lnTo>
                <a:lnTo>
                  <a:pt x="3990" y="66"/>
                </a:lnTo>
                <a:lnTo>
                  <a:pt x="3998" y="58"/>
                </a:lnTo>
                <a:lnTo>
                  <a:pt x="4006" y="52"/>
                </a:lnTo>
                <a:lnTo>
                  <a:pt x="4014" y="45"/>
                </a:lnTo>
                <a:lnTo>
                  <a:pt x="4024" y="39"/>
                </a:lnTo>
                <a:lnTo>
                  <a:pt x="4033" y="34"/>
                </a:lnTo>
                <a:lnTo>
                  <a:pt x="4043" y="27"/>
                </a:lnTo>
                <a:lnTo>
                  <a:pt x="4052" y="24"/>
                </a:lnTo>
                <a:lnTo>
                  <a:pt x="4062" y="19"/>
                </a:lnTo>
                <a:lnTo>
                  <a:pt x="4073" y="16"/>
                </a:lnTo>
                <a:lnTo>
                  <a:pt x="4082" y="15"/>
                </a:lnTo>
                <a:lnTo>
                  <a:pt x="4093" y="13"/>
                </a:lnTo>
                <a:lnTo>
                  <a:pt x="4104" y="11"/>
                </a:lnTo>
                <a:lnTo>
                  <a:pt x="4114" y="11"/>
                </a:lnTo>
                <a:lnTo>
                  <a:pt x="4125" y="13"/>
                </a:lnTo>
                <a:lnTo>
                  <a:pt x="4134" y="15"/>
                </a:lnTo>
                <a:lnTo>
                  <a:pt x="4144" y="15"/>
                </a:lnTo>
                <a:lnTo>
                  <a:pt x="4153" y="16"/>
                </a:lnTo>
                <a:lnTo>
                  <a:pt x="4163" y="19"/>
                </a:lnTo>
                <a:lnTo>
                  <a:pt x="4172" y="21"/>
                </a:lnTo>
                <a:lnTo>
                  <a:pt x="4183" y="23"/>
                </a:lnTo>
                <a:lnTo>
                  <a:pt x="4191" y="26"/>
                </a:lnTo>
                <a:lnTo>
                  <a:pt x="4200" y="27"/>
                </a:lnTo>
                <a:lnTo>
                  <a:pt x="4202" y="29"/>
                </a:lnTo>
                <a:lnTo>
                  <a:pt x="4207" y="31"/>
                </a:lnTo>
                <a:lnTo>
                  <a:pt x="4216" y="34"/>
                </a:lnTo>
                <a:lnTo>
                  <a:pt x="4227" y="39"/>
                </a:lnTo>
                <a:lnTo>
                  <a:pt x="4241" y="45"/>
                </a:lnTo>
                <a:lnTo>
                  <a:pt x="4259" y="52"/>
                </a:lnTo>
                <a:lnTo>
                  <a:pt x="4278" y="60"/>
                </a:lnTo>
                <a:lnTo>
                  <a:pt x="4300" y="70"/>
                </a:lnTo>
                <a:lnTo>
                  <a:pt x="4324" y="79"/>
                </a:lnTo>
                <a:lnTo>
                  <a:pt x="4349" y="89"/>
                </a:lnTo>
                <a:lnTo>
                  <a:pt x="4377" y="100"/>
                </a:lnTo>
                <a:lnTo>
                  <a:pt x="4406" y="112"/>
                </a:lnTo>
                <a:lnTo>
                  <a:pt x="4437" y="123"/>
                </a:lnTo>
                <a:lnTo>
                  <a:pt x="4469" y="136"/>
                </a:lnTo>
                <a:lnTo>
                  <a:pt x="4500" y="149"/>
                </a:lnTo>
                <a:lnTo>
                  <a:pt x="4533" y="160"/>
                </a:lnTo>
                <a:lnTo>
                  <a:pt x="4568" y="173"/>
                </a:lnTo>
                <a:lnTo>
                  <a:pt x="4601" y="186"/>
                </a:lnTo>
                <a:lnTo>
                  <a:pt x="4636" y="197"/>
                </a:lnTo>
                <a:lnTo>
                  <a:pt x="4671" y="210"/>
                </a:lnTo>
                <a:lnTo>
                  <a:pt x="4706" y="222"/>
                </a:lnTo>
                <a:lnTo>
                  <a:pt x="4740" y="233"/>
                </a:lnTo>
                <a:lnTo>
                  <a:pt x="4773" y="243"/>
                </a:lnTo>
                <a:lnTo>
                  <a:pt x="4807" y="252"/>
                </a:lnTo>
                <a:lnTo>
                  <a:pt x="4838" y="262"/>
                </a:lnTo>
                <a:lnTo>
                  <a:pt x="4870" y="270"/>
                </a:lnTo>
                <a:lnTo>
                  <a:pt x="4900" y="277"/>
                </a:lnTo>
                <a:lnTo>
                  <a:pt x="4928" y="283"/>
                </a:lnTo>
                <a:lnTo>
                  <a:pt x="4955" y="288"/>
                </a:lnTo>
                <a:lnTo>
                  <a:pt x="4980" y="291"/>
                </a:lnTo>
                <a:lnTo>
                  <a:pt x="5004" y="294"/>
                </a:lnTo>
                <a:lnTo>
                  <a:pt x="5024" y="294"/>
                </a:lnTo>
                <a:lnTo>
                  <a:pt x="5045" y="294"/>
                </a:lnTo>
                <a:lnTo>
                  <a:pt x="5065" y="293"/>
                </a:lnTo>
                <a:lnTo>
                  <a:pt x="5084" y="290"/>
                </a:lnTo>
                <a:lnTo>
                  <a:pt x="5102" y="286"/>
                </a:lnTo>
                <a:lnTo>
                  <a:pt x="5119" y="281"/>
                </a:lnTo>
                <a:lnTo>
                  <a:pt x="5136" y="275"/>
                </a:lnTo>
                <a:lnTo>
                  <a:pt x="5151" y="268"/>
                </a:lnTo>
                <a:lnTo>
                  <a:pt x="5165" y="260"/>
                </a:lnTo>
                <a:lnTo>
                  <a:pt x="5178" y="252"/>
                </a:lnTo>
                <a:lnTo>
                  <a:pt x="5190" y="243"/>
                </a:lnTo>
                <a:lnTo>
                  <a:pt x="5200" y="233"/>
                </a:lnTo>
                <a:lnTo>
                  <a:pt x="5208" y="223"/>
                </a:lnTo>
                <a:lnTo>
                  <a:pt x="5214" y="212"/>
                </a:lnTo>
                <a:lnTo>
                  <a:pt x="5219" y="201"/>
                </a:lnTo>
                <a:lnTo>
                  <a:pt x="5222" y="189"/>
                </a:lnTo>
                <a:lnTo>
                  <a:pt x="5223" y="176"/>
                </a:lnTo>
                <a:lnTo>
                  <a:pt x="5222" y="165"/>
                </a:lnTo>
                <a:lnTo>
                  <a:pt x="5219" y="154"/>
                </a:lnTo>
                <a:lnTo>
                  <a:pt x="5214" y="142"/>
                </a:lnTo>
                <a:lnTo>
                  <a:pt x="5208" y="131"/>
                </a:lnTo>
                <a:lnTo>
                  <a:pt x="5198" y="121"/>
                </a:lnTo>
                <a:lnTo>
                  <a:pt x="5189" y="112"/>
                </a:lnTo>
                <a:lnTo>
                  <a:pt x="5178" y="104"/>
                </a:lnTo>
                <a:lnTo>
                  <a:pt x="5165" y="97"/>
                </a:lnTo>
                <a:lnTo>
                  <a:pt x="5178" y="92"/>
                </a:lnTo>
                <a:lnTo>
                  <a:pt x="5190" y="87"/>
                </a:lnTo>
                <a:lnTo>
                  <a:pt x="5204" y="84"/>
                </a:lnTo>
                <a:lnTo>
                  <a:pt x="5219" y="79"/>
                </a:lnTo>
                <a:lnTo>
                  <a:pt x="5233" y="76"/>
                </a:lnTo>
                <a:lnTo>
                  <a:pt x="5247" y="74"/>
                </a:lnTo>
                <a:lnTo>
                  <a:pt x="5263" y="73"/>
                </a:lnTo>
                <a:lnTo>
                  <a:pt x="5277" y="71"/>
                </a:lnTo>
                <a:lnTo>
                  <a:pt x="5288" y="71"/>
                </a:lnTo>
                <a:lnTo>
                  <a:pt x="5297" y="71"/>
                </a:lnTo>
                <a:lnTo>
                  <a:pt x="5307" y="73"/>
                </a:lnTo>
                <a:lnTo>
                  <a:pt x="5316" y="74"/>
                </a:lnTo>
                <a:lnTo>
                  <a:pt x="5326" y="76"/>
                </a:lnTo>
                <a:lnTo>
                  <a:pt x="5335" y="78"/>
                </a:lnTo>
                <a:lnTo>
                  <a:pt x="5345" y="79"/>
                </a:lnTo>
                <a:lnTo>
                  <a:pt x="5354" y="82"/>
                </a:lnTo>
                <a:lnTo>
                  <a:pt x="5364" y="86"/>
                </a:lnTo>
                <a:lnTo>
                  <a:pt x="5372" y="89"/>
                </a:lnTo>
                <a:lnTo>
                  <a:pt x="5380" y="92"/>
                </a:lnTo>
                <a:lnTo>
                  <a:pt x="5387" y="97"/>
                </a:lnTo>
                <a:lnTo>
                  <a:pt x="5395" y="100"/>
                </a:lnTo>
                <a:lnTo>
                  <a:pt x="5403" y="105"/>
                </a:lnTo>
                <a:lnTo>
                  <a:pt x="5410" y="110"/>
                </a:lnTo>
                <a:lnTo>
                  <a:pt x="5416" y="115"/>
                </a:lnTo>
                <a:lnTo>
                  <a:pt x="5414" y="121"/>
                </a:lnTo>
                <a:lnTo>
                  <a:pt x="5413" y="126"/>
                </a:lnTo>
                <a:lnTo>
                  <a:pt x="5411" y="131"/>
                </a:lnTo>
                <a:lnTo>
                  <a:pt x="5411" y="136"/>
                </a:lnTo>
                <a:close/>
              </a:path>
            </a:pathLst>
          </a:cu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301680"/>
          </a:xfrm>
          <a:custGeom>
            <a:avLst/>
            <a:gdLst/>
            <a:ahLst/>
            <a:rect l="l" t="t" r="r" b="b"/>
            <a:pathLst>
              <a:path w="5760" h="380">
                <a:moveTo>
                  <a:pt x="5411" y="136"/>
                </a:moveTo>
                <a:lnTo>
                  <a:pt x="5411" y="136"/>
                </a:lnTo>
                <a:lnTo>
                  <a:pt x="5410" y="160"/>
                </a:lnTo>
                <a:lnTo>
                  <a:pt x="5411" y="181"/>
                </a:lnTo>
                <a:lnTo>
                  <a:pt x="5416" y="201"/>
                </a:lnTo>
                <a:lnTo>
                  <a:pt x="5425" y="217"/>
                </a:lnTo>
                <a:lnTo>
                  <a:pt x="5438" y="231"/>
                </a:lnTo>
                <a:lnTo>
                  <a:pt x="5454" y="243"/>
                </a:lnTo>
                <a:lnTo>
                  <a:pt x="5473" y="251"/>
                </a:lnTo>
                <a:lnTo>
                  <a:pt x="5495" y="256"/>
                </a:lnTo>
                <a:lnTo>
                  <a:pt x="5495" y="256"/>
                </a:lnTo>
                <a:lnTo>
                  <a:pt x="5515" y="254"/>
                </a:lnTo>
                <a:lnTo>
                  <a:pt x="5533" y="246"/>
                </a:lnTo>
                <a:lnTo>
                  <a:pt x="5548" y="236"/>
                </a:lnTo>
                <a:lnTo>
                  <a:pt x="5561" y="222"/>
                </a:lnTo>
                <a:lnTo>
                  <a:pt x="5569" y="205"/>
                </a:lnTo>
                <a:lnTo>
                  <a:pt x="5572" y="186"/>
                </a:lnTo>
                <a:lnTo>
                  <a:pt x="5571" y="167"/>
                </a:lnTo>
                <a:lnTo>
                  <a:pt x="5563" y="147"/>
                </a:lnTo>
                <a:lnTo>
                  <a:pt x="5563" y="147"/>
                </a:lnTo>
                <a:lnTo>
                  <a:pt x="5553" y="137"/>
                </a:lnTo>
                <a:lnTo>
                  <a:pt x="5544" y="129"/>
                </a:lnTo>
                <a:lnTo>
                  <a:pt x="5534" y="125"/>
                </a:lnTo>
                <a:lnTo>
                  <a:pt x="5523" y="123"/>
                </a:lnTo>
                <a:lnTo>
                  <a:pt x="5514" y="123"/>
                </a:lnTo>
                <a:lnTo>
                  <a:pt x="5503" y="126"/>
                </a:lnTo>
                <a:lnTo>
                  <a:pt x="5493" y="133"/>
                </a:lnTo>
                <a:lnTo>
                  <a:pt x="5484" y="142"/>
                </a:lnTo>
                <a:lnTo>
                  <a:pt x="5484" y="142"/>
                </a:lnTo>
                <a:lnTo>
                  <a:pt x="5479" y="150"/>
                </a:lnTo>
                <a:lnTo>
                  <a:pt x="5477" y="160"/>
                </a:lnTo>
                <a:lnTo>
                  <a:pt x="5477" y="168"/>
                </a:lnTo>
                <a:lnTo>
                  <a:pt x="5477" y="175"/>
                </a:lnTo>
                <a:lnTo>
                  <a:pt x="5479" y="183"/>
                </a:lnTo>
                <a:lnTo>
                  <a:pt x="5482" y="191"/>
                </a:lnTo>
                <a:lnTo>
                  <a:pt x="5485" y="199"/>
                </a:lnTo>
                <a:lnTo>
                  <a:pt x="5487" y="207"/>
                </a:lnTo>
                <a:lnTo>
                  <a:pt x="5487" y="207"/>
                </a:lnTo>
                <a:lnTo>
                  <a:pt x="5493" y="213"/>
                </a:lnTo>
                <a:lnTo>
                  <a:pt x="5498" y="215"/>
                </a:lnTo>
                <a:lnTo>
                  <a:pt x="5501" y="213"/>
                </a:lnTo>
                <a:lnTo>
                  <a:pt x="5504" y="210"/>
                </a:lnTo>
                <a:lnTo>
                  <a:pt x="5506" y="207"/>
                </a:lnTo>
                <a:lnTo>
                  <a:pt x="5506" y="202"/>
                </a:lnTo>
                <a:lnTo>
                  <a:pt x="5501" y="199"/>
                </a:lnTo>
                <a:lnTo>
                  <a:pt x="5496" y="197"/>
                </a:lnTo>
                <a:lnTo>
                  <a:pt x="5496" y="197"/>
                </a:lnTo>
                <a:lnTo>
                  <a:pt x="5488" y="180"/>
                </a:lnTo>
                <a:lnTo>
                  <a:pt x="5487" y="163"/>
                </a:lnTo>
                <a:lnTo>
                  <a:pt x="5492" y="149"/>
                </a:lnTo>
                <a:lnTo>
                  <a:pt x="5500" y="139"/>
                </a:lnTo>
                <a:lnTo>
                  <a:pt x="5512" y="134"/>
                </a:lnTo>
                <a:lnTo>
                  <a:pt x="5526" y="134"/>
                </a:lnTo>
                <a:lnTo>
                  <a:pt x="5541" y="139"/>
                </a:lnTo>
                <a:lnTo>
                  <a:pt x="5555" y="154"/>
                </a:lnTo>
                <a:lnTo>
                  <a:pt x="5555" y="154"/>
                </a:lnTo>
                <a:lnTo>
                  <a:pt x="5560" y="165"/>
                </a:lnTo>
                <a:lnTo>
                  <a:pt x="5561" y="176"/>
                </a:lnTo>
                <a:lnTo>
                  <a:pt x="5563" y="188"/>
                </a:lnTo>
                <a:lnTo>
                  <a:pt x="5561" y="197"/>
                </a:lnTo>
                <a:lnTo>
                  <a:pt x="5558" y="207"/>
                </a:lnTo>
                <a:lnTo>
                  <a:pt x="5553" y="217"/>
                </a:lnTo>
                <a:lnTo>
                  <a:pt x="5547" y="223"/>
                </a:lnTo>
                <a:lnTo>
                  <a:pt x="5539" y="230"/>
                </a:lnTo>
                <a:lnTo>
                  <a:pt x="5531" y="236"/>
                </a:lnTo>
                <a:lnTo>
                  <a:pt x="5522" y="239"/>
                </a:lnTo>
                <a:lnTo>
                  <a:pt x="5512" y="243"/>
                </a:lnTo>
                <a:lnTo>
                  <a:pt x="5501" y="244"/>
                </a:lnTo>
                <a:lnTo>
                  <a:pt x="5490" y="244"/>
                </a:lnTo>
                <a:lnTo>
                  <a:pt x="5479" y="243"/>
                </a:lnTo>
                <a:lnTo>
                  <a:pt x="5468" y="239"/>
                </a:lnTo>
                <a:lnTo>
                  <a:pt x="5459" y="235"/>
                </a:lnTo>
                <a:lnTo>
                  <a:pt x="5459" y="235"/>
                </a:lnTo>
                <a:lnTo>
                  <a:pt x="5444" y="225"/>
                </a:lnTo>
                <a:lnTo>
                  <a:pt x="5435" y="215"/>
                </a:lnTo>
                <a:lnTo>
                  <a:pt x="5427" y="202"/>
                </a:lnTo>
                <a:lnTo>
                  <a:pt x="5422" y="188"/>
                </a:lnTo>
                <a:lnTo>
                  <a:pt x="5419" y="173"/>
                </a:lnTo>
                <a:lnTo>
                  <a:pt x="5419" y="157"/>
                </a:lnTo>
                <a:lnTo>
                  <a:pt x="5421" y="142"/>
                </a:lnTo>
                <a:lnTo>
                  <a:pt x="5424" y="126"/>
                </a:lnTo>
                <a:lnTo>
                  <a:pt x="5425" y="123"/>
                </a:lnTo>
                <a:lnTo>
                  <a:pt x="5429" y="118"/>
                </a:lnTo>
                <a:lnTo>
                  <a:pt x="5427" y="118"/>
                </a:lnTo>
                <a:lnTo>
                  <a:pt x="5427" y="118"/>
                </a:lnTo>
                <a:lnTo>
                  <a:pt x="5432" y="113"/>
                </a:lnTo>
                <a:lnTo>
                  <a:pt x="5438" y="105"/>
                </a:lnTo>
                <a:lnTo>
                  <a:pt x="5447" y="99"/>
                </a:lnTo>
                <a:lnTo>
                  <a:pt x="5460" y="91"/>
                </a:lnTo>
                <a:lnTo>
                  <a:pt x="5476" y="84"/>
                </a:lnTo>
                <a:lnTo>
                  <a:pt x="5495" y="78"/>
                </a:lnTo>
                <a:lnTo>
                  <a:pt x="5518" y="74"/>
                </a:lnTo>
                <a:lnTo>
                  <a:pt x="5545" y="74"/>
                </a:lnTo>
                <a:lnTo>
                  <a:pt x="5545" y="74"/>
                </a:lnTo>
                <a:lnTo>
                  <a:pt x="5564" y="76"/>
                </a:lnTo>
                <a:lnTo>
                  <a:pt x="5582" y="82"/>
                </a:lnTo>
                <a:lnTo>
                  <a:pt x="5599" y="91"/>
                </a:lnTo>
                <a:lnTo>
                  <a:pt x="5616" y="102"/>
                </a:lnTo>
                <a:lnTo>
                  <a:pt x="5634" y="115"/>
                </a:lnTo>
                <a:lnTo>
                  <a:pt x="5650" y="129"/>
                </a:lnTo>
                <a:lnTo>
                  <a:pt x="5665" y="146"/>
                </a:lnTo>
                <a:lnTo>
                  <a:pt x="5679" y="162"/>
                </a:lnTo>
                <a:lnTo>
                  <a:pt x="5692" y="180"/>
                </a:lnTo>
                <a:lnTo>
                  <a:pt x="5705" y="196"/>
                </a:lnTo>
                <a:lnTo>
                  <a:pt x="5716" y="212"/>
                </a:lnTo>
                <a:lnTo>
                  <a:pt x="5725" y="228"/>
                </a:lnTo>
                <a:lnTo>
                  <a:pt x="5733" y="241"/>
                </a:lnTo>
                <a:lnTo>
                  <a:pt x="5739" y="252"/>
                </a:lnTo>
                <a:lnTo>
                  <a:pt x="5744" y="262"/>
                </a:lnTo>
                <a:lnTo>
                  <a:pt x="5746" y="270"/>
                </a:lnTo>
                <a:lnTo>
                  <a:pt x="5746" y="270"/>
                </a:lnTo>
                <a:lnTo>
                  <a:pt x="5749" y="275"/>
                </a:lnTo>
                <a:lnTo>
                  <a:pt x="5752" y="283"/>
                </a:lnTo>
                <a:lnTo>
                  <a:pt x="5755" y="291"/>
                </a:lnTo>
                <a:lnTo>
                  <a:pt x="5758" y="299"/>
                </a:lnTo>
                <a:lnTo>
                  <a:pt x="5760" y="307"/>
                </a:lnTo>
                <a:lnTo>
                  <a:pt x="5760" y="317"/>
                </a:lnTo>
                <a:lnTo>
                  <a:pt x="5758" y="327"/>
                </a:lnTo>
                <a:lnTo>
                  <a:pt x="5754" y="335"/>
                </a:lnTo>
                <a:lnTo>
                  <a:pt x="5746" y="345"/>
                </a:lnTo>
                <a:lnTo>
                  <a:pt x="5736" y="353"/>
                </a:lnTo>
                <a:lnTo>
                  <a:pt x="5721" y="361"/>
                </a:lnTo>
                <a:lnTo>
                  <a:pt x="5700" y="367"/>
                </a:lnTo>
                <a:lnTo>
                  <a:pt x="5675" y="372"/>
                </a:lnTo>
                <a:lnTo>
                  <a:pt x="5643" y="377"/>
                </a:lnTo>
                <a:lnTo>
                  <a:pt x="5607" y="378"/>
                </a:lnTo>
                <a:lnTo>
                  <a:pt x="5561" y="380"/>
                </a:lnTo>
                <a:lnTo>
                  <a:pt x="5561" y="380"/>
                </a:lnTo>
                <a:lnTo>
                  <a:pt x="5533" y="380"/>
                </a:lnTo>
                <a:lnTo>
                  <a:pt x="5493" y="380"/>
                </a:lnTo>
                <a:lnTo>
                  <a:pt x="5444" y="380"/>
                </a:lnTo>
                <a:lnTo>
                  <a:pt x="5386" y="380"/>
                </a:lnTo>
                <a:lnTo>
                  <a:pt x="5318" y="380"/>
                </a:lnTo>
                <a:lnTo>
                  <a:pt x="5242" y="380"/>
                </a:lnTo>
                <a:lnTo>
                  <a:pt x="5160" y="380"/>
                </a:lnTo>
                <a:lnTo>
                  <a:pt x="5072" y="380"/>
                </a:lnTo>
                <a:lnTo>
                  <a:pt x="4977" y="380"/>
                </a:lnTo>
                <a:lnTo>
                  <a:pt x="4878" y="380"/>
                </a:lnTo>
                <a:lnTo>
                  <a:pt x="4773" y="380"/>
                </a:lnTo>
                <a:lnTo>
                  <a:pt x="4666" y="380"/>
                </a:lnTo>
                <a:lnTo>
                  <a:pt x="4557" y="380"/>
                </a:lnTo>
                <a:lnTo>
                  <a:pt x="4445" y="380"/>
                </a:lnTo>
                <a:lnTo>
                  <a:pt x="4331" y="380"/>
                </a:lnTo>
                <a:lnTo>
                  <a:pt x="4218" y="380"/>
                </a:lnTo>
                <a:lnTo>
                  <a:pt x="4103" y="380"/>
                </a:lnTo>
                <a:lnTo>
                  <a:pt x="3989" y="380"/>
                </a:lnTo>
                <a:lnTo>
                  <a:pt x="3878" y="380"/>
                </a:lnTo>
                <a:lnTo>
                  <a:pt x="3768" y="380"/>
                </a:lnTo>
                <a:lnTo>
                  <a:pt x="3661" y="380"/>
                </a:lnTo>
                <a:lnTo>
                  <a:pt x="3558" y="380"/>
                </a:lnTo>
                <a:lnTo>
                  <a:pt x="3460" y="380"/>
                </a:lnTo>
                <a:lnTo>
                  <a:pt x="3367" y="380"/>
                </a:lnTo>
                <a:lnTo>
                  <a:pt x="3279" y="380"/>
                </a:lnTo>
                <a:lnTo>
                  <a:pt x="3198" y="380"/>
                </a:lnTo>
                <a:lnTo>
                  <a:pt x="3124" y="380"/>
                </a:lnTo>
                <a:lnTo>
                  <a:pt x="3058" y="380"/>
                </a:lnTo>
                <a:lnTo>
                  <a:pt x="3001" y="380"/>
                </a:lnTo>
                <a:lnTo>
                  <a:pt x="2953" y="380"/>
                </a:lnTo>
                <a:lnTo>
                  <a:pt x="2916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2" y="380"/>
                </a:lnTo>
                <a:lnTo>
                  <a:pt x="2862" y="380"/>
                </a:lnTo>
                <a:lnTo>
                  <a:pt x="2829" y="380"/>
                </a:lnTo>
                <a:lnTo>
                  <a:pt x="2784" y="380"/>
                </a:lnTo>
                <a:lnTo>
                  <a:pt x="2728" y="380"/>
                </a:lnTo>
                <a:lnTo>
                  <a:pt x="2663" y="380"/>
                </a:lnTo>
                <a:lnTo>
                  <a:pt x="2587" y="380"/>
                </a:lnTo>
                <a:lnTo>
                  <a:pt x="2505" y="380"/>
                </a:lnTo>
                <a:lnTo>
                  <a:pt x="2414" y="380"/>
                </a:lnTo>
                <a:lnTo>
                  <a:pt x="2317" y="380"/>
                </a:lnTo>
                <a:lnTo>
                  <a:pt x="2215" y="380"/>
                </a:lnTo>
                <a:lnTo>
                  <a:pt x="2106" y="380"/>
                </a:lnTo>
                <a:lnTo>
                  <a:pt x="1994" y="380"/>
                </a:lnTo>
                <a:lnTo>
                  <a:pt x="1878" y="380"/>
                </a:lnTo>
                <a:lnTo>
                  <a:pt x="1760" y="380"/>
                </a:lnTo>
                <a:lnTo>
                  <a:pt x="1640" y="380"/>
                </a:lnTo>
                <a:lnTo>
                  <a:pt x="1520" y="380"/>
                </a:lnTo>
                <a:lnTo>
                  <a:pt x="1400" y="380"/>
                </a:lnTo>
                <a:lnTo>
                  <a:pt x="1280" y="380"/>
                </a:lnTo>
                <a:lnTo>
                  <a:pt x="1163" y="380"/>
                </a:lnTo>
                <a:lnTo>
                  <a:pt x="1048" y="380"/>
                </a:lnTo>
                <a:lnTo>
                  <a:pt x="938" y="380"/>
                </a:lnTo>
                <a:lnTo>
                  <a:pt x="830" y="380"/>
                </a:lnTo>
                <a:lnTo>
                  <a:pt x="728" y="380"/>
                </a:lnTo>
                <a:lnTo>
                  <a:pt x="631" y="380"/>
                </a:lnTo>
                <a:lnTo>
                  <a:pt x="543" y="380"/>
                </a:lnTo>
                <a:lnTo>
                  <a:pt x="461" y="380"/>
                </a:lnTo>
                <a:lnTo>
                  <a:pt x="388" y="380"/>
                </a:lnTo>
                <a:lnTo>
                  <a:pt x="324" y="380"/>
                </a:lnTo>
                <a:lnTo>
                  <a:pt x="270" y="380"/>
                </a:lnTo>
                <a:lnTo>
                  <a:pt x="229" y="380"/>
                </a:lnTo>
                <a:lnTo>
                  <a:pt x="197" y="380"/>
                </a:lnTo>
                <a:lnTo>
                  <a:pt x="197" y="380"/>
                </a:lnTo>
                <a:lnTo>
                  <a:pt x="153" y="378"/>
                </a:lnTo>
                <a:lnTo>
                  <a:pt x="115" y="377"/>
                </a:lnTo>
                <a:lnTo>
                  <a:pt x="84" y="372"/>
                </a:lnTo>
                <a:lnTo>
                  <a:pt x="58" y="367"/>
                </a:lnTo>
                <a:lnTo>
                  <a:pt x="38" y="361"/>
                </a:lnTo>
                <a:lnTo>
                  <a:pt x="22" y="353"/>
                </a:lnTo>
                <a:lnTo>
                  <a:pt x="11" y="345"/>
                </a:lnTo>
                <a:lnTo>
                  <a:pt x="5" y="335"/>
                </a:lnTo>
                <a:lnTo>
                  <a:pt x="2" y="327"/>
                </a:lnTo>
                <a:lnTo>
                  <a:pt x="0" y="317"/>
                </a:lnTo>
                <a:lnTo>
                  <a:pt x="0" y="307"/>
                </a:lnTo>
                <a:lnTo>
                  <a:pt x="2" y="299"/>
                </a:lnTo>
                <a:lnTo>
                  <a:pt x="3" y="291"/>
                </a:lnTo>
                <a:lnTo>
                  <a:pt x="6" y="283"/>
                </a:lnTo>
                <a:lnTo>
                  <a:pt x="9" y="275"/>
                </a:lnTo>
                <a:lnTo>
                  <a:pt x="11" y="270"/>
                </a:lnTo>
                <a:lnTo>
                  <a:pt x="11" y="270"/>
                </a:lnTo>
                <a:lnTo>
                  <a:pt x="14" y="262"/>
                </a:lnTo>
                <a:lnTo>
                  <a:pt x="19" y="252"/>
                </a:lnTo>
                <a:lnTo>
                  <a:pt x="25" y="241"/>
                </a:lnTo>
                <a:lnTo>
                  <a:pt x="33" y="228"/>
                </a:lnTo>
                <a:lnTo>
                  <a:pt x="43" y="212"/>
                </a:lnTo>
                <a:lnTo>
                  <a:pt x="54" y="196"/>
                </a:lnTo>
                <a:lnTo>
                  <a:pt x="66" y="180"/>
                </a:lnTo>
                <a:lnTo>
                  <a:pt x="79" y="162"/>
                </a:lnTo>
                <a:lnTo>
                  <a:pt x="93" y="146"/>
                </a:lnTo>
                <a:lnTo>
                  <a:pt x="109" y="131"/>
                </a:lnTo>
                <a:lnTo>
                  <a:pt x="125" y="115"/>
                </a:lnTo>
                <a:lnTo>
                  <a:pt x="142" y="102"/>
                </a:lnTo>
                <a:lnTo>
                  <a:pt x="159" y="92"/>
                </a:lnTo>
                <a:lnTo>
                  <a:pt x="177" y="82"/>
                </a:lnTo>
                <a:lnTo>
                  <a:pt x="196" y="78"/>
                </a:lnTo>
                <a:lnTo>
                  <a:pt x="213" y="74"/>
                </a:lnTo>
                <a:lnTo>
                  <a:pt x="213" y="74"/>
                </a:lnTo>
                <a:lnTo>
                  <a:pt x="242" y="76"/>
                </a:lnTo>
                <a:lnTo>
                  <a:pt x="264" y="79"/>
                </a:lnTo>
                <a:lnTo>
                  <a:pt x="283" y="84"/>
                </a:lnTo>
                <a:lnTo>
                  <a:pt x="298" y="91"/>
                </a:lnTo>
                <a:lnTo>
                  <a:pt x="311" y="99"/>
                </a:lnTo>
                <a:lnTo>
                  <a:pt x="320" y="107"/>
                </a:lnTo>
                <a:lnTo>
                  <a:pt x="327" y="113"/>
                </a:lnTo>
                <a:lnTo>
                  <a:pt x="331" y="118"/>
                </a:lnTo>
                <a:lnTo>
                  <a:pt x="330" y="120"/>
                </a:lnTo>
                <a:lnTo>
                  <a:pt x="333" y="125"/>
                </a:lnTo>
                <a:lnTo>
                  <a:pt x="335" y="128"/>
                </a:lnTo>
                <a:lnTo>
                  <a:pt x="335" y="128"/>
                </a:lnTo>
                <a:lnTo>
                  <a:pt x="338" y="142"/>
                </a:lnTo>
                <a:lnTo>
                  <a:pt x="339" y="159"/>
                </a:lnTo>
                <a:lnTo>
                  <a:pt x="339" y="173"/>
                </a:lnTo>
                <a:lnTo>
                  <a:pt x="336" y="189"/>
                </a:lnTo>
                <a:lnTo>
                  <a:pt x="331" y="202"/>
                </a:lnTo>
                <a:lnTo>
                  <a:pt x="325" y="215"/>
                </a:lnTo>
                <a:lnTo>
                  <a:pt x="314" y="226"/>
                </a:lnTo>
                <a:lnTo>
                  <a:pt x="301" y="235"/>
                </a:lnTo>
                <a:lnTo>
                  <a:pt x="301" y="235"/>
                </a:lnTo>
                <a:lnTo>
                  <a:pt x="290" y="239"/>
                </a:lnTo>
                <a:lnTo>
                  <a:pt x="279" y="243"/>
                </a:lnTo>
                <a:lnTo>
                  <a:pt x="268" y="244"/>
                </a:lnTo>
                <a:lnTo>
                  <a:pt x="259" y="244"/>
                </a:lnTo>
                <a:lnTo>
                  <a:pt x="248" y="244"/>
                </a:lnTo>
                <a:lnTo>
                  <a:pt x="238" y="241"/>
                </a:lnTo>
                <a:lnTo>
                  <a:pt x="229" y="236"/>
                </a:lnTo>
                <a:lnTo>
                  <a:pt x="219" y="231"/>
                </a:lnTo>
                <a:lnTo>
                  <a:pt x="213" y="225"/>
                </a:lnTo>
                <a:lnTo>
                  <a:pt x="207" y="217"/>
                </a:lnTo>
                <a:lnTo>
                  <a:pt x="202" y="207"/>
                </a:lnTo>
                <a:lnTo>
                  <a:pt x="199" y="199"/>
                </a:lnTo>
                <a:lnTo>
                  <a:pt x="197" y="188"/>
                </a:lnTo>
                <a:lnTo>
                  <a:pt x="197" y="176"/>
                </a:lnTo>
                <a:lnTo>
                  <a:pt x="200" y="165"/>
                </a:lnTo>
                <a:lnTo>
                  <a:pt x="205" y="154"/>
                </a:lnTo>
                <a:lnTo>
                  <a:pt x="205" y="154"/>
                </a:lnTo>
                <a:lnTo>
                  <a:pt x="219" y="141"/>
                </a:lnTo>
                <a:lnTo>
                  <a:pt x="234" y="134"/>
                </a:lnTo>
                <a:lnTo>
                  <a:pt x="248" y="134"/>
                </a:lnTo>
                <a:lnTo>
                  <a:pt x="259" y="141"/>
                </a:lnTo>
                <a:lnTo>
                  <a:pt x="268" y="150"/>
                </a:lnTo>
                <a:lnTo>
                  <a:pt x="272" y="163"/>
                </a:lnTo>
                <a:lnTo>
                  <a:pt x="270" y="180"/>
                </a:lnTo>
                <a:lnTo>
                  <a:pt x="262" y="197"/>
                </a:lnTo>
                <a:lnTo>
                  <a:pt x="262" y="197"/>
                </a:lnTo>
                <a:lnTo>
                  <a:pt x="257" y="199"/>
                </a:lnTo>
                <a:lnTo>
                  <a:pt x="254" y="202"/>
                </a:lnTo>
                <a:lnTo>
                  <a:pt x="253" y="207"/>
                </a:lnTo>
                <a:lnTo>
                  <a:pt x="254" y="210"/>
                </a:lnTo>
                <a:lnTo>
                  <a:pt x="257" y="213"/>
                </a:lnTo>
                <a:lnTo>
                  <a:pt x="260" y="215"/>
                </a:lnTo>
                <a:lnTo>
                  <a:pt x="265" y="213"/>
                </a:lnTo>
                <a:lnTo>
                  <a:pt x="272" y="207"/>
                </a:lnTo>
                <a:lnTo>
                  <a:pt x="272" y="207"/>
                </a:lnTo>
                <a:lnTo>
                  <a:pt x="273" y="199"/>
                </a:lnTo>
                <a:lnTo>
                  <a:pt x="276" y="191"/>
                </a:lnTo>
                <a:lnTo>
                  <a:pt x="279" y="183"/>
                </a:lnTo>
                <a:lnTo>
                  <a:pt x="281" y="175"/>
                </a:lnTo>
                <a:lnTo>
                  <a:pt x="281" y="168"/>
                </a:lnTo>
                <a:lnTo>
                  <a:pt x="281" y="160"/>
                </a:lnTo>
                <a:lnTo>
                  <a:pt x="279" y="152"/>
                </a:lnTo>
                <a:lnTo>
                  <a:pt x="275" y="142"/>
                </a:lnTo>
                <a:lnTo>
                  <a:pt x="275" y="142"/>
                </a:lnTo>
                <a:lnTo>
                  <a:pt x="265" y="133"/>
                </a:lnTo>
                <a:lnTo>
                  <a:pt x="256" y="128"/>
                </a:lnTo>
                <a:lnTo>
                  <a:pt x="246" y="125"/>
                </a:lnTo>
                <a:lnTo>
                  <a:pt x="235" y="125"/>
                </a:lnTo>
                <a:lnTo>
                  <a:pt x="226" y="126"/>
                </a:lnTo>
                <a:lnTo>
                  <a:pt x="216" y="131"/>
                </a:lnTo>
                <a:lnTo>
                  <a:pt x="207" y="137"/>
                </a:lnTo>
                <a:lnTo>
                  <a:pt x="197" y="147"/>
                </a:lnTo>
                <a:lnTo>
                  <a:pt x="197" y="147"/>
                </a:lnTo>
                <a:lnTo>
                  <a:pt x="189" y="168"/>
                </a:lnTo>
                <a:lnTo>
                  <a:pt x="188" y="188"/>
                </a:lnTo>
                <a:lnTo>
                  <a:pt x="191" y="205"/>
                </a:lnTo>
                <a:lnTo>
                  <a:pt x="199" y="222"/>
                </a:lnTo>
                <a:lnTo>
                  <a:pt x="210" y="236"/>
                </a:lnTo>
                <a:lnTo>
                  <a:pt x="226" y="246"/>
                </a:lnTo>
                <a:lnTo>
                  <a:pt x="245" y="254"/>
                </a:lnTo>
                <a:lnTo>
                  <a:pt x="265" y="256"/>
                </a:lnTo>
                <a:lnTo>
                  <a:pt x="265" y="256"/>
                </a:lnTo>
                <a:lnTo>
                  <a:pt x="287" y="251"/>
                </a:lnTo>
                <a:lnTo>
                  <a:pt x="306" y="243"/>
                </a:lnTo>
                <a:lnTo>
                  <a:pt x="322" y="231"/>
                </a:lnTo>
                <a:lnTo>
                  <a:pt x="335" y="218"/>
                </a:lnTo>
                <a:lnTo>
                  <a:pt x="343" y="201"/>
                </a:lnTo>
                <a:lnTo>
                  <a:pt x="349" y="183"/>
                </a:lnTo>
                <a:lnTo>
                  <a:pt x="350" y="160"/>
                </a:lnTo>
                <a:lnTo>
                  <a:pt x="349" y="136"/>
                </a:lnTo>
                <a:lnTo>
                  <a:pt x="349" y="136"/>
                </a:lnTo>
                <a:lnTo>
                  <a:pt x="347" y="131"/>
                </a:lnTo>
                <a:lnTo>
                  <a:pt x="346" y="126"/>
                </a:lnTo>
                <a:lnTo>
                  <a:pt x="344" y="121"/>
                </a:lnTo>
                <a:lnTo>
                  <a:pt x="343" y="116"/>
                </a:lnTo>
                <a:lnTo>
                  <a:pt x="343" y="116"/>
                </a:lnTo>
                <a:lnTo>
                  <a:pt x="349" y="112"/>
                </a:lnTo>
                <a:lnTo>
                  <a:pt x="355" y="107"/>
                </a:lnTo>
                <a:lnTo>
                  <a:pt x="363" y="102"/>
                </a:lnTo>
                <a:lnTo>
                  <a:pt x="371" y="97"/>
                </a:lnTo>
                <a:lnTo>
                  <a:pt x="379" y="92"/>
                </a:lnTo>
                <a:lnTo>
                  <a:pt x="387" y="89"/>
                </a:lnTo>
                <a:lnTo>
                  <a:pt x="396" y="86"/>
                </a:lnTo>
                <a:lnTo>
                  <a:pt x="404" y="82"/>
                </a:lnTo>
                <a:lnTo>
                  <a:pt x="414" y="79"/>
                </a:lnTo>
                <a:lnTo>
                  <a:pt x="423" y="78"/>
                </a:lnTo>
                <a:lnTo>
                  <a:pt x="433" y="76"/>
                </a:lnTo>
                <a:lnTo>
                  <a:pt x="442" y="74"/>
                </a:lnTo>
                <a:lnTo>
                  <a:pt x="451" y="73"/>
                </a:lnTo>
                <a:lnTo>
                  <a:pt x="463" y="71"/>
                </a:lnTo>
                <a:lnTo>
                  <a:pt x="472" y="71"/>
                </a:lnTo>
                <a:lnTo>
                  <a:pt x="481" y="71"/>
                </a:lnTo>
                <a:lnTo>
                  <a:pt x="481" y="71"/>
                </a:lnTo>
                <a:lnTo>
                  <a:pt x="497" y="73"/>
                </a:lnTo>
                <a:lnTo>
                  <a:pt x="511" y="74"/>
                </a:lnTo>
                <a:lnTo>
                  <a:pt x="526" y="76"/>
                </a:lnTo>
                <a:lnTo>
                  <a:pt x="541" y="79"/>
                </a:lnTo>
                <a:lnTo>
                  <a:pt x="554" y="84"/>
                </a:lnTo>
                <a:lnTo>
                  <a:pt x="568" y="87"/>
                </a:lnTo>
                <a:lnTo>
                  <a:pt x="581" y="92"/>
                </a:lnTo>
                <a:lnTo>
                  <a:pt x="594" y="97"/>
                </a:lnTo>
                <a:lnTo>
                  <a:pt x="594" y="97"/>
                </a:lnTo>
                <a:lnTo>
                  <a:pt x="581" y="104"/>
                </a:lnTo>
                <a:lnTo>
                  <a:pt x="570" y="113"/>
                </a:lnTo>
                <a:lnTo>
                  <a:pt x="560" y="121"/>
                </a:lnTo>
                <a:lnTo>
                  <a:pt x="552" y="133"/>
                </a:lnTo>
                <a:lnTo>
                  <a:pt x="545" y="142"/>
                </a:lnTo>
                <a:lnTo>
                  <a:pt x="540" y="154"/>
                </a:lnTo>
                <a:lnTo>
                  <a:pt x="537" y="165"/>
                </a:lnTo>
                <a:lnTo>
                  <a:pt x="537" y="178"/>
                </a:lnTo>
                <a:lnTo>
                  <a:pt x="537" y="178"/>
                </a:lnTo>
                <a:lnTo>
                  <a:pt x="537" y="189"/>
                </a:lnTo>
                <a:lnTo>
                  <a:pt x="540" y="201"/>
                </a:lnTo>
                <a:lnTo>
                  <a:pt x="545" y="212"/>
                </a:lnTo>
                <a:lnTo>
                  <a:pt x="551" y="223"/>
                </a:lnTo>
                <a:lnTo>
                  <a:pt x="560" y="233"/>
                </a:lnTo>
                <a:lnTo>
                  <a:pt x="570" y="243"/>
                </a:lnTo>
                <a:lnTo>
                  <a:pt x="581" y="252"/>
                </a:lnTo>
                <a:lnTo>
                  <a:pt x="594" y="260"/>
                </a:lnTo>
                <a:lnTo>
                  <a:pt x="608" y="268"/>
                </a:lnTo>
                <a:lnTo>
                  <a:pt x="622" y="275"/>
                </a:lnTo>
                <a:lnTo>
                  <a:pt x="639" y="281"/>
                </a:lnTo>
                <a:lnTo>
                  <a:pt x="657" y="286"/>
                </a:lnTo>
                <a:lnTo>
                  <a:pt x="674" y="290"/>
                </a:lnTo>
                <a:lnTo>
                  <a:pt x="693" y="293"/>
                </a:lnTo>
                <a:lnTo>
                  <a:pt x="713" y="294"/>
                </a:lnTo>
                <a:lnTo>
                  <a:pt x="734" y="296"/>
                </a:lnTo>
                <a:lnTo>
                  <a:pt x="734" y="296"/>
                </a:lnTo>
                <a:lnTo>
                  <a:pt x="755" y="294"/>
                </a:lnTo>
                <a:lnTo>
                  <a:pt x="778" y="293"/>
                </a:lnTo>
                <a:lnTo>
                  <a:pt x="803" y="290"/>
                </a:lnTo>
                <a:lnTo>
                  <a:pt x="830" y="285"/>
                </a:lnTo>
                <a:lnTo>
                  <a:pt x="859" y="278"/>
                </a:lnTo>
                <a:lnTo>
                  <a:pt x="889" y="270"/>
                </a:lnTo>
                <a:lnTo>
                  <a:pt x="920" y="262"/>
                </a:lnTo>
                <a:lnTo>
                  <a:pt x="952" y="254"/>
                </a:lnTo>
                <a:lnTo>
                  <a:pt x="985" y="244"/>
                </a:lnTo>
                <a:lnTo>
                  <a:pt x="1018" y="233"/>
                </a:lnTo>
                <a:lnTo>
                  <a:pt x="1053" y="222"/>
                </a:lnTo>
                <a:lnTo>
                  <a:pt x="1088" y="210"/>
                </a:lnTo>
                <a:lnTo>
                  <a:pt x="1122" y="199"/>
                </a:lnTo>
                <a:lnTo>
                  <a:pt x="1155" y="186"/>
                </a:lnTo>
                <a:lnTo>
                  <a:pt x="1190" y="173"/>
                </a:lnTo>
                <a:lnTo>
                  <a:pt x="1225" y="162"/>
                </a:lnTo>
                <a:lnTo>
                  <a:pt x="1258" y="149"/>
                </a:lnTo>
                <a:lnTo>
                  <a:pt x="1291" y="136"/>
                </a:lnTo>
                <a:lnTo>
                  <a:pt x="1323" y="125"/>
                </a:lnTo>
                <a:lnTo>
                  <a:pt x="1353" y="112"/>
                </a:lnTo>
                <a:lnTo>
                  <a:pt x="1381" y="100"/>
                </a:lnTo>
                <a:lnTo>
                  <a:pt x="1410" y="89"/>
                </a:lnTo>
                <a:lnTo>
                  <a:pt x="1435" y="79"/>
                </a:lnTo>
                <a:lnTo>
                  <a:pt x="1459" y="70"/>
                </a:lnTo>
                <a:lnTo>
                  <a:pt x="1481" y="60"/>
                </a:lnTo>
                <a:lnTo>
                  <a:pt x="1501" y="52"/>
                </a:lnTo>
                <a:lnTo>
                  <a:pt x="1517" y="45"/>
                </a:lnTo>
                <a:lnTo>
                  <a:pt x="1531" y="39"/>
                </a:lnTo>
                <a:lnTo>
                  <a:pt x="1544" y="34"/>
                </a:lnTo>
                <a:lnTo>
                  <a:pt x="1552" y="31"/>
                </a:lnTo>
                <a:lnTo>
                  <a:pt x="1558" y="29"/>
                </a:lnTo>
                <a:lnTo>
                  <a:pt x="1560" y="27"/>
                </a:lnTo>
                <a:lnTo>
                  <a:pt x="1560" y="27"/>
                </a:lnTo>
                <a:lnTo>
                  <a:pt x="1567" y="26"/>
                </a:lnTo>
                <a:lnTo>
                  <a:pt x="1577" y="23"/>
                </a:lnTo>
                <a:lnTo>
                  <a:pt x="1586" y="21"/>
                </a:lnTo>
                <a:lnTo>
                  <a:pt x="1596" y="19"/>
                </a:lnTo>
                <a:lnTo>
                  <a:pt x="1605" y="18"/>
                </a:lnTo>
                <a:lnTo>
                  <a:pt x="1616" y="16"/>
                </a:lnTo>
                <a:lnTo>
                  <a:pt x="1624" y="15"/>
                </a:lnTo>
                <a:lnTo>
                  <a:pt x="1634" y="13"/>
                </a:lnTo>
                <a:lnTo>
                  <a:pt x="1634" y="13"/>
                </a:lnTo>
                <a:lnTo>
                  <a:pt x="1645" y="13"/>
                </a:lnTo>
                <a:lnTo>
                  <a:pt x="1656" y="11"/>
                </a:lnTo>
                <a:lnTo>
                  <a:pt x="1665" y="13"/>
                </a:lnTo>
                <a:lnTo>
                  <a:pt x="1676" y="15"/>
                </a:lnTo>
                <a:lnTo>
                  <a:pt x="1687" y="16"/>
                </a:lnTo>
                <a:lnTo>
                  <a:pt x="1697" y="19"/>
                </a:lnTo>
                <a:lnTo>
                  <a:pt x="1708" y="24"/>
                </a:lnTo>
                <a:lnTo>
                  <a:pt x="1717" y="27"/>
                </a:lnTo>
                <a:lnTo>
                  <a:pt x="1727" y="34"/>
                </a:lnTo>
                <a:lnTo>
                  <a:pt x="1735" y="39"/>
                </a:lnTo>
                <a:lnTo>
                  <a:pt x="1744" y="45"/>
                </a:lnTo>
                <a:lnTo>
                  <a:pt x="1752" y="52"/>
                </a:lnTo>
                <a:lnTo>
                  <a:pt x="1760" y="60"/>
                </a:lnTo>
                <a:lnTo>
                  <a:pt x="1768" y="66"/>
                </a:lnTo>
                <a:lnTo>
                  <a:pt x="1774" y="74"/>
                </a:lnTo>
                <a:lnTo>
                  <a:pt x="1781" y="82"/>
                </a:lnTo>
                <a:lnTo>
                  <a:pt x="1781" y="82"/>
                </a:lnTo>
                <a:lnTo>
                  <a:pt x="1785" y="73"/>
                </a:lnTo>
                <a:lnTo>
                  <a:pt x="1793" y="63"/>
                </a:lnTo>
                <a:lnTo>
                  <a:pt x="1803" y="55"/>
                </a:lnTo>
                <a:lnTo>
                  <a:pt x="1814" y="47"/>
                </a:lnTo>
                <a:lnTo>
                  <a:pt x="1828" y="42"/>
                </a:lnTo>
                <a:lnTo>
                  <a:pt x="1842" y="37"/>
                </a:lnTo>
                <a:lnTo>
                  <a:pt x="1858" y="34"/>
                </a:lnTo>
                <a:lnTo>
                  <a:pt x="1875" y="32"/>
                </a:lnTo>
                <a:lnTo>
                  <a:pt x="1875" y="32"/>
                </a:lnTo>
                <a:lnTo>
                  <a:pt x="1889" y="34"/>
                </a:lnTo>
                <a:lnTo>
                  <a:pt x="1904" y="36"/>
                </a:lnTo>
                <a:lnTo>
                  <a:pt x="1918" y="39"/>
                </a:lnTo>
                <a:lnTo>
                  <a:pt x="1929" y="44"/>
                </a:lnTo>
                <a:lnTo>
                  <a:pt x="1940" y="50"/>
                </a:lnTo>
                <a:lnTo>
                  <a:pt x="1951" y="57"/>
                </a:lnTo>
                <a:lnTo>
                  <a:pt x="1959" y="65"/>
                </a:lnTo>
                <a:lnTo>
                  <a:pt x="1965" y="73"/>
                </a:lnTo>
                <a:lnTo>
                  <a:pt x="1965" y="73"/>
                </a:lnTo>
                <a:lnTo>
                  <a:pt x="1948" y="81"/>
                </a:lnTo>
                <a:lnTo>
                  <a:pt x="1931" y="91"/>
                </a:lnTo>
                <a:lnTo>
                  <a:pt x="1916" y="100"/>
                </a:lnTo>
                <a:lnTo>
                  <a:pt x="1902" y="110"/>
                </a:lnTo>
                <a:lnTo>
                  <a:pt x="1893" y="123"/>
                </a:lnTo>
                <a:lnTo>
                  <a:pt x="1885" y="134"/>
                </a:lnTo>
                <a:lnTo>
                  <a:pt x="1878" y="147"/>
                </a:lnTo>
                <a:lnTo>
                  <a:pt x="1877" y="160"/>
                </a:lnTo>
                <a:lnTo>
                  <a:pt x="1877" y="160"/>
                </a:lnTo>
                <a:lnTo>
                  <a:pt x="1878" y="170"/>
                </a:lnTo>
                <a:lnTo>
                  <a:pt x="1880" y="178"/>
                </a:lnTo>
                <a:lnTo>
                  <a:pt x="1885" y="188"/>
                </a:lnTo>
                <a:lnTo>
                  <a:pt x="1889" y="196"/>
                </a:lnTo>
                <a:lnTo>
                  <a:pt x="1897" y="205"/>
                </a:lnTo>
                <a:lnTo>
                  <a:pt x="1905" y="213"/>
                </a:lnTo>
                <a:lnTo>
                  <a:pt x="1915" y="220"/>
                </a:lnTo>
                <a:lnTo>
                  <a:pt x="1926" y="228"/>
                </a:lnTo>
                <a:lnTo>
                  <a:pt x="1937" y="235"/>
                </a:lnTo>
                <a:lnTo>
                  <a:pt x="1949" y="239"/>
                </a:lnTo>
                <a:lnTo>
                  <a:pt x="1964" y="244"/>
                </a:lnTo>
                <a:lnTo>
                  <a:pt x="1978" y="249"/>
                </a:lnTo>
                <a:lnTo>
                  <a:pt x="1992" y="252"/>
                </a:lnTo>
                <a:lnTo>
                  <a:pt x="2008" y="254"/>
                </a:lnTo>
                <a:lnTo>
                  <a:pt x="2025" y="256"/>
                </a:lnTo>
                <a:lnTo>
                  <a:pt x="2041" y="257"/>
                </a:lnTo>
                <a:lnTo>
                  <a:pt x="2041" y="257"/>
                </a:lnTo>
                <a:lnTo>
                  <a:pt x="2058" y="256"/>
                </a:lnTo>
                <a:lnTo>
                  <a:pt x="2074" y="254"/>
                </a:lnTo>
                <a:lnTo>
                  <a:pt x="2092" y="252"/>
                </a:lnTo>
                <a:lnTo>
                  <a:pt x="2106" y="249"/>
                </a:lnTo>
                <a:lnTo>
                  <a:pt x="2122" y="244"/>
                </a:lnTo>
                <a:lnTo>
                  <a:pt x="2136" y="239"/>
                </a:lnTo>
                <a:lnTo>
                  <a:pt x="2148" y="235"/>
                </a:lnTo>
                <a:lnTo>
                  <a:pt x="2161" y="228"/>
                </a:lnTo>
                <a:lnTo>
                  <a:pt x="2172" y="220"/>
                </a:lnTo>
                <a:lnTo>
                  <a:pt x="2182" y="213"/>
                </a:lnTo>
                <a:lnTo>
                  <a:pt x="2189" y="205"/>
                </a:lnTo>
                <a:lnTo>
                  <a:pt x="2197" y="196"/>
                </a:lnTo>
                <a:lnTo>
                  <a:pt x="2202" y="188"/>
                </a:lnTo>
                <a:lnTo>
                  <a:pt x="2205" y="178"/>
                </a:lnTo>
                <a:lnTo>
                  <a:pt x="2207" y="170"/>
                </a:lnTo>
                <a:lnTo>
                  <a:pt x="2205" y="160"/>
                </a:lnTo>
                <a:lnTo>
                  <a:pt x="2205" y="160"/>
                </a:lnTo>
                <a:lnTo>
                  <a:pt x="2204" y="149"/>
                </a:lnTo>
                <a:lnTo>
                  <a:pt x="2199" y="139"/>
                </a:lnTo>
                <a:lnTo>
                  <a:pt x="2193" y="129"/>
                </a:lnTo>
                <a:lnTo>
                  <a:pt x="2186" y="120"/>
                </a:lnTo>
                <a:lnTo>
                  <a:pt x="2177" y="112"/>
                </a:lnTo>
                <a:lnTo>
                  <a:pt x="2167" y="102"/>
                </a:lnTo>
                <a:lnTo>
                  <a:pt x="2156" y="94"/>
                </a:lnTo>
                <a:lnTo>
                  <a:pt x="2145" y="86"/>
                </a:lnTo>
                <a:lnTo>
                  <a:pt x="2145" y="86"/>
                </a:lnTo>
                <a:lnTo>
                  <a:pt x="2155" y="76"/>
                </a:lnTo>
                <a:lnTo>
                  <a:pt x="2164" y="68"/>
                </a:lnTo>
                <a:lnTo>
                  <a:pt x="2175" y="60"/>
                </a:lnTo>
                <a:lnTo>
                  <a:pt x="2185" y="52"/>
                </a:lnTo>
                <a:lnTo>
                  <a:pt x="2197" y="45"/>
                </a:lnTo>
                <a:lnTo>
                  <a:pt x="2208" y="39"/>
                </a:lnTo>
                <a:lnTo>
                  <a:pt x="2221" y="32"/>
                </a:lnTo>
                <a:lnTo>
                  <a:pt x="2234" y="27"/>
                </a:lnTo>
                <a:lnTo>
                  <a:pt x="2246" y="23"/>
                </a:lnTo>
                <a:lnTo>
                  <a:pt x="2260" y="18"/>
                </a:lnTo>
                <a:lnTo>
                  <a:pt x="2275" y="15"/>
                </a:lnTo>
                <a:lnTo>
                  <a:pt x="2289" y="11"/>
                </a:lnTo>
                <a:lnTo>
                  <a:pt x="2301" y="10"/>
                </a:lnTo>
                <a:lnTo>
                  <a:pt x="2317" y="8"/>
                </a:lnTo>
                <a:lnTo>
                  <a:pt x="2331" y="6"/>
                </a:lnTo>
                <a:lnTo>
                  <a:pt x="2347" y="6"/>
                </a:lnTo>
                <a:lnTo>
                  <a:pt x="2347" y="6"/>
                </a:lnTo>
                <a:lnTo>
                  <a:pt x="2361" y="6"/>
                </a:lnTo>
                <a:lnTo>
                  <a:pt x="2376" y="8"/>
                </a:lnTo>
                <a:lnTo>
                  <a:pt x="2388" y="8"/>
                </a:lnTo>
                <a:lnTo>
                  <a:pt x="2402" y="11"/>
                </a:lnTo>
                <a:lnTo>
                  <a:pt x="2415" y="13"/>
                </a:lnTo>
                <a:lnTo>
                  <a:pt x="2429" y="16"/>
                </a:lnTo>
                <a:lnTo>
                  <a:pt x="2442" y="21"/>
                </a:lnTo>
                <a:lnTo>
                  <a:pt x="2455" y="24"/>
                </a:lnTo>
                <a:lnTo>
                  <a:pt x="2466" y="29"/>
                </a:lnTo>
                <a:lnTo>
                  <a:pt x="2478" y="34"/>
                </a:lnTo>
                <a:lnTo>
                  <a:pt x="2489" y="40"/>
                </a:lnTo>
                <a:lnTo>
                  <a:pt x="2500" y="45"/>
                </a:lnTo>
                <a:lnTo>
                  <a:pt x="2510" y="52"/>
                </a:lnTo>
                <a:lnTo>
                  <a:pt x="2521" y="58"/>
                </a:lnTo>
                <a:lnTo>
                  <a:pt x="2530" y="66"/>
                </a:lnTo>
                <a:lnTo>
                  <a:pt x="2540" y="73"/>
                </a:lnTo>
                <a:lnTo>
                  <a:pt x="2540" y="73"/>
                </a:lnTo>
                <a:lnTo>
                  <a:pt x="2535" y="82"/>
                </a:lnTo>
                <a:lnTo>
                  <a:pt x="2530" y="94"/>
                </a:lnTo>
                <a:lnTo>
                  <a:pt x="2526" y="104"/>
                </a:lnTo>
                <a:lnTo>
                  <a:pt x="2522" y="115"/>
                </a:lnTo>
                <a:lnTo>
                  <a:pt x="2521" y="128"/>
                </a:lnTo>
                <a:lnTo>
                  <a:pt x="2518" y="139"/>
                </a:lnTo>
                <a:lnTo>
                  <a:pt x="2518" y="150"/>
                </a:lnTo>
                <a:lnTo>
                  <a:pt x="2516" y="162"/>
                </a:lnTo>
                <a:lnTo>
                  <a:pt x="2516" y="162"/>
                </a:lnTo>
                <a:lnTo>
                  <a:pt x="2518" y="180"/>
                </a:lnTo>
                <a:lnTo>
                  <a:pt x="2521" y="196"/>
                </a:lnTo>
                <a:lnTo>
                  <a:pt x="2524" y="212"/>
                </a:lnTo>
                <a:lnTo>
                  <a:pt x="2530" y="226"/>
                </a:lnTo>
                <a:lnTo>
                  <a:pt x="2538" y="239"/>
                </a:lnTo>
                <a:lnTo>
                  <a:pt x="2548" y="251"/>
                </a:lnTo>
                <a:lnTo>
                  <a:pt x="2557" y="262"/>
                </a:lnTo>
                <a:lnTo>
                  <a:pt x="2568" y="272"/>
                </a:lnTo>
                <a:lnTo>
                  <a:pt x="2581" y="280"/>
                </a:lnTo>
                <a:lnTo>
                  <a:pt x="2593" y="285"/>
                </a:lnTo>
                <a:lnTo>
                  <a:pt x="2608" y="290"/>
                </a:lnTo>
                <a:lnTo>
                  <a:pt x="2623" y="293"/>
                </a:lnTo>
                <a:lnTo>
                  <a:pt x="2638" y="293"/>
                </a:lnTo>
                <a:lnTo>
                  <a:pt x="2655" y="293"/>
                </a:lnTo>
                <a:lnTo>
                  <a:pt x="2671" y="290"/>
                </a:lnTo>
                <a:lnTo>
                  <a:pt x="2687" y="283"/>
                </a:lnTo>
                <a:lnTo>
                  <a:pt x="2687" y="283"/>
                </a:lnTo>
                <a:lnTo>
                  <a:pt x="2699" y="278"/>
                </a:lnTo>
                <a:lnTo>
                  <a:pt x="2710" y="273"/>
                </a:lnTo>
                <a:lnTo>
                  <a:pt x="2721" y="265"/>
                </a:lnTo>
                <a:lnTo>
                  <a:pt x="2729" y="259"/>
                </a:lnTo>
                <a:lnTo>
                  <a:pt x="2739" y="249"/>
                </a:lnTo>
                <a:lnTo>
                  <a:pt x="2745" y="241"/>
                </a:lnTo>
                <a:lnTo>
                  <a:pt x="2751" y="231"/>
                </a:lnTo>
                <a:lnTo>
                  <a:pt x="2756" y="220"/>
                </a:lnTo>
                <a:lnTo>
                  <a:pt x="2759" y="210"/>
                </a:lnTo>
                <a:lnTo>
                  <a:pt x="2761" y="199"/>
                </a:lnTo>
                <a:lnTo>
                  <a:pt x="2761" y="188"/>
                </a:lnTo>
                <a:lnTo>
                  <a:pt x="2761" y="176"/>
                </a:lnTo>
                <a:lnTo>
                  <a:pt x="2758" y="165"/>
                </a:lnTo>
                <a:lnTo>
                  <a:pt x="2753" y="154"/>
                </a:lnTo>
                <a:lnTo>
                  <a:pt x="2747" y="142"/>
                </a:lnTo>
                <a:lnTo>
                  <a:pt x="2737" y="131"/>
                </a:lnTo>
                <a:lnTo>
                  <a:pt x="2737" y="131"/>
                </a:lnTo>
                <a:lnTo>
                  <a:pt x="2729" y="123"/>
                </a:lnTo>
                <a:lnTo>
                  <a:pt x="2721" y="116"/>
                </a:lnTo>
                <a:lnTo>
                  <a:pt x="2713" y="112"/>
                </a:lnTo>
                <a:lnTo>
                  <a:pt x="2704" y="107"/>
                </a:lnTo>
                <a:lnTo>
                  <a:pt x="2695" y="104"/>
                </a:lnTo>
                <a:lnTo>
                  <a:pt x="2685" y="102"/>
                </a:lnTo>
                <a:lnTo>
                  <a:pt x="2676" y="100"/>
                </a:lnTo>
                <a:lnTo>
                  <a:pt x="2666" y="102"/>
                </a:lnTo>
                <a:lnTo>
                  <a:pt x="2657" y="102"/>
                </a:lnTo>
                <a:lnTo>
                  <a:pt x="2647" y="105"/>
                </a:lnTo>
                <a:lnTo>
                  <a:pt x="2639" y="108"/>
                </a:lnTo>
                <a:lnTo>
                  <a:pt x="2630" y="113"/>
                </a:lnTo>
                <a:lnTo>
                  <a:pt x="2623" y="120"/>
                </a:lnTo>
                <a:lnTo>
                  <a:pt x="2616" y="126"/>
                </a:lnTo>
                <a:lnTo>
                  <a:pt x="2609" y="136"/>
                </a:lnTo>
                <a:lnTo>
                  <a:pt x="2605" y="146"/>
                </a:lnTo>
                <a:lnTo>
                  <a:pt x="2605" y="146"/>
                </a:lnTo>
                <a:lnTo>
                  <a:pt x="2601" y="155"/>
                </a:lnTo>
                <a:lnTo>
                  <a:pt x="2600" y="165"/>
                </a:lnTo>
                <a:lnTo>
                  <a:pt x="2598" y="173"/>
                </a:lnTo>
                <a:lnTo>
                  <a:pt x="2598" y="183"/>
                </a:lnTo>
                <a:lnTo>
                  <a:pt x="2600" y="191"/>
                </a:lnTo>
                <a:lnTo>
                  <a:pt x="2601" y="199"/>
                </a:lnTo>
                <a:lnTo>
                  <a:pt x="2605" y="205"/>
                </a:lnTo>
                <a:lnTo>
                  <a:pt x="2608" y="210"/>
                </a:lnTo>
                <a:lnTo>
                  <a:pt x="2608" y="210"/>
                </a:lnTo>
                <a:lnTo>
                  <a:pt x="2614" y="218"/>
                </a:lnTo>
                <a:lnTo>
                  <a:pt x="2620" y="220"/>
                </a:lnTo>
                <a:lnTo>
                  <a:pt x="2625" y="218"/>
                </a:lnTo>
                <a:lnTo>
                  <a:pt x="2630" y="213"/>
                </a:lnTo>
                <a:lnTo>
                  <a:pt x="2630" y="209"/>
                </a:lnTo>
                <a:lnTo>
                  <a:pt x="2630" y="202"/>
                </a:lnTo>
                <a:lnTo>
                  <a:pt x="2625" y="199"/>
                </a:lnTo>
                <a:lnTo>
                  <a:pt x="2617" y="201"/>
                </a:lnTo>
                <a:lnTo>
                  <a:pt x="2614" y="196"/>
                </a:lnTo>
                <a:lnTo>
                  <a:pt x="2612" y="191"/>
                </a:lnTo>
                <a:lnTo>
                  <a:pt x="2612" y="191"/>
                </a:lnTo>
                <a:lnTo>
                  <a:pt x="2611" y="173"/>
                </a:lnTo>
                <a:lnTo>
                  <a:pt x="2612" y="157"/>
                </a:lnTo>
                <a:lnTo>
                  <a:pt x="2617" y="142"/>
                </a:lnTo>
                <a:lnTo>
                  <a:pt x="2625" y="131"/>
                </a:lnTo>
                <a:lnTo>
                  <a:pt x="2636" y="121"/>
                </a:lnTo>
                <a:lnTo>
                  <a:pt x="2649" y="115"/>
                </a:lnTo>
                <a:lnTo>
                  <a:pt x="2665" y="112"/>
                </a:lnTo>
                <a:lnTo>
                  <a:pt x="2682" y="112"/>
                </a:lnTo>
                <a:lnTo>
                  <a:pt x="2682" y="112"/>
                </a:lnTo>
                <a:lnTo>
                  <a:pt x="2695" y="115"/>
                </a:lnTo>
                <a:lnTo>
                  <a:pt x="2704" y="120"/>
                </a:lnTo>
                <a:lnTo>
                  <a:pt x="2713" y="125"/>
                </a:lnTo>
                <a:lnTo>
                  <a:pt x="2723" y="131"/>
                </a:lnTo>
                <a:lnTo>
                  <a:pt x="2731" y="139"/>
                </a:lnTo>
                <a:lnTo>
                  <a:pt x="2737" y="147"/>
                </a:lnTo>
                <a:lnTo>
                  <a:pt x="2742" y="155"/>
                </a:lnTo>
                <a:lnTo>
                  <a:pt x="2747" y="165"/>
                </a:lnTo>
                <a:lnTo>
                  <a:pt x="2750" y="175"/>
                </a:lnTo>
                <a:lnTo>
                  <a:pt x="2751" y="186"/>
                </a:lnTo>
                <a:lnTo>
                  <a:pt x="2751" y="196"/>
                </a:lnTo>
                <a:lnTo>
                  <a:pt x="2750" y="207"/>
                </a:lnTo>
                <a:lnTo>
                  <a:pt x="2747" y="217"/>
                </a:lnTo>
                <a:lnTo>
                  <a:pt x="2742" y="228"/>
                </a:lnTo>
                <a:lnTo>
                  <a:pt x="2737" y="238"/>
                </a:lnTo>
                <a:lnTo>
                  <a:pt x="2729" y="247"/>
                </a:lnTo>
                <a:lnTo>
                  <a:pt x="2729" y="247"/>
                </a:lnTo>
                <a:lnTo>
                  <a:pt x="2715" y="259"/>
                </a:lnTo>
                <a:lnTo>
                  <a:pt x="2699" y="268"/>
                </a:lnTo>
                <a:lnTo>
                  <a:pt x="2683" y="275"/>
                </a:lnTo>
                <a:lnTo>
                  <a:pt x="2668" y="280"/>
                </a:lnTo>
                <a:lnTo>
                  <a:pt x="2652" y="283"/>
                </a:lnTo>
                <a:lnTo>
                  <a:pt x="2636" y="283"/>
                </a:lnTo>
                <a:lnTo>
                  <a:pt x="2620" y="281"/>
                </a:lnTo>
                <a:lnTo>
                  <a:pt x="2606" y="278"/>
                </a:lnTo>
                <a:lnTo>
                  <a:pt x="2592" y="273"/>
                </a:lnTo>
                <a:lnTo>
                  <a:pt x="2578" y="265"/>
                </a:lnTo>
                <a:lnTo>
                  <a:pt x="2565" y="257"/>
                </a:lnTo>
                <a:lnTo>
                  <a:pt x="2554" y="246"/>
                </a:lnTo>
                <a:lnTo>
                  <a:pt x="2545" y="231"/>
                </a:lnTo>
                <a:lnTo>
                  <a:pt x="2537" y="217"/>
                </a:lnTo>
                <a:lnTo>
                  <a:pt x="2530" y="199"/>
                </a:lnTo>
                <a:lnTo>
                  <a:pt x="2527" y="181"/>
                </a:lnTo>
                <a:lnTo>
                  <a:pt x="2527" y="181"/>
                </a:lnTo>
                <a:lnTo>
                  <a:pt x="2526" y="170"/>
                </a:lnTo>
                <a:lnTo>
                  <a:pt x="2527" y="157"/>
                </a:lnTo>
                <a:lnTo>
                  <a:pt x="2527" y="144"/>
                </a:lnTo>
                <a:lnTo>
                  <a:pt x="2530" y="129"/>
                </a:lnTo>
                <a:lnTo>
                  <a:pt x="2534" y="115"/>
                </a:lnTo>
                <a:lnTo>
                  <a:pt x="2537" y="102"/>
                </a:lnTo>
                <a:lnTo>
                  <a:pt x="2541" y="89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56" y="73"/>
                </a:lnTo>
                <a:lnTo>
                  <a:pt x="2564" y="65"/>
                </a:lnTo>
                <a:lnTo>
                  <a:pt x="2571" y="57"/>
                </a:lnTo>
                <a:lnTo>
                  <a:pt x="2579" y="49"/>
                </a:lnTo>
                <a:lnTo>
                  <a:pt x="2589" y="42"/>
                </a:lnTo>
                <a:lnTo>
                  <a:pt x="2598" y="36"/>
                </a:lnTo>
                <a:lnTo>
                  <a:pt x="2608" y="29"/>
                </a:lnTo>
                <a:lnTo>
                  <a:pt x="2617" y="23"/>
                </a:lnTo>
                <a:lnTo>
                  <a:pt x="2628" y="18"/>
                </a:lnTo>
                <a:lnTo>
                  <a:pt x="2639" y="13"/>
                </a:lnTo>
                <a:lnTo>
                  <a:pt x="2649" y="10"/>
                </a:lnTo>
                <a:lnTo>
                  <a:pt x="2660" y="6"/>
                </a:lnTo>
                <a:lnTo>
                  <a:pt x="2672" y="3"/>
                </a:lnTo>
                <a:lnTo>
                  <a:pt x="2683" y="2"/>
                </a:lnTo>
                <a:lnTo>
                  <a:pt x="2695" y="0"/>
                </a:lnTo>
                <a:lnTo>
                  <a:pt x="2707" y="0"/>
                </a:lnTo>
                <a:lnTo>
                  <a:pt x="2707" y="0"/>
                </a:lnTo>
                <a:lnTo>
                  <a:pt x="2728" y="3"/>
                </a:lnTo>
                <a:lnTo>
                  <a:pt x="2747" y="6"/>
                </a:lnTo>
                <a:lnTo>
                  <a:pt x="2766" y="13"/>
                </a:lnTo>
                <a:lnTo>
                  <a:pt x="2781" y="21"/>
                </a:lnTo>
                <a:lnTo>
                  <a:pt x="2796" y="31"/>
                </a:lnTo>
                <a:lnTo>
                  <a:pt x="2808" y="42"/>
                </a:lnTo>
                <a:lnTo>
                  <a:pt x="2819" y="53"/>
                </a:lnTo>
                <a:lnTo>
                  <a:pt x="2830" y="66"/>
                </a:lnTo>
                <a:lnTo>
                  <a:pt x="2840" y="79"/>
                </a:lnTo>
                <a:lnTo>
                  <a:pt x="2848" y="94"/>
                </a:lnTo>
                <a:lnTo>
                  <a:pt x="2854" y="108"/>
                </a:lnTo>
                <a:lnTo>
                  <a:pt x="2860" y="121"/>
                </a:lnTo>
                <a:lnTo>
                  <a:pt x="2867" y="136"/>
                </a:lnTo>
                <a:lnTo>
                  <a:pt x="2871" y="150"/>
                </a:lnTo>
                <a:lnTo>
                  <a:pt x="2876" y="163"/>
                </a:lnTo>
                <a:lnTo>
                  <a:pt x="2879" y="176"/>
                </a:lnTo>
                <a:lnTo>
                  <a:pt x="2879" y="176"/>
                </a:lnTo>
                <a:lnTo>
                  <a:pt x="2884" y="163"/>
                </a:lnTo>
                <a:lnTo>
                  <a:pt x="2887" y="150"/>
                </a:lnTo>
                <a:lnTo>
                  <a:pt x="2890" y="136"/>
                </a:lnTo>
                <a:lnTo>
                  <a:pt x="2895" y="121"/>
                </a:lnTo>
                <a:lnTo>
                  <a:pt x="2900" y="108"/>
                </a:lnTo>
                <a:lnTo>
                  <a:pt x="2906" y="94"/>
                </a:lnTo>
                <a:lnTo>
                  <a:pt x="2914" y="79"/>
                </a:lnTo>
                <a:lnTo>
                  <a:pt x="2922" y="66"/>
                </a:lnTo>
                <a:lnTo>
                  <a:pt x="2931" y="53"/>
                </a:lnTo>
                <a:lnTo>
                  <a:pt x="2942" y="42"/>
                </a:lnTo>
                <a:lnTo>
                  <a:pt x="2955" y="31"/>
                </a:lnTo>
                <a:lnTo>
                  <a:pt x="2971" y="21"/>
                </a:lnTo>
                <a:lnTo>
                  <a:pt x="2988" y="13"/>
                </a:lnTo>
                <a:lnTo>
                  <a:pt x="3007" y="6"/>
                </a:lnTo>
                <a:lnTo>
                  <a:pt x="3028" y="2"/>
                </a:lnTo>
                <a:lnTo>
                  <a:pt x="3053" y="0"/>
                </a:lnTo>
                <a:lnTo>
                  <a:pt x="3053" y="0"/>
                </a:lnTo>
                <a:lnTo>
                  <a:pt x="3064" y="0"/>
                </a:lnTo>
                <a:lnTo>
                  <a:pt x="3077" y="2"/>
                </a:lnTo>
                <a:lnTo>
                  <a:pt x="3088" y="3"/>
                </a:lnTo>
                <a:lnTo>
                  <a:pt x="3099" y="5"/>
                </a:lnTo>
                <a:lnTo>
                  <a:pt x="3110" y="8"/>
                </a:lnTo>
                <a:lnTo>
                  <a:pt x="3121" y="13"/>
                </a:lnTo>
                <a:lnTo>
                  <a:pt x="3130" y="18"/>
                </a:lnTo>
                <a:lnTo>
                  <a:pt x="3141" y="23"/>
                </a:lnTo>
                <a:lnTo>
                  <a:pt x="3151" y="29"/>
                </a:lnTo>
                <a:lnTo>
                  <a:pt x="3160" y="34"/>
                </a:lnTo>
                <a:lnTo>
                  <a:pt x="3170" y="42"/>
                </a:lnTo>
                <a:lnTo>
                  <a:pt x="3179" y="49"/>
                </a:lnTo>
                <a:lnTo>
                  <a:pt x="3187" y="57"/>
                </a:lnTo>
                <a:lnTo>
                  <a:pt x="3195" y="65"/>
                </a:lnTo>
                <a:lnTo>
                  <a:pt x="3203" y="73"/>
                </a:lnTo>
                <a:lnTo>
                  <a:pt x="3211" y="81"/>
                </a:lnTo>
                <a:lnTo>
                  <a:pt x="3211" y="81"/>
                </a:lnTo>
                <a:lnTo>
                  <a:pt x="3211" y="81"/>
                </a:lnTo>
                <a:lnTo>
                  <a:pt x="3211" y="81"/>
                </a:lnTo>
                <a:lnTo>
                  <a:pt x="3211" y="81"/>
                </a:lnTo>
                <a:lnTo>
                  <a:pt x="3212" y="81"/>
                </a:lnTo>
                <a:lnTo>
                  <a:pt x="3212" y="81"/>
                </a:lnTo>
                <a:lnTo>
                  <a:pt x="3217" y="89"/>
                </a:lnTo>
                <a:lnTo>
                  <a:pt x="3222" y="100"/>
                </a:lnTo>
                <a:lnTo>
                  <a:pt x="3226" y="115"/>
                </a:lnTo>
                <a:lnTo>
                  <a:pt x="3230" y="128"/>
                </a:lnTo>
                <a:lnTo>
                  <a:pt x="3231" y="142"/>
                </a:lnTo>
                <a:lnTo>
                  <a:pt x="3231" y="157"/>
                </a:lnTo>
                <a:lnTo>
                  <a:pt x="3233" y="170"/>
                </a:lnTo>
                <a:lnTo>
                  <a:pt x="3231" y="181"/>
                </a:lnTo>
                <a:lnTo>
                  <a:pt x="3231" y="181"/>
                </a:lnTo>
                <a:lnTo>
                  <a:pt x="3228" y="199"/>
                </a:lnTo>
                <a:lnTo>
                  <a:pt x="3222" y="217"/>
                </a:lnTo>
                <a:lnTo>
                  <a:pt x="3214" y="231"/>
                </a:lnTo>
                <a:lnTo>
                  <a:pt x="3204" y="246"/>
                </a:lnTo>
                <a:lnTo>
                  <a:pt x="3193" y="257"/>
                </a:lnTo>
                <a:lnTo>
                  <a:pt x="3181" y="265"/>
                </a:lnTo>
                <a:lnTo>
                  <a:pt x="3167" y="273"/>
                </a:lnTo>
                <a:lnTo>
                  <a:pt x="3152" y="278"/>
                </a:lnTo>
                <a:lnTo>
                  <a:pt x="3138" y="281"/>
                </a:lnTo>
                <a:lnTo>
                  <a:pt x="3122" y="283"/>
                </a:lnTo>
                <a:lnTo>
                  <a:pt x="3107" y="283"/>
                </a:lnTo>
                <a:lnTo>
                  <a:pt x="3091" y="280"/>
                </a:lnTo>
                <a:lnTo>
                  <a:pt x="3075" y="275"/>
                </a:lnTo>
                <a:lnTo>
                  <a:pt x="3059" y="268"/>
                </a:lnTo>
                <a:lnTo>
                  <a:pt x="3043" y="259"/>
                </a:lnTo>
                <a:lnTo>
                  <a:pt x="3029" y="247"/>
                </a:lnTo>
                <a:lnTo>
                  <a:pt x="3029" y="247"/>
                </a:lnTo>
                <a:lnTo>
                  <a:pt x="3021" y="238"/>
                </a:lnTo>
                <a:lnTo>
                  <a:pt x="3017" y="228"/>
                </a:lnTo>
                <a:lnTo>
                  <a:pt x="3012" y="217"/>
                </a:lnTo>
                <a:lnTo>
                  <a:pt x="3009" y="207"/>
                </a:lnTo>
                <a:lnTo>
                  <a:pt x="3007" y="196"/>
                </a:lnTo>
                <a:lnTo>
                  <a:pt x="3007" y="186"/>
                </a:lnTo>
                <a:lnTo>
                  <a:pt x="3009" y="175"/>
                </a:lnTo>
                <a:lnTo>
                  <a:pt x="3012" y="165"/>
                </a:lnTo>
                <a:lnTo>
                  <a:pt x="3017" y="155"/>
                </a:lnTo>
                <a:lnTo>
                  <a:pt x="3021" y="147"/>
                </a:lnTo>
                <a:lnTo>
                  <a:pt x="3028" y="139"/>
                </a:lnTo>
                <a:lnTo>
                  <a:pt x="3035" y="131"/>
                </a:lnTo>
                <a:lnTo>
                  <a:pt x="3045" y="125"/>
                </a:lnTo>
                <a:lnTo>
                  <a:pt x="3054" y="120"/>
                </a:lnTo>
                <a:lnTo>
                  <a:pt x="3064" y="115"/>
                </a:lnTo>
                <a:lnTo>
                  <a:pt x="3077" y="112"/>
                </a:lnTo>
                <a:lnTo>
                  <a:pt x="3077" y="112"/>
                </a:lnTo>
                <a:lnTo>
                  <a:pt x="3094" y="112"/>
                </a:lnTo>
                <a:lnTo>
                  <a:pt x="3110" y="115"/>
                </a:lnTo>
                <a:lnTo>
                  <a:pt x="3122" y="121"/>
                </a:lnTo>
                <a:lnTo>
                  <a:pt x="3133" y="131"/>
                </a:lnTo>
                <a:lnTo>
                  <a:pt x="3141" y="142"/>
                </a:lnTo>
                <a:lnTo>
                  <a:pt x="3146" y="157"/>
                </a:lnTo>
                <a:lnTo>
                  <a:pt x="3148" y="173"/>
                </a:lnTo>
                <a:lnTo>
                  <a:pt x="3146" y="191"/>
                </a:lnTo>
                <a:lnTo>
                  <a:pt x="3144" y="196"/>
                </a:lnTo>
                <a:lnTo>
                  <a:pt x="3141" y="201"/>
                </a:lnTo>
                <a:lnTo>
                  <a:pt x="3141" y="201"/>
                </a:lnTo>
                <a:lnTo>
                  <a:pt x="3133" y="199"/>
                </a:lnTo>
                <a:lnTo>
                  <a:pt x="3129" y="202"/>
                </a:lnTo>
                <a:lnTo>
                  <a:pt x="3129" y="209"/>
                </a:lnTo>
                <a:lnTo>
                  <a:pt x="3130" y="213"/>
                </a:lnTo>
                <a:lnTo>
                  <a:pt x="3133" y="218"/>
                </a:lnTo>
                <a:lnTo>
                  <a:pt x="3138" y="220"/>
                </a:lnTo>
                <a:lnTo>
                  <a:pt x="3144" y="218"/>
                </a:lnTo>
                <a:lnTo>
                  <a:pt x="3151" y="210"/>
                </a:lnTo>
                <a:lnTo>
                  <a:pt x="3151" y="210"/>
                </a:lnTo>
                <a:lnTo>
                  <a:pt x="3154" y="205"/>
                </a:lnTo>
                <a:lnTo>
                  <a:pt x="3157" y="199"/>
                </a:lnTo>
                <a:lnTo>
                  <a:pt x="3159" y="191"/>
                </a:lnTo>
                <a:lnTo>
                  <a:pt x="3160" y="183"/>
                </a:lnTo>
                <a:lnTo>
                  <a:pt x="3160" y="173"/>
                </a:lnTo>
                <a:lnTo>
                  <a:pt x="3159" y="165"/>
                </a:lnTo>
                <a:lnTo>
                  <a:pt x="3157" y="155"/>
                </a:lnTo>
                <a:lnTo>
                  <a:pt x="3154" y="146"/>
                </a:lnTo>
                <a:lnTo>
                  <a:pt x="3154" y="146"/>
                </a:lnTo>
                <a:lnTo>
                  <a:pt x="3149" y="136"/>
                </a:lnTo>
                <a:lnTo>
                  <a:pt x="3143" y="126"/>
                </a:lnTo>
                <a:lnTo>
                  <a:pt x="3135" y="120"/>
                </a:lnTo>
                <a:lnTo>
                  <a:pt x="3129" y="113"/>
                </a:lnTo>
                <a:lnTo>
                  <a:pt x="3119" y="108"/>
                </a:lnTo>
                <a:lnTo>
                  <a:pt x="3111" y="105"/>
                </a:lnTo>
                <a:lnTo>
                  <a:pt x="3102" y="102"/>
                </a:lnTo>
                <a:lnTo>
                  <a:pt x="3092" y="102"/>
                </a:lnTo>
                <a:lnTo>
                  <a:pt x="3083" y="100"/>
                </a:lnTo>
                <a:lnTo>
                  <a:pt x="3073" y="102"/>
                </a:lnTo>
                <a:lnTo>
                  <a:pt x="3064" y="104"/>
                </a:lnTo>
                <a:lnTo>
                  <a:pt x="3054" y="107"/>
                </a:lnTo>
                <a:lnTo>
                  <a:pt x="3045" y="112"/>
                </a:lnTo>
                <a:lnTo>
                  <a:pt x="3037" y="116"/>
                </a:lnTo>
                <a:lnTo>
                  <a:pt x="3029" y="123"/>
                </a:lnTo>
                <a:lnTo>
                  <a:pt x="3021" y="131"/>
                </a:lnTo>
                <a:lnTo>
                  <a:pt x="3021" y="131"/>
                </a:lnTo>
                <a:lnTo>
                  <a:pt x="3012" y="142"/>
                </a:lnTo>
                <a:lnTo>
                  <a:pt x="3005" y="154"/>
                </a:lnTo>
                <a:lnTo>
                  <a:pt x="3001" y="165"/>
                </a:lnTo>
                <a:lnTo>
                  <a:pt x="2998" y="176"/>
                </a:lnTo>
                <a:lnTo>
                  <a:pt x="2998" y="188"/>
                </a:lnTo>
                <a:lnTo>
                  <a:pt x="2998" y="199"/>
                </a:lnTo>
                <a:lnTo>
                  <a:pt x="2999" y="210"/>
                </a:lnTo>
                <a:lnTo>
                  <a:pt x="3002" y="220"/>
                </a:lnTo>
                <a:lnTo>
                  <a:pt x="3007" y="231"/>
                </a:lnTo>
                <a:lnTo>
                  <a:pt x="3013" y="241"/>
                </a:lnTo>
                <a:lnTo>
                  <a:pt x="3020" y="249"/>
                </a:lnTo>
                <a:lnTo>
                  <a:pt x="3029" y="259"/>
                </a:lnTo>
                <a:lnTo>
                  <a:pt x="3037" y="265"/>
                </a:lnTo>
                <a:lnTo>
                  <a:pt x="3048" y="273"/>
                </a:lnTo>
                <a:lnTo>
                  <a:pt x="3059" y="278"/>
                </a:lnTo>
                <a:lnTo>
                  <a:pt x="3072" y="283"/>
                </a:lnTo>
                <a:lnTo>
                  <a:pt x="3072" y="283"/>
                </a:lnTo>
                <a:lnTo>
                  <a:pt x="3088" y="290"/>
                </a:lnTo>
                <a:lnTo>
                  <a:pt x="3103" y="293"/>
                </a:lnTo>
                <a:lnTo>
                  <a:pt x="3121" y="293"/>
                </a:lnTo>
                <a:lnTo>
                  <a:pt x="3135" y="293"/>
                </a:lnTo>
                <a:lnTo>
                  <a:pt x="3151" y="290"/>
                </a:lnTo>
                <a:lnTo>
                  <a:pt x="3165" y="285"/>
                </a:lnTo>
                <a:lnTo>
                  <a:pt x="3178" y="280"/>
                </a:lnTo>
                <a:lnTo>
                  <a:pt x="3190" y="272"/>
                </a:lnTo>
                <a:lnTo>
                  <a:pt x="3201" y="262"/>
                </a:lnTo>
                <a:lnTo>
                  <a:pt x="3211" y="251"/>
                </a:lnTo>
                <a:lnTo>
                  <a:pt x="3220" y="239"/>
                </a:lnTo>
                <a:lnTo>
                  <a:pt x="3228" y="226"/>
                </a:lnTo>
                <a:lnTo>
                  <a:pt x="3234" y="212"/>
                </a:lnTo>
                <a:lnTo>
                  <a:pt x="3238" y="196"/>
                </a:lnTo>
                <a:lnTo>
                  <a:pt x="3241" y="180"/>
                </a:lnTo>
                <a:lnTo>
                  <a:pt x="3242" y="162"/>
                </a:lnTo>
                <a:lnTo>
                  <a:pt x="3242" y="162"/>
                </a:lnTo>
                <a:lnTo>
                  <a:pt x="3241" y="150"/>
                </a:lnTo>
                <a:lnTo>
                  <a:pt x="3241" y="139"/>
                </a:lnTo>
                <a:lnTo>
                  <a:pt x="3238" y="128"/>
                </a:lnTo>
                <a:lnTo>
                  <a:pt x="3236" y="115"/>
                </a:lnTo>
                <a:lnTo>
                  <a:pt x="3233" y="104"/>
                </a:lnTo>
                <a:lnTo>
                  <a:pt x="3228" y="94"/>
                </a:lnTo>
                <a:lnTo>
                  <a:pt x="3225" y="82"/>
                </a:lnTo>
                <a:lnTo>
                  <a:pt x="3220" y="73"/>
                </a:lnTo>
                <a:lnTo>
                  <a:pt x="3220" y="73"/>
                </a:lnTo>
                <a:lnTo>
                  <a:pt x="3228" y="66"/>
                </a:lnTo>
                <a:lnTo>
                  <a:pt x="3238" y="58"/>
                </a:lnTo>
                <a:lnTo>
                  <a:pt x="3249" y="52"/>
                </a:lnTo>
                <a:lnTo>
                  <a:pt x="3258" y="45"/>
                </a:lnTo>
                <a:lnTo>
                  <a:pt x="3269" y="39"/>
                </a:lnTo>
                <a:lnTo>
                  <a:pt x="3282" y="34"/>
                </a:lnTo>
                <a:lnTo>
                  <a:pt x="3293" y="29"/>
                </a:lnTo>
                <a:lnTo>
                  <a:pt x="3305" y="24"/>
                </a:lnTo>
                <a:lnTo>
                  <a:pt x="3318" y="19"/>
                </a:lnTo>
                <a:lnTo>
                  <a:pt x="3331" y="16"/>
                </a:lnTo>
                <a:lnTo>
                  <a:pt x="3343" y="13"/>
                </a:lnTo>
                <a:lnTo>
                  <a:pt x="3356" y="11"/>
                </a:lnTo>
                <a:lnTo>
                  <a:pt x="3370" y="8"/>
                </a:lnTo>
                <a:lnTo>
                  <a:pt x="3384" y="6"/>
                </a:lnTo>
                <a:lnTo>
                  <a:pt x="3399" y="6"/>
                </a:lnTo>
                <a:lnTo>
                  <a:pt x="3413" y="6"/>
                </a:lnTo>
                <a:lnTo>
                  <a:pt x="3413" y="6"/>
                </a:lnTo>
                <a:lnTo>
                  <a:pt x="3427" y="6"/>
                </a:lnTo>
                <a:lnTo>
                  <a:pt x="3443" y="8"/>
                </a:lnTo>
                <a:lnTo>
                  <a:pt x="3455" y="10"/>
                </a:lnTo>
                <a:lnTo>
                  <a:pt x="3470" y="11"/>
                </a:lnTo>
                <a:lnTo>
                  <a:pt x="3484" y="15"/>
                </a:lnTo>
                <a:lnTo>
                  <a:pt x="3498" y="18"/>
                </a:lnTo>
                <a:lnTo>
                  <a:pt x="3512" y="23"/>
                </a:lnTo>
                <a:lnTo>
                  <a:pt x="3525" y="27"/>
                </a:lnTo>
                <a:lnTo>
                  <a:pt x="3537" y="32"/>
                </a:lnTo>
                <a:lnTo>
                  <a:pt x="3550" y="39"/>
                </a:lnTo>
                <a:lnTo>
                  <a:pt x="3561" y="45"/>
                </a:lnTo>
                <a:lnTo>
                  <a:pt x="3574" y="52"/>
                </a:lnTo>
                <a:lnTo>
                  <a:pt x="3585" y="60"/>
                </a:lnTo>
                <a:lnTo>
                  <a:pt x="3594" y="68"/>
                </a:lnTo>
                <a:lnTo>
                  <a:pt x="3605" y="76"/>
                </a:lnTo>
                <a:lnTo>
                  <a:pt x="3615" y="86"/>
                </a:lnTo>
                <a:lnTo>
                  <a:pt x="3615" y="86"/>
                </a:lnTo>
                <a:lnTo>
                  <a:pt x="3602" y="94"/>
                </a:lnTo>
                <a:lnTo>
                  <a:pt x="3591" y="102"/>
                </a:lnTo>
                <a:lnTo>
                  <a:pt x="3582" y="110"/>
                </a:lnTo>
                <a:lnTo>
                  <a:pt x="3574" y="120"/>
                </a:lnTo>
                <a:lnTo>
                  <a:pt x="3566" y="129"/>
                </a:lnTo>
                <a:lnTo>
                  <a:pt x="3560" y="139"/>
                </a:lnTo>
                <a:lnTo>
                  <a:pt x="3556" y="149"/>
                </a:lnTo>
                <a:lnTo>
                  <a:pt x="3553" y="159"/>
                </a:lnTo>
                <a:lnTo>
                  <a:pt x="3553" y="159"/>
                </a:lnTo>
                <a:lnTo>
                  <a:pt x="3552" y="168"/>
                </a:lnTo>
                <a:lnTo>
                  <a:pt x="3553" y="178"/>
                </a:lnTo>
                <a:lnTo>
                  <a:pt x="3556" y="188"/>
                </a:lnTo>
                <a:lnTo>
                  <a:pt x="3563" y="196"/>
                </a:lnTo>
                <a:lnTo>
                  <a:pt x="3569" y="204"/>
                </a:lnTo>
                <a:lnTo>
                  <a:pt x="3577" y="212"/>
                </a:lnTo>
                <a:lnTo>
                  <a:pt x="3586" y="220"/>
                </a:lnTo>
                <a:lnTo>
                  <a:pt x="3597" y="226"/>
                </a:lnTo>
                <a:lnTo>
                  <a:pt x="3610" y="233"/>
                </a:lnTo>
                <a:lnTo>
                  <a:pt x="3623" y="239"/>
                </a:lnTo>
                <a:lnTo>
                  <a:pt x="3637" y="244"/>
                </a:lnTo>
                <a:lnTo>
                  <a:pt x="3653" y="249"/>
                </a:lnTo>
                <a:lnTo>
                  <a:pt x="3668" y="252"/>
                </a:lnTo>
                <a:lnTo>
                  <a:pt x="3684" y="254"/>
                </a:lnTo>
                <a:lnTo>
                  <a:pt x="3700" y="256"/>
                </a:lnTo>
                <a:lnTo>
                  <a:pt x="3717" y="257"/>
                </a:lnTo>
                <a:lnTo>
                  <a:pt x="3717" y="257"/>
                </a:lnTo>
                <a:lnTo>
                  <a:pt x="3733" y="256"/>
                </a:lnTo>
                <a:lnTo>
                  <a:pt x="3751" y="254"/>
                </a:lnTo>
                <a:lnTo>
                  <a:pt x="3766" y="252"/>
                </a:lnTo>
                <a:lnTo>
                  <a:pt x="3781" y="249"/>
                </a:lnTo>
                <a:lnTo>
                  <a:pt x="3795" y="244"/>
                </a:lnTo>
                <a:lnTo>
                  <a:pt x="3809" y="239"/>
                </a:lnTo>
                <a:lnTo>
                  <a:pt x="3822" y="233"/>
                </a:lnTo>
                <a:lnTo>
                  <a:pt x="3833" y="226"/>
                </a:lnTo>
                <a:lnTo>
                  <a:pt x="3844" y="220"/>
                </a:lnTo>
                <a:lnTo>
                  <a:pt x="3853" y="212"/>
                </a:lnTo>
                <a:lnTo>
                  <a:pt x="3861" y="204"/>
                </a:lnTo>
                <a:lnTo>
                  <a:pt x="3869" y="196"/>
                </a:lnTo>
                <a:lnTo>
                  <a:pt x="3874" y="188"/>
                </a:lnTo>
                <a:lnTo>
                  <a:pt x="3878" y="178"/>
                </a:lnTo>
                <a:lnTo>
                  <a:pt x="3880" y="168"/>
                </a:lnTo>
                <a:lnTo>
                  <a:pt x="3882" y="159"/>
                </a:lnTo>
                <a:lnTo>
                  <a:pt x="3882" y="159"/>
                </a:lnTo>
                <a:lnTo>
                  <a:pt x="3880" y="146"/>
                </a:lnTo>
                <a:lnTo>
                  <a:pt x="3874" y="134"/>
                </a:lnTo>
                <a:lnTo>
                  <a:pt x="3866" y="121"/>
                </a:lnTo>
                <a:lnTo>
                  <a:pt x="3856" y="110"/>
                </a:lnTo>
                <a:lnTo>
                  <a:pt x="3842" y="100"/>
                </a:lnTo>
                <a:lnTo>
                  <a:pt x="3828" y="91"/>
                </a:lnTo>
                <a:lnTo>
                  <a:pt x="3811" y="81"/>
                </a:lnTo>
                <a:lnTo>
                  <a:pt x="3793" y="73"/>
                </a:lnTo>
                <a:lnTo>
                  <a:pt x="3793" y="73"/>
                </a:lnTo>
                <a:lnTo>
                  <a:pt x="3799" y="65"/>
                </a:lnTo>
                <a:lnTo>
                  <a:pt x="3807" y="57"/>
                </a:lnTo>
                <a:lnTo>
                  <a:pt x="3818" y="49"/>
                </a:lnTo>
                <a:lnTo>
                  <a:pt x="3829" y="44"/>
                </a:lnTo>
                <a:lnTo>
                  <a:pt x="3841" y="39"/>
                </a:lnTo>
                <a:lnTo>
                  <a:pt x="3855" y="36"/>
                </a:lnTo>
                <a:lnTo>
                  <a:pt x="3869" y="32"/>
                </a:lnTo>
                <a:lnTo>
                  <a:pt x="3883" y="32"/>
                </a:lnTo>
                <a:lnTo>
                  <a:pt x="3883" y="32"/>
                </a:lnTo>
                <a:lnTo>
                  <a:pt x="3901" y="32"/>
                </a:lnTo>
                <a:lnTo>
                  <a:pt x="3916" y="36"/>
                </a:lnTo>
                <a:lnTo>
                  <a:pt x="3931" y="40"/>
                </a:lnTo>
                <a:lnTo>
                  <a:pt x="3945" y="47"/>
                </a:lnTo>
                <a:lnTo>
                  <a:pt x="3956" y="55"/>
                </a:lnTo>
                <a:lnTo>
                  <a:pt x="3965" y="63"/>
                </a:lnTo>
                <a:lnTo>
                  <a:pt x="3973" y="71"/>
                </a:lnTo>
                <a:lnTo>
                  <a:pt x="3978" y="81"/>
                </a:lnTo>
                <a:lnTo>
                  <a:pt x="3978" y="81"/>
                </a:lnTo>
                <a:lnTo>
                  <a:pt x="3984" y="73"/>
                </a:lnTo>
                <a:lnTo>
                  <a:pt x="3990" y="66"/>
                </a:lnTo>
                <a:lnTo>
                  <a:pt x="3998" y="58"/>
                </a:lnTo>
                <a:lnTo>
                  <a:pt x="4006" y="52"/>
                </a:lnTo>
                <a:lnTo>
                  <a:pt x="4014" y="45"/>
                </a:lnTo>
                <a:lnTo>
                  <a:pt x="4024" y="39"/>
                </a:lnTo>
                <a:lnTo>
                  <a:pt x="4033" y="34"/>
                </a:lnTo>
                <a:lnTo>
                  <a:pt x="4043" y="27"/>
                </a:lnTo>
                <a:lnTo>
                  <a:pt x="4052" y="24"/>
                </a:lnTo>
                <a:lnTo>
                  <a:pt x="4062" y="19"/>
                </a:lnTo>
                <a:lnTo>
                  <a:pt x="4073" y="16"/>
                </a:lnTo>
                <a:lnTo>
                  <a:pt x="4082" y="15"/>
                </a:lnTo>
                <a:lnTo>
                  <a:pt x="4093" y="13"/>
                </a:lnTo>
                <a:lnTo>
                  <a:pt x="4104" y="11"/>
                </a:lnTo>
                <a:lnTo>
                  <a:pt x="4114" y="11"/>
                </a:lnTo>
                <a:lnTo>
                  <a:pt x="4125" y="13"/>
                </a:lnTo>
                <a:lnTo>
                  <a:pt x="4125" y="13"/>
                </a:lnTo>
                <a:lnTo>
                  <a:pt x="4134" y="15"/>
                </a:lnTo>
                <a:lnTo>
                  <a:pt x="4144" y="15"/>
                </a:lnTo>
                <a:lnTo>
                  <a:pt x="4153" y="16"/>
                </a:lnTo>
                <a:lnTo>
                  <a:pt x="4163" y="19"/>
                </a:lnTo>
                <a:lnTo>
                  <a:pt x="4172" y="21"/>
                </a:lnTo>
                <a:lnTo>
                  <a:pt x="4183" y="23"/>
                </a:lnTo>
                <a:lnTo>
                  <a:pt x="4191" y="26"/>
                </a:lnTo>
                <a:lnTo>
                  <a:pt x="4200" y="27"/>
                </a:lnTo>
                <a:lnTo>
                  <a:pt x="4200" y="27"/>
                </a:lnTo>
                <a:lnTo>
                  <a:pt x="4202" y="29"/>
                </a:lnTo>
                <a:lnTo>
                  <a:pt x="4207" y="31"/>
                </a:lnTo>
                <a:lnTo>
                  <a:pt x="4216" y="34"/>
                </a:lnTo>
                <a:lnTo>
                  <a:pt x="4227" y="39"/>
                </a:lnTo>
                <a:lnTo>
                  <a:pt x="4241" y="45"/>
                </a:lnTo>
                <a:lnTo>
                  <a:pt x="4259" y="52"/>
                </a:lnTo>
                <a:lnTo>
                  <a:pt x="4278" y="60"/>
                </a:lnTo>
                <a:lnTo>
                  <a:pt x="4300" y="70"/>
                </a:lnTo>
                <a:lnTo>
                  <a:pt x="4324" y="79"/>
                </a:lnTo>
                <a:lnTo>
                  <a:pt x="4349" y="89"/>
                </a:lnTo>
                <a:lnTo>
                  <a:pt x="4377" y="100"/>
                </a:lnTo>
                <a:lnTo>
                  <a:pt x="4406" y="112"/>
                </a:lnTo>
                <a:lnTo>
                  <a:pt x="4437" y="123"/>
                </a:lnTo>
                <a:lnTo>
                  <a:pt x="4469" y="136"/>
                </a:lnTo>
                <a:lnTo>
                  <a:pt x="4500" y="149"/>
                </a:lnTo>
                <a:lnTo>
                  <a:pt x="4533" y="160"/>
                </a:lnTo>
                <a:lnTo>
                  <a:pt x="4568" y="173"/>
                </a:lnTo>
                <a:lnTo>
                  <a:pt x="4601" y="186"/>
                </a:lnTo>
                <a:lnTo>
                  <a:pt x="4636" y="197"/>
                </a:lnTo>
                <a:lnTo>
                  <a:pt x="4671" y="210"/>
                </a:lnTo>
                <a:lnTo>
                  <a:pt x="4706" y="222"/>
                </a:lnTo>
                <a:lnTo>
                  <a:pt x="4740" y="233"/>
                </a:lnTo>
                <a:lnTo>
                  <a:pt x="4773" y="243"/>
                </a:lnTo>
                <a:lnTo>
                  <a:pt x="4807" y="252"/>
                </a:lnTo>
                <a:lnTo>
                  <a:pt x="4838" y="262"/>
                </a:lnTo>
                <a:lnTo>
                  <a:pt x="4870" y="270"/>
                </a:lnTo>
                <a:lnTo>
                  <a:pt x="4900" y="277"/>
                </a:lnTo>
                <a:lnTo>
                  <a:pt x="4928" y="283"/>
                </a:lnTo>
                <a:lnTo>
                  <a:pt x="4955" y="288"/>
                </a:lnTo>
                <a:lnTo>
                  <a:pt x="4980" y="291"/>
                </a:lnTo>
                <a:lnTo>
                  <a:pt x="5004" y="294"/>
                </a:lnTo>
                <a:lnTo>
                  <a:pt x="5024" y="294"/>
                </a:lnTo>
                <a:lnTo>
                  <a:pt x="5024" y="294"/>
                </a:lnTo>
                <a:lnTo>
                  <a:pt x="5045" y="294"/>
                </a:lnTo>
                <a:lnTo>
                  <a:pt x="5065" y="293"/>
                </a:lnTo>
                <a:lnTo>
                  <a:pt x="5084" y="290"/>
                </a:lnTo>
                <a:lnTo>
                  <a:pt x="5102" y="286"/>
                </a:lnTo>
                <a:lnTo>
                  <a:pt x="5119" y="281"/>
                </a:lnTo>
                <a:lnTo>
                  <a:pt x="5136" y="275"/>
                </a:lnTo>
                <a:lnTo>
                  <a:pt x="5151" y="268"/>
                </a:lnTo>
                <a:lnTo>
                  <a:pt x="5165" y="260"/>
                </a:lnTo>
                <a:lnTo>
                  <a:pt x="5178" y="252"/>
                </a:lnTo>
                <a:lnTo>
                  <a:pt x="5190" y="243"/>
                </a:lnTo>
                <a:lnTo>
                  <a:pt x="5200" y="233"/>
                </a:lnTo>
                <a:lnTo>
                  <a:pt x="5208" y="223"/>
                </a:lnTo>
                <a:lnTo>
                  <a:pt x="5214" y="212"/>
                </a:lnTo>
                <a:lnTo>
                  <a:pt x="5219" y="201"/>
                </a:lnTo>
                <a:lnTo>
                  <a:pt x="5222" y="189"/>
                </a:lnTo>
                <a:lnTo>
                  <a:pt x="5223" y="176"/>
                </a:lnTo>
                <a:lnTo>
                  <a:pt x="5223" y="176"/>
                </a:lnTo>
                <a:lnTo>
                  <a:pt x="5222" y="165"/>
                </a:lnTo>
                <a:lnTo>
                  <a:pt x="5219" y="154"/>
                </a:lnTo>
                <a:lnTo>
                  <a:pt x="5214" y="142"/>
                </a:lnTo>
                <a:lnTo>
                  <a:pt x="5208" y="131"/>
                </a:lnTo>
                <a:lnTo>
                  <a:pt x="5198" y="121"/>
                </a:lnTo>
                <a:lnTo>
                  <a:pt x="5189" y="112"/>
                </a:lnTo>
                <a:lnTo>
                  <a:pt x="5178" y="104"/>
                </a:lnTo>
                <a:lnTo>
                  <a:pt x="5165" y="97"/>
                </a:lnTo>
                <a:lnTo>
                  <a:pt x="5165" y="97"/>
                </a:lnTo>
                <a:lnTo>
                  <a:pt x="5178" y="92"/>
                </a:lnTo>
                <a:lnTo>
                  <a:pt x="5190" y="87"/>
                </a:lnTo>
                <a:lnTo>
                  <a:pt x="5204" y="84"/>
                </a:lnTo>
                <a:lnTo>
                  <a:pt x="5219" y="79"/>
                </a:lnTo>
                <a:lnTo>
                  <a:pt x="5233" y="76"/>
                </a:lnTo>
                <a:lnTo>
                  <a:pt x="5247" y="74"/>
                </a:lnTo>
                <a:lnTo>
                  <a:pt x="5263" y="73"/>
                </a:lnTo>
                <a:lnTo>
                  <a:pt x="5277" y="71"/>
                </a:lnTo>
                <a:lnTo>
                  <a:pt x="5277" y="71"/>
                </a:lnTo>
                <a:lnTo>
                  <a:pt x="5288" y="71"/>
                </a:lnTo>
                <a:lnTo>
                  <a:pt x="5297" y="71"/>
                </a:lnTo>
                <a:lnTo>
                  <a:pt x="5307" y="73"/>
                </a:lnTo>
                <a:lnTo>
                  <a:pt x="5316" y="74"/>
                </a:lnTo>
                <a:lnTo>
                  <a:pt x="5326" y="76"/>
                </a:lnTo>
                <a:lnTo>
                  <a:pt x="5335" y="78"/>
                </a:lnTo>
                <a:lnTo>
                  <a:pt x="5345" y="79"/>
                </a:lnTo>
                <a:lnTo>
                  <a:pt x="5354" y="82"/>
                </a:lnTo>
                <a:lnTo>
                  <a:pt x="5364" y="86"/>
                </a:lnTo>
                <a:lnTo>
                  <a:pt x="5372" y="89"/>
                </a:lnTo>
                <a:lnTo>
                  <a:pt x="5380" y="92"/>
                </a:lnTo>
                <a:lnTo>
                  <a:pt x="5387" y="97"/>
                </a:lnTo>
                <a:lnTo>
                  <a:pt x="5395" y="100"/>
                </a:lnTo>
                <a:lnTo>
                  <a:pt x="5403" y="105"/>
                </a:lnTo>
                <a:lnTo>
                  <a:pt x="5410" y="110"/>
                </a:lnTo>
                <a:lnTo>
                  <a:pt x="5416" y="115"/>
                </a:lnTo>
                <a:lnTo>
                  <a:pt x="5416" y="115"/>
                </a:lnTo>
                <a:lnTo>
                  <a:pt x="5414" y="121"/>
                </a:lnTo>
                <a:lnTo>
                  <a:pt x="5413" y="126"/>
                </a:lnTo>
                <a:lnTo>
                  <a:pt x="5411" y="131"/>
                </a:lnTo>
                <a:lnTo>
                  <a:pt x="5411" y="136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556320"/>
            <a:ext cx="9144000" cy="301680"/>
          </a:xfrm>
          <a:custGeom>
            <a:avLst/>
            <a:gdLst/>
            <a:ahLst/>
            <a:rect l="l" t="t" r="r" b="b"/>
            <a:pathLst>
              <a:path w="5760" h="380">
                <a:moveTo>
                  <a:pt x="5411" y="244"/>
                </a:moveTo>
                <a:lnTo>
                  <a:pt x="5410" y="220"/>
                </a:lnTo>
                <a:lnTo>
                  <a:pt x="5411" y="199"/>
                </a:lnTo>
                <a:lnTo>
                  <a:pt x="5416" y="179"/>
                </a:lnTo>
                <a:lnTo>
                  <a:pt x="5425" y="162"/>
                </a:lnTo>
                <a:lnTo>
                  <a:pt x="5438" y="149"/>
                </a:lnTo>
                <a:lnTo>
                  <a:pt x="5454" y="137"/>
                </a:lnTo>
                <a:lnTo>
                  <a:pt x="5473" y="129"/>
                </a:lnTo>
                <a:lnTo>
                  <a:pt x="5495" y="124"/>
                </a:lnTo>
                <a:lnTo>
                  <a:pt x="5515" y="126"/>
                </a:lnTo>
                <a:lnTo>
                  <a:pt x="5533" y="134"/>
                </a:lnTo>
                <a:lnTo>
                  <a:pt x="5548" y="144"/>
                </a:lnTo>
                <a:lnTo>
                  <a:pt x="5561" y="158"/>
                </a:lnTo>
                <a:lnTo>
                  <a:pt x="5569" y="175"/>
                </a:lnTo>
                <a:lnTo>
                  <a:pt x="5572" y="194"/>
                </a:lnTo>
                <a:lnTo>
                  <a:pt x="5571" y="213"/>
                </a:lnTo>
                <a:lnTo>
                  <a:pt x="5563" y="233"/>
                </a:lnTo>
                <a:lnTo>
                  <a:pt x="5553" y="243"/>
                </a:lnTo>
                <a:lnTo>
                  <a:pt x="5544" y="251"/>
                </a:lnTo>
                <a:lnTo>
                  <a:pt x="5534" y="255"/>
                </a:lnTo>
                <a:lnTo>
                  <a:pt x="5523" y="257"/>
                </a:lnTo>
                <a:lnTo>
                  <a:pt x="5514" y="257"/>
                </a:lnTo>
                <a:lnTo>
                  <a:pt x="5503" y="254"/>
                </a:lnTo>
                <a:lnTo>
                  <a:pt x="5493" y="247"/>
                </a:lnTo>
                <a:lnTo>
                  <a:pt x="5484" y="238"/>
                </a:lnTo>
                <a:lnTo>
                  <a:pt x="5479" y="230"/>
                </a:lnTo>
                <a:lnTo>
                  <a:pt x="5477" y="220"/>
                </a:lnTo>
                <a:lnTo>
                  <a:pt x="5477" y="212"/>
                </a:lnTo>
                <a:lnTo>
                  <a:pt x="5477" y="205"/>
                </a:lnTo>
                <a:lnTo>
                  <a:pt x="5479" y="197"/>
                </a:lnTo>
                <a:lnTo>
                  <a:pt x="5482" y="189"/>
                </a:lnTo>
                <a:lnTo>
                  <a:pt x="5485" y="181"/>
                </a:lnTo>
                <a:lnTo>
                  <a:pt x="5487" y="173"/>
                </a:lnTo>
                <a:lnTo>
                  <a:pt x="5493" y="167"/>
                </a:lnTo>
                <a:lnTo>
                  <a:pt x="5498" y="165"/>
                </a:lnTo>
                <a:lnTo>
                  <a:pt x="5501" y="167"/>
                </a:lnTo>
                <a:lnTo>
                  <a:pt x="5504" y="170"/>
                </a:lnTo>
                <a:lnTo>
                  <a:pt x="5506" y="173"/>
                </a:lnTo>
                <a:lnTo>
                  <a:pt x="5506" y="178"/>
                </a:lnTo>
                <a:lnTo>
                  <a:pt x="5501" y="181"/>
                </a:lnTo>
                <a:lnTo>
                  <a:pt x="5496" y="183"/>
                </a:lnTo>
                <a:lnTo>
                  <a:pt x="5488" y="200"/>
                </a:lnTo>
                <a:lnTo>
                  <a:pt x="5487" y="217"/>
                </a:lnTo>
                <a:lnTo>
                  <a:pt x="5492" y="231"/>
                </a:lnTo>
                <a:lnTo>
                  <a:pt x="5500" y="241"/>
                </a:lnTo>
                <a:lnTo>
                  <a:pt x="5512" y="246"/>
                </a:lnTo>
                <a:lnTo>
                  <a:pt x="5526" y="246"/>
                </a:lnTo>
                <a:lnTo>
                  <a:pt x="5541" y="241"/>
                </a:lnTo>
                <a:lnTo>
                  <a:pt x="5555" y="226"/>
                </a:lnTo>
                <a:lnTo>
                  <a:pt x="5560" y="215"/>
                </a:lnTo>
                <a:lnTo>
                  <a:pt x="5561" y="204"/>
                </a:lnTo>
                <a:lnTo>
                  <a:pt x="5563" y="192"/>
                </a:lnTo>
                <a:lnTo>
                  <a:pt x="5561" y="183"/>
                </a:lnTo>
                <a:lnTo>
                  <a:pt x="5558" y="173"/>
                </a:lnTo>
                <a:lnTo>
                  <a:pt x="5553" y="163"/>
                </a:lnTo>
                <a:lnTo>
                  <a:pt x="5547" y="157"/>
                </a:lnTo>
                <a:lnTo>
                  <a:pt x="5539" y="150"/>
                </a:lnTo>
                <a:lnTo>
                  <a:pt x="5531" y="144"/>
                </a:lnTo>
                <a:lnTo>
                  <a:pt x="5522" y="141"/>
                </a:lnTo>
                <a:lnTo>
                  <a:pt x="5512" y="137"/>
                </a:lnTo>
                <a:lnTo>
                  <a:pt x="5501" y="136"/>
                </a:lnTo>
                <a:lnTo>
                  <a:pt x="5490" y="136"/>
                </a:lnTo>
                <a:lnTo>
                  <a:pt x="5479" y="137"/>
                </a:lnTo>
                <a:lnTo>
                  <a:pt x="5468" y="141"/>
                </a:lnTo>
                <a:lnTo>
                  <a:pt x="5459" y="145"/>
                </a:lnTo>
                <a:lnTo>
                  <a:pt x="5444" y="155"/>
                </a:lnTo>
                <a:lnTo>
                  <a:pt x="5435" y="165"/>
                </a:lnTo>
                <a:lnTo>
                  <a:pt x="5427" y="178"/>
                </a:lnTo>
                <a:lnTo>
                  <a:pt x="5422" y="192"/>
                </a:lnTo>
                <a:lnTo>
                  <a:pt x="5419" y="207"/>
                </a:lnTo>
                <a:lnTo>
                  <a:pt x="5419" y="221"/>
                </a:lnTo>
                <a:lnTo>
                  <a:pt x="5421" y="238"/>
                </a:lnTo>
                <a:lnTo>
                  <a:pt x="5424" y="254"/>
                </a:lnTo>
                <a:lnTo>
                  <a:pt x="5425" y="257"/>
                </a:lnTo>
                <a:lnTo>
                  <a:pt x="5429" y="262"/>
                </a:lnTo>
                <a:lnTo>
                  <a:pt x="5427" y="262"/>
                </a:lnTo>
                <a:lnTo>
                  <a:pt x="5432" y="267"/>
                </a:lnTo>
                <a:lnTo>
                  <a:pt x="5438" y="275"/>
                </a:lnTo>
                <a:lnTo>
                  <a:pt x="5447" y="281"/>
                </a:lnTo>
                <a:lnTo>
                  <a:pt x="5460" y="289"/>
                </a:lnTo>
                <a:lnTo>
                  <a:pt x="5476" y="296"/>
                </a:lnTo>
                <a:lnTo>
                  <a:pt x="5495" y="301"/>
                </a:lnTo>
                <a:lnTo>
                  <a:pt x="5518" y="306"/>
                </a:lnTo>
                <a:lnTo>
                  <a:pt x="5545" y="306"/>
                </a:lnTo>
                <a:lnTo>
                  <a:pt x="5564" y="304"/>
                </a:lnTo>
                <a:lnTo>
                  <a:pt x="5582" y="298"/>
                </a:lnTo>
                <a:lnTo>
                  <a:pt x="5599" y="289"/>
                </a:lnTo>
                <a:lnTo>
                  <a:pt x="5616" y="278"/>
                </a:lnTo>
                <a:lnTo>
                  <a:pt x="5634" y="265"/>
                </a:lnTo>
                <a:lnTo>
                  <a:pt x="5650" y="251"/>
                </a:lnTo>
                <a:lnTo>
                  <a:pt x="5665" y="234"/>
                </a:lnTo>
                <a:lnTo>
                  <a:pt x="5679" y="218"/>
                </a:lnTo>
                <a:lnTo>
                  <a:pt x="5692" y="200"/>
                </a:lnTo>
                <a:lnTo>
                  <a:pt x="5705" y="184"/>
                </a:lnTo>
                <a:lnTo>
                  <a:pt x="5716" y="168"/>
                </a:lnTo>
                <a:lnTo>
                  <a:pt x="5725" y="152"/>
                </a:lnTo>
                <a:lnTo>
                  <a:pt x="5733" y="139"/>
                </a:lnTo>
                <a:lnTo>
                  <a:pt x="5739" y="128"/>
                </a:lnTo>
                <a:lnTo>
                  <a:pt x="5744" y="118"/>
                </a:lnTo>
                <a:lnTo>
                  <a:pt x="5746" y="110"/>
                </a:lnTo>
                <a:lnTo>
                  <a:pt x="5749" y="105"/>
                </a:lnTo>
                <a:lnTo>
                  <a:pt x="5752" y="97"/>
                </a:lnTo>
                <a:lnTo>
                  <a:pt x="5755" y="89"/>
                </a:lnTo>
                <a:lnTo>
                  <a:pt x="5758" y="81"/>
                </a:lnTo>
                <a:lnTo>
                  <a:pt x="5760" y="73"/>
                </a:lnTo>
                <a:lnTo>
                  <a:pt x="5760" y="63"/>
                </a:lnTo>
                <a:lnTo>
                  <a:pt x="5758" y="53"/>
                </a:lnTo>
                <a:lnTo>
                  <a:pt x="5754" y="44"/>
                </a:lnTo>
                <a:lnTo>
                  <a:pt x="5746" y="35"/>
                </a:lnTo>
                <a:lnTo>
                  <a:pt x="5736" y="27"/>
                </a:lnTo>
                <a:lnTo>
                  <a:pt x="5721" y="19"/>
                </a:lnTo>
                <a:lnTo>
                  <a:pt x="5700" y="13"/>
                </a:lnTo>
                <a:lnTo>
                  <a:pt x="5675" y="8"/>
                </a:lnTo>
                <a:lnTo>
                  <a:pt x="5643" y="3"/>
                </a:lnTo>
                <a:lnTo>
                  <a:pt x="5607" y="2"/>
                </a:lnTo>
                <a:lnTo>
                  <a:pt x="5561" y="0"/>
                </a:lnTo>
                <a:lnTo>
                  <a:pt x="5533" y="0"/>
                </a:lnTo>
                <a:lnTo>
                  <a:pt x="5493" y="0"/>
                </a:lnTo>
                <a:lnTo>
                  <a:pt x="5444" y="0"/>
                </a:lnTo>
                <a:lnTo>
                  <a:pt x="5386" y="0"/>
                </a:lnTo>
                <a:lnTo>
                  <a:pt x="5318" y="0"/>
                </a:lnTo>
                <a:lnTo>
                  <a:pt x="5242" y="0"/>
                </a:lnTo>
                <a:lnTo>
                  <a:pt x="5160" y="0"/>
                </a:lnTo>
                <a:lnTo>
                  <a:pt x="5072" y="0"/>
                </a:lnTo>
                <a:lnTo>
                  <a:pt x="4977" y="0"/>
                </a:lnTo>
                <a:lnTo>
                  <a:pt x="4878" y="0"/>
                </a:lnTo>
                <a:lnTo>
                  <a:pt x="4773" y="0"/>
                </a:lnTo>
                <a:lnTo>
                  <a:pt x="4666" y="0"/>
                </a:lnTo>
                <a:lnTo>
                  <a:pt x="4557" y="0"/>
                </a:lnTo>
                <a:lnTo>
                  <a:pt x="4445" y="0"/>
                </a:lnTo>
                <a:lnTo>
                  <a:pt x="4331" y="0"/>
                </a:lnTo>
                <a:lnTo>
                  <a:pt x="4218" y="0"/>
                </a:lnTo>
                <a:lnTo>
                  <a:pt x="4103" y="0"/>
                </a:lnTo>
                <a:lnTo>
                  <a:pt x="3989" y="0"/>
                </a:lnTo>
                <a:lnTo>
                  <a:pt x="3878" y="0"/>
                </a:lnTo>
                <a:lnTo>
                  <a:pt x="3768" y="0"/>
                </a:lnTo>
                <a:lnTo>
                  <a:pt x="3661" y="0"/>
                </a:lnTo>
                <a:lnTo>
                  <a:pt x="3558" y="0"/>
                </a:lnTo>
                <a:lnTo>
                  <a:pt x="3460" y="0"/>
                </a:lnTo>
                <a:lnTo>
                  <a:pt x="3367" y="0"/>
                </a:lnTo>
                <a:lnTo>
                  <a:pt x="3279" y="0"/>
                </a:lnTo>
                <a:lnTo>
                  <a:pt x="3198" y="0"/>
                </a:lnTo>
                <a:lnTo>
                  <a:pt x="3124" y="0"/>
                </a:lnTo>
                <a:lnTo>
                  <a:pt x="3058" y="0"/>
                </a:lnTo>
                <a:lnTo>
                  <a:pt x="3001" y="0"/>
                </a:lnTo>
                <a:lnTo>
                  <a:pt x="2953" y="0"/>
                </a:lnTo>
                <a:lnTo>
                  <a:pt x="2916" y="0"/>
                </a:lnTo>
                <a:lnTo>
                  <a:pt x="2889" y="0"/>
                </a:lnTo>
                <a:lnTo>
                  <a:pt x="2889" y="0"/>
                </a:lnTo>
                <a:lnTo>
                  <a:pt x="2889" y="0"/>
                </a:lnTo>
                <a:lnTo>
                  <a:pt x="2889" y="0"/>
                </a:lnTo>
                <a:lnTo>
                  <a:pt x="2889" y="0"/>
                </a:lnTo>
                <a:lnTo>
                  <a:pt x="2882" y="0"/>
                </a:lnTo>
                <a:lnTo>
                  <a:pt x="2862" y="0"/>
                </a:lnTo>
                <a:lnTo>
                  <a:pt x="2829" y="0"/>
                </a:lnTo>
                <a:lnTo>
                  <a:pt x="2784" y="0"/>
                </a:lnTo>
                <a:lnTo>
                  <a:pt x="2728" y="0"/>
                </a:lnTo>
                <a:lnTo>
                  <a:pt x="2663" y="0"/>
                </a:lnTo>
                <a:lnTo>
                  <a:pt x="2587" y="0"/>
                </a:lnTo>
                <a:lnTo>
                  <a:pt x="2505" y="0"/>
                </a:lnTo>
                <a:lnTo>
                  <a:pt x="2414" y="0"/>
                </a:lnTo>
                <a:lnTo>
                  <a:pt x="2317" y="0"/>
                </a:lnTo>
                <a:lnTo>
                  <a:pt x="2215" y="0"/>
                </a:lnTo>
                <a:lnTo>
                  <a:pt x="2106" y="0"/>
                </a:lnTo>
                <a:lnTo>
                  <a:pt x="1994" y="0"/>
                </a:lnTo>
                <a:lnTo>
                  <a:pt x="1878" y="0"/>
                </a:lnTo>
                <a:lnTo>
                  <a:pt x="1760" y="0"/>
                </a:lnTo>
                <a:lnTo>
                  <a:pt x="1640" y="0"/>
                </a:lnTo>
                <a:lnTo>
                  <a:pt x="1520" y="0"/>
                </a:lnTo>
                <a:lnTo>
                  <a:pt x="1400" y="0"/>
                </a:lnTo>
                <a:lnTo>
                  <a:pt x="1280" y="0"/>
                </a:lnTo>
                <a:lnTo>
                  <a:pt x="1163" y="0"/>
                </a:lnTo>
                <a:lnTo>
                  <a:pt x="1048" y="0"/>
                </a:lnTo>
                <a:lnTo>
                  <a:pt x="938" y="0"/>
                </a:lnTo>
                <a:lnTo>
                  <a:pt x="830" y="0"/>
                </a:lnTo>
                <a:lnTo>
                  <a:pt x="728" y="0"/>
                </a:lnTo>
                <a:lnTo>
                  <a:pt x="631" y="0"/>
                </a:lnTo>
                <a:lnTo>
                  <a:pt x="543" y="0"/>
                </a:lnTo>
                <a:lnTo>
                  <a:pt x="461" y="0"/>
                </a:lnTo>
                <a:lnTo>
                  <a:pt x="388" y="0"/>
                </a:lnTo>
                <a:lnTo>
                  <a:pt x="324" y="0"/>
                </a:lnTo>
                <a:lnTo>
                  <a:pt x="270" y="0"/>
                </a:lnTo>
                <a:lnTo>
                  <a:pt x="229" y="0"/>
                </a:lnTo>
                <a:lnTo>
                  <a:pt x="197" y="0"/>
                </a:lnTo>
                <a:lnTo>
                  <a:pt x="153" y="2"/>
                </a:lnTo>
                <a:lnTo>
                  <a:pt x="115" y="3"/>
                </a:lnTo>
                <a:lnTo>
                  <a:pt x="84" y="8"/>
                </a:lnTo>
                <a:lnTo>
                  <a:pt x="58" y="13"/>
                </a:lnTo>
                <a:lnTo>
                  <a:pt x="38" y="19"/>
                </a:lnTo>
                <a:lnTo>
                  <a:pt x="22" y="27"/>
                </a:lnTo>
                <a:lnTo>
                  <a:pt x="11" y="35"/>
                </a:lnTo>
                <a:lnTo>
                  <a:pt x="5" y="44"/>
                </a:lnTo>
                <a:lnTo>
                  <a:pt x="2" y="53"/>
                </a:lnTo>
                <a:lnTo>
                  <a:pt x="0" y="63"/>
                </a:lnTo>
                <a:lnTo>
                  <a:pt x="0" y="73"/>
                </a:lnTo>
                <a:lnTo>
                  <a:pt x="2" y="81"/>
                </a:lnTo>
                <a:lnTo>
                  <a:pt x="3" y="89"/>
                </a:lnTo>
                <a:lnTo>
                  <a:pt x="6" y="97"/>
                </a:lnTo>
                <a:lnTo>
                  <a:pt x="9" y="105"/>
                </a:lnTo>
                <a:lnTo>
                  <a:pt x="11" y="110"/>
                </a:lnTo>
                <a:lnTo>
                  <a:pt x="14" y="118"/>
                </a:lnTo>
                <a:lnTo>
                  <a:pt x="19" y="128"/>
                </a:lnTo>
                <a:lnTo>
                  <a:pt x="25" y="139"/>
                </a:lnTo>
                <a:lnTo>
                  <a:pt x="33" y="152"/>
                </a:lnTo>
                <a:lnTo>
                  <a:pt x="43" y="168"/>
                </a:lnTo>
                <a:lnTo>
                  <a:pt x="54" y="184"/>
                </a:lnTo>
                <a:lnTo>
                  <a:pt x="66" y="200"/>
                </a:lnTo>
                <a:lnTo>
                  <a:pt x="79" y="217"/>
                </a:lnTo>
                <a:lnTo>
                  <a:pt x="93" y="234"/>
                </a:lnTo>
                <a:lnTo>
                  <a:pt x="109" y="249"/>
                </a:lnTo>
                <a:lnTo>
                  <a:pt x="125" y="265"/>
                </a:lnTo>
                <a:lnTo>
                  <a:pt x="142" y="278"/>
                </a:lnTo>
                <a:lnTo>
                  <a:pt x="159" y="288"/>
                </a:lnTo>
                <a:lnTo>
                  <a:pt x="177" y="298"/>
                </a:lnTo>
                <a:lnTo>
                  <a:pt x="196" y="302"/>
                </a:lnTo>
                <a:lnTo>
                  <a:pt x="213" y="306"/>
                </a:lnTo>
                <a:lnTo>
                  <a:pt x="242" y="304"/>
                </a:lnTo>
                <a:lnTo>
                  <a:pt x="264" y="301"/>
                </a:lnTo>
                <a:lnTo>
                  <a:pt x="283" y="296"/>
                </a:lnTo>
                <a:lnTo>
                  <a:pt x="298" y="289"/>
                </a:lnTo>
                <a:lnTo>
                  <a:pt x="311" y="281"/>
                </a:lnTo>
                <a:lnTo>
                  <a:pt x="320" y="273"/>
                </a:lnTo>
                <a:lnTo>
                  <a:pt x="327" y="267"/>
                </a:lnTo>
                <a:lnTo>
                  <a:pt x="331" y="262"/>
                </a:lnTo>
                <a:lnTo>
                  <a:pt x="330" y="260"/>
                </a:lnTo>
                <a:lnTo>
                  <a:pt x="333" y="255"/>
                </a:lnTo>
                <a:lnTo>
                  <a:pt x="335" y="252"/>
                </a:lnTo>
                <a:lnTo>
                  <a:pt x="338" y="238"/>
                </a:lnTo>
                <a:lnTo>
                  <a:pt x="339" y="221"/>
                </a:lnTo>
                <a:lnTo>
                  <a:pt x="339" y="207"/>
                </a:lnTo>
                <a:lnTo>
                  <a:pt x="336" y="191"/>
                </a:lnTo>
                <a:lnTo>
                  <a:pt x="331" y="178"/>
                </a:lnTo>
                <a:lnTo>
                  <a:pt x="325" y="165"/>
                </a:lnTo>
                <a:lnTo>
                  <a:pt x="314" y="154"/>
                </a:lnTo>
                <a:lnTo>
                  <a:pt x="301" y="145"/>
                </a:lnTo>
                <a:lnTo>
                  <a:pt x="290" y="141"/>
                </a:lnTo>
                <a:lnTo>
                  <a:pt x="279" y="137"/>
                </a:lnTo>
                <a:lnTo>
                  <a:pt x="268" y="136"/>
                </a:lnTo>
                <a:lnTo>
                  <a:pt x="259" y="136"/>
                </a:lnTo>
                <a:lnTo>
                  <a:pt x="248" y="136"/>
                </a:lnTo>
                <a:lnTo>
                  <a:pt x="238" y="139"/>
                </a:lnTo>
                <a:lnTo>
                  <a:pt x="229" y="144"/>
                </a:lnTo>
                <a:lnTo>
                  <a:pt x="219" y="149"/>
                </a:lnTo>
                <a:lnTo>
                  <a:pt x="213" y="155"/>
                </a:lnTo>
                <a:lnTo>
                  <a:pt x="207" y="163"/>
                </a:lnTo>
                <a:lnTo>
                  <a:pt x="202" y="173"/>
                </a:lnTo>
                <a:lnTo>
                  <a:pt x="199" y="181"/>
                </a:lnTo>
                <a:lnTo>
                  <a:pt x="197" y="192"/>
                </a:lnTo>
                <a:lnTo>
                  <a:pt x="197" y="204"/>
                </a:lnTo>
                <a:lnTo>
                  <a:pt x="200" y="215"/>
                </a:lnTo>
                <a:lnTo>
                  <a:pt x="205" y="226"/>
                </a:lnTo>
                <a:lnTo>
                  <a:pt x="219" y="239"/>
                </a:lnTo>
                <a:lnTo>
                  <a:pt x="234" y="246"/>
                </a:lnTo>
                <a:lnTo>
                  <a:pt x="248" y="246"/>
                </a:lnTo>
                <a:lnTo>
                  <a:pt x="259" y="239"/>
                </a:lnTo>
                <a:lnTo>
                  <a:pt x="268" y="230"/>
                </a:lnTo>
                <a:lnTo>
                  <a:pt x="272" y="217"/>
                </a:lnTo>
                <a:lnTo>
                  <a:pt x="270" y="200"/>
                </a:lnTo>
                <a:lnTo>
                  <a:pt x="262" y="183"/>
                </a:lnTo>
                <a:lnTo>
                  <a:pt x="257" y="181"/>
                </a:lnTo>
                <a:lnTo>
                  <a:pt x="254" y="178"/>
                </a:lnTo>
                <a:lnTo>
                  <a:pt x="253" y="173"/>
                </a:lnTo>
                <a:lnTo>
                  <a:pt x="254" y="170"/>
                </a:lnTo>
                <a:lnTo>
                  <a:pt x="257" y="167"/>
                </a:lnTo>
                <a:lnTo>
                  <a:pt x="260" y="165"/>
                </a:lnTo>
                <a:lnTo>
                  <a:pt x="265" y="167"/>
                </a:lnTo>
                <a:lnTo>
                  <a:pt x="272" y="173"/>
                </a:lnTo>
                <a:lnTo>
                  <a:pt x="273" y="181"/>
                </a:lnTo>
                <a:lnTo>
                  <a:pt x="276" y="189"/>
                </a:lnTo>
                <a:lnTo>
                  <a:pt x="279" y="197"/>
                </a:lnTo>
                <a:lnTo>
                  <a:pt x="281" y="205"/>
                </a:lnTo>
                <a:lnTo>
                  <a:pt x="281" y="212"/>
                </a:lnTo>
                <a:lnTo>
                  <a:pt x="281" y="220"/>
                </a:lnTo>
                <a:lnTo>
                  <a:pt x="279" y="228"/>
                </a:lnTo>
                <a:lnTo>
                  <a:pt x="275" y="238"/>
                </a:lnTo>
                <a:lnTo>
                  <a:pt x="265" y="247"/>
                </a:lnTo>
                <a:lnTo>
                  <a:pt x="256" y="252"/>
                </a:lnTo>
                <a:lnTo>
                  <a:pt x="246" y="255"/>
                </a:lnTo>
                <a:lnTo>
                  <a:pt x="235" y="255"/>
                </a:lnTo>
                <a:lnTo>
                  <a:pt x="226" y="254"/>
                </a:lnTo>
                <a:lnTo>
                  <a:pt x="216" y="249"/>
                </a:lnTo>
                <a:lnTo>
                  <a:pt x="207" y="243"/>
                </a:lnTo>
                <a:lnTo>
                  <a:pt x="197" y="233"/>
                </a:lnTo>
                <a:lnTo>
                  <a:pt x="189" y="212"/>
                </a:lnTo>
                <a:lnTo>
                  <a:pt x="188" y="192"/>
                </a:lnTo>
                <a:lnTo>
                  <a:pt x="191" y="175"/>
                </a:lnTo>
                <a:lnTo>
                  <a:pt x="199" y="158"/>
                </a:lnTo>
                <a:lnTo>
                  <a:pt x="210" y="144"/>
                </a:lnTo>
                <a:lnTo>
                  <a:pt x="226" y="134"/>
                </a:lnTo>
                <a:lnTo>
                  <a:pt x="245" y="126"/>
                </a:lnTo>
                <a:lnTo>
                  <a:pt x="265" y="124"/>
                </a:lnTo>
                <a:lnTo>
                  <a:pt x="287" y="129"/>
                </a:lnTo>
                <a:lnTo>
                  <a:pt x="306" y="137"/>
                </a:lnTo>
                <a:lnTo>
                  <a:pt x="322" y="149"/>
                </a:lnTo>
                <a:lnTo>
                  <a:pt x="335" y="162"/>
                </a:lnTo>
                <a:lnTo>
                  <a:pt x="343" y="179"/>
                </a:lnTo>
                <a:lnTo>
                  <a:pt x="349" y="197"/>
                </a:lnTo>
                <a:lnTo>
                  <a:pt x="350" y="220"/>
                </a:lnTo>
                <a:lnTo>
                  <a:pt x="349" y="244"/>
                </a:lnTo>
                <a:lnTo>
                  <a:pt x="347" y="249"/>
                </a:lnTo>
                <a:lnTo>
                  <a:pt x="346" y="254"/>
                </a:lnTo>
                <a:lnTo>
                  <a:pt x="344" y="259"/>
                </a:lnTo>
                <a:lnTo>
                  <a:pt x="343" y="264"/>
                </a:lnTo>
                <a:lnTo>
                  <a:pt x="349" y="268"/>
                </a:lnTo>
                <a:lnTo>
                  <a:pt x="355" y="273"/>
                </a:lnTo>
                <a:lnTo>
                  <a:pt x="363" y="278"/>
                </a:lnTo>
                <a:lnTo>
                  <a:pt x="371" y="283"/>
                </a:lnTo>
                <a:lnTo>
                  <a:pt x="379" y="288"/>
                </a:lnTo>
                <a:lnTo>
                  <a:pt x="387" y="291"/>
                </a:lnTo>
                <a:lnTo>
                  <a:pt x="396" y="294"/>
                </a:lnTo>
                <a:lnTo>
                  <a:pt x="404" y="298"/>
                </a:lnTo>
                <a:lnTo>
                  <a:pt x="414" y="301"/>
                </a:lnTo>
                <a:lnTo>
                  <a:pt x="423" y="302"/>
                </a:lnTo>
                <a:lnTo>
                  <a:pt x="433" y="304"/>
                </a:lnTo>
                <a:lnTo>
                  <a:pt x="442" y="306"/>
                </a:lnTo>
                <a:lnTo>
                  <a:pt x="451" y="307"/>
                </a:lnTo>
                <a:lnTo>
                  <a:pt x="463" y="309"/>
                </a:lnTo>
                <a:lnTo>
                  <a:pt x="472" y="309"/>
                </a:lnTo>
                <a:lnTo>
                  <a:pt x="481" y="309"/>
                </a:lnTo>
                <a:lnTo>
                  <a:pt x="497" y="307"/>
                </a:lnTo>
                <a:lnTo>
                  <a:pt x="511" y="306"/>
                </a:lnTo>
                <a:lnTo>
                  <a:pt x="526" y="304"/>
                </a:lnTo>
                <a:lnTo>
                  <a:pt x="541" y="301"/>
                </a:lnTo>
                <a:lnTo>
                  <a:pt x="554" y="296"/>
                </a:lnTo>
                <a:lnTo>
                  <a:pt x="568" y="293"/>
                </a:lnTo>
                <a:lnTo>
                  <a:pt x="581" y="288"/>
                </a:lnTo>
                <a:lnTo>
                  <a:pt x="594" y="283"/>
                </a:lnTo>
                <a:lnTo>
                  <a:pt x="581" y="276"/>
                </a:lnTo>
                <a:lnTo>
                  <a:pt x="570" y="267"/>
                </a:lnTo>
                <a:lnTo>
                  <a:pt x="560" y="259"/>
                </a:lnTo>
                <a:lnTo>
                  <a:pt x="552" y="247"/>
                </a:lnTo>
                <a:lnTo>
                  <a:pt x="545" y="238"/>
                </a:lnTo>
                <a:lnTo>
                  <a:pt x="540" y="226"/>
                </a:lnTo>
                <a:lnTo>
                  <a:pt x="537" y="215"/>
                </a:lnTo>
                <a:lnTo>
                  <a:pt x="537" y="202"/>
                </a:lnTo>
                <a:lnTo>
                  <a:pt x="537" y="191"/>
                </a:lnTo>
                <a:lnTo>
                  <a:pt x="540" y="179"/>
                </a:lnTo>
                <a:lnTo>
                  <a:pt x="545" y="168"/>
                </a:lnTo>
                <a:lnTo>
                  <a:pt x="551" y="157"/>
                </a:lnTo>
                <a:lnTo>
                  <a:pt x="560" y="147"/>
                </a:lnTo>
                <a:lnTo>
                  <a:pt x="570" y="137"/>
                </a:lnTo>
                <a:lnTo>
                  <a:pt x="581" y="128"/>
                </a:lnTo>
                <a:lnTo>
                  <a:pt x="594" y="120"/>
                </a:lnTo>
                <a:lnTo>
                  <a:pt x="608" y="112"/>
                </a:lnTo>
                <a:lnTo>
                  <a:pt x="622" y="105"/>
                </a:lnTo>
                <a:lnTo>
                  <a:pt x="639" y="99"/>
                </a:lnTo>
                <a:lnTo>
                  <a:pt x="657" y="94"/>
                </a:lnTo>
                <a:lnTo>
                  <a:pt x="674" y="90"/>
                </a:lnTo>
                <a:lnTo>
                  <a:pt x="693" y="87"/>
                </a:lnTo>
                <a:lnTo>
                  <a:pt x="713" y="86"/>
                </a:lnTo>
                <a:lnTo>
                  <a:pt x="734" y="84"/>
                </a:lnTo>
                <a:lnTo>
                  <a:pt x="755" y="86"/>
                </a:lnTo>
                <a:lnTo>
                  <a:pt x="778" y="87"/>
                </a:lnTo>
                <a:lnTo>
                  <a:pt x="803" y="90"/>
                </a:lnTo>
                <a:lnTo>
                  <a:pt x="830" y="95"/>
                </a:lnTo>
                <a:lnTo>
                  <a:pt x="859" y="102"/>
                </a:lnTo>
                <a:lnTo>
                  <a:pt x="889" y="110"/>
                </a:lnTo>
                <a:lnTo>
                  <a:pt x="920" y="118"/>
                </a:lnTo>
                <a:lnTo>
                  <a:pt x="952" y="126"/>
                </a:lnTo>
                <a:lnTo>
                  <a:pt x="985" y="136"/>
                </a:lnTo>
                <a:lnTo>
                  <a:pt x="1018" y="147"/>
                </a:lnTo>
                <a:lnTo>
                  <a:pt x="1053" y="158"/>
                </a:lnTo>
                <a:lnTo>
                  <a:pt x="1088" y="170"/>
                </a:lnTo>
                <a:lnTo>
                  <a:pt x="1122" y="181"/>
                </a:lnTo>
                <a:lnTo>
                  <a:pt x="1155" y="194"/>
                </a:lnTo>
                <a:lnTo>
                  <a:pt x="1190" y="207"/>
                </a:lnTo>
                <a:lnTo>
                  <a:pt x="1225" y="218"/>
                </a:lnTo>
                <a:lnTo>
                  <a:pt x="1258" y="231"/>
                </a:lnTo>
                <a:lnTo>
                  <a:pt x="1291" y="244"/>
                </a:lnTo>
                <a:lnTo>
                  <a:pt x="1323" y="255"/>
                </a:lnTo>
                <a:lnTo>
                  <a:pt x="1353" y="268"/>
                </a:lnTo>
                <a:lnTo>
                  <a:pt x="1381" y="280"/>
                </a:lnTo>
                <a:lnTo>
                  <a:pt x="1410" y="291"/>
                </a:lnTo>
                <a:lnTo>
                  <a:pt x="1435" y="301"/>
                </a:lnTo>
                <a:lnTo>
                  <a:pt x="1459" y="310"/>
                </a:lnTo>
                <a:lnTo>
                  <a:pt x="1481" y="320"/>
                </a:lnTo>
                <a:lnTo>
                  <a:pt x="1501" y="328"/>
                </a:lnTo>
                <a:lnTo>
                  <a:pt x="1517" y="335"/>
                </a:lnTo>
                <a:lnTo>
                  <a:pt x="1531" y="341"/>
                </a:lnTo>
                <a:lnTo>
                  <a:pt x="1544" y="346"/>
                </a:lnTo>
                <a:lnTo>
                  <a:pt x="1552" y="349"/>
                </a:lnTo>
                <a:lnTo>
                  <a:pt x="1558" y="351"/>
                </a:lnTo>
                <a:lnTo>
                  <a:pt x="1560" y="353"/>
                </a:lnTo>
                <a:lnTo>
                  <a:pt x="1567" y="354"/>
                </a:lnTo>
                <a:lnTo>
                  <a:pt x="1577" y="357"/>
                </a:lnTo>
                <a:lnTo>
                  <a:pt x="1586" y="359"/>
                </a:lnTo>
                <a:lnTo>
                  <a:pt x="1596" y="361"/>
                </a:lnTo>
                <a:lnTo>
                  <a:pt x="1605" y="362"/>
                </a:lnTo>
                <a:lnTo>
                  <a:pt x="1616" y="364"/>
                </a:lnTo>
                <a:lnTo>
                  <a:pt x="1624" y="365"/>
                </a:lnTo>
                <a:lnTo>
                  <a:pt x="1634" y="367"/>
                </a:lnTo>
                <a:lnTo>
                  <a:pt x="1645" y="367"/>
                </a:lnTo>
                <a:lnTo>
                  <a:pt x="1656" y="369"/>
                </a:lnTo>
                <a:lnTo>
                  <a:pt x="1665" y="367"/>
                </a:lnTo>
                <a:lnTo>
                  <a:pt x="1676" y="365"/>
                </a:lnTo>
                <a:lnTo>
                  <a:pt x="1687" y="364"/>
                </a:lnTo>
                <a:lnTo>
                  <a:pt x="1697" y="361"/>
                </a:lnTo>
                <a:lnTo>
                  <a:pt x="1708" y="356"/>
                </a:lnTo>
                <a:lnTo>
                  <a:pt x="1717" y="351"/>
                </a:lnTo>
                <a:lnTo>
                  <a:pt x="1727" y="346"/>
                </a:lnTo>
                <a:lnTo>
                  <a:pt x="1735" y="341"/>
                </a:lnTo>
                <a:lnTo>
                  <a:pt x="1744" y="335"/>
                </a:lnTo>
                <a:lnTo>
                  <a:pt x="1752" y="328"/>
                </a:lnTo>
                <a:lnTo>
                  <a:pt x="1760" y="320"/>
                </a:lnTo>
                <a:lnTo>
                  <a:pt x="1768" y="314"/>
                </a:lnTo>
                <a:lnTo>
                  <a:pt x="1774" y="306"/>
                </a:lnTo>
                <a:lnTo>
                  <a:pt x="1781" y="298"/>
                </a:lnTo>
                <a:lnTo>
                  <a:pt x="1785" y="307"/>
                </a:lnTo>
                <a:lnTo>
                  <a:pt x="1793" y="317"/>
                </a:lnTo>
                <a:lnTo>
                  <a:pt x="1803" y="325"/>
                </a:lnTo>
                <a:lnTo>
                  <a:pt x="1814" y="333"/>
                </a:lnTo>
                <a:lnTo>
                  <a:pt x="1828" y="338"/>
                </a:lnTo>
                <a:lnTo>
                  <a:pt x="1842" y="343"/>
                </a:lnTo>
                <a:lnTo>
                  <a:pt x="1858" y="346"/>
                </a:lnTo>
                <a:lnTo>
                  <a:pt x="1875" y="348"/>
                </a:lnTo>
                <a:lnTo>
                  <a:pt x="1889" y="346"/>
                </a:lnTo>
                <a:lnTo>
                  <a:pt x="1904" y="344"/>
                </a:lnTo>
                <a:lnTo>
                  <a:pt x="1918" y="341"/>
                </a:lnTo>
                <a:lnTo>
                  <a:pt x="1929" y="336"/>
                </a:lnTo>
                <a:lnTo>
                  <a:pt x="1940" y="330"/>
                </a:lnTo>
                <a:lnTo>
                  <a:pt x="1951" y="323"/>
                </a:lnTo>
                <a:lnTo>
                  <a:pt x="1959" y="315"/>
                </a:lnTo>
                <a:lnTo>
                  <a:pt x="1965" y="307"/>
                </a:lnTo>
                <a:lnTo>
                  <a:pt x="1948" y="299"/>
                </a:lnTo>
                <a:lnTo>
                  <a:pt x="1931" y="289"/>
                </a:lnTo>
                <a:lnTo>
                  <a:pt x="1916" y="280"/>
                </a:lnTo>
                <a:lnTo>
                  <a:pt x="1902" y="270"/>
                </a:lnTo>
                <a:lnTo>
                  <a:pt x="1893" y="257"/>
                </a:lnTo>
                <a:lnTo>
                  <a:pt x="1885" y="246"/>
                </a:lnTo>
                <a:lnTo>
                  <a:pt x="1878" y="233"/>
                </a:lnTo>
                <a:lnTo>
                  <a:pt x="1877" y="220"/>
                </a:lnTo>
                <a:lnTo>
                  <a:pt x="1878" y="210"/>
                </a:lnTo>
                <a:lnTo>
                  <a:pt x="1880" y="202"/>
                </a:lnTo>
                <a:lnTo>
                  <a:pt x="1885" y="192"/>
                </a:lnTo>
                <a:lnTo>
                  <a:pt x="1889" y="184"/>
                </a:lnTo>
                <a:lnTo>
                  <a:pt x="1897" y="175"/>
                </a:lnTo>
                <a:lnTo>
                  <a:pt x="1905" y="167"/>
                </a:lnTo>
                <a:lnTo>
                  <a:pt x="1915" y="160"/>
                </a:lnTo>
                <a:lnTo>
                  <a:pt x="1926" y="152"/>
                </a:lnTo>
                <a:lnTo>
                  <a:pt x="1937" y="145"/>
                </a:lnTo>
                <a:lnTo>
                  <a:pt x="1949" y="141"/>
                </a:lnTo>
                <a:lnTo>
                  <a:pt x="1964" y="136"/>
                </a:lnTo>
                <a:lnTo>
                  <a:pt x="1978" y="131"/>
                </a:lnTo>
                <a:lnTo>
                  <a:pt x="1992" y="128"/>
                </a:lnTo>
                <a:lnTo>
                  <a:pt x="2008" y="126"/>
                </a:lnTo>
                <a:lnTo>
                  <a:pt x="2025" y="124"/>
                </a:lnTo>
                <a:lnTo>
                  <a:pt x="2041" y="123"/>
                </a:lnTo>
                <a:lnTo>
                  <a:pt x="2058" y="124"/>
                </a:lnTo>
                <a:lnTo>
                  <a:pt x="2074" y="126"/>
                </a:lnTo>
                <a:lnTo>
                  <a:pt x="2092" y="128"/>
                </a:lnTo>
                <a:lnTo>
                  <a:pt x="2106" y="131"/>
                </a:lnTo>
                <a:lnTo>
                  <a:pt x="2122" y="136"/>
                </a:lnTo>
                <a:lnTo>
                  <a:pt x="2136" y="141"/>
                </a:lnTo>
                <a:lnTo>
                  <a:pt x="2148" y="145"/>
                </a:lnTo>
                <a:lnTo>
                  <a:pt x="2161" y="152"/>
                </a:lnTo>
                <a:lnTo>
                  <a:pt x="2172" y="160"/>
                </a:lnTo>
                <a:lnTo>
                  <a:pt x="2182" y="167"/>
                </a:lnTo>
                <a:lnTo>
                  <a:pt x="2189" y="175"/>
                </a:lnTo>
                <a:lnTo>
                  <a:pt x="2197" y="184"/>
                </a:lnTo>
                <a:lnTo>
                  <a:pt x="2202" y="192"/>
                </a:lnTo>
                <a:lnTo>
                  <a:pt x="2205" y="202"/>
                </a:lnTo>
                <a:lnTo>
                  <a:pt x="2207" y="210"/>
                </a:lnTo>
                <a:lnTo>
                  <a:pt x="2205" y="220"/>
                </a:lnTo>
                <a:lnTo>
                  <a:pt x="2204" y="231"/>
                </a:lnTo>
                <a:lnTo>
                  <a:pt x="2199" y="241"/>
                </a:lnTo>
                <a:lnTo>
                  <a:pt x="2193" y="251"/>
                </a:lnTo>
                <a:lnTo>
                  <a:pt x="2186" y="260"/>
                </a:lnTo>
                <a:lnTo>
                  <a:pt x="2177" y="268"/>
                </a:lnTo>
                <a:lnTo>
                  <a:pt x="2167" y="278"/>
                </a:lnTo>
                <a:lnTo>
                  <a:pt x="2156" y="286"/>
                </a:lnTo>
                <a:lnTo>
                  <a:pt x="2145" y="294"/>
                </a:lnTo>
                <a:lnTo>
                  <a:pt x="2155" y="304"/>
                </a:lnTo>
                <a:lnTo>
                  <a:pt x="2164" y="312"/>
                </a:lnTo>
                <a:lnTo>
                  <a:pt x="2175" y="320"/>
                </a:lnTo>
                <a:lnTo>
                  <a:pt x="2185" y="328"/>
                </a:lnTo>
                <a:lnTo>
                  <a:pt x="2197" y="335"/>
                </a:lnTo>
                <a:lnTo>
                  <a:pt x="2208" y="341"/>
                </a:lnTo>
                <a:lnTo>
                  <a:pt x="2221" y="348"/>
                </a:lnTo>
                <a:lnTo>
                  <a:pt x="2234" y="353"/>
                </a:lnTo>
                <a:lnTo>
                  <a:pt x="2246" y="357"/>
                </a:lnTo>
                <a:lnTo>
                  <a:pt x="2260" y="362"/>
                </a:lnTo>
                <a:lnTo>
                  <a:pt x="2275" y="365"/>
                </a:lnTo>
                <a:lnTo>
                  <a:pt x="2289" y="369"/>
                </a:lnTo>
                <a:lnTo>
                  <a:pt x="2301" y="370"/>
                </a:lnTo>
                <a:lnTo>
                  <a:pt x="2317" y="372"/>
                </a:lnTo>
                <a:lnTo>
                  <a:pt x="2331" y="374"/>
                </a:lnTo>
                <a:lnTo>
                  <a:pt x="2347" y="374"/>
                </a:lnTo>
                <a:lnTo>
                  <a:pt x="2361" y="374"/>
                </a:lnTo>
                <a:lnTo>
                  <a:pt x="2376" y="372"/>
                </a:lnTo>
                <a:lnTo>
                  <a:pt x="2388" y="372"/>
                </a:lnTo>
                <a:lnTo>
                  <a:pt x="2402" y="369"/>
                </a:lnTo>
                <a:lnTo>
                  <a:pt x="2415" y="367"/>
                </a:lnTo>
                <a:lnTo>
                  <a:pt x="2429" y="364"/>
                </a:lnTo>
                <a:lnTo>
                  <a:pt x="2442" y="359"/>
                </a:lnTo>
                <a:lnTo>
                  <a:pt x="2455" y="356"/>
                </a:lnTo>
                <a:lnTo>
                  <a:pt x="2466" y="351"/>
                </a:lnTo>
                <a:lnTo>
                  <a:pt x="2478" y="346"/>
                </a:lnTo>
                <a:lnTo>
                  <a:pt x="2489" y="340"/>
                </a:lnTo>
                <a:lnTo>
                  <a:pt x="2500" y="335"/>
                </a:lnTo>
                <a:lnTo>
                  <a:pt x="2510" y="328"/>
                </a:lnTo>
                <a:lnTo>
                  <a:pt x="2521" y="322"/>
                </a:lnTo>
                <a:lnTo>
                  <a:pt x="2530" y="314"/>
                </a:lnTo>
                <a:lnTo>
                  <a:pt x="2540" y="307"/>
                </a:lnTo>
                <a:lnTo>
                  <a:pt x="2535" y="298"/>
                </a:lnTo>
                <a:lnTo>
                  <a:pt x="2530" y="286"/>
                </a:lnTo>
                <a:lnTo>
                  <a:pt x="2526" y="276"/>
                </a:lnTo>
                <a:lnTo>
                  <a:pt x="2522" y="265"/>
                </a:lnTo>
                <a:lnTo>
                  <a:pt x="2521" y="252"/>
                </a:lnTo>
                <a:lnTo>
                  <a:pt x="2518" y="241"/>
                </a:lnTo>
                <a:lnTo>
                  <a:pt x="2518" y="230"/>
                </a:lnTo>
                <a:lnTo>
                  <a:pt x="2516" y="218"/>
                </a:lnTo>
                <a:lnTo>
                  <a:pt x="2518" y="200"/>
                </a:lnTo>
                <a:lnTo>
                  <a:pt x="2521" y="184"/>
                </a:lnTo>
                <a:lnTo>
                  <a:pt x="2524" y="168"/>
                </a:lnTo>
                <a:lnTo>
                  <a:pt x="2530" y="154"/>
                </a:lnTo>
                <a:lnTo>
                  <a:pt x="2538" y="141"/>
                </a:lnTo>
                <a:lnTo>
                  <a:pt x="2548" y="129"/>
                </a:lnTo>
                <a:lnTo>
                  <a:pt x="2557" y="118"/>
                </a:lnTo>
                <a:lnTo>
                  <a:pt x="2568" y="108"/>
                </a:lnTo>
                <a:lnTo>
                  <a:pt x="2581" y="100"/>
                </a:lnTo>
                <a:lnTo>
                  <a:pt x="2593" y="95"/>
                </a:lnTo>
                <a:lnTo>
                  <a:pt x="2608" y="90"/>
                </a:lnTo>
                <a:lnTo>
                  <a:pt x="2623" y="87"/>
                </a:lnTo>
                <a:lnTo>
                  <a:pt x="2638" y="87"/>
                </a:lnTo>
                <a:lnTo>
                  <a:pt x="2655" y="87"/>
                </a:lnTo>
                <a:lnTo>
                  <a:pt x="2671" y="90"/>
                </a:lnTo>
                <a:lnTo>
                  <a:pt x="2687" y="97"/>
                </a:lnTo>
                <a:lnTo>
                  <a:pt x="2699" y="102"/>
                </a:lnTo>
                <a:lnTo>
                  <a:pt x="2710" y="107"/>
                </a:lnTo>
                <a:lnTo>
                  <a:pt x="2721" y="115"/>
                </a:lnTo>
                <a:lnTo>
                  <a:pt x="2729" y="121"/>
                </a:lnTo>
                <a:lnTo>
                  <a:pt x="2739" y="131"/>
                </a:lnTo>
                <a:lnTo>
                  <a:pt x="2745" y="139"/>
                </a:lnTo>
                <a:lnTo>
                  <a:pt x="2751" y="149"/>
                </a:lnTo>
                <a:lnTo>
                  <a:pt x="2756" y="160"/>
                </a:lnTo>
                <a:lnTo>
                  <a:pt x="2759" y="170"/>
                </a:lnTo>
                <a:lnTo>
                  <a:pt x="2761" y="181"/>
                </a:lnTo>
                <a:lnTo>
                  <a:pt x="2761" y="192"/>
                </a:lnTo>
                <a:lnTo>
                  <a:pt x="2761" y="204"/>
                </a:lnTo>
                <a:lnTo>
                  <a:pt x="2758" y="215"/>
                </a:lnTo>
                <a:lnTo>
                  <a:pt x="2753" y="226"/>
                </a:lnTo>
                <a:lnTo>
                  <a:pt x="2747" y="238"/>
                </a:lnTo>
                <a:lnTo>
                  <a:pt x="2737" y="249"/>
                </a:lnTo>
                <a:lnTo>
                  <a:pt x="2729" y="257"/>
                </a:lnTo>
                <a:lnTo>
                  <a:pt x="2721" y="264"/>
                </a:lnTo>
                <a:lnTo>
                  <a:pt x="2713" y="268"/>
                </a:lnTo>
                <a:lnTo>
                  <a:pt x="2704" y="273"/>
                </a:lnTo>
                <a:lnTo>
                  <a:pt x="2695" y="276"/>
                </a:lnTo>
                <a:lnTo>
                  <a:pt x="2685" y="278"/>
                </a:lnTo>
                <a:lnTo>
                  <a:pt x="2676" y="280"/>
                </a:lnTo>
                <a:lnTo>
                  <a:pt x="2666" y="278"/>
                </a:lnTo>
                <a:lnTo>
                  <a:pt x="2657" y="278"/>
                </a:lnTo>
                <a:lnTo>
                  <a:pt x="2647" y="275"/>
                </a:lnTo>
                <a:lnTo>
                  <a:pt x="2639" y="272"/>
                </a:lnTo>
                <a:lnTo>
                  <a:pt x="2630" y="267"/>
                </a:lnTo>
                <a:lnTo>
                  <a:pt x="2623" y="260"/>
                </a:lnTo>
                <a:lnTo>
                  <a:pt x="2616" y="254"/>
                </a:lnTo>
                <a:lnTo>
                  <a:pt x="2609" y="244"/>
                </a:lnTo>
                <a:lnTo>
                  <a:pt x="2605" y="234"/>
                </a:lnTo>
                <a:lnTo>
                  <a:pt x="2601" y="225"/>
                </a:lnTo>
                <a:lnTo>
                  <a:pt x="2600" y="215"/>
                </a:lnTo>
                <a:lnTo>
                  <a:pt x="2598" y="207"/>
                </a:lnTo>
                <a:lnTo>
                  <a:pt x="2598" y="197"/>
                </a:lnTo>
                <a:lnTo>
                  <a:pt x="2600" y="189"/>
                </a:lnTo>
                <a:lnTo>
                  <a:pt x="2601" y="181"/>
                </a:lnTo>
                <a:lnTo>
                  <a:pt x="2605" y="175"/>
                </a:lnTo>
                <a:lnTo>
                  <a:pt x="2608" y="170"/>
                </a:lnTo>
                <a:lnTo>
                  <a:pt x="2614" y="162"/>
                </a:lnTo>
                <a:lnTo>
                  <a:pt x="2620" y="160"/>
                </a:lnTo>
                <a:lnTo>
                  <a:pt x="2625" y="162"/>
                </a:lnTo>
                <a:lnTo>
                  <a:pt x="2630" y="167"/>
                </a:lnTo>
                <a:lnTo>
                  <a:pt x="2630" y="171"/>
                </a:lnTo>
                <a:lnTo>
                  <a:pt x="2630" y="178"/>
                </a:lnTo>
                <a:lnTo>
                  <a:pt x="2625" y="181"/>
                </a:lnTo>
                <a:lnTo>
                  <a:pt x="2617" y="179"/>
                </a:lnTo>
                <a:lnTo>
                  <a:pt x="2614" y="184"/>
                </a:lnTo>
                <a:lnTo>
                  <a:pt x="2612" y="189"/>
                </a:lnTo>
                <a:lnTo>
                  <a:pt x="2611" y="207"/>
                </a:lnTo>
                <a:lnTo>
                  <a:pt x="2612" y="223"/>
                </a:lnTo>
                <a:lnTo>
                  <a:pt x="2617" y="238"/>
                </a:lnTo>
                <a:lnTo>
                  <a:pt x="2625" y="249"/>
                </a:lnTo>
                <a:lnTo>
                  <a:pt x="2636" y="259"/>
                </a:lnTo>
                <a:lnTo>
                  <a:pt x="2649" y="265"/>
                </a:lnTo>
                <a:lnTo>
                  <a:pt x="2665" y="268"/>
                </a:lnTo>
                <a:lnTo>
                  <a:pt x="2682" y="268"/>
                </a:lnTo>
                <a:lnTo>
                  <a:pt x="2695" y="265"/>
                </a:lnTo>
                <a:lnTo>
                  <a:pt x="2704" y="260"/>
                </a:lnTo>
                <a:lnTo>
                  <a:pt x="2713" y="255"/>
                </a:lnTo>
                <a:lnTo>
                  <a:pt x="2723" y="249"/>
                </a:lnTo>
                <a:lnTo>
                  <a:pt x="2731" y="241"/>
                </a:lnTo>
                <a:lnTo>
                  <a:pt x="2737" y="233"/>
                </a:lnTo>
                <a:lnTo>
                  <a:pt x="2742" y="225"/>
                </a:lnTo>
                <a:lnTo>
                  <a:pt x="2747" y="215"/>
                </a:lnTo>
                <a:lnTo>
                  <a:pt x="2750" y="205"/>
                </a:lnTo>
                <a:lnTo>
                  <a:pt x="2751" y="194"/>
                </a:lnTo>
                <a:lnTo>
                  <a:pt x="2751" y="184"/>
                </a:lnTo>
                <a:lnTo>
                  <a:pt x="2750" y="173"/>
                </a:lnTo>
                <a:lnTo>
                  <a:pt x="2747" y="163"/>
                </a:lnTo>
                <a:lnTo>
                  <a:pt x="2742" y="152"/>
                </a:lnTo>
                <a:lnTo>
                  <a:pt x="2737" y="142"/>
                </a:lnTo>
                <a:lnTo>
                  <a:pt x="2729" y="133"/>
                </a:lnTo>
                <a:lnTo>
                  <a:pt x="2715" y="121"/>
                </a:lnTo>
                <a:lnTo>
                  <a:pt x="2699" y="112"/>
                </a:lnTo>
                <a:lnTo>
                  <a:pt x="2683" y="105"/>
                </a:lnTo>
                <a:lnTo>
                  <a:pt x="2668" y="100"/>
                </a:lnTo>
                <a:lnTo>
                  <a:pt x="2652" y="97"/>
                </a:lnTo>
                <a:lnTo>
                  <a:pt x="2636" y="97"/>
                </a:lnTo>
                <a:lnTo>
                  <a:pt x="2620" y="99"/>
                </a:lnTo>
                <a:lnTo>
                  <a:pt x="2606" y="102"/>
                </a:lnTo>
                <a:lnTo>
                  <a:pt x="2592" y="107"/>
                </a:lnTo>
                <a:lnTo>
                  <a:pt x="2578" y="115"/>
                </a:lnTo>
                <a:lnTo>
                  <a:pt x="2565" y="123"/>
                </a:lnTo>
                <a:lnTo>
                  <a:pt x="2554" y="134"/>
                </a:lnTo>
                <a:lnTo>
                  <a:pt x="2545" y="149"/>
                </a:lnTo>
                <a:lnTo>
                  <a:pt x="2537" y="163"/>
                </a:lnTo>
                <a:lnTo>
                  <a:pt x="2530" y="181"/>
                </a:lnTo>
                <a:lnTo>
                  <a:pt x="2527" y="199"/>
                </a:lnTo>
                <a:lnTo>
                  <a:pt x="2526" y="210"/>
                </a:lnTo>
                <a:lnTo>
                  <a:pt x="2527" y="223"/>
                </a:lnTo>
                <a:lnTo>
                  <a:pt x="2527" y="236"/>
                </a:lnTo>
                <a:lnTo>
                  <a:pt x="2530" y="251"/>
                </a:lnTo>
                <a:lnTo>
                  <a:pt x="2534" y="265"/>
                </a:lnTo>
                <a:lnTo>
                  <a:pt x="2537" y="278"/>
                </a:lnTo>
                <a:lnTo>
                  <a:pt x="2541" y="291"/>
                </a:lnTo>
                <a:lnTo>
                  <a:pt x="2548" y="299"/>
                </a:lnTo>
                <a:lnTo>
                  <a:pt x="2548" y="299"/>
                </a:lnTo>
                <a:lnTo>
                  <a:pt x="2548" y="299"/>
                </a:lnTo>
                <a:lnTo>
                  <a:pt x="2548" y="299"/>
                </a:lnTo>
                <a:lnTo>
                  <a:pt x="2548" y="299"/>
                </a:lnTo>
                <a:lnTo>
                  <a:pt x="2556" y="307"/>
                </a:lnTo>
                <a:lnTo>
                  <a:pt x="2564" y="315"/>
                </a:lnTo>
                <a:lnTo>
                  <a:pt x="2571" y="323"/>
                </a:lnTo>
                <a:lnTo>
                  <a:pt x="2579" y="331"/>
                </a:lnTo>
                <a:lnTo>
                  <a:pt x="2589" y="338"/>
                </a:lnTo>
                <a:lnTo>
                  <a:pt x="2598" y="344"/>
                </a:lnTo>
                <a:lnTo>
                  <a:pt x="2608" y="351"/>
                </a:lnTo>
                <a:lnTo>
                  <a:pt x="2617" y="357"/>
                </a:lnTo>
                <a:lnTo>
                  <a:pt x="2628" y="362"/>
                </a:lnTo>
                <a:lnTo>
                  <a:pt x="2639" y="367"/>
                </a:lnTo>
                <a:lnTo>
                  <a:pt x="2649" y="370"/>
                </a:lnTo>
                <a:lnTo>
                  <a:pt x="2660" y="374"/>
                </a:lnTo>
                <a:lnTo>
                  <a:pt x="2672" y="377"/>
                </a:lnTo>
                <a:lnTo>
                  <a:pt x="2683" y="378"/>
                </a:lnTo>
                <a:lnTo>
                  <a:pt x="2695" y="380"/>
                </a:lnTo>
                <a:lnTo>
                  <a:pt x="2707" y="380"/>
                </a:lnTo>
                <a:lnTo>
                  <a:pt x="2728" y="377"/>
                </a:lnTo>
                <a:lnTo>
                  <a:pt x="2747" y="374"/>
                </a:lnTo>
                <a:lnTo>
                  <a:pt x="2766" y="367"/>
                </a:lnTo>
                <a:lnTo>
                  <a:pt x="2781" y="359"/>
                </a:lnTo>
                <a:lnTo>
                  <a:pt x="2796" y="349"/>
                </a:lnTo>
                <a:lnTo>
                  <a:pt x="2808" y="338"/>
                </a:lnTo>
                <a:lnTo>
                  <a:pt x="2819" y="327"/>
                </a:lnTo>
                <a:lnTo>
                  <a:pt x="2830" y="314"/>
                </a:lnTo>
                <a:lnTo>
                  <a:pt x="2840" y="301"/>
                </a:lnTo>
                <a:lnTo>
                  <a:pt x="2848" y="286"/>
                </a:lnTo>
                <a:lnTo>
                  <a:pt x="2854" y="272"/>
                </a:lnTo>
                <a:lnTo>
                  <a:pt x="2860" y="259"/>
                </a:lnTo>
                <a:lnTo>
                  <a:pt x="2867" y="244"/>
                </a:lnTo>
                <a:lnTo>
                  <a:pt x="2871" y="230"/>
                </a:lnTo>
                <a:lnTo>
                  <a:pt x="2876" y="217"/>
                </a:lnTo>
                <a:lnTo>
                  <a:pt x="2879" y="204"/>
                </a:lnTo>
                <a:lnTo>
                  <a:pt x="2884" y="217"/>
                </a:lnTo>
                <a:lnTo>
                  <a:pt x="2887" y="230"/>
                </a:lnTo>
                <a:lnTo>
                  <a:pt x="2890" y="244"/>
                </a:lnTo>
                <a:lnTo>
                  <a:pt x="2895" y="259"/>
                </a:lnTo>
                <a:lnTo>
                  <a:pt x="2900" y="272"/>
                </a:lnTo>
                <a:lnTo>
                  <a:pt x="2906" y="286"/>
                </a:lnTo>
                <a:lnTo>
                  <a:pt x="2914" y="301"/>
                </a:lnTo>
                <a:lnTo>
                  <a:pt x="2922" y="314"/>
                </a:lnTo>
                <a:lnTo>
                  <a:pt x="2931" y="327"/>
                </a:lnTo>
                <a:lnTo>
                  <a:pt x="2942" y="338"/>
                </a:lnTo>
                <a:lnTo>
                  <a:pt x="2955" y="349"/>
                </a:lnTo>
                <a:lnTo>
                  <a:pt x="2971" y="359"/>
                </a:lnTo>
                <a:lnTo>
                  <a:pt x="2988" y="367"/>
                </a:lnTo>
                <a:lnTo>
                  <a:pt x="3007" y="374"/>
                </a:lnTo>
                <a:lnTo>
                  <a:pt x="3028" y="378"/>
                </a:lnTo>
                <a:lnTo>
                  <a:pt x="3053" y="380"/>
                </a:lnTo>
                <a:lnTo>
                  <a:pt x="3064" y="380"/>
                </a:lnTo>
                <a:lnTo>
                  <a:pt x="3077" y="378"/>
                </a:lnTo>
                <a:lnTo>
                  <a:pt x="3088" y="377"/>
                </a:lnTo>
                <a:lnTo>
                  <a:pt x="3099" y="375"/>
                </a:lnTo>
                <a:lnTo>
                  <a:pt x="3110" y="372"/>
                </a:lnTo>
                <a:lnTo>
                  <a:pt x="3121" y="367"/>
                </a:lnTo>
                <a:lnTo>
                  <a:pt x="3130" y="362"/>
                </a:lnTo>
                <a:lnTo>
                  <a:pt x="3141" y="357"/>
                </a:lnTo>
                <a:lnTo>
                  <a:pt x="3151" y="351"/>
                </a:lnTo>
                <a:lnTo>
                  <a:pt x="3160" y="346"/>
                </a:lnTo>
                <a:lnTo>
                  <a:pt x="3170" y="338"/>
                </a:lnTo>
                <a:lnTo>
                  <a:pt x="3179" y="331"/>
                </a:lnTo>
                <a:lnTo>
                  <a:pt x="3187" y="323"/>
                </a:lnTo>
                <a:lnTo>
                  <a:pt x="3195" y="315"/>
                </a:lnTo>
                <a:lnTo>
                  <a:pt x="3203" y="307"/>
                </a:lnTo>
                <a:lnTo>
                  <a:pt x="3211" y="299"/>
                </a:lnTo>
                <a:lnTo>
                  <a:pt x="3211" y="299"/>
                </a:lnTo>
                <a:lnTo>
                  <a:pt x="3211" y="299"/>
                </a:lnTo>
                <a:lnTo>
                  <a:pt x="3211" y="299"/>
                </a:lnTo>
                <a:lnTo>
                  <a:pt x="3212" y="299"/>
                </a:lnTo>
                <a:lnTo>
                  <a:pt x="3217" y="291"/>
                </a:lnTo>
                <a:lnTo>
                  <a:pt x="3222" y="280"/>
                </a:lnTo>
                <a:lnTo>
                  <a:pt x="3226" y="265"/>
                </a:lnTo>
                <a:lnTo>
                  <a:pt x="3230" y="252"/>
                </a:lnTo>
                <a:lnTo>
                  <a:pt x="3231" y="238"/>
                </a:lnTo>
                <a:lnTo>
                  <a:pt x="3231" y="223"/>
                </a:lnTo>
                <a:lnTo>
                  <a:pt x="3233" y="210"/>
                </a:lnTo>
                <a:lnTo>
                  <a:pt x="3231" y="199"/>
                </a:lnTo>
                <a:lnTo>
                  <a:pt x="3228" y="181"/>
                </a:lnTo>
                <a:lnTo>
                  <a:pt x="3222" y="163"/>
                </a:lnTo>
                <a:lnTo>
                  <a:pt x="3214" y="149"/>
                </a:lnTo>
                <a:lnTo>
                  <a:pt x="3204" y="134"/>
                </a:lnTo>
                <a:lnTo>
                  <a:pt x="3193" y="123"/>
                </a:lnTo>
                <a:lnTo>
                  <a:pt x="3181" y="115"/>
                </a:lnTo>
                <a:lnTo>
                  <a:pt x="3167" y="107"/>
                </a:lnTo>
                <a:lnTo>
                  <a:pt x="3152" y="102"/>
                </a:lnTo>
                <a:lnTo>
                  <a:pt x="3138" y="99"/>
                </a:lnTo>
                <a:lnTo>
                  <a:pt x="3122" y="97"/>
                </a:lnTo>
                <a:lnTo>
                  <a:pt x="3107" y="97"/>
                </a:lnTo>
                <a:lnTo>
                  <a:pt x="3091" y="100"/>
                </a:lnTo>
                <a:lnTo>
                  <a:pt x="3075" y="105"/>
                </a:lnTo>
                <a:lnTo>
                  <a:pt x="3059" y="112"/>
                </a:lnTo>
                <a:lnTo>
                  <a:pt x="3043" y="121"/>
                </a:lnTo>
                <a:lnTo>
                  <a:pt x="3029" y="133"/>
                </a:lnTo>
                <a:lnTo>
                  <a:pt x="3021" y="142"/>
                </a:lnTo>
                <a:lnTo>
                  <a:pt x="3017" y="152"/>
                </a:lnTo>
                <a:lnTo>
                  <a:pt x="3012" y="163"/>
                </a:lnTo>
                <a:lnTo>
                  <a:pt x="3009" y="173"/>
                </a:lnTo>
                <a:lnTo>
                  <a:pt x="3007" y="184"/>
                </a:lnTo>
                <a:lnTo>
                  <a:pt x="3007" y="194"/>
                </a:lnTo>
                <a:lnTo>
                  <a:pt x="3009" y="205"/>
                </a:lnTo>
                <a:lnTo>
                  <a:pt x="3012" y="215"/>
                </a:lnTo>
                <a:lnTo>
                  <a:pt x="3017" y="225"/>
                </a:lnTo>
                <a:lnTo>
                  <a:pt x="3021" y="233"/>
                </a:lnTo>
                <a:lnTo>
                  <a:pt x="3028" y="241"/>
                </a:lnTo>
                <a:lnTo>
                  <a:pt x="3035" y="249"/>
                </a:lnTo>
                <a:lnTo>
                  <a:pt x="3045" y="255"/>
                </a:lnTo>
                <a:lnTo>
                  <a:pt x="3054" y="260"/>
                </a:lnTo>
                <a:lnTo>
                  <a:pt x="3064" y="265"/>
                </a:lnTo>
                <a:lnTo>
                  <a:pt x="3077" y="268"/>
                </a:lnTo>
                <a:lnTo>
                  <a:pt x="3094" y="268"/>
                </a:lnTo>
                <a:lnTo>
                  <a:pt x="3110" y="265"/>
                </a:lnTo>
                <a:lnTo>
                  <a:pt x="3122" y="259"/>
                </a:lnTo>
                <a:lnTo>
                  <a:pt x="3133" y="249"/>
                </a:lnTo>
                <a:lnTo>
                  <a:pt x="3141" y="238"/>
                </a:lnTo>
                <a:lnTo>
                  <a:pt x="3146" y="223"/>
                </a:lnTo>
                <a:lnTo>
                  <a:pt x="3148" y="207"/>
                </a:lnTo>
                <a:lnTo>
                  <a:pt x="3146" y="189"/>
                </a:lnTo>
                <a:lnTo>
                  <a:pt x="3144" y="184"/>
                </a:lnTo>
                <a:lnTo>
                  <a:pt x="3141" y="179"/>
                </a:lnTo>
                <a:lnTo>
                  <a:pt x="3133" y="181"/>
                </a:lnTo>
                <a:lnTo>
                  <a:pt x="3129" y="178"/>
                </a:lnTo>
                <a:lnTo>
                  <a:pt x="3129" y="171"/>
                </a:lnTo>
                <a:lnTo>
                  <a:pt x="3130" y="167"/>
                </a:lnTo>
                <a:lnTo>
                  <a:pt x="3133" y="162"/>
                </a:lnTo>
                <a:lnTo>
                  <a:pt x="3138" y="160"/>
                </a:lnTo>
                <a:lnTo>
                  <a:pt x="3144" y="162"/>
                </a:lnTo>
                <a:lnTo>
                  <a:pt x="3151" y="170"/>
                </a:lnTo>
                <a:lnTo>
                  <a:pt x="3154" y="175"/>
                </a:lnTo>
                <a:lnTo>
                  <a:pt x="3157" y="181"/>
                </a:lnTo>
                <a:lnTo>
                  <a:pt x="3159" y="189"/>
                </a:lnTo>
                <a:lnTo>
                  <a:pt x="3160" y="197"/>
                </a:lnTo>
                <a:lnTo>
                  <a:pt x="3160" y="207"/>
                </a:lnTo>
                <a:lnTo>
                  <a:pt x="3159" y="215"/>
                </a:lnTo>
                <a:lnTo>
                  <a:pt x="3157" y="225"/>
                </a:lnTo>
                <a:lnTo>
                  <a:pt x="3154" y="234"/>
                </a:lnTo>
                <a:lnTo>
                  <a:pt x="3149" y="244"/>
                </a:lnTo>
                <a:lnTo>
                  <a:pt x="3143" y="254"/>
                </a:lnTo>
                <a:lnTo>
                  <a:pt x="3135" y="260"/>
                </a:lnTo>
                <a:lnTo>
                  <a:pt x="3129" y="267"/>
                </a:lnTo>
                <a:lnTo>
                  <a:pt x="3119" y="272"/>
                </a:lnTo>
                <a:lnTo>
                  <a:pt x="3111" y="275"/>
                </a:lnTo>
                <a:lnTo>
                  <a:pt x="3102" y="278"/>
                </a:lnTo>
                <a:lnTo>
                  <a:pt x="3092" y="278"/>
                </a:lnTo>
                <a:lnTo>
                  <a:pt x="3083" y="280"/>
                </a:lnTo>
                <a:lnTo>
                  <a:pt x="3073" y="278"/>
                </a:lnTo>
                <a:lnTo>
                  <a:pt x="3064" y="276"/>
                </a:lnTo>
                <a:lnTo>
                  <a:pt x="3054" y="273"/>
                </a:lnTo>
                <a:lnTo>
                  <a:pt x="3045" y="268"/>
                </a:lnTo>
                <a:lnTo>
                  <a:pt x="3037" y="264"/>
                </a:lnTo>
                <a:lnTo>
                  <a:pt x="3029" y="257"/>
                </a:lnTo>
                <a:lnTo>
                  <a:pt x="3021" y="249"/>
                </a:lnTo>
                <a:lnTo>
                  <a:pt x="3012" y="238"/>
                </a:lnTo>
                <a:lnTo>
                  <a:pt x="3005" y="226"/>
                </a:lnTo>
                <a:lnTo>
                  <a:pt x="3001" y="215"/>
                </a:lnTo>
                <a:lnTo>
                  <a:pt x="2998" y="204"/>
                </a:lnTo>
                <a:lnTo>
                  <a:pt x="2998" y="192"/>
                </a:lnTo>
                <a:lnTo>
                  <a:pt x="2998" y="181"/>
                </a:lnTo>
                <a:lnTo>
                  <a:pt x="2999" y="170"/>
                </a:lnTo>
                <a:lnTo>
                  <a:pt x="3002" y="160"/>
                </a:lnTo>
                <a:lnTo>
                  <a:pt x="3007" y="149"/>
                </a:lnTo>
                <a:lnTo>
                  <a:pt x="3013" y="139"/>
                </a:lnTo>
                <a:lnTo>
                  <a:pt x="3020" y="131"/>
                </a:lnTo>
                <a:lnTo>
                  <a:pt x="3029" y="121"/>
                </a:lnTo>
                <a:lnTo>
                  <a:pt x="3037" y="115"/>
                </a:lnTo>
                <a:lnTo>
                  <a:pt x="3048" y="107"/>
                </a:lnTo>
                <a:lnTo>
                  <a:pt x="3059" y="102"/>
                </a:lnTo>
                <a:lnTo>
                  <a:pt x="3072" y="97"/>
                </a:lnTo>
                <a:lnTo>
                  <a:pt x="3088" y="90"/>
                </a:lnTo>
                <a:lnTo>
                  <a:pt x="3103" y="87"/>
                </a:lnTo>
                <a:lnTo>
                  <a:pt x="3121" y="87"/>
                </a:lnTo>
                <a:lnTo>
                  <a:pt x="3135" y="87"/>
                </a:lnTo>
                <a:lnTo>
                  <a:pt x="3151" y="90"/>
                </a:lnTo>
                <a:lnTo>
                  <a:pt x="3165" y="95"/>
                </a:lnTo>
                <a:lnTo>
                  <a:pt x="3178" y="100"/>
                </a:lnTo>
                <a:lnTo>
                  <a:pt x="3190" y="108"/>
                </a:lnTo>
                <a:lnTo>
                  <a:pt x="3201" y="118"/>
                </a:lnTo>
                <a:lnTo>
                  <a:pt x="3211" y="129"/>
                </a:lnTo>
                <a:lnTo>
                  <a:pt x="3220" y="141"/>
                </a:lnTo>
                <a:lnTo>
                  <a:pt x="3228" y="154"/>
                </a:lnTo>
                <a:lnTo>
                  <a:pt x="3234" y="168"/>
                </a:lnTo>
                <a:lnTo>
                  <a:pt x="3238" y="184"/>
                </a:lnTo>
                <a:lnTo>
                  <a:pt x="3241" y="200"/>
                </a:lnTo>
                <a:lnTo>
                  <a:pt x="3242" y="218"/>
                </a:lnTo>
                <a:lnTo>
                  <a:pt x="3241" y="230"/>
                </a:lnTo>
                <a:lnTo>
                  <a:pt x="3241" y="241"/>
                </a:lnTo>
                <a:lnTo>
                  <a:pt x="3238" y="252"/>
                </a:lnTo>
                <a:lnTo>
                  <a:pt x="3236" y="265"/>
                </a:lnTo>
                <a:lnTo>
                  <a:pt x="3233" y="276"/>
                </a:lnTo>
                <a:lnTo>
                  <a:pt x="3228" y="286"/>
                </a:lnTo>
                <a:lnTo>
                  <a:pt x="3225" y="298"/>
                </a:lnTo>
                <a:lnTo>
                  <a:pt x="3220" y="307"/>
                </a:lnTo>
                <a:lnTo>
                  <a:pt x="3228" y="314"/>
                </a:lnTo>
                <a:lnTo>
                  <a:pt x="3238" y="322"/>
                </a:lnTo>
                <a:lnTo>
                  <a:pt x="3249" y="328"/>
                </a:lnTo>
                <a:lnTo>
                  <a:pt x="3258" y="335"/>
                </a:lnTo>
                <a:lnTo>
                  <a:pt x="3269" y="341"/>
                </a:lnTo>
                <a:lnTo>
                  <a:pt x="3282" y="346"/>
                </a:lnTo>
                <a:lnTo>
                  <a:pt x="3293" y="351"/>
                </a:lnTo>
                <a:lnTo>
                  <a:pt x="3305" y="356"/>
                </a:lnTo>
                <a:lnTo>
                  <a:pt x="3318" y="361"/>
                </a:lnTo>
                <a:lnTo>
                  <a:pt x="3331" y="364"/>
                </a:lnTo>
                <a:lnTo>
                  <a:pt x="3343" y="367"/>
                </a:lnTo>
                <a:lnTo>
                  <a:pt x="3356" y="369"/>
                </a:lnTo>
                <a:lnTo>
                  <a:pt x="3370" y="372"/>
                </a:lnTo>
                <a:lnTo>
                  <a:pt x="3384" y="374"/>
                </a:lnTo>
                <a:lnTo>
                  <a:pt x="3399" y="374"/>
                </a:lnTo>
                <a:lnTo>
                  <a:pt x="3413" y="374"/>
                </a:lnTo>
                <a:lnTo>
                  <a:pt x="3427" y="374"/>
                </a:lnTo>
                <a:lnTo>
                  <a:pt x="3443" y="372"/>
                </a:lnTo>
                <a:lnTo>
                  <a:pt x="3455" y="370"/>
                </a:lnTo>
                <a:lnTo>
                  <a:pt x="3470" y="369"/>
                </a:lnTo>
                <a:lnTo>
                  <a:pt x="3484" y="365"/>
                </a:lnTo>
                <a:lnTo>
                  <a:pt x="3498" y="362"/>
                </a:lnTo>
                <a:lnTo>
                  <a:pt x="3512" y="357"/>
                </a:lnTo>
                <a:lnTo>
                  <a:pt x="3525" y="353"/>
                </a:lnTo>
                <a:lnTo>
                  <a:pt x="3537" y="348"/>
                </a:lnTo>
                <a:lnTo>
                  <a:pt x="3550" y="341"/>
                </a:lnTo>
                <a:lnTo>
                  <a:pt x="3561" y="335"/>
                </a:lnTo>
                <a:lnTo>
                  <a:pt x="3574" y="328"/>
                </a:lnTo>
                <a:lnTo>
                  <a:pt x="3585" y="320"/>
                </a:lnTo>
                <a:lnTo>
                  <a:pt x="3594" y="312"/>
                </a:lnTo>
                <a:lnTo>
                  <a:pt x="3605" y="304"/>
                </a:lnTo>
                <a:lnTo>
                  <a:pt x="3615" y="294"/>
                </a:lnTo>
                <a:lnTo>
                  <a:pt x="3602" y="286"/>
                </a:lnTo>
                <a:lnTo>
                  <a:pt x="3591" y="278"/>
                </a:lnTo>
                <a:lnTo>
                  <a:pt x="3582" y="270"/>
                </a:lnTo>
                <a:lnTo>
                  <a:pt x="3574" y="260"/>
                </a:lnTo>
                <a:lnTo>
                  <a:pt x="3566" y="251"/>
                </a:lnTo>
                <a:lnTo>
                  <a:pt x="3560" y="241"/>
                </a:lnTo>
                <a:lnTo>
                  <a:pt x="3556" y="231"/>
                </a:lnTo>
                <a:lnTo>
                  <a:pt x="3553" y="221"/>
                </a:lnTo>
                <a:lnTo>
                  <a:pt x="3552" y="212"/>
                </a:lnTo>
                <a:lnTo>
                  <a:pt x="3553" y="202"/>
                </a:lnTo>
                <a:lnTo>
                  <a:pt x="3556" y="192"/>
                </a:lnTo>
                <a:lnTo>
                  <a:pt x="3563" y="184"/>
                </a:lnTo>
                <a:lnTo>
                  <a:pt x="3569" y="176"/>
                </a:lnTo>
                <a:lnTo>
                  <a:pt x="3577" y="168"/>
                </a:lnTo>
                <a:lnTo>
                  <a:pt x="3586" y="160"/>
                </a:lnTo>
                <a:lnTo>
                  <a:pt x="3597" y="152"/>
                </a:lnTo>
                <a:lnTo>
                  <a:pt x="3610" y="147"/>
                </a:lnTo>
                <a:lnTo>
                  <a:pt x="3623" y="141"/>
                </a:lnTo>
                <a:lnTo>
                  <a:pt x="3637" y="136"/>
                </a:lnTo>
                <a:lnTo>
                  <a:pt x="3653" y="131"/>
                </a:lnTo>
                <a:lnTo>
                  <a:pt x="3668" y="128"/>
                </a:lnTo>
                <a:lnTo>
                  <a:pt x="3684" y="126"/>
                </a:lnTo>
                <a:lnTo>
                  <a:pt x="3700" y="124"/>
                </a:lnTo>
                <a:lnTo>
                  <a:pt x="3717" y="123"/>
                </a:lnTo>
                <a:lnTo>
                  <a:pt x="3733" y="124"/>
                </a:lnTo>
                <a:lnTo>
                  <a:pt x="3751" y="126"/>
                </a:lnTo>
                <a:lnTo>
                  <a:pt x="3766" y="128"/>
                </a:lnTo>
                <a:lnTo>
                  <a:pt x="3781" y="131"/>
                </a:lnTo>
                <a:lnTo>
                  <a:pt x="3795" y="136"/>
                </a:lnTo>
                <a:lnTo>
                  <a:pt x="3809" y="141"/>
                </a:lnTo>
                <a:lnTo>
                  <a:pt x="3822" y="147"/>
                </a:lnTo>
                <a:lnTo>
                  <a:pt x="3833" y="152"/>
                </a:lnTo>
                <a:lnTo>
                  <a:pt x="3844" y="160"/>
                </a:lnTo>
                <a:lnTo>
                  <a:pt x="3853" y="168"/>
                </a:lnTo>
                <a:lnTo>
                  <a:pt x="3861" y="176"/>
                </a:lnTo>
                <a:lnTo>
                  <a:pt x="3869" y="184"/>
                </a:lnTo>
                <a:lnTo>
                  <a:pt x="3874" y="192"/>
                </a:lnTo>
                <a:lnTo>
                  <a:pt x="3878" y="202"/>
                </a:lnTo>
                <a:lnTo>
                  <a:pt x="3880" y="212"/>
                </a:lnTo>
                <a:lnTo>
                  <a:pt x="3882" y="221"/>
                </a:lnTo>
                <a:lnTo>
                  <a:pt x="3880" y="234"/>
                </a:lnTo>
                <a:lnTo>
                  <a:pt x="3874" y="246"/>
                </a:lnTo>
                <a:lnTo>
                  <a:pt x="3866" y="259"/>
                </a:lnTo>
                <a:lnTo>
                  <a:pt x="3856" y="270"/>
                </a:lnTo>
                <a:lnTo>
                  <a:pt x="3842" y="280"/>
                </a:lnTo>
                <a:lnTo>
                  <a:pt x="3828" y="289"/>
                </a:lnTo>
                <a:lnTo>
                  <a:pt x="3811" y="299"/>
                </a:lnTo>
                <a:lnTo>
                  <a:pt x="3793" y="307"/>
                </a:lnTo>
                <a:lnTo>
                  <a:pt x="3799" y="315"/>
                </a:lnTo>
                <a:lnTo>
                  <a:pt x="3807" y="323"/>
                </a:lnTo>
                <a:lnTo>
                  <a:pt x="3818" y="331"/>
                </a:lnTo>
                <a:lnTo>
                  <a:pt x="3829" y="336"/>
                </a:lnTo>
                <a:lnTo>
                  <a:pt x="3841" y="341"/>
                </a:lnTo>
                <a:lnTo>
                  <a:pt x="3855" y="344"/>
                </a:lnTo>
                <a:lnTo>
                  <a:pt x="3869" y="348"/>
                </a:lnTo>
                <a:lnTo>
                  <a:pt x="3883" y="348"/>
                </a:lnTo>
                <a:lnTo>
                  <a:pt x="3901" y="348"/>
                </a:lnTo>
                <a:lnTo>
                  <a:pt x="3916" y="344"/>
                </a:lnTo>
                <a:lnTo>
                  <a:pt x="3931" y="340"/>
                </a:lnTo>
                <a:lnTo>
                  <a:pt x="3945" y="333"/>
                </a:lnTo>
                <a:lnTo>
                  <a:pt x="3956" y="325"/>
                </a:lnTo>
                <a:lnTo>
                  <a:pt x="3965" y="317"/>
                </a:lnTo>
                <a:lnTo>
                  <a:pt x="3973" y="309"/>
                </a:lnTo>
                <a:lnTo>
                  <a:pt x="3978" y="299"/>
                </a:lnTo>
                <a:lnTo>
                  <a:pt x="3984" y="307"/>
                </a:lnTo>
                <a:lnTo>
                  <a:pt x="3990" y="314"/>
                </a:lnTo>
                <a:lnTo>
                  <a:pt x="3998" y="322"/>
                </a:lnTo>
                <a:lnTo>
                  <a:pt x="4006" y="328"/>
                </a:lnTo>
                <a:lnTo>
                  <a:pt x="4014" y="335"/>
                </a:lnTo>
                <a:lnTo>
                  <a:pt x="4024" y="341"/>
                </a:lnTo>
                <a:lnTo>
                  <a:pt x="4033" y="346"/>
                </a:lnTo>
                <a:lnTo>
                  <a:pt x="4043" y="353"/>
                </a:lnTo>
                <a:lnTo>
                  <a:pt x="4052" y="356"/>
                </a:lnTo>
                <a:lnTo>
                  <a:pt x="4062" y="361"/>
                </a:lnTo>
                <a:lnTo>
                  <a:pt x="4073" y="364"/>
                </a:lnTo>
                <a:lnTo>
                  <a:pt x="4082" y="365"/>
                </a:lnTo>
                <a:lnTo>
                  <a:pt x="4093" y="367"/>
                </a:lnTo>
                <a:lnTo>
                  <a:pt x="4104" y="369"/>
                </a:lnTo>
                <a:lnTo>
                  <a:pt x="4114" y="369"/>
                </a:lnTo>
                <a:lnTo>
                  <a:pt x="4125" y="367"/>
                </a:lnTo>
                <a:lnTo>
                  <a:pt x="4134" y="365"/>
                </a:lnTo>
                <a:lnTo>
                  <a:pt x="4144" y="365"/>
                </a:lnTo>
                <a:lnTo>
                  <a:pt x="4153" y="364"/>
                </a:lnTo>
                <a:lnTo>
                  <a:pt x="4163" y="361"/>
                </a:lnTo>
                <a:lnTo>
                  <a:pt x="4172" y="359"/>
                </a:lnTo>
                <a:lnTo>
                  <a:pt x="4183" y="357"/>
                </a:lnTo>
                <a:lnTo>
                  <a:pt x="4191" y="354"/>
                </a:lnTo>
                <a:lnTo>
                  <a:pt x="4200" y="353"/>
                </a:lnTo>
                <a:lnTo>
                  <a:pt x="4202" y="351"/>
                </a:lnTo>
                <a:lnTo>
                  <a:pt x="4207" y="349"/>
                </a:lnTo>
                <a:lnTo>
                  <a:pt x="4216" y="346"/>
                </a:lnTo>
                <a:lnTo>
                  <a:pt x="4227" y="341"/>
                </a:lnTo>
                <a:lnTo>
                  <a:pt x="4241" y="335"/>
                </a:lnTo>
                <a:lnTo>
                  <a:pt x="4259" y="328"/>
                </a:lnTo>
                <a:lnTo>
                  <a:pt x="4278" y="320"/>
                </a:lnTo>
                <a:lnTo>
                  <a:pt x="4300" y="310"/>
                </a:lnTo>
                <a:lnTo>
                  <a:pt x="4324" y="301"/>
                </a:lnTo>
                <a:lnTo>
                  <a:pt x="4349" y="291"/>
                </a:lnTo>
                <a:lnTo>
                  <a:pt x="4377" y="280"/>
                </a:lnTo>
                <a:lnTo>
                  <a:pt x="4406" y="268"/>
                </a:lnTo>
                <a:lnTo>
                  <a:pt x="4437" y="257"/>
                </a:lnTo>
                <a:lnTo>
                  <a:pt x="4469" y="244"/>
                </a:lnTo>
                <a:lnTo>
                  <a:pt x="4500" y="231"/>
                </a:lnTo>
                <a:lnTo>
                  <a:pt x="4533" y="220"/>
                </a:lnTo>
                <a:lnTo>
                  <a:pt x="4568" y="207"/>
                </a:lnTo>
                <a:lnTo>
                  <a:pt x="4601" y="194"/>
                </a:lnTo>
                <a:lnTo>
                  <a:pt x="4636" y="183"/>
                </a:lnTo>
                <a:lnTo>
                  <a:pt x="4671" y="170"/>
                </a:lnTo>
                <a:lnTo>
                  <a:pt x="4706" y="158"/>
                </a:lnTo>
                <a:lnTo>
                  <a:pt x="4740" y="147"/>
                </a:lnTo>
                <a:lnTo>
                  <a:pt x="4773" y="137"/>
                </a:lnTo>
                <a:lnTo>
                  <a:pt x="4807" y="128"/>
                </a:lnTo>
                <a:lnTo>
                  <a:pt x="4838" y="118"/>
                </a:lnTo>
                <a:lnTo>
                  <a:pt x="4870" y="110"/>
                </a:lnTo>
                <a:lnTo>
                  <a:pt x="4900" y="103"/>
                </a:lnTo>
                <a:lnTo>
                  <a:pt x="4928" y="97"/>
                </a:lnTo>
                <a:lnTo>
                  <a:pt x="4955" y="92"/>
                </a:lnTo>
                <a:lnTo>
                  <a:pt x="4980" y="89"/>
                </a:lnTo>
                <a:lnTo>
                  <a:pt x="5004" y="86"/>
                </a:lnTo>
                <a:lnTo>
                  <a:pt x="5024" y="86"/>
                </a:lnTo>
                <a:lnTo>
                  <a:pt x="5045" y="86"/>
                </a:lnTo>
                <a:lnTo>
                  <a:pt x="5065" y="87"/>
                </a:lnTo>
                <a:lnTo>
                  <a:pt x="5084" y="90"/>
                </a:lnTo>
                <a:lnTo>
                  <a:pt x="5102" y="94"/>
                </a:lnTo>
                <a:lnTo>
                  <a:pt x="5119" y="99"/>
                </a:lnTo>
                <a:lnTo>
                  <a:pt x="5136" y="105"/>
                </a:lnTo>
                <a:lnTo>
                  <a:pt x="5151" y="112"/>
                </a:lnTo>
                <a:lnTo>
                  <a:pt x="5165" y="120"/>
                </a:lnTo>
                <a:lnTo>
                  <a:pt x="5178" y="128"/>
                </a:lnTo>
                <a:lnTo>
                  <a:pt x="5190" y="137"/>
                </a:lnTo>
                <a:lnTo>
                  <a:pt x="5200" y="147"/>
                </a:lnTo>
                <a:lnTo>
                  <a:pt x="5208" y="157"/>
                </a:lnTo>
                <a:lnTo>
                  <a:pt x="5214" y="168"/>
                </a:lnTo>
                <a:lnTo>
                  <a:pt x="5219" y="179"/>
                </a:lnTo>
                <a:lnTo>
                  <a:pt x="5222" y="191"/>
                </a:lnTo>
                <a:lnTo>
                  <a:pt x="5223" y="204"/>
                </a:lnTo>
                <a:lnTo>
                  <a:pt x="5222" y="215"/>
                </a:lnTo>
                <a:lnTo>
                  <a:pt x="5219" y="226"/>
                </a:lnTo>
                <a:lnTo>
                  <a:pt x="5214" y="238"/>
                </a:lnTo>
                <a:lnTo>
                  <a:pt x="5208" y="249"/>
                </a:lnTo>
                <a:lnTo>
                  <a:pt x="5198" y="259"/>
                </a:lnTo>
                <a:lnTo>
                  <a:pt x="5189" y="268"/>
                </a:lnTo>
                <a:lnTo>
                  <a:pt x="5178" y="276"/>
                </a:lnTo>
                <a:lnTo>
                  <a:pt x="5165" y="283"/>
                </a:lnTo>
                <a:lnTo>
                  <a:pt x="5178" y="288"/>
                </a:lnTo>
                <a:lnTo>
                  <a:pt x="5190" y="293"/>
                </a:lnTo>
                <a:lnTo>
                  <a:pt x="5204" y="296"/>
                </a:lnTo>
                <a:lnTo>
                  <a:pt x="5219" y="301"/>
                </a:lnTo>
                <a:lnTo>
                  <a:pt x="5233" y="304"/>
                </a:lnTo>
                <a:lnTo>
                  <a:pt x="5247" y="306"/>
                </a:lnTo>
                <a:lnTo>
                  <a:pt x="5263" y="307"/>
                </a:lnTo>
                <a:lnTo>
                  <a:pt x="5277" y="309"/>
                </a:lnTo>
                <a:lnTo>
                  <a:pt x="5288" y="309"/>
                </a:lnTo>
                <a:lnTo>
                  <a:pt x="5297" y="309"/>
                </a:lnTo>
                <a:lnTo>
                  <a:pt x="5307" y="307"/>
                </a:lnTo>
                <a:lnTo>
                  <a:pt x="5316" y="306"/>
                </a:lnTo>
                <a:lnTo>
                  <a:pt x="5326" y="304"/>
                </a:lnTo>
                <a:lnTo>
                  <a:pt x="5335" y="302"/>
                </a:lnTo>
                <a:lnTo>
                  <a:pt x="5345" y="301"/>
                </a:lnTo>
                <a:lnTo>
                  <a:pt x="5354" y="298"/>
                </a:lnTo>
                <a:lnTo>
                  <a:pt x="5364" y="294"/>
                </a:lnTo>
                <a:lnTo>
                  <a:pt x="5372" y="291"/>
                </a:lnTo>
                <a:lnTo>
                  <a:pt x="5380" y="288"/>
                </a:lnTo>
                <a:lnTo>
                  <a:pt x="5387" y="283"/>
                </a:lnTo>
                <a:lnTo>
                  <a:pt x="5395" y="280"/>
                </a:lnTo>
                <a:lnTo>
                  <a:pt x="5403" y="275"/>
                </a:lnTo>
                <a:lnTo>
                  <a:pt x="5410" y="270"/>
                </a:lnTo>
                <a:lnTo>
                  <a:pt x="5416" y="265"/>
                </a:lnTo>
                <a:lnTo>
                  <a:pt x="5414" y="259"/>
                </a:lnTo>
                <a:lnTo>
                  <a:pt x="5413" y="254"/>
                </a:lnTo>
                <a:lnTo>
                  <a:pt x="5411" y="249"/>
                </a:lnTo>
                <a:lnTo>
                  <a:pt x="5411" y="244"/>
                </a:lnTo>
                <a:close/>
              </a:path>
            </a:pathLst>
          </a:cu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6556320"/>
            <a:ext cx="9144000" cy="301680"/>
          </a:xfrm>
          <a:custGeom>
            <a:avLst/>
            <a:gdLst/>
            <a:ahLst/>
            <a:rect l="l" t="t" r="r" b="b"/>
            <a:pathLst>
              <a:path w="5760" h="380">
                <a:moveTo>
                  <a:pt x="5411" y="244"/>
                </a:moveTo>
                <a:lnTo>
                  <a:pt x="5411" y="244"/>
                </a:lnTo>
                <a:lnTo>
                  <a:pt x="5410" y="220"/>
                </a:lnTo>
                <a:lnTo>
                  <a:pt x="5411" y="199"/>
                </a:lnTo>
                <a:lnTo>
                  <a:pt x="5416" y="179"/>
                </a:lnTo>
                <a:lnTo>
                  <a:pt x="5425" y="162"/>
                </a:lnTo>
                <a:lnTo>
                  <a:pt x="5438" y="149"/>
                </a:lnTo>
                <a:lnTo>
                  <a:pt x="5454" y="137"/>
                </a:lnTo>
                <a:lnTo>
                  <a:pt x="5473" y="129"/>
                </a:lnTo>
                <a:lnTo>
                  <a:pt x="5495" y="124"/>
                </a:lnTo>
                <a:lnTo>
                  <a:pt x="5495" y="124"/>
                </a:lnTo>
                <a:lnTo>
                  <a:pt x="5515" y="126"/>
                </a:lnTo>
                <a:lnTo>
                  <a:pt x="5533" y="134"/>
                </a:lnTo>
                <a:lnTo>
                  <a:pt x="5548" y="144"/>
                </a:lnTo>
                <a:lnTo>
                  <a:pt x="5561" y="158"/>
                </a:lnTo>
                <a:lnTo>
                  <a:pt x="5569" y="175"/>
                </a:lnTo>
                <a:lnTo>
                  <a:pt x="5572" y="194"/>
                </a:lnTo>
                <a:lnTo>
                  <a:pt x="5571" y="213"/>
                </a:lnTo>
                <a:lnTo>
                  <a:pt x="5563" y="233"/>
                </a:lnTo>
                <a:lnTo>
                  <a:pt x="5563" y="233"/>
                </a:lnTo>
                <a:lnTo>
                  <a:pt x="5553" y="243"/>
                </a:lnTo>
                <a:lnTo>
                  <a:pt x="5544" y="251"/>
                </a:lnTo>
                <a:lnTo>
                  <a:pt x="5534" y="255"/>
                </a:lnTo>
                <a:lnTo>
                  <a:pt x="5523" y="257"/>
                </a:lnTo>
                <a:lnTo>
                  <a:pt x="5514" y="257"/>
                </a:lnTo>
                <a:lnTo>
                  <a:pt x="5503" y="254"/>
                </a:lnTo>
                <a:lnTo>
                  <a:pt x="5493" y="247"/>
                </a:lnTo>
                <a:lnTo>
                  <a:pt x="5484" y="238"/>
                </a:lnTo>
                <a:lnTo>
                  <a:pt x="5484" y="238"/>
                </a:lnTo>
                <a:lnTo>
                  <a:pt x="5479" y="230"/>
                </a:lnTo>
                <a:lnTo>
                  <a:pt x="5477" y="220"/>
                </a:lnTo>
                <a:lnTo>
                  <a:pt x="5477" y="212"/>
                </a:lnTo>
                <a:lnTo>
                  <a:pt x="5477" y="205"/>
                </a:lnTo>
                <a:lnTo>
                  <a:pt x="5479" y="197"/>
                </a:lnTo>
                <a:lnTo>
                  <a:pt x="5482" y="189"/>
                </a:lnTo>
                <a:lnTo>
                  <a:pt x="5485" y="181"/>
                </a:lnTo>
                <a:lnTo>
                  <a:pt x="5487" y="173"/>
                </a:lnTo>
                <a:lnTo>
                  <a:pt x="5487" y="173"/>
                </a:lnTo>
                <a:lnTo>
                  <a:pt x="5493" y="167"/>
                </a:lnTo>
                <a:lnTo>
                  <a:pt x="5498" y="165"/>
                </a:lnTo>
                <a:lnTo>
                  <a:pt x="5501" y="167"/>
                </a:lnTo>
                <a:lnTo>
                  <a:pt x="5504" y="170"/>
                </a:lnTo>
                <a:lnTo>
                  <a:pt x="5506" y="173"/>
                </a:lnTo>
                <a:lnTo>
                  <a:pt x="5506" y="178"/>
                </a:lnTo>
                <a:lnTo>
                  <a:pt x="5501" y="181"/>
                </a:lnTo>
                <a:lnTo>
                  <a:pt x="5496" y="183"/>
                </a:lnTo>
                <a:lnTo>
                  <a:pt x="5496" y="183"/>
                </a:lnTo>
                <a:lnTo>
                  <a:pt x="5488" y="200"/>
                </a:lnTo>
                <a:lnTo>
                  <a:pt x="5487" y="217"/>
                </a:lnTo>
                <a:lnTo>
                  <a:pt x="5492" y="231"/>
                </a:lnTo>
                <a:lnTo>
                  <a:pt x="5500" y="241"/>
                </a:lnTo>
                <a:lnTo>
                  <a:pt x="5512" y="246"/>
                </a:lnTo>
                <a:lnTo>
                  <a:pt x="5526" y="246"/>
                </a:lnTo>
                <a:lnTo>
                  <a:pt x="5541" y="241"/>
                </a:lnTo>
                <a:lnTo>
                  <a:pt x="5555" y="226"/>
                </a:lnTo>
                <a:lnTo>
                  <a:pt x="5555" y="226"/>
                </a:lnTo>
                <a:lnTo>
                  <a:pt x="5560" y="215"/>
                </a:lnTo>
                <a:lnTo>
                  <a:pt x="5561" y="204"/>
                </a:lnTo>
                <a:lnTo>
                  <a:pt x="5563" y="192"/>
                </a:lnTo>
                <a:lnTo>
                  <a:pt x="5561" y="183"/>
                </a:lnTo>
                <a:lnTo>
                  <a:pt x="5558" y="173"/>
                </a:lnTo>
                <a:lnTo>
                  <a:pt x="5553" y="163"/>
                </a:lnTo>
                <a:lnTo>
                  <a:pt x="5547" y="157"/>
                </a:lnTo>
                <a:lnTo>
                  <a:pt x="5539" y="150"/>
                </a:lnTo>
                <a:lnTo>
                  <a:pt x="5531" y="144"/>
                </a:lnTo>
                <a:lnTo>
                  <a:pt x="5522" y="141"/>
                </a:lnTo>
                <a:lnTo>
                  <a:pt x="5512" y="137"/>
                </a:lnTo>
                <a:lnTo>
                  <a:pt x="5501" y="136"/>
                </a:lnTo>
                <a:lnTo>
                  <a:pt x="5490" y="136"/>
                </a:lnTo>
                <a:lnTo>
                  <a:pt x="5479" y="137"/>
                </a:lnTo>
                <a:lnTo>
                  <a:pt x="5468" y="141"/>
                </a:lnTo>
                <a:lnTo>
                  <a:pt x="5459" y="145"/>
                </a:lnTo>
                <a:lnTo>
                  <a:pt x="5459" y="145"/>
                </a:lnTo>
                <a:lnTo>
                  <a:pt x="5444" y="155"/>
                </a:lnTo>
                <a:lnTo>
                  <a:pt x="5435" y="165"/>
                </a:lnTo>
                <a:lnTo>
                  <a:pt x="5427" y="178"/>
                </a:lnTo>
                <a:lnTo>
                  <a:pt x="5422" y="192"/>
                </a:lnTo>
                <a:lnTo>
                  <a:pt x="5419" y="207"/>
                </a:lnTo>
                <a:lnTo>
                  <a:pt x="5419" y="221"/>
                </a:lnTo>
                <a:lnTo>
                  <a:pt x="5421" y="238"/>
                </a:lnTo>
                <a:lnTo>
                  <a:pt x="5424" y="254"/>
                </a:lnTo>
                <a:lnTo>
                  <a:pt x="5425" y="257"/>
                </a:lnTo>
                <a:lnTo>
                  <a:pt x="5429" y="262"/>
                </a:lnTo>
                <a:lnTo>
                  <a:pt x="5427" y="262"/>
                </a:lnTo>
                <a:lnTo>
                  <a:pt x="5427" y="262"/>
                </a:lnTo>
                <a:lnTo>
                  <a:pt x="5432" y="267"/>
                </a:lnTo>
                <a:lnTo>
                  <a:pt x="5438" y="275"/>
                </a:lnTo>
                <a:lnTo>
                  <a:pt x="5447" y="281"/>
                </a:lnTo>
                <a:lnTo>
                  <a:pt x="5460" y="289"/>
                </a:lnTo>
                <a:lnTo>
                  <a:pt x="5476" y="296"/>
                </a:lnTo>
                <a:lnTo>
                  <a:pt x="5495" y="301"/>
                </a:lnTo>
                <a:lnTo>
                  <a:pt x="5518" y="306"/>
                </a:lnTo>
                <a:lnTo>
                  <a:pt x="5545" y="306"/>
                </a:lnTo>
                <a:lnTo>
                  <a:pt x="5545" y="306"/>
                </a:lnTo>
                <a:lnTo>
                  <a:pt x="5564" y="304"/>
                </a:lnTo>
                <a:lnTo>
                  <a:pt x="5582" y="298"/>
                </a:lnTo>
                <a:lnTo>
                  <a:pt x="5599" y="289"/>
                </a:lnTo>
                <a:lnTo>
                  <a:pt x="5616" y="278"/>
                </a:lnTo>
                <a:lnTo>
                  <a:pt x="5634" y="265"/>
                </a:lnTo>
                <a:lnTo>
                  <a:pt x="5650" y="251"/>
                </a:lnTo>
                <a:lnTo>
                  <a:pt x="5665" y="234"/>
                </a:lnTo>
                <a:lnTo>
                  <a:pt x="5679" y="218"/>
                </a:lnTo>
                <a:lnTo>
                  <a:pt x="5692" y="200"/>
                </a:lnTo>
                <a:lnTo>
                  <a:pt x="5705" y="184"/>
                </a:lnTo>
                <a:lnTo>
                  <a:pt x="5716" y="168"/>
                </a:lnTo>
                <a:lnTo>
                  <a:pt x="5725" y="152"/>
                </a:lnTo>
                <a:lnTo>
                  <a:pt x="5733" y="139"/>
                </a:lnTo>
                <a:lnTo>
                  <a:pt x="5739" y="128"/>
                </a:lnTo>
                <a:lnTo>
                  <a:pt x="5744" y="118"/>
                </a:lnTo>
                <a:lnTo>
                  <a:pt x="5746" y="110"/>
                </a:lnTo>
                <a:lnTo>
                  <a:pt x="5746" y="110"/>
                </a:lnTo>
                <a:lnTo>
                  <a:pt x="5749" y="105"/>
                </a:lnTo>
                <a:lnTo>
                  <a:pt x="5752" y="97"/>
                </a:lnTo>
                <a:lnTo>
                  <a:pt x="5755" y="89"/>
                </a:lnTo>
                <a:lnTo>
                  <a:pt x="5758" y="81"/>
                </a:lnTo>
                <a:lnTo>
                  <a:pt x="5760" y="73"/>
                </a:lnTo>
                <a:lnTo>
                  <a:pt x="5760" y="63"/>
                </a:lnTo>
                <a:lnTo>
                  <a:pt x="5758" y="53"/>
                </a:lnTo>
                <a:lnTo>
                  <a:pt x="5754" y="44"/>
                </a:lnTo>
                <a:lnTo>
                  <a:pt x="5746" y="35"/>
                </a:lnTo>
                <a:lnTo>
                  <a:pt x="5736" y="27"/>
                </a:lnTo>
                <a:lnTo>
                  <a:pt x="5721" y="19"/>
                </a:lnTo>
                <a:lnTo>
                  <a:pt x="5700" y="13"/>
                </a:lnTo>
                <a:lnTo>
                  <a:pt x="5675" y="8"/>
                </a:lnTo>
                <a:lnTo>
                  <a:pt x="5643" y="3"/>
                </a:lnTo>
                <a:lnTo>
                  <a:pt x="5607" y="2"/>
                </a:lnTo>
                <a:lnTo>
                  <a:pt x="5561" y="0"/>
                </a:lnTo>
                <a:lnTo>
                  <a:pt x="5561" y="0"/>
                </a:lnTo>
                <a:lnTo>
                  <a:pt x="5533" y="0"/>
                </a:lnTo>
                <a:lnTo>
                  <a:pt x="5493" y="0"/>
                </a:lnTo>
                <a:lnTo>
                  <a:pt x="5444" y="0"/>
                </a:lnTo>
                <a:lnTo>
                  <a:pt x="5386" y="0"/>
                </a:lnTo>
                <a:lnTo>
                  <a:pt x="5318" y="0"/>
                </a:lnTo>
                <a:lnTo>
                  <a:pt x="5242" y="0"/>
                </a:lnTo>
                <a:lnTo>
                  <a:pt x="5160" y="0"/>
                </a:lnTo>
                <a:lnTo>
                  <a:pt x="5072" y="0"/>
                </a:lnTo>
                <a:lnTo>
                  <a:pt x="4977" y="0"/>
                </a:lnTo>
                <a:lnTo>
                  <a:pt x="4878" y="0"/>
                </a:lnTo>
                <a:lnTo>
                  <a:pt x="4773" y="0"/>
                </a:lnTo>
                <a:lnTo>
                  <a:pt x="4666" y="0"/>
                </a:lnTo>
                <a:lnTo>
                  <a:pt x="4557" y="0"/>
                </a:lnTo>
                <a:lnTo>
                  <a:pt x="4445" y="0"/>
                </a:lnTo>
                <a:lnTo>
                  <a:pt x="4331" y="0"/>
                </a:lnTo>
                <a:lnTo>
                  <a:pt x="4218" y="0"/>
                </a:lnTo>
                <a:lnTo>
                  <a:pt x="4103" y="0"/>
                </a:lnTo>
                <a:lnTo>
                  <a:pt x="3989" y="0"/>
                </a:lnTo>
                <a:lnTo>
                  <a:pt x="3878" y="0"/>
                </a:lnTo>
                <a:lnTo>
                  <a:pt x="3768" y="0"/>
                </a:lnTo>
                <a:lnTo>
                  <a:pt x="3661" y="0"/>
                </a:lnTo>
                <a:lnTo>
                  <a:pt x="3558" y="0"/>
                </a:lnTo>
                <a:lnTo>
                  <a:pt x="3460" y="0"/>
                </a:lnTo>
                <a:lnTo>
                  <a:pt x="3367" y="0"/>
                </a:lnTo>
                <a:lnTo>
                  <a:pt x="3279" y="0"/>
                </a:lnTo>
                <a:lnTo>
                  <a:pt x="3198" y="0"/>
                </a:lnTo>
                <a:lnTo>
                  <a:pt x="3124" y="0"/>
                </a:lnTo>
                <a:lnTo>
                  <a:pt x="3058" y="0"/>
                </a:lnTo>
                <a:lnTo>
                  <a:pt x="3001" y="0"/>
                </a:lnTo>
                <a:lnTo>
                  <a:pt x="2953" y="0"/>
                </a:lnTo>
                <a:lnTo>
                  <a:pt x="2916" y="0"/>
                </a:lnTo>
                <a:lnTo>
                  <a:pt x="2889" y="0"/>
                </a:lnTo>
                <a:lnTo>
                  <a:pt x="2889" y="0"/>
                </a:lnTo>
                <a:lnTo>
                  <a:pt x="2889" y="0"/>
                </a:lnTo>
                <a:lnTo>
                  <a:pt x="2889" y="0"/>
                </a:lnTo>
                <a:lnTo>
                  <a:pt x="2889" y="0"/>
                </a:lnTo>
                <a:lnTo>
                  <a:pt x="2889" y="0"/>
                </a:lnTo>
                <a:lnTo>
                  <a:pt x="2889" y="0"/>
                </a:lnTo>
                <a:lnTo>
                  <a:pt x="2882" y="0"/>
                </a:lnTo>
                <a:lnTo>
                  <a:pt x="2862" y="0"/>
                </a:lnTo>
                <a:lnTo>
                  <a:pt x="2829" y="0"/>
                </a:lnTo>
                <a:lnTo>
                  <a:pt x="2784" y="0"/>
                </a:lnTo>
                <a:lnTo>
                  <a:pt x="2728" y="0"/>
                </a:lnTo>
                <a:lnTo>
                  <a:pt x="2663" y="0"/>
                </a:lnTo>
                <a:lnTo>
                  <a:pt x="2587" y="0"/>
                </a:lnTo>
                <a:lnTo>
                  <a:pt x="2505" y="0"/>
                </a:lnTo>
                <a:lnTo>
                  <a:pt x="2414" y="0"/>
                </a:lnTo>
                <a:lnTo>
                  <a:pt x="2317" y="0"/>
                </a:lnTo>
                <a:lnTo>
                  <a:pt x="2215" y="0"/>
                </a:lnTo>
                <a:lnTo>
                  <a:pt x="2106" y="0"/>
                </a:lnTo>
                <a:lnTo>
                  <a:pt x="1994" y="0"/>
                </a:lnTo>
                <a:lnTo>
                  <a:pt x="1878" y="0"/>
                </a:lnTo>
                <a:lnTo>
                  <a:pt x="1760" y="0"/>
                </a:lnTo>
                <a:lnTo>
                  <a:pt x="1640" y="0"/>
                </a:lnTo>
                <a:lnTo>
                  <a:pt x="1520" y="0"/>
                </a:lnTo>
                <a:lnTo>
                  <a:pt x="1400" y="0"/>
                </a:lnTo>
                <a:lnTo>
                  <a:pt x="1280" y="0"/>
                </a:lnTo>
                <a:lnTo>
                  <a:pt x="1163" y="0"/>
                </a:lnTo>
                <a:lnTo>
                  <a:pt x="1048" y="0"/>
                </a:lnTo>
                <a:lnTo>
                  <a:pt x="938" y="0"/>
                </a:lnTo>
                <a:lnTo>
                  <a:pt x="830" y="0"/>
                </a:lnTo>
                <a:lnTo>
                  <a:pt x="728" y="0"/>
                </a:lnTo>
                <a:lnTo>
                  <a:pt x="631" y="0"/>
                </a:lnTo>
                <a:lnTo>
                  <a:pt x="543" y="0"/>
                </a:lnTo>
                <a:lnTo>
                  <a:pt x="461" y="0"/>
                </a:lnTo>
                <a:lnTo>
                  <a:pt x="388" y="0"/>
                </a:lnTo>
                <a:lnTo>
                  <a:pt x="324" y="0"/>
                </a:lnTo>
                <a:lnTo>
                  <a:pt x="270" y="0"/>
                </a:lnTo>
                <a:lnTo>
                  <a:pt x="229" y="0"/>
                </a:lnTo>
                <a:lnTo>
                  <a:pt x="197" y="0"/>
                </a:lnTo>
                <a:lnTo>
                  <a:pt x="197" y="0"/>
                </a:lnTo>
                <a:lnTo>
                  <a:pt x="153" y="2"/>
                </a:lnTo>
                <a:lnTo>
                  <a:pt x="115" y="3"/>
                </a:lnTo>
                <a:lnTo>
                  <a:pt x="84" y="8"/>
                </a:lnTo>
                <a:lnTo>
                  <a:pt x="58" y="13"/>
                </a:lnTo>
                <a:lnTo>
                  <a:pt x="38" y="19"/>
                </a:lnTo>
                <a:lnTo>
                  <a:pt x="22" y="27"/>
                </a:lnTo>
                <a:lnTo>
                  <a:pt x="11" y="35"/>
                </a:lnTo>
                <a:lnTo>
                  <a:pt x="5" y="44"/>
                </a:lnTo>
                <a:lnTo>
                  <a:pt x="2" y="53"/>
                </a:lnTo>
                <a:lnTo>
                  <a:pt x="0" y="63"/>
                </a:lnTo>
                <a:lnTo>
                  <a:pt x="0" y="73"/>
                </a:lnTo>
                <a:lnTo>
                  <a:pt x="2" y="81"/>
                </a:lnTo>
                <a:lnTo>
                  <a:pt x="3" y="89"/>
                </a:lnTo>
                <a:lnTo>
                  <a:pt x="6" y="97"/>
                </a:lnTo>
                <a:lnTo>
                  <a:pt x="9" y="105"/>
                </a:lnTo>
                <a:lnTo>
                  <a:pt x="11" y="110"/>
                </a:lnTo>
                <a:lnTo>
                  <a:pt x="11" y="110"/>
                </a:lnTo>
                <a:lnTo>
                  <a:pt x="14" y="118"/>
                </a:lnTo>
                <a:lnTo>
                  <a:pt x="19" y="128"/>
                </a:lnTo>
                <a:lnTo>
                  <a:pt x="25" y="139"/>
                </a:lnTo>
                <a:lnTo>
                  <a:pt x="33" y="152"/>
                </a:lnTo>
                <a:lnTo>
                  <a:pt x="43" y="168"/>
                </a:lnTo>
                <a:lnTo>
                  <a:pt x="54" y="184"/>
                </a:lnTo>
                <a:lnTo>
                  <a:pt x="66" y="200"/>
                </a:lnTo>
                <a:lnTo>
                  <a:pt x="79" y="217"/>
                </a:lnTo>
                <a:lnTo>
                  <a:pt x="93" y="234"/>
                </a:lnTo>
                <a:lnTo>
                  <a:pt x="109" y="249"/>
                </a:lnTo>
                <a:lnTo>
                  <a:pt x="125" y="265"/>
                </a:lnTo>
                <a:lnTo>
                  <a:pt x="142" y="278"/>
                </a:lnTo>
                <a:lnTo>
                  <a:pt x="159" y="288"/>
                </a:lnTo>
                <a:lnTo>
                  <a:pt x="177" y="298"/>
                </a:lnTo>
                <a:lnTo>
                  <a:pt x="196" y="302"/>
                </a:lnTo>
                <a:lnTo>
                  <a:pt x="213" y="306"/>
                </a:lnTo>
                <a:lnTo>
                  <a:pt x="213" y="306"/>
                </a:lnTo>
                <a:lnTo>
                  <a:pt x="242" y="304"/>
                </a:lnTo>
                <a:lnTo>
                  <a:pt x="264" y="301"/>
                </a:lnTo>
                <a:lnTo>
                  <a:pt x="283" y="296"/>
                </a:lnTo>
                <a:lnTo>
                  <a:pt x="298" y="289"/>
                </a:lnTo>
                <a:lnTo>
                  <a:pt x="311" y="281"/>
                </a:lnTo>
                <a:lnTo>
                  <a:pt x="320" y="273"/>
                </a:lnTo>
                <a:lnTo>
                  <a:pt x="327" y="267"/>
                </a:lnTo>
                <a:lnTo>
                  <a:pt x="331" y="262"/>
                </a:lnTo>
                <a:lnTo>
                  <a:pt x="330" y="260"/>
                </a:lnTo>
                <a:lnTo>
                  <a:pt x="333" y="255"/>
                </a:lnTo>
                <a:lnTo>
                  <a:pt x="335" y="252"/>
                </a:lnTo>
                <a:lnTo>
                  <a:pt x="335" y="252"/>
                </a:lnTo>
                <a:lnTo>
                  <a:pt x="338" y="238"/>
                </a:lnTo>
                <a:lnTo>
                  <a:pt x="339" y="221"/>
                </a:lnTo>
                <a:lnTo>
                  <a:pt x="339" y="207"/>
                </a:lnTo>
                <a:lnTo>
                  <a:pt x="336" y="191"/>
                </a:lnTo>
                <a:lnTo>
                  <a:pt x="331" y="178"/>
                </a:lnTo>
                <a:lnTo>
                  <a:pt x="325" y="165"/>
                </a:lnTo>
                <a:lnTo>
                  <a:pt x="314" y="154"/>
                </a:lnTo>
                <a:lnTo>
                  <a:pt x="301" y="145"/>
                </a:lnTo>
                <a:lnTo>
                  <a:pt x="301" y="145"/>
                </a:lnTo>
                <a:lnTo>
                  <a:pt x="290" y="141"/>
                </a:lnTo>
                <a:lnTo>
                  <a:pt x="279" y="137"/>
                </a:lnTo>
                <a:lnTo>
                  <a:pt x="268" y="136"/>
                </a:lnTo>
                <a:lnTo>
                  <a:pt x="259" y="136"/>
                </a:lnTo>
                <a:lnTo>
                  <a:pt x="248" y="136"/>
                </a:lnTo>
                <a:lnTo>
                  <a:pt x="238" y="139"/>
                </a:lnTo>
                <a:lnTo>
                  <a:pt x="229" y="144"/>
                </a:lnTo>
                <a:lnTo>
                  <a:pt x="219" y="149"/>
                </a:lnTo>
                <a:lnTo>
                  <a:pt x="213" y="155"/>
                </a:lnTo>
                <a:lnTo>
                  <a:pt x="207" y="163"/>
                </a:lnTo>
                <a:lnTo>
                  <a:pt x="202" y="173"/>
                </a:lnTo>
                <a:lnTo>
                  <a:pt x="199" y="181"/>
                </a:lnTo>
                <a:lnTo>
                  <a:pt x="197" y="192"/>
                </a:lnTo>
                <a:lnTo>
                  <a:pt x="197" y="204"/>
                </a:lnTo>
                <a:lnTo>
                  <a:pt x="200" y="215"/>
                </a:lnTo>
                <a:lnTo>
                  <a:pt x="205" y="226"/>
                </a:lnTo>
                <a:lnTo>
                  <a:pt x="205" y="226"/>
                </a:lnTo>
                <a:lnTo>
                  <a:pt x="219" y="239"/>
                </a:lnTo>
                <a:lnTo>
                  <a:pt x="234" y="246"/>
                </a:lnTo>
                <a:lnTo>
                  <a:pt x="248" y="246"/>
                </a:lnTo>
                <a:lnTo>
                  <a:pt x="259" y="239"/>
                </a:lnTo>
                <a:lnTo>
                  <a:pt x="268" y="230"/>
                </a:lnTo>
                <a:lnTo>
                  <a:pt x="272" y="217"/>
                </a:lnTo>
                <a:lnTo>
                  <a:pt x="270" y="200"/>
                </a:lnTo>
                <a:lnTo>
                  <a:pt x="262" y="183"/>
                </a:lnTo>
                <a:lnTo>
                  <a:pt x="262" y="183"/>
                </a:lnTo>
                <a:lnTo>
                  <a:pt x="257" y="181"/>
                </a:lnTo>
                <a:lnTo>
                  <a:pt x="254" y="178"/>
                </a:lnTo>
                <a:lnTo>
                  <a:pt x="253" y="173"/>
                </a:lnTo>
                <a:lnTo>
                  <a:pt x="254" y="170"/>
                </a:lnTo>
                <a:lnTo>
                  <a:pt x="257" y="167"/>
                </a:lnTo>
                <a:lnTo>
                  <a:pt x="260" y="165"/>
                </a:lnTo>
                <a:lnTo>
                  <a:pt x="265" y="167"/>
                </a:lnTo>
                <a:lnTo>
                  <a:pt x="272" y="173"/>
                </a:lnTo>
                <a:lnTo>
                  <a:pt x="272" y="173"/>
                </a:lnTo>
                <a:lnTo>
                  <a:pt x="273" y="181"/>
                </a:lnTo>
                <a:lnTo>
                  <a:pt x="276" y="189"/>
                </a:lnTo>
                <a:lnTo>
                  <a:pt x="279" y="197"/>
                </a:lnTo>
                <a:lnTo>
                  <a:pt x="281" y="205"/>
                </a:lnTo>
                <a:lnTo>
                  <a:pt x="281" y="212"/>
                </a:lnTo>
                <a:lnTo>
                  <a:pt x="281" y="220"/>
                </a:lnTo>
                <a:lnTo>
                  <a:pt x="279" y="228"/>
                </a:lnTo>
                <a:lnTo>
                  <a:pt x="275" y="238"/>
                </a:lnTo>
                <a:lnTo>
                  <a:pt x="275" y="238"/>
                </a:lnTo>
                <a:lnTo>
                  <a:pt x="265" y="247"/>
                </a:lnTo>
                <a:lnTo>
                  <a:pt x="256" y="252"/>
                </a:lnTo>
                <a:lnTo>
                  <a:pt x="246" y="255"/>
                </a:lnTo>
                <a:lnTo>
                  <a:pt x="235" y="255"/>
                </a:lnTo>
                <a:lnTo>
                  <a:pt x="226" y="254"/>
                </a:lnTo>
                <a:lnTo>
                  <a:pt x="216" y="249"/>
                </a:lnTo>
                <a:lnTo>
                  <a:pt x="207" y="243"/>
                </a:lnTo>
                <a:lnTo>
                  <a:pt x="197" y="233"/>
                </a:lnTo>
                <a:lnTo>
                  <a:pt x="197" y="233"/>
                </a:lnTo>
                <a:lnTo>
                  <a:pt x="189" y="212"/>
                </a:lnTo>
                <a:lnTo>
                  <a:pt x="188" y="192"/>
                </a:lnTo>
                <a:lnTo>
                  <a:pt x="191" y="175"/>
                </a:lnTo>
                <a:lnTo>
                  <a:pt x="199" y="158"/>
                </a:lnTo>
                <a:lnTo>
                  <a:pt x="210" y="144"/>
                </a:lnTo>
                <a:lnTo>
                  <a:pt x="226" y="134"/>
                </a:lnTo>
                <a:lnTo>
                  <a:pt x="245" y="126"/>
                </a:lnTo>
                <a:lnTo>
                  <a:pt x="265" y="124"/>
                </a:lnTo>
                <a:lnTo>
                  <a:pt x="265" y="124"/>
                </a:lnTo>
                <a:lnTo>
                  <a:pt x="287" y="129"/>
                </a:lnTo>
                <a:lnTo>
                  <a:pt x="306" y="137"/>
                </a:lnTo>
                <a:lnTo>
                  <a:pt x="322" y="149"/>
                </a:lnTo>
                <a:lnTo>
                  <a:pt x="335" y="162"/>
                </a:lnTo>
                <a:lnTo>
                  <a:pt x="343" y="179"/>
                </a:lnTo>
                <a:lnTo>
                  <a:pt x="349" y="197"/>
                </a:lnTo>
                <a:lnTo>
                  <a:pt x="350" y="220"/>
                </a:lnTo>
                <a:lnTo>
                  <a:pt x="349" y="244"/>
                </a:lnTo>
                <a:lnTo>
                  <a:pt x="349" y="244"/>
                </a:lnTo>
                <a:lnTo>
                  <a:pt x="347" y="249"/>
                </a:lnTo>
                <a:lnTo>
                  <a:pt x="346" y="254"/>
                </a:lnTo>
                <a:lnTo>
                  <a:pt x="344" y="259"/>
                </a:lnTo>
                <a:lnTo>
                  <a:pt x="343" y="264"/>
                </a:lnTo>
                <a:lnTo>
                  <a:pt x="343" y="264"/>
                </a:lnTo>
                <a:lnTo>
                  <a:pt x="349" y="268"/>
                </a:lnTo>
                <a:lnTo>
                  <a:pt x="355" y="273"/>
                </a:lnTo>
                <a:lnTo>
                  <a:pt x="363" y="278"/>
                </a:lnTo>
                <a:lnTo>
                  <a:pt x="371" y="283"/>
                </a:lnTo>
                <a:lnTo>
                  <a:pt x="379" y="288"/>
                </a:lnTo>
                <a:lnTo>
                  <a:pt x="387" y="291"/>
                </a:lnTo>
                <a:lnTo>
                  <a:pt x="396" y="294"/>
                </a:lnTo>
                <a:lnTo>
                  <a:pt x="404" y="298"/>
                </a:lnTo>
                <a:lnTo>
                  <a:pt x="414" y="301"/>
                </a:lnTo>
                <a:lnTo>
                  <a:pt x="423" y="302"/>
                </a:lnTo>
                <a:lnTo>
                  <a:pt x="433" y="304"/>
                </a:lnTo>
                <a:lnTo>
                  <a:pt x="442" y="306"/>
                </a:lnTo>
                <a:lnTo>
                  <a:pt x="451" y="307"/>
                </a:lnTo>
                <a:lnTo>
                  <a:pt x="463" y="309"/>
                </a:lnTo>
                <a:lnTo>
                  <a:pt x="472" y="309"/>
                </a:lnTo>
                <a:lnTo>
                  <a:pt x="481" y="309"/>
                </a:lnTo>
                <a:lnTo>
                  <a:pt x="481" y="309"/>
                </a:lnTo>
                <a:lnTo>
                  <a:pt x="497" y="307"/>
                </a:lnTo>
                <a:lnTo>
                  <a:pt x="511" y="306"/>
                </a:lnTo>
                <a:lnTo>
                  <a:pt x="526" y="304"/>
                </a:lnTo>
                <a:lnTo>
                  <a:pt x="541" y="301"/>
                </a:lnTo>
                <a:lnTo>
                  <a:pt x="554" y="296"/>
                </a:lnTo>
                <a:lnTo>
                  <a:pt x="568" y="293"/>
                </a:lnTo>
                <a:lnTo>
                  <a:pt x="581" y="288"/>
                </a:lnTo>
                <a:lnTo>
                  <a:pt x="594" y="283"/>
                </a:lnTo>
                <a:lnTo>
                  <a:pt x="594" y="283"/>
                </a:lnTo>
                <a:lnTo>
                  <a:pt x="581" y="276"/>
                </a:lnTo>
                <a:lnTo>
                  <a:pt x="570" y="267"/>
                </a:lnTo>
                <a:lnTo>
                  <a:pt x="560" y="259"/>
                </a:lnTo>
                <a:lnTo>
                  <a:pt x="552" y="247"/>
                </a:lnTo>
                <a:lnTo>
                  <a:pt x="545" y="238"/>
                </a:lnTo>
                <a:lnTo>
                  <a:pt x="540" y="226"/>
                </a:lnTo>
                <a:lnTo>
                  <a:pt x="537" y="215"/>
                </a:lnTo>
                <a:lnTo>
                  <a:pt x="537" y="202"/>
                </a:lnTo>
                <a:lnTo>
                  <a:pt x="537" y="202"/>
                </a:lnTo>
                <a:lnTo>
                  <a:pt x="537" y="191"/>
                </a:lnTo>
                <a:lnTo>
                  <a:pt x="540" y="179"/>
                </a:lnTo>
                <a:lnTo>
                  <a:pt x="545" y="168"/>
                </a:lnTo>
                <a:lnTo>
                  <a:pt x="551" y="157"/>
                </a:lnTo>
                <a:lnTo>
                  <a:pt x="560" y="147"/>
                </a:lnTo>
                <a:lnTo>
                  <a:pt x="570" y="137"/>
                </a:lnTo>
                <a:lnTo>
                  <a:pt x="581" y="128"/>
                </a:lnTo>
                <a:lnTo>
                  <a:pt x="594" y="120"/>
                </a:lnTo>
                <a:lnTo>
                  <a:pt x="608" y="112"/>
                </a:lnTo>
                <a:lnTo>
                  <a:pt x="622" y="105"/>
                </a:lnTo>
                <a:lnTo>
                  <a:pt x="639" y="99"/>
                </a:lnTo>
                <a:lnTo>
                  <a:pt x="657" y="94"/>
                </a:lnTo>
                <a:lnTo>
                  <a:pt x="674" y="90"/>
                </a:lnTo>
                <a:lnTo>
                  <a:pt x="693" y="87"/>
                </a:lnTo>
                <a:lnTo>
                  <a:pt x="713" y="86"/>
                </a:lnTo>
                <a:lnTo>
                  <a:pt x="734" y="84"/>
                </a:lnTo>
                <a:lnTo>
                  <a:pt x="734" y="84"/>
                </a:lnTo>
                <a:lnTo>
                  <a:pt x="755" y="86"/>
                </a:lnTo>
                <a:lnTo>
                  <a:pt x="778" y="87"/>
                </a:lnTo>
                <a:lnTo>
                  <a:pt x="803" y="90"/>
                </a:lnTo>
                <a:lnTo>
                  <a:pt x="830" y="95"/>
                </a:lnTo>
                <a:lnTo>
                  <a:pt x="859" y="102"/>
                </a:lnTo>
                <a:lnTo>
                  <a:pt x="889" y="110"/>
                </a:lnTo>
                <a:lnTo>
                  <a:pt x="920" y="118"/>
                </a:lnTo>
                <a:lnTo>
                  <a:pt x="952" y="126"/>
                </a:lnTo>
                <a:lnTo>
                  <a:pt x="985" y="136"/>
                </a:lnTo>
                <a:lnTo>
                  <a:pt x="1018" y="147"/>
                </a:lnTo>
                <a:lnTo>
                  <a:pt x="1053" y="158"/>
                </a:lnTo>
                <a:lnTo>
                  <a:pt x="1088" y="170"/>
                </a:lnTo>
                <a:lnTo>
                  <a:pt x="1122" y="181"/>
                </a:lnTo>
                <a:lnTo>
                  <a:pt x="1155" y="194"/>
                </a:lnTo>
                <a:lnTo>
                  <a:pt x="1190" y="207"/>
                </a:lnTo>
                <a:lnTo>
                  <a:pt x="1225" y="218"/>
                </a:lnTo>
                <a:lnTo>
                  <a:pt x="1258" y="231"/>
                </a:lnTo>
                <a:lnTo>
                  <a:pt x="1291" y="244"/>
                </a:lnTo>
                <a:lnTo>
                  <a:pt x="1323" y="255"/>
                </a:lnTo>
                <a:lnTo>
                  <a:pt x="1353" y="268"/>
                </a:lnTo>
                <a:lnTo>
                  <a:pt x="1381" y="280"/>
                </a:lnTo>
                <a:lnTo>
                  <a:pt x="1410" y="291"/>
                </a:lnTo>
                <a:lnTo>
                  <a:pt x="1435" y="301"/>
                </a:lnTo>
                <a:lnTo>
                  <a:pt x="1459" y="310"/>
                </a:lnTo>
                <a:lnTo>
                  <a:pt x="1481" y="320"/>
                </a:lnTo>
                <a:lnTo>
                  <a:pt x="1501" y="328"/>
                </a:lnTo>
                <a:lnTo>
                  <a:pt x="1517" y="335"/>
                </a:lnTo>
                <a:lnTo>
                  <a:pt x="1531" y="341"/>
                </a:lnTo>
                <a:lnTo>
                  <a:pt x="1544" y="346"/>
                </a:lnTo>
                <a:lnTo>
                  <a:pt x="1552" y="349"/>
                </a:lnTo>
                <a:lnTo>
                  <a:pt x="1558" y="351"/>
                </a:lnTo>
                <a:lnTo>
                  <a:pt x="1560" y="353"/>
                </a:lnTo>
                <a:lnTo>
                  <a:pt x="1560" y="353"/>
                </a:lnTo>
                <a:lnTo>
                  <a:pt x="1567" y="354"/>
                </a:lnTo>
                <a:lnTo>
                  <a:pt x="1577" y="357"/>
                </a:lnTo>
                <a:lnTo>
                  <a:pt x="1586" y="359"/>
                </a:lnTo>
                <a:lnTo>
                  <a:pt x="1596" y="361"/>
                </a:lnTo>
                <a:lnTo>
                  <a:pt x="1605" y="362"/>
                </a:lnTo>
                <a:lnTo>
                  <a:pt x="1616" y="364"/>
                </a:lnTo>
                <a:lnTo>
                  <a:pt x="1624" y="365"/>
                </a:lnTo>
                <a:lnTo>
                  <a:pt x="1634" y="367"/>
                </a:lnTo>
                <a:lnTo>
                  <a:pt x="1634" y="367"/>
                </a:lnTo>
                <a:lnTo>
                  <a:pt x="1645" y="367"/>
                </a:lnTo>
                <a:lnTo>
                  <a:pt x="1656" y="369"/>
                </a:lnTo>
                <a:lnTo>
                  <a:pt x="1665" y="367"/>
                </a:lnTo>
                <a:lnTo>
                  <a:pt x="1676" y="365"/>
                </a:lnTo>
                <a:lnTo>
                  <a:pt x="1687" y="364"/>
                </a:lnTo>
                <a:lnTo>
                  <a:pt x="1697" y="361"/>
                </a:lnTo>
                <a:lnTo>
                  <a:pt x="1708" y="356"/>
                </a:lnTo>
                <a:lnTo>
                  <a:pt x="1717" y="351"/>
                </a:lnTo>
                <a:lnTo>
                  <a:pt x="1727" y="346"/>
                </a:lnTo>
                <a:lnTo>
                  <a:pt x="1735" y="341"/>
                </a:lnTo>
                <a:lnTo>
                  <a:pt x="1744" y="335"/>
                </a:lnTo>
                <a:lnTo>
                  <a:pt x="1752" y="328"/>
                </a:lnTo>
                <a:lnTo>
                  <a:pt x="1760" y="320"/>
                </a:lnTo>
                <a:lnTo>
                  <a:pt x="1768" y="314"/>
                </a:lnTo>
                <a:lnTo>
                  <a:pt x="1774" y="306"/>
                </a:lnTo>
                <a:lnTo>
                  <a:pt x="1781" y="298"/>
                </a:lnTo>
                <a:lnTo>
                  <a:pt x="1781" y="298"/>
                </a:lnTo>
                <a:lnTo>
                  <a:pt x="1785" y="307"/>
                </a:lnTo>
                <a:lnTo>
                  <a:pt x="1793" y="317"/>
                </a:lnTo>
                <a:lnTo>
                  <a:pt x="1803" y="325"/>
                </a:lnTo>
                <a:lnTo>
                  <a:pt x="1814" y="333"/>
                </a:lnTo>
                <a:lnTo>
                  <a:pt x="1828" y="338"/>
                </a:lnTo>
                <a:lnTo>
                  <a:pt x="1842" y="343"/>
                </a:lnTo>
                <a:lnTo>
                  <a:pt x="1858" y="346"/>
                </a:lnTo>
                <a:lnTo>
                  <a:pt x="1875" y="348"/>
                </a:lnTo>
                <a:lnTo>
                  <a:pt x="1875" y="348"/>
                </a:lnTo>
                <a:lnTo>
                  <a:pt x="1889" y="346"/>
                </a:lnTo>
                <a:lnTo>
                  <a:pt x="1904" y="344"/>
                </a:lnTo>
                <a:lnTo>
                  <a:pt x="1918" y="341"/>
                </a:lnTo>
                <a:lnTo>
                  <a:pt x="1929" y="336"/>
                </a:lnTo>
                <a:lnTo>
                  <a:pt x="1940" y="330"/>
                </a:lnTo>
                <a:lnTo>
                  <a:pt x="1951" y="323"/>
                </a:lnTo>
                <a:lnTo>
                  <a:pt x="1959" y="315"/>
                </a:lnTo>
                <a:lnTo>
                  <a:pt x="1965" y="307"/>
                </a:lnTo>
                <a:lnTo>
                  <a:pt x="1965" y="307"/>
                </a:lnTo>
                <a:lnTo>
                  <a:pt x="1948" y="299"/>
                </a:lnTo>
                <a:lnTo>
                  <a:pt x="1931" y="289"/>
                </a:lnTo>
                <a:lnTo>
                  <a:pt x="1916" y="280"/>
                </a:lnTo>
                <a:lnTo>
                  <a:pt x="1902" y="270"/>
                </a:lnTo>
                <a:lnTo>
                  <a:pt x="1893" y="257"/>
                </a:lnTo>
                <a:lnTo>
                  <a:pt x="1885" y="246"/>
                </a:lnTo>
                <a:lnTo>
                  <a:pt x="1878" y="233"/>
                </a:lnTo>
                <a:lnTo>
                  <a:pt x="1877" y="220"/>
                </a:lnTo>
                <a:lnTo>
                  <a:pt x="1877" y="220"/>
                </a:lnTo>
                <a:lnTo>
                  <a:pt x="1878" y="210"/>
                </a:lnTo>
                <a:lnTo>
                  <a:pt x="1880" y="202"/>
                </a:lnTo>
                <a:lnTo>
                  <a:pt x="1885" y="192"/>
                </a:lnTo>
                <a:lnTo>
                  <a:pt x="1889" y="184"/>
                </a:lnTo>
                <a:lnTo>
                  <a:pt x="1897" y="175"/>
                </a:lnTo>
                <a:lnTo>
                  <a:pt x="1905" y="167"/>
                </a:lnTo>
                <a:lnTo>
                  <a:pt x="1915" y="160"/>
                </a:lnTo>
                <a:lnTo>
                  <a:pt x="1926" y="152"/>
                </a:lnTo>
                <a:lnTo>
                  <a:pt x="1937" y="145"/>
                </a:lnTo>
                <a:lnTo>
                  <a:pt x="1949" y="141"/>
                </a:lnTo>
                <a:lnTo>
                  <a:pt x="1964" y="136"/>
                </a:lnTo>
                <a:lnTo>
                  <a:pt x="1978" y="131"/>
                </a:lnTo>
                <a:lnTo>
                  <a:pt x="1992" y="128"/>
                </a:lnTo>
                <a:lnTo>
                  <a:pt x="2008" y="126"/>
                </a:lnTo>
                <a:lnTo>
                  <a:pt x="2025" y="124"/>
                </a:lnTo>
                <a:lnTo>
                  <a:pt x="2041" y="123"/>
                </a:lnTo>
                <a:lnTo>
                  <a:pt x="2041" y="123"/>
                </a:lnTo>
                <a:lnTo>
                  <a:pt x="2058" y="124"/>
                </a:lnTo>
                <a:lnTo>
                  <a:pt x="2074" y="126"/>
                </a:lnTo>
                <a:lnTo>
                  <a:pt x="2092" y="128"/>
                </a:lnTo>
                <a:lnTo>
                  <a:pt x="2106" y="131"/>
                </a:lnTo>
                <a:lnTo>
                  <a:pt x="2122" y="136"/>
                </a:lnTo>
                <a:lnTo>
                  <a:pt x="2136" y="141"/>
                </a:lnTo>
                <a:lnTo>
                  <a:pt x="2148" y="145"/>
                </a:lnTo>
                <a:lnTo>
                  <a:pt x="2161" y="152"/>
                </a:lnTo>
                <a:lnTo>
                  <a:pt x="2172" y="160"/>
                </a:lnTo>
                <a:lnTo>
                  <a:pt x="2182" y="167"/>
                </a:lnTo>
                <a:lnTo>
                  <a:pt x="2189" y="175"/>
                </a:lnTo>
                <a:lnTo>
                  <a:pt x="2197" y="184"/>
                </a:lnTo>
                <a:lnTo>
                  <a:pt x="2202" y="192"/>
                </a:lnTo>
                <a:lnTo>
                  <a:pt x="2205" y="202"/>
                </a:lnTo>
                <a:lnTo>
                  <a:pt x="2207" y="210"/>
                </a:lnTo>
                <a:lnTo>
                  <a:pt x="2205" y="220"/>
                </a:lnTo>
                <a:lnTo>
                  <a:pt x="2205" y="220"/>
                </a:lnTo>
                <a:lnTo>
                  <a:pt x="2204" y="231"/>
                </a:lnTo>
                <a:lnTo>
                  <a:pt x="2199" y="241"/>
                </a:lnTo>
                <a:lnTo>
                  <a:pt x="2193" y="251"/>
                </a:lnTo>
                <a:lnTo>
                  <a:pt x="2186" y="260"/>
                </a:lnTo>
                <a:lnTo>
                  <a:pt x="2177" y="268"/>
                </a:lnTo>
                <a:lnTo>
                  <a:pt x="2167" y="278"/>
                </a:lnTo>
                <a:lnTo>
                  <a:pt x="2156" y="286"/>
                </a:lnTo>
                <a:lnTo>
                  <a:pt x="2145" y="294"/>
                </a:lnTo>
                <a:lnTo>
                  <a:pt x="2145" y="294"/>
                </a:lnTo>
                <a:lnTo>
                  <a:pt x="2155" y="304"/>
                </a:lnTo>
                <a:lnTo>
                  <a:pt x="2164" y="312"/>
                </a:lnTo>
                <a:lnTo>
                  <a:pt x="2175" y="320"/>
                </a:lnTo>
                <a:lnTo>
                  <a:pt x="2185" y="328"/>
                </a:lnTo>
                <a:lnTo>
                  <a:pt x="2197" y="335"/>
                </a:lnTo>
                <a:lnTo>
                  <a:pt x="2208" y="341"/>
                </a:lnTo>
                <a:lnTo>
                  <a:pt x="2221" y="348"/>
                </a:lnTo>
                <a:lnTo>
                  <a:pt x="2234" y="353"/>
                </a:lnTo>
                <a:lnTo>
                  <a:pt x="2246" y="357"/>
                </a:lnTo>
                <a:lnTo>
                  <a:pt x="2260" y="362"/>
                </a:lnTo>
                <a:lnTo>
                  <a:pt x="2275" y="365"/>
                </a:lnTo>
                <a:lnTo>
                  <a:pt x="2289" y="369"/>
                </a:lnTo>
                <a:lnTo>
                  <a:pt x="2301" y="370"/>
                </a:lnTo>
                <a:lnTo>
                  <a:pt x="2317" y="372"/>
                </a:lnTo>
                <a:lnTo>
                  <a:pt x="2331" y="374"/>
                </a:lnTo>
                <a:lnTo>
                  <a:pt x="2347" y="374"/>
                </a:lnTo>
                <a:lnTo>
                  <a:pt x="2347" y="374"/>
                </a:lnTo>
                <a:lnTo>
                  <a:pt x="2361" y="374"/>
                </a:lnTo>
                <a:lnTo>
                  <a:pt x="2376" y="372"/>
                </a:lnTo>
                <a:lnTo>
                  <a:pt x="2388" y="372"/>
                </a:lnTo>
                <a:lnTo>
                  <a:pt x="2402" y="369"/>
                </a:lnTo>
                <a:lnTo>
                  <a:pt x="2415" y="367"/>
                </a:lnTo>
                <a:lnTo>
                  <a:pt x="2429" y="364"/>
                </a:lnTo>
                <a:lnTo>
                  <a:pt x="2442" y="359"/>
                </a:lnTo>
                <a:lnTo>
                  <a:pt x="2455" y="356"/>
                </a:lnTo>
                <a:lnTo>
                  <a:pt x="2466" y="351"/>
                </a:lnTo>
                <a:lnTo>
                  <a:pt x="2478" y="346"/>
                </a:lnTo>
                <a:lnTo>
                  <a:pt x="2489" y="340"/>
                </a:lnTo>
                <a:lnTo>
                  <a:pt x="2500" y="335"/>
                </a:lnTo>
                <a:lnTo>
                  <a:pt x="2510" y="328"/>
                </a:lnTo>
                <a:lnTo>
                  <a:pt x="2521" y="322"/>
                </a:lnTo>
                <a:lnTo>
                  <a:pt x="2530" y="314"/>
                </a:lnTo>
                <a:lnTo>
                  <a:pt x="2540" y="307"/>
                </a:lnTo>
                <a:lnTo>
                  <a:pt x="2540" y="307"/>
                </a:lnTo>
                <a:lnTo>
                  <a:pt x="2535" y="298"/>
                </a:lnTo>
                <a:lnTo>
                  <a:pt x="2530" y="286"/>
                </a:lnTo>
                <a:lnTo>
                  <a:pt x="2526" y="276"/>
                </a:lnTo>
                <a:lnTo>
                  <a:pt x="2522" y="265"/>
                </a:lnTo>
                <a:lnTo>
                  <a:pt x="2521" y="252"/>
                </a:lnTo>
                <a:lnTo>
                  <a:pt x="2518" y="241"/>
                </a:lnTo>
                <a:lnTo>
                  <a:pt x="2518" y="230"/>
                </a:lnTo>
                <a:lnTo>
                  <a:pt x="2516" y="218"/>
                </a:lnTo>
                <a:lnTo>
                  <a:pt x="2516" y="218"/>
                </a:lnTo>
                <a:lnTo>
                  <a:pt x="2518" y="200"/>
                </a:lnTo>
                <a:lnTo>
                  <a:pt x="2521" y="184"/>
                </a:lnTo>
                <a:lnTo>
                  <a:pt x="2524" y="168"/>
                </a:lnTo>
                <a:lnTo>
                  <a:pt x="2530" y="154"/>
                </a:lnTo>
                <a:lnTo>
                  <a:pt x="2538" y="141"/>
                </a:lnTo>
                <a:lnTo>
                  <a:pt x="2548" y="129"/>
                </a:lnTo>
                <a:lnTo>
                  <a:pt x="2557" y="118"/>
                </a:lnTo>
                <a:lnTo>
                  <a:pt x="2568" y="108"/>
                </a:lnTo>
                <a:lnTo>
                  <a:pt x="2581" y="100"/>
                </a:lnTo>
                <a:lnTo>
                  <a:pt x="2593" y="95"/>
                </a:lnTo>
                <a:lnTo>
                  <a:pt x="2608" y="90"/>
                </a:lnTo>
                <a:lnTo>
                  <a:pt x="2623" y="87"/>
                </a:lnTo>
                <a:lnTo>
                  <a:pt x="2638" y="87"/>
                </a:lnTo>
                <a:lnTo>
                  <a:pt x="2655" y="87"/>
                </a:lnTo>
                <a:lnTo>
                  <a:pt x="2671" y="90"/>
                </a:lnTo>
                <a:lnTo>
                  <a:pt x="2687" y="97"/>
                </a:lnTo>
                <a:lnTo>
                  <a:pt x="2687" y="97"/>
                </a:lnTo>
                <a:lnTo>
                  <a:pt x="2699" y="102"/>
                </a:lnTo>
                <a:lnTo>
                  <a:pt x="2710" y="107"/>
                </a:lnTo>
                <a:lnTo>
                  <a:pt x="2721" y="115"/>
                </a:lnTo>
                <a:lnTo>
                  <a:pt x="2729" y="121"/>
                </a:lnTo>
                <a:lnTo>
                  <a:pt x="2739" y="131"/>
                </a:lnTo>
                <a:lnTo>
                  <a:pt x="2745" y="139"/>
                </a:lnTo>
                <a:lnTo>
                  <a:pt x="2751" y="149"/>
                </a:lnTo>
                <a:lnTo>
                  <a:pt x="2756" y="160"/>
                </a:lnTo>
                <a:lnTo>
                  <a:pt x="2759" y="170"/>
                </a:lnTo>
                <a:lnTo>
                  <a:pt x="2761" y="181"/>
                </a:lnTo>
                <a:lnTo>
                  <a:pt x="2761" y="192"/>
                </a:lnTo>
                <a:lnTo>
                  <a:pt x="2761" y="204"/>
                </a:lnTo>
                <a:lnTo>
                  <a:pt x="2758" y="215"/>
                </a:lnTo>
                <a:lnTo>
                  <a:pt x="2753" y="226"/>
                </a:lnTo>
                <a:lnTo>
                  <a:pt x="2747" y="238"/>
                </a:lnTo>
                <a:lnTo>
                  <a:pt x="2737" y="249"/>
                </a:lnTo>
                <a:lnTo>
                  <a:pt x="2737" y="249"/>
                </a:lnTo>
                <a:lnTo>
                  <a:pt x="2729" y="257"/>
                </a:lnTo>
                <a:lnTo>
                  <a:pt x="2721" y="264"/>
                </a:lnTo>
                <a:lnTo>
                  <a:pt x="2713" y="268"/>
                </a:lnTo>
                <a:lnTo>
                  <a:pt x="2704" y="273"/>
                </a:lnTo>
                <a:lnTo>
                  <a:pt x="2695" y="276"/>
                </a:lnTo>
                <a:lnTo>
                  <a:pt x="2685" y="278"/>
                </a:lnTo>
                <a:lnTo>
                  <a:pt x="2676" y="280"/>
                </a:lnTo>
                <a:lnTo>
                  <a:pt x="2666" y="278"/>
                </a:lnTo>
                <a:lnTo>
                  <a:pt x="2657" y="278"/>
                </a:lnTo>
                <a:lnTo>
                  <a:pt x="2647" y="275"/>
                </a:lnTo>
                <a:lnTo>
                  <a:pt x="2639" y="272"/>
                </a:lnTo>
                <a:lnTo>
                  <a:pt x="2630" y="267"/>
                </a:lnTo>
                <a:lnTo>
                  <a:pt x="2623" y="260"/>
                </a:lnTo>
                <a:lnTo>
                  <a:pt x="2616" y="254"/>
                </a:lnTo>
                <a:lnTo>
                  <a:pt x="2609" y="244"/>
                </a:lnTo>
                <a:lnTo>
                  <a:pt x="2605" y="234"/>
                </a:lnTo>
                <a:lnTo>
                  <a:pt x="2605" y="234"/>
                </a:lnTo>
                <a:lnTo>
                  <a:pt x="2601" y="225"/>
                </a:lnTo>
                <a:lnTo>
                  <a:pt x="2600" y="215"/>
                </a:lnTo>
                <a:lnTo>
                  <a:pt x="2598" y="207"/>
                </a:lnTo>
                <a:lnTo>
                  <a:pt x="2598" y="197"/>
                </a:lnTo>
                <a:lnTo>
                  <a:pt x="2600" y="189"/>
                </a:lnTo>
                <a:lnTo>
                  <a:pt x="2601" y="181"/>
                </a:lnTo>
                <a:lnTo>
                  <a:pt x="2605" y="175"/>
                </a:lnTo>
                <a:lnTo>
                  <a:pt x="2608" y="170"/>
                </a:lnTo>
                <a:lnTo>
                  <a:pt x="2608" y="170"/>
                </a:lnTo>
                <a:lnTo>
                  <a:pt x="2614" y="162"/>
                </a:lnTo>
                <a:lnTo>
                  <a:pt x="2620" y="160"/>
                </a:lnTo>
                <a:lnTo>
                  <a:pt x="2625" y="162"/>
                </a:lnTo>
                <a:lnTo>
                  <a:pt x="2630" y="167"/>
                </a:lnTo>
                <a:lnTo>
                  <a:pt x="2630" y="171"/>
                </a:lnTo>
                <a:lnTo>
                  <a:pt x="2630" y="178"/>
                </a:lnTo>
                <a:lnTo>
                  <a:pt x="2625" y="181"/>
                </a:lnTo>
                <a:lnTo>
                  <a:pt x="2617" y="179"/>
                </a:lnTo>
                <a:lnTo>
                  <a:pt x="2614" y="184"/>
                </a:lnTo>
                <a:lnTo>
                  <a:pt x="2612" y="189"/>
                </a:lnTo>
                <a:lnTo>
                  <a:pt x="2612" y="189"/>
                </a:lnTo>
                <a:lnTo>
                  <a:pt x="2611" y="207"/>
                </a:lnTo>
                <a:lnTo>
                  <a:pt x="2612" y="223"/>
                </a:lnTo>
                <a:lnTo>
                  <a:pt x="2617" y="238"/>
                </a:lnTo>
                <a:lnTo>
                  <a:pt x="2625" y="249"/>
                </a:lnTo>
                <a:lnTo>
                  <a:pt x="2636" y="259"/>
                </a:lnTo>
                <a:lnTo>
                  <a:pt x="2649" y="265"/>
                </a:lnTo>
                <a:lnTo>
                  <a:pt x="2665" y="268"/>
                </a:lnTo>
                <a:lnTo>
                  <a:pt x="2682" y="268"/>
                </a:lnTo>
                <a:lnTo>
                  <a:pt x="2682" y="268"/>
                </a:lnTo>
                <a:lnTo>
                  <a:pt x="2695" y="265"/>
                </a:lnTo>
                <a:lnTo>
                  <a:pt x="2704" y="260"/>
                </a:lnTo>
                <a:lnTo>
                  <a:pt x="2713" y="255"/>
                </a:lnTo>
                <a:lnTo>
                  <a:pt x="2723" y="249"/>
                </a:lnTo>
                <a:lnTo>
                  <a:pt x="2731" y="241"/>
                </a:lnTo>
                <a:lnTo>
                  <a:pt x="2737" y="233"/>
                </a:lnTo>
                <a:lnTo>
                  <a:pt x="2742" y="225"/>
                </a:lnTo>
                <a:lnTo>
                  <a:pt x="2747" y="215"/>
                </a:lnTo>
                <a:lnTo>
                  <a:pt x="2750" y="205"/>
                </a:lnTo>
                <a:lnTo>
                  <a:pt x="2751" y="194"/>
                </a:lnTo>
                <a:lnTo>
                  <a:pt x="2751" y="184"/>
                </a:lnTo>
                <a:lnTo>
                  <a:pt x="2750" y="173"/>
                </a:lnTo>
                <a:lnTo>
                  <a:pt x="2747" y="163"/>
                </a:lnTo>
                <a:lnTo>
                  <a:pt x="2742" y="152"/>
                </a:lnTo>
                <a:lnTo>
                  <a:pt x="2737" y="142"/>
                </a:lnTo>
                <a:lnTo>
                  <a:pt x="2729" y="133"/>
                </a:lnTo>
                <a:lnTo>
                  <a:pt x="2729" y="133"/>
                </a:lnTo>
                <a:lnTo>
                  <a:pt x="2715" y="121"/>
                </a:lnTo>
                <a:lnTo>
                  <a:pt x="2699" y="112"/>
                </a:lnTo>
                <a:lnTo>
                  <a:pt x="2683" y="105"/>
                </a:lnTo>
                <a:lnTo>
                  <a:pt x="2668" y="100"/>
                </a:lnTo>
                <a:lnTo>
                  <a:pt x="2652" y="97"/>
                </a:lnTo>
                <a:lnTo>
                  <a:pt x="2636" y="97"/>
                </a:lnTo>
                <a:lnTo>
                  <a:pt x="2620" y="99"/>
                </a:lnTo>
                <a:lnTo>
                  <a:pt x="2606" y="102"/>
                </a:lnTo>
                <a:lnTo>
                  <a:pt x="2592" y="107"/>
                </a:lnTo>
                <a:lnTo>
                  <a:pt x="2578" y="115"/>
                </a:lnTo>
                <a:lnTo>
                  <a:pt x="2565" y="123"/>
                </a:lnTo>
                <a:lnTo>
                  <a:pt x="2554" y="134"/>
                </a:lnTo>
                <a:lnTo>
                  <a:pt x="2545" y="149"/>
                </a:lnTo>
                <a:lnTo>
                  <a:pt x="2537" y="163"/>
                </a:lnTo>
                <a:lnTo>
                  <a:pt x="2530" y="181"/>
                </a:lnTo>
                <a:lnTo>
                  <a:pt x="2527" y="199"/>
                </a:lnTo>
                <a:lnTo>
                  <a:pt x="2527" y="199"/>
                </a:lnTo>
                <a:lnTo>
                  <a:pt x="2526" y="210"/>
                </a:lnTo>
                <a:lnTo>
                  <a:pt x="2527" y="223"/>
                </a:lnTo>
                <a:lnTo>
                  <a:pt x="2527" y="236"/>
                </a:lnTo>
                <a:lnTo>
                  <a:pt x="2530" y="251"/>
                </a:lnTo>
                <a:lnTo>
                  <a:pt x="2534" y="265"/>
                </a:lnTo>
                <a:lnTo>
                  <a:pt x="2537" y="278"/>
                </a:lnTo>
                <a:lnTo>
                  <a:pt x="2541" y="291"/>
                </a:lnTo>
                <a:lnTo>
                  <a:pt x="2548" y="299"/>
                </a:lnTo>
                <a:lnTo>
                  <a:pt x="2548" y="299"/>
                </a:lnTo>
                <a:lnTo>
                  <a:pt x="2548" y="299"/>
                </a:lnTo>
                <a:lnTo>
                  <a:pt x="2548" y="299"/>
                </a:lnTo>
                <a:lnTo>
                  <a:pt x="2548" y="299"/>
                </a:lnTo>
                <a:lnTo>
                  <a:pt x="2548" y="299"/>
                </a:lnTo>
                <a:lnTo>
                  <a:pt x="2548" y="299"/>
                </a:lnTo>
                <a:lnTo>
                  <a:pt x="2556" y="307"/>
                </a:lnTo>
                <a:lnTo>
                  <a:pt x="2564" y="315"/>
                </a:lnTo>
                <a:lnTo>
                  <a:pt x="2571" y="323"/>
                </a:lnTo>
                <a:lnTo>
                  <a:pt x="2579" y="331"/>
                </a:lnTo>
                <a:lnTo>
                  <a:pt x="2589" y="338"/>
                </a:lnTo>
                <a:lnTo>
                  <a:pt x="2598" y="344"/>
                </a:lnTo>
                <a:lnTo>
                  <a:pt x="2608" y="351"/>
                </a:lnTo>
                <a:lnTo>
                  <a:pt x="2617" y="357"/>
                </a:lnTo>
                <a:lnTo>
                  <a:pt x="2628" y="362"/>
                </a:lnTo>
                <a:lnTo>
                  <a:pt x="2639" y="367"/>
                </a:lnTo>
                <a:lnTo>
                  <a:pt x="2649" y="370"/>
                </a:lnTo>
                <a:lnTo>
                  <a:pt x="2660" y="374"/>
                </a:lnTo>
                <a:lnTo>
                  <a:pt x="2672" y="377"/>
                </a:lnTo>
                <a:lnTo>
                  <a:pt x="2683" y="378"/>
                </a:lnTo>
                <a:lnTo>
                  <a:pt x="2695" y="380"/>
                </a:lnTo>
                <a:lnTo>
                  <a:pt x="2707" y="380"/>
                </a:lnTo>
                <a:lnTo>
                  <a:pt x="2707" y="380"/>
                </a:lnTo>
                <a:lnTo>
                  <a:pt x="2728" y="377"/>
                </a:lnTo>
                <a:lnTo>
                  <a:pt x="2747" y="374"/>
                </a:lnTo>
                <a:lnTo>
                  <a:pt x="2766" y="367"/>
                </a:lnTo>
                <a:lnTo>
                  <a:pt x="2781" y="359"/>
                </a:lnTo>
                <a:lnTo>
                  <a:pt x="2796" y="349"/>
                </a:lnTo>
                <a:lnTo>
                  <a:pt x="2808" y="338"/>
                </a:lnTo>
                <a:lnTo>
                  <a:pt x="2819" y="327"/>
                </a:lnTo>
                <a:lnTo>
                  <a:pt x="2830" y="314"/>
                </a:lnTo>
                <a:lnTo>
                  <a:pt x="2840" y="301"/>
                </a:lnTo>
                <a:lnTo>
                  <a:pt x="2848" y="286"/>
                </a:lnTo>
                <a:lnTo>
                  <a:pt x="2854" y="272"/>
                </a:lnTo>
                <a:lnTo>
                  <a:pt x="2860" y="259"/>
                </a:lnTo>
                <a:lnTo>
                  <a:pt x="2867" y="244"/>
                </a:lnTo>
                <a:lnTo>
                  <a:pt x="2871" y="230"/>
                </a:lnTo>
                <a:lnTo>
                  <a:pt x="2876" y="217"/>
                </a:lnTo>
                <a:lnTo>
                  <a:pt x="2879" y="204"/>
                </a:lnTo>
                <a:lnTo>
                  <a:pt x="2879" y="204"/>
                </a:lnTo>
                <a:lnTo>
                  <a:pt x="2884" y="217"/>
                </a:lnTo>
                <a:lnTo>
                  <a:pt x="2887" y="230"/>
                </a:lnTo>
                <a:lnTo>
                  <a:pt x="2890" y="244"/>
                </a:lnTo>
                <a:lnTo>
                  <a:pt x="2895" y="259"/>
                </a:lnTo>
                <a:lnTo>
                  <a:pt x="2900" y="272"/>
                </a:lnTo>
                <a:lnTo>
                  <a:pt x="2906" y="286"/>
                </a:lnTo>
                <a:lnTo>
                  <a:pt x="2914" y="301"/>
                </a:lnTo>
                <a:lnTo>
                  <a:pt x="2922" y="314"/>
                </a:lnTo>
                <a:lnTo>
                  <a:pt x="2931" y="327"/>
                </a:lnTo>
                <a:lnTo>
                  <a:pt x="2942" y="338"/>
                </a:lnTo>
                <a:lnTo>
                  <a:pt x="2955" y="349"/>
                </a:lnTo>
                <a:lnTo>
                  <a:pt x="2971" y="359"/>
                </a:lnTo>
                <a:lnTo>
                  <a:pt x="2988" y="367"/>
                </a:lnTo>
                <a:lnTo>
                  <a:pt x="3007" y="374"/>
                </a:lnTo>
                <a:lnTo>
                  <a:pt x="3028" y="378"/>
                </a:lnTo>
                <a:lnTo>
                  <a:pt x="3053" y="380"/>
                </a:lnTo>
                <a:lnTo>
                  <a:pt x="3053" y="380"/>
                </a:lnTo>
                <a:lnTo>
                  <a:pt x="3064" y="380"/>
                </a:lnTo>
                <a:lnTo>
                  <a:pt x="3077" y="378"/>
                </a:lnTo>
                <a:lnTo>
                  <a:pt x="3088" y="377"/>
                </a:lnTo>
                <a:lnTo>
                  <a:pt x="3099" y="375"/>
                </a:lnTo>
                <a:lnTo>
                  <a:pt x="3110" y="372"/>
                </a:lnTo>
                <a:lnTo>
                  <a:pt x="3121" y="367"/>
                </a:lnTo>
                <a:lnTo>
                  <a:pt x="3130" y="362"/>
                </a:lnTo>
                <a:lnTo>
                  <a:pt x="3141" y="357"/>
                </a:lnTo>
                <a:lnTo>
                  <a:pt x="3151" y="351"/>
                </a:lnTo>
                <a:lnTo>
                  <a:pt x="3160" y="346"/>
                </a:lnTo>
                <a:lnTo>
                  <a:pt x="3170" y="338"/>
                </a:lnTo>
                <a:lnTo>
                  <a:pt x="3179" y="331"/>
                </a:lnTo>
                <a:lnTo>
                  <a:pt x="3187" y="323"/>
                </a:lnTo>
                <a:lnTo>
                  <a:pt x="3195" y="315"/>
                </a:lnTo>
                <a:lnTo>
                  <a:pt x="3203" y="307"/>
                </a:lnTo>
                <a:lnTo>
                  <a:pt x="3211" y="299"/>
                </a:lnTo>
                <a:lnTo>
                  <a:pt x="3211" y="299"/>
                </a:lnTo>
                <a:lnTo>
                  <a:pt x="3211" y="299"/>
                </a:lnTo>
                <a:lnTo>
                  <a:pt x="3211" y="299"/>
                </a:lnTo>
                <a:lnTo>
                  <a:pt x="3211" y="299"/>
                </a:lnTo>
                <a:lnTo>
                  <a:pt x="3212" y="299"/>
                </a:lnTo>
                <a:lnTo>
                  <a:pt x="3212" y="299"/>
                </a:lnTo>
                <a:lnTo>
                  <a:pt x="3217" y="291"/>
                </a:lnTo>
                <a:lnTo>
                  <a:pt x="3222" y="280"/>
                </a:lnTo>
                <a:lnTo>
                  <a:pt x="3226" y="265"/>
                </a:lnTo>
                <a:lnTo>
                  <a:pt x="3230" y="252"/>
                </a:lnTo>
                <a:lnTo>
                  <a:pt x="3231" y="238"/>
                </a:lnTo>
                <a:lnTo>
                  <a:pt x="3231" y="223"/>
                </a:lnTo>
                <a:lnTo>
                  <a:pt x="3233" y="210"/>
                </a:lnTo>
                <a:lnTo>
                  <a:pt x="3231" y="199"/>
                </a:lnTo>
                <a:lnTo>
                  <a:pt x="3231" y="199"/>
                </a:lnTo>
                <a:lnTo>
                  <a:pt x="3228" y="181"/>
                </a:lnTo>
                <a:lnTo>
                  <a:pt x="3222" y="163"/>
                </a:lnTo>
                <a:lnTo>
                  <a:pt x="3214" y="149"/>
                </a:lnTo>
                <a:lnTo>
                  <a:pt x="3204" y="134"/>
                </a:lnTo>
                <a:lnTo>
                  <a:pt x="3193" y="123"/>
                </a:lnTo>
                <a:lnTo>
                  <a:pt x="3181" y="115"/>
                </a:lnTo>
                <a:lnTo>
                  <a:pt x="3167" y="107"/>
                </a:lnTo>
                <a:lnTo>
                  <a:pt x="3152" y="102"/>
                </a:lnTo>
                <a:lnTo>
                  <a:pt x="3138" y="99"/>
                </a:lnTo>
                <a:lnTo>
                  <a:pt x="3122" y="97"/>
                </a:lnTo>
                <a:lnTo>
                  <a:pt x="3107" y="97"/>
                </a:lnTo>
                <a:lnTo>
                  <a:pt x="3091" y="100"/>
                </a:lnTo>
                <a:lnTo>
                  <a:pt x="3075" y="105"/>
                </a:lnTo>
                <a:lnTo>
                  <a:pt x="3059" y="112"/>
                </a:lnTo>
                <a:lnTo>
                  <a:pt x="3043" y="121"/>
                </a:lnTo>
                <a:lnTo>
                  <a:pt x="3029" y="133"/>
                </a:lnTo>
                <a:lnTo>
                  <a:pt x="3029" y="133"/>
                </a:lnTo>
                <a:lnTo>
                  <a:pt x="3021" y="142"/>
                </a:lnTo>
                <a:lnTo>
                  <a:pt x="3017" y="152"/>
                </a:lnTo>
                <a:lnTo>
                  <a:pt x="3012" y="163"/>
                </a:lnTo>
                <a:lnTo>
                  <a:pt x="3009" y="173"/>
                </a:lnTo>
                <a:lnTo>
                  <a:pt x="3007" y="184"/>
                </a:lnTo>
                <a:lnTo>
                  <a:pt x="3007" y="194"/>
                </a:lnTo>
                <a:lnTo>
                  <a:pt x="3009" y="205"/>
                </a:lnTo>
                <a:lnTo>
                  <a:pt x="3012" y="215"/>
                </a:lnTo>
                <a:lnTo>
                  <a:pt x="3017" y="225"/>
                </a:lnTo>
                <a:lnTo>
                  <a:pt x="3021" y="233"/>
                </a:lnTo>
                <a:lnTo>
                  <a:pt x="3028" y="241"/>
                </a:lnTo>
                <a:lnTo>
                  <a:pt x="3035" y="249"/>
                </a:lnTo>
                <a:lnTo>
                  <a:pt x="3045" y="255"/>
                </a:lnTo>
                <a:lnTo>
                  <a:pt x="3054" y="260"/>
                </a:lnTo>
                <a:lnTo>
                  <a:pt x="3064" y="265"/>
                </a:lnTo>
                <a:lnTo>
                  <a:pt x="3077" y="268"/>
                </a:lnTo>
                <a:lnTo>
                  <a:pt x="3077" y="268"/>
                </a:lnTo>
                <a:lnTo>
                  <a:pt x="3094" y="268"/>
                </a:lnTo>
                <a:lnTo>
                  <a:pt x="3110" y="265"/>
                </a:lnTo>
                <a:lnTo>
                  <a:pt x="3122" y="259"/>
                </a:lnTo>
                <a:lnTo>
                  <a:pt x="3133" y="249"/>
                </a:lnTo>
                <a:lnTo>
                  <a:pt x="3141" y="238"/>
                </a:lnTo>
                <a:lnTo>
                  <a:pt x="3146" y="223"/>
                </a:lnTo>
                <a:lnTo>
                  <a:pt x="3148" y="207"/>
                </a:lnTo>
                <a:lnTo>
                  <a:pt x="3146" y="189"/>
                </a:lnTo>
                <a:lnTo>
                  <a:pt x="3144" y="184"/>
                </a:lnTo>
                <a:lnTo>
                  <a:pt x="3141" y="179"/>
                </a:lnTo>
                <a:lnTo>
                  <a:pt x="3141" y="179"/>
                </a:lnTo>
                <a:lnTo>
                  <a:pt x="3133" y="181"/>
                </a:lnTo>
                <a:lnTo>
                  <a:pt x="3129" y="178"/>
                </a:lnTo>
                <a:lnTo>
                  <a:pt x="3129" y="171"/>
                </a:lnTo>
                <a:lnTo>
                  <a:pt x="3130" y="167"/>
                </a:lnTo>
                <a:lnTo>
                  <a:pt x="3133" y="162"/>
                </a:lnTo>
                <a:lnTo>
                  <a:pt x="3138" y="160"/>
                </a:lnTo>
                <a:lnTo>
                  <a:pt x="3144" y="162"/>
                </a:lnTo>
                <a:lnTo>
                  <a:pt x="3151" y="170"/>
                </a:lnTo>
                <a:lnTo>
                  <a:pt x="3151" y="170"/>
                </a:lnTo>
                <a:lnTo>
                  <a:pt x="3154" y="175"/>
                </a:lnTo>
                <a:lnTo>
                  <a:pt x="3157" y="181"/>
                </a:lnTo>
                <a:lnTo>
                  <a:pt x="3159" y="189"/>
                </a:lnTo>
                <a:lnTo>
                  <a:pt x="3160" y="197"/>
                </a:lnTo>
                <a:lnTo>
                  <a:pt x="3160" y="207"/>
                </a:lnTo>
                <a:lnTo>
                  <a:pt x="3159" y="215"/>
                </a:lnTo>
                <a:lnTo>
                  <a:pt x="3157" y="225"/>
                </a:lnTo>
                <a:lnTo>
                  <a:pt x="3154" y="234"/>
                </a:lnTo>
                <a:lnTo>
                  <a:pt x="3154" y="234"/>
                </a:lnTo>
                <a:lnTo>
                  <a:pt x="3149" y="244"/>
                </a:lnTo>
                <a:lnTo>
                  <a:pt x="3143" y="254"/>
                </a:lnTo>
                <a:lnTo>
                  <a:pt x="3135" y="260"/>
                </a:lnTo>
                <a:lnTo>
                  <a:pt x="3129" y="267"/>
                </a:lnTo>
                <a:lnTo>
                  <a:pt x="3119" y="272"/>
                </a:lnTo>
                <a:lnTo>
                  <a:pt x="3111" y="275"/>
                </a:lnTo>
                <a:lnTo>
                  <a:pt x="3102" y="278"/>
                </a:lnTo>
                <a:lnTo>
                  <a:pt x="3092" y="278"/>
                </a:lnTo>
                <a:lnTo>
                  <a:pt x="3083" y="280"/>
                </a:lnTo>
                <a:lnTo>
                  <a:pt x="3073" y="278"/>
                </a:lnTo>
                <a:lnTo>
                  <a:pt x="3064" y="276"/>
                </a:lnTo>
                <a:lnTo>
                  <a:pt x="3054" y="273"/>
                </a:lnTo>
                <a:lnTo>
                  <a:pt x="3045" y="268"/>
                </a:lnTo>
                <a:lnTo>
                  <a:pt x="3037" y="264"/>
                </a:lnTo>
                <a:lnTo>
                  <a:pt x="3029" y="257"/>
                </a:lnTo>
                <a:lnTo>
                  <a:pt x="3021" y="249"/>
                </a:lnTo>
                <a:lnTo>
                  <a:pt x="3021" y="249"/>
                </a:lnTo>
                <a:lnTo>
                  <a:pt x="3012" y="238"/>
                </a:lnTo>
                <a:lnTo>
                  <a:pt x="3005" y="226"/>
                </a:lnTo>
                <a:lnTo>
                  <a:pt x="3001" y="215"/>
                </a:lnTo>
                <a:lnTo>
                  <a:pt x="2998" y="204"/>
                </a:lnTo>
                <a:lnTo>
                  <a:pt x="2998" y="192"/>
                </a:lnTo>
                <a:lnTo>
                  <a:pt x="2998" y="181"/>
                </a:lnTo>
                <a:lnTo>
                  <a:pt x="2999" y="170"/>
                </a:lnTo>
                <a:lnTo>
                  <a:pt x="3002" y="160"/>
                </a:lnTo>
                <a:lnTo>
                  <a:pt x="3007" y="149"/>
                </a:lnTo>
                <a:lnTo>
                  <a:pt x="3013" y="139"/>
                </a:lnTo>
                <a:lnTo>
                  <a:pt x="3020" y="131"/>
                </a:lnTo>
                <a:lnTo>
                  <a:pt x="3029" y="121"/>
                </a:lnTo>
                <a:lnTo>
                  <a:pt x="3037" y="115"/>
                </a:lnTo>
                <a:lnTo>
                  <a:pt x="3048" y="107"/>
                </a:lnTo>
                <a:lnTo>
                  <a:pt x="3059" y="102"/>
                </a:lnTo>
                <a:lnTo>
                  <a:pt x="3072" y="97"/>
                </a:lnTo>
                <a:lnTo>
                  <a:pt x="3072" y="97"/>
                </a:lnTo>
                <a:lnTo>
                  <a:pt x="3088" y="90"/>
                </a:lnTo>
                <a:lnTo>
                  <a:pt x="3103" y="87"/>
                </a:lnTo>
                <a:lnTo>
                  <a:pt x="3121" y="87"/>
                </a:lnTo>
                <a:lnTo>
                  <a:pt x="3135" y="87"/>
                </a:lnTo>
                <a:lnTo>
                  <a:pt x="3151" y="90"/>
                </a:lnTo>
                <a:lnTo>
                  <a:pt x="3165" y="95"/>
                </a:lnTo>
                <a:lnTo>
                  <a:pt x="3178" y="100"/>
                </a:lnTo>
                <a:lnTo>
                  <a:pt x="3190" y="108"/>
                </a:lnTo>
                <a:lnTo>
                  <a:pt x="3201" y="118"/>
                </a:lnTo>
                <a:lnTo>
                  <a:pt x="3211" y="129"/>
                </a:lnTo>
                <a:lnTo>
                  <a:pt x="3220" y="141"/>
                </a:lnTo>
                <a:lnTo>
                  <a:pt x="3228" y="154"/>
                </a:lnTo>
                <a:lnTo>
                  <a:pt x="3234" y="168"/>
                </a:lnTo>
                <a:lnTo>
                  <a:pt x="3238" y="184"/>
                </a:lnTo>
                <a:lnTo>
                  <a:pt x="3241" y="200"/>
                </a:lnTo>
                <a:lnTo>
                  <a:pt x="3242" y="218"/>
                </a:lnTo>
                <a:lnTo>
                  <a:pt x="3242" y="218"/>
                </a:lnTo>
                <a:lnTo>
                  <a:pt x="3241" y="230"/>
                </a:lnTo>
                <a:lnTo>
                  <a:pt x="3241" y="241"/>
                </a:lnTo>
                <a:lnTo>
                  <a:pt x="3238" y="252"/>
                </a:lnTo>
                <a:lnTo>
                  <a:pt x="3236" y="265"/>
                </a:lnTo>
                <a:lnTo>
                  <a:pt x="3233" y="276"/>
                </a:lnTo>
                <a:lnTo>
                  <a:pt x="3228" y="286"/>
                </a:lnTo>
                <a:lnTo>
                  <a:pt x="3225" y="298"/>
                </a:lnTo>
                <a:lnTo>
                  <a:pt x="3220" y="307"/>
                </a:lnTo>
                <a:lnTo>
                  <a:pt x="3220" y="307"/>
                </a:lnTo>
                <a:lnTo>
                  <a:pt x="3228" y="314"/>
                </a:lnTo>
                <a:lnTo>
                  <a:pt x="3238" y="322"/>
                </a:lnTo>
                <a:lnTo>
                  <a:pt x="3249" y="328"/>
                </a:lnTo>
                <a:lnTo>
                  <a:pt x="3258" y="335"/>
                </a:lnTo>
                <a:lnTo>
                  <a:pt x="3269" y="341"/>
                </a:lnTo>
                <a:lnTo>
                  <a:pt x="3282" y="346"/>
                </a:lnTo>
                <a:lnTo>
                  <a:pt x="3293" y="351"/>
                </a:lnTo>
                <a:lnTo>
                  <a:pt x="3305" y="356"/>
                </a:lnTo>
                <a:lnTo>
                  <a:pt x="3318" y="361"/>
                </a:lnTo>
                <a:lnTo>
                  <a:pt x="3331" y="364"/>
                </a:lnTo>
                <a:lnTo>
                  <a:pt x="3343" y="367"/>
                </a:lnTo>
                <a:lnTo>
                  <a:pt x="3356" y="369"/>
                </a:lnTo>
                <a:lnTo>
                  <a:pt x="3370" y="372"/>
                </a:lnTo>
                <a:lnTo>
                  <a:pt x="3384" y="374"/>
                </a:lnTo>
                <a:lnTo>
                  <a:pt x="3399" y="374"/>
                </a:lnTo>
                <a:lnTo>
                  <a:pt x="3413" y="374"/>
                </a:lnTo>
                <a:lnTo>
                  <a:pt x="3413" y="374"/>
                </a:lnTo>
                <a:lnTo>
                  <a:pt x="3427" y="374"/>
                </a:lnTo>
                <a:lnTo>
                  <a:pt x="3443" y="372"/>
                </a:lnTo>
                <a:lnTo>
                  <a:pt x="3455" y="370"/>
                </a:lnTo>
                <a:lnTo>
                  <a:pt x="3470" y="369"/>
                </a:lnTo>
                <a:lnTo>
                  <a:pt x="3484" y="365"/>
                </a:lnTo>
                <a:lnTo>
                  <a:pt x="3498" y="362"/>
                </a:lnTo>
                <a:lnTo>
                  <a:pt x="3512" y="357"/>
                </a:lnTo>
                <a:lnTo>
                  <a:pt x="3525" y="353"/>
                </a:lnTo>
                <a:lnTo>
                  <a:pt x="3537" y="348"/>
                </a:lnTo>
                <a:lnTo>
                  <a:pt x="3550" y="341"/>
                </a:lnTo>
                <a:lnTo>
                  <a:pt x="3561" y="335"/>
                </a:lnTo>
                <a:lnTo>
                  <a:pt x="3574" y="328"/>
                </a:lnTo>
                <a:lnTo>
                  <a:pt x="3585" y="320"/>
                </a:lnTo>
                <a:lnTo>
                  <a:pt x="3594" y="312"/>
                </a:lnTo>
                <a:lnTo>
                  <a:pt x="3605" y="304"/>
                </a:lnTo>
                <a:lnTo>
                  <a:pt x="3615" y="294"/>
                </a:lnTo>
                <a:lnTo>
                  <a:pt x="3615" y="294"/>
                </a:lnTo>
                <a:lnTo>
                  <a:pt x="3602" y="286"/>
                </a:lnTo>
                <a:lnTo>
                  <a:pt x="3591" y="278"/>
                </a:lnTo>
                <a:lnTo>
                  <a:pt x="3582" y="270"/>
                </a:lnTo>
                <a:lnTo>
                  <a:pt x="3574" y="260"/>
                </a:lnTo>
                <a:lnTo>
                  <a:pt x="3566" y="251"/>
                </a:lnTo>
                <a:lnTo>
                  <a:pt x="3560" y="241"/>
                </a:lnTo>
                <a:lnTo>
                  <a:pt x="3556" y="231"/>
                </a:lnTo>
                <a:lnTo>
                  <a:pt x="3553" y="221"/>
                </a:lnTo>
                <a:lnTo>
                  <a:pt x="3553" y="221"/>
                </a:lnTo>
                <a:lnTo>
                  <a:pt x="3552" y="212"/>
                </a:lnTo>
                <a:lnTo>
                  <a:pt x="3553" y="202"/>
                </a:lnTo>
                <a:lnTo>
                  <a:pt x="3556" y="192"/>
                </a:lnTo>
                <a:lnTo>
                  <a:pt x="3563" y="184"/>
                </a:lnTo>
                <a:lnTo>
                  <a:pt x="3569" y="176"/>
                </a:lnTo>
                <a:lnTo>
                  <a:pt x="3577" y="168"/>
                </a:lnTo>
                <a:lnTo>
                  <a:pt x="3586" y="160"/>
                </a:lnTo>
                <a:lnTo>
                  <a:pt x="3597" y="152"/>
                </a:lnTo>
                <a:lnTo>
                  <a:pt x="3610" y="147"/>
                </a:lnTo>
                <a:lnTo>
                  <a:pt x="3623" y="141"/>
                </a:lnTo>
                <a:lnTo>
                  <a:pt x="3637" y="136"/>
                </a:lnTo>
                <a:lnTo>
                  <a:pt x="3653" y="131"/>
                </a:lnTo>
                <a:lnTo>
                  <a:pt x="3668" y="128"/>
                </a:lnTo>
                <a:lnTo>
                  <a:pt x="3684" y="126"/>
                </a:lnTo>
                <a:lnTo>
                  <a:pt x="3700" y="124"/>
                </a:lnTo>
                <a:lnTo>
                  <a:pt x="3717" y="123"/>
                </a:lnTo>
                <a:lnTo>
                  <a:pt x="3717" y="123"/>
                </a:lnTo>
                <a:lnTo>
                  <a:pt x="3733" y="124"/>
                </a:lnTo>
                <a:lnTo>
                  <a:pt x="3751" y="126"/>
                </a:lnTo>
                <a:lnTo>
                  <a:pt x="3766" y="128"/>
                </a:lnTo>
                <a:lnTo>
                  <a:pt x="3781" y="131"/>
                </a:lnTo>
                <a:lnTo>
                  <a:pt x="3795" y="136"/>
                </a:lnTo>
                <a:lnTo>
                  <a:pt x="3809" y="141"/>
                </a:lnTo>
                <a:lnTo>
                  <a:pt x="3822" y="147"/>
                </a:lnTo>
                <a:lnTo>
                  <a:pt x="3833" y="152"/>
                </a:lnTo>
                <a:lnTo>
                  <a:pt x="3844" y="160"/>
                </a:lnTo>
                <a:lnTo>
                  <a:pt x="3853" y="168"/>
                </a:lnTo>
                <a:lnTo>
                  <a:pt x="3861" y="176"/>
                </a:lnTo>
                <a:lnTo>
                  <a:pt x="3869" y="184"/>
                </a:lnTo>
                <a:lnTo>
                  <a:pt x="3874" y="192"/>
                </a:lnTo>
                <a:lnTo>
                  <a:pt x="3878" y="202"/>
                </a:lnTo>
                <a:lnTo>
                  <a:pt x="3880" y="212"/>
                </a:lnTo>
                <a:lnTo>
                  <a:pt x="3882" y="221"/>
                </a:lnTo>
                <a:lnTo>
                  <a:pt x="3882" y="221"/>
                </a:lnTo>
                <a:lnTo>
                  <a:pt x="3880" y="234"/>
                </a:lnTo>
                <a:lnTo>
                  <a:pt x="3874" y="246"/>
                </a:lnTo>
                <a:lnTo>
                  <a:pt x="3866" y="259"/>
                </a:lnTo>
                <a:lnTo>
                  <a:pt x="3856" y="270"/>
                </a:lnTo>
                <a:lnTo>
                  <a:pt x="3842" y="280"/>
                </a:lnTo>
                <a:lnTo>
                  <a:pt x="3828" y="289"/>
                </a:lnTo>
                <a:lnTo>
                  <a:pt x="3811" y="299"/>
                </a:lnTo>
                <a:lnTo>
                  <a:pt x="3793" y="307"/>
                </a:lnTo>
                <a:lnTo>
                  <a:pt x="3793" y="307"/>
                </a:lnTo>
                <a:lnTo>
                  <a:pt x="3799" y="315"/>
                </a:lnTo>
                <a:lnTo>
                  <a:pt x="3807" y="323"/>
                </a:lnTo>
                <a:lnTo>
                  <a:pt x="3818" y="331"/>
                </a:lnTo>
                <a:lnTo>
                  <a:pt x="3829" y="336"/>
                </a:lnTo>
                <a:lnTo>
                  <a:pt x="3841" y="341"/>
                </a:lnTo>
                <a:lnTo>
                  <a:pt x="3855" y="344"/>
                </a:lnTo>
                <a:lnTo>
                  <a:pt x="3869" y="348"/>
                </a:lnTo>
                <a:lnTo>
                  <a:pt x="3883" y="348"/>
                </a:lnTo>
                <a:lnTo>
                  <a:pt x="3883" y="348"/>
                </a:lnTo>
                <a:lnTo>
                  <a:pt x="3901" y="348"/>
                </a:lnTo>
                <a:lnTo>
                  <a:pt x="3916" y="344"/>
                </a:lnTo>
                <a:lnTo>
                  <a:pt x="3931" y="340"/>
                </a:lnTo>
                <a:lnTo>
                  <a:pt x="3945" y="333"/>
                </a:lnTo>
                <a:lnTo>
                  <a:pt x="3956" y="325"/>
                </a:lnTo>
                <a:lnTo>
                  <a:pt x="3965" y="317"/>
                </a:lnTo>
                <a:lnTo>
                  <a:pt x="3973" y="309"/>
                </a:lnTo>
                <a:lnTo>
                  <a:pt x="3978" y="299"/>
                </a:lnTo>
                <a:lnTo>
                  <a:pt x="3978" y="299"/>
                </a:lnTo>
                <a:lnTo>
                  <a:pt x="3984" y="307"/>
                </a:lnTo>
                <a:lnTo>
                  <a:pt x="3990" y="314"/>
                </a:lnTo>
                <a:lnTo>
                  <a:pt x="3998" y="322"/>
                </a:lnTo>
                <a:lnTo>
                  <a:pt x="4006" y="328"/>
                </a:lnTo>
                <a:lnTo>
                  <a:pt x="4014" y="335"/>
                </a:lnTo>
                <a:lnTo>
                  <a:pt x="4024" y="341"/>
                </a:lnTo>
                <a:lnTo>
                  <a:pt x="4033" y="346"/>
                </a:lnTo>
                <a:lnTo>
                  <a:pt x="4043" y="353"/>
                </a:lnTo>
                <a:lnTo>
                  <a:pt x="4052" y="356"/>
                </a:lnTo>
                <a:lnTo>
                  <a:pt x="4062" y="361"/>
                </a:lnTo>
                <a:lnTo>
                  <a:pt x="4073" y="364"/>
                </a:lnTo>
                <a:lnTo>
                  <a:pt x="4082" y="365"/>
                </a:lnTo>
                <a:lnTo>
                  <a:pt x="4093" y="367"/>
                </a:lnTo>
                <a:lnTo>
                  <a:pt x="4104" y="369"/>
                </a:lnTo>
                <a:lnTo>
                  <a:pt x="4114" y="369"/>
                </a:lnTo>
                <a:lnTo>
                  <a:pt x="4125" y="367"/>
                </a:lnTo>
                <a:lnTo>
                  <a:pt x="4125" y="367"/>
                </a:lnTo>
                <a:lnTo>
                  <a:pt x="4134" y="365"/>
                </a:lnTo>
                <a:lnTo>
                  <a:pt x="4144" y="365"/>
                </a:lnTo>
                <a:lnTo>
                  <a:pt x="4153" y="364"/>
                </a:lnTo>
                <a:lnTo>
                  <a:pt x="4163" y="361"/>
                </a:lnTo>
                <a:lnTo>
                  <a:pt x="4172" y="359"/>
                </a:lnTo>
                <a:lnTo>
                  <a:pt x="4183" y="357"/>
                </a:lnTo>
                <a:lnTo>
                  <a:pt x="4191" y="354"/>
                </a:lnTo>
                <a:lnTo>
                  <a:pt x="4200" y="353"/>
                </a:lnTo>
                <a:lnTo>
                  <a:pt x="4200" y="353"/>
                </a:lnTo>
                <a:lnTo>
                  <a:pt x="4202" y="351"/>
                </a:lnTo>
                <a:lnTo>
                  <a:pt x="4207" y="349"/>
                </a:lnTo>
                <a:lnTo>
                  <a:pt x="4216" y="346"/>
                </a:lnTo>
                <a:lnTo>
                  <a:pt x="4227" y="341"/>
                </a:lnTo>
                <a:lnTo>
                  <a:pt x="4241" y="335"/>
                </a:lnTo>
                <a:lnTo>
                  <a:pt x="4259" y="328"/>
                </a:lnTo>
                <a:lnTo>
                  <a:pt x="4278" y="320"/>
                </a:lnTo>
                <a:lnTo>
                  <a:pt x="4300" y="310"/>
                </a:lnTo>
                <a:lnTo>
                  <a:pt x="4324" y="301"/>
                </a:lnTo>
                <a:lnTo>
                  <a:pt x="4349" y="291"/>
                </a:lnTo>
                <a:lnTo>
                  <a:pt x="4377" y="280"/>
                </a:lnTo>
                <a:lnTo>
                  <a:pt x="4406" y="268"/>
                </a:lnTo>
                <a:lnTo>
                  <a:pt x="4437" y="257"/>
                </a:lnTo>
                <a:lnTo>
                  <a:pt x="4469" y="244"/>
                </a:lnTo>
                <a:lnTo>
                  <a:pt x="4500" y="231"/>
                </a:lnTo>
                <a:lnTo>
                  <a:pt x="4533" y="220"/>
                </a:lnTo>
                <a:lnTo>
                  <a:pt x="4568" y="207"/>
                </a:lnTo>
                <a:lnTo>
                  <a:pt x="4601" y="194"/>
                </a:lnTo>
                <a:lnTo>
                  <a:pt x="4636" y="183"/>
                </a:lnTo>
                <a:lnTo>
                  <a:pt x="4671" y="170"/>
                </a:lnTo>
                <a:lnTo>
                  <a:pt x="4706" y="158"/>
                </a:lnTo>
                <a:lnTo>
                  <a:pt x="4740" y="147"/>
                </a:lnTo>
                <a:lnTo>
                  <a:pt x="4773" y="137"/>
                </a:lnTo>
                <a:lnTo>
                  <a:pt x="4807" y="128"/>
                </a:lnTo>
                <a:lnTo>
                  <a:pt x="4838" y="118"/>
                </a:lnTo>
                <a:lnTo>
                  <a:pt x="4870" y="110"/>
                </a:lnTo>
                <a:lnTo>
                  <a:pt x="4900" y="103"/>
                </a:lnTo>
                <a:lnTo>
                  <a:pt x="4928" y="97"/>
                </a:lnTo>
                <a:lnTo>
                  <a:pt x="4955" y="92"/>
                </a:lnTo>
                <a:lnTo>
                  <a:pt x="4980" y="89"/>
                </a:lnTo>
                <a:lnTo>
                  <a:pt x="5004" y="86"/>
                </a:lnTo>
                <a:lnTo>
                  <a:pt x="5024" y="86"/>
                </a:lnTo>
                <a:lnTo>
                  <a:pt x="5024" y="86"/>
                </a:lnTo>
                <a:lnTo>
                  <a:pt x="5045" y="86"/>
                </a:lnTo>
                <a:lnTo>
                  <a:pt x="5065" y="87"/>
                </a:lnTo>
                <a:lnTo>
                  <a:pt x="5084" y="90"/>
                </a:lnTo>
                <a:lnTo>
                  <a:pt x="5102" y="94"/>
                </a:lnTo>
                <a:lnTo>
                  <a:pt x="5119" y="99"/>
                </a:lnTo>
                <a:lnTo>
                  <a:pt x="5136" y="105"/>
                </a:lnTo>
                <a:lnTo>
                  <a:pt x="5151" y="112"/>
                </a:lnTo>
                <a:lnTo>
                  <a:pt x="5165" y="120"/>
                </a:lnTo>
                <a:lnTo>
                  <a:pt x="5178" y="128"/>
                </a:lnTo>
                <a:lnTo>
                  <a:pt x="5190" y="137"/>
                </a:lnTo>
                <a:lnTo>
                  <a:pt x="5200" y="147"/>
                </a:lnTo>
                <a:lnTo>
                  <a:pt x="5208" y="157"/>
                </a:lnTo>
                <a:lnTo>
                  <a:pt x="5214" y="168"/>
                </a:lnTo>
                <a:lnTo>
                  <a:pt x="5219" y="179"/>
                </a:lnTo>
                <a:lnTo>
                  <a:pt x="5222" y="191"/>
                </a:lnTo>
                <a:lnTo>
                  <a:pt x="5223" y="204"/>
                </a:lnTo>
                <a:lnTo>
                  <a:pt x="5223" y="204"/>
                </a:lnTo>
                <a:lnTo>
                  <a:pt x="5222" y="215"/>
                </a:lnTo>
                <a:lnTo>
                  <a:pt x="5219" y="226"/>
                </a:lnTo>
                <a:lnTo>
                  <a:pt x="5214" y="238"/>
                </a:lnTo>
                <a:lnTo>
                  <a:pt x="5208" y="249"/>
                </a:lnTo>
                <a:lnTo>
                  <a:pt x="5198" y="259"/>
                </a:lnTo>
                <a:lnTo>
                  <a:pt x="5189" y="268"/>
                </a:lnTo>
                <a:lnTo>
                  <a:pt x="5178" y="276"/>
                </a:lnTo>
                <a:lnTo>
                  <a:pt x="5165" y="283"/>
                </a:lnTo>
                <a:lnTo>
                  <a:pt x="5165" y="283"/>
                </a:lnTo>
                <a:lnTo>
                  <a:pt x="5178" y="288"/>
                </a:lnTo>
                <a:lnTo>
                  <a:pt x="5190" y="293"/>
                </a:lnTo>
                <a:lnTo>
                  <a:pt x="5204" y="296"/>
                </a:lnTo>
                <a:lnTo>
                  <a:pt x="5219" y="301"/>
                </a:lnTo>
                <a:lnTo>
                  <a:pt x="5233" y="304"/>
                </a:lnTo>
                <a:lnTo>
                  <a:pt x="5247" y="306"/>
                </a:lnTo>
                <a:lnTo>
                  <a:pt x="5263" y="307"/>
                </a:lnTo>
                <a:lnTo>
                  <a:pt x="5277" y="309"/>
                </a:lnTo>
                <a:lnTo>
                  <a:pt x="5277" y="309"/>
                </a:lnTo>
                <a:lnTo>
                  <a:pt x="5288" y="309"/>
                </a:lnTo>
                <a:lnTo>
                  <a:pt x="5297" y="309"/>
                </a:lnTo>
                <a:lnTo>
                  <a:pt x="5307" y="307"/>
                </a:lnTo>
                <a:lnTo>
                  <a:pt x="5316" y="306"/>
                </a:lnTo>
                <a:lnTo>
                  <a:pt x="5326" y="304"/>
                </a:lnTo>
                <a:lnTo>
                  <a:pt x="5335" y="302"/>
                </a:lnTo>
                <a:lnTo>
                  <a:pt x="5345" y="301"/>
                </a:lnTo>
                <a:lnTo>
                  <a:pt x="5354" y="298"/>
                </a:lnTo>
                <a:lnTo>
                  <a:pt x="5364" y="294"/>
                </a:lnTo>
                <a:lnTo>
                  <a:pt x="5372" y="291"/>
                </a:lnTo>
                <a:lnTo>
                  <a:pt x="5380" y="288"/>
                </a:lnTo>
                <a:lnTo>
                  <a:pt x="5387" y="283"/>
                </a:lnTo>
                <a:lnTo>
                  <a:pt x="5395" y="280"/>
                </a:lnTo>
                <a:lnTo>
                  <a:pt x="5403" y="275"/>
                </a:lnTo>
                <a:lnTo>
                  <a:pt x="5410" y="270"/>
                </a:lnTo>
                <a:lnTo>
                  <a:pt x="5416" y="265"/>
                </a:lnTo>
                <a:lnTo>
                  <a:pt x="5416" y="265"/>
                </a:lnTo>
                <a:lnTo>
                  <a:pt x="5414" y="259"/>
                </a:lnTo>
                <a:lnTo>
                  <a:pt x="5413" y="254"/>
                </a:lnTo>
                <a:lnTo>
                  <a:pt x="5411" y="249"/>
                </a:lnTo>
                <a:lnTo>
                  <a:pt x="5411" y="24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2400" y="411120"/>
            <a:ext cx="8893080" cy="6024600"/>
          </a:xfrm>
          <a:prstGeom prst="rect">
            <a:avLst/>
          </a:prstGeom>
          <a:noFill/>
          <a:ln w="0">
            <a:solidFill>
              <a:srgbClr val="9900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600" y="353880"/>
            <a:ext cx="9113760" cy="6139080"/>
          </a:xfrm>
          <a:custGeom>
            <a:avLst/>
            <a:gdLst/>
            <a:ahLst/>
            <a:rect l="l" t="t" r="r" b="b"/>
            <a:pathLst>
              <a:path w="5741" h="7735">
                <a:moveTo>
                  <a:pt x="142" y="0"/>
                </a:moveTo>
                <a:lnTo>
                  <a:pt x="5599" y="0"/>
                </a:lnTo>
                <a:lnTo>
                  <a:pt x="5741" y="149"/>
                </a:lnTo>
                <a:lnTo>
                  <a:pt x="5741" y="7584"/>
                </a:lnTo>
                <a:lnTo>
                  <a:pt x="5599" y="7735"/>
                </a:lnTo>
                <a:lnTo>
                  <a:pt x="142" y="7735"/>
                </a:lnTo>
                <a:lnTo>
                  <a:pt x="0" y="7584"/>
                </a:lnTo>
                <a:lnTo>
                  <a:pt x="0" y="149"/>
                </a:lnTo>
                <a:lnTo>
                  <a:pt x="142" y="0"/>
                </a:lnTo>
              </a:path>
            </a:pathLst>
          </a:custGeom>
          <a:noFill/>
          <a:ln w="0">
            <a:solidFill>
              <a:srgbClr val="9900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9360"/>
            <a:ext cx="9144000" cy="6858000"/>
          </a:xfrm>
          <a:prstGeom prst="rect">
            <a:avLst/>
          </a:prstGeom>
          <a:noFill/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281952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ff"/>
                </a:solidFill>
                <a:latin typeface="隶书"/>
                <a:ea typeface="隶书"/>
              </a:rPr>
              <a:t> </a:t>
            </a:r>
            <a:r>
              <a:rPr b="1" lang="zh-CN" sz="4000" spc="-1" strike="noStrike">
                <a:solidFill>
                  <a:srgbClr val="9933ff"/>
                </a:solidFill>
                <a:latin typeface="隶书"/>
                <a:ea typeface="隶书"/>
              </a:rPr>
              <a:t>崛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52480" y="1752480"/>
            <a:ext cx="1600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地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29000" y="17524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隶书"/>
                <a:ea typeface="隶书"/>
              </a:rPr>
              <a:t>据……固</a:t>
            </a:r>
            <a:r>
              <a:rPr b="1" lang="zh-CN" sz="3200" spc="-1" strike="noStrike">
                <a:solidFill>
                  <a:srgbClr val="9933ff"/>
                </a:solidFill>
                <a:latin typeface="隶书"/>
                <a:ea typeface="隶书"/>
              </a:rPr>
              <a:t>;</a:t>
            </a:r>
            <a:r>
              <a:rPr b="1" lang="zh-CN" sz="3200" spc="-1" strike="noStrike">
                <a:solidFill>
                  <a:srgbClr val="9933ff"/>
                </a:solidFill>
                <a:latin typeface="隶书"/>
                <a:ea typeface="隶书"/>
              </a:rPr>
              <a:t>拥……地</a:t>
            </a:r>
            <a:r>
              <a:rPr b="1" lang="zh-CN" sz="3200" spc="-1" strike="noStrike">
                <a:solidFill>
                  <a:srgbClr val="9933ff"/>
                </a:solidFill>
                <a:latin typeface="隶书"/>
                <a:ea typeface="隶书"/>
              </a:rPr>
              <a:t>;</a:t>
            </a:r>
            <a:r>
              <a:rPr b="1" lang="zh-CN" sz="3200" spc="-1" strike="noStrike">
                <a:solidFill>
                  <a:srgbClr val="9933ff"/>
                </a:solidFill>
                <a:latin typeface="隶书"/>
                <a:ea typeface="隶书"/>
              </a:rPr>
              <a:t>君臣固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29000" y="251460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隶书"/>
                <a:ea typeface="隶书"/>
              </a:rPr>
              <a:t>席卷；包举；囊括；并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52480" y="327672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政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327672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隶书"/>
                <a:ea typeface="隶书"/>
              </a:rPr>
              <a:t>内……；外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52480" y="411480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成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581280" y="41148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隶书"/>
                <a:ea typeface="隶书"/>
              </a:rPr>
              <a:t>拱手而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76520" y="2133720"/>
            <a:ext cx="75960" cy="2361960"/>
          </a:xfrm>
          <a:custGeom>
            <a:avLst/>
            <a:gdLst>
              <a:gd name="textAreaLeft" fmla="*/ 22320 w 75960"/>
              <a:gd name="textAreaRight" fmla="*/ 76320 w 75960"/>
              <a:gd name="textAreaTop" fmla="*/ 98280 h 2361960"/>
              <a:gd name="textAreaBottom" fmla="*/ 2263680 h 236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95480" y="441972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238880" y="4724280"/>
            <a:ext cx="1465560" cy="16765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752480" y="25146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雄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19520" y="2819520"/>
            <a:ext cx="304560" cy="152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19520" y="2057400"/>
            <a:ext cx="304560" cy="152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819520" y="3505320"/>
            <a:ext cx="304560" cy="152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6781680" y="5791320"/>
            <a:ext cx="228600" cy="152280"/>
          </a:xfrm>
          <a:custGeom>
            <a:avLst/>
            <a:gdLst>
              <a:gd name="textAreaLeft" fmla="*/ 9720 w 228600"/>
              <a:gd name="textAreaRight" fmla="*/ 218880 w 2286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4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4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0" y="6248520"/>
            <a:ext cx="9144000" cy="3823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7010280" y="304920"/>
            <a:ext cx="1676520" cy="1143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0" y="289548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隶书"/>
              </a:rPr>
              <a:t>发 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1828800"/>
            <a:ext cx="6629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秦：南取、西举、东割、北收—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宰割、分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800600" y="1219320"/>
            <a:ext cx="4800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57400" y="2590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86400" y="1752480"/>
            <a:ext cx="3657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0" y="2895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23880" y="4191120"/>
            <a:ext cx="7162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诸侯：才多、地广、师众、惨败—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请服，请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71600" y="2057400"/>
            <a:ext cx="76320" cy="2362320"/>
          </a:xfrm>
          <a:custGeom>
            <a:avLst/>
            <a:gdLst>
              <a:gd name="textAreaLeft" fmla="*/ 22320 w 76320"/>
              <a:gd name="textAreaRight" fmla="*/ 76320 w 76320"/>
              <a:gd name="textAreaTop" fmla="*/ 98280 h 2362320"/>
              <a:gd name="textAreaBottom" fmla="*/ 226404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934320" y="3124080"/>
            <a:ext cx="1143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反衬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74" name="">
            <a:hlinkClick r:id="rId4" action="ppaction://hlinksldjump"/>
          </p:cNvPr>
          <p:cNvSpPr/>
          <p:nvPr/>
        </p:nvSpPr>
        <p:spPr>
          <a:xfrm>
            <a:off x="8534520" y="6019920"/>
            <a:ext cx="75960" cy="75960"/>
          </a:xfrm>
          <a:custGeom>
            <a:avLst/>
            <a:gdLst>
              <a:gd name="textAreaLeft" fmla="*/ 4680 w 75960"/>
              <a:gd name="textAreaRight" fmla="*/ 71280 w 75960"/>
              <a:gd name="textAreaTop" fmla="*/ 4680 h 75960"/>
              <a:gd name="textAreaBottom" fmla="*/ 7128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5800" y="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彩云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1371600"/>
            <a:ext cx="784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" y="5943600"/>
            <a:ext cx="8153280" cy="9144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0" y="289548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极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523880" y="21337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隶书"/>
              </a:rPr>
              <a:t>前期：奋余烈，履至尊，取百越，却匈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52680" y="1295280"/>
            <a:ext cx="4648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4920" y="304920"/>
            <a:ext cx="830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8153280" cy="9144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447920" y="2514600"/>
            <a:ext cx="75960" cy="1676520"/>
          </a:xfrm>
          <a:custGeom>
            <a:avLst/>
            <a:gdLst>
              <a:gd name="textAreaLeft" fmla="*/ 22320 w 75960"/>
              <a:gd name="textAreaRight" fmla="*/ 76320 w 75960"/>
              <a:gd name="textAreaTop" fmla="*/ 69840 h 1676520"/>
              <a:gd name="textAreaBottom" fmla="*/ 160668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cc00cc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447920" y="30481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后期：焚百家，杀豪杰，弱人民，严控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23880" y="396252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隶书"/>
              </a:rPr>
              <a:t>设想：据高城；临深渊；守要害；传万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rId3" action="ppaction://hlinksldjump"/>
          </p:cNvPr>
          <p:cNvSpPr/>
          <p:nvPr/>
        </p:nvSpPr>
        <p:spPr>
          <a:xfrm>
            <a:off x="8458200" y="6248520"/>
            <a:ext cx="152280" cy="75960"/>
          </a:xfrm>
          <a:custGeom>
            <a:avLst/>
            <a:gdLst>
              <a:gd name="textAreaLeft" fmla="*/ 4680 w 152280"/>
              <a:gd name="textAreaRight" fmla="*/ 147600 w 152280"/>
              <a:gd name="textAreaTop" fmla="*/ 4680 h 75960"/>
              <a:gd name="textAreaBottom" fmla="*/ 71280 h 759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8305920" cy="6206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0" y="251460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隶书"/>
              </a:rPr>
              <a:t>灭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47920" y="45720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始皇：余威震于殊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95280" y="281952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Times New Roman"/>
                <a:ea typeface="黑体"/>
              </a:rPr>
              <a:t>陈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219320" y="762120"/>
            <a:ext cx="75960" cy="4190760"/>
          </a:xfrm>
          <a:custGeom>
            <a:avLst/>
            <a:gdLst>
              <a:gd name="textAreaLeft" fmla="*/ 22320 w 75960"/>
              <a:gd name="textAreaRight" fmla="*/ 76320 w 75960"/>
              <a:gd name="textAreaTop" fmla="*/ 174600 h 4190760"/>
              <a:gd name="textAreaBottom" fmla="*/ 4016160 h 4190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90920" y="1600200"/>
            <a:ext cx="3124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出身氓隶之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才能不及中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兵力数百疲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武器斩木为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71600" y="4724280"/>
            <a:ext cx="5105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结果：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天下响应，并起亡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590920" y="1905120"/>
            <a:ext cx="75960" cy="2209680"/>
          </a:xfrm>
          <a:custGeom>
            <a:avLst/>
            <a:gdLst>
              <a:gd name="textAreaLeft" fmla="*/ 22320 w 75960"/>
              <a:gd name="textAreaRight" fmla="*/ 76320 w 75960"/>
              <a:gd name="textAreaTop" fmla="*/ 91800 h 2209680"/>
              <a:gd name="textAreaBottom" fmla="*/ 21178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cc00cc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6248520" y="2895480"/>
            <a:ext cx="2666880" cy="24973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6705720" y="457200"/>
            <a:ext cx="1371600" cy="2438280"/>
          </a:xfrm>
          <a:prstGeom prst="cloudCallout">
            <a:avLst>
              <a:gd name="adj1" fmla="val -29166"/>
              <a:gd name="adj2" fmla="val 66277"/>
            </a:avLst>
          </a:prstGeom>
          <a:gradFill rotWithShape="0">
            <a:gsLst>
              <a:gs pos="0">
                <a:srgbClr val="000066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rId3" action="ppaction://hlinksldjump"/>
          </p:cNvPr>
          <p:cNvSpPr/>
          <p:nvPr/>
        </p:nvSpPr>
        <p:spPr>
          <a:xfrm>
            <a:off x="8610480" y="6477120"/>
            <a:ext cx="152640" cy="152280"/>
          </a:xfrm>
          <a:custGeom>
            <a:avLst/>
            <a:gdLst>
              <a:gd name="textAreaLeft" fmla="*/ 9720 w 152640"/>
              <a:gd name="textAreaRight" fmla="*/ 142920 w 15264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21651" h="21600">
                <a:moveTo>
                  <a:pt x="0" y="0"/>
                </a:moveTo>
                <a:lnTo>
                  <a:pt x="21651" y="0"/>
                </a:lnTo>
                <a:lnTo>
                  <a:pt x="21651" y="21600"/>
                </a:lnTo>
                <a:lnTo>
                  <a:pt x="0" y="21600"/>
                </a:lnTo>
                <a:close/>
              </a:path>
              <a:path fill="lightenLess" w="21651" h="21600">
                <a:moveTo>
                  <a:pt x="0" y="0"/>
                </a:moveTo>
                <a:lnTo>
                  <a:pt x="21651" y="0"/>
                </a:lnTo>
                <a:lnTo>
                  <a:pt x="20251" y="1400"/>
                </a:lnTo>
                <a:lnTo>
                  <a:pt x="1400" y="1400"/>
                </a:lnTo>
                <a:close/>
              </a:path>
              <a:path fill="darken" w="21651" h="21600">
                <a:moveTo>
                  <a:pt x="21651" y="0"/>
                </a:moveTo>
                <a:lnTo>
                  <a:pt x="21651" y="21600"/>
                </a:lnTo>
                <a:lnTo>
                  <a:pt x="20251" y="20200"/>
                </a:lnTo>
                <a:lnTo>
                  <a:pt x="20251" y="1400"/>
                </a:lnTo>
                <a:close/>
              </a:path>
              <a:path fill="darkenLess" w="21651" h="21600">
                <a:moveTo>
                  <a:pt x="216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1" y="20200"/>
                </a:lnTo>
                <a:close/>
              </a:path>
              <a:path fill="lighten" w="216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1" h="21600">
                <a:moveTo>
                  <a:pt x="3819" y="10800"/>
                </a:moveTo>
                <a:lnTo>
                  <a:pt x="17832" y="3794"/>
                </a:lnTo>
                <a:lnTo>
                  <a:pt x="17832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57200" y="5867280"/>
            <a:ext cx="8305920" cy="7621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0" y="259092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析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23880" y="6094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371600" y="20574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陈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23880" y="4648320"/>
            <a:ext cx="1752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95280" y="48006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隶书"/>
                <a:ea typeface="隶书"/>
              </a:rPr>
              <a:t>秦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581280" y="19810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477120" y="3505320"/>
            <a:ext cx="19047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功业相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467480" y="2971800"/>
            <a:ext cx="1447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71600" y="1066680"/>
            <a:ext cx="76320" cy="3962520"/>
          </a:xfrm>
          <a:custGeom>
            <a:avLst/>
            <a:gdLst>
              <a:gd name="textAreaLeft" fmla="*/ 22320 w 76320"/>
              <a:gd name="textAreaRight" fmla="*/ 76320 w 76320"/>
              <a:gd name="textAreaTop" fmla="*/ 164880 h 3962520"/>
              <a:gd name="textAreaBottom" fmla="*/ 3797640 h 3962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0" y="1752480"/>
            <a:ext cx="76320" cy="990720"/>
          </a:xfrm>
          <a:custGeom>
            <a:avLst/>
            <a:gdLst>
              <a:gd name="textAreaLeft" fmla="*/ 22320 w 76320"/>
              <a:gd name="textAreaRight" fmla="*/ 76320 w 76320"/>
              <a:gd name="textAreaTop" fmla="*/ 41040 h 990720"/>
              <a:gd name="textAreaBottom" fmla="*/ 94968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248520" y="1676520"/>
            <a:ext cx="304560" cy="152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00ff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172200" y="4495680"/>
            <a:ext cx="228600" cy="152640"/>
          </a:xfrm>
          <a:prstGeom prst="rightArrow">
            <a:avLst>
              <a:gd name="adj1" fmla="val 50000"/>
              <a:gd name="adj2" fmla="val 37441"/>
            </a:avLst>
          </a:prstGeom>
          <a:solidFill>
            <a:srgbClr val="9900ff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86000" y="304920"/>
            <a:ext cx="3809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隶书"/>
                <a:ea typeface="隶书"/>
              </a:rPr>
              <a:t>国力，天下非小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隶书"/>
                <a:ea typeface="隶书"/>
              </a:rPr>
              <a:t>地利，崤函自若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1600200"/>
            <a:ext cx="4114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隶书"/>
                <a:ea typeface="隶书"/>
              </a:rPr>
              <a:t>地位非尊，武器非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隶书"/>
                <a:ea typeface="隶书"/>
              </a:rPr>
              <a:t>兵力非抗，战术非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295280" y="34290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隶书"/>
                <a:ea typeface="隶书"/>
              </a:rPr>
              <a:t>秦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0" y="3124080"/>
            <a:ext cx="4800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隶书"/>
                <a:ea typeface="隶书"/>
              </a:rPr>
              <a:t>致万乘势，百又余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隶书"/>
                <a:ea typeface="隶书"/>
              </a:rPr>
              <a:t>六合为家，崤函为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4572000"/>
            <a:ext cx="5105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隶书"/>
                <a:ea typeface="隶书"/>
              </a:rPr>
              <a:t>一夫作难，而七庙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隶书"/>
                <a:ea typeface="隶书"/>
              </a:rPr>
              <a:t>身死人手，为天下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09680" y="457200"/>
            <a:ext cx="76320" cy="914400"/>
          </a:xfrm>
          <a:custGeom>
            <a:avLst/>
            <a:gdLst>
              <a:gd name="textAreaLeft" fmla="*/ 22320 w 76320"/>
              <a:gd name="textAreaRight" fmla="*/ 7632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09680" y="3276720"/>
            <a:ext cx="76320" cy="990360"/>
          </a:xfrm>
          <a:custGeom>
            <a:avLst/>
            <a:gdLst>
              <a:gd name="textAreaLeft" fmla="*/ 22320 w 76320"/>
              <a:gd name="textAreaRight" fmla="*/ 76320 w 76320"/>
              <a:gd name="textAreaTop" fmla="*/ 41040 h 990360"/>
              <a:gd name="textAreaBottom" fmla="*/ 94932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09680" y="4724280"/>
            <a:ext cx="76320" cy="990720"/>
          </a:xfrm>
          <a:custGeom>
            <a:avLst/>
            <a:gdLst>
              <a:gd name="textAreaLeft" fmla="*/ 22320 w 76320"/>
              <a:gd name="textAreaRight" fmla="*/ 76320 w 76320"/>
              <a:gd name="textAreaTop" fmla="*/ 41040 h 990720"/>
              <a:gd name="textAreaBottom" fmla="*/ 94968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72200" y="533520"/>
            <a:ext cx="76320" cy="2209680"/>
          </a:xfrm>
          <a:custGeom>
            <a:avLst/>
            <a:gdLst>
              <a:gd name="textAreaLeft" fmla="*/ 0 w 76320"/>
              <a:gd name="textAreaRight" fmla="*/ 53640 w 76320"/>
              <a:gd name="textAreaTop" fmla="*/ 91800 h 2209680"/>
              <a:gd name="textAreaBottom" fmla="*/ 21178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5880" y="3352680"/>
            <a:ext cx="76320" cy="2286000"/>
          </a:xfrm>
          <a:custGeom>
            <a:avLst/>
            <a:gdLst>
              <a:gd name="textAreaLeft" fmla="*/ 0 w 76320"/>
              <a:gd name="textAreaRight" fmla="*/ 53640 w 76320"/>
              <a:gd name="textAreaTop" fmla="*/ 95040 h 2286000"/>
              <a:gd name="textAreaBottom" fmla="*/ 21909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77120" y="144792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成败异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229600" y="1752480"/>
            <a:ext cx="76320" cy="2895840"/>
          </a:xfrm>
          <a:custGeom>
            <a:avLst/>
            <a:gdLst>
              <a:gd name="textAreaLeft" fmla="*/ 0 w 76320"/>
              <a:gd name="textAreaRight" fmla="*/ 53640 w 76320"/>
              <a:gd name="textAreaTop" fmla="*/ 120600 h 2895840"/>
              <a:gd name="textAreaBottom" fmla="*/ 277524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solidFill>
            <a:srgbClr val="9900ff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 rot="5400000">
            <a:off x="6172200" y="2819520"/>
            <a:ext cx="50292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12600">
                  <a:solidFill>
                    <a:srgbClr val="333399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仁义不施而攻守之势异也</a:t>
            </a:r>
            <a:endParaRPr b="0" i="1" lang="en-US" sz="2400" spc="1" strike="noStrike">
              <a:ln w="12600">
                <a:solidFill>
                  <a:srgbClr val="333399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24" name=""/>
          <p:cNvSpPr/>
          <p:nvPr/>
        </p:nvSpPr>
        <p:spPr>
          <a:xfrm>
            <a:off x="5943600" y="380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43600" y="45720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77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7" dur="770" fill="hold"/>
                                        <p:tgtEl>
                                          <p:spTgt spid="1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9" dur="77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1" dur="77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2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9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8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762120" y="1752480"/>
            <a:ext cx="7619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752480"/>
            <a:ext cx="609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Times New Roman"/>
                <a:ea typeface="隶书"/>
              </a:rPr>
              <a:t>    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0" y="6095880"/>
            <a:ext cx="9144000" cy="3826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6210360" y="0"/>
            <a:ext cx="2933640" cy="58672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14400" y="3808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幼圆"/>
              </a:rPr>
              <a:t>总结全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0880" y="14479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Times New Roman"/>
                <a:ea typeface="幼圆"/>
              </a:rPr>
              <a:t>秦创业——雄心勃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22860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幼圆"/>
              </a:rPr>
              <a:t>秦日盛——所向披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0880" y="31240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Times New Roman"/>
                <a:ea typeface="幼圆"/>
              </a:rPr>
              <a:t>秦统一——势如破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04920" y="38862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幼圆"/>
              </a:rPr>
              <a:t>秦灭亡——一败涂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733920" y="1828800"/>
            <a:ext cx="75960" cy="2362320"/>
          </a:xfrm>
          <a:custGeom>
            <a:avLst/>
            <a:gdLst>
              <a:gd name="textAreaLeft" fmla="*/ 0 w 75960"/>
              <a:gd name="textAreaRight" fmla="*/ 53280 w 75960"/>
              <a:gd name="textAreaTop" fmla="*/ 98280 h 2362320"/>
              <a:gd name="textAreaBottom" fmla="*/ 226404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solidFill>
            <a:srgbClr val="ff99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9880" y="2819520"/>
            <a:ext cx="381240" cy="228600"/>
          </a:xfrm>
          <a:prstGeom prst="rightArrow">
            <a:avLst>
              <a:gd name="adj1" fmla="val 50000"/>
              <a:gd name="adj2" fmla="val 41693"/>
            </a:avLst>
          </a:prstGeom>
          <a:solidFill>
            <a:srgbClr val="cc00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191120" y="2438280"/>
            <a:ext cx="25905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幼圆"/>
                <a:ea typeface="幼圆"/>
              </a:rPr>
              <a:t>秦教训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幼圆"/>
                <a:ea typeface="幼圆"/>
              </a:rPr>
              <a:t>     </a:t>
            </a:r>
            <a:r>
              <a:rPr b="1" lang="zh-CN" sz="2800" spc="-1" strike="noStrike">
                <a:solidFill>
                  <a:srgbClr val="cc0000"/>
                </a:solidFill>
                <a:latin typeface="幼圆"/>
                <a:ea typeface="幼圆"/>
              </a:rPr>
              <a:t>不施仁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371600" y="48006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Times New Roman"/>
                <a:ea typeface="隶书"/>
              </a:rPr>
              <a:t>（叙事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95680" y="48006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隶书"/>
              </a:rPr>
              <a:t>（议论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523880" y="2590920"/>
            <a:ext cx="1143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论据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029200" y="3733920"/>
            <a:ext cx="914400" cy="52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论点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657600" y="4114800"/>
            <a:ext cx="502920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仁义不施而攻守之势异也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5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363320" cy="688824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2133720" y="1371600"/>
            <a:ext cx="6095880" cy="244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再见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838080" y="5867280"/>
            <a:ext cx="7696440" cy="322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210360" y="533520"/>
            <a:ext cx="2933640" cy="56386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85800" y="15238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7c80"/>
                </a:solidFill>
                <a:latin typeface="Times New Roman"/>
              </a:rPr>
              <a:t>西汉杰出的政论家、文学家，学识渊博，年青时就负有才名，年仅二十岁，就被召为博士，后因提议改革政治，遭权贵嫉妒、毁谤</a:t>
            </a:r>
            <a:r>
              <a:rPr b="1" lang="zh-CN" sz="2800" spc="-1" strike="noStrike">
                <a:solidFill>
                  <a:srgbClr val="ff7c8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7c80"/>
                </a:solidFill>
                <a:latin typeface="Times New Roman"/>
              </a:rPr>
              <a:t>后贬为长沙王太傅。</a:t>
            </a:r>
            <a:r>
              <a:rPr b="1" lang="zh-CN" sz="2800" spc="-1" strike="noStrike">
                <a:solidFill>
                  <a:srgbClr val="ff7c80"/>
                </a:solidFill>
                <a:latin typeface="Times New Roman"/>
              </a:rPr>
              <a:t>33</a:t>
            </a:r>
            <a:r>
              <a:rPr b="1" lang="zh-CN" sz="2800" spc="-1" strike="noStrike">
                <a:solidFill>
                  <a:srgbClr val="ff7c80"/>
                </a:solidFill>
                <a:latin typeface="Times New Roman"/>
              </a:rPr>
              <a:t>岁抑郁而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6765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7c8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所著政论文有《过秦论》《陈政事疏》《论积贮疏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32767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7c8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7c80"/>
                </a:solidFill>
                <a:latin typeface="Times New Roman"/>
              </a:rPr>
              <a:t>其文议论风发，挥洒自如，气势磅礴，雄辩有力，感染力极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38088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隶书"/>
              </a:rPr>
              <a:t>贾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71600" y="25146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少年倜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438280"/>
            <a:ext cx="5867640" cy="22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Times New Roman"/>
              </a:rPr>
              <a:t>贾生才调世无伦，哭泣情怀吊屈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Times New Roman"/>
              </a:rPr>
              <a:t>梁王堕马寻常事，何用哀伤付一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00"/>
                </a:solidFill>
                <a:latin typeface="Times New Roman"/>
              </a:rPr>
              <a:t>　　　　　　　      ——毛泽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4038480"/>
            <a:ext cx="5791320" cy="17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　　　　</a:t>
            </a:r>
            <a:r>
              <a:rPr b="0" lang="zh-CN" sz="2800" spc="-1" strike="noStrike">
                <a:solidFill>
                  <a:srgbClr val="ffff99"/>
                </a:solidFill>
                <a:latin typeface="Times New Roman"/>
                <a:ea typeface="黑体"/>
              </a:rPr>
              <a:t>　贾生　</a:t>
            </a:r>
            <a:r>
              <a:rPr b="0" lang="zh-CN" sz="2400" spc="-1" strike="noStrike">
                <a:solidFill>
                  <a:srgbClr val="ffff99"/>
                </a:solidFill>
                <a:latin typeface="Times New Roman"/>
                <a:ea typeface="黑体"/>
              </a:rPr>
              <a:t>　　　李商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99"/>
                </a:solidFill>
                <a:latin typeface="Times New Roman"/>
                <a:ea typeface="黑体"/>
              </a:rPr>
              <a:t>宣室求贤访逐臣，     贾生才调更无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99"/>
                </a:solidFill>
                <a:latin typeface="Times New Roman"/>
                <a:ea typeface="黑体"/>
              </a:rPr>
              <a:t>可怜夜半虚前席，　不问苍生问鬼神</a:t>
            </a:r>
            <a:r>
              <a:rPr b="0" lang="zh-CN" sz="2800" spc="-1" strike="noStrike">
                <a:solidFill>
                  <a:srgbClr val="ffff99"/>
                </a:solidFill>
                <a:latin typeface="Times New Roman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5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0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7c8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6" name=""/>
          <p:cNvGrpSpPr/>
          <p:nvPr/>
        </p:nvGrpSpPr>
        <p:grpSpPr>
          <a:xfrm>
            <a:off x="4754520" y="2857680"/>
            <a:ext cx="7064280" cy="360"/>
            <a:chOff x="4754520" y="2857680"/>
            <a:chExt cx="7064280" cy="360"/>
          </a:xfrm>
        </p:grpSpPr>
        <p:sp>
          <p:nvSpPr>
            <p:cNvPr id="67" name=""/>
            <p:cNvSpPr/>
            <p:nvPr/>
          </p:nvSpPr>
          <p:spPr>
            <a:xfrm>
              <a:off x="4754520" y="2857680"/>
              <a:ext cx="7064280" cy="360"/>
            </a:xfrm>
            <a:prstGeom prst="rect">
              <a:avLst/>
            </a:prstGeom>
            <a:solidFill>
              <a:srgbClr val="df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754520" y="2857680"/>
              <a:ext cx="7064280" cy="360"/>
            </a:xfrm>
            <a:prstGeom prst="rect">
              <a:avLst/>
            </a:prstGeom>
            <a:solidFill>
              <a:srgbClr val="df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3973680" y="555768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Times New Roman"/>
                <a:ea typeface="隶书"/>
              </a:rPr>
              <a:t>贾谊祠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3" presetSubtype="52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5715000" cy="50292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71800" y="0"/>
            <a:ext cx="3962520" cy="16304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4" name=""/>
          <p:cNvGrpSpPr/>
          <p:nvPr/>
        </p:nvGrpSpPr>
        <p:grpSpPr>
          <a:xfrm>
            <a:off x="4754520" y="2846520"/>
            <a:ext cx="7064280" cy="360"/>
            <a:chOff x="4754520" y="2846520"/>
            <a:chExt cx="7064280" cy="360"/>
          </a:xfrm>
        </p:grpSpPr>
        <p:sp>
          <p:nvSpPr>
            <p:cNvPr id="75" name=""/>
            <p:cNvSpPr/>
            <p:nvPr/>
          </p:nvSpPr>
          <p:spPr>
            <a:xfrm>
              <a:off x="4754520" y="2846520"/>
              <a:ext cx="7064280" cy="360"/>
            </a:xfrm>
            <a:prstGeom prst="rect">
              <a:avLst/>
            </a:prstGeom>
            <a:solidFill>
              <a:srgbClr val="df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54520" y="2846520"/>
              <a:ext cx="7064280" cy="360"/>
            </a:xfrm>
            <a:prstGeom prst="rect">
              <a:avLst/>
            </a:prstGeom>
            <a:solidFill>
              <a:srgbClr val="df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541440" y="712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ff33"/>
                </a:solidFill>
                <a:latin typeface="Times New Roman"/>
                <a:ea typeface="隶书"/>
              </a:rPr>
              <a:t>碑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7" dur="1" fill="hold"/>
                                  <p:tgtEl>
                                    <p:spTgt spid="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9" name=""/>
          <p:cNvGrpSpPr/>
          <p:nvPr/>
        </p:nvGrpSpPr>
        <p:grpSpPr>
          <a:xfrm>
            <a:off x="4754520" y="2828880"/>
            <a:ext cx="7064280" cy="360"/>
            <a:chOff x="4754520" y="2828880"/>
            <a:chExt cx="7064280" cy="360"/>
          </a:xfrm>
        </p:grpSpPr>
        <p:sp>
          <p:nvSpPr>
            <p:cNvPr id="80" name=""/>
            <p:cNvSpPr/>
            <p:nvPr/>
          </p:nvSpPr>
          <p:spPr>
            <a:xfrm>
              <a:off x="4754520" y="2828880"/>
              <a:ext cx="7064280" cy="360"/>
            </a:xfrm>
            <a:prstGeom prst="rect">
              <a:avLst/>
            </a:prstGeom>
            <a:solidFill>
              <a:srgbClr val="df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54520" y="2828880"/>
              <a:ext cx="7064280" cy="360"/>
            </a:xfrm>
            <a:prstGeom prst="rect">
              <a:avLst/>
            </a:prstGeom>
            <a:solidFill>
              <a:srgbClr val="df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2830680" y="563400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Times New Roman"/>
                <a:ea typeface="隶书"/>
              </a:rPr>
              <a:t>贾谊井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07732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163000" y="304920"/>
            <a:ext cx="5493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134840" y="0"/>
            <a:ext cx="2009160" cy="6959520"/>
          </a:xfrm>
          <a:prstGeom prst="rect">
            <a:avLst/>
          </a:prstGeom>
          <a:solidFill>
            <a:srgbClr val="cccc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Times New Roman"/>
                <a:ea typeface="黑体"/>
              </a:rPr>
              <a:t>战国时期的战争场面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108" dur="indefinite" restart="never" nodeType="tmRoot">
          <p:childTnLst>
            <p:seq>
              <p:cTn id="109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3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059120" y="79200"/>
            <a:ext cx="373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  <a:ea typeface="黑体"/>
              </a:rPr>
              <a:t>学习目标</a:t>
            </a:r>
            <a:r>
              <a:rPr b="0" lang="zh-CN" sz="9600" spc="-1" strike="noStrike">
                <a:solidFill>
                  <a:srgbClr val="000000"/>
                </a:solidFill>
                <a:latin typeface="Times New Roman"/>
                <a:ea typeface="黑体"/>
              </a:rPr>
              <a:t>: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51280" y="1447920"/>
            <a:ext cx="482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、反复诵读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扫清文字障碍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逐步深入理解文章的内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4880" y="4038480"/>
            <a:ext cx="2209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、积累文中出现的文言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现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1T06:42:41Z</dcterms:created>
  <dc:creator/>
  <dc:description/>
  <dc:language>en-US</dc:language>
  <cp:lastModifiedBy>T5810D</cp:lastModifiedBy>
  <dcterms:modified xsi:type="dcterms:W3CDTF">2005-06-24T12:11:40Z</dcterms:modified>
  <cp:revision>86</cp:revision>
  <dc:subject/>
  <dc:title/>
</cp:coreProperties>
</file>