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drumroll.wav" ContentType="audio/x-wav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wmf" ContentType="image/x-wmf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BC99-14AE-48D9-9073-30F4A89D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9D1-7CE0-40F4-8401-6544302F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9AB9-EDBA-458A-91EE-E834028A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F652-335E-489F-9DE1-F1724EAB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3D9F-FA47-4401-AC7A-E4B6B2A1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8ED4-C62F-4AE2-99F8-24929F83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921-96C9-4B32-8302-E62CC5EC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9F8-856F-4CA1-B5F3-609948F4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1DC-C1FA-4143-A66D-06ED4F7E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6B5-2F74-465E-90EA-E1829F67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679F-4996-40BB-A609-000C9CD3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6CDB-6CB7-434F-BCDF-30F82CAD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3946-1D1C-4313-982D-078B94D48C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" Target="slide7.xml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" Target="slide7.xm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1752480"/>
            <a:ext cx="48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00"/>
                </a:solidFill>
                <a:latin typeface="Times New Roman"/>
                <a:ea typeface="隶书"/>
              </a:rPr>
              <a:t>过秦论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39625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隶书"/>
              </a:rPr>
              <a:t>贾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371600"/>
            <a:ext cx="78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5943600"/>
            <a:ext cx="8153280" cy="914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28954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极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152388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隶书"/>
              </a:rPr>
              <a:t>政治、军事、文化、刑法、地理防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129528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3049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153280" cy="914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1218600" y="2057400"/>
            <a:ext cx="75960" cy="2895480"/>
          </a:xfrm>
          <a:custGeom>
            <a:avLst/>
            <a:gdLst>
              <a:gd name="textAreaLeft" fmla="*/ 21960 w 75960"/>
              <a:gd name="textAreaRight" fmla="*/ 75960 w 75960"/>
              <a:gd name="textAreaTop" fmla="*/ 120600 h 2895480"/>
              <a:gd name="textAreaBottom" fmla="*/ 277488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44956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隶书"/>
              </a:rPr>
              <a:t>设想：据高城；临深渊；守要害；传万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3" action="ppaction://hlinksldjump"/>
          </p:cNvPr>
          <p:cNvSpPr/>
          <p:nvPr/>
        </p:nvSpPr>
        <p:spPr>
          <a:xfrm>
            <a:off x="8458200" y="6248520"/>
            <a:ext cx="152280" cy="75960"/>
          </a:xfrm>
          <a:custGeom>
            <a:avLst/>
            <a:gdLst>
              <a:gd name="textAreaLeft" fmla="*/ 4680 w 152280"/>
              <a:gd name="textAreaRight" fmla="*/ 147600 w 15228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943600" y="2819520"/>
            <a:ext cx="1676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8305920" cy="620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0" y="2514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灭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4572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始皇：余威震于殊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95280" y="28195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黑体"/>
              </a:rPr>
              <a:t>陈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762120"/>
            <a:ext cx="75960" cy="4190760"/>
          </a:xfrm>
          <a:custGeom>
            <a:avLst/>
            <a:gdLst>
              <a:gd name="textAreaLeft" fmla="*/ 22320 w 75960"/>
              <a:gd name="textAreaRight" fmla="*/ 76320 w 75960"/>
              <a:gd name="textAreaTop" fmla="*/ 174600 h 4190760"/>
              <a:gd name="textAreaBottom" fmla="*/ 401616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1600200"/>
            <a:ext cx="35049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出身地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个人才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起义军成分及武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起义的影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4724280"/>
            <a:ext cx="5105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结果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天下响应，并起亡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1905120"/>
            <a:ext cx="75960" cy="2209680"/>
          </a:xfrm>
          <a:custGeom>
            <a:avLst/>
            <a:gdLst>
              <a:gd name="textAreaLeft" fmla="*/ 22320 w 75960"/>
              <a:gd name="textAreaRight" fmla="*/ 76320 w 7596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8610480" y="647712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3819" y="10800"/>
                </a:moveTo>
                <a:lnTo>
                  <a:pt x="17832" y="3794"/>
                </a:lnTo>
                <a:lnTo>
                  <a:pt x="17832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57200" y="5867280"/>
            <a:ext cx="8305920" cy="762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25909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析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609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2057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陈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648320"/>
            <a:ext cx="1752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4800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后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19810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3505320"/>
            <a:ext cx="1904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功业相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2971800"/>
            <a:ext cx="144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1066680"/>
            <a:ext cx="75960" cy="3962520"/>
          </a:xfrm>
          <a:custGeom>
            <a:avLst/>
            <a:gdLst>
              <a:gd name="textAreaLeft" fmla="*/ 22320 w 75960"/>
              <a:gd name="textAreaRight" fmla="*/ 76320 w 75960"/>
              <a:gd name="textAreaTop" fmla="*/ 164880 h 3962520"/>
              <a:gd name="textAreaBottom" fmla="*/ 379764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752480"/>
            <a:ext cx="76320" cy="99072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16765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72200" y="44956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762120"/>
            <a:ext cx="3810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国力，天下非小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1600200"/>
            <a:ext cx="4114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地位非尊，武器非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兵力非抗，战术非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429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前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266688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六合为家，崤函为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4114800"/>
            <a:ext cx="5105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身死人手，为天下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4572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276720"/>
            <a:ext cx="76320" cy="99036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724280"/>
            <a:ext cx="76320" cy="99072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533520"/>
            <a:ext cx="76320" cy="2209680"/>
          </a:xfrm>
          <a:custGeom>
            <a:avLst/>
            <a:gdLst>
              <a:gd name="textAreaLeft" fmla="*/ 0 w 76320"/>
              <a:gd name="textAreaRight" fmla="*/ 53640 w 7632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3352680"/>
            <a:ext cx="76320" cy="2286000"/>
          </a:xfrm>
          <a:custGeom>
            <a:avLst/>
            <a:gdLst>
              <a:gd name="textAreaLeft" fmla="*/ 0 w 76320"/>
              <a:gd name="textAreaRight" fmla="*/ 53640 w 76320"/>
              <a:gd name="textAreaTop" fmla="*/ 95040 h 2286000"/>
              <a:gd name="textAreaBottom" fmla="*/ 21909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14479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成败异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29600" y="1752480"/>
            <a:ext cx="76320" cy="2895840"/>
          </a:xfrm>
          <a:custGeom>
            <a:avLst/>
            <a:gdLst>
              <a:gd name="textAreaLeft" fmla="*/ 0 w 76320"/>
              <a:gd name="textAreaRight" fmla="*/ 53640 w 76320"/>
              <a:gd name="textAreaTop" fmla="*/ 120600 h 2895840"/>
              <a:gd name="textAreaBottom" fmla="*/ 277524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 rot="5400000">
            <a:off x="6172200" y="281952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仁义不施而攻守之势异也</a:t>
            </a:r>
            <a:endParaRPr b="0" i="1" lang="en-US" sz="2400" spc="1" strike="noStrike">
              <a:ln w="12600">
                <a:solidFill>
                  <a:srgbClr val="333399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66680" y="762120"/>
            <a:ext cx="7467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53352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隶书"/>
                <a:ea typeface="隶书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382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471320" cy="963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057400" y="60948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ahoma"/>
                <a:ea typeface="华文行楷"/>
              </a:rPr>
              <a:t>设疑讨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1905120"/>
            <a:ext cx="7010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ahoma"/>
                <a:ea typeface="隶书"/>
              </a:rPr>
              <a:t>秦的过失主要是“仁义不施”，请从课文中找出秦“仁义不施”的语句并加以解释，说说秦的过失告诉我们什么道理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62120" y="175248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75248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隶书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3826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210360" y="0"/>
            <a:ext cx="2933640" cy="5867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3808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幼圆"/>
              </a:rPr>
              <a:t>总结全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44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幼圆"/>
              </a:rPr>
              <a:t>秦创业——雄心勃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2286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幼圆"/>
              </a:rPr>
              <a:t>秦日盛——所向披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3124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幼圆"/>
              </a:rPr>
              <a:t>秦统一——势如破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38862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幼圆"/>
              </a:rPr>
              <a:t>秦灭亡——一败涂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3920" y="1828800"/>
            <a:ext cx="75960" cy="2362320"/>
          </a:xfrm>
          <a:custGeom>
            <a:avLst/>
            <a:gdLst>
              <a:gd name="textAreaLeft" fmla="*/ 0 w 75960"/>
              <a:gd name="textAreaRight" fmla="*/ 53280 w 75960"/>
              <a:gd name="textAreaTop" fmla="*/ 98280 h 2362320"/>
              <a:gd name="textAreaBottom" fmla="*/ 2264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281952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cc00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2438280"/>
            <a:ext cx="2590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幼圆"/>
                <a:ea typeface="幼圆"/>
              </a:rPr>
              <a:t>秦教训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幼圆"/>
                <a:ea typeface="幼圆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幼圆"/>
                <a:ea typeface="幼圆"/>
              </a:rPr>
              <a:t>不施仁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48006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隶书"/>
              </a:rPr>
              <a:t>（叙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4800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隶书"/>
              </a:rPr>
              <a:t>（议论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523880" y="2590920"/>
            <a:ext cx="1143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论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29200" y="3733920"/>
            <a:ext cx="91440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论点</a:t>
            </a:r>
            <a:endParaRPr b="1" i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657600" y="4114800"/>
            <a:ext cx="50292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仁义不施而攻守之势异也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7" name=""/>
          <p:cNvSpPr/>
          <p:nvPr/>
        </p:nvSpPr>
        <p:spPr>
          <a:xfrm>
            <a:off x="3352680" y="55627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533412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举例、对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295280" y="2438280"/>
            <a:ext cx="924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《过秦论》知识点总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一词多义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609480"/>
            <a:ext cx="3200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追亡逐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北 北收要害之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将军战河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838080"/>
            <a:ext cx="76320" cy="1295640"/>
          </a:xfrm>
          <a:custGeom>
            <a:avLst/>
            <a:gdLst>
              <a:gd name="textAreaLeft" fmla="*/ 22320 w 76320"/>
              <a:gd name="textAreaRight" fmla="*/ 76320 w 76320"/>
              <a:gd name="textAreaTop" fmla="*/ 54000 h 1295640"/>
              <a:gd name="textAreaBottom" fmla="*/ 12420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609480"/>
            <a:ext cx="556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名词         败逃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名词作状语   向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名词           北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2590920"/>
            <a:ext cx="4114800" cy="23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因力乘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因 因遗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虎因喜，计之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2666880"/>
            <a:ext cx="76320" cy="1371600"/>
          </a:xfrm>
          <a:custGeom>
            <a:avLst/>
            <a:gdLst>
              <a:gd name="textAreaLeft" fmla="*/ 22320 w 76320"/>
              <a:gd name="textAreaRight" fmla="*/ 7632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2514600"/>
            <a:ext cx="297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介词       趁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 沿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介词       因此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4648320"/>
            <a:ext cx="4648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以致天下之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致 致万乘之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而致千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5029200"/>
            <a:ext cx="75960" cy="1143000"/>
          </a:xfrm>
          <a:custGeom>
            <a:avLst/>
            <a:gdLst>
              <a:gd name="textAreaLeft" fmla="*/ 22320 w 75960"/>
              <a:gd name="textAreaRight" fmla="*/ 76320 w 7596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4648320"/>
            <a:ext cx="3581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 招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 达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  到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80880" y="304920"/>
            <a:ext cx="3962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延及孝文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延 秦人开关延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余人各复延至其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609480"/>
            <a:ext cx="76320" cy="1295640"/>
          </a:xfrm>
          <a:custGeom>
            <a:avLst/>
            <a:gdLst>
              <a:gd name="textAreaLeft" fmla="*/ 22320 w 76320"/>
              <a:gd name="textAreaRight" fmla="*/ 76320 w 76320"/>
              <a:gd name="textAreaTop" fmla="*/ 54000 h 1295640"/>
              <a:gd name="textAreaBottom" fmla="*/ 12420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91120" y="304920"/>
            <a:ext cx="3886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延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引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邀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2514600"/>
            <a:ext cx="3505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因遗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振长策而御宇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27432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27432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91120" y="2514600"/>
            <a:ext cx="3657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名词        策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名词        鞭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4038480"/>
            <a:ext cx="3048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会盟而谋弱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弱 弱国入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不若孀妻弱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4267080"/>
            <a:ext cx="76320" cy="1295640"/>
          </a:xfrm>
          <a:custGeom>
            <a:avLst/>
            <a:gdLst>
              <a:gd name="textAreaLeft" fmla="*/ 22320 w 76320"/>
              <a:gd name="textAreaRight" fmla="*/ 76320 w 76320"/>
              <a:gd name="textAreaTop" fmla="*/ 54000 h 1295640"/>
              <a:gd name="textAreaBottom" fmla="*/ 12420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6200" y="4038480"/>
            <a:ext cx="4876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形容词的使动用法  削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形容词            弱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形容词            年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28600" y="228600"/>
            <a:ext cx="838188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古今异义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 于是秦人拱手而取西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河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之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古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黄河以西一带          今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河的西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赢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粮而景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古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担负                          今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输赢的“赢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山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豪俊并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古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崤山以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即东方     今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指山东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 流血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古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盾牌                今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使船前进的工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0880" y="457200"/>
            <a:ext cx="7010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-74520"/>
            <a:ext cx="495288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词类活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卷天下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包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举宇内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囊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括四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赢粮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景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云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集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内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立法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外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连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取百越之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诸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序八洲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同列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会盟而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弱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以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黔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566640"/>
            <a:ext cx="38098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名作状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名作状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名作状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方位词作状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方位词作状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方位词作状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动词作使动用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动词作使动用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形容词使动用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形容词使动用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762120"/>
            <a:ext cx="7467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53352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隶书"/>
                <a:ea typeface="隶书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382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471320" cy="963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43000" y="3429000"/>
            <a:ext cx="7772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过秦：指出秦的过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论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:       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表明文体是一篇议论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1219320"/>
            <a:ext cx="48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00"/>
                </a:solidFill>
                <a:latin typeface="Times New Roman"/>
                <a:ea typeface="隶书"/>
              </a:rPr>
              <a:t>过秦论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04920" y="457200"/>
            <a:ext cx="8839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.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难句译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)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外连衡而</a:t>
            </a: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斗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诸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斗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使动用法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使……争斗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文言中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不及物动词的后边有宾语时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这种不及物动词大都是使动词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.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这里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在“斗”的后边带有宾语“诸侯”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译文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对外采取连衡的策略来使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其他六国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诸侯相互争斗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)</a:t>
            </a: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于是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秦人拱手而取西河</a:t>
            </a: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之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外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于是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连词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相当于“因而”  “之”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助词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的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译文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这样一来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秦国就毫不费力地取得了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魏国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黄河以西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的大片土地</a:t>
            </a:r>
            <a:r>
              <a:rPr b="0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228600"/>
            <a:ext cx="73152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3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会盟而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弱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会盟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聚在一起订立盟约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盟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动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订立盟约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文言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当用“而”把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或动词短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和名词连接起来时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种名词就用作动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弱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使动用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使……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他们便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聚在一起订立盟约来谋划削弱秦国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的势力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4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追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亡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逐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亡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逃亡的败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败逃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里指溃败的军队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句用了互文的修辞手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追”和“逐”为互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亡”和“北”为互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追逐逃亡的败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28600" y="228600"/>
            <a:ext cx="86104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5)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信臣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精卒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陈利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而谁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信臣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可靠的大臣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陈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陈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布置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利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锐利的兵器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而谁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即“其谁奈之何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也就是“那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阵势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有谁敢惹他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用忠臣的臣子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带领精锐的士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陈列着锐利的武器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缉查盘问往来的人们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6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斩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揭竿为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天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云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集响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赢粮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景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从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当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云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作“集”的状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应译为“像云一样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景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像影子一样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他们砍伐树木作为武器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举起竹竿作为旗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天下人像浮云一样聚集起来响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他们的号召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,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大家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担着粮食像影子随形那样跟着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他们起来造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62120" y="685800"/>
            <a:ext cx="7086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7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锄耰棘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非銛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于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钩戟长铩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于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介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在形容词之后引出比较对象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相当于“比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锄头 枪把并不比钩戟长矛更锋利呀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3352680"/>
            <a:ext cx="7315200" cy="33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通假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从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衡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横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景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影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甿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氓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崛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棘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戟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有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又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没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殁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066680" y="762120"/>
            <a:ext cx="7467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53352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隶书"/>
                <a:ea typeface="隶书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382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1752480" cy="11480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476360" y="2060640"/>
            <a:ext cx="6483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</a:t>
            </a: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请及时背诵 课文最后三段 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762120"/>
            <a:ext cx="7467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53352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隶书"/>
                <a:ea typeface="隶书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382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471320" cy="963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57800" y="838080"/>
            <a:ext cx="3403440" cy="5105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914400"/>
            <a:ext cx="46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隶书"/>
              </a:rPr>
              <a:t>　　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隶书"/>
              </a:rPr>
              <a:t>秦始皇统一天下之后，为了帝王享受而横征暴敛；为了修城造宫而滥征民力；为了钳制思想而焚书坑儒；为了防止人民反抗而实行严酷的刑罚，终于导致农民大起义，秦朝迅速灭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38080" y="5867280"/>
            <a:ext cx="7696440" cy="322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210360" y="533520"/>
            <a:ext cx="2933640" cy="5638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90720" y="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西汉政论家、文学家，学识渊博，年仅二十岁，就被召为博士，后因提议改革政治，遭权贵嫉妒、毁谤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后贬为长沙王太傅。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33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岁抑郁而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隶书"/>
              </a:rPr>
              <a:t>贾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432756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7c8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其文议论风发，挥洒自如，气势磅礴，雄辩有力，感染力极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66680" y="762120"/>
            <a:ext cx="7467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3352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隶书"/>
                <a:ea typeface="隶书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382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471320" cy="963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62120" y="83808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　　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隶书"/>
              </a:rPr>
              <a:t>西汉初期，经历了春秋战乱到楚汉战争，社会经济遭到了极大的破坏，土地荒芜，人民流亡，人口减少，经济凋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352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隶书"/>
              </a:rPr>
              <a:t>　　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隶书"/>
              </a:rPr>
              <a:t>贾谊的《过秦论》正是针对这种现实而写。他希望汉统治者能吸取秦灭亡的教训，推行“仁政”以求经济发展，社会安定。即所谓“前事不忘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隶书"/>
              </a:rPr>
              <a:t>后事之师”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762120"/>
            <a:ext cx="7467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53352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隶书"/>
                <a:ea typeface="隶书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382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471320" cy="963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09480" y="60948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  <a:ea typeface="隶书"/>
              </a:rPr>
              <a:t>教学重点、难点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隶书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167652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、重点：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明确作者总结秦王朝覆灭的历史教训，借古讽今，劝汉文帝对人民实行宽松的政策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38862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、难点：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从史实中提炼观点：“仁义不施而攻守之势异也”，揭露秦始皇的暴虐无道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380880" y="3048120"/>
            <a:ext cx="3124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隶书"/>
              </a:rPr>
              <a:t>《过秦论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隶书"/>
              </a:rPr>
              <a:t>内容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1981080"/>
            <a:ext cx="3124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一、兴亡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1-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44197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二、分析原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1066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兴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35812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隶书"/>
              </a:rPr>
              <a:t>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380880"/>
            <a:ext cx="2057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崛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发展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极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2438280"/>
            <a:ext cx="76320" cy="2210040"/>
          </a:xfrm>
          <a:custGeom>
            <a:avLst/>
            <a:gdLst>
              <a:gd name="textAreaLeft" fmla="*/ 22320 w 76320"/>
              <a:gd name="textAreaRight" fmla="*/ 76320 w 76320"/>
              <a:gd name="textAreaTop" fmla="*/ 91800 h 2210040"/>
              <a:gd name="textAreaBottom" fmla="*/ 21182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1447920"/>
            <a:ext cx="76320" cy="1981080"/>
          </a:xfrm>
          <a:custGeom>
            <a:avLst/>
            <a:gdLst>
              <a:gd name="textAreaLeft" fmla="*/ 22320 w 76320"/>
              <a:gd name="textAreaRight" fmla="*/ 76320 w 76320"/>
              <a:gd name="textAreaTop" fmla="*/ 82440 h 1981080"/>
              <a:gd name="textAreaBottom" fmla="*/ 189864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685800"/>
            <a:ext cx="76320" cy="1447920"/>
          </a:xfrm>
          <a:custGeom>
            <a:avLst/>
            <a:gdLst>
              <a:gd name="textAreaLeft" fmla="*/ 22320 w 76320"/>
              <a:gd name="textAreaRight" fmla="*/ 76320 w 76320"/>
              <a:gd name="textAreaTop" fmla="*/ 60120 h 1447920"/>
              <a:gd name="textAreaBottom" fmla="*/ 138780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35812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隶书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2286000"/>
            <a:ext cx="152640" cy="1066680"/>
          </a:xfrm>
          <a:prstGeom prst="downArrow">
            <a:avLst>
              <a:gd name="adj1" fmla="val 50000"/>
              <a:gd name="adj2" fmla="val 174705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8381880" y="838080"/>
            <a:ext cx="152640" cy="15264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8381880" y="160020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3819" y="3794"/>
                </a:moveTo>
                <a:lnTo>
                  <a:pt x="17832" y="10800"/>
                </a:lnTo>
                <a:lnTo>
                  <a:pt x="381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8381880" y="228600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3819" y="3794"/>
                </a:moveTo>
                <a:lnTo>
                  <a:pt x="17832" y="10800"/>
                </a:lnTo>
                <a:lnTo>
                  <a:pt x="381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7162920" y="388620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4" action="ppaction://hlinksldjump"/>
          </p:cNvPr>
          <p:cNvSpPr/>
          <p:nvPr/>
        </p:nvSpPr>
        <p:spPr>
          <a:xfrm>
            <a:off x="6400800" y="502920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304920" y="228600"/>
            <a:ext cx="213336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990720"/>
            <a:ext cx="83055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隶书"/>
                <a:ea typeface="隶书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  <a:close/>
              </a:path>
            </a:pathLst>
          </a:cu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1" y="136"/>
                </a:ln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55632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244"/>
                </a:moveTo>
                <a:lnTo>
                  <a:pt x="5410" y="220"/>
                </a:lnTo>
                <a:lnTo>
                  <a:pt x="5411" y="199"/>
                </a:lnTo>
                <a:lnTo>
                  <a:pt x="5416" y="179"/>
                </a:lnTo>
                <a:lnTo>
                  <a:pt x="5425" y="162"/>
                </a:lnTo>
                <a:lnTo>
                  <a:pt x="5438" y="149"/>
                </a:lnTo>
                <a:lnTo>
                  <a:pt x="5454" y="137"/>
                </a:lnTo>
                <a:lnTo>
                  <a:pt x="5473" y="129"/>
                </a:lnTo>
                <a:lnTo>
                  <a:pt x="5495" y="124"/>
                </a:lnTo>
                <a:lnTo>
                  <a:pt x="5515" y="126"/>
                </a:lnTo>
                <a:lnTo>
                  <a:pt x="5533" y="134"/>
                </a:lnTo>
                <a:lnTo>
                  <a:pt x="5548" y="144"/>
                </a:lnTo>
                <a:lnTo>
                  <a:pt x="5561" y="158"/>
                </a:lnTo>
                <a:lnTo>
                  <a:pt x="5569" y="175"/>
                </a:lnTo>
                <a:lnTo>
                  <a:pt x="5572" y="194"/>
                </a:lnTo>
                <a:lnTo>
                  <a:pt x="5571" y="213"/>
                </a:lnTo>
                <a:lnTo>
                  <a:pt x="5563" y="233"/>
                </a:lnTo>
                <a:lnTo>
                  <a:pt x="5553" y="243"/>
                </a:lnTo>
                <a:lnTo>
                  <a:pt x="5544" y="251"/>
                </a:lnTo>
                <a:lnTo>
                  <a:pt x="5534" y="255"/>
                </a:lnTo>
                <a:lnTo>
                  <a:pt x="5523" y="257"/>
                </a:lnTo>
                <a:lnTo>
                  <a:pt x="5514" y="257"/>
                </a:lnTo>
                <a:lnTo>
                  <a:pt x="5503" y="254"/>
                </a:lnTo>
                <a:lnTo>
                  <a:pt x="5493" y="247"/>
                </a:lnTo>
                <a:lnTo>
                  <a:pt x="5484" y="238"/>
                </a:lnTo>
                <a:lnTo>
                  <a:pt x="5479" y="230"/>
                </a:lnTo>
                <a:lnTo>
                  <a:pt x="5477" y="220"/>
                </a:lnTo>
                <a:lnTo>
                  <a:pt x="5477" y="212"/>
                </a:lnTo>
                <a:lnTo>
                  <a:pt x="5477" y="205"/>
                </a:lnTo>
                <a:lnTo>
                  <a:pt x="5479" y="197"/>
                </a:lnTo>
                <a:lnTo>
                  <a:pt x="5482" y="189"/>
                </a:lnTo>
                <a:lnTo>
                  <a:pt x="5485" y="181"/>
                </a:lnTo>
                <a:lnTo>
                  <a:pt x="5487" y="173"/>
                </a:lnTo>
                <a:lnTo>
                  <a:pt x="5493" y="167"/>
                </a:lnTo>
                <a:lnTo>
                  <a:pt x="5498" y="165"/>
                </a:lnTo>
                <a:lnTo>
                  <a:pt x="5501" y="167"/>
                </a:lnTo>
                <a:lnTo>
                  <a:pt x="5504" y="170"/>
                </a:lnTo>
                <a:lnTo>
                  <a:pt x="5506" y="173"/>
                </a:lnTo>
                <a:lnTo>
                  <a:pt x="5506" y="178"/>
                </a:lnTo>
                <a:lnTo>
                  <a:pt x="5501" y="181"/>
                </a:lnTo>
                <a:lnTo>
                  <a:pt x="5496" y="183"/>
                </a:lnTo>
                <a:lnTo>
                  <a:pt x="5488" y="200"/>
                </a:lnTo>
                <a:lnTo>
                  <a:pt x="5487" y="217"/>
                </a:lnTo>
                <a:lnTo>
                  <a:pt x="5492" y="231"/>
                </a:lnTo>
                <a:lnTo>
                  <a:pt x="5500" y="241"/>
                </a:lnTo>
                <a:lnTo>
                  <a:pt x="5512" y="246"/>
                </a:lnTo>
                <a:lnTo>
                  <a:pt x="5526" y="246"/>
                </a:lnTo>
                <a:lnTo>
                  <a:pt x="5541" y="241"/>
                </a:lnTo>
                <a:lnTo>
                  <a:pt x="5555" y="226"/>
                </a:lnTo>
                <a:lnTo>
                  <a:pt x="5560" y="215"/>
                </a:lnTo>
                <a:lnTo>
                  <a:pt x="5561" y="204"/>
                </a:lnTo>
                <a:lnTo>
                  <a:pt x="5563" y="192"/>
                </a:lnTo>
                <a:lnTo>
                  <a:pt x="5561" y="183"/>
                </a:lnTo>
                <a:lnTo>
                  <a:pt x="5558" y="173"/>
                </a:lnTo>
                <a:lnTo>
                  <a:pt x="5553" y="163"/>
                </a:lnTo>
                <a:lnTo>
                  <a:pt x="5547" y="157"/>
                </a:lnTo>
                <a:lnTo>
                  <a:pt x="5539" y="150"/>
                </a:lnTo>
                <a:lnTo>
                  <a:pt x="5531" y="144"/>
                </a:lnTo>
                <a:lnTo>
                  <a:pt x="5522" y="141"/>
                </a:lnTo>
                <a:lnTo>
                  <a:pt x="5512" y="137"/>
                </a:lnTo>
                <a:lnTo>
                  <a:pt x="5501" y="136"/>
                </a:lnTo>
                <a:lnTo>
                  <a:pt x="5490" y="136"/>
                </a:lnTo>
                <a:lnTo>
                  <a:pt x="5479" y="137"/>
                </a:lnTo>
                <a:lnTo>
                  <a:pt x="5468" y="141"/>
                </a:lnTo>
                <a:lnTo>
                  <a:pt x="5459" y="145"/>
                </a:lnTo>
                <a:lnTo>
                  <a:pt x="5444" y="155"/>
                </a:lnTo>
                <a:lnTo>
                  <a:pt x="5435" y="165"/>
                </a:lnTo>
                <a:lnTo>
                  <a:pt x="5427" y="178"/>
                </a:lnTo>
                <a:lnTo>
                  <a:pt x="5422" y="192"/>
                </a:lnTo>
                <a:lnTo>
                  <a:pt x="5419" y="207"/>
                </a:lnTo>
                <a:lnTo>
                  <a:pt x="5419" y="221"/>
                </a:lnTo>
                <a:lnTo>
                  <a:pt x="5421" y="238"/>
                </a:lnTo>
                <a:lnTo>
                  <a:pt x="5424" y="254"/>
                </a:lnTo>
                <a:lnTo>
                  <a:pt x="5425" y="257"/>
                </a:lnTo>
                <a:lnTo>
                  <a:pt x="5429" y="262"/>
                </a:lnTo>
                <a:lnTo>
                  <a:pt x="5427" y="262"/>
                </a:lnTo>
                <a:lnTo>
                  <a:pt x="5432" y="267"/>
                </a:lnTo>
                <a:lnTo>
                  <a:pt x="5438" y="275"/>
                </a:lnTo>
                <a:lnTo>
                  <a:pt x="5447" y="281"/>
                </a:lnTo>
                <a:lnTo>
                  <a:pt x="5460" y="289"/>
                </a:lnTo>
                <a:lnTo>
                  <a:pt x="5476" y="296"/>
                </a:lnTo>
                <a:lnTo>
                  <a:pt x="5495" y="301"/>
                </a:lnTo>
                <a:lnTo>
                  <a:pt x="5518" y="306"/>
                </a:lnTo>
                <a:lnTo>
                  <a:pt x="5545" y="306"/>
                </a:lnTo>
                <a:lnTo>
                  <a:pt x="5564" y="304"/>
                </a:lnTo>
                <a:lnTo>
                  <a:pt x="5582" y="298"/>
                </a:lnTo>
                <a:lnTo>
                  <a:pt x="5599" y="289"/>
                </a:lnTo>
                <a:lnTo>
                  <a:pt x="5616" y="278"/>
                </a:lnTo>
                <a:lnTo>
                  <a:pt x="5634" y="265"/>
                </a:lnTo>
                <a:lnTo>
                  <a:pt x="5650" y="251"/>
                </a:lnTo>
                <a:lnTo>
                  <a:pt x="5665" y="234"/>
                </a:lnTo>
                <a:lnTo>
                  <a:pt x="5679" y="218"/>
                </a:lnTo>
                <a:lnTo>
                  <a:pt x="5692" y="200"/>
                </a:lnTo>
                <a:lnTo>
                  <a:pt x="5705" y="184"/>
                </a:lnTo>
                <a:lnTo>
                  <a:pt x="5716" y="168"/>
                </a:lnTo>
                <a:lnTo>
                  <a:pt x="5725" y="152"/>
                </a:lnTo>
                <a:lnTo>
                  <a:pt x="5733" y="139"/>
                </a:lnTo>
                <a:lnTo>
                  <a:pt x="5739" y="128"/>
                </a:lnTo>
                <a:lnTo>
                  <a:pt x="5744" y="118"/>
                </a:lnTo>
                <a:lnTo>
                  <a:pt x="5746" y="110"/>
                </a:lnTo>
                <a:lnTo>
                  <a:pt x="5749" y="105"/>
                </a:lnTo>
                <a:lnTo>
                  <a:pt x="5752" y="97"/>
                </a:lnTo>
                <a:lnTo>
                  <a:pt x="5755" y="89"/>
                </a:lnTo>
                <a:lnTo>
                  <a:pt x="5758" y="81"/>
                </a:lnTo>
                <a:lnTo>
                  <a:pt x="5760" y="73"/>
                </a:lnTo>
                <a:lnTo>
                  <a:pt x="5760" y="63"/>
                </a:lnTo>
                <a:lnTo>
                  <a:pt x="5758" y="53"/>
                </a:lnTo>
                <a:lnTo>
                  <a:pt x="5754" y="44"/>
                </a:lnTo>
                <a:lnTo>
                  <a:pt x="5746" y="35"/>
                </a:lnTo>
                <a:lnTo>
                  <a:pt x="5736" y="27"/>
                </a:lnTo>
                <a:lnTo>
                  <a:pt x="5721" y="19"/>
                </a:lnTo>
                <a:lnTo>
                  <a:pt x="5700" y="13"/>
                </a:lnTo>
                <a:lnTo>
                  <a:pt x="5675" y="8"/>
                </a:lnTo>
                <a:lnTo>
                  <a:pt x="5643" y="3"/>
                </a:lnTo>
                <a:lnTo>
                  <a:pt x="5607" y="2"/>
                </a:lnTo>
                <a:lnTo>
                  <a:pt x="5561" y="0"/>
                </a:lnTo>
                <a:lnTo>
                  <a:pt x="5533" y="0"/>
                </a:lnTo>
                <a:lnTo>
                  <a:pt x="5493" y="0"/>
                </a:lnTo>
                <a:lnTo>
                  <a:pt x="5444" y="0"/>
                </a:lnTo>
                <a:lnTo>
                  <a:pt x="5386" y="0"/>
                </a:lnTo>
                <a:lnTo>
                  <a:pt x="5318" y="0"/>
                </a:lnTo>
                <a:lnTo>
                  <a:pt x="5242" y="0"/>
                </a:lnTo>
                <a:lnTo>
                  <a:pt x="5160" y="0"/>
                </a:lnTo>
                <a:lnTo>
                  <a:pt x="5072" y="0"/>
                </a:lnTo>
                <a:lnTo>
                  <a:pt x="4977" y="0"/>
                </a:lnTo>
                <a:lnTo>
                  <a:pt x="4878" y="0"/>
                </a:lnTo>
                <a:lnTo>
                  <a:pt x="4773" y="0"/>
                </a:lnTo>
                <a:lnTo>
                  <a:pt x="4666" y="0"/>
                </a:lnTo>
                <a:lnTo>
                  <a:pt x="4557" y="0"/>
                </a:lnTo>
                <a:lnTo>
                  <a:pt x="4445" y="0"/>
                </a:lnTo>
                <a:lnTo>
                  <a:pt x="4331" y="0"/>
                </a:lnTo>
                <a:lnTo>
                  <a:pt x="4218" y="0"/>
                </a:lnTo>
                <a:lnTo>
                  <a:pt x="4103" y="0"/>
                </a:lnTo>
                <a:lnTo>
                  <a:pt x="3989" y="0"/>
                </a:lnTo>
                <a:lnTo>
                  <a:pt x="3878" y="0"/>
                </a:lnTo>
                <a:lnTo>
                  <a:pt x="3768" y="0"/>
                </a:lnTo>
                <a:lnTo>
                  <a:pt x="3661" y="0"/>
                </a:lnTo>
                <a:lnTo>
                  <a:pt x="3558" y="0"/>
                </a:lnTo>
                <a:lnTo>
                  <a:pt x="3460" y="0"/>
                </a:lnTo>
                <a:lnTo>
                  <a:pt x="3367" y="0"/>
                </a:lnTo>
                <a:lnTo>
                  <a:pt x="3279" y="0"/>
                </a:lnTo>
                <a:lnTo>
                  <a:pt x="3198" y="0"/>
                </a:lnTo>
                <a:lnTo>
                  <a:pt x="3124" y="0"/>
                </a:lnTo>
                <a:lnTo>
                  <a:pt x="3058" y="0"/>
                </a:lnTo>
                <a:lnTo>
                  <a:pt x="3001" y="0"/>
                </a:lnTo>
                <a:lnTo>
                  <a:pt x="2953" y="0"/>
                </a:lnTo>
                <a:lnTo>
                  <a:pt x="2916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2" y="0"/>
                </a:lnTo>
                <a:lnTo>
                  <a:pt x="2862" y="0"/>
                </a:lnTo>
                <a:lnTo>
                  <a:pt x="2829" y="0"/>
                </a:lnTo>
                <a:lnTo>
                  <a:pt x="2784" y="0"/>
                </a:lnTo>
                <a:lnTo>
                  <a:pt x="2728" y="0"/>
                </a:lnTo>
                <a:lnTo>
                  <a:pt x="2663" y="0"/>
                </a:lnTo>
                <a:lnTo>
                  <a:pt x="2587" y="0"/>
                </a:lnTo>
                <a:lnTo>
                  <a:pt x="2505" y="0"/>
                </a:lnTo>
                <a:lnTo>
                  <a:pt x="2414" y="0"/>
                </a:lnTo>
                <a:lnTo>
                  <a:pt x="2317" y="0"/>
                </a:lnTo>
                <a:lnTo>
                  <a:pt x="2215" y="0"/>
                </a:lnTo>
                <a:lnTo>
                  <a:pt x="2106" y="0"/>
                </a:lnTo>
                <a:lnTo>
                  <a:pt x="1994" y="0"/>
                </a:lnTo>
                <a:lnTo>
                  <a:pt x="1878" y="0"/>
                </a:lnTo>
                <a:lnTo>
                  <a:pt x="1760" y="0"/>
                </a:lnTo>
                <a:lnTo>
                  <a:pt x="1640" y="0"/>
                </a:lnTo>
                <a:lnTo>
                  <a:pt x="1520" y="0"/>
                </a:lnTo>
                <a:lnTo>
                  <a:pt x="1400" y="0"/>
                </a:lnTo>
                <a:lnTo>
                  <a:pt x="1280" y="0"/>
                </a:lnTo>
                <a:lnTo>
                  <a:pt x="1163" y="0"/>
                </a:lnTo>
                <a:lnTo>
                  <a:pt x="1048" y="0"/>
                </a:lnTo>
                <a:lnTo>
                  <a:pt x="938" y="0"/>
                </a:lnTo>
                <a:lnTo>
                  <a:pt x="830" y="0"/>
                </a:lnTo>
                <a:lnTo>
                  <a:pt x="728" y="0"/>
                </a:lnTo>
                <a:lnTo>
                  <a:pt x="631" y="0"/>
                </a:lnTo>
                <a:lnTo>
                  <a:pt x="543" y="0"/>
                </a:lnTo>
                <a:lnTo>
                  <a:pt x="461" y="0"/>
                </a:lnTo>
                <a:lnTo>
                  <a:pt x="388" y="0"/>
                </a:lnTo>
                <a:lnTo>
                  <a:pt x="324" y="0"/>
                </a:lnTo>
                <a:lnTo>
                  <a:pt x="270" y="0"/>
                </a:lnTo>
                <a:lnTo>
                  <a:pt x="229" y="0"/>
                </a:lnTo>
                <a:lnTo>
                  <a:pt x="197" y="0"/>
                </a:lnTo>
                <a:lnTo>
                  <a:pt x="153" y="2"/>
                </a:lnTo>
                <a:lnTo>
                  <a:pt x="115" y="3"/>
                </a:lnTo>
                <a:lnTo>
                  <a:pt x="84" y="8"/>
                </a:lnTo>
                <a:lnTo>
                  <a:pt x="58" y="13"/>
                </a:lnTo>
                <a:lnTo>
                  <a:pt x="38" y="19"/>
                </a:lnTo>
                <a:lnTo>
                  <a:pt x="22" y="27"/>
                </a:lnTo>
                <a:lnTo>
                  <a:pt x="11" y="35"/>
                </a:lnTo>
                <a:lnTo>
                  <a:pt x="5" y="44"/>
                </a:lnTo>
                <a:lnTo>
                  <a:pt x="2" y="53"/>
                </a:lnTo>
                <a:lnTo>
                  <a:pt x="0" y="63"/>
                </a:lnTo>
                <a:lnTo>
                  <a:pt x="0" y="73"/>
                </a:lnTo>
                <a:lnTo>
                  <a:pt x="2" y="81"/>
                </a:lnTo>
                <a:lnTo>
                  <a:pt x="3" y="89"/>
                </a:lnTo>
                <a:lnTo>
                  <a:pt x="6" y="97"/>
                </a:lnTo>
                <a:lnTo>
                  <a:pt x="9" y="105"/>
                </a:lnTo>
                <a:lnTo>
                  <a:pt x="11" y="110"/>
                </a:lnTo>
                <a:lnTo>
                  <a:pt x="14" y="118"/>
                </a:lnTo>
                <a:lnTo>
                  <a:pt x="19" y="128"/>
                </a:lnTo>
                <a:lnTo>
                  <a:pt x="25" y="139"/>
                </a:lnTo>
                <a:lnTo>
                  <a:pt x="33" y="152"/>
                </a:lnTo>
                <a:lnTo>
                  <a:pt x="43" y="168"/>
                </a:lnTo>
                <a:lnTo>
                  <a:pt x="54" y="184"/>
                </a:lnTo>
                <a:lnTo>
                  <a:pt x="66" y="200"/>
                </a:lnTo>
                <a:lnTo>
                  <a:pt x="79" y="217"/>
                </a:lnTo>
                <a:lnTo>
                  <a:pt x="93" y="234"/>
                </a:lnTo>
                <a:lnTo>
                  <a:pt x="109" y="249"/>
                </a:lnTo>
                <a:lnTo>
                  <a:pt x="125" y="265"/>
                </a:lnTo>
                <a:lnTo>
                  <a:pt x="142" y="278"/>
                </a:lnTo>
                <a:lnTo>
                  <a:pt x="159" y="288"/>
                </a:lnTo>
                <a:lnTo>
                  <a:pt x="177" y="298"/>
                </a:lnTo>
                <a:lnTo>
                  <a:pt x="196" y="302"/>
                </a:lnTo>
                <a:lnTo>
                  <a:pt x="213" y="306"/>
                </a:lnTo>
                <a:lnTo>
                  <a:pt x="242" y="304"/>
                </a:lnTo>
                <a:lnTo>
                  <a:pt x="264" y="301"/>
                </a:lnTo>
                <a:lnTo>
                  <a:pt x="283" y="296"/>
                </a:lnTo>
                <a:lnTo>
                  <a:pt x="298" y="289"/>
                </a:lnTo>
                <a:lnTo>
                  <a:pt x="311" y="281"/>
                </a:lnTo>
                <a:lnTo>
                  <a:pt x="320" y="273"/>
                </a:lnTo>
                <a:lnTo>
                  <a:pt x="327" y="267"/>
                </a:lnTo>
                <a:lnTo>
                  <a:pt x="331" y="262"/>
                </a:lnTo>
                <a:lnTo>
                  <a:pt x="330" y="260"/>
                </a:lnTo>
                <a:lnTo>
                  <a:pt x="333" y="255"/>
                </a:lnTo>
                <a:lnTo>
                  <a:pt x="335" y="252"/>
                </a:lnTo>
                <a:lnTo>
                  <a:pt x="338" y="238"/>
                </a:lnTo>
                <a:lnTo>
                  <a:pt x="339" y="221"/>
                </a:lnTo>
                <a:lnTo>
                  <a:pt x="339" y="207"/>
                </a:lnTo>
                <a:lnTo>
                  <a:pt x="336" y="191"/>
                </a:lnTo>
                <a:lnTo>
                  <a:pt x="331" y="178"/>
                </a:lnTo>
                <a:lnTo>
                  <a:pt x="325" y="165"/>
                </a:lnTo>
                <a:lnTo>
                  <a:pt x="314" y="154"/>
                </a:lnTo>
                <a:lnTo>
                  <a:pt x="301" y="145"/>
                </a:lnTo>
                <a:lnTo>
                  <a:pt x="290" y="141"/>
                </a:lnTo>
                <a:lnTo>
                  <a:pt x="279" y="137"/>
                </a:lnTo>
                <a:lnTo>
                  <a:pt x="268" y="136"/>
                </a:lnTo>
                <a:lnTo>
                  <a:pt x="259" y="136"/>
                </a:lnTo>
                <a:lnTo>
                  <a:pt x="248" y="136"/>
                </a:lnTo>
                <a:lnTo>
                  <a:pt x="238" y="139"/>
                </a:lnTo>
                <a:lnTo>
                  <a:pt x="229" y="144"/>
                </a:lnTo>
                <a:lnTo>
                  <a:pt x="219" y="149"/>
                </a:lnTo>
                <a:lnTo>
                  <a:pt x="213" y="155"/>
                </a:lnTo>
                <a:lnTo>
                  <a:pt x="207" y="163"/>
                </a:lnTo>
                <a:lnTo>
                  <a:pt x="202" y="173"/>
                </a:lnTo>
                <a:lnTo>
                  <a:pt x="199" y="181"/>
                </a:lnTo>
                <a:lnTo>
                  <a:pt x="197" y="192"/>
                </a:lnTo>
                <a:lnTo>
                  <a:pt x="197" y="204"/>
                </a:lnTo>
                <a:lnTo>
                  <a:pt x="200" y="215"/>
                </a:lnTo>
                <a:lnTo>
                  <a:pt x="205" y="226"/>
                </a:lnTo>
                <a:lnTo>
                  <a:pt x="219" y="239"/>
                </a:lnTo>
                <a:lnTo>
                  <a:pt x="234" y="246"/>
                </a:lnTo>
                <a:lnTo>
                  <a:pt x="248" y="246"/>
                </a:lnTo>
                <a:lnTo>
                  <a:pt x="259" y="239"/>
                </a:lnTo>
                <a:lnTo>
                  <a:pt x="268" y="230"/>
                </a:lnTo>
                <a:lnTo>
                  <a:pt x="272" y="217"/>
                </a:lnTo>
                <a:lnTo>
                  <a:pt x="270" y="200"/>
                </a:lnTo>
                <a:lnTo>
                  <a:pt x="262" y="183"/>
                </a:lnTo>
                <a:lnTo>
                  <a:pt x="257" y="181"/>
                </a:lnTo>
                <a:lnTo>
                  <a:pt x="254" y="178"/>
                </a:lnTo>
                <a:lnTo>
                  <a:pt x="253" y="173"/>
                </a:lnTo>
                <a:lnTo>
                  <a:pt x="254" y="170"/>
                </a:lnTo>
                <a:lnTo>
                  <a:pt x="257" y="167"/>
                </a:lnTo>
                <a:lnTo>
                  <a:pt x="260" y="165"/>
                </a:lnTo>
                <a:lnTo>
                  <a:pt x="265" y="167"/>
                </a:lnTo>
                <a:lnTo>
                  <a:pt x="272" y="173"/>
                </a:lnTo>
                <a:lnTo>
                  <a:pt x="273" y="181"/>
                </a:lnTo>
                <a:lnTo>
                  <a:pt x="276" y="189"/>
                </a:lnTo>
                <a:lnTo>
                  <a:pt x="279" y="197"/>
                </a:lnTo>
                <a:lnTo>
                  <a:pt x="281" y="205"/>
                </a:lnTo>
                <a:lnTo>
                  <a:pt x="281" y="212"/>
                </a:lnTo>
                <a:lnTo>
                  <a:pt x="281" y="220"/>
                </a:lnTo>
                <a:lnTo>
                  <a:pt x="279" y="228"/>
                </a:lnTo>
                <a:lnTo>
                  <a:pt x="275" y="238"/>
                </a:lnTo>
                <a:lnTo>
                  <a:pt x="265" y="247"/>
                </a:lnTo>
                <a:lnTo>
                  <a:pt x="256" y="252"/>
                </a:lnTo>
                <a:lnTo>
                  <a:pt x="246" y="255"/>
                </a:lnTo>
                <a:lnTo>
                  <a:pt x="235" y="255"/>
                </a:lnTo>
                <a:lnTo>
                  <a:pt x="226" y="254"/>
                </a:lnTo>
                <a:lnTo>
                  <a:pt x="216" y="249"/>
                </a:lnTo>
                <a:lnTo>
                  <a:pt x="207" y="243"/>
                </a:lnTo>
                <a:lnTo>
                  <a:pt x="197" y="233"/>
                </a:lnTo>
                <a:lnTo>
                  <a:pt x="189" y="212"/>
                </a:lnTo>
                <a:lnTo>
                  <a:pt x="188" y="192"/>
                </a:lnTo>
                <a:lnTo>
                  <a:pt x="191" y="175"/>
                </a:lnTo>
                <a:lnTo>
                  <a:pt x="199" y="158"/>
                </a:lnTo>
                <a:lnTo>
                  <a:pt x="210" y="144"/>
                </a:lnTo>
                <a:lnTo>
                  <a:pt x="226" y="134"/>
                </a:lnTo>
                <a:lnTo>
                  <a:pt x="245" y="126"/>
                </a:lnTo>
                <a:lnTo>
                  <a:pt x="265" y="124"/>
                </a:lnTo>
                <a:lnTo>
                  <a:pt x="287" y="129"/>
                </a:lnTo>
                <a:lnTo>
                  <a:pt x="306" y="137"/>
                </a:lnTo>
                <a:lnTo>
                  <a:pt x="322" y="149"/>
                </a:lnTo>
                <a:lnTo>
                  <a:pt x="335" y="162"/>
                </a:lnTo>
                <a:lnTo>
                  <a:pt x="343" y="179"/>
                </a:lnTo>
                <a:lnTo>
                  <a:pt x="349" y="197"/>
                </a:lnTo>
                <a:lnTo>
                  <a:pt x="350" y="220"/>
                </a:lnTo>
                <a:lnTo>
                  <a:pt x="349" y="244"/>
                </a:lnTo>
                <a:lnTo>
                  <a:pt x="347" y="249"/>
                </a:lnTo>
                <a:lnTo>
                  <a:pt x="346" y="254"/>
                </a:lnTo>
                <a:lnTo>
                  <a:pt x="344" y="259"/>
                </a:lnTo>
                <a:lnTo>
                  <a:pt x="343" y="264"/>
                </a:lnTo>
                <a:lnTo>
                  <a:pt x="349" y="268"/>
                </a:lnTo>
                <a:lnTo>
                  <a:pt x="355" y="273"/>
                </a:lnTo>
                <a:lnTo>
                  <a:pt x="363" y="278"/>
                </a:lnTo>
                <a:lnTo>
                  <a:pt x="371" y="283"/>
                </a:lnTo>
                <a:lnTo>
                  <a:pt x="379" y="288"/>
                </a:lnTo>
                <a:lnTo>
                  <a:pt x="387" y="291"/>
                </a:lnTo>
                <a:lnTo>
                  <a:pt x="396" y="294"/>
                </a:lnTo>
                <a:lnTo>
                  <a:pt x="404" y="298"/>
                </a:lnTo>
                <a:lnTo>
                  <a:pt x="414" y="301"/>
                </a:lnTo>
                <a:lnTo>
                  <a:pt x="423" y="302"/>
                </a:lnTo>
                <a:lnTo>
                  <a:pt x="433" y="304"/>
                </a:lnTo>
                <a:lnTo>
                  <a:pt x="442" y="306"/>
                </a:lnTo>
                <a:lnTo>
                  <a:pt x="451" y="307"/>
                </a:lnTo>
                <a:lnTo>
                  <a:pt x="463" y="309"/>
                </a:lnTo>
                <a:lnTo>
                  <a:pt x="472" y="309"/>
                </a:lnTo>
                <a:lnTo>
                  <a:pt x="481" y="309"/>
                </a:lnTo>
                <a:lnTo>
                  <a:pt x="497" y="307"/>
                </a:lnTo>
                <a:lnTo>
                  <a:pt x="511" y="306"/>
                </a:lnTo>
                <a:lnTo>
                  <a:pt x="526" y="304"/>
                </a:lnTo>
                <a:lnTo>
                  <a:pt x="541" y="301"/>
                </a:lnTo>
                <a:lnTo>
                  <a:pt x="554" y="296"/>
                </a:lnTo>
                <a:lnTo>
                  <a:pt x="568" y="293"/>
                </a:lnTo>
                <a:lnTo>
                  <a:pt x="581" y="288"/>
                </a:lnTo>
                <a:lnTo>
                  <a:pt x="594" y="283"/>
                </a:lnTo>
                <a:lnTo>
                  <a:pt x="581" y="276"/>
                </a:lnTo>
                <a:lnTo>
                  <a:pt x="570" y="267"/>
                </a:lnTo>
                <a:lnTo>
                  <a:pt x="560" y="259"/>
                </a:lnTo>
                <a:lnTo>
                  <a:pt x="552" y="247"/>
                </a:lnTo>
                <a:lnTo>
                  <a:pt x="545" y="238"/>
                </a:lnTo>
                <a:lnTo>
                  <a:pt x="540" y="226"/>
                </a:lnTo>
                <a:lnTo>
                  <a:pt x="537" y="215"/>
                </a:lnTo>
                <a:lnTo>
                  <a:pt x="537" y="202"/>
                </a:lnTo>
                <a:lnTo>
                  <a:pt x="537" y="191"/>
                </a:lnTo>
                <a:lnTo>
                  <a:pt x="540" y="179"/>
                </a:lnTo>
                <a:lnTo>
                  <a:pt x="545" y="168"/>
                </a:lnTo>
                <a:lnTo>
                  <a:pt x="551" y="157"/>
                </a:lnTo>
                <a:lnTo>
                  <a:pt x="560" y="147"/>
                </a:lnTo>
                <a:lnTo>
                  <a:pt x="570" y="137"/>
                </a:lnTo>
                <a:lnTo>
                  <a:pt x="581" y="128"/>
                </a:lnTo>
                <a:lnTo>
                  <a:pt x="594" y="120"/>
                </a:lnTo>
                <a:lnTo>
                  <a:pt x="608" y="112"/>
                </a:lnTo>
                <a:lnTo>
                  <a:pt x="622" y="105"/>
                </a:lnTo>
                <a:lnTo>
                  <a:pt x="639" y="99"/>
                </a:lnTo>
                <a:lnTo>
                  <a:pt x="657" y="94"/>
                </a:lnTo>
                <a:lnTo>
                  <a:pt x="674" y="90"/>
                </a:lnTo>
                <a:lnTo>
                  <a:pt x="693" y="87"/>
                </a:lnTo>
                <a:lnTo>
                  <a:pt x="713" y="86"/>
                </a:lnTo>
                <a:lnTo>
                  <a:pt x="734" y="84"/>
                </a:lnTo>
                <a:lnTo>
                  <a:pt x="755" y="86"/>
                </a:lnTo>
                <a:lnTo>
                  <a:pt x="778" y="87"/>
                </a:lnTo>
                <a:lnTo>
                  <a:pt x="803" y="90"/>
                </a:lnTo>
                <a:lnTo>
                  <a:pt x="830" y="95"/>
                </a:lnTo>
                <a:lnTo>
                  <a:pt x="859" y="102"/>
                </a:lnTo>
                <a:lnTo>
                  <a:pt x="889" y="110"/>
                </a:lnTo>
                <a:lnTo>
                  <a:pt x="920" y="118"/>
                </a:lnTo>
                <a:lnTo>
                  <a:pt x="952" y="126"/>
                </a:lnTo>
                <a:lnTo>
                  <a:pt x="985" y="136"/>
                </a:lnTo>
                <a:lnTo>
                  <a:pt x="1018" y="147"/>
                </a:lnTo>
                <a:lnTo>
                  <a:pt x="1053" y="158"/>
                </a:lnTo>
                <a:lnTo>
                  <a:pt x="1088" y="170"/>
                </a:lnTo>
                <a:lnTo>
                  <a:pt x="1122" y="181"/>
                </a:lnTo>
                <a:lnTo>
                  <a:pt x="1155" y="194"/>
                </a:lnTo>
                <a:lnTo>
                  <a:pt x="1190" y="207"/>
                </a:lnTo>
                <a:lnTo>
                  <a:pt x="1225" y="218"/>
                </a:lnTo>
                <a:lnTo>
                  <a:pt x="1258" y="231"/>
                </a:lnTo>
                <a:lnTo>
                  <a:pt x="1291" y="244"/>
                </a:lnTo>
                <a:lnTo>
                  <a:pt x="1323" y="255"/>
                </a:lnTo>
                <a:lnTo>
                  <a:pt x="1353" y="268"/>
                </a:lnTo>
                <a:lnTo>
                  <a:pt x="1381" y="280"/>
                </a:lnTo>
                <a:lnTo>
                  <a:pt x="1410" y="291"/>
                </a:lnTo>
                <a:lnTo>
                  <a:pt x="1435" y="301"/>
                </a:lnTo>
                <a:lnTo>
                  <a:pt x="1459" y="310"/>
                </a:lnTo>
                <a:lnTo>
                  <a:pt x="1481" y="320"/>
                </a:lnTo>
                <a:lnTo>
                  <a:pt x="1501" y="328"/>
                </a:lnTo>
                <a:lnTo>
                  <a:pt x="1517" y="335"/>
                </a:lnTo>
                <a:lnTo>
                  <a:pt x="1531" y="341"/>
                </a:lnTo>
                <a:lnTo>
                  <a:pt x="1544" y="346"/>
                </a:lnTo>
                <a:lnTo>
                  <a:pt x="1552" y="349"/>
                </a:lnTo>
                <a:lnTo>
                  <a:pt x="1558" y="351"/>
                </a:lnTo>
                <a:lnTo>
                  <a:pt x="1560" y="353"/>
                </a:lnTo>
                <a:lnTo>
                  <a:pt x="1567" y="354"/>
                </a:lnTo>
                <a:lnTo>
                  <a:pt x="1577" y="357"/>
                </a:lnTo>
                <a:lnTo>
                  <a:pt x="1586" y="359"/>
                </a:lnTo>
                <a:lnTo>
                  <a:pt x="1596" y="361"/>
                </a:lnTo>
                <a:lnTo>
                  <a:pt x="1605" y="362"/>
                </a:lnTo>
                <a:lnTo>
                  <a:pt x="1616" y="364"/>
                </a:lnTo>
                <a:lnTo>
                  <a:pt x="1624" y="365"/>
                </a:lnTo>
                <a:lnTo>
                  <a:pt x="1634" y="367"/>
                </a:lnTo>
                <a:lnTo>
                  <a:pt x="1645" y="367"/>
                </a:lnTo>
                <a:lnTo>
                  <a:pt x="1656" y="369"/>
                </a:lnTo>
                <a:lnTo>
                  <a:pt x="1665" y="367"/>
                </a:lnTo>
                <a:lnTo>
                  <a:pt x="1676" y="365"/>
                </a:lnTo>
                <a:lnTo>
                  <a:pt x="1687" y="364"/>
                </a:lnTo>
                <a:lnTo>
                  <a:pt x="1697" y="361"/>
                </a:lnTo>
                <a:lnTo>
                  <a:pt x="1708" y="356"/>
                </a:lnTo>
                <a:lnTo>
                  <a:pt x="1717" y="351"/>
                </a:lnTo>
                <a:lnTo>
                  <a:pt x="1727" y="346"/>
                </a:lnTo>
                <a:lnTo>
                  <a:pt x="1735" y="341"/>
                </a:lnTo>
                <a:lnTo>
                  <a:pt x="1744" y="335"/>
                </a:lnTo>
                <a:lnTo>
                  <a:pt x="1752" y="328"/>
                </a:lnTo>
                <a:lnTo>
                  <a:pt x="1760" y="320"/>
                </a:lnTo>
                <a:lnTo>
                  <a:pt x="1768" y="314"/>
                </a:lnTo>
                <a:lnTo>
                  <a:pt x="1774" y="306"/>
                </a:lnTo>
                <a:lnTo>
                  <a:pt x="1781" y="298"/>
                </a:lnTo>
                <a:lnTo>
                  <a:pt x="1785" y="307"/>
                </a:lnTo>
                <a:lnTo>
                  <a:pt x="1793" y="317"/>
                </a:lnTo>
                <a:lnTo>
                  <a:pt x="1803" y="325"/>
                </a:lnTo>
                <a:lnTo>
                  <a:pt x="1814" y="333"/>
                </a:lnTo>
                <a:lnTo>
                  <a:pt x="1828" y="338"/>
                </a:lnTo>
                <a:lnTo>
                  <a:pt x="1842" y="343"/>
                </a:lnTo>
                <a:lnTo>
                  <a:pt x="1858" y="346"/>
                </a:lnTo>
                <a:lnTo>
                  <a:pt x="1875" y="348"/>
                </a:lnTo>
                <a:lnTo>
                  <a:pt x="1889" y="346"/>
                </a:lnTo>
                <a:lnTo>
                  <a:pt x="1904" y="344"/>
                </a:lnTo>
                <a:lnTo>
                  <a:pt x="1918" y="341"/>
                </a:lnTo>
                <a:lnTo>
                  <a:pt x="1929" y="336"/>
                </a:lnTo>
                <a:lnTo>
                  <a:pt x="1940" y="330"/>
                </a:lnTo>
                <a:lnTo>
                  <a:pt x="1951" y="323"/>
                </a:lnTo>
                <a:lnTo>
                  <a:pt x="1959" y="315"/>
                </a:lnTo>
                <a:lnTo>
                  <a:pt x="1965" y="307"/>
                </a:lnTo>
                <a:lnTo>
                  <a:pt x="1948" y="299"/>
                </a:lnTo>
                <a:lnTo>
                  <a:pt x="1931" y="289"/>
                </a:lnTo>
                <a:lnTo>
                  <a:pt x="1916" y="280"/>
                </a:lnTo>
                <a:lnTo>
                  <a:pt x="1902" y="270"/>
                </a:lnTo>
                <a:lnTo>
                  <a:pt x="1893" y="257"/>
                </a:lnTo>
                <a:lnTo>
                  <a:pt x="1885" y="246"/>
                </a:lnTo>
                <a:lnTo>
                  <a:pt x="1878" y="233"/>
                </a:lnTo>
                <a:lnTo>
                  <a:pt x="1877" y="220"/>
                </a:lnTo>
                <a:lnTo>
                  <a:pt x="1878" y="210"/>
                </a:lnTo>
                <a:lnTo>
                  <a:pt x="1880" y="202"/>
                </a:lnTo>
                <a:lnTo>
                  <a:pt x="1885" y="192"/>
                </a:lnTo>
                <a:lnTo>
                  <a:pt x="1889" y="184"/>
                </a:lnTo>
                <a:lnTo>
                  <a:pt x="1897" y="175"/>
                </a:lnTo>
                <a:lnTo>
                  <a:pt x="1905" y="167"/>
                </a:lnTo>
                <a:lnTo>
                  <a:pt x="1915" y="160"/>
                </a:lnTo>
                <a:lnTo>
                  <a:pt x="1926" y="152"/>
                </a:lnTo>
                <a:lnTo>
                  <a:pt x="1937" y="145"/>
                </a:lnTo>
                <a:lnTo>
                  <a:pt x="1949" y="141"/>
                </a:lnTo>
                <a:lnTo>
                  <a:pt x="1964" y="136"/>
                </a:lnTo>
                <a:lnTo>
                  <a:pt x="1978" y="131"/>
                </a:lnTo>
                <a:lnTo>
                  <a:pt x="1992" y="128"/>
                </a:lnTo>
                <a:lnTo>
                  <a:pt x="2008" y="126"/>
                </a:lnTo>
                <a:lnTo>
                  <a:pt x="2025" y="124"/>
                </a:lnTo>
                <a:lnTo>
                  <a:pt x="2041" y="123"/>
                </a:lnTo>
                <a:lnTo>
                  <a:pt x="2058" y="124"/>
                </a:lnTo>
                <a:lnTo>
                  <a:pt x="2074" y="126"/>
                </a:lnTo>
                <a:lnTo>
                  <a:pt x="2092" y="128"/>
                </a:lnTo>
                <a:lnTo>
                  <a:pt x="2106" y="131"/>
                </a:lnTo>
                <a:lnTo>
                  <a:pt x="2122" y="136"/>
                </a:lnTo>
                <a:lnTo>
                  <a:pt x="2136" y="141"/>
                </a:lnTo>
                <a:lnTo>
                  <a:pt x="2148" y="145"/>
                </a:lnTo>
                <a:lnTo>
                  <a:pt x="2161" y="152"/>
                </a:lnTo>
                <a:lnTo>
                  <a:pt x="2172" y="160"/>
                </a:lnTo>
                <a:lnTo>
                  <a:pt x="2182" y="167"/>
                </a:lnTo>
                <a:lnTo>
                  <a:pt x="2189" y="175"/>
                </a:lnTo>
                <a:lnTo>
                  <a:pt x="2197" y="184"/>
                </a:lnTo>
                <a:lnTo>
                  <a:pt x="2202" y="192"/>
                </a:lnTo>
                <a:lnTo>
                  <a:pt x="2205" y="202"/>
                </a:lnTo>
                <a:lnTo>
                  <a:pt x="2207" y="210"/>
                </a:lnTo>
                <a:lnTo>
                  <a:pt x="2205" y="220"/>
                </a:lnTo>
                <a:lnTo>
                  <a:pt x="2204" y="231"/>
                </a:lnTo>
                <a:lnTo>
                  <a:pt x="2199" y="241"/>
                </a:lnTo>
                <a:lnTo>
                  <a:pt x="2193" y="251"/>
                </a:lnTo>
                <a:lnTo>
                  <a:pt x="2186" y="260"/>
                </a:lnTo>
                <a:lnTo>
                  <a:pt x="2177" y="268"/>
                </a:lnTo>
                <a:lnTo>
                  <a:pt x="2167" y="278"/>
                </a:lnTo>
                <a:lnTo>
                  <a:pt x="2156" y="286"/>
                </a:lnTo>
                <a:lnTo>
                  <a:pt x="2145" y="294"/>
                </a:lnTo>
                <a:lnTo>
                  <a:pt x="2155" y="304"/>
                </a:lnTo>
                <a:lnTo>
                  <a:pt x="2164" y="312"/>
                </a:lnTo>
                <a:lnTo>
                  <a:pt x="2175" y="320"/>
                </a:lnTo>
                <a:lnTo>
                  <a:pt x="2185" y="328"/>
                </a:lnTo>
                <a:lnTo>
                  <a:pt x="2197" y="335"/>
                </a:lnTo>
                <a:lnTo>
                  <a:pt x="2208" y="341"/>
                </a:lnTo>
                <a:lnTo>
                  <a:pt x="2221" y="348"/>
                </a:lnTo>
                <a:lnTo>
                  <a:pt x="2234" y="353"/>
                </a:lnTo>
                <a:lnTo>
                  <a:pt x="2246" y="357"/>
                </a:lnTo>
                <a:lnTo>
                  <a:pt x="2260" y="362"/>
                </a:lnTo>
                <a:lnTo>
                  <a:pt x="2275" y="365"/>
                </a:lnTo>
                <a:lnTo>
                  <a:pt x="2289" y="369"/>
                </a:lnTo>
                <a:lnTo>
                  <a:pt x="2301" y="370"/>
                </a:lnTo>
                <a:lnTo>
                  <a:pt x="2317" y="372"/>
                </a:lnTo>
                <a:lnTo>
                  <a:pt x="2331" y="374"/>
                </a:lnTo>
                <a:lnTo>
                  <a:pt x="2347" y="374"/>
                </a:lnTo>
                <a:lnTo>
                  <a:pt x="2361" y="374"/>
                </a:lnTo>
                <a:lnTo>
                  <a:pt x="2376" y="372"/>
                </a:lnTo>
                <a:lnTo>
                  <a:pt x="2388" y="372"/>
                </a:lnTo>
                <a:lnTo>
                  <a:pt x="2402" y="369"/>
                </a:lnTo>
                <a:lnTo>
                  <a:pt x="2415" y="367"/>
                </a:lnTo>
                <a:lnTo>
                  <a:pt x="2429" y="364"/>
                </a:lnTo>
                <a:lnTo>
                  <a:pt x="2442" y="359"/>
                </a:lnTo>
                <a:lnTo>
                  <a:pt x="2455" y="356"/>
                </a:lnTo>
                <a:lnTo>
                  <a:pt x="2466" y="351"/>
                </a:lnTo>
                <a:lnTo>
                  <a:pt x="2478" y="346"/>
                </a:lnTo>
                <a:lnTo>
                  <a:pt x="2489" y="340"/>
                </a:lnTo>
                <a:lnTo>
                  <a:pt x="2500" y="335"/>
                </a:lnTo>
                <a:lnTo>
                  <a:pt x="2510" y="328"/>
                </a:lnTo>
                <a:lnTo>
                  <a:pt x="2521" y="322"/>
                </a:lnTo>
                <a:lnTo>
                  <a:pt x="2530" y="314"/>
                </a:lnTo>
                <a:lnTo>
                  <a:pt x="2540" y="307"/>
                </a:lnTo>
                <a:lnTo>
                  <a:pt x="2535" y="298"/>
                </a:lnTo>
                <a:lnTo>
                  <a:pt x="2530" y="286"/>
                </a:lnTo>
                <a:lnTo>
                  <a:pt x="2526" y="276"/>
                </a:lnTo>
                <a:lnTo>
                  <a:pt x="2522" y="265"/>
                </a:lnTo>
                <a:lnTo>
                  <a:pt x="2521" y="252"/>
                </a:lnTo>
                <a:lnTo>
                  <a:pt x="2518" y="241"/>
                </a:lnTo>
                <a:lnTo>
                  <a:pt x="2518" y="230"/>
                </a:lnTo>
                <a:lnTo>
                  <a:pt x="2516" y="218"/>
                </a:lnTo>
                <a:lnTo>
                  <a:pt x="2518" y="200"/>
                </a:lnTo>
                <a:lnTo>
                  <a:pt x="2521" y="184"/>
                </a:lnTo>
                <a:lnTo>
                  <a:pt x="2524" y="168"/>
                </a:lnTo>
                <a:lnTo>
                  <a:pt x="2530" y="154"/>
                </a:lnTo>
                <a:lnTo>
                  <a:pt x="2538" y="141"/>
                </a:lnTo>
                <a:lnTo>
                  <a:pt x="2548" y="129"/>
                </a:lnTo>
                <a:lnTo>
                  <a:pt x="2557" y="118"/>
                </a:lnTo>
                <a:lnTo>
                  <a:pt x="2568" y="108"/>
                </a:lnTo>
                <a:lnTo>
                  <a:pt x="2581" y="100"/>
                </a:lnTo>
                <a:lnTo>
                  <a:pt x="2593" y="95"/>
                </a:lnTo>
                <a:lnTo>
                  <a:pt x="2608" y="90"/>
                </a:lnTo>
                <a:lnTo>
                  <a:pt x="2623" y="87"/>
                </a:lnTo>
                <a:lnTo>
                  <a:pt x="2638" y="87"/>
                </a:lnTo>
                <a:lnTo>
                  <a:pt x="2655" y="87"/>
                </a:lnTo>
                <a:lnTo>
                  <a:pt x="2671" y="90"/>
                </a:lnTo>
                <a:lnTo>
                  <a:pt x="2687" y="97"/>
                </a:lnTo>
                <a:lnTo>
                  <a:pt x="2699" y="102"/>
                </a:lnTo>
                <a:lnTo>
                  <a:pt x="2710" y="107"/>
                </a:lnTo>
                <a:lnTo>
                  <a:pt x="2721" y="115"/>
                </a:lnTo>
                <a:lnTo>
                  <a:pt x="2729" y="121"/>
                </a:lnTo>
                <a:lnTo>
                  <a:pt x="2739" y="131"/>
                </a:lnTo>
                <a:lnTo>
                  <a:pt x="2745" y="139"/>
                </a:lnTo>
                <a:lnTo>
                  <a:pt x="2751" y="149"/>
                </a:lnTo>
                <a:lnTo>
                  <a:pt x="2756" y="160"/>
                </a:lnTo>
                <a:lnTo>
                  <a:pt x="2759" y="170"/>
                </a:lnTo>
                <a:lnTo>
                  <a:pt x="2761" y="181"/>
                </a:lnTo>
                <a:lnTo>
                  <a:pt x="2761" y="192"/>
                </a:lnTo>
                <a:lnTo>
                  <a:pt x="2761" y="204"/>
                </a:lnTo>
                <a:lnTo>
                  <a:pt x="2758" y="215"/>
                </a:lnTo>
                <a:lnTo>
                  <a:pt x="2753" y="226"/>
                </a:lnTo>
                <a:lnTo>
                  <a:pt x="2747" y="238"/>
                </a:lnTo>
                <a:lnTo>
                  <a:pt x="2737" y="249"/>
                </a:lnTo>
                <a:lnTo>
                  <a:pt x="2729" y="257"/>
                </a:lnTo>
                <a:lnTo>
                  <a:pt x="2721" y="264"/>
                </a:lnTo>
                <a:lnTo>
                  <a:pt x="2713" y="268"/>
                </a:lnTo>
                <a:lnTo>
                  <a:pt x="2704" y="273"/>
                </a:lnTo>
                <a:lnTo>
                  <a:pt x="2695" y="276"/>
                </a:lnTo>
                <a:lnTo>
                  <a:pt x="2685" y="278"/>
                </a:lnTo>
                <a:lnTo>
                  <a:pt x="2676" y="280"/>
                </a:lnTo>
                <a:lnTo>
                  <a:pt x="2666" y="278"/>
                </a:lnTo>
                <a:lnTo>
                  <a:pt x="2657" y="278"/>
                </a:lnTo>
                <a:lnTo>
                  <a:pt x="2647" y="275"/>
                </a:lnTo>
                <a:lnTo>
                  <a:pt x="2639" y="272"/>
                </a:lnTo>
                <a:lnTo>
                  <a:pt x="2630" y="267"/>
                </a:lnTo>
                <a:lnTo>
                  <a:pt x="2623" y="260"/>
                </a:lnTo>
                <a:lnTo>
                  <a:pt x="2616" y="254"/>
                </a:lnTo>
                <a:lnTo>
                  <a:pt x="2609" y="244"/>
                </a:lnTo>
                <a:lnTo>
                  <a:pt x="2605" y="234"/>
                </a:lnTo>
                <a:lnTo>
                  <a:pt x="2601" y="225"/>
                </a:lnTo>
                <a:lnTo>
                  <a:pt x="2600" y="215"/>
                </a:lnTo>
                <a:lnTo>
                  <a:pt x="2598" y="207"/>
                </a:lnTo>
                <a:lnTo>
                  <a:pt x="2598" y="197"/>
                </a:lnTo>
                <a:lnTo>
                  <a:pt x="2600" y="189"/>
                </a:lnTo>
                <a:lnTo>
                  <a:pt x="2601" y="181"/>
                </a:lnTo>
                <a:lnTo>
                  <a:pt x="2605" y="175"/>
                </a:lnTo>
                <a:lnTo>
                  <a:pt x="2608" y="170"/>
                </a:lnTo>
                <a:lnTo>
                  <a:pt x="2614" y="162"/>
                </a:lnTo>
                <a:lnTo>
                  <a:pt x="2620" y="160"/>
                </a:lnTo>
                <a:lnTo>
                  <a:pt x="2625" y="162"/>
                </a:lnTo>
                <a:lnTo>
                  <a:pt x="2630" y="167"/>
                </a:lnTo>
                <a:lnTo>
                  <a:pt x="2630" y="171"/>
                </a:lnTo>
                <a:lnTo>
                  <a:pt x="2630" y="178"/>
                </a:lnTo>
                <a:lnTo>
                  <a:pt x="2625" y="181"/>
                </a:lnTo>
                <a:lnTo>
                  <a:pt x="2617" y="179"/>
                </a:lnTo>
                <a:lnTo>
                  <a:pt x="2614" y="184"/>
                </a:lnTo>
                <a:lnTo>
                  <a:pt x="2612" y="189"/>
                </a:lnTo>
                <a:lnTo>
                  <a:pt x="2611" y="207"/>
                </a:lnTo>
                <a:lnTo>
                  <a:pt x="2612" y="223"/>
                </a:lnTo>
                <a:lnTo>
                  <a:pt x="2617" y="238"/>
                </a:lnTo>
                <a:lnTo>
                  <a:pt x="2625" y="249"/>
                </a:lnTo>
                <a:lnTo>
                  <a:pt x="2636" y="259"/>
                </a:lnTo>
                <a:lnTo>
                  <a:pt x="2649" y="265"/>
                </a:lnTo>
                <a:lnTo>
                  <a:pt x="2665" y="268"/>
                </a:lnTo>
                <a:lnTo>
                  <a:pt x="2682" y="268"/>
                </a:lnTo>
                <a:lnTo>
                  <a:pt x="2695" y="265"/>
                </a:lnTo>
                <a:lnTo>
                  <a:pt x="2704" y="260"/>
                </a:lnTo>
                <a:lnTo>
                  <a:pt x="2713" y="255"/>
                </a:lnTo>
                <a:lnTo>
                  <a:pt x="2723" y="249"/>
                </a:lnTo>
                <a:lnTo>
                  <a:pt x="2731" y="241"/>
                </a:lnTo>
                <a:lnTo>
                  <a:pt x="2737" y="233"/>
                </a:lnTo>
                <a:lnTo>
                  <a:pt x="2742" y="225"/>
                </a:lnTo>
                <a:lnTo>
                  <a:pt x="2747" y="215"/>
                </a:lnTo>
                <a:lnTo>
                  <a:pt x="2750" y="205"/>
                </a:lnTo>
                <a:lnTo>
                  <a:pt x="2751" y="194"/>
                </a:lnTo>
                <a:lnTo>
                  <a:pt x="2751" y="184"/>
                </a:lnTo>
                <a:lnTo>
                  <a:pt x="2750" y="173"/>
                </a:lnTo>
                <a:lnTo>
                  <a:pt x="2747" y="163"/>
                </a:lnTo>
                <a:lnTo>
                  <a:pt x="2742" y="152"/>
                </a:lnTo>
                <a:lnTo>
                  <a:pt x="2737" y="142"/>
                </a:lnTo>
                <a:lnTo>
                  <a:pt x="2729" y="133"/>
                </a:lnTo>
                <a:lnTo>
                  <a:pt x="2715" y="121"/>
                </a:lnTo>
                <a:lnTo>
                  <a:pt x="2699" y="112"/>
                </a:lnTo>
                <a:lnTo>
                  <a:pt x="2683" y="105"/>
                </a:lnTo>
                <a:lnTo>
                  <a:pt x="2668" y="100"/>
                </a:lnTo>
                <a:lnTo>
                  <a:pt x="2652" y="97"/>
                </a:lnTo>
                <a:lnTo>
                  <a:pt x="2636" y="97"/>
                </a:lnTo>
                <a:lnTo>
                  <a:pt x="2620" y="99"/>
                </a:lnTo>
                <a:lnTo>
                  <a:pt x="2606" y="102"/>
                </a:lnTo>
                <a:lnTo>
                  <a:pt x="2592" y="107"/>
                </a:lnTo>
                <a:lnTo>
                  <a:pt x="2578" y="115"/>
                </a:lnTo>
                <a:lnTo>
                  <a:pt x="2565" y="123"/>
                </a:lnTo>
                <a:lnTo>
                  <a:pt x="2554" y="134"/>
                </a:lnTo>
                <a:lnTo>
                  <a:pt x="2545" y="149"/>
                </a:lnTo>
                <a:lnTo>
                  <a:pt x="2537" y="163"/>
                </a:lnTo>
                <a:lnTo>
                  <a:pt x="2530" y="181"/>
                </a:lnTo>
                <a:lnTo>
                  <a:pt x="2527" y="199"/>
                </a:lnTo>
                <a:lnTo>
                  <a:pt x="2526" y="210"/>
                </a:lnTo>
                <a:lnTo>
                  <a:pt x="2527" y="223"/>
                </a:lnTo>
                <a:lnTo>
                  <a:pt x="2527" y="236"/>
                </a:lnTo>
                <a:lnTo>
                  <a:pt x="2530" y="251"/>
                </a:lnTo>
                <a:lnTo>
                  <a:pt x="2534" y="265"/>
                </a:lnTo>
                <a:lnTo>
                  <a:pt x="2537" y="278"/>
                </a:lnTo>
                <a:lnTo>
                  <a:pt x="2541" y="291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56" y="307"/>
                </a:lnTo>
                <a:lnTo>
                  <a:pt x="2564" y="315"/>
                </a:lnTo>
                <a:lnTo>
                  <a:pt x="2571" y="323"/>
                </a:lnTo>
                <a:lnTo>
                  <a:pt x="2579" y="331"/>
                </a:lnTo>
                <a:lnTo>
                  <a:pt x="2589" y="338"/>
                </a:lnTo>
                <a:lnTo>
                  <a:pt x="2598" y="344"/>
                </a:lnTo>
                <a:lnTo>
                  <a:pt x="2608" y="351"/>
                </a:lnTo>
                <a:lnTo>
                  <a:pt x="2617" y="357"/>
                </a:lnTo>
                <a:lnTo>
                  <a:pt x="2628" y="362"/>
                </a:lnTo>
                <a:lnTo>
                  <a:pt x="2639" y="367"/>
                </a:lnTo>
                <a:lnTo>
                  <a:pt x="2649" y="370"/>
                </a:lnTo>
                <a:lnTo>
                  <a:pt x="2660" y="374"/>
                </a:lnTo>
                <a:lnTo>
                  <a:pt x="2672" y="377"/>
                </a:lnTo>
                <a:lnTo>
                  <a:pt x="2683" y="378"/>
                </a:lnTo>
                <a:lnTo>
                  <a:pt x="2695" y="380"/>
                </a:lnTo>
                <a:lnTo>
                  <a:pt x="2707" y="380"/>
                </a:lnTo>
                <a:lnTo>
                  <a:pt x="2728" y="377"/>
                </a:lnTo>
                <a:lnTo>
                  <a:pt x="2747" y="374"/>
                </a:lnTo>
                <a:lnTo>
                  <a:pt x="2766" y="367"/>
                </a:lnTo>
                <a:lnTo>
                  <a:pt x="2781" y="359"/>
                </a:lnTo>
                <a:lnTo>
                  <a:pt x="2796" y="349"/>
                </a:lnTo>
                <a:lnTo>
                  <a:pt x="2808" y="338"/>
                </a:lnTo>
                <a:lnTo>
                  <a:pt x="2819" y="327"/>
                </a:lnTo>
                <a:lnTo>
                  <a:pt x="2830" y="314"/>
                </a:lnTo>
                <a:lnTo>
                  <a:pt x="2840" y="301"/>
                </a:lnTo>
                <a:lnTo>
                  <a:pt x="2848" y="286"/>
                </a:lnTo>
                <a:lnTo>
                  <a:pt x="2854" y="272"/>
                </a:lnTo>
                <a:lnTo>
                  <a:pt x="2860" y="259"/>
                </a:lnTo>
                <a:lnTo>
                  <a:pt x="2867" y="244"/>
                </a:lnTo>
                <a:lnTo>
                  <a:pt x="2871" y="230"/>
                </a:lnTo>
                <a:lnTo>
                  <a:pt x="2876" y="217"/>
                </a:lnTo>
                <a:lnTo>
                  <a:pt x="2879" y="204"/>
                </a:lnTo>
                <a:lnTo>
                  <a:pt x="2884" y="217"/>
                </a:lnTo>
                <a:lnTo>
                  <a:pt x="2887" y="230"/>
                </a:lnTo>
                <a:lnTo>
                  <a:pt x="2890" y="244"/>
                </a:lnTo>
                <a:lnTo>
                  <a:pt x="2895" y="259"/>
                </a:lnTo>
                <a:lnTo>
                  <a:pt x="2900" y="272"/>
                </a:lnTo>
                <a:lnTo>
                  <a:pt x="2906" y="286"/>
                </a:lnTo>
                <a:lnTo>
                  <a:pt x="2914" y="301"/>
                </a:lnTo>
                <a:lnTo>
                  <a:pt x="2922" y="314"/>
                </a:lnTo>
                <a:lnTo>
                  <a:pt x="2931" y="327"/>
                </a:lnTo>
                <a:lnTo>
                  <a:pt x="2942" y="338"/>
                </a:lnTo>
                <a:lnTo>
                  <a:pt x="2955" y="349"/>
                </a:lnTo>
                <a:lnTo>
                  <a:pt x="2971" y="359"/>
                </a:lnTo>
                <a:lnTo>
                  <a:pt x="2988" y="367"/>
                </a:lnTo>
                <a:lnTo>
                  <a:pt x="3007" y="374"/>
                </a:lnTo>
                <a:lnTo>
                  <a:pt x="3028" y="378"/>
                </a:lnTo>
                <a:lnTo>
                  <a:pt x="3053" y="380"/>
                </a:lnTo>
                <a:lnTo>
                  <a:pt x="3064" y="380"/>
                </a:lnTo>
                <a:lnTo>
                  <a:pt x="3077" y="378"/>
                </a:lnTo>
                <a:lnTo>
                  <a:pt x="3088" y="377"/>
                </a:lnTo>
                <a:lnTo>
                  <a:pt x="3099" y="375"/>
                </a:lnTo>
                <a:lnTo>
                  <a:pt x="3110" y="372"/>
                </a:lnTo>
                <a:lnTo>
                  <a:pt x="3121" y="367"/>
                </a:lnTo>
                <a:lnTo>
                  <a:pt x="3130" y="362"/>
                </a:lnTo>
                <a:lnTo>
                  <a:pt x="3141" y="357"/>
                </a:lnTo>
                <a:lnTo>
                  <a:pt x="3151" y="351"/>
                </a:lnTo>
                <a:lnTo>
                  <a:pt x="3160" y="346"/>
                </a:lnTo>
                <a:lnTo>
                  <a:pt x="3170" y="338"/>
                </a:lnTo>
                <a:lnTo>
                  <a:pt x="3179" y="331"/>
                </a:lnTo>
                <a:lnTo>
                  <a:pt x="3187" y="323"/>
                </a:lnTo>
                <a:lnTo>
                  <a:pt x="3195" y="315"/>
                </a:lnTo>
                <a:lnTo>
                  <a:pt x="3203" y="307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2" y="299"/>
                </a:lnTo>
                <a:lnTo>
                  <a:pt x="3217" y="291"/>
                </a:lnTo>
                <a:lnTo>
                  <a:pt x="3222" y="280"/>
                </a:lnTo>
                <a:lnTo>
                  <a:pt x="3226" y="265"/>
                </a:lnTo>
                <a:lnTo>
                  <a:pt x="3230" y="252"/>
                </a:lnTo>
                <a:lnTo>
                  <a:pt x="3231" y="238"/>
                </a:lnTo>
                <a:lnTo>
                  <a:pt x="3231" y="223"/>
                </a:lnTo>
                <a:lnTo>
                  <a:pt x="3233" y="210"/>
                </a:lnTo>
                <a:lnTo>
                  <a:pt x="3231" y="199"/>
                </a:lnTo>
                <a:lnTo>
                  <a:pt x="3228" y="181"/>
                </a:lnTo>
                <a:lnTo>
                  <a:pt x="3222" y="163"/>
                </a:lnTo>
                <a:lnTo>
                  <a:pt x="3214" y="149"/>
                </a:lnTo>
                <a:lnTo>
                  <a:pt x="3204" y="134"/>
                </a:lnTo>
                <a:lnTo>
                  <a:pt x="3193" y="123"/>
                </a:lnTo>
                <a:lnTo>
                  <a:pt x="3181" y="115"/>
                </a:lnTo>
                <a:lnTo>
                  <a:pt x="3167" y="107"/>
                </a:lnTo>
                <a:lnTo>
                  <a:pt x="3152" y="102"/>
                </a:lnTo>
                <a:lnTo>
                  <a:pt x="3138" y="99"/>
                </a:lnTo>
                <a:lnTo>
                  <a:pt x="3122" y="97"/>
                </a:lnTo>
                <a:lnTo>
                  <a:pt x="3107" y="97"/>
                </a:lnTo>
                <a:lnTo>
                  <a:pt x="3091" y="100"/>
                </a:lnTo>
                <a:lnTo>
                  <a:pt x="3075" y="105"/>
                </a:lnTo>
                <a:lnTo>
                  <a:pt x="3059" y="112"/>
                </a:lnTo>
                <a:lnTo>
                  <a:pt x="3043" y="121"/>
                </a:lnTo>
                <a:lnTo>
                  <a:pt x="3029" y="133"/>
                </a:lnTo>
                <a:lnTo>
                  <a:pt x="3021" y="142"/>
                </a:lnTo>
                <a:lnTo>
                  <a:pt x="3017" y="152"/>
                </a:lnTo>
                <a:lnTo>
                  <a:pt x="3012" y="163"/>
                </a:lnTo>
                <a:lnTo>
                  <a:pt x="3009" y="173"/>
                </a:lnTo>
                <a:lnTo>
                  <a:pt x="3007" y="184"/>
                </a:lnTo>
                <a:lnTo>
                  <a:pt x="3007" y="194"/>
                </a:lnTo>
                <a:lnTo>
                  <a:pt x="3009" y="205"/>
                </a:lnTo>
                <a:lnTo>
                  <a:pt x="3012" y="215"/>
                </a:lnTo>
                <a:lnTo>
                  <a:pt x="3017" y="225"/>
                </a:lnTo>
                <a:lnTo>
                  <a:pt x="3021" y="233"/>
                </a:lnTo>
                <a:lnTo>
                  <a:pt x="3028" y="241"/>
                </a:lnTo>
                <a:lnTo>
                  <a:pt x="3035" y="249"/>
                </a:lnTo>
                <a:lnTo>
                  <a:pt x="3045" y="255"/>
                </a:lnTo>
                <a:lnTo>
                  <a:pt x="3054" y="260"/>
                </a:lnTo>
                <a:lnTo>
                  <a:pt x="3064" y="265"/>
                </a:lnTo>
                <a:lnTo>
                  <a:pt x="3077" y="268"/>
                </a:lnTo>
                <a:lnTo>
                  <a:pt x="3094" y="268"/>
                </a:lnTo>
                <a:lnTo>
                  <a:pt x="3110" y="265"/>
                </a:lnTo>
                <a:lnTo>
                  <a:pt x="3122" y="259"/>
                </a:lnTo>
                <a:lnTo>
                  <a:pt x="3133" y="249"/>
                </a:lnTo>
                <a:lnTo>
                  <a:pt x="3141" y="238"/>
                </a:lnTo>
                <a:lnTo>
                  <a:pt x="3146" y="223"/>
                </a:lnTo>
                <a:lnTo>
                  <a:pt x="3148" y="207"/>
                </a:lnTo>
                <a:lnTo>
                  <a:pt x="3146" y="189"/>
                </a:lnTo>
                <a:lnTo>
                  <a:pt x="3144" y="184"/>
                </a:lnTo>
                <a:lnTo>
                  <a:pt x="3141" y="179"/>
                </a:lnTo>
                <a:lnTo>
                  <a:pt x="3133" y="181"/>
                </a:lnTo>
                <a:lnTo>
                  <a:pt x="3129" y="178"/>
                </a:lnTo>
                <a:lnTo>
                  <a:pt x="3129" y="171"/>
                </a:lnTo>
                <a:lnTo>
                  <a:pt x="3130" y="167"/>
                </a:lnTo>
                <a:lnTo>
                  <a:pt x="3133" y="162"/>
                </a:lnTo>
                <a:lnTo>
                  <a:pt x="3138" y="160"/>
                </a:lnTo>
                <a:lnTo>
                  <a:pt x="3144" y="162"/>
                </a:lnTo>
                <a:lnTo>
                  <a:pt x="3151" y="170"/>
                </a:lnTo>
                <a:lnTo>
                  <a:pt x="3154" y="175"/>
                </a:lnTo>
                <a:lnTo>
                  <a:pt x="3157" y="181"/>
                </a:lnTo>
                <a:lnTo>
                  <a:pt x="3159" y="189"/>
                </a:lnTo>
                <a:lnTo>
                  <a:pt x="3160" y="197"/>
                </a:lnTo>
                <a:lnTo>
                  <a:pt x="3160" y="207"/>
                </a:lnTo>
                <a:lnTo>
                  <a:pt x="3159" y="215"/>
                </a:lnTo>
                <a:lnTo>
                  <a:pt x="3157" y="225"/>
                </a:lnTo>
                <a:lnTo>
                  <a:pt x="3154" y="234"/>
                </a:lnTo>
                <a:lnTo>
                  <a:pt x="3149" y="244"/>
                </a:lnTo>
                <a:lnTo>
                  <a:pt x="3143" y="254"/>
                </a:lnTo>
                <a:lnTo>
                  <a:pt x="3135" y="260"/>
                </a:lnTo>
                <a:lnTo>
                  <a:pt x="3129" y="267"/>
                </a:lnTo>
                <a:lnTo>
                  <a:pt x="3119" y="272"/>
                </a:lnTo>
                <a:lnTo>
                  <a:pt x="3111" y="275"/>
                </a:lnTo>
                <a:lnTo>
                  <a:pt x="3102" y="278"/>
                </a:lnTo>
                <a:lnTo>
                  <a:pt x="3092" y="278"/>
                </a:lnTo>
                <a:lnTo>
                  <a:pt x="3083" y="280"/>
                </a:lnTo>
                <a:lnTo>
                  <a:pt x="3073" y="278"/>
                </a:lnTo>
                <a:lnTo>
                  <a:pt x="3064" y="276"/>
                </a:lnTo>
                <a:lnTo>
                  <a:pt x="3054" y="273"/>
                </a:lnTo>
                <a:lnTo>
                  <a:pt x="3045" y="268"/>
                </a:lnTo>
                <a:lnTo>
                  <a:pt x="3037" y="264"/>
                </a:lnTo>
                <a:lnTo>
                  <a:pt x="3029" y="257"/>
                </a:lnTo>
                <a:lnTo>
                  <a:pt x="3021" y="249"/>
                </a:lnTo>
                <a:lnTo>
                  <a:pt x="3012" y="238"/>
                </a:lnTo>
                <a:lnTo>
                  <a:pt x="3005" y="226"/>
                </a:lnTo>
                <a:lnTo>
                  <a:pt x="3001" y="215"/>
                </a:lnTo>
                <a:lnTo>
                  <a:pt x="2998" y="204"/>
                </a:lnTo>
                <a:lnTo>
                  <a:pt x="2998" y="192"/>
                </a:lnTo>
                <a:lnTo>
                  <a:pt x="2998" y="181"/>
                </a:lnTo>
                <a:lnTo>
                  <a:pt x="2999" y="170"/>
                </a:lnTo>
                <a:lnTo>
                  <a:pt x="3002" y="160"/>
                </a:lnTo>
                <a:lnTo>
                  <a:pt x="3007" y="149"/>
                </a:lnTo>
                <a:lnTo>
                  <a:pt x="3013" y="139"/>
                </a:lnTo>
                <a:lnTo>
                  <a:pt x="3020" y="131"/>
                </a:lnTo>
                <a:lnTo>
                  <a:pt x="3029" y="121"/>
                </a:lnTo>
                <a:lnTo>
                  <a:pt x="3037" y="115"/>
                </a:lnTo>
                <a:lnTo>
                  <a:pt x="3048" y="107"/>
                </a:lnTo>
                <a:lnTo>
                  <a:pt x="3059" y="102"/>
                </a:lnTo>
                <a:lnTo>
                  <a:pt x="3072" y="97"/>
                </a:lnTo>
                <a:lnTo>
                  <a:pt x="3088" y="90"/>
                </a:lnTo>
                <a:lnTo>
                  <a:pt x="3103" y="87"/>
                </a:lnTo>
                <a:lnTo>
                  <a:pt x="3121" y="87"/>
                </a:lnTo>
                <a:lnTo>
                  <a:pt x="3135" y="87"/>
                </a:lnTo>
                <a:lnTo>
                  <a:pt x="3151" y="90"/>
                </a:lnTo>
                <a:lnTo>
                  <a:pt x="3165" y="95"/>
                </a:lnTo>
                <a:lnTo>
                  <a:pt x="3178" y="100"/>
                </a:lnTo>
                <a:lnTo>
                  <a:pt x="3190" y="108"/>
                </a:lnTo>
                <a:lnTo>
                  <a:pt x="3201" y="118"/>
                </a:lnTo>
                <a:lnTo>
                  <a:pt x="3211" y="129"/>
                </a:lnTo>
                <a:lnTo>
                  <a:pt x="3220" y="141"/>
                </a:lnTo>
                <a:lnTo>
                  <a:pt x="3228" y="154"/>
                </a:lnTo>
                <a:lnTo>
                  <a:pt x="3234" y="168"/>
                </a:lnTo>
                <a:lnTo>
                  <a:pt x="3238" y="184"/>
                </a:lnTo>
                <a:lnTo>
                  <a:pt x="3241" y="200"/>
                </a:lnTo>
                <a:lnTo>
                  <a:pt x="3242" y="218"/>
                </a:lnTo>
                <a:lnTo>
                  <a:pt x="3241" y="230"/>
                </a:lnTo>
                <a:lnTo>
                  <a:pt x="3241" y="241"/>
                </a:lnTo>
                <a:lnTo>
                  <a:pt x="3238" y="252"/>
                </a:lnTo>
                <a:lnTo>
                  <a:pt x="3236" y="265"/>
                </a:lnTo>
                <a:lnTo>
                  <a:pt x="3233" y="276"/>
                </a:lnTo>
                <a:lnTo>
                  <a:pt x="3228" y="286"/>
                </a:lnTo>
                <a:lnTo>
                  <a:pt x="3225" y="298"/>
                </a:lnTo>
                <a:lnTo>
                  <a:pt x="3220" y="307"/>
                </a:lnTo>
                <a:lnTo>
                  <a:pt x="3228" y="314"/>
                </a:lnTo>
                <a:lnTo>
                  <a:pt x="3238" y="322"/>
                </a:lnTo>
                <a:lnTo>
                  <a:pt x="3249" y="328"/>
                </a:lnTo>
                <a:lnTo>
                  <a:pt x="3258" y="335"/>
                </a:lnTo>
                <a:lnTo>
                  <a:pt x="3269" y="341"/>
                </a:lnTo>
                <a:lnTo>
                  <a:pt x="3282" y="346"/>
                </a:lnTo>
                <a:lnTo>
                  <a:pt x="3293" y="351"/>
                </a:lnTo>
                <a:lnTo>
                  <a:pt x="3305" y="356"/>
                </a:lnTo>
                <a:lnTo>
                  <a:pt x="3318" y="361"/>
                </a:lnTo>
                <a:lnTo>
                  <a:pt x="3331" y="364"/>
                </a:lnTo>
                <a:lnTo>
                  <a:pt x="3343" y="367"/>
                </a:lnTo>
                <a:lnTo>
                  <a:pt x="3356" y="369"/>
                </a:lnTo>
                <a:lnTo>
                  <a:pt x="3370" y="372"/>
                </a:lnTo>
                <a:lnTo>
                  <a:pt x="3384" y="374"/>
                </a:lnTo>
                <a:lnTo>
                  <a:pt x="3399" y="374"/>
                </a:lnTo>
                <a:lnTo>
                  <a:pt x="3413" y="374"/>
                </a:lnTo>
                <a:lnTo>
                  <a:pt x="3427" y="374"/>
                </a:lnTo>
                <a:lnTo>
                  <a:pt x="3443" y="372"/>
                </a:lnTo>
                <a:lnTo>
                  <a:pt x="3455" y="370"/>
                </a:lnTo>
                <a:lnTo>
                  <a:pt x="3470" y="369"/>
                </a:lnTo>
                <a:lnTo>
                  <a:pt x="3484" y="365"/>
                </a:lnTo>
                <a:lnTo>
                  <a:pt x="3498" y="362"/>
                </a:lnTo>
                <a:lnTo>
                  <a:pt x="3512" y="357"/>
                </a:lnTo>
                <a:lnTo>
                  <a:pt x="3525" y="353"/>
                </a:lnTo>
                <a:lnTo>
                  <a:pt x="3537" y="348"/>
                </a:lnTo>
                <a:lnTo>
                  <a:pt x="3550" y="341"/>
                </a:lnTo>
                <a:lnTo>
                  <a:pt x="3561" y="335"/>
                </a:lnTo>
                <a:lnTo>
                  <a:pt x="3574" y="328"/>
                </a:lnTo>
                <a:lnTo>
                  <a:pt x="3585" y="320"/>
                </a:lnTo>
                <a:lnTo>
                  <a:pt x="3594" y="312"/>
                </a:lnTo>
                <a:lnTo>
                  <a:pt x="3605" y="304"/>
                </a:lnTo>
                <a:lnTo>
                  <a:pt x="3615" y="294"/>
                </a:lnTo>
                <a:lnTo>
                  <a:pt x="3602" y="286"/>
                </a:lnTo>
                <a:lnTo>
                  <a:pt x="3591" y="278"/>
                </a:lnTo>
                <a:lnTo>
                  <a:pt x="3582" y="270"/>
                </a:lnTo>
                <a:lnTo>
                  <a:pt x="3574" y="260"/>
                </a:lnTo>
                <a:lnTo>
                  <a:pt x="3566" y="251"/>
                </a:lnTo>
                <a:lnTo>
                  <a:pt x="3560" y="241"/>
                </a:lnTo>
                <a:lnTo>
                  <a:pt x="3556" y="231"/>
                </a:lnTo>
                <a:lnTo>
                  <a:pt x="3553" y="221"/>
                </a:lnTo>
                <a:lnTo>
                  <a:pt x="3552" y="212"/>
                </a:lnTo>
                <a:lnTo>
                  <a:pt x="3553" y="202"/>
                </a:lnTo>
                <a:lnTo>
                  <a:pt x="3556" y="192"/>
                </a:lnTo>
                <a:lnTo>
                  <a:pt x="3563" y="184"/>
                </a:lnTo>
                <a:lnTo>
                  <a:pt x="3569" y="176"/>
                </a:lnTo>
                <a:lnTo>
                  <a:pt x="3577" y="168"/>
                </a:lnTo>
                <a:lnTo>
                  <a:pt x="3586" y="160"/>
                </a:lnTo>
                <a:lnTo>
                  <a:pt x="3597" y="152"/>
                </a:lnTo>
                <a:lnTo>
                  <a:pt x="3610" y="147"/>
                </a:lnTo>
                <a:lnTo>
                  <a:pt x="3623" y="141"/>
                </a:lnTo>
                <a:lnTo>
                  <a:pt x="3637" y="136"/>
                </a:lnTo>
                <a:lnTo>
                  <a:pt x="3653" y="131"/>
                </a:lnTo>
                <a:lnTo>
                  <a:pt x="3668" y="128"/>
                </a:lnTo>
                <a:lnTo>
                  <a:pt x="3684" y="126"/>
                </a:lnTo>
                <a:lnTo>
                  <a:pt x="3700" y="124"/>
                </a:lnTo>
                <a:lnTo>
                  <a:pt x="3717" y="123"/>
                </a:lnTo>
                <a:lnTo>
                  <a:pt x="3733" y="124"/>
                </a:lnTo>
                <a:lnTo>
                  <a:pt x="3751" y="126"/>
                </a:lnTo>
                <a:lnTo>
                  <a:pt x="3766" y="128"/>
                </a:lnTo>
                <a:lnTo>
                  <a:pt x="3781" y="131"/>
                </a:lnTo>
                <a:lnTo>
                  <a:pt x="3795" y="136"/>
                </a:lnTo>
                <a:lnTo>
                  <a:pt x="3809" y="141"/>
                </a:lnTo>
                <a:lnTo>
                  <a:pt x="3822" y="147"/>
                </a:lnTo>
                <a:lnTo>
                  <a:pt x="3833" y="152"/>
                </a:lnTo>
                <a:lnTo>
                  <a:pt x="3844" y="160"/>
                </a:lnTo>
                <a:lnTo>
                  <a:pt x="3853" y="168"/>
                </a:lnTo>
                <a:lnTo>
                  <a:pt x="3861" y="176"/>
                </a:lnTo>
                <a:lnTo>
                  <a:pt x="3869" y="184"/>
                </a:lnTo>
                <a:lnTo>
                  <a:pt x="3874" y="192"/>
                </a:lnTo>
                <a:lnTo>
                  <a:pt x="3878" y="202"/>
                </a:lnTo>
                <a:lnTo>
                  <a:pt x="3880" y="212"/>
                </a:lnTo>
                <a:lnTo>
                  <a:pt x="3882" y="221"/>
                </a:lnTo>
                <a:lnTo>
                  <a:pt x="3880" y="234"/>
                </a:lnTo>
                <a:lnTo>
                  <a:pt x="3874" y="246"/>
                </a:lnTo>
                <a:lnTo>
                  <a:pt x="3866" y="259"/>
                </a:lnTo>
                <a:lnTo>
                  <a:pt x="3856" y="270"/>
                </a:lnTo>
                <a:lnTo>
                  <a:pt x="3842" y="280"/>
                </a:lnTo>
                <a:lnTo>
                  <a:pt x="3828" y="289"/>
                </a:lnTo>
                <a:lnTo>
                  <a:pt x="3811" y="299"/>
                </a:lnTo>
                <a:lnTo>
                  <a:pt x="3793" y="307"/>
                </a:lnTo>
                <a:lnTo>
                  <a:pt x="3799" y="315"/>
                </a:lnTo>
                <a:lnTo>
                  <a:pt x="3807" y="323"/>
                </a:lnTo>
                <a:lnTo>
                  <a:pt x="3818" y="331"/>
                </a:lnTo>
                <a:lnTo>
                  <a:pt x="3829" y="336"/>
                </a:lnTo>
                <a:lnTo>
                  <a:pt x="3841" y="341"/>
                </a:lnTo>
                <a:lnTo>
                  <a:pt x="3855" y="344"/>
                </a:lnTo>
                <a:lnTo>
                  <a:pt x="3869" y="348"/>
                </a:lnTo>
                <a:lnTo>
                  <a:pt x="3883" y="348"/>
                </a:lnTo>
                <a:lnTo>
                  <a:pt x="3901" y="348"/>
                </a:lnTo>
                <a:lnTo>
                  <a:pt x="3916" y="344"/>
                </a:lnTo>
                <a:lnTo>
                  <a:pt x="3931" y="340"/>
                </a:lnTo>
                <a:lnTo>
                  <a:pt x="3945" y="333"/>
                </a:lnTo>
                <a:lnTo>
                  <a:pt x="3956" y="325"/>
                </a:lnTo>
                <a:lnTo>
                  <a:pt x="3965" y="317"/>
                </a:lnTo>
                <a:lnTo>
                  <a:pt x="3973" y="309"/>
                </a:lnTo>
                <a:lnTo>
                  <a:pt x="3978" y="299"/>
                </a:lnTo>
                <a:lnTo>
                  <a:pt x="3984" y="307"/>
                </a:lnTo>
                <a:lnTo>
                  <a:pt x="3990" y="314"/>
                </a:lnTo>
                <a:lnTo>
                  <a:pt x="3998" y="322"/>
                </a:lnTo>
                <a:lnTo>
                  <a:pt x="4006" y="328"/>
                </a:lnTo>
                <a:lnTo>
                  <a:pt x="4014" y="335"/>
                </a:lnTo>
                <a:lnTo>
                  <a:pt x="4024" y="341"/>
                </a:lnTo>
                <a:lnTo>
                  <a:pt x="4033" y="346"/>
                </a:lnTo>
                <a:lnTo>
                  <a:pt x="4043" y="353"/>
                </a:lnTo>
                <a:lnTo>
                  <a:pt x="4052" y="356"/>
                </a:lnTo>
                <a:lnTo>
                  <a:pt x="4062" y="361"/>
                </a:lnTo>
                <a:lnTo>
                  <a:pt x="4073" y="364"/>
                </a:lnTo>
                <a:lnTo>
                  <a:pt x="4082" y="365"/>
                </a:lnTo>
                <a:lnTo>
                  <a:pt x="4093" y="367"/>
                </a:lnTo>
                <a:lnTo>
                  <a:pt x="4104" y="369"/>
                </a:lnTo>
                <a:lnTo>
                  <a:pt x="4114" y="369"/>
                </a:lnTo>
                <a:lnTo>
                  <a:pt x="4125" y="367"/>
                </a:lnTo>
                <a:lnTo>
                  <a:pt x="4134" y="365"/>
                </a:lnTo>
                <a:lnTo>
                  <a:pt x="4144" y="365"/>
                </a:lnTo>
                <a:lnTo>
                  <a:pt x="4153" y="364"/>
                </a:lnTo>
                <a:lnTo>
                  <a:pt x="4163" y="361"/>
                </a:lnTo>
                <a:lnTo>
                  <a:pt x="4172" y="359"/>
                </a:lnTo>
                <a:lnTo>
                  <a:pt x="4183" y="357"/>
                </a:lnTo>
                <a:lnTo>
                  <a:pt x="4191" y="354"/>
                </a:lnTo>
                <a:lnTo>
                  <a:pt x="4200" y="353"/>
                </a:lnTo>
                <a:lnTo>
                  <a:pt x="4202" y="351"/>
                </a:lnTo>
                <a:lnTo>
                  <a:pt x="4207" y="349"/>
                </a:lnTo>
                <a:lnTo>
                  <a:pt x="4216" y="346"/>
                </a:lnTo>
                <a:lnTo>
                  <a:pt x="4227" y="341"/>
                </a:lnTo>
                <a:lnTo>
                  <a:pt x="4241" y="335"/>
                </a:lnTo>
                <a:lnTo>
                  <a:pt x="4259" y="328"/>
                </a:lnTo>
                <a:lnTo>
                  <a:pt x="4278" y="320"/>
                </a:lnTo>
                <a:lnTo>
                  <a:pt x="4300" y="310"/>
                </a:lnTo>
                <a:lnTo>
                  <a:pt x="4324" y="301"/>
                </a:lnTo>
                <a:lnTo>
                  <a:pt x="4349" y="291"/>
                </a:lnTo>
                <a:lnTo>
                  <a:pt x="4377" y="280"/>
                </a:lnTo>
                <a:lnTo>
                  <a:pt x="4406" y="268"/>
                </a:lnTo>
                <a:lnTo>
                  <a:pt x="4437" y="257"/>
                </a:lnTo>
                <a:lnTo>
                  <a:pt x="4469" y="244"/>
                </a:lnTo>
                <a:lnTo>
                  <a:pt x="4500" y="231"/>
                </a:lnTo>
                <a:lnTo>
                  <a:pt x="4533" y="220"/>
                </a:lnTo>
                <a:lnTo>
                  <a:pt x="4568" y="207"/>
                </a:lnTo>
                <a:lnTo>
                  <a:pt x="4601" y="194"/>
                </a:lnTo>
                <a:lnTo>
                  <a:pt x="4636" y="183"/>
                </a:lnTo>
                <a:lnTo>
                  <a:pt x="4671" y="170"/>
                </a:lnTo>
                <a:lnTo>
                  <a:pt x="4706" y="158"/>
                </a:lnTo>
                <a:lnTo>
                  <a:pt x="4740" y="147"/>
                </a:lnTo>
                <a:lnTo>
                  <a:pt x="4773" y="137"/>
                </a:lnTo>
                <a:lnTo>
                  <a:pt x="4807" y="128"/>
                </a:lnTo>
                <a:lnTo>
                  <a:pt x="4838" y="118"/>
                </a:lnTo>
                <a:lnTo>
                  <a:pt x="4870" y="110"/>
                </a:lnTo>
                <a:lnTo>
                  <a:pt x="4900" y="103"/>
                </a:lnTo>
                <a:lnTo>
                  <a:pt x="4928" y="97"/>
                </a:lnTo>
                <a:lnTo>
                  <a:pt x="4955" y="92"/>
                </a:lnTo>
                <a:lnTo>
                  <a:pt x="4980" y="89"/>
                </a:lnTo>
                <a:lnTo>
                  <a:pt x="5004" y="86"/>
                </a:lnTo>
                <a:lnTo>
                  <a:pt x="5024" y="86"/>
                </a:lnTo>
                <a:lnTo>
                  <a:pt x="5045" y="86"/>
                </a:lnTo>
                <a:lnTo>
                  <a:pt x="5065" y="87"/>
                </a:lnTo>
                <a:lnTo>
                  <a:pt x="5084" y="90"/>
                </a:lnTo>
                <a:lnTo>
                  <a:pt x="5102" y="94"/>
                </a:lnTo>
                <a:lnTo>
                  <a:pt x="5119" y="99"/>
                </a:lnTo>
                <a:lnTo>
                  <a:pt x="5136" y="105"/>
                </a:lnTo>
                <a:lnTo>
                  <a:pt x="5151" y="112"/>
                </a:lnTo>
                <a:lnTo>
                  <a:pt x="5165" y="120"/>
                </a:lnTo>
                <a:lnTo>
                  <a:pt x="5178" y="128"/>
                </a:lnTo>
                <a:lnTo>
                  <a:pt x="5190" y="137"/>
                </a:lnTo>
                <a:lnTo>
                  <a:pt x="5200" y="147"/>
                </a:lnTo>
                <a:lnTo>
                  <a:pt x="5208" y="157"/>
                </a:lnTo>
                <a:lnTo>
                  <a:pt x="5214" y="168"/>
                </a:lnTo>
                <a:lnTo>
                  <a:pt x="5219" y="179"/>
                </a:lnTo>
                <a:lnTo>
                  <a:pt x="5222" y="191"/>
                </a:lnTo>
                <a:lnTo>
                  <a:pt x="5223" y="204"/>
                </a:lnTo>
                <a:lnTo>
                  <a:pt x="5222" y="215"/>
                </a:lnTo>
                <a:lnTo>
                  <a:pt x="5219" y="226"/>
                </a:lnTo>
                <a:lnTo>
                  <a:pt x="5214" y="238"/>
                </a:lnTo>
                <a:lnTo>
                  <a:pt x="5208" y="249"/>
                </a:lnTo>
                <a:lnTo>
                  <a:pt x="5198" y="259"/>
                </a:lnTo>
                <a:lnTo>
                  <a:pt x="5189" y="268"/>
                </a:lnTo>
                <a:lnTo>
                  <a:pt x="5178" y="276"/>
                </a:lnTo>
                <a:lnTo>
                  <a:pt x="5165" y="283"/>
                </a:lnTo>
                <a:lnTo>
                  <a:pt x="5178" y="288"/>
                </a:lnTo>
                <a:lnTo>
                  <a:pt x="5190" y="293"/>
                </a:lnTo>
                <a:lnTo>
                  <a:pt x="5204" y="296"/>
                </a:lnTo>
                <a:lnTo>
                  <a:pt x="5219" y="301"/>
                </a:lnTo>
                <a:lnTo>
                  <a:pt x="5233" y="304"/>
                </a:lnTo>
                <a:lnTo>
                  <a:pt x="5247" y="306"/>
                </a:lnTo>
                <a:lnTo>
                  <a:pt x="5263" y="307"/>
                </a:lnTo>
                <a:lnTo>
                  <a:pt x="5277" y="309"/>
                </a:lnTo>
                <a:lnTo>
                  <a:pt x="5288" y="309"/>
                </a:lnTo>
                <a:lnTo>
                  <a:pt x="5297" y="309"/>
                </a:lnTo>
                <a:lnTo>
                  <a:pt x="5307" y="307"/>
                </a:lnTo>
                <a:lnTo>
                  <a:pt x="5316" y="306"/>
                </a:lnTo>
                <a:lnTo>
                  <a:pt x="5326" y="304"/>
                </a:lnTo>
                <a:lnTo>
                  <a:pt x="5335" y="302"/>
                </a:lnTo>
                <a:lnTo>
                  <a:pt x="5345" y="301"/>
                </a:lnTo>
                <a:lnTo>
                  <a:pt x="5354" y="298"/>
                </a:lnTo>
                <a:lnTo>
                  <a:pt x="5364" y="294"/>
                </a:lnTo>
                <a:lnTo>
                  <a:pt x="5372" y="291"/>
                </a:lnTo>
                <a:lnTo>
                  <a:pt x="5380" y="288"/>
                </a:lnTo>
                <a:lnTo>
                  <a:pt x="5387" y="283"/>
                </a:lnTo>
                <a:lnTo>
                  <a:pt x="5395" y="280"/>
                </a:lnTo>
                <a:lnTo>
                  <a:pt x="5403" y="275"/>
                </a:lnTo>
                <a:lnTo>
                  <a:pt x="5410" y="270"/>
                </a:lnTo>
                <a:lnTo>
                  <a:pt x="5416" y="265"/>
                </a:lnTo>
                <a:lnTo>
                  <a:pt x="5414" y="259"/>
                </a:lnTo>
                <a:lnTo>
                  <a:pt x="5413" y="254"/>
                </a:lnTo>
                <a:lnTo>
                  <a:pt x="5411" y="249"/>
                </a:lnTo>
                <a:lnTo>
                  <a:pt x="5411" y="244"/>
                </a:lnTo>
                <a:close/>
              </a:path>
            </a:pathLst>
          </a:cu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55632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244"/>
                </a:moveTo>
                <a:lnTo>
                  <a:pt x="5411" y="244"/>
                </a:lnTo>
                <a:lnTo>
                  <a:pt x="5410" y="220"/>
                </a:lnTo>
                <a:lnTo>
                  <a:pt x="5411" y="199"/>
                </a:lnTo>
                <a:lnTo>
                  <a:pt x="5416" y="179"/>
                </a:lnTo>
                <a:lnTo>
                  <a:pt x="5425" y="162"/>
                </a:lnTo>
                <a:lnTo>
                  <a:pt x="5438" y="149"/>
                </a:lnTo>
                <a:lnTo>
                  <a:pt x="5454" y="137"/>
                </a:lnTo>
                <a:lnTo>
                  <a:pt x="5473" y="129"/>
                </a:lnTo>
                <a:lnTo>
                  <a:pt x="5495" y="124"/>
                </a:lnTo>
                <a:lnTo>
                  <a:pt x="5495" y="124"/>
                </a:lnTo>
                <a:lnTo>
                  <a:pt x="5515" y="126"/>
                </a:lnTo>
                <a:lnTo>
                  <a:pt x="5533" y="134"/>
                </a:lnTo>
                <a:lnTo>
                  <a:pt x="5548" y="144"/>
                </a:lnTo>
                <a:lnTo>
                  <a:pt x="5561" y="158"/>
                </a:lnTo>
                <a:lnTo>
                  <a:pt x="5569" y="175"/>
                </a:lnTo>
                <a:lnTo>
                  <a:pt x="5572" y="194"/>
                </a:lnTo>
                <a:lnTo>
                  <a:pt x="5571" y="213"/>
                </a:lnTo>
                <a:lnTo>
                  <a:pt x="5563" y="233"/>
                </a:lnTo>
                <a:lnTo>
                  <a:pt x="5563" y="233"/>
                </a:lnTo>
                <a:lnTo>
                  <a:pt x="5553" y="243"/>
                </a:lnTo>
                <a:lnTo>
                  <a:pt x="5544" y="251"/>
                </a:lnTo>
                <a:lnTo>
                  <a:pt x="5534" y="255"/>
                </a:lnTo>
                <a:lnTo>
                  <a:pt x="5523" y="257"/>
                </a:lnTo>
                <a:lnTo>
                  <a:pt x="5514" y="257"/>
                </a:lnTo>
                <a:lnTo>
                  <a:pt x="5503" y="254"/>
                </a:lnTo>
                <a:lnTo>
                  <a:pt x="5493" y="247"/>
                </a:lnTo>
                <a:lnTo>
                  <a:pt x="5484" y="238"/>
                </a:lnTo>
                <a:lnTo>
                  <a:pt x="5484" y="238"/>
                </a:lnTo>
                <a:lnTo>
                  <a:pt x="5479" y="230"/>
                </a:lnTo>
                <a:lnTo>
                  <a:pt x="5477" y="220"/>
                </a:lnTo>
                <a:lnTo>
                  <a:pt x="5477" y="212"/>
                </a:lnTo>
                <a:lnTo>
                  <a:pt x="5477" y="205"/>
                </a:lnTo>
                <a:lnTo>
                  <a:pt x="5479" y="197"/>
                </a:lnTo>
                <a:lnTo>
                  <a:pt x="5482" y="189"/>
                </a:lnTo>
                <a:lnTo>
                  <a:pt x="5485" y="181"/>
                </a:lnTo>
                <a:lnTo>
                  <a:pt x="5487" y="173"/>
                </a:lnTo>
                <a:lnTo>
                  <a:pt x="5487" y="173"/>
                </a:lnTo>
                <a:lnTo>
                  <a:pt x="5493" y="167"/>
                </a:lnTo>
                <a:lnTo>
                  <a:pt x="5498" y="165"/>
                </a:lnTo>
                <a:lnTo>
                  <a:pt x="5501" y="167"/>
                </a:lnTo>
                <a:lnTo>
                  <a:pt x="5504" y="170"/>
                </a:lnTo>
                <a:lnTo>
                  <a:pt x="5506" y="173"/>
                </a:lnTo>
                <a:lnTo>
                  <a:pt x="5506" y="178"/>
                </a:lnTo>
                <a:lnTo>
                  <a:pt x="5501" y="181"/>
                </a:lnTo>
                <a:lnTo>
                  <a:pt x="5496" y="183"/>
                </a:lnTo>
                <a:lnTo>
                  <a:pt x="5496" y="183"/>
                </a:lnTo>
                <a:lnTo>
                  <a:pt x="5488" y="200"/>
                </a:lnTo>
                <a:lnTo>
                  <a:pt x="5487" y="217"/>
                </a:lnTo>
                <a:lnTo>
                  <a:pt x="5492" y="231"/>
                </a:lnTo>
                <a:lnTo>
                  <a:pt x="5500" y="241"/>
                </a:lnTo>
                <a:lnTo>
                  <a:pt x="5512" y="246"/>
                </a:lnTo>
                <a:lnTo>
                  <a:pt x="5526" y="246"/>
                </a:lnTo>
                <a:lnTo>
                  <a:pt x="5541" y="241"/>
                </a:lnTo>
                <a:lnTo>
                  <a:pt x="5555" y="226"/>
                </a:lnTo>
                <a:lnTo>
                  <a:pt x="5555" y="226"/>
                </a:lnTo>
                <a:lnTo>
                  <a:pt x="5560" y="215"/>
                </a:lnTo>
                <a:lnTo>
                  <a:pt x="5561" y="204"/>
                </a:lnTo>
                <a:lnTo>
                  <a:pt x="5563" y="192"/>
                </a:lnTo>
                <a:lnTo>
                  <a:pt x="5561" y="183"/>
                </a:lnTo>
                <a:lnTo>
                  <a:pt x="5558" y="173"/>
                </a:lnTo>
                <a:lnTo>
                  <a:pt x="5553" y="163"/>
                </a:lnTo>
                <a:lnTo>
                  <a:pt x="5547" y="157"/>
                </a:lnTo>
                <a:lnTo>
                  <a:pt x="5539" y="150"/>
                </a:lnTo>
                <a:lnTo>
                  <a:pt x="5531" y="144"/>
                </a:lnTo>
                <a:lnTo>
                  <a:pt x="5522" y="141"/>
                </a:lnTo>
                <a:lnTo>
                  <a:pt x="5512" y="137"/>
                </a:lnTo>
                <a:lnTo>
                  <a:pt x="5501" y="136"/>
                </a:lnTo>
                <a:lnTo>
                  <a:pt x="5490" y="136"/>
                </a:lnTo>
                <a:lnTo>
                  <a:pt x="5479" y="137"/>
                </a:lnTo>
                <a:lnTo>
                  <a:pt x="5468" y="141"/>
                </a:lnTo>
                <a:lnTo>
                  <a:pt x="5459" y="145"/>
                </a:lnTo>
                <a:lnTo>
                  <a:pt x="5459" y="145"/>
                </a:lnTo>
                <a:lnTo>
                  <a:pt x="5444" y="155"/>
                </a:lnTo>
                <a:lnTo>
                  <a:pt x="5435" y="165"/>
                </a:lnTo>
                <a:lnTo>
                  <a:pt x="5427" y="178"/>
                </a:lnTo>
                <a:lnTo>
                  <a:pt x="5422" y="192"/>
                </a:lnTo>
                <a:lnTo>
                  <a:pt x="5419" y="207"/>
                </a:lnTo>
                <a:lnTo>
                  <a:pt x="5419" y="221"/>
                </a:lnTo>
                <a:lnTo>
                  <a:pt x="5421" y="238"/>
                </a:lnTo>
                <a:lnTo>
                  <a:pt x="5424" y="254"/>
                </a:lnTo>
                <a:lnTo>
                  <a:pt x="5425" y="257"/>
                </a:lnTo>
                <a:lnTo>
                  <a:pt x="5429" y="262"/>
                </a:lnTo>
                <a:lnTo>
                  <a:pt x="5427" y="262"/>
                </a:lnTo>
                <a:lnTo>
                  <a:pt x="5427" y="262"/>
                </a:lnTo>
                <a:lnTo>
                  <a:pt x="5432" y="267"/>
                </a:lnTo>
                <a:lnTo>
                  <a:pt x="5438" y="275"/>
                </a:lnTo>
                <a:lnTo>
                  <a:pt x="5447" y="281"/>
                </a:lnTo>
                <a:lnTo>
                  <a:pt x="5460" y="289"/>
                </a:lnTo>
                <a:lnTo>
                  <a:pt x="5476" y="296"/>
                </a:lnTo>
                <a:lnTo>
                  <a:pt x="5495" y="301"/>
                </a:lnTo>
                <a:lnTo>
                  <a:pt x="5518" y="306"/>
                </a:lnTo>
                <a:lnTo>
                  <a:pt x="5545" y="306"/>
                </a:lnTo>
                <a:lnTo>
                  <a:pt x="5545" y="306"/>
                </a:lnTo>
                <a:lnTo>
                  <a:pt x="5564" y="304"/>
                </a:lnTo>
                <a:lnTo>
                  <a:pt x="5582" y="298"/>
                </a:lnTo>
                <a:lnTo>
                  <a:pt x="5599" y="289"/>
                </a:lnTo>
                <a:lnTo>
                  <a:pt x="5616" y="278"/>
                </a:lnTo>
                <a:lnTo>
                  <a:pt x="5634" y="265"/>
                </a:lnTo>
                <a:lnTo>
                  <a:pt x="5650" y="251"/>
                </a:lnTo>
                <a:lnTo>
                  <a:pt x="5665" y="234"/>
                </a:lnTo>
                <a:lnTo>
                  <a:pt x="5679" y="218"/>
                </a:lnTo>
                <a:lnTo>
                  <a:pt x="5692" y="200"/>
                </a:lnTo>
                <a:lnTo>
                  <a:pt x="5705" y="184"/>
                </a:lnTo>
                <a:lnTo>
                  <a:pt x="5716" y="168"/>
                </a:lnTo>
                <a:lnTo>
                  <a:pt x="5725" y="152"/>
                </a:lnTo>
                <a:lnTo>
                  <a:pt x="5733" y="139"/>
                </a:lnTo>
                <a:lnTo>
                  <a:pt x="5739" y="128"/>
                </a:lnTo>
                <a:lnTo>
                  <a:pt x="5744" y="118"/>
                </a:lnTo>
                <a:lnTo>
                  <a:pt x="5746" y="110"/>
                </a:lnTo>
                <a:lnTo>
                  <a:pt x="5746" y="110"/>
                </a:lnTo>
                <a:lnTo>
                  <a:pt x="5749" y="105"/>
                </a:lnTo>
                <a:lnTo>
                  <a:pt x="5752" y="97"/>
                </a:lnTo>
                <a:lnTo>
                  <a:pt x="5755" y="89"/>
                </a:lnTo>
                <a:lnTo>
                  <a:pt x="5758" y="81"/>
                </a:lnTo>
                <a:lnTo>
                  <a:pt x="5760" y="73"/>
                </a:lnTo>
                <a:lnTo>
                  <a:pt x="5760" y="63"/>
                </a:lnTo>
                <a:lnTo>
                  <a:pt x="5758" y="53"/>
                </a:lnTo>
                <a:lnTo>
                  <a:pt x="5754" y="44"/>
                </a:lnTo>
                <a:lnTo>
                  <a:pt x="5746" y="35"/>
                </a:lnTo>
                <a:lnTo>
                  <a:pt x="5736" y="27"/>
                </a:lnTo>
                <a:lnTo>
                  <a:pt x="5721" y="19"/>
                </a:lnTo>
                <a:lnTo>
                  <a:pt x="5700" y="13"/>
                </a:lnTo>
                <a:lnTo>
                  <a:pt x="5675" y="8"/>
                </a:lnTo>
                <a:lnTo>
                  <a:pt x="5643" y="3"/>
                </a:lnTo>
                <a:lnTo>
                  <a:pt x="5607" y="2"/>
                </a:lnTo>
                <a:lnTo>
                  <a:pt x="5561" y="0"/>
                </a:lnTo>
                <a:lnTo>
                  <a:pt x="5561" y="0"/>
                </a:lnTo>
                <a:lnTo>
                  <a:pt x="5533" y="0"/>
                </a:lnTo>
                <a:lnTo>
                  <a:pt x="5493" y="0"/>
                </a:lnTo>
                <a:lnTo>
                  <a:pt x="5444" y="0"/>
                </a:lnTo>
                <a:lnTo>
                  <a:pt x="5386" y="0"/>
                </a:lnTo>
                <a:lnTo>
                  <a:pt x="5318" y="0"/>
                </a:lnTo>
                <a:lnTo>
                  <a:pt x="5242" y="0"/>
                </a:lnTo>
                <a:lnTo>
                  <a:pt x="5160" y="0"/>
                </a:lnTo>
                <a:lnTo>
                  <a:pt x="5072" y="0"/>
                </a:lnTo>
                <a:lnTo>
                  <a:pt x="4977" y="0"/>
                </a:lnTo>
                <a:lnTo>
                  <a:pt x="4878" y="0"/>
                </a:lnTo>
                <a:lnTo>
                  <a:pt x="4773" y="0"/>
                </a:lnTo>
                <a:lnTo>
                  <a:pt x="4666" y="0"/>
                </a:lnTo>
                <a:lnTo>
                  <a:pt x="4557" y="0"/>
                </a:lnTo>
                <a:lnTo>
                  <a:pt x="4445" y="0"/>
                </a:lnTo>
                <a:lnTo>
                  <a:pt x="4331" y="0"/>
                </a:lnTo>
                <a:lnTo>
                  <a:pt x="4218" y="0"/>
                </a:lnTo>
                <a:lnTo>
                  <a:pt x="4103" y="0"/>
                </a:lnTo>
                <a:lnTo>
                  <a:pt x="3989" y="0"/>
                </a:lnTo>
                <a:lnTo>
                  <a:pt x="3878" y="0"/>
                </a:lnTo>
                <a:lnTo>
                  <a:pt x="3768" y="0"/>
                </a:lnTo>
                <a:lnTo>
                  <a:pt x="3661" y="0"/>
                </a:lnTo>
                <a:lnTo>
                  <a:pt x="3558" y="0"/>
                </a:lnTo>
                <a:lnTo>
                  <a:pt x="3460" y="0"/>
                </a:lnTo>
                <a:lnTo>
                  <a:pt x="3367" y="0"/>
                </a:lnTo>
                <a:lnTo>
                  <a:pt x="3279" y="0"/>
                </a:lnTo>
                <a:lnTo>
                  <a:pt x="3198" y="0"/>
                </a:lnTo>
                <a:lnTo>
                  <a:pt x="3124" y="0"/>
                </a:lnTo>
                <a:lnTo>
                  <a:pt x="3058" y="0"/>
                </a:lnTo>
                <a:lnTo>
                  <a:pt x="3001" y="0"/>
                </a:lnTo>
                <a:lnTo>
                  <a:pt x="2953" y="0"/>
                </a:lnTo>
                <a:lnTo>
                  <a:pt x="2916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2" y="0"/>
                </a:lnTo>
                <a:lnTo>
                  <a:pt x="2862" y="0"/>
                </a:lnTo>
                <a:lnTo>
                  <a:pt x="2829" y="0"/>
                </a:lnTo>
                <a:lnTo>
                  <a:pt x="2784" y="0"/>
                </a:lnTo>
                <a:lnTo>
                  <a:pt x="2728" y="0"/>
                </a:lnTo>
                <a:lnTo>
                  <a:pt x="2663" y="0"/>
                </a:lnTo>
                <a:lnTo>
                  <a:pt x="2587" y="0"/>
                </a:lnTo>
                <a:lnTo>
                  <a:pt x="2505" y="0"/>
                </a:lnTo>
                <a:lnTo>
                  <a:pt x="2414" y="0"/>
                </a:lnTo>
                <a:lnTo>
                  <a:pt x="2317" y="0"/>
                </a:lnTo>
                <a:lnTo>
                  <a:pt x="2215" y="0"/>
                </a:lnTo>
                <a:lnTo>
                  <a:pt x="2106" y="0"/>
                </a:lnTo>
                <a:lnTo>
                  <a:pt x="1994" y="0"/>
                </a:lnTo>
                <a:lnTo>
                  <a:pt x="1878" y="0"/>
                </a:lnTo>
                <a:lnTo>
                  <a:pt x="1760" y="0"/>
                </a:lnTo>
                <a:lnTo>
                  <a:pt x="1640" y="0"/>
                </a:lnTo>
                <a:lnTo>
                  <a:pt x="1520" y="0"/>
                </a:lnTo>
                <a:lnTo>
                  <a:pt x="1400" y="0"/>
                </a:lnTo>
                <a:lnTo>
                  <a:pt x="1280" y="0"/>
                </a:lnTo>
                <a:lnTo>
                  <a:pt x="1163" y="0"/>
                </a:lnTo>
                <a:lnTo>
                  <a:pt x="1048" y="0"/>
                </a:lnTo>
                <a:lnTo>
                  <a:pt x="938" y="0"/>
                </a:lnTo>
                <a:lnTo>
                  <a:pt x="830" y="0"/>
                </a:lnTo>
                <a:lnTo>
                  <a:pt x="728" y="0"/>
                </a:lnTo>
                <a:lnTo>
                  <a:pt x="631" y="0"/>
                </a:lnTo>
                <a:lnTo>
                  <a:pt x="543" y="0"/>
                </a:lnTo>
                <a:lnTo>
                  <a:pt x="461" y="0"/>
                </a:lnTo>
                <a:lnTo>
                  <a:pt x="388" y="0"/>
                </a:lnTo>
                <a:lnTo>
                  <a:pt x="324" y="0"/>
                </a:lnTo>
                <a:lnTo>
                  <a:pt x="270" y="0"/>
                </a:lnTo>
                <a:lnTo>
                  <a:pt x="229" y="0"/>
                </a:lnTo>
                <a:lnTo>
                  <a:pt x="197" y="0"/>
                </a:lnTo>
                <a:lnTo>
                  <a:pt x="197" y="0"/>
                </a:lnTo>
                <a:lnTo>
                  <a:pt x="153" y="2"/>
                </a:lnTo>
                <a:lnTo>
                  <a:pt x="115" y="3"/>
                </a:lnTo>
                <a:lnTo>
                  <a:pt x="84" y="8"/>
                </a:lnTo>
                <a:lnTo>
                  <a:pt x="58" y="13"/>
                </a:lnTo>
                <a:lnTo>
                  <a:pt x="38" y="19"/>
                </a:lnTo>
                <a:lnTo>
                  <a:pt x="22" y="27"/>
                </a:lnTo>
                <a:lnTo>
                  <a:pt x="11" y="35"/>
                </a:lnTo>
                <a:lnTo>
                  <a:pt x="5" y="44"/>
                </a:lnTo>
                <a:lnTo>
                  <a:pt x="2" y="53"/>
                </a:lnTo>
                <a:lnTo>
                  <a:pt x="0" y="63"/>
                </a:lnTo>
                <a:lnTo>
                  <a:pt x="0" y="73"/>
                </a:lnTo>
                <a:lnTo>
                  <a:pt x="2" y="81"/>
                </a:lnTo>
                <a:lnTo>
                  <a:pt x="3" y="89"/>
                </a:lnTo>
                <a:lnTo>
                  <a:pt x="6" y="97"/>
                </a:lnTo>
                <a:lnTo>
                  <a:pt x="9" y="105"/>
                </a:lnTo>
                <a:lnTo>
                  <a:pt x="11" y="110"/>
                </a:lnTo>
                <a:lnTo>
                  <a:pt x="11" y="110"/>
                </a:lnTo>
                <a:lnTo>
                  <a:pt x="14" y="118"/>
                </a:lnTo>
                <a:lnTo>
                  <a:pt x="19" y="128"/>
                </a:lnTo>
                <a:lnTo>
                  <a:pt x="25" y="139"/>
                </a:lnTo>
                <a:lnTo>
                  <a:pt x="33" y="152"/>
                </a:lnTo>
                <a:lnTo>
                  <a:pt x="43" y="168"/>
                </a:lnTo>
                <a:lnTo>
                  <a:pt x="54" y="184"/>
                </a:lnTo>
                <a:lnTo>
                  <a:pt x="66" y="200"/>
                </a:lnTo>
                <a:lnTo>
                  <a:pt x="79" y="217"/>
                </a:lnTo>
                <a:lnTo>
                  <a:pt x="93" y="234"/>
                </a:lnTo>
                <a:lnTo>
                  <a:pt x="109" y="249"/>
                </a:lnTo>
                <a:lnTo>
                  <a:pt x="125" y="265"/>
                </a:lnTo>
                <a:lnTo>
                  <a:pt x="142" y="278"/>
                </a:lnTo>
                <a:lnTo>
                  <a:pt x="159" y="288"/>
                </a:lnTo>
                <a:lnTo>
                  <a:pt x="177" y="298"/>
                </a:lnTo>
                <a:lnTo>
                  <a:pt x="196" y="302"/>
                </a:lnTo>
                <a:lnTo>
                  <a:pt x="213" y="306"/>
                </a:lnTo>
                <a:lnTo>
                  <a:pt x="213" y="306"/>
                </a:lnTo>
                <a:lnTo>
                  <a:pt x="242" y="304"/>
                </a:lnTo>
                <a:lnTo>
                  <a:pt x="264" y="301"/>
                </a:lnTo>
                <a:lnTo>
                  <a:pt x="283" y="296"/>
                </a:lnTo>
                <a:lnTo>
                  <a:pt x="298" y="289"/>
                </a:lnTo>
                <a:lnTo>
                  <a:pt x="311" y="281"/>
                </a:lnTo>
                <a:lnTo>
                  <a:pt x="320" y="273"/>
                </a:lnTo>
                <a:lnTo>
                  <a:pt x="327" y="267"/>
                </a:lnTo>
                <a:lnTo>
                  <a:pt x="331" y="262"/>
                </a:lnTo>
                <a:lnTo>
                  <a:pt x="330" y="260"/>
                </a:lnTo>
                <a:lnTo>
                  <a:pt x="333" y="255"/>
                </a:lnTo>
                <a:lnTo>
                  <a:pt x="335" y="252"/>
                </a:lnTo>
                <a:lnTo>
                  <a:pt x="335" y="252"/>
                </a:lnTo>
                <a:lnTo>
                  <a:pt x="338" y="238"/>
                </a:lnTo>
                <a:lnTo>
                  <a:pt x="339" y="221"/>
                </a:lnTo>
                <a:lnTo>
                  <a:pt x="339" y="207"/>
                </a:lnTo>
                <a:lnTo>
                  <a:pt x="336" y="191"/>
                </a:lnTo>
                <a:lnTo>
                  <a:pt x="331" y="178"/>
                </a:lnTo>
                <a:lnTo>
                  <a:pt x="325" y="165"/>
                </a:lnTo>
                <a:lnTo>
                  <a:pt x="314" y="154"/>
                </a:lnTo>
                <a:lnTo>
                  <a:pt x="301" y="145"/>
                </a:lnTo>
                <a:lnTo>
                  <a:pt x="301" y="145"/>
                </a:lnTo>
                <a:lnTo>
                  <a:pt x="290" y="141"/>
                </a:lnTo>
                <a:lnTo>
                  <a:pt x="279" y="137"/>
                </a:lnTo>
                <a:lnTo>
                  <a:pt x="268" y="136"/>
                </a:lnTo>
                <a:lnTo>
                  <a:pt x="259" y="136"/>
                </a:lnTo>
                <a:lnTo>
                  <a:pt x="248" y="136"/>
                </a:lnTo>
                <a:lnTo>
                  <a:pt x="238" y="139"/>
                </a:lnTo>
                <a:lnTo>
                  <a:pt x="229" y="144"/>
                </a:lnTo>
                <a:lnTo>
                  <a:pt x="219" y="149"/>
                </a:lnTo>
                <a:lnTo>
                  <a:pt x="213" y="155"/>
                </a:lnTo>
                <a:lnTo>
                  <a:pt x="207" y="163"/>
                </a:lnTo>
                <a:lnTo>
                  <a:pt x="202" y="173"/>
                </a:lnTo>
                <a:lnTo>
                  <a:pt x="199" y="181"/>
                </a:lnTo>
                <a:lnTo>
                  <a:pt x="197" y="192"/>
                </a:lnTo>
                <a:lnTo>
                  <a:pt x="197" y="204"/>
                </a:lnTo>
                <a:lnTo>
                  <a:pt x="200" y="215"/>
                </a:lnTo>
                <a:lnTo>
                  <a:pt x="205" y="226"/>
                </a:lnTo>
                <a:lnTo>
                  <a:pt x="205" y="226"/>
                </a:lnTo>
                <a:lnTo>
                  <a:pt x="219" y="239"/>
                </a:lnTo>
                <a:lnTo>
                  <a:pt x="234" y="246"/>
                </a:lnTo>
                <a:lnTo>
                  <a:pt x="248" y="246"/>
                </a:lnTo>
                <a:lnTo>
                  <a:pt x="259" y="239"/>
                </a:lnTo>
                <a:lnTo>
                  <a:pt x="268" y="230"/>
                </a:lnTo>
                <a:lnTo>
                  <a:pt x="272" y="217"/>
                </a:lnTo>
                <a:lnTo>
                  <a:pt x="270" y="200"/>
                </a:lnTo>
                <a:lnTo>
                  <a:pt x="262" y="183"/>
                </a:lnTo>
                <a:lnTo>
                  <a:pt x="262" y="183"/>
                </a:lnTo>
                <a:lnTo>
                  <a:pt x="257" y="181"/>
                </a:lnTo>
                <a:lnTo>
                  <a:pt x="254" y="178"/>
                </a:lnTo>
                <a:lnTo>
                  <a:pt x="253" y="173"/>
                </a:lnTo>
                <a:lnTo>
                  <a:pt x="254" y="170"/>
                </a:lnTo>
                <a:lnTo>
                  <a:pt x="257" y="167"/>
                </a:lnTo>
                <a:lnTo>
                  <a:pt x="260" y="165"/>
                </a:lnTo>
                <a:lnTo>
                  <a:pt x="265" y="167"/>
                </a:lnTo>
                <a:lnTo>
                  <a:pt x="272" y="173"/>
                </a:lnTo>
                <a:lnTo>
                  <a:pt x="272" y="173"/>
                </a:lnTo>
                <a:lnTo>
                  <a:pt x="273" y="181"/>
                </a:lnTo>
                <a:lnTo>
                  <a:pt x="276" y="189"/>
                </a:lnTo>
                <a:lnTo>
                  <a:pt x="279" y="197"/>
                </a:lnTo>
                <a:lnTo>
                  <a:pt x="281" y="205"/>
                </a:lnTo>
                <a:lnTo>
                  <a:pt x="281" y="212"/>
                </a:lnTo>
                <a:lnTo>
                  <a:pt x="281" y="220"/>
                </a:lnTo>
                <a:lnTo>
                  <a:pt x="279" y="228"/>
                </a:lnTo>
                <a:lnTo>
                  <a:pt x="275" y="238"/>
                </a:lnTo>
                <a:lnTo>
                  <a:pt x="275" y="238"/>
                </a:lnTo>
                <a:lnTo>
                  <a:pt x="265" y="247"/>
                </a:lnTo>
                <a:lnTo>
                  <a:pt x="256" y="252"/>
                </a:lnTo>
                <a:lnTo>
                  <a:pt x="246" y="255"/>
                </a:lnTo>
                <a:lnTo>
                  <a:pt x="235" y="255"/>
                </a:lnTo>
                <a:lnTo>
                  <a:pt x="226" y="254"/>
                </a:lnTo>
                <a:lnTo>
                  <a:pt x="216" y="249"/>
                </a:lnTo>
                <a:lnTo>
                  <a:pt x="207" y="243"/>
                </a:lnTo>
                <a:lnTo>
                  <a:pt x="197" y="233"/>
                </a:lnTo>
                <a:lnTo>
                  <a:pt x="197" y="233"/>
                </a:lnTo>
                <a:lnTo>
                  <a:pt x="189" y="212"/>
                </a:lnTo>
                <a:lnTo>
                  <a:pt x="188" y="192"/>
                </a:lnTo>
                <a:lnTo>
                  <a:pt x="191" y="175"/>
                </a:lnTo>
                <a:lnTo>
                  <a:pt x="199" y="158"/>
                </a:lnTo>
                <a:lnTo>
                  <a:pt x="210" y="144"/>
                </a:lnTo>
                <a:lnTo>
                  <a:pt x="226" y="134"/>
                </a:lnTo>
                <a:lnTo>
                  <a:pt x="245" y="126"/>
                </a:lnTo>
                <a:lnTo>
                  <a:pt x="265" y="124"/>
                </a:lnTo>
                <a:lnTo>
                  <a:pt x="265" y="124"/>
                </a:lnTo>
                <a:lnTo>
                  <a:pt x="287" y="129"/>
                </a:lnTo>
                <a:lnTo>
                  <a:pt x="306" y="137"/>
                </a:lnTo>
                <a:lnTo>
                  <a:pt x="322" y="149"/>
                </a:lnTo>
                <a:lnTo>
                  <a:pt x="335" y="162"/>
                </a:lnTo>
                <a:lnTo>
                  <a:pt x="343" y="179"/>
                </a:lnTo>
                <a:lnTo>
                  <a:pt x="349" y="197"/>
                </a:lnTo>
                <a:lnTo>
                  <a:pt x="350" y="220"/>
                </a:lnTo>
                <a:lnTo>
                  <a:pt x="349" y="244"/>
                </a:lnTo>
                <a:lnTo>
                  <a:pt x="349" y="244"/>
                </a:lnTo>
                <a:lnTo>
                  <a:pt x="347" y="249"/>
                </a:lnTo>
                <a:lnTo>
                  <a:pt x="346" y="254"/>
                </a:lnTo>
                <a:lnTo>
                  <a:pt x="344" y="259"/>
                </a:lnTo>
                <a:lnTo>
                  <a:pt x="343" y="264"/>
                </a:lnTo>
                <a:lnTo>
                  <a:pt x="343" y="264"/>
                </a:lnTo>
                <a:lnTo>
                  <a:pt x="349" y="268"/>
                </a:lnTo>
                <a:lnTo>
                  <a:pt x="355" y="273"/>
                </a:lnTo>
                <a:lnTo>
                  <a:pt x="363" y="278"/>
                </a:lnTo>
                <a:lnTo>
                  <a:pt x="371" y="283"/>
                </a:lnTo>
                <a:lnTo>
                  <a:pt x="379" y="288"/>
                </a:lnTo>
                <a:lnTo>
                  <a:pt x="387" y="291"/>
                </a:lnTo>
                <a:lnTo>
                  <a:pt x="396" y="294"/>
                </a:lnTo>
                <a:lnTo>
                  <a:pt x="404" y="298"/>
                </a:lnTo>
                <a:lnTo>
                  <a:pt x="414" y="301"/>
                </a:lnTo>
                <a:lnTo>
                  <a:pt x="423" y="302"/>
                </a:lnTo>
                <a:lnTo>
                  <a:pt x="433" y="304"/>
                </a:lnTo>
                <a:lnTo>
                  <a:pt x="442" y="306"/>
                </a:lnTo>
                <a:lnTo>
                  <a:pt x="451" y="307"/>
                </a:lnTo>
                <a:lnTo>
                  <a:pt x="463" y="309"/>
                </a:lnTo>
                <a:lnTo>
                  <a:pt x="472" y="309"/>
                </a:lnTo>
                <a:lnTo>
                  <a:pt x="481" y="309"/>
                </a:lnTo>
                <a:lnTo>
                  <a:pt x="481" y="309"/>
                </a:lnTo>
                <a:lnTo>
                  <a:pt x="497" y="307"/>
                </a:lnTo>
                <a:lnTo>
                  <a:pt x="511" y="306"/>
                </a:lnTo>
                <a:lnTo>
                  <a:pt x="526" y="304"/>
                </a:lnTo>
                <a:lnTo>
                  <a:pt x="541" y="301"/>
                </a:lnTo>
                <a:lnTo>
                  <a:pt x="554" y="296"/>
                </a:lnTo>
                <a:lnTo>
                  <a:pt x="568" y="293"/>
                </a:lnTo>
                <a:lnTo>
                  <a:pt x="581" y="288"/>
                </a:lnTo>
                <a:lnTo>
                  <a:pt x="594" y="283"/>
                </a:lnTo>
                <a:lnTo>
                  <a:pt x="594" y="283"/>
                </a:lnTo>
                <a:lnTo>
                  <a:pt x="581" y="276"/>
                </a:lnTo>
                <a:lnTo>
                  <a:pt x="570" y="267"/>
                </a:lnTo>
                <a:lnTo>
                  <a:pt x="560" y="259"/>
                </a:lnTo>
                <a:lnTo>
                  <a:pt x="552" y="247"/>
                </a:lnTo>
                <a:lnTo>
                  <a:pt x="545" y="238"/>
                </a:lnTo>
                <a:lnTo>
                  <a:pt x="540" y="226"/>
                </a:lnTo>
                <a:lnTo>
                  <a:pt x="537" y="215"/>
                </a:lnTo>
                <a:lnTo>
                  <a:pt x="537" y="202"/>
                </a:lnTo>
                <a:lnTo>
                  <a:pt x="537" y="202"/>
                </a:lnTo>
                <a:lnTo>
                  <a:pt x="537" y="191"/>
                </a:lnTo>
                <a:lnTo>
                  <a:pt x="540" y="179"/>
                </a:lnTo>
                <a:lnTo>
                  <a:pt x="545" y="168"/>
                </a:lnTo>
                <a:lnTo>
                  <a:pt x="551" y="157"/>
                </a:lnTo>
                <a:lnTo>
                  <a:pt x="560" y="147"/>
                </a:lnTo>
                <a:lnTo>
                  <a:pt x="570" y="137"/>
                </a:lnTo>
                <a:lnTo>
                  <a:pt x="581" y="128"/>
                </a:lnTo>
                <a:lnTo>
                  <a:pt x="594" y="120"/>
                </a:lnTo>
                <a:lnTo>
                  <a:pt x="608" y="112"/>
                </a:lnTo>
                <a:lnTo>
                  <a:pt x="622" y="105"/>
                </a:lnTo>
                <a:lnTo>
                  <a:pt x="639" y="99"/>
                </a:lnTo>
                <a:lnTo>
                  <a:pt x="657" y="94"/>
                </a:lnTo>
                <a:lnTo>
                  <a:pt x="674" y="90"/>
                </a:lnTo>
                <a:lnTo>
                  <a:pt x="693" y="87"/>
                </a:lnTo>
                <a:lnTo>
                  <a:pt x="713" y="86"/>
                </a:lnTo>
                <a:lnTo>
                  <a:pt x="734" y="84"/>
                </a:lnTo>
                <a:lnTo>
                  <a:pt x="734" y="84"/>
                </a:lnTo>
                <a:lnTo>
                  <a:pt x="755" y="86"/>
                </a:lnTo>
                <a:lnTo>
                  <a:pt x="778" y="87"/>
                </a:lnTo>
                <a:lnTo>
                  <a:pt x="803" y="90"/>
                </a:lnTo>
                <a:lnTo>
                  <a:pt x="830" y="95"/>
                </a:lnTo>
                <a:lnTo>
                  <a:pt x="859" y="102"/>
                </a:lnTo>
                <a:lnTo>
                  <a:pt x="889" y="110"/>
                </a:lnTo>
                <a:lnTo>
                  <a:pt x="920" y="118"/>
                </a:lnTo>
                <a:lnTo>
                  <a:pt x="952" y="126"/>
                </a:lnTo>
                <a:lnTo>
                  <a:pt x="985" y="136"/>
                </a:lnTo>
                <a:lnTo>
                  <a:pt x="1018" y="147"/>
                </a:lnTo>
                <a:lnTo>
                  <a:pt x="1053" y="158"/>
                </a:lnTo>
                <a:lnTo>
                  <a:pt x="1088" y="170"/>
                </a:lnTo>
                <a:lnTo>
                  <a:pt x="1122" y="181"/>
                </a:lnTo>
                <a:lnTo>
                  <a:pt x="1155" y="194"/>
                </a:lnTo>
                <a:lnTo>
                  <a:pt x="1190" y="207"/>
                </a:lnTo>
                <a:lnTo>
                  <a:pt x="1225" y="218"/>
                </a:lnTo>
                <a:lnTo>
                  <a:pt x="1258" y="231"/>
                </a:lnTo>
                <a:lnTo>
                  <a:pt x="1291" y="244"/>
                </a:lnTo>
                <a:lnTo>
                  <a:pt x="1323" y="255"/>
                </a:lnTo>
                <a:lnTo>
                  <a:pt x="1353" y="268"/>
                </a:lnTo>
                <a:lnTo>
                  <a:pt x="1381" y="280"/>
                </a:lnTo>
                <a:lnTo>
                  <a:pt x="1410" y="291"/>
                </a:lnTo>
                <a:lnTo>
                  <a:pt x="1435" y="301"/>
                </a:lnTo>
                <a:lnTo>
                  <a:pt x="1459" y="310"/>
                </a:lnTo>
                <a:lnTo>
                  <a:pt x="1481" y="320"/>
                </a:lnTo>
                <a:lnTo>
                  <a:pt x="1501" y="328"/>
                </a:lnTo>
                <a:lnTo>
                  <a:pt x="1517" y="335"/>
                </a:lnTo>
                <a:lnTo>
                  <a:pt x="1531" y="341"/>
                </a:lnTo>
                <a:lnTo>
                  <a:pt x="1544" y="346"/>
                </a:lnTo>
                <a:lnTo>
                  <a:pt x="1552" y="349"/>
                </a:lnTo>
                <a:lnTo>
                  <a:pt x="1558" y="351"/>
                </a:lnTo>
                <a:lnTo>
                  <a:pt x="1560" y="353"/>
                </a:lnTo>
                <a:lnTo>
                  <a:pt x="1560" y="353"/>
                </a:lnTo>
                <a:lnTo>
                  <a:pt x="1567" y="354"/>
                </a:lnTo>
                <a:lnTo>
                  <a:pt x="1577" y="357"/>
                </a:lnTo>
                <a:lnTo>
                  <a:pt x="1586" y="359"/>
                </a:lnTo>
                <a:lnTo>
                  <a:pt x="1596" y="361"/>
                </a:lnTo>
                <a:lnTo>
                  <a:pt x="1605" y="362"/>
                </a:lnTo>
                <a:lnTo>
                  <a:pt x="1616" y="364"/>
                </a:lnTo>
                <a:lnTo>
                  <a:pt x="1624" y="365"/>
                </a:lnTo>
                <a:lnTo>
                  <a:pt x="1634" y="367"/>
                </a:lnTo>
                <a:lnTo>
                  <a:pt x="1634" y="367"/>
                </a:lnTo>
                <a:lnTo>
                  <a:pt x="1645" y="367"/>
                </a:lnTo>
                <a:lnTo>
                  <a:pt x="1656" y="369"/>
                </a:lnTo>
                <a:lnTo>
                  <a:pt x="1665" y="367"/>
                </a:lnTo>
                <a:lnTo>
                  <a:pt x="1676" y="365"/>
                </a:lnTo>
                <a:lnTo>
                  <a:pt x="1687" y="364"/>
                </a:lnTo>
                <a:lnTo>
                  <a:pt x="1697" y="361"/>
                </a:lnTo>
                <a:lnTo>
                  <a:pt x="1708" y="356"/>
                </a:lnTo>
                <a:lnTo>
                  <a:pt x="1717" y="351"/>
                </a:lnTo>
                <a:lnTo>
                  <a:pt x="1727" y="346"/>
                </a:lnTo>
                <a:lnTo>
                  <a:pt x="1735" y="341"/>
                </a:lnTo>
                <a:lnTo>
                  <a:pt x="1744" y="335"/>
                </a:lnTo>
                <a:lnTo>
                  <a:pt x="1752" y="328"/>
                </a:lnTo>
                <a:lnTo>
                  <a:pt x="1760" y="320"/>
                </a:lnTo>
                <a:lnTo>
                  <a:pt x="1768" y="314"/>
                </a:lnTo>
                <a:lnTo>
                  <a:pt x="1774" y="306"/>
                </a:lnTo>
                <a:lnTo>
                  <a:pt x="1781" y="298"/>
                </a:lnTo>
                <a:lnTo>
                  <a:pt x="1781" y="298"/>
                </a:lnTo>
                <a:lnTo>
                  <a:pt x="1785" y="307"/>
                </a:lnTo>
                <a:lnTo>
                  <a:pt x="1793" y="317"/>
                </a:lnTo>
                <a:lnTo>
                  <a:pt x="1803" y="325"/>
                </a:lnTo>
                <a:lnTo>
                  <a:pt x="1814" y="333"/>
                </a:lnTo>
                <a:lnTo>
                  <a:pt x="1828" y="338"/>
                </a:lnTo>
                <a:lnTo>
                  <a:pt x="1842" y="343"/>
                </a:lnTo>
                <a:lnTo>
                  <a:pt x="1858" y="346"/>
                </a:lnTo>
                <a:lnTo>
                  <a:pt x="1875" y="348"/>
                </a:lnTo>
                <a:lnTo>
                  <a:pt x="1875" y="348"/>
                </a:lnTo>
                <a:lnTo>
                  <a:pt x="1889" y="346"/>
                </a:lnTo>
                <a:lnTo>
                  <a:pt x="1904" y="344"/>
                </a:lnTo>
                <a:lnTo>
                  <a:pt x="1918" y="341"/>
                </a:lnTo>
                <a:lnTo>
                  <a:pt x="1929" y="336"/>
                </a:lnTo>
                <a:lnTo>
                  <a:pt x="1940" y="330"/>
                </a:lnTo>
                <a:lnTo>
                  <a:pt x="1951" y="323"/>
                </a:lnTo>
                <a:lnTo>
                  <a:pt x="1959" y="315"/>
                </a:lnTo>
                <a:lnTo>
                  <a:pt x="1965" y="307"/>
                </a:lnTo>
                <a:lnTo>
                  <a:pt x="1965" y="307"/>
                </a:lnTo>
                <a:lnTo>
                  <a:pt x="1948" y="299"/>
                </a:lnTo>
                <a:lnTo>
                  <a:pt x="1931" y="289"/>
                </a:lnTo>
                <a:lnTo>
                  <a:pt x="1916" y="280"/>
                </a:lnTo>
                <a:lnTo>
                  <a:pt x="1902" y="270"/>
                </a:lnTo>
                <a:lnTo>
                  <a:pt x="1893" y="257"/>
                </a:lnTo>
                <a:lnTo>
                  <a:pt x="1885" y="246"/>
                </a:lnTo>
                <a:lnTo>
                  <a:pt x="1878" y="233"/>
                </a:lnTo>
                <a:lnTo>
                  <a:pt x="1877" y="220"/>
                </a:lnTo>
                <a:lnTo>
                  <a:pt x="1877" y="220"/>
                </a:lnTo>
                <a:lnTo>
                  <a:pt x="1878" y="210"/>
                </a:lnTo>
                <a:lnTo>
                  <a:pt x="1880" y="202"/>
                </a:lnTo>
                <a:lnTo>
                  <a:pt x="1885" y="192"/>
                </a:lnTo>
                <a:lnTo>
                  <a:pt x="1889" y="184"/>
                </a:lnTo>
                <a:lnTo>
                  <a:pt x="1897" y="175"/>
                </a:lnTo>
                <a:lnTo>
                  <a:pt x="1905" y="167"/>
                </a:lnTo>
                <a:lnTo>
                  <a:pt x="1915" y="160"/>
                </a:lnTo>
                <a:lnTo>
                  <a:pt x="1926" y="152"/>
                </a:lnTo>
                <a:lnTo>
                  <a:pt x="1937" y="145"/>
                </a:lnTo>
                <a:lnTo>
                  <a:pt x="1949" y="141"/>
                </a:lnTo>
                <a:lnTo>
                  <a:pt x="1964" y="136"/>
                </a:lnTo>
                <a:lnTo>
                  <a:pt x="1978" y="131"/>
                </a:lnTo>
                <a:lnTo>
                  <a:pt x="1992" y="128"/>
                </a:lnTo>
                <a:lnTo>
                  <a:pt x="2008" y="126"/>
                </a:lnTo>
                <a:lnTo>
                  <a:pt x="2025" y="124"/>
                </a:lnTo>
                <a:lnTo>
                  <a:pt x="2041" y="123"/>
                </a:lnTo>
                <a:lnTo>
                  <a:pt x="2041" y="123"/>
                </a:lnTo>
                <a:lnTo>
                  <a:pt x="2058" y="124"/>
                </a:lnTo>
                <a:lnTo>
                  <a:pt x="2074" y="126"/>
                </a:lnTo>
                <a:lnTo>
                  <a:pt x="2092" y="128"/>
                </a:lnTo>
                <a:lnTo>
                  <a:pt x="2106" y="131"/>
                </a:lnTo>
                <a:lnTo>
                  <a:pt x="2122" y="136"/>
                </a:lnTo>
                <a:lnTo>
                  <a:pt x="2136" y="141"/>
                </a:lnTo>
                <a:lnTo>
                  <a:pt x="2148" y="145"/>
                </a:lnTo>
                <a:lnTo>
                  <a:pt x="2161" y="152"/>
                </a:lnTo>
                <a:lnTo>
                  <a:pt x="2172" y="160"/>
                </a:lnTo>
                <a:lnTo>
                  <a:pt x="2182" y="167"/>
                </a:lnTo>
                <a:lnTo>
                  <a:pt x="2189" y="175"/>
                </a:lnTo>
                <a:lnTo>
                  <a:pt x="2197" y="184"/>
                </a:lnTo>
                <a:lnTo>
                  <a:pt x="2202" y="192"/>
                </a:lnTo>
                <a:lnTo>
                  <a:pt x="2205" y="202"/>
                </a:lnTo>
                <a:lnTo>
                  <a:pt x="2207" y="210"/>
                </a:lnTo>
                <a:lnTo>
                  <a:pt x="2205" y="220"/>
                </a:lnTo>
                <a:lnTo>
                  <a:pt x="2205" y="220"/>
                </a:lnTo>
                <a:lnTo>
                  <a:pt x="2204" y="231"/>
                </a:lnTo>
                <a:lnTo>
                  <a:pt x="2199" y="241"/>
                </a:lnTo>
                <a:lnTo>
                  <a:pt x="2193" y="251"/>
                </a:lnTo>
                <a:lnTo>
                  <a:pt x="2186" y="260"/>
                </a:lnTo>
                <a:lnTo>
                  <a:pt x="2177" y="268"/>
                </a:lnTo>
                <a:lnTo>
                  <a:pt x="2167" y="278"/>
                </a:lnTo>
                <a:lnTo>
                  <a:pt x="2156" y="286"/>
                </a:lnTo>
                <a:lnTo>
                  <a:pt x="2145" y="294"/>
                </a:lnTo>
                <a:lnTo>
                  <a:pt x="2145" y="294"/>
                </a:lnTo>
                <a:lnTo>
                  <a:pt x="2155" y="304"/>
                </a:lnTo>
                <a:lnTo>
                  <a:pt x="2164" y="312"/>
                </a:lnTo>
                <a:lnTo>
                  <a:pt x="2175" y="320"/>
                </a:lnTo>
                <a:lnTo>
                  <a:pt x="2185" y="328"/>
                </a:lnTo>
                <a:lnTo>
                  <a:pt x="2197" y="335"/>
                </a:lnTo>
                <a:lnTo>
                  <a:pt x="2208" y="341"/>
                </a:lnTo>
                <a:lnTo>
                  <a:pt x="2221" y="348"/>
                </a:lnTo>
                <a:lnTo>
                  <a:pt x="2234" y="353"/>
                </a:lnTo>
                <a:lnTo>
                  <a:pt x="2246" y="357"/>
                </a:lnTo>
                <a:lnTo>
                  <a:pt x="2260" y="362"/>
                </a:lnTo>
                <a:lnTo>
                  <a:pt x="2275" y="365"/>
                </a:lnTo>
                <a:lnTo>
                  <a:pt x="2289" y="369"/>
                </a:lnTo>
                <a:lnTo>
                  <a:pt x="2301" y="370"/>
                </a:lnTo>
                <a:lnTo>
                  <a:pt x="2317" y="372"/>
                </a:lnTo>
                <a:lnTo>
                  <a:pt x="2331" y="374"/>
                </a:lnTo>
                <a:lnTo>
                  <a:pt x="2347" y="374"/>
                </a:lnTo>
                <a:lnTo>
                  <a:pt x="2347" y="374"/>
                </a:lnTo>
                <a:lnTo>
                  <a:pt x="2361" y="374"/>
                </a:lnTo>
                <a:lnTo>
                  <a:pt x="2376" y="372"/>
                </a:lnTo>
                <a:lnTo>
                  <a:pt x="2388" y="372"/>
                </a:lnTo>
                <a:lnTo>
                  <a:pt x="2402" y="369"/>
                </a:lnTo>
                <a:lnTo>
                  <a:pt x="2415" y="367"/>
                </a:lnTo>
                <a:lnTo>
                  <a:pt x="2429" y="364"/>
                </a:lnTo>
                <a:lnTo>
                  <a:pt x="2442" y="359"/>
                </a:lnTo>
                <a:lnTo>
                  <a:pt x="2455" y="356"/>
                </a:lnTo>
                <a:lnTo>
                  <a:pt x="2466" y="351"/>
                </a:lnTo>
                <a:lnTo>
                  <a:pt x="2478" y="346"/>
                </a:lnTo>
                <a:lnTo>
                  <a:pt x="2489" y="340"/>
                </a:lnTo>
                <a:lnTo>
                  <a:pt x="2500" y="335"/>
                </a:lnTo>
                <a:lnTo>
                  <a:pt x="2510" y="328"/>
                </a:lnTo>
                <a:lnTo>
                  <a:pt x="2521" y="322"/>
                </a:lnTo>
                <a:lnTo>
                  <a:pt x="2530" y="314"/>
                </a:lnTo>
                <a:lnTo>
                  <a:pt x="2540" y="307"/>
                </a:lnTo>
                <a:lnTo>
                  <a:pt x="2540" y="307"/>
                </a:lnTo>
                <a:lnTo>
                  <a:pt x="2535" y="298"/>
                </a:lnTo>
                <a:lnTo>
                  <a:pt x="2530" y="286"/>
                </a:lnTo>
                <a:lnTo>
                  <a:pt x="2526" y="276"/>
                </a:lnTo>
                <a:lnTo>
                  <a:pt x="2522" y="265"/>
                </a:lnTo>
                <a:lnTo>
                  <a:pt x="2521" y="252"/>
                </a:lnTo>
                <a:lnTo>
                  <a:pt x="2518" y="241"/>
                </a:lnTo>
                <a:lnTo>
                  <a:pt x="2518" y="230"/>
                </a:lnTo>
                <a:lnTo>
                  <a:pt x="2516" y="218"/>
                </a:lnTo>
                <a:lnTo>
                  <a:pt x="2516" y="218"/>
                </a:lnTo>
                <a:lnTo>
                  <a:pt x="2518" y="200"/>
                </a:lnTo>
                <a:lnTo>
                  <a:pt x="2521" y="184"/>
                </a:lnTo>
                <a:lnTo>
                  <a:pt x="2524" y="168"/>
                </a:lnTo>
                <a:lnTo>
                  <a:pt x="2530" y="154"/>
                </a:lnTo>
                <a:lnTo>
                  <a:pt x="2538" y="141"/>
                </a:lnTo>
                <a:lnTo>
                  <a:pt x="2548" y="129"/>
                </a:lnTo>
                <a:lnTo>
                  <a:pt x="2557" y="118"/>
                </a:lnTo>
                <a:lnTo>
                  <a:pt x="2568" y="108"/>
                </a:lnTo>
                <a:lnTo>
                  <a:pt x="2581" y="100"/>
                </a:lnTo>
                <a:lnTo>
                  <a:pt x="2593" y="95"/>
                </a:lnTo>
                <a:lnTo>
                  <a:pt x="2608" y="90"/>
                </a:lnTo>
                <a:lnTo>
                  <a:pt x="2623" y="87"/>
                </a:lnTo>
                <a:lnTo>
                  <a:pt x="2638" y="87"/>
                </a:lnTo>
                <a:lnTo>
                  <a:pt x="2655" y="87"/>
                </a:lnTo>
                <a:lnTo>
                  <a:pt x="2671" y="90"/>
                </a:lnTo>
                <a:lnTo>
                  <a:pt x="2687" y="97"/>
                </a:lnTo>
                <a:lnTo>
                  <a:pt x="2687" y="97"/>
                </a:lnTo>
                <a:lnTo>
                  <a:pt x="2699" y="102"/>
                </a:lnTo>
                <a:lnTo>
                  <a:pt x="2710" y="107"/>
                </a:lnTo>
                <a:lnTo>
                  <a:pt x="2721" y="115"/>
                </a:lnTo>
                <a:lnTo>
                  <a:pt x="2729" y="121"/>
                </a:lnTo>
                <a:lnTo>
                  <a:pt x="2739" y="131"/>
                </a:lnTo>
                <a:lnTo>
                  <a:pt x="2745" y="139"/>
                </a:lnTo>
                <a:lnTo>
                  <a:pt x="2751" y="149"/>
                </a:lnTo>
                <a:lnTo>
                  <a:pt x="2756" y="160"/>
                </a:lnTo>
                <a:lnTo>
                  <a:pt x="2759" y="170"/>
                </a:lnTo>
                <a:lnTo>
                  <a:pt x="2761" y="181"/>
                </a:lnTo>
                <a:lnTo>
                  <a:pt x="2761" y="192"/>
                </a:lnTo>
                <a:lnTo>
                  <a:pt x="2761" y="204"/>
                </a:lnTo>
                <a:lnTo>
                  <a:pt x="2758" y="215"/>
                </a:lnTo>
                <a:lnTo>
                  <a:pt x="2753" y="226"/>
                </a:lnTo>
                <a:lnTo>
                  <a:pt x="2747" y="238"/>
                </a:lnTo>
                <a:lnTo>
                  <a:pt x="2737" y="249"/>
                </a:lnTo>
                <a:lnTo>
                  <a:pt x="2737" y="249"/>
                </a:lnTo>
                <a:lnTo>
                  <a:pt x="2729" y="257"/>
                </a:lnTo>
                <a:lnTo>
                  <a:pt x="2721" y="264"/>
                </a:lnTo>
                <a:lnTo>
                  <a:pt x="2713" y="268"/>
                </a:lnTo>
                <a:lnTo>
                  <a:pt x="2704" y="273"/>
                </a:lnTo>
                <a:lnTo>
                  <a:pt x="2695" y="276"/>
                </a:lnTo>
                <a:lnTo>
                  <a:pt x="2685" y="278"/>
                </a:lnTo>
                <a:lnTo>
                  <a:pt x="2676" y="280"/>
                </a:lnTo>
                <a:lnTo>
                  <a:pt x="2666" y="278"/>
                </a:lnTo>
                <a:lnTo>
                  <a:pt x="2657" y="278"/>
                </a:lnTo>
                <a:lnTo>
                  <a:pt x="2647" y="275"/>
                </a:lnTo>
                <a:lnTo>
                  <a:pt x="2639" y="272"/>
                </a:lnTo>
                <a:lnTo>
                  <a:pt x="2630" y="267"/>
                </a:lnTo>
                <a:lnTo>
                  <a:pt x="2623" y="260"/>
                </a:lnTo>
                <a:lnTo>
                  <a:pt x="2616" y="254"/>
                </a:lnTo>
                <a:lnTo>
                  <a:pt x="2609" y="244"/>
                </a:lnTo>
                <a:lnTo>
                  <a:pt x="2605" y="234"/>
                </a:lnTo>
                <a:lnTo>
                  <a:pt x="2605" y="234"/>
                </a:lnTo>
                <a:lnTo>
                  <a:pt x="2601" y="225"/>
                </a:lnTo>
                <a:lnTo>
                  <a:pt x="2600" y="215"/>
                </a:lnTo>
                <a:lnTo>
                  <a:pt x="2598" y="207"/>
                </a:lnTo>
                <a:lnTo>
                  <a:pt x="2598" y="197"/>
                </a:lnTo>
                <a:lnTo>
                  <a:pt x="2600" y="189"/>
                </a:lnTo>
                <a:lnTo>
                  <a:pt x="2601" y="181"/>
                </a:lnTo>
                <a:lnTo>
                  <a:pt x="2605" y="175"/>
                </a:lnTo>
                <a:lnTo>
                  <a:pt x="2608" y="170"/>
                </a:lnTo>
                <a:lnTo>
                  <a:pt x="2608" y="170"/>
                </a:lnTo>
                <a:lnTo>
                  <a:pt x="2614" y="162"/>
                </a:lnTo>
                <a:lnTo>
                  <a:pt x="2620" y="160"/>
                </a:lnTo>
                <a:lnTo>
                  <a:pt x="2625" y="162"/>
                </a:lnTo>
                <a:lnTo>
                  <a:pt x="2630" y="167"/>
                </a:lnTo>
                <a:lnTo>
                  <a:pt x="2630" y="171"/>
                </a:lnTo>
                <a:lnTo>
                  <a:pt x="2630" y="178"/>
                </a:lnTo>
                <a:lnTo>
                  <a:pt x="2625" y="181"/>
                </a:lnTo>
                <a:lnTo>
                  <a:pt x="2617" y="179"/>
                </a:lnTo>
                <a:lnTo>
                  <a:pt x="2614" y="184"/>
                </a:lnTo>
                <a:lnTo>
                  <a:pt x="2612" y="189"/>
                </a:lnTo>
                <a:lnTo>
                  <a:pt x="2612" y="189"/>
                </a:lnTo>
                <a:lnTo>
                  <a:pt x="2611" y="207"/>
                </a:lnTo>
                <a:lnTo>
                  <a:pt x="2612" y="223"/>
                </a:lnTo>
                <a:lnTo>
                  <a:pt x="2617" y="238"/>
                </a:lnTo>
                <a:lnTo>
                  <a:pt x="2625" y="249"/>
                </a:lnTo>
                <a:lnTo>
                  <a:pt x="2636" y="259"/>
                </a:lnTo>
                <a:lnTo>
                  <a:pt x="2649" y="265"/>
                </a:lnTo>
                <a:lnTo>
                  <a:pt x="2665" y="268"/>
                </a:lnTo>
                <a:lnTo>
                  <a:pt x="2682" y="268"/>
                </a:lnTo>
                <a:lnTo>
                  <a:pt x="2682" y="268"/>
                </a:lnTo>
                <a:lnTo>
                  <a:pt x="2695" y="265"/>
                </a:lnTo>
                <a:lnTo>
                  <a:pt x="2704" y="260"/>
                </a:lnTo>
                <a:lnTo>
                  <a:pt x="2713" y="255"/>
                </a:lnTo>
                <a:lnTo>
                  <a:pt x="2723" y="249"/>
                </a:lnTo>
                <a:lnTo>
                  <a:pt x="2731" y="241"/>
                </a:lnTo>
                <a:lnTo>
                  <a:pt x="2737" y="233"/>
                </a:lnTo>
                <a:lnTo>
                  <a:pt x="2742" y="225"/>
                </a:lnTo>
                <a:lnTo>
                  <a:pt x="2747" y="215"/>
                </a:lnTo>
                <a:lnTo>
                  <a:pt x="2750" y="205"/>
                </a:lnTo>
                <a:lnTo>
                  <a:pt x="2751" y="194"/>
                </a:lnTo>
                <a:lnTo>
                  <a:pt x="2751" y="184"/>
                </a:lnTo>
                <a:lnTo>
                  <a:pt x="2750" y="173"/>
                </a:lnTo>
                <a:lnTo>
                  <a:pt x="2747" y="163"/>
                </a:lnTo>
                <a:lnTo>
                  <a:pt x="2742" y="152"/>
                </a:lnTo>
                <a:lnTo>
                  <a:pt x="2737" y="142"/>
                </a:lnTo>
                <a:lnTo>
                  <a:pt x="2729" y="133"/>
                </a:lnTo>
                <a:lnTo>
                  <a:pt x="2729" y="133"/>
                </a:lnTo>
                <a:lnTo>
                  <a:pt x="2715" y="121"/>
                </a:lnTo>
                <a:lnTo>
                  <a:pt x="2699" y="112"/>
                </a:lnTo>
                <a:lnTo>
                  <a:pt x="2683" y="105"/>
                </a:lnTo>
                <a:lnTo>
                  <a:pt x="2668" y="100"/>
                </a:lnTo>
                <a:lnTo>
                  <a:pt x="2652" y="97"/>
                </a:lnTo>
                <a:lnTo>
                  <a:pt x="2636" y="97"/>
                </a:lnTo>
                <a:lnTo>
                  <a:pt x="2620" y="99"/>
                </a:lnTo>
                <a:lnTo>
                  <a:pt x="2606" y="102"/>
                </a:lnTo>
                <a:lnTo>
                  <a:pt x="2592" y="107"/>
                </a:lnTo>
                <a:lnTo>
                  <a:pt x="2578" y="115"/>
                </a:lnTo>
                <a:lnTo>
                  <a:pt x="2565" y="123"/>
                </a:lnTo>
                <a:lnTo>
                  <a:pt x="2554" y="134"/>
                </a:lnTo>
                <a:lnTo>
                  <a:pt x="2545" y="149"/>
                </a:lnTo>
                <a:lnTo>
                  <a:pt x="2537" y="163"/>
                </a:lnTo>
                <a:lnTo>
                  <a:pt x="2530" y="181"/>
                </a:lnTo>
                <a:lnTo>
                  <a:pt x="2527" y="199"/>
                </a:lnTo>
                <a:lnTo>
                  <a:pt x="2527" y="199"/>
                </a:lnTo>
                <a:lnTo>
                  <a:pt x="2526" y="210"/>
                </a:lnTo>
                <a:lnTo>
                  <a:pt x="2527" y="223"/>
                </a:lnTo>
                <a:lnTo>
                  <a:pt x="2527" y="236"/>
                </a:lnTo>
                <a:lnTo>
                  <a:pt x="2530" y="251"/>
                </a:lnTo>
                <a:lnTo>
                  <a:pt x="2534" y="265"/>
                </a:lnTo>
                <a:lnTo>
                  <a:pt x="2537" y="278"/>
                </a:lnTo>
                <a:lnTo>
                  <a:pt x="2541" y="291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56" y="307"/>
                </a:lnTo>
                <a:lnTo>
                  <a:pt x="2564" y="315"/>
                </a:lnTo>
                <a:lnTo>
                  <a:pt x="2571" y="323"/>
                </a:lnTo>
                <a:lnTo>
                  <a:pt x="2579" y="331"/>
                </a:lnTo>
                <a:lnTo>
                  <a:pt x="2589" y="338"/>
                </a:lnTo>
                <a:lnTo>
                  <a:pt x="2598" y="344"/>
                </a:lnTo>
                <a:lnTo>
                  <a:pt x="2608" y="351"/>
                </a:lnTo>
                <a:lnTo>
                  <a:pt x="2617" y="357"/>
                </a:lnTo>
                <a:lnTo>
                  <a:pt x="2628" y="362"/>
                </a:lnTo>
                <a:lnTo>
                  <a:pt x="2639" y="367"/>
                </a:lnTo>
                <a:lnTo>
                  <a:pt x="2649" y="370"/>
                </a:lnTo>
                <a:lnTo>
                  <a:pt x="2660" y="374"/>
                </a:lnTo>
                <a:lnTo>
                  <a:pt x="2672" y="377"/>
                </a:lnTo>
                <a:lnTo>
                  <a:pt x="2683" y="378"/>
                </a:lnTo>
                <a:lnTo>
                  <a:pt x="2695" y="380"/>
                </a:lnTo>
                <a:lnTo>
                  <a:pt x="2707" y="380"/>
                </a:lnTo>
                <a:lnTo>
                  <a:pt x="2707" y="380"/>
                </a:lnTo>
                <a:lnTo>
                  <a:pt x="2728" y="377"/>
                </a:lnTo>
                <a:lnTo>
                  <a:pt x="2747" y="374"/>
                </a:lnTo>
                <a:lnTo>
                  <a:pt x="2766" y="367"/>
                </a:lnTo>
                <a:lnTo>
                  <a:pt x="2781" y="359"/>
                </a:lnTo>
                <a:lnTo>
                  <a:pt x="2796" y="349"/>
                </a:lnTo>
                <a:lnTo>
                  <a:pt x="2808" y="338"/>
                </a:lnTo>
                <a:lnTo>
                  <a:pt x="2819" y="327"/>
                </a:lnTo>
                <a:lnTo>
                  <a:pt x="2830" y="314"/>
                </a:lnTo>
                <a:lnTo>
                  <a:pt x="2840" y="301"/>
                </a:lnTo>
                <a:lnTo>
                  <a:pt x="2848" y="286"/>
                </a:lnTo>
                <a:lnTo>
                  <a:pt x="2854" y="272"/>
                </a:lnTo>
                <a:lnTo>
                  <a:pt x="2860" y="259"/>
                </a:lnTo>
                <a:lnTo>
                  <a:pt x="2867" y="244"/>
                </a:lnTo>
                <a:lnTo>
                  <a:pt x="2871" y="230"/>
                </a:lnTo>
                <a:lnTo>
                  <a:pt x="2876" y="217"/>
                </a:lnTo>
                <a:lnTo>
                  <a:pt x="2879" y="204"/>
                </a:lnTo>
                <a:lnTo>
                  <a:pt x="2879" y="204"/>
                </a:lnTo>
                <a:lnTo>
                  <a:pt x="2884" y="217"/>
                </a:lnTo>
                <a:lnTo>
                  <a:pt x="2887" y="230"/>
                </a:lnTo>
                <a:lnTo>
                  <a:pt x="2890" y="244"/>
                </a:lnTo>
                <a:lnTo>
                  <a:pt x="2895" y="259"/>
                </a:lnTo>
                <a:lnTo>
                  <a:pt x="2900" y="272"/>
                </a:lnTo>
                <a:lnTo>
                  <a:pt x="2906" y="286"/>
                </a:lnTo>
                <a:lnTo>
                  <a:pt x="2914" y="301"/>
                </a:lnTo>
                <a:lnTo>
                  <a:pt x="2922" y="314"/>
                </a:lnTo>
                <a:lnTo>
                  <a:pt x="2931" y="327"/>
                </a:lnTo>
                <a:lnTo>
                  <a:pt x="2942" y="338"/>
                </a:lnTo>
                <a:lnTo>
                  <a:pt x="2955" y="349"/>
                </a:lnTo>
                <a:lnTo>
                  <a:pt x="2971" y="359"/>
                </a:lnTo>
                <a:lnTo>
                  <a:pt x="2988" y="367"/>
                </a:lnTo>
                <a:lnTo>
                  <a:pt x="3007" y="374"/>
                </a:lnTo>
                <a:lnTo>
                  <a:pt x="3028" y="378"/>
                </a:lnTo>
                <a:lnTo>
                  <a:pt x="3053" y="380"/>
                </a:lnTo>
                <a:lnTo>
                  <a:pt x="3053" y="380"/>
                </a:lnTo>
                <a:lnTo>
                  <a:pt x="3064" y="380"/>
                </a:lnTo>
                <a:lnTo>
                  <a:pt x="3077" y="378"/>
                </a:lnTo>
                <a:lnTo>
                  <a:pt x="3088" y="377"/>
                </a:lnTo>
                <a:lnTo>
                  <a:pt x="3099" y="375"/>
                </a:lnTo>
                <a:lnTo>
                  <a:pt x="3110" y="372"/>
                </a:lnTo>
                <a:lnTo>
                  <a:pt x="3121" y="367"/>
                </a:lnTo>
                <a:lnTo>
                  <a:pt x="3130" y="362"/>
                </a:lnTo>
                <a:lnTo>
                  <a:pt x="3141" y="357"/>
                </a:lnTo>
                <a:lnTo>
                  <a:pt x="3151" y="351"/>
                </a:lnTo>
                <a:lnTo>
                  <a:pt x="3160" y="346"/>
                </a:lnTo>
                <a:lnTo>
                  <a:pt x="3170" y="338"/>
                </a:lnTo>
                <a:lnTo>
                  <a:pt x="3179" y="331"/>
                </a:lnTo>
                <a:lnTo>
                  <a:pt x="3187" y="323"/>
                </a:lnTo>
                <a:lnTo>
                  <a:pt x="3195" y="315"/>
                </a:lnTo>
                <a:lnTo>
                  <a:pt x="3203" y="307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2" y="299"/>
                </a:lnTo>
                <a:lnTo>
                  <a:pt x="3212" y="299"/>
                </a:lnTo>
                <a:lnTo>
                  <a:pt x="3217" y="291"/>
                </a:lnTo>
                <a:lnTo>
                  <a:pt x="3222" y="280"/>
                </a:lnTo>
                <a:lnTo>
                  <a:pt x="3226" y="265"/>
                </a:lnTo>
                <a:lnTo>
                  <a:pt x="3230" y="252"/>
                </a:lnTo>
                <a:lnTo>
                  <a:pt x="3231" y="238"/>
                </a:lnTo>
                <a:lnTo>
                  <a:pt x="3231" y="223"/>
                </a:lnTo>
                <a:lnTo>
                  <a:pt x="3233" y="210"/>
                </a:lnTo>
                <a:lnTo>
                  <a:pt x="3231" y="199"/>
                </a:lnTo>
                <a:lnTo>
                  <a:pt x="3231" y="199"/>
                </a:lnTo>
                <a:lnTo>
                  <a:pt x="3228" y="181"/>
                </a:lnTo>
                <a:lnTo>
                  <a:pt x="3222" y="163"/>
                </a:lnTo>
                <a:lnTo>
                  <a:pt x="3214" y="149"/>
                </a:lnTo>
                <a:lnTo>
                  <a:pt x="3204" y="134"/>
                </a:lnTo>
                <a:lnTo>
                  <a:pt x="3193" y="123"/>
                </a:lnTo>
                <a:lnTo>
                  <a:pt x="3181" y="115"/>
                </a:lnTo>
                <a:lnTo>
                  <a:pt x="3167" y="107"/>
                </a:lnTo>
                <a:lnTo>
                  <a:pt x="3152" y="102"/>
                </a:lnTo>
                <a:lnTo>
                  <a:pt x="3138" y="99"/>
                </a:lnTo>
                <a:lnTo>
                  <a:pt x="3122" y="97"/>
                </a:lnTo>
                <a:lnTo>
                  <a:pt x="3107" y="97"/>
                </a:lnTo>
                <a:lnTo>
                  <a:pt x="3091" y="100"/>
                </a:lnTo>
                <a:lnTo>
                  <a:pt x="3075" y="105"/>
                </a:lnTo>
                <a:lnTo>
                  <a:pt x="3059" y="112"/>
                </a:lnTo>
                <a:lnTo>
                  <a:pt x="3043" y="121"/>
                </a:lnTo>
                <a:lnTo>
                  <a:pt x="3029" y="133"/>
                </a:lnTo>
                <a:lnTo>
                  <a:pt x="3029" y="133"/>
                </a:lnTo>
                <a:lnTo>
                  <a:pt x="3021" y="142"/>
                </a:lnTo>
                <a:lnTo>
                  <a:pt x="3017" y="152"/>
                </a:lnTo>
                <a:lnTo>
                  <a:pt x="3012" y="163"/>
                </a:lnTo>
                <a:lnTo>
                  <a:pt x="3009" y="173"/>
                </a:lnTo>
                <a:lnTo>
                  <a:pt x="3007" y="184"/>
                </a:lnTo>
                <a:lnTo>
                  <a:pt x="3007" y="194"/>
                </a:lnTo>
                <a:lnTo>
                  <a:pt x="3009" y="205"/>
                </a:lnTo>
                <a:lnTo>
                  <a:pt x="3012" y="215"/>
                </a:lnTo>
                <a:lnTo>
                  <a:pt x="3017" y="225"/>
                </a:lnTo>
                <a:lnTo>
                  <a:pt x="3021" y="233"/>
                </a:lnTo>
                <a:lnTo>
                  <a:pt x="3028" y="241"/>
                </a:lnTo>
                <a:lnTo>
                  <a:pt x="3035" y="249"/>
                </a:lnTo>
                <a:lnTo>
                  <a:pt x="3045" y="255"/>
                </a:lnTo>
                <a:lnTo>
                  <a:pt x="3054" y="260"/>
                </a:lnTo>
                <a:lnTo>
                  <a:pt x="3064" y="265"/>
                </a:lnTo>
                <a:lnTo>
                  <a:pt x="3077" y="268"/>
                </a:lnTo>
                <a:lnTo>
                  <a:pt x="3077" y="268"/>
                </a:lnTo>
                <a:lnTo>
                  <a:pt x="3094" y="268"/>
                </a:lnTo>
                <a:lnTo>
                  <a:pt x="3110" y="265"/>
                </a:lnTo>
                <a:lnTo>
                  <a:pt x="3122" y="259"/>
                </a:lnTo>
                <a:lnTo>
                  <a:pt x="3133" y="249"/>
                </a:lnTo>
                <a:lnTo>
                  <a:pt x="3141" y="238"/>
                </a:lnTo>
                <a:lnTo>
                  <a:pt x="3146" y="223"/>
                </a:lnTo>
                <a:lnTo>
                  <a:pt x="3148" y="207"/>
                </a:lnTo>
                <a:lnTo>
                  <a:pt x="3146" y="189"/>
                </a:lnTo>
                <a:lnTo>
                  <a:pt x="3144" y="184"/>
                </a:lnTo>
                <a:lnTo>
                  <a:pt x="3141" y="179"/>
                </a:lnTo>
                <a:lnTo>
                  <a:pt x="3141" y="179"/>
                </a:lnTo>
                <a:lnTo>
                  <a:pt x="3133" y="181"/>
                </a:lnTo>
                <a:lnTo>
                  <a:pt x="3129" y="178"/>
                </a:lnTo>
                <a:lnTo>
                  <a:pt x="3129" y="171"/>
                </a:lnTo>
                <a:lnTo>
                  <a:pt x="3130" y="167"/>
                </a:lnTo>
                <a:lnTo>
                  <a:pt x="3133" y="162"/>
                </a:lnTo>
                <a:lnTo>
                  <a:pt x="3138" y="160"/>
                </a:lnTo>
                <a:lnTo>
                  <a:pt x="3144" y="162"/>
                </a:lnTo>
                <a:lnTo>
                  <a:pt x="3151" y="170"/>
                </a:lnTo>
                <a:lnTo>
                  <a:pt x="3151" y="170"/>
                </a:lnTo>
                <a:lnTo>
                  <a:pt x="3154" y="175"/>
                </a:lnTo>
                <a:lnTo>
                  <a:pt x="3157" y="181"/>
                </a:lnTo>
                <a:lnTo>
                  <a:pt x="3159" y="189"/>
                </a:lnTo>
                <a:lnTo>
                  <a:pt x="3160" y="197"/>
                </a:lnTo>
                <a:lnTo>
                  <a:pt x="3160" y="207"/>
                </a:lnTo>
                <a:lnTo>
                  <a:pt x="3159" y="215"/>
                </a:lnTo>
                <a:lnTo>
                  <a:pt x="3157" y="225"/>
                </a:lnTo>
                <a:lnTo>
                  <a:pt x="3154" y="234"/>
                </a:lnTo>
                <a:lnTo>
                  <a:pt x="3154" y="234"/>
                </a:lnTo>
                <a:lnTo>
                  <a:pt x="3149" y="244"/>
                </a:lnTo>
                <a:lnTo>
                  <a:pt x="3143" y="254"/>
                </a:lnTo>
                <a:lnTo>
                  <a:pt x="3135" y="260"/>
                </a:lnTo>
                <a:lnTo>
                  <a:pt x="3129" y="267"/>
                </a:lnTo>
                <a:lnTo>
                  <a:pt x="3119" y="272"/>
                </a:lnTo>
                <a:lnTo>
                  <a:pt x="3111" y="275"/>
                </a:lnTo>
                <a:lnTo>
                  <a:pt x="3102" y="278"/>
                </a:lnTo>
                <a:lnTo>
                  <a:pt x="3092" y="278"/>
                </a:lnTo>
                <a:lnTo>
                  <a:pt x="3083" y="280"/>
                </a:lnTo>
                <a:lnTo>
                  <a:pt x="3073" y="278"/>
                </a:lnTo>
                <a:lnTo>
                  <a:pt x="3064" y="276"/>
                </a:lnTo>
                <a:lnTo>
                  <a:pt x="3054" y="273"/>
                </a:lnTo>
                <a:lnTo>
                  <a:pt x="3045" y="268"/>
                </a:lnTo>
                <a:lnTo>
                  <a:pt x="3037" y="264"/>
                </a:lnTo>
                <a:lnTo>
                  <a:pt x="3029" y="257"/>
                </a:lnTo>
                <a:lnTo>
                  <a:pt x="3021" y="249"/>
                </a:lnTo>
                <a:lnTo>
                  <a:pt x="3021" y="249"/>
                </a:lnTo>
                <a:lnTo>
                  <a:pt x="3012" y="238"/>
                </a:lnTo>
                <a:lnTo>
                  <a:pt x="3005" y="226"/>
                </a:lnTo>
                <a:lnTo>
                  <a:pt x="3001" y="215"/>
                </a:lnTo>
                <a:lnTo>
                  <a:pt x="2998" y="204"/>
                </a:lnTo>
                <a:lnTo>
                  <a:pt x="2998" y="192"/>
                </a:lnTo>
                <a:lnTo>
                  <a:pt x="2998" y="181"/>
                </a:lnTo>
                <a:lnTo>
                  <a:pt x="2999" y="170"/>
                </a:lnTo>
                <a:lnTo>
                  <a:pt x="3002" y="160"/>
                </a:lnTo>
                <a:lnTo>
                  <a:pt x="3007" y="149"/>
                </a:lnTo>
                <a:lnTo>
                  <a:pt x="3013" y="139"/>
                </a:lnTo>
                <a:lnTo>
                  <a:pt x="3020" y="131"/>
                </a:lnTo>
                <a:lnTo>
                  <a:pt x="3029" y="121"/>
                </a:lnTo>
                <a:lnTo>
                  <a:pt x="3037" y="115"/>
                </a:lnTo>
                <a:lnTo>
                  <a:pt x="3048" y="107"/>
                </a:lnTo>
                <a:lnTo>
                  <a:pt x="3059" y="102"/>
                </a:lnTo>
                <a:lnTo>
                  <a:pt x="3072" y="97"/>
                </a:lnTo>
                <a:lnTo>
                  <a:pt x="3072" y="97"/>
                </a:lnTo>
                <a:lnTo>
                  <a:pt x="3088" y="90"/>
                </a:lnTo>
                <a:lnTo>
                  <a:pt x="3103" y="87"/>
                </a:lnTo>
                <a:lnTo>
                  <a:pt x="3121" y="87"/>
                </a:lnTo>
                <a:lnTo>
                  <a:pt x="3135" y="87"/>
                </a:lnTo>
                <a:lnTo>
                  <a:pt x="3151" y="90"/>
                </a:lnTo>
                <a:lnTo>
                  <a:pt x="3165" y="95"/>
                </a:lnTo>
                <a:lnTo>
                  <a:pt x="3178" y="100"/>
                </a:lnTo>
                <a:lnTo>
                  <a:pt x="3190" y="108"/>
                </a:lnTo>
                <a:lnTo>
                  <a:pt x="3201" y="118"/>
                </a:lnTo>
                <a:lnTo>
                  <a:pt x="3211" y="129"/>
                </a:lnTo>
                <a:lnTo>
                  <a:pt x="3220" y="141"/>
                </a:lnTo>
                <a:lnTo>
                  <a:pt x="3228" y="154"/>
                </a:lnTo>
                <a:lnTo>
                  <a:pt x="3234" y="168"/>
                </a:lnTo>
                <a:lnTo>
                  <a:pt x="3238" y="184"/>
                </a:lnTo>
                <a:lnTo>
                  <a:pt x="3241" y="200"/>
                </a:lnTo>
                <a:lnTo>
                  <a:pt x="3242" y="218"/>
                </a:lnTo>
                <a:lnTo>
                  <a:pt x="3242" y="218"/>
                </a:lnTo>
                <a:lnTo>
                  <a:pt x="3241" y="230"/>
                </a:lnTo>
                <a:lnTo>
                  <a:pt x="3241" y="241"/>
                </a:lnTo>
                <a:lnTo>
                  <a:pt x="3238" y="252"/>
                </a:lnTo>
                <a:lnTo>
                  <a:pt x="3236" y="265"/>
                </a:lnTo>
                <a:lnTo>
                  <a:pt x="3233" y="276"/>
                </a:lnTo>
                <a:lnTo>
                  <a:pt x="3228" y="286"/>
                </a:lnTo>
                <a:lnTo>
                  <a:pt x="3225" y="298"/>
                </a:lnTo>
                <a:lnTo>
                  <a:pt x="3220" y="307"/>
                </a:lnTo>
                <a:lnTo>
                  <a:pt x="3220" y="307"/>
                </a:lnTo>
                <a:lnTo>
                  <a:pt x="3228" y="314"/>
                </a:lnTo>
                <a:lnTo>
                  <a:pt x="3238" y="322"/>
                </a:lnTo>
                <a:lnTo>
                  <a:pt x="3249" y="328"/>
                </a:lnTo>
                <a:lnTo>
                  <a:pt x="3258" y="335"/>
                </a:lnTo>
                <a:lnTo>
                  <a:pt x="3269" y="341"/>
                </a:lnTo>
                <a:lnTo>
                  <a:pt x="3282" y="346"/>
                </a:lnTo>
                <a:lnTo>
                  <a:pt x="3293" y="351"/>
                </a:lnTo>
                <a:lnTo>
                  <a:pt x="3305" y="356"/>
                </a:lnTo>
                <a:lnTo>
                  <a:pt x="3318" y="361"/>
                </a:lnTo>
                <a:lnTo>
                  <a:pt x="3331" y="364"/>
                </a:lnTo>
                <a:lnTo>
                  <a:pt x="3343" y="367"/>
                </a:lnTo>
                <a:lnTo>
                  <a:pt x="3356" y="369"/>
                </a:lnTo>
                <a:lnTo>
                  <a:pt x="3370" y="372"/>
                </a:lnTo>
                <a:lnTo>
                  <a:pt x="3384" y="374"/>
                </a:lnTo>
                <a:lnTo>
                  <a:pt x="3399" y="374"/>
                </a:lnTo>
                <a:lnTo>
                  <a:pt x="3413" y="374"/>
                </a:lnTo>
                <a:lnTo>
                  <a:pt x="3413" y="374"/>
                </a:lnTo>
                <a:lnTo>
                  <a:pt x="3427" y="374"/>
                </a:lnTo>
                <a:lnTo>
                  <a:pt x="3443" y="372"/>
                </a:lnTo>
                <a:lnTo>
                  <a:pt x="3455" y="370"/>
                </a:lnTo>
                <a:lnTo>
                  <a:pt x="3470" y="369"/>
                </a:lnTo>
                <a:lnTo>
                  <a:pt x="3484" y="365"/>
                </a:lnTo>
                <a:lnTo>
                  <a:pt x="3498" y="362"/>
                </a:lnTo>
                <a:lnTo>
                  <a:pt x="3512" y="357"/>
                </a:lnTo>
                <a:lnTo>
                  <a:pt x="3525" y="353"/>
                </a:lnTo>
                <a:lnTo>
                  <a:pt x="3537" y="348"/>
                </a:lnTo>
                <a:lnTo>
                  <a:pt x="3550" y="341"/>
                </a:lnTo>
                <a:lnTo>
                  <a:pt x="3561" y="335"/>
                </a:lnTo>
                <a:lnTo>
                  <a:pt x="3574" y="328"/>
                </a:lnTo>
                <a:lnTo>
                  <a:pt x="3585" y="320"/>
                </a:lnTo>
                <a:lnTo>
                  <a:pt x="3594" y="312"/>
                </a:lnTo>
                <a:lnTo>
                  <a:pt x="3605" y="304"/>
                </a:lnTo>
                <a:lnTo>
                  <a:pt x="3615" y="294"/>
                </a:lnTo>
                <a:lnTo>
                  <a:pt x="3615" y="294"/>
                </a:lnTo>
                <a:lnTo>
                  <a:pt x="3602" y="286"/>
                </a:lnTo>
                <a:lnTo>
                  <a:pt x="3591" y="278"/>
                </a:lnTo>
                <a:lnTo>
                  <a:pt x="3582" y="270"/>
                </a:lnTo>
                <a:lnTo>
                  <a:pt x="3574" y="260"/>
                </a:lnTo>
                <a:lnTo>
                  <a:pt x="3566" y="251"/>
                </a:lnTo>
                <a:lnTo>
                  <a:pt x="3560" y="241"/>
                </a:lnTo>
                <a:lnTo>
                  <a:pt x="3556" y="231"/>
                </a:lnTo>
                <a:lnTo>
                  <a:pt x="3553" y="221"/>
                </a:lnTo>
                <a:lnTo>
                  <a:pt x="3553" y="221"/>
                </a:lnTo>
                <a:lnTo>
                  <a:pt x="3552" y="212"/>
                </a:lnTo>
                <a:lnTo>
                  <a:pt x="3553" y="202"/>
                </a:lnTo>
                <a:lnTo>
                  <a:pt x="3556" y="192"/>
                </a:lnTo>
                <a:lnTo>
                  <a:pt x="3563" y="184"/>
                </a:lnTo>
                <a:lnTo>
                  <a:pt x="3569" y="176"/>
                </a:lnTo>
                <a:lnTo>
                  <a:pt x="3577" y="168"/>
                </a:lnTo>
                <a:lnTo>
                  <a:pt x="3586" y="160"/>
                </a:lnTo>
                <a:lnTo>
                  <a:pt x="3597" y="152"/>
                </a:lnTo>
                <a:lnTo>
                  <a:pt x="3610" y="147"/>
                </a:lnTo>
                <a:lnTo>
                  <a:pt x="3623" y="141"/>
                </a:lnTo>
                <a:lnTo>
                  <a:pt x="3637" y="136"/>
                </a:lnTo>
                <a:lnTo>
                  <a:pt x="3653" y="131"/>
                </a:lnTo>
                <a:lnTo>
                  <a:pt x="3668" y="128"/>
                </a:lnTo>
                <a:lnTo>
                  <a:pt x="3684" y="126"/>
                </a:lnTo>
                <a:lnTo>
                  <a:pt x="3700" y="124"/>
                </a:lnTo>
                <a:lnTo>
                  <a:pt x="3717" y="123"/>
                </a:lnTo>
                <a:lnTo>
                  <a:pt x="3717" y="123"/>
                </a:lnTo>
                <a:lnTo>
                  <a:pt x="3733" y="124"/>
                </a:lnTo>
                <a:lnTo>
                  <a:pt x="3751" y="126"/>
                </a:lnTo>
                <a:lnTo>
                  <a:pt x="3766" y="128"/>
                </a:lnTo>
                <a:lnTo>
                  <a:pt x="3781" y="131"/>
                </a:lnTo>
                <a:lnTo>
                  <a:pt x="3795" y="136"/>
                </a:lnTo>
                <a:lnTo>
                  <a:pt x="3809" y="141"/>
                </a:lnTo>
                <a:lnTo>
                  <a:pt x="3822" y="147"/>
                </a:lnTo>
                <a:lnTo>
                  <a:pt x="3833" y="152"/>
                </a:lnTo>
                <a:lnTo>
                  <a:pt x="3844" y="160"/>
                </a:lnTo>
                <a:lnTo>
                  <a:pt x="3853" y="168"/>
                </a:lnTo>
                <a:lnTo>
                  <a:pt x="3861" y="176"/>
                </a:lnTo>
                <a:lnTo>
                  <a:pt x="3869" y="184"/>
                </a:lnTo>
                <a:lnTo>
                  <a:pt x="3874" y="192"/>
                </a:lnTo>
                <a:lnTo>
                  <a:pt x="3878" y="202"/>
                </a:lnTo>
                <a:lnTo>
                  <a:pt x="3880" y="212"/>
                </a:lnTo>
                <a:lnTo>
                  <a:pt x="3882" y="221"/>
                </a:lnTo>
                <a:lnTo>
                  <a:pt x="3882" y="221"/>
                </a:lnTo>
                <a:lnTo>
                  <a:pt x="3880" y="234"/>
                </a:lnTo>
                <a:lnTo>
                  <a:pt x="3874" y="246"/>
                </a:lnTo>
                <a:lnTo>
                  <a:pt x="3866" y="259"/>
                </a:lnTo>
                <a:lnTo>
                  <a:pt x="3856" y="270"/>
                </a:lnTo>
                <a:lnTo>
                  <a:pt x="3842" y="280"/>
                </a:lnTo>
                <a:lnTo>
                  <a:pt x="3828" y="289"/>
                </a:lnTo>
                <a:lnTo>
                  <a:pt x="3811" y="299"/>
                </a:lnTo>
                <a:lnTo>
                  <a:pt x="3793" y="307"/>
                </a:lnTo>
                <a:lnTo>
                  <a:pt x="3793" y="307"/>
                </a:lnTo>
                <a:lnTo>
                  <a:pt x="3799" y="315"/>
                </a:lnTo>
                <a:lnTo>
                  <a:pt x="3807" y="323"/>
                </a:lnTo>
                <a:lnTo>
                  <a:pt x="3818" y="331"/>
                </a:lnTo>
                <a:lnTo>
                  <a:pt x="3829" y="336"/>
                </a:lnTo>
                <a:lnTo>
                  <a:pt x="3841" y="341"/>
                </a:lnTo>
                <a:lnTo>
                  <a:pt x="3855" y="344"/>
                </a:lnTo>
                <a:lnTo>
                  <a:pt x="3869" y="348"/>
                </a:lnTo>
                <a:lnTo>
                  <a:pt x="3883" y="348"/>
                </a:lnTo>
                <a:lnTo>
                  <a:pt x="3883" y="348"/>
                </a:lnTo>
                <a:lnTo>
                  <a:pt x="3901" y="348"/>
                </a:lnTo>
                <a:lnTo>
                  <a:pt x="3916" y="344"/>
                </a:lnTo>
                <a:lnTo>
                  <a:pt x="3931" y="340"/>
                </a:lnTo>
                <a:lnTo>
                  <a:pt x="3945" y="333"/>
                </a:lnTo>
                <a:lnTo>
                  <a:pt x="3956" y="325"/>
                </a:lnTo>
                <a:lnTo>
                  <a:pt x="3965" y="317"/>
                </a:lnTo>
                <a:lnTo>
                  <a:pt x="3973" y="309"/>
                </a:lnTo>
                <a:lnTo>
                  <a:pt x="3978" y="299"/>
                </a:lnTo>
                <a:lnTo>
                  <a:pt x="3978" y="299"/>
                </a:lnTo>
                <a:lnTo>
                  <a:pt x="3984" y="307"/>
                </a:lnTo>
                <a:lnTo>
                  <a:pt x="3990" y="314"/>
                </a:lnTo>
                <a:lnTo>
                  <a:pt x="3998" y="322"/>
                </a:lnTo>
                <a:lnTo>
                  <a:pt x="4006" y="328"/>
                </a:lnTo>
                <a:lnTo>
                  <a:pt x="4014" y="335"/>
                </a:lnTo>
                <a:lnTo>
                  <a:pt x="4024" y="341"/>
                </a:lnTo>
                <a:lnTo>
                  <a:pt x="4033" y="346"/>
                </a:lnTo>
                <a:lnTo>
                  <a:pt x="4043" y="353"/>
                </a:lnTo>
                <a:lnTo>
                  <a:pt x="4052" y="356"/>
                </a:lnTo>
                <a:lnTo>
                  <a:pt x="4062" y="361"/>
                </a:lnTo>
                <a:lnTo>
                  <a:pt x="4073" y="364"/>
                </a:lnTo>
                <a:lnTo>
                  <a:pt x="4082" y="365"/>
                </a:lnTo>
                <a:lnTo>
                  <a:pt x="4093" y="367"/>
                </a:lnTo>
                <a:lnTo>
                  <a:pt x="4104" y="369"/>
                </a:lnTo>
                <a:lnTo>
                  <a:pt x="4114" y="369"/>
                </a:lnTo>
                <a:lnTo>
                  <a:pt x="4125" y="367"/>
                </a:lnTo>
                <a:lnTo>
                  <a:pt x="4125" y="367"/>
                </a:lnTo>
                <a:lnTo>
                  <a:pt x="4134" y="365"/>
                </a:lnTo>
                <a:lnTo>
                  <a:pt x="4144" y="365"/>
                </a:lnTo>
                <a:lnTo>
                  <a:pt x="4153" y="364"/>
                </a:lnTo>
                <a:lnTo>
                  <a:pt x="4163" y="361"/>
                </a:lnTo>
                <a:lnTo>
                  <a:pt x="4172" y="359"/>
                </a:lnTo>
                <a:lnTo>
                  <a:pt x="4183" y="357"/>
                </a:lnTo>
                <a:lnTo>
                  <a:pt x="4191" y="354"/>
                </a:lnTo>
                <a:lnTo>
                  <a:pt x="4200" y="353"/>
                </a:lnTo>
                <a:lnTo>
                  <a:pt x="4200" y="353"/>
                </a:lnTo>
                <a:lnTo>
                  <a:pt x="4202" y="351"/>
                </a:lnTo>
                <a:lnTo>
                  <a:pt x="4207" y="349"/>
                </a:lnTo>
                <a:lnTo>
                  <a:pt x="4216" y="346"/>
                </a:lnTo>
                <a:lnTo>
                  <a:pt x="4227" y="341"/>
                </a:lnTo>
                <a:lnTo>
                  <a:pt x="4241" y="335"/>
                </a:lnTo>
                <a:lnTo>
                  <a:pt x="4259" y="328"/>
                </a:lnTo>
                <a:lnTo>
                  <a:pt x="4278" y="320"/>
                </a:lnTo>
                <a:lnTo>
                  <a:pt x="4300" y="310"/>
                </a:lnTo>
                <a:lnTo>
                  <a:pt x="4324" y="301"/>
                </a:lnTo>
                <a:lnTo>
                  <a:pt x="4349" y="291"/>
                </a:lnTo>
                <a:lnTo>
                  <a:pt x="4377" y="280"/>
                </a:lnTo>
                <a:lnTo>
                  <a:pt x="4406" y="268"/>
                </a:lnTo>
                <a:lnTo>
                  <a:pt x="4437" y="257"/>
                </a:lnTo>
                <a:lnTo>
                  <a:pt x="4469" y="244"/>
                </a:lnTo>
                <a:lnTo>
                  <a:pt x="4500" y="231"/>
                </a:lnTo>
                <a:lnTo>
                  <a:pt x="4533" y="220"/>
                </a:lnTo>
                <a:lnTo>
                  <a:pt x="4568" y="207"/>
                </a:lnTo>
                <a:lnTo>
                  <a:pt x="4601" y="194"/>
                </a:lnTo>
                <a:lnTo>
                  <a:pt x="4636" y="183"/>
                </a:lnTo>
                <a:lnTo>
                  <a:pt x="4671" y="170"/>
                </a:lnTo>
                <a:lnTo>
                  <a:pt x="4706" y="158"/>
                </a:lnTo>
                <a:lnTo>
                  <a:pt x="4740" y="147"/>
                </a:lnTo>
                <a:lnTo>
                  <a:pt x="4773" y="137"/>
                </a:lnTo>
                <a:lnTo>
                  <a:pt x="4807" y="128"/>
                </a:lnTo>
                <a:lnTo>
                  <a:pt x="4838" y="118"/>
                </a:lnTo>
                <a:lnTo>
                  <a:pt x="4870" y="110"/>
                </a:lnTo>
                <a:lnTo>
                  <a:pt x="4900" y="103"/>
                </a:lnTo>
                <a:lnTo>
                  <a:pt x="4928" y="97"/>
                </a:lnTo>
                <a:lnTo>
                  <a:pt x="4955" y="92"/>
                </a:lnTo>
                <a:lnTo>
                  <a:pt x="4980" y="89"/>
                </a:lnTo>
                <a:lnTo>
                  <a:pt x="5004" y="86"/>
                </a:lnTo>
                <a:lnTo>
                  <a:pt x="5024" y="86"/>
                </a:lnTo>
                <a:lnTo>
                  <a:pt x="5024" y="86"/>
                </a:lnTo>
                <a:lnTo>
                  <a:pt x="5045" y="86"/>
                </a:lnTo>
                <a:lnTo>
                  <a:pt x="5065" y="87"/>
                </a:lnTo>
                <a:lnTo>
                  <a:pt x="5084" y="90"/>
                </a:lnTo>
                <a:lnTo>
                  <a:pt x="5102" y="94"/>
                </a:lnTo>
                <a:lnTo>
                  <a:pt x="5119" y="99"/>
                </a:lnTo>
                <a:lnTo>
                  <a:pt x="5136" y="105"/>
                </a:lnTo>
                <a:lnTo>
                  <a:pt x="5151" y="112"/>
                </a:lnTo>
                <a:lnTo>
                  <a:pt x="5165" y="120"/>
                </a:lnTo>
                <a:lnTo>
                  <a:pt x="5178" y="128"/>
                </a:lnTo>
                <a:lnTo>
                  <a:pt x="5190" y="137"/>
                </a:lnTo>
                <a:lnTo>
                  <a:pt x="5200" y="147"/>
                </a:lnTo>
                <a:lnTo>
                  <a:pt x="5208" y="157"/>
                </a:lnTo>
                <a:lnTo>
                  <a:pt x="5214" y="168"/>
                </a:lnTo>
                <a:lnTo>
                  <a:pt x="5219" y="179"/>
                </a:lnTo>
                <a:lnTo>
                  <a:pt x="5222" y="191"/>
                </a:lnTo>
                <a:lnTo>
                  <a:pt x="5223" y="204"/>
                </a:lnTo>
                <a:lnTo>
                  <a:pt x="5223" y="204"/>
                </a:lnTo>
                <a:lnTo>
                  <a:pt x="5222" y="215"/>
                </a:lnTo>
                <a:lnTo>
                  <a:pt x="5219" y="226"/>
                </a:lnTo>
                <a:lnTo>
                  <a:pt x="5214" y="238"/>
                </a:lnTo>
                <a:lnTo>
                  <a:pt x="5208" y="249"/>
                </a:lnTo>
                <a:lnTo>
                  <a:pt x="5198" y="259"/>
                </a:lnTo>
                <a:lnTo>
                  <a:pt x="5189" y="268"/>
                </a:lnTo>
                <a:lnTo>
                  <a:pt x="5178" y="276"/>
                </a:lnTo>
                <a:lnTo>
                  <a:pt x="5165" y="283"/>
                </a:lnTo>
                <a:lnTo>
                  <a:pt x="5165" y="283"/>
                </a:lnTo>
                <a:lnTo>
                  <a:pt x="5178" y="288"/>
                </a:lnTo>
                <a:lnTo>
                  <a:pt x="5190" y="293"/>
                </a:lnTo>
                <a:lnTo>
                  <a:pt x="5204" y="296"/>
                </a:lnTo>
                <a:lnTo>
                  <a:pt x="5219" y="301"/>
                </a:lnTo>
                <a:lnTo>
                  <a:pt x="5233" y="304"/>
                </a:lnTo>
                <a:lnTo>
                  <a:pt x="5247" y="306"/>
                </a:lnTo>
                <a:lnTo>
                  <a:pt x="5263" y="307"/>
                </a:lnTo>
                <a:lnTo>
                  <a:pt x="5277" y="309"/>
                </a:lnTo>
                <a:lnTo>
                  <a:pt x="5277" y="309"/>
                </a:lnTo>
                <a:lnTo>
                  <a:pt x="5288" y="309"/>
                </a:lnTo>
                <a:lnTo>
                  <a:pt x="5297" y="309"/>
                </a:lnTo>
                <a:lnTo>
                  <a:pt x="5307" y="307"/>
                </a:lnTo>
                <a:lnTo>
                  <a:pt x="5316" y="306"/>
                </a:lnTo>
                <a:lnTo>
                  <a:pt x="5326" y="304"/>
                </a:lnTo>
                <a:lnTo>
                  <a:pt x="5335" y="302"/>
                </a:lnTo>
                <a:lnTo>
                  <a:pt x="5345" y="301"/>
                </a:lnTo>
                <a:lnTo>
                  <a:pt x="5354" y="298"/>
                </a:lnTo>
                <a:lnTo>
                  <a:pt x="5364" y="294"/>
                </a:lnTo>
                <a:lnTo>
                  <a:pt x="5372" y="291"/>
                </a:lnTo>
                <a:lnTo>
                  <a:pt x="5380" y="288"/>
                </a:lnTo>
                <a:lnTo>
                  <a:pt x="5387" y="283"/>
                </a:lnTo>
                <a:lnTo>
                  <a:pt x="5395" y="280"/>
                </a:lnTo>
                <a:lnTo>
                  <a:pt x="5403" y="275"/>
                </a:lnTo>
                <a:lnTo>
                  <a:pt x="5410" y="270"/>
                </a:lnTo>
                <a:lnTo>
                  <a:pt x="5416" y="265"/>
                </a:lnTo>
                <a:lnTo>
                  <a:pt x="5416" y="265"/>
                </a:lnTo>
                <a:lnTo>
                  <a:pt x="5414" y="259"/>
                </a:lnTo>
                <a:lnTo>
                  <a:pt x="5413" y="254"/>
                </a:lnTo>
                <a:lnTo>
                  <a:pt x="5411" y="249"/>
                </a:lnTo>
                <a:lnTo>
                  <a:pt x="5411" y="24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2400" y="411120"/>
            <a:ext cx="8893080" cy="6024600"/>
          </a:xfrm>
          <a:prstGeom prst="rect">
            <a:avLst/>
          </a:prstGeom>
          <a:noFill/>
          <a:ln w="0">
            <a:solidFill>
              <a:srgbClr val="9900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600" y="353880"/>
            <a:ext cx="9113760" cy="6139080"/>
          </a:xfrm>
          <a:custGeom>
            <a:avLst/>
            <a:gdLst/>
            <a:ahLst/>
            <a:rect l="l" t="t" r="r" b="b"/>
            <a:pathLst>
              <a:path w="5741" h="7735">
                <a:moveTo>
                  <a:pt x="142" y="0"/>
                </a:moveTo>
                <a:lnTo>
                  <a:pt x="5599" y="0"/>
                </a:lnTo>
                <a:lnTo>
                  <a:pt x="5741" y="149"/>
                </a:lnTo>
                <a:lnTo>
                  <a:pt x="5741" y="7584"/>
                </a:lnTo>
                <a:lnTo>
                  <a:pt x="5599" y="7735"/>
                </a:lnTo>
                <a:lnTo>
                  <a:pt x="142" y="7735"/>
                </a:lnTo>
                <a:lnTo>
                  <a:pt x="0" y="7584"/>
                </a:lnTo>
                <a:lnTo>
                  <a:pt x="0" y="149"/>
                </a:lnTo>
                <a:lnTo>
                  <a:pt x="142" y="0"/>
                </a:lnTo>
              </a:path>
            </a:pathLst>
          </a:custGeom>
          <a:noFill/>
          <a:ln w="0">
            <a:solidFill>
              <a:srgbClr val="9900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819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9933ff"/>
                </a:solidFill>
                <a:latin typeface="隶书"/>
                <a:ea typeface="隶书"/>
              </a:rPr>
              <a:t>崛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1066680"/>
            <a:ext cx="1600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地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1066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据……固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;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拥……地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;</a:t>
            </a: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君臣固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2860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席卷；包举；囊括；并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32767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政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32004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内……；外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4495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成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3434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拱手而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133720"/>
            <a:ext cx="75960" cy="2361960"/>
          </a:xfrm>
          <a:custGeom>
            <a:avLst/>
            <a:gdLst>
              <a:gd name="textAreaLeft" fmla="*/ 22320 w 75960"/>
              <a:gd name="textAreaRight" fmla="*/ 76320 w 75960"/>
              <a:gd name="textAreaTop" fmla="*/ 98280 h 2361960"/>
              <a:gd name="textAreaBottom" fmla="*/ 226368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47242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22096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雄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5909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13716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35053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6781680" y="579132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781680" y="4191120"/>
            <a:ext cx="213372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382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1676520" cy="1143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28954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发 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828800"/>
            <a:ext cx="3352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秦：南取、西举、东割、北收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宰割、分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121932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17524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419112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诸侯：才多、地广、师众、惨败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请服，请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057400"/>
            <a:ext cx="76320" cy="2362320"/>
          </a:xfrm>
          <a:custGeom>
            <a:avLst/>
            <a:gdLst>
              <a:gd name="textAreaLeft" fmla="*/ 22320 w 76320"/>
              <a:gd name="textAreaRight" fmla="*/ 76320 w 76320"/>
              <a:gd name="textAreaTop" fmla="*/ 98280 h 2362320"/>
              <a:gd name="textAreaBottom" fmla="*/ 22640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3886200"/>
            <a:ext cx="1143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反衬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8534520" y="6019920"/>
            <a:ext cx="75960" cy="7596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4876920" y="457200"/>
            <a:ext cx="3581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06:42:41Z</dcterms:created>
  <dc:creator/>
  <dc:description/>
  <dc:language>en-US</dc:language>
  <cp:lastModifiedBy>T5810D</cp:lastModifiedBy>
  <dcterms:modified xsi:type="dcterms:W3CDTF">2005-06-24T12:14:20Z</dcterms:modified>
  <cp:revision>76</cp:revision>
  <dc:subject/>
  <dc:title>PowerPoint 演示文稿</dc:title>
</cp:coreProperties>
</file>