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projctor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1ABF-4292-4D4F-97F2-867E79C1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78D-48E7-4885-A8C8-79642DA2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8E3-BC38-44E1-BE58-5847CE9A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322-2DF4-4FDF-AF72-3F17C0AD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7E77-2BED-43CC-BC99-10F18A8C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8DF-0537-4403-AC27-A7141122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8FE-565C-41B6-81B0-5FD1059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B74-70F9-4D33-B419-DCFE9CA7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AFD3-026E-4A3A-95B1-12D48703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CB3-5053-464A-9ABC-CF21DF83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67D-381A-4CF3-B123-9F0A1249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812-76CD-47B1-8751-A74CCD1F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339F-3586-42A3-8F3B-99ED9B34C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10.png"/><Relationship Id="rId4" Type="http://schemas.openxmlformats.org/officeDocument/2006/relationships/slide" Target="slide16.xml"/><Relationship Id="rId5" Type="http://schemas.openxmlformats.org/officeDocument/2006/relationships/image" Target="../media/image11.png"/><Relationship Id="rId6" Type="http://schemas.openxmlformats.org/officeDocument/2006/relationships/slide" Target="slide26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WINDOWS/TEMP/Rar$DI01.161/&#28436;&#31034;&#25991;&#31295;&#65288;&#26361;&#38634;&#33465;&#31616;&#20171;&#65289;.ppt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342000"/>
            <a:ext cx="40561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葬 花 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花谢花飞飞满天， 红消香断有谁怜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游丝软系飘春榭， 落絮轻沾扑绣帘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一年三百六十日，风刀霜剑严相逼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明媚鲜妍能几时， 一朝漂泊难寻觅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花开易见落难寻， 阶前愁煞葬花人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独倚花锄偷洒泪，洒上空枝见血痕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愿奴胁下生双翼， 随花飞到天尽头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天尽头，何处有香丘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天尽头，何处有香丘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未若锦囊收艳骨，一抔净土掩风流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质本洁来还洁去，强于污淖陷渠沟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尔今死去侬收葬，未卜侬身何日丧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侬今葬花人笑痴，他年葬侬知是谁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天尽头，何处有香丘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天尽头，何处有香丘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试看春残花渐落，便是红颜老死时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一朝春尽红颜老，花落人亡两不知！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 花落人亡两不知！花落人亡两不知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7512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3556080"/>
            <a:ext cx="3353040" cy="3301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rcRect l="11037" t="6249" r="32397" b="0"/>
          <a:stretch/>
        </p:blipFill>
        <p:spPr>
          <a:xfrm>
            <a:off x="5334120" y="762120"/>
            <a:ext cx="312408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0"/>
            <a:ext cx="3504960" cy="3505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 rot="5400000">
            <a:off x="2932920" y="323856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小说的主要人物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92360" cy="3440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059280" y="1916280"/>
            <a:ext cx="5851440" cy="471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9966ff"/>
                </a:solidFill>
                <a:latin typeface="Times New Roman"/>
                <a:ea typeface="华文彩云"/>
              </a:rPr>
              <a:t>枉凝眉</a:t>
            </a:r>
            <a:r>
              <a:rPr b="1" lang="zh-CN" sz="7200" spc="-1" strike="noStrike">
                <a:solidFill>
                  <a:srgbClr val="9966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133720"/>
            <a:ext cx="4800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是阆苑仙葩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是美玉无瑕。若说没奇缘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今生偏又遇着他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若说有奇缘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如何心事终虚化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?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枉自嗟呀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空劳牵挂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是水中月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一个是镜中花。想眼中能有多少泪珠儿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怎经得秋流到冬尽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i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春流到夏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3995640" cy="4359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244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801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4038480" cy="511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191120" y="11970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林黛玉是京都赫赫有名荣国府贾太夫人的外孙女，贾宝玉的表妹。这年黛玉的母亲病故，贾母痛惜她无人傍依，把她接来府中居住。从此，黛玉与宝玉朝夕相处，言和意顺，友爱异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119400" cy="307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39625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Times New Roman"/>
                <a:ea typeface="华文彩云"/>
              </a:rPr>
              <a:t>林黛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80880"/>
            <a:ext cx="5943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990099"/>
                </a:solidFill>
                <a:latin typeface="Times New Roman"/>
                <a:ea typeface="隶书"/>
              </a:rPr>
              <a:t>投奔外婆家后，虽然贾母十分疼爱，她却总有寄人篱下之感，所以，进贾府后始终是“步步留心，时时在意，不肯轻易多说一句话，多行一步路，唯恐被人耻笑了去”，细心、多虑、自尊是她的性格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257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举例分析课文是怎样刻画这些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066680"/>
            <a:ext cx="7696080" cy="4572000"/>
          </a:xfrm>
          <a:prstGeom prst="rect">
            <a:avLst/>
          </a:prstGeom>
          <a:noFill/>
          <a:ln w="57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细看形容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与众各别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: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两弯似蹙非蹙罥烟眉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一双似 喜非喜含情目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态生两 靥之愁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娇袭一身之病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泪光点点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娇喘微微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闲静时如姣花照水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行动处 似弱柳扶风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心较比干多一窍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病如西子胜三分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30492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文对林黛玉性格特点的刻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752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276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肖像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4648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语言描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304812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447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步留心   时时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057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恐被别人耻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1600200"/>
            <a:ext cx="1447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谨慎自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160020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28954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身体怯弱   自然风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愁善感   弱柳扶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312408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娇美柔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4495680"/>
            <a:ext cx="304560" cy="9144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49568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刚念了《四书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4724280"/>
            <a:ext cx="45720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495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认得几个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181480"/>
            <a:ext cx="48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舅母爱惜赐饭，原不应辞…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876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48769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细心周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7356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细心自尊这一主要性格源于她寄人篱下的思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914400"/>
            <a:ext cx="586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3886200"/>
            <a:ext cx="7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贾</a:t>
            </a:r>
            <a:br>
              <a:rPr sz="3600"/>
            </a:b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宝</a:t>
            </a:r>
            <a:br>
              <a:rPr sz="3600"/>
            </a:b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533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黛玉眼中，他是一个眉清目秀、英俊多情的年轻公子。他具有反对封建束缚，要求自由平等的思想。他蔑视世俗，卓然独立的种种表现，正反映了他对封建礼教和封建道德的反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4290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本文对宝玉的描写，主要有哪三个重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876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34340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出场前的侧面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19280" y="50846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出场后的肖像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19280" y="5734080"/>
            <a:ext cx="65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《西江月》二词的总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0492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文对贾宝玉性格特点的刻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914400"/>
            <a:ext cx="586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09160" y="1447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行楷"/>
                <a:ea typeface="华文行楷"/>
              </a:rPr>
              <a:t>出场前的侧面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孽根祸胎   混世魔王  疯风傻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590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顽劣异常    极恶读书   内帷厮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236232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与世俗格格不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09160" y="3276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行楷"/>
                <a:ea typeface="华文行楷"/>
              </a:rPr>
              <a:t>出场后的肖像描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9625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然一段风骚全在眉梢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生万种情思悉堆眼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9920" y="419112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眉清目秀英俊多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9528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行楷"/>
                <a:ea typeface="华文行楷"/>
              </a:rPr>
              <a:t>《西江月》二词的评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56386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潦倒不通世务，愚顽怕读文章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行为偏僻性乖张，于家于国无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5791320"/>
            <a:ext cx="266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独立不羁封建叛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4941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似贬实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3192000">
            <a:off x="2337840" y="-13856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2400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ff"/>
                </a:solidFill>
                <a:uFillTx/>
                <a:latin typeface="Arial Unicode MS"/>
              </a:rPr>
              <a:t>聪明累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1484280"/>
            <a:ext cx="41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机关算尽太聪明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反算了卿卿性命。生前心已碎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死后性空灵。家富人宁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终有个家亡人散各奔腾。枉费了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意悬悬半世心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好一似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荡悠悠三更梦。忽喇喇似大厦倾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昏惨惨似灯将尽。呀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一场欢喜忽悲辛。叹人世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终难定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方正姚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-252360" y="333360"/>
            <a:ext cx="6095880" cy="6137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375125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79640" y="1628640"/>
            <a:ext cx="510552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林黛玉进贾府</a:t>
            </a:r>
            <a:endParaRPr b="0" lang="en-US" sz="2400" spc="1" strike="noStrike">
              <a:ln w="1908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曹雪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王熙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981080"/>
          <a:ext cx="25909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2590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895480" y="990720"/>
            <a:ext cx="5791320" cy="5638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王熙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981080"/>
          <a:ext cx="25909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2590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895480" y="838080"/>
            <a:ext cx="579132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0880" y="914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王熙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6094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是一个精明能干，惯于玩弄权术的人。为人刁钻狡黠，明是一盆火，暗是一把刀。由于对上善于阿谀奉承，因此博得贾母的欢心，从而独揽了贾府大权，成为贾府的实际掌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648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节选部分以四个层次活灵活现地展示了她的性格特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981080"/>
          <a:ext cx="25909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81080"/>
                    <a:ext cx="25909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4600" y="3357720"/>
            <a:ext cx="31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见  黛  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92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课文对王熙凤性格特点的刻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914400"/>
            <a:ext cx="586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341360"/>
            <a:ext cx="296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写  出  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227664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绘  肖  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240" y="4218120"/>
            <a:ext cx="26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回王夫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5334120"/>
            <a:ext cx="8686800" cy="1066680"/>
            <a:chOff x="457200" y="5334120"/>
            <a:chExt cx="8686800" cy="1066680"/>
          </a:xfrm>
        </p:grpSpPr>
        <p:sp>
          <p:nvSpPr>
            <p:cNvPr id="176" name=""/>
            <p:cNvSpPr/>
            <p:nvPr/>
          </p:nvSpPr>
          <p:spPr>
            <a:xfrm>
              <a:off x="457200" y="5334120"/>
              <a:ext cx="830592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5410080"/>
              <a:ext cx="861048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华文行楷"/>
                  <a:ea typeface="华文行楷"/>
                </a:rPr>
                <a:t>明是一盆火  暗是一把刀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666880" y="2209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角眼  吊梢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2666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粉面含春威不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1447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见其人先闻其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1447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受宠爱有地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3429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善逢迎耍手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恭维－试泪－转悲为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24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美丽而又刁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343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先料着了 我已预备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玲珑而又精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ff"/>
                </a:solidFill>
                <a:uFillTx/>
                <a:latin typeface="Times New Roman"/>
                <a:ea typeface="华文彩云"/>
              </a:rPr>
              <a:t>宝黛初逢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林黛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贾宝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00720" y="2133720"/>
            <a:ext cx="75960" cy="1447560"/>
          </a:xfrm>
          <a:custGeom>
            <a:avLst/>
            <a:gdLst>
              <a:gd name="textAreaLeft" fmla="*/ 0 w 75960"/>
              <a:gd name="textAreaRight" fmla="*/ 27360 w 759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25146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ff0066"/>
                </a:solidFill>
                <a:uFillTx/>
                <a:latin typeface="Times New Roman"/>
                <a:ea typeface="华文行楷"/>
              </a:rPr>
              <a:t>心有灵犀一点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484360" y="1916280"/>
            <a:ext cx="20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29242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057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71640" y="1268280"/>
            <a:ext cx="7016760" cy="40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下面我们来做练习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split dir="in" orient="horz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15228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  、阅读课文填以下空白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228600" y="11430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这篇课文选自《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》第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回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它以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为中心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通过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所见所闻，介绍了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等一大批主要人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94280" y="10494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红楼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26320" y="1049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19280" y="1523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林黛玉进贾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32097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林黛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36450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王熙凤     贾宝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11280" y="839880"/>
            <a:ext cx="8137440" cy="69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作者介绍人物有详有略，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详写的人物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略写的人物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有实写有虚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实写的人物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；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虚写 的人物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有单独介绍，有集体介 绍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单独介绍的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；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集体介绍有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Times New Roman"/>
              </a:rPr>
              <a:t>                  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414440"/>
            <a:ext cx="50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林黛玉、王熙凤、贾宝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1990800"/>
            <a:ext cx="324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三春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56000" y="29988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王熙凤、贾宝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35719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贾赦、贾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95760" y="5230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贾母、邢夫人、王夫人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465624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王熙凤、贾宝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057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304920"/>
            <a:ext cx="815328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以下的外貌描写各写的是谁？分别表现了每个人怎样的特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面若中秋之月，色如春晓之花，鬓若刀裁，眉如墨画，面如桃瓣，目若秋波。虽怒时而若笑，即瞋视而有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双丹凤三角眼，两弯柳叶吊梢眉，身量苗条，体格风骚，粉面含春威不露，丹唇未启笑先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泪光点点，娇喘微微。娴静时如姣花照水，行动处似弱柳扶风。心如比干多一窍，病如西子胜三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新魏"/>
              </a:rPr>
              <a:t>答案：  ①贾宝玉：潇洒英俊、善良多情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华文新魏"/>
              </a:rPr>
              <a:t>        ②王熙凤：刁钻狡黠、谄上欺下</a:t>
            </a:r>
            <a:br>
              <a:rPr sz="2800"/>
            </a:br>
            <a:r>
              <a:rPr b="1" lang="zh-CN" sz="2800" spc="-1" strike="noStrike">
                <a:solidFill>
                  <a:srgbClr val="3333cc"/>
                </a:solidFill>
                <a:latin typeface="华文新魏"/>
              </a:rPr>
              <a:t>        ③林黛玉：聪慧灵秀，体弱多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7058160" cy="4813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0" dur="22177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68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5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688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94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曹雪芹，名霑，字梦阮，号雪芹。曹雪芹的一生经历了曹家由兴衰到衰败的过程，早年过着豪华的公子生活，晚年却穷愁潦倒，卖画度日，生活于贫困之中。这种天壤之别的生活变化，促使曹雪芹深刻地思考自己的经历，对社会上种种黑暗产生了不满，这就为创作《红楼梦》打下了良好的基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64840" y="4800600"/>
            <a:ext cx="253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彩云"/>
                <a:ea typeface="华文彩云"/>
              </a:rPr>
              <a:t>曹 雪 芹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>
            <a:hlinkClick r:id="rId2"/>
          </p:cNvPr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5410080" y="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123920" y="750960"/>
          <a:ext cx="6896160" cy="535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3920" y="750960"/>
                    <a:ext cx="689616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38280" y="3808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《红楼梦》，又名《石头记》，是一部具有高度思想性和艺术性的伟大作品，在我国文学史和世界文学史上都占有重要的地位。全书以林黛玉和贾宝玉的爱情故事为中心，揭露了封建统治阶级的罪恶和腐朽本质，揭示了封建社会必然崩溃的历史发展趋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380880"/>
          <a:ext cx="1667160" cy="1571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380880"/>
                    <a:ext cx="166716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7086600" y="3505320"/>
          <a:ext cx="1743120" cy="160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86600" y="3505320"/>
                    <a:ext cx="1743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34320" y="457200"/>
          <a:ext cx="1838160" cy="1628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934320" y="457200"/>
                    <a:ext cx="183816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04920" y="3352680"/>
          <a:ext cx="1847880" cy="158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920" y="3352680"/>
                    <a:ext cx="18478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228600" y="5445000"/>
            <a:ext cx="8915400" cy="990720"/>
            <a:chOff x="228600" y="5445000"/>
            <a:chExt cx="8915400" cy="990720"/>
          </a:xfrm>
        </p:grpSpPr>
        <p:sp>
          <p:nvSpPr>
            <p:cNvPr id="60" name=""/>
            <p:cNvSpPr/>
            <p:nvPr/>
          </p:nvSpPr>
          <p:spPr>
            <a:xfrm>
              <a:off x="228600" y="5445000"/>
              <a:ext cx="853452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90720" y="5521320"/>
              <a:ext cx="8153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满纸荒唐言，一把辛酸泪。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533520"/>
            <a:ext cx="502920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小说的三要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041560"/>
            <a:ext cx="13716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环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2041560"/>
            <a:ext cx="13716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情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2041560"/>
            <a:ext cx="13716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人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71640" y="2924280"/>
            <a:ext cx="2631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贾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2955960"/>
            <a:ext cx="2971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林黛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贾宝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王熙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79640"/>
            <a:ext cx="2514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  <a:ea typeface="隶书"/>
              </a:rPr>
              <a:t>宝黛初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447920"/>
            <a:ext cx="0" cy="5331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584360"/>
            <a:ext cx="46479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600200"/>
            <a:ext cx="0" cy="4572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1600200"/>
            <a:ext cx="0" cy="4572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600200"/>
            <a:ext cx="0" cy="4572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小说的典型环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如“预习提示”所说，《红楼梦》的第三回“初步展现了贾府——这一典型环境的概貌”。作者从哪几个方面描写这一典型环境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200400"/>
            <a:ext cx="716256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宏伟的外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讲究的布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  </a:t>
            </a:r>
            <a:r>
              <a:rPr b="0" i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华贵的陈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环境描写的特点和作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透过林黛玉的眼睛，我们看到了贾府那宏伟的外观，讲究的布局，华贵的陈设，那皇帝御书的金匾、乌木錾银的对联，那等级分明的礼仪，豪门贵族的气派，果然与别家不同。从中我们也看到了封建统治阶级骄奢淫逸的生活和阶级对立、阶级压迫的社会现实。可以说贾府这个典型环境就是封建社会的一个缩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1600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788000" y="6269040"/>
            <a:ext cx="1828800" cy="5814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课标导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知识与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析主要人物的性格特点，学习通过肖像描写、语言描写、心理描写塑造人物形象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情感与价值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确认识贾宝玉和林黛玉的叛逆性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6T01:30:35Z</dcterms:created>
  <dc:creator>gongweijin</dc:creator>
  <dc:description/>
  <dc:language>en-US</dc:language>
  <cp:lastModifiedBy>zxj</cp:lastModifiedBy>
  <dcterms:modified xsi:type="dcterms:W3CDTF">2007-05-25T00:50:35Z</dcterms:modified>
  <cp:revision>19</cp:revision>
  <dc:subject/>
  <dc:title>PowerPoint 演示文稿</dc:title>
</cp:coreProperties>
</file>