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022-63FC-43B9-AC0C-0C46BCA9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274-3703-41EB-9255-3611DF89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A8F-FBD7-4883-9ABD-F0171433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C5F-D83E-4AD2-BD1B-92797297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39148-E166-4954-8815-2048D31E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1F9B4-6618-4425-92C0-D07F6ED2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B9335-C064-462D-8B85-489A6FF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8A5E4-406C-47D8-B198-1A9C6470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F886C-F42B-403A-B6D3-BF591329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E755B-41C4-45D2-A031-73EF299D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FADF7-B888-485A-BD0F-8F411AD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7EC-5B72-4652-8AC1-EFC501D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5BC49-481C-4E70-A5DD-5453016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19318-824F-4FF4-B6EC-257FFE1D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99DC4-8BA5-41ED-BDE1-7CA3315E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5F984-0E0E-4A86-8982-B7361C62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D3206-526D-4F94-A8CC-E73C891F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22F-3B0E-4EE5-B3FB-5D8C57E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367-3BFD-4523-BE72-907EA0CC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E7F-41C2-41CA-88C4-27F9993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6A7-7A8B-4A5E-8ACA-4771E941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310-CE17-4AFE-B227-AAE67FAF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673-9746-411E-9CE2-AE0B90BD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0C4-F77A-4094-B061-9DD4303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F57-14CD-4EA7-896E-A3215FFE941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34F2-F6E3-445C-856C-ACB93BB6F87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1905120"/>
            <a:ext cx="821844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ahoma"/>
              </a:rPr>
              <a:t>一名物理学家的教育历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4358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实验精神：丁肇中说过：“现代学术的基础就是实地的探察，就是我们现在所谓的实验。”“科学发展的历史告诉我们，新的知识只能通过实地实验而得到，不是由自我检讨或哲理的清谈就可求到的。”（《应有格物致知精神》）有了想像力，有了乐趣，那只是成为科学家的最基础的因素，不去踏踏实实地做实验，就不能得到基本数据，假说就不能确立。一味地空想，不去做基础工作，不可能达到真理的彼岸。作者从事的高维空间理论，虽然还停留在纸面上，但是科学家们已经在做许多基础的实验工作，努力使理论得到证明。即使如科学家霍金靠睿智的头脑创建黑洞理论，也要有数学和天体物理学的实验基础，也不是空想出来的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【提问】“鲤鱼科学家”对“世界”的认识是怎样的？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【明确】主要有以下几点：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“水池之外看不见的世界没有科学意义。”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“它们为睡莲自己能够运动而困惑不解”——它们以神秘的“力”来掩盖自己的无知。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“鲤鱼科学家”的“消失”和“重现”——它们认为是“奇迹”，是“可怖的事情”，而不肯去探究原因。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“鲤鱼科学”的“传奇故事”，真实地证明另一个世界的存在，而它们却认为“胡说八道”，荒谬绝伦，违背它们的“自然规律”。 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【提问】作者想通过“鲤鱼科学家”对世界的认识说明什么？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【明确】说明“自以为是”的人类和“鲤鱼科学家”有相似之处。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人类“一生就在我们自己的‘池子’里度过”，只要“超出我们的理解力”的自然存在，他们就“拒绝承认”。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“科学家发明像力这样一些概念……”，是因为他们只愿意承认“那些看得见摸得着的事物”，不肯改变思考问题的方式。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“不能在实验室里便利地验证”的理论，他们就加以“鄙视”，表现出思想上的保守和固执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【提问】课文中阅读多维空间历险故事和统一场理论书籍两小段内容，对“教育历程”的叙述有什么作用？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【明确】课文的重点是童年趣事和建立实验室，这三个事例已经把“教育历程”完整地勾画出来。而夹杂在其中的两个小事例，主要起补充和衔接的作用。历险故事加深作者对高维空间的想像，激发兴趣；而阅读统一场理论书籍，既表现高中阶段作者求知的热情，也衔接起由理论到实验的探究过程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【提问】作者说“我决定要对这一问题刨根问底，纵然为此而必须成为一名理论物理学家也在所不辞。”在作者心中“理论物理学家”应该是怎样的人？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【明确】理论物理学家的工作是抽象、枯燥的，受实验条件的限制，自己的学说很难得到实验的证明，甚至可能到死也得不到成就。这样的人必须耐得住寂寞，必须有奉献精神。“在所不辞”意味着“理论物理学家”道路的艰辛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【提问】作者建立实验室的事例，对我们现实生活有怎样的意义？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【明确】科学是建立在基础实验之上的，科学理论要经过实验的检验才能得到论证。实验不是简单的操作，要有理论指导，要有实验的设计，要有策划组织能力，要有耐力和恒心等等，实验考验的是实验者的综合能力。而我们当前存在的问题是，重视理论，轻视基础实验，表现为动手能力和实践能力差，思想上浮躁，急功近利。对教育而言，重知识，轻能力的现象很普遍。这些都是一名理论物理学家重视实验给我们现实生活的启迪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0920" y="212184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【背景资料】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一、作者介绍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加来道雄，美籍日裔物理学家，毕业于美国哈佛大学，获加利福尼亚大学伯克利分校哲学博士学位，后任纽约市立大学城市学院理论物理学教授。主要著作有《超越爱因斯坦》（与特雷纳合著）《量子场论》《超弦导论》。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二、相关知识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为了更好地理解课文，我们需要了解一些相关的理论物理学知识：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（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统一场论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    根据现代物理学知识，将我们的宇宙结合起来的力有四种：引力、电磁力、强核力和弱核力。物理学家运用量子力学，已经把后三种力统一起来（美籍华裔物理学家杨振宁和他的学生米尔斯提出杨一米尔斯场理论，解决了这一问题，被称为“标准模型”。但是这一理论因为计算繁复无比而让人头疼），但是引力仍然游离在外。爱因斯坦毕终生之力想寻求四种力的统一，建立一个大一统的理论，最终也没有实现。 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4358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高维空间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现代理论物理学认为，统一四种力的前景，在于高维空间（如十维或更高）理论的确立。比如对于古人来讲，风暴是怎样产生的，风暴会袭击什么地方，什么时候袭来，什么时候结束，他们是一无所知的，因为他们生活在平坦的大地上，只能靠肉眼从近似于二维平面的角度来观察，即使有简单的预报，也都是靠经验来推测的。现在有了气象卫星，从太空这样三维角度观察地球，在地面上看来神秘莫测的风暴被看得一清二楚，可以精准地预报风暴的动向。同样，理论物理学家认为，传统的四维（空间三维加上时间）理论太“小”，不能解释宇宙中的四种力。当他们超越四维而在更高维（如十维或更高）中寻求统一这四种力时，就能得到一种简单、漂亮的解决模型（科学家认为宇宙应该是简单、合谐的）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高维空间理论认为，宇宙大爆炸后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0-43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秒，十维宇宙分解成四维宇宙和六维宇宙，四维宇宙暴胀，经过近一百五十亿年，演变成今天我们生活的宇宙。大爆炸后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0-35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秒，大统一力分开。但是高维空间理论很难在实验室中得到证实，因为要模拟当时的环境，需要的能量太大，根本无法做到，所以现在高维空间理论只能是“理论”。 </a:t>
            </a:r>
            <a:br>
              <a:rPr sz="2000"/>
            </a:b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一名物理学家的教育历程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教学目标  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一、知识教育目标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引导学生从生活出发，了解科学、认识科学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二、能力培养目标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引导学生以“教育历程”为重点，探讨其中表现的思想内涵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三、德育渗透目标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引导学生体会科学精神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重点、难点及解决办法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高维空间对普通人来说，是很难想像的。所以，教学重点是文章内容，而不是相关的科学知识。相关知识教师有所了解，能帮助教学课文即可，不必教授给学生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课时安排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课时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教学步骤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一、导入新课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成为一位科学家是无数有志青年的梦想，对物理的探究更是许多年轻的学子孜孜以求的，我们来看一下加来道雄的成长道路，或许能得到一些启发。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（板书）一名物理学家的教育历程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二、明确目标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．引导学生从生活出发，了解科学、认识科学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．引导学生以“教育历程”为重点，探讨其中表现的思想内涵。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362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三、整体感知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作者简介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加来道雄，美籍日裔物理学家，毕业于美国哈佛大学，获加利福尼亚大学伯克利分校哲学博士学位，后任纽约市立大学城市学院理论物理学教授。主要著作有《超越爱因斯坦》（与特雷纳合著）《量子场论》《超弦导论》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本文的基本结构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文章的题目是“一名物理学家的教育历程”，因此，叙述的顺序主要是历时性的。但是，作者开头就说“童年的两件趣事极大地丰富了我对世界的理解力，并且引导我走上成为一个理论物理学家的历程。”而“童年的两件趣事”作为文章的主要内容，又是共时性的叙述。这样的结构安排，使文章既脉络清楚，又重点突出。结构如图： 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童年                 青年              （成年）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鲤鱼世界的幻想（想像）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                          实验          （理论物理学家）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爱因斯坦故事（理论） 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．本文的基本内容 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①人人都对自然感到好奇，都以自己喜爱的形式寻求自然的“谜底”，但是大多数人一般直接探寻自然本身，而作者却由人的观察角度，反思人类对宇宙的认知。看似作者少年时的思维超出同龄人，其实只是他充分发挥了自己的想像力，并且保持了这样奇特的想像力，由此奠定了他对高维空间理论探究的基础。②作者少年时接触到爱因斯坦的“未竟事业”，激发了他的探究兴趣。他之所以感到“激动人心”，是因为他把爱因斯坦的理论当成一个“侦探故事”来阅读、探究，这非常符合少年的心理。另外，“我决定要对这一秘密刨根问底”，也表现了他有毅力有恒心的性格，这是成为科学家的基本素质。③高中时代，本应“在棒球场或篮球场玩耍”，享受青春年华，但作者却“找遍周边地区大量的电子仓库，装配必需的硬件设备”，在“学校的足球场中缠绕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英里长的铜线”，自己动手建设实验室，验证爱因斯坦理论，探究反物质。作者进行这样艰苦枯燥的工作，体现了他对科学的热爱，以及踏实的性格，显露出一个科学工作者的潜能。由①②到③，我们可以清楚地看到作者的“教育历程”和“教育内容”。 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四、重点、难点的学习与目标完成过程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．【提问】本文在材料处理上有什么特点？ 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    【明确】本文布局谋篇重点突出，详略得当。在整体上，作者并没有从童年到小学到初中到高中，按时间顺序叙事，而是通过童年的两件趣事和高中时建立实验室的事例，突出他成长为一名“物理学家”的“教育历程”，并不旁及其他成长的经验；在局部上，如高中阶段，作者看了许多统一场理论方面的书，并常常去斯坦福大学的物理图书馆，相关的理论书籍是怎样启发、引导他研究的，这里肯定有许多精彩的故事，但是作者只是一笔带过，重点放在制造“自己的原子对撞机”上，其中具体的数据叙述得很详尽，让人体会到作者严谨、踏实的性格，以及内在的成为物理学家所需要的基本素质。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．【提问】本文体现了怎样的科学精神？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【明确】本文三个主要部分，并不是简单地叙述成长的故事，而是具有深刻的科学精神内涵，可以从中看到哪些方面的“教育”对成为优秀科学家最为重要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想像力：科学是需要想像力的，想像力能带来创造力。作者正是从对鲤鱼世界的想像中，认识到人类观察空间的局限性，间接感悟到高维空间存在的可能。由感性的想像上升到理性的创造，体现了创新意识和探索精神。 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    （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）乐趣：科学不应该是枯燥的，而是应该充满乐趣的。探寻自然的奥秘，对真正的科学工作者来说，是和自然做的近似于捉迷藏的“游戏”，也是人生的“境界”。“游戏”使他们乐此不疲，充满激情，不受外界的诱惑和干扰；而“境界”使他们不顾功利，不畏强权，只求真理。 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08:46:28Z</dcterms:created>
  <dc:creator>xyz</dc:creator>
  <dc:description/>
  <dc:language>en-US</dc:language>
  <cp:lastModifiedBy>xyz</cp:lastModifiedBy>
  <dcterms:modified xsi:type="dcterms:W3CDTF">2007-06-30T08:57:49Z</dcterms:modified>
  <cp:revision>2</cp:revision>
  <dc:subject/>
  <dc:title>幻灯片 1</dc:title>
</cp:coreProperties>
</file>