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5B02-2680-4E76-ACF3-5D8FAD7E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57AA-BA57-4241-9C17-B1B37369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4D9A-4FFB-4681-8A63-D68D9A07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AC2B-0892-481D-8C2C-63C5AE4B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73C1-B240-45C6-99A7-65C8D14A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4D6-DD19-4E07-9D94-530E0E0C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36B-0648-495C-9795-4BD108EC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3211-8C3E-4E7A-AE79-9A293C8D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CCB9-8835-42AA-B484-544C7B1A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AD2-B103-4712-9AB7-6E0571E5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FAC-F9CD-4500-A87E-8ADB6C9A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14A-87E4-4A77-865D-CAC1AB4D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3DFD-59AB-4BBE-9E34-94207FF7E3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557360"/>
            <a:ext cx="6984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990033"/>
                </a:solidFill>
                <a:latin typeface="Arial"/>
              </a:rPr>
              <a:t>解说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33"/>
                </a:solidFill>
                <a:latin typeface="Arial"/>
              </a:rPr>
              <a:t>               </a:t>
            </a:r>
            <a:r>
              <a:rPr b="1" lang="zh-CN" sz="6000" spc="-1" strike="noStrike">
                <a:solidFill>
                  <a:srgbClr val="990033"/>
                </a:solidFill>
                <a:latin typeface="Arial"/>
              </a:rPr>
              <a:t>特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404640"/>
            <a:ext cx="8424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解说词要根据解说对象的特点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有明确的主题和说明对象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要突出事物的主要方面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抓住事物的关键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解说词补充和增加解说对象的相关信息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主要是知识和情理的扩展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使读者接受到画面和实物本身无法传递和难以表达的涵义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解说词是一个有机的整体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但各个部分又有相对的独立性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14 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宇宙的边疆</a:t>
            </a:r>
            <a:br>
              <a:rPr sz="4000"/>
            </a:b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                 —卡尔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萨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边疆”指人类对宇宙的认识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地球远不是宇宙的中心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已知的宇宙的中心是离地球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80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亿光年的星云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所以文中说”地球的表面就是宇宙汪洋之滨”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;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人类对宇宙这个大海的认识才刚刚开始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,”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海水才刚刚没及我们的脚趾”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692280"/>
            <a:ext cx="784836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卡尔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·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萨根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美国人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被成为”大众天文学家”和”公众科学家”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他主持过电视科学节目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出版了大量科普文章和书籍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其作品有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&lt;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伊甸园的飞龙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&gt;,&lt;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宇宙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&gt;&lt;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布鲁卡的脑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&gt;&lt;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数以十亿计的星球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&gt;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等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其中电视系列节目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&lt;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宇宙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&gt;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在全世界取得热烈反响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1280" y="5493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文章结构解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0" y="1700280"/>
            <a:ext cx="7898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宇宙的边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1197000"/>
            <a:ext cx="792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名人名言提示主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说人类探索宇宙的意义以及宇宙的广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说星系的组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说恒星的性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及其行星中生命存在的可能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说彗核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阳系及其行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美丽的地球及人类的知识与探索作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2492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-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27640" y="3284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-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581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-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27640" y="5373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-1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652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7-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260280"/>
            <a:ext cx="8280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说明对象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这篇文章说明的对象是宇宙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目的是想读者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或观众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介绍有关宇宙的知识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98100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484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说明重点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◎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说明宇宙的辽阔无垠的性质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例如地球到太阳之间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地球到已知的宇宙中心的距离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星系之内和星系与星系之间的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◎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说明宇宙的组成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例如宇宙见有若干千亿个星系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每个星系平均由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亿个恒星组成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◎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第三个重点是推测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在说明宇宙之大的时候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在说明行星系组成的时候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两次推测生命或高级动物的存在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404640"/>
            <a:ext cx="8496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&lt;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宇宙的边疆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&gt;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形式上是一篇解说词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从内容上说是一篇科学说明文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它的主体说明顺序是由远及近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由外到内的。这个顺序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一般来说是不符合人们 的认识规律的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人类认识事物是由近及远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由内到外的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但是这是解说词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它的说明顺序其实是电视片的顺序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而这部电视片在向人们介绍宇宙知识的时候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显然是从宏观到微观介绍的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因而也就有了这样一个由远及近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由外到内的顺序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  <p:sndAc>
      <p:stSnd>
        <p:snd r:embed="rId2" name="chimes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2:18:39Z</dcterms:created>
  <dc:creator>PC</dc:creator>
  <dc:description/>
  <dc:language>en-US</dc:language>
  <cp:lastModifiedBy>zxj</cp:lastModifiedBy>
  <dcterms:modified xsi:type="dcterms:W3CDTF">2007-05-28T03:12:23Z</dcterms:modified>
  <cp:revision>7</cp:revision>
  <dc:subject/>
  <dc:title>幻灯片 1</dc:title>
</cp:coreProperties>
</file>