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applause.wav" ContentType="audio/x-wav"/>
  <Override PartName="/ppt/media/image21.gif" ContentType="image/gif"/>
  <Override PartName="/ppt/media/image20.jpeg" ContentType="image/jpeg"/>
  <Override PartName="/ppt/media/image18.gif" ContentType="image/gif"/>
  <Override PartName="/ppt/media/image19.png" ContentType="image/png"/>
  <Override PartName="/ppt/media/image16.gif" ContentType="image/gif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DBC-D854-42F1-B438-E2A34994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196-B6B4-4D4A-9B2E-C7584D95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582A-A65C-4A67-BD21-A9DB0109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9878-11D1-4681-9EEC-CF17DBD1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5EA-C3FA-497F-AAB0-B0549158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B77-CCA4-4F80-AA10-12774D91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E19-0E5D-43D7-9E94-134800A9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89B-AF19-4773-A365-38A2FEBD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2B5-8B2B-4B54-A862-4EC416CD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FB13-E50E-47D5-9B50-6F0067DB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304-6DEA-40A4-BC2C-18ACFD5B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41F-BF25-4575-BFF4-4A82F542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ED84-9C3D-4A96-8723-5FE2F6AB06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457200"/>
            <a:ext cx="71625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关爱生命  保护环境  献身科学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09480" y="0"/>
            <a:ext cx="8153640" cy="26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凤    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凤蝶，无脊椎动物，昆虫纲，鳞翅目，凤蝶科蝶类的总称。全世界多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种，我国约有近百种。大型昆虫。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，较大，密生各色鳞片，形成多种绚丽有光泽的花斑，后翅臀区外缘波状并具有尾突，善于飞行。体被鳞片和短毛。口器特化成虹吸式口器，平时呈螺旋状卷曲，吮吸花蜜时可伸直。完全变态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繁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代，卵球形，分散在叶片上。幼虫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节背面有一个分叉的触角，触动时即突然伸出，并能发出臭气，为凤蝶独有的特征。幼虫植食性，有许多种幼虫以柑橘、樟等树叶为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常见的凤蝶属花椒凤蝶，翅展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厘米，黄绿色，有黑色的斑纹；为害柑橘类果树的玉带凤蝶，翅展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厘米，黑色前翅翅缘具有小白斑，后翅翅缘反面有黄白色新月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个，中央有黄白色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列，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个。此外，为害樟树的樟凤蝶，黑色，具有两条绿斑；为害马兜铃等植物的丝光凤蝶，又称马兜铃凤蝶；为害茴香等的金凤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8600" y="228600"/>
          <a:ext cx="8534520" cy="5052960"/>
        </p:xfrm>
        <a:graphic>
          <a:graphicData uri="http://schemas.openxmlformats.org/drawingml/2006/table">
            <a:tbl>
              <a:tblPr/>
              <a:tblGrid>
                <a:gridCol w="1706400"/>
                <a:gridCol w="960480"/>
                <a:gridCol w="1981440"/>
                <a:gridCol w="1904760"/>
                <a:gridCol w="19814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作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要事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达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语言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304920" y="3049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160020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3200400"/>
            <a:ext cx="533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拟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昆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1447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文学才能科学成就政治作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35053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8120" y="32767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细胞分裂蜕皮变蛹化蝶采蜜繁殖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160020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记叙为主说明为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32767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记叙为主大量描写议论抒情少许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371600"/>
            <a:ext cx="1447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记叙质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说明简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36576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34290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生动形象风趣活泼耐人寻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57200" y="274680"/>
          <a:ext cx="8229600" cy="5175360"/>
        </p:xfrm>
        <a:graphic>
          <a:graphicData uri="http://schemas.openxmlformats.org/drawingml/2006/table">
            <a:tbl>
              <a:tblPr/>
              <a:tblGrid>
                <a:gridCol w="2459160"/>
                <a:gridCol w="1655640"/>
                <a:gridCol w="2057400"/>
                <a:gridCol w="2057400"/>
              </a:tblGrid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 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文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说明对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说明方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语言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凤蝶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《凤蝶外传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684360" y="26028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1700280"/>
            <a:ext cx="144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下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列数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分类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828800"/>
            <a:ext cx="183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客观  平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多科学术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2920" y="2282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2133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凤  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076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凤  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3733920"/>
            <a:ext cx="161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比喻  拟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讲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3733920"/>
            <a:ext cx="15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生动形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风趣活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行楷"/>
              </a:rPr>
              <a:t>耐人寻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600200" y="762120"/>
            <a:ext cx="5791320" cy="29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深入探究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486400" y="312408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《凤蝶外传》一文中，你最感兴趣的是哪些段落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达训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同学们将文段中生动形象、富有文学色彩的句子的内容用平实的语言叙述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达训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仿写课文，学习生动形象描写事物的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523880" y="609480"/>
            <a:ext cx="6096240" cy="28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行楷"/>
              </a:rPr>
              <a:t>拓展交流</a:t>
            </a:r>
            <a:endParaRPr b="0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895480" y="3809880"/>
            <a:ext cx="5791320" cy="2819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441972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交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人说《凤蝶外传》这篇文章真不简单。它不仅具有浓厚的文学色彩，而且包涵深刻的人文内涵和浓厚的环保意识。请你也谈谈关于生命和环保的话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交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了这篇课文，作者探求真理的精神给了你怎样的启示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28600" y="380880"/>
            <a:ext cx="3962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了望台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541008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布置作业：根据你的观察和已有的知识写一篇短文，谈谈你对生态环境保护的认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19520" y="3505320"/>
            <a:ext cx="3276360" cy="297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133720" y="609480"/>
            <a:ext cx="51814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457200"/>
            <a:ext cx="67816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凤蝶外传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38098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董   纯   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56386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件制作        湛江一中  高云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14800" y="3352680"/>
            <a:ext cx="502920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638680" y="0"/>
            <a:ext cx="3505320" cy="327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3505320"/>
            <a:ext cx="4038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042920" y="1413000"/>
            <a:ext cx="662472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阅读感知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4941720"/>
            <a:ext cx="165744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卵  —————————  幼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虫（凤蝶）————  蛹（缢虫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692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69228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3357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由此可以得知：这篇文章以生动形象的语言，说明了凤蝶生长变化的全过程，条理清楚地介绍了凤蝶各个生长阶段的形态及生活习性，使读者了解了凤蝶，增长了知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819520" y="762120"/>
            <a:ext cx="511308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方正姚体"/>
              </a:rPr>
              <a:t>比较鉴赏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方正姚体"/>
              <a:ea typeface="方正姚体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84720" y="4581360"/>
            <a:ext cx="1366920" cy="935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27212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152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阅读：第一组的同学阅读《张衡传》（语文必修④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页），并与《凤蝶外传》作比较分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讨论：①作传对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②所记重要事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③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所采用的表达方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④语言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阅读：第二组的同学阅读《凤蝶》，并与《凤蝶外传》作比较分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讨论：①说明对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②说明方法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语言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13:59:00Z</dcterms:created>
  <dc:creator/>
  <dc:description/>
  <dc:language>en-US</dc:language>
  <cp:lastModifiedBy>中学语文资源站</cp:lastModifiedBy>
  <dcterms:modified xsi:type="dcterms:W3CDTF">2007-04-22T23:54:10Z</dcterms:modified>
  <cp:revision>0</cp:revision>
  <dc:subject/>
  <dc:title/>
</cp:coreProperties>
</file>