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2D9-E209-4E7C-BA2D-7E72C7E8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64C-8916-4A5E-A683-ED481375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F20-33B2-4A0B-AF77-3A0171E8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8927-956B-4D5A-9400-A97D27BC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46EB-584C-4D4A-86DB-15FD2D6F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89F7-93EE-48E9-88CD-7EE5C605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5AF4-C6F2-449A-ACEB-65033019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0F91-9669-4CE5-9746-63FE2E7E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EFAC-85E5-4C6E-9523-097E8F7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FDA8-314A-4332-A743-668CA7AD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BE1-8DD9-4EE7-9926-FD43D07C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F28-5077-4CFD-896C-6E9AF5B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C9A5-4D07-4377-A246-55CB176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103A-8A8C-4A02-9599-51A3DCF4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3333-11AD-46D7-892C-D906E6EC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8E88-57EE-4950-87F7-2A0550D7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4437-49FE-4F3E-8783-62324F94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A7D1-1CCA-403A-B7D5-B8D687681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9F493-D2CB-4B57-BBB1-C6E05880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B6725-AD0F-4D46-B943-62579EB5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0285-7901-4824-A7DE-0C2F195A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1FB6-EC4F-4C45-819E-18D03F0F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C401-38F6-4337-ACF3-39C2DE9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F490-D113-4615-9D32-A7C12223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E9ED-95EA-44FB-8E00-9E5193D5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3E237-C43D-4480-AF04-31677F3E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9D9D-F34A-4F22-9DE2-F239121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1779-873D-47E0-8B1D-0129DFDE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9BD7-854A-442B-8CA8-36A562E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16AF-6969-4053-B959-116AA564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04A-D10E-4D9A-9992-6A81D645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5D5-BF4F-40D4-B9F1-19FAF345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8E0-50F0-4A05-9AD5-12327C3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39AF-C8DF-4694-A542-401920E1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889-D42E-42C8-98A0-2E79C5E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A5E-7AD9-46B0-9E39-29C359DD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2AA-E00D-4F84-861F-E534ECC4F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942A-1B73-461A-BCEF-0A921A4D58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92B8-E49C-4186-B361-B18CF4B8FD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2637000"/>
            <a:ext cx="73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劝     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赏赐百千强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余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挽弓当挽强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力的弓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蚓无爪牙之利，筋骨之强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强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乃自强步，日三四里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竭力，勉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学不可以已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停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板已自布字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已经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可以已大风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止、治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无能为也已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“矣”，句末语气助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且壮士不死即已，死即举大名耳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罢了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积土成山，风雨兴焉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兼词，于之，在那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神明自得，圣心备焉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助词，不译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焉用亡郑以陪邻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疑问代词，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且焉置土石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疑问代词，哪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骐骥一跃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心一也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专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在洞庭一湖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全，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如既往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都，一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2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⑥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蚓无爪牙之利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锋利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非利足也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快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就砺则利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变锋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见利忘义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利益，好处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⑦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之于蓝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词，代“青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如须臾之所学也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助词，不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锲而舍之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凑足音节，不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蚓无爪牙之利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定语后置标志，不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金就砺则利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靠近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陈力就列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居，充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词类活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形容词活用作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故木受绳则直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金就砺则利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锋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作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君子博学而日参省乎己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每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食埃土，下饮黄泉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向上，向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形容词活用作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如登高之博见也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积善成德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善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成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青出于蓝而胜于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喻学生超过老师或后人超过前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锲而不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比喻工作、学习有恒心和毅力，能长期坚持不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特殊句式和固定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介词结构后置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取之于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青于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寒于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君子博学而日参省乎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497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定语后置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蚓无爪之利，筋骨之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判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虽有槁暴，不复挺者，輮使之然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假舆马者，非利足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假舟楫者，非能水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上食埃土，下饮黄泉，用心一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非蛇鳝之穴无可寄托者，用心躁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君子生非异也，善假于物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固定格式的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为”是“以之为”的省略，现代汉语义为“把它做成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例句：輮以为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②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相当于现代汉语的“没有用来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或“没有用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办法”，与“有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”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相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例句：无以至千里    无以成江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难点突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文章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一段，阐述学习的意义：学习可以增长知识、培养品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二段，阐述学习的作用：学习可以增长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第三段，阐述学习的根本方法：不断积累；锲而不舍；用心专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97600"/>
            <a:chOff x="0" y="0"/>
            <a:chExt cx="9144000" cy="6897600"/>
          </a:xfrm>
        </p:grpSpPr>
        <p:pic>
          <p:nvPicPr>
            <p:cNvPr id="152" name="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0" y="0"/>
              <a:ext cx="9144000" cy="689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3" name=""/>
            <p:cNvGrpSpPr/>
            <p:nvPr/>
          </p:nvGrpSpPr>
          <p:grpSpPr>
            <a:xfrm>
              <a:off x="228600" y="0"/>
              <a:ext cx="5867280" cy="5334120"/>
              <a:chOff x="228600" y="0"/>
              <a:chExt cx="5867280" cy="5334120"/>
            </a:xfrm>
          </p:grpSpPr>
          <p:sp>
            <p:nvSpPr>
              <p:cNvPr id="154" name=""/>
              <p:cNvSpPr/>
              <p:nvPr/>
            </p:nvSpPr>
            <p:spPr>
              <a:xfrm>
                <a:off x="2361960" y="464832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61960" y="396252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61960" y="2666880"/>
                <a:ext cx="3733560" cy="12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61960" y="2057400"/>
                <a:ext cx="37335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61960" y="137160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8600" y="1371600"/>
                <a:ext cx="2133360" cy="39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61960" y="685800"/>
                <a:ext cx="37335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" y="685800"/>
                <a:ext cx="2133360" cy="68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8600" y="685800"/>
                <a:ext cx="58672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600" y="1371600"/>
                <a:ext cx="586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28600" y="5334120"/>
                <a:ext cx="58672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685800"/>
                <a:ext cx="0" cy="46483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361960" y="685800"/>
                <a:ext cx="0" cy="46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095880" y="685800"/>
                <a:ext cx="0" cy="46483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61960" y="205740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361960" y="266688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61960" y="396252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61960" y="4648320"/>
                <a:ext cx="37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566880" y="0"/>
                <a:ext cx="1704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学不可以已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440" y="86184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分论点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047760" y="838080"/>
                <a:ext cx="222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比喻句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6600" y="2255760"/>
                <a:ext cx="1247400" cy="248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学习意义：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提高自己，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改变自己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,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规范自己。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2362320" y="1447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，取之于蓝，而青于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冰，水为之而寒于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27432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木直中绳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为轮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曲中规。虽有槁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复挺者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之然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木受绳则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47242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就砺则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4419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木、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1523880"/>
            <a:ext cx="685800" cy="1067040"/>
          </a:xfrm>
          <a:custGeom>
            <a:avLst/>
            <a:gdLst>
              <a:gd name="textAreaLeft" fmla="*/ 85680 w 685800"/>
              <a:gd name="textAreaRight" fmla="*/ 600120 w 68580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5880" y="2819520"/>
            <a:ext cx="685800" cy="1066680"/>
          </a:xfrm>
          <a:custGeom>
            <a:avLst/>
            <a:gdLst>
              <a:gd name="textAreaLeft" fmla="*/ 8568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4114800"/>
            <a:ext cx="685800" cy="1066680"/>
          </a:xfrm>
          <a:custGeom>
            <a:avLst/>
            <a:gdLst>
              <a:gd name="textAreaLeft" fmla="*/ 8568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96840" y="5533920"/>
            <a:ext cx="424440" cy="581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705720" y="1828800"/>
            <a:ext cx="2286000" cy="459720"/>
            <a:chOff x="6705720" y="1828800"/>
            <a:chExt cx="2286000" cy="459720"/>
          </a:xfrm>
        </p:grpSpPr>
        <p:sp>
          <p:nvSpPr>
            <p:cNvPr id="187" name=""/>
            <p:cNvSpPr/>
            <p:nvPr/>
          </p:nvSpPr>
          <p:spPr>
            <a:xfrm>
              <a:off x="6705720" y="18288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39160" y="182880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提高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67480" y="2057400"/>
              <a:ext cx="609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05720" y="3124080"/>
            <a:ext cx="2708280" cy="459720"/>
            <a:chOff x="6705720" y="3124080"/>
            <a:chExt cx="2708280" cy="459720"/>
          </a:xfrm>
        </p:grpSpPr>
        <p:sp>
          <p:nvSpPr>
            <p:cNvPr id="191" name=""/>
            <p:cNvSpPr/>
            <p:nvPr/>
          </p:nvSpPr>
          <p:spPr>
            <a:xfrm>
              <a:off x="6705720" y="31240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01000" y="3124080"/>
              <a:ext cx="141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可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67480" y="3352680"/>
              <a:ext cx="6098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96080" y="4648320"/>
            <a:ext cx="76212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429760" y="4633920"/>
            <a:ext cx="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66160" y="5614920"/>
            <a:ext cx="35460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君子博学而日参省乎己，则知明而行无过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391160" y="5867280"/>
            <a:ext cx="6858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149544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2133720"/>
            <a:ext cx="144756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2712960"/>
            <a:ext cx="144756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86160" y="350532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29000" y="411480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753080"/>
            <a:ext cx="12952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1490760"/>
            <a:ext cx="15238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2133720"/>
            <a:ext cx="9144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86160" y="3186000"/>
            <a:ext cx="1295280" cy="3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81440" y="3505320"/>
            <a:ext cx="193356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4114800"/>
            <a:ext cx="838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4753080"/>
            <a:ext cx="838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79560" y="2712960"/>
            <a:ext cx="1335240" cy="469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81440" y="3186000"/>
            <a:ext cx="812880" cy="3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7815240" y="6400800"/>
            <a:ext cx="432000" cy="43164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1640"/>
              <a:gd name="textAreaBottom" fmla="*/ 37620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18839" y="2779"/>
                </a:lnTo>
                <a:lnTo>
                  <a:pt x="2779" y="2779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18839" y="18821"/>
                </a:lnTo>
                <a:lnTo>
                  <a:pt x="18839" y="2779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39" y="18821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18" h="21600">
                <a:moveTo>
                  <a:pt x="4830" y="10800"/>
                </a:moveTo>
                <a:lnTo>
                  <a:pt x="16788" y="4821"/>
                </a:lnTo>
                <a:lnTo>
                  <a:pt x="16788" y="167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8240760" y="6400800"/>
            <a:ext cx="431640" cy="431640"/>
          </a:xfrm>
          <a:custGeom>
            <a:avLst/>
            <a:gdLst>
              <a:gd name="textAreaLeft" fmla="*/ 69840 w 431640"/>
              <a:gd name="textAreaRight" fmla="*/ 361800 w 431640"/>
              <a:gd name="textAreaTop" fmla="*/ 69840 h 431640"/>
              <a:gd name="textAreaBottom" fmla="*/ 361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06" y="3494"/>
                </a:lnTo>
                <a:lnTo>
                  <a:pt x="3494" y="349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06" y="18106"/>
                </a:lnTo>
                <a:lnTo>
                  <a:pt x="18106" y="349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94" y="18106"/>
                </a:lnTo>
                <a:lnTo>
                  <a:pt x="18106" y="1810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94" y="3494"/>
                </a:lnTo>
                <a:lnTo>
                  <a:pt x="3494" y="18106"/>
                </a:lnTo>
                <a:close/>
              </a:path>
              <a:path fill="darken" w="21600" h="21600">
                <a:moveTo>
                  <a:pt x="5354" y="5354"/>
                </a:moveTo>
                <a:lnTo>
                  <a:pt x="16246" y="10800"/>
                </a:lnTo>
                <a:lnTo>
                  <a:pt x="5354" y="162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8686800" y="6400800"/>
            <a:ext cx="431640" cy="431640"/>
          </a:xfrm>
          <a:custGeom>
            <a:avLst/>
            <a:gdLst>
              <a:gd name="textAreaLeft" fmla="*/ 56880 w 431640"/>
              <a:gd name="textAreaRight" fmla="*/ 374760 w 431640"/>
              <a:gd name="textAreaTop" fmla="*/ 56880 h 431640"/>
              <a:gd name="textAreaBottom" fmla="*/ 3747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741" y="2859"/>
                </a:lnTo>
                <a:lnTo>
                  <a:pt x="2859" y="285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741" y="18741"/>
                </a:lnTo>
                <a:lnTo>
                  <a:pt x="18741" y="285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859" y="18741"/>
                </a:lnTo>
                <a:lnTo>
                  <a:pt x="18741" y="1874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859" y="2859"/>
                </a:lnTo>
                <a:lnTo>
                  <a:pt x="2859" y="18741"/>
                </a:lnTo>
                <a:close/>
              </a:path>
              <a:path fill="darken" w="21600" h="21600">
                <a:moveTo>
                  <a:pt x="4881" y="8006"/>
                </a:moveTo>
                <a:lnTo>
                  <a:pt x="7844" y="8006"/>
                </a:lnTo>
                <a:lnTo>
                  <a:pt x="7844" y="12513"/>
                </a:lnTo>
                <a:cubicBezTo>
                  <a:pt x="7844" y="13293"/>
                  <a:pt x="8521" y="13910"/>
                  <a:pt x="9396" y="13910"/>
                </a:cubicBezTo>
                <a:lnTo>
                  <a:pt x="10800" y="13910"/>
                </a:lnTo>
                <a:cubicBezTo>
                  <a:pt x="11675" y="13910"/>
                  <a:pt x="12351" y="13293"/>
                  <a:pt x="12351" y="12513"/>
                </a:cubicBezTo>
                <a:lnTo>
                  <a:pt x="12351" y="8006"/>
                </a:lnTo>
                <a:lnTo>
                  <a:pt x="10800" y="8006"/>
                </a:lnTo>
                <a:lnTo>
                  <a:pt x="13763" y="5043"/>
                </a:lnTo>
                <a:lnTo>
                  <a:pt x="16866" y="8006"/>
                </a:lnTo>
                <a:lnTo>
                  <a:pt x="15315" y="8006"/>
                </a:lnTo>
                <a:lnTo>
                  <a:pt x="15315" y="12513"/>
                </a:lnTo>
                <a:cubicBezTo>
                  <a:pt x="15315" y="14851"/>
                  <a:pt x="13138" y="17013"/>
                  <a:pt x="10800" y="17013"/>
                </a:cubicBezTo>
                <a:lnTo>
                  <a:pt x="9396" y="17013"/>
                </a:lnTo>
                <a:cubicBezTo>
                  <a:pt x="7057" y="17013"/>
                  <a:pt x="4881" y="14851"/>
                  <a:pt x="4881" y="1251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5664240"/>
            <a:ext cx="33526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12800" y="5664240"/>
            <a:ext cx="23623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04640" y="6454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1EDC-4AB4-47D8-9802-BCAADF47FB68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500"/>
                            </p:stCondLst>
                            <p:childTnLst>
                              <p:par>
                                <p:cTn id="7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50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2000"/>
                            </p:stCondLst>
                            <p:childTnLst>
                              <p:par>
                                <p:cTn id="7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500"/>
                            </p:stCondLst>
                            <p:childTnLst>
                              <p:par>
                                <p:cTn id="7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27560" y="10476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吾尝终日而思矣，不如须臾之所学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1735200"/>
            <a:ext cx="457200" cy="53316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30320" y="5753160"/>
            <a:ext cx="12780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靠后天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2527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10480" y="5219640"/>
            <a:ext cx="0" cy="5335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2160" y="5678640"/>
            <a:ext cx="274104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君子生非异也，善假于物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867280" y="594360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7815240" y="6400800"/>
            <a:ext cx="432000" cy="431640"/>
          </a:xfrm>
          <a:custGeom>
            <a:avLst/>
            <a:gdLst>
              <a:gd name="textAreaLeft" fmla="*/ 55440 w 432000"/>
              <a:gd name="textAreaRight" fmla="*/ 376560 w 432000"/>
              <a:gd name="textAreaTop" fmla="*/ 55440 h 431640"/>
              <a:gd name="textAreaBottom" fmla="*/ 37620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18839" y="2779"/>
                </a:lnTo>
                <a:lnTo>
                  <a:pt x="2779" y="2779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18839" y="18821"/>
                </a:lnTo>
                <a:lnTo>
                  <a:pt x="18839" y="2779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2779" y="18821"/>
                </a:lnTo>
                <a:lnTo>
                  <a:pt x="18839" y="18821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2779" y="2779"/>
                </a:lnTo>
                <a:lnTo>
                  <a:pt x="2779" y="18821"/>
                </a:lnTo>
                <a:close/>
              </a:path>
              <a:path fill="darken" w="21618" h="21600">
                <a:moveTo>
                  <a:pt x="4830" y="10800"/>
                </a:moveTo>
                <a:lnTo>
                  <a:pt x="16788" y="4821"/>
                </a:lnTo>
                <a:lnTo>
                  <a:pt x="16788" y="167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240760" y="6400800"/>
            <a:ext cx="431640" cy="431640"/>
          </a:xfrm>
          <a:custGeom>
            <a:avLst/>
            <a:gdLst>
              <a:gd name="textAreaLeft" fmla="*/ 69840 w 431640"/>
              <a:gd name="textAreaRight" fmla="*/ 361800 w 431640"/>
              <a:gd name="textAreaTop" fmla="*/ 69840 h 431640"/>
              <a:gd name="textAreaBottom" fmla="*/ 361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106" y="3494"/>
                </a:lnTo>
                <a:lnTo>
                  <a:pt x="3494" y="3494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106" y="18106"/>
                </a:lnTo>
                <a:lnTo>
                  <a:pt x="18106" y="3494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494" y="18106"/>
                </a:lnTo>
                <a:lnTo>
                  <a:pt x="18106" y="18106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494" y="3494"/>
                </a:lnTo>
                <a:lnTo>
                  <a:pt x="3494" y="18106"/>
                </a:lnTo>
                <a:close/>
              </a:path>
              <a:path fill="darken" w="21600" h="21600">
                <a:moveTo>
                  <a:pt x="5354" y="5354"/>
                </a:moveTo>
                <a:lnTo>
                  <a:pt x="16246" y="10800"/>
                </a:lnTo>
                <a:lnTo>
                  <a:pt x="5354" y="1624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8686800" y="6400800"/>
            <a:ext cx="431640" cy="431640"/>
          </a:xfrm>
          <a:custGeom>
            <a:avLst/>
            <a:gdLst>
              <a:gd name="textAreaLeft" fmla="*/ 56880 w 431640"/>
              <a:gd name="textAreaRight" fmla="*/ 374760 w 431640"/>
              <a:gd name="textAreaTop" fmla="*/ 56880 h 431640"/>
              <a:gd name="textAreaBottom" fmla="*/ 3747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741" y="2859"/>
                </a:lnTo>
                <a:lnTo>
                  <a:pt x="2859" y="2859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741" y="18741"/>
                </a:lnTo>
                <a:lnTo>
                  <a:pt x="18741" y="2859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2859" y="18741"/>
                </a:lnTo>
                <a:lnTo>
                  <a:pt x="18741" y="18741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2859" y="2859"/>
                </a:lnTo>
                <a:lnTo>
                  <a:pt x="2859" y="18741"/>
                </a:lnTo>
                <a:close/>
              </a:path>
              <a:path fill="darken" w="21600" h="21600">
                <a:moveTo>
                  <a:pt x="4881" y="8006"/>
                </a:moveTo>
                <a:lnTo>
                  <a:pt x="7844" y="8006"/>
                </a:lnTo>
                <a:lnTo>
                  <a:pt x="7844" y="12513"/>
                </a:lnTo>
                <a:cubicBezTo>
                  <a:pt x="7844" y="13293"/>
                  <a:pt x="8521" y="13910"/>
                  <a:pt x="9396" y="13910"/>
                </a:cubicBezTo>
                <a:lnTo>
                  <a:pt x="10800" y="13910"/>
                </a:lnTo>
                <a:cubicBezTo>
                  <a:pt x="11675" y="13910"/>
                  <a:pt x="12351" y="13293"/>
                  <a:pt x="12351" y="12513"/>
                </a:cubicBezTo>
                <a:lnTo>
                  <a:pt x="12351" y="8006"/>
                </a:lnTo>
                <a:lnTo>
                  <a:pt x="10800" y="8006"/>
                </a:lnTo>
                <a:lnTo>
                  <a:pt x="13763" y="5043"/>
                </a:lnTo>
                <a:lnTo>
                  <a:pt x="16866" y="8006"/>
                </a:lnTo>
                <a:lnTo>
                  <a:pt x="15315" y="8006"/>
                </a:lnTo>
                <a:lnTo>
                  <a:pt x="15315" y="12513"/>
                </a:lnTo>
                <a:cubicBezTo>
                  <a:pt x="15315" y="14851"/>
                  <a:pt x="13138" y="17013"/>
                  <a:pt x="10800" y="17013"/>
                </a:cubicBezTo>
                <a:lnTo>
                  <a:pt x="9396" y="17013"/>
                </a:lnTo>
                <a:cubicBezTo>
                  <a:pt x="7057" y="17013"/>
                  <a:pt x="4881" y="14851"/>
                  <a:pt x="4881" y="12513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2280" y="934920"/>
          <a:ext cx="6782040" cy="4475160"/>
        </p:xfrm>
        <a:graphic>
          <a:graphicData uri="http://schemas.openxmlformats.org/drawingml/2006/table">
            <a:tbl>
              <a:tblPr/>
              <a:tblGrid>
                <a:gridCol w="1828800"/>
                <a:gridCol w="4953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04920" y="10350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论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101124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比喻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1840" y="2077920"/>
            <a:ext cx="22525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习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弥补不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752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吾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望矣，不如登高之博见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2514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登高而招，臂非加长也，而见者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风而呼，声非加疾也，而闻者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74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舆马者，非利足也，而致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4800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舟楫者，非能水也，而绝江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760400"/>
            <a:ext cx="1828800" cy="459720"/>
            <a:chOff x="7315200" y="1760400"/>
            <a:chExt cx="1828800" cy="459720"/>
          </a:xfrm>
        </p:grpSpPr>
        <p:sp>
          <p:nvSpPr>
            <p:cNvPr id="239" name=""/>
            <p:cNvSpPr/>
            <p:nvPr/>
          </p:nvSpPr>
          <p:spPr>
            <a:xfrm>
              <a:off x="7315200" y="1760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学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44080" y="1760400"/>
              <a:ext cx="79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空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77320" y="1836720"/>
              <a:ext cx="304560" cy="152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8077320" y="1989000"/>
              <a:ext cx="304560" cy="15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467480" y="322596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797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4005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2514600"/>
            <a:ext cx="457200" cy="53352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3200400"/>
            <a:ext cx="457200" cy="53352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962520"/>
            <a:ext cx="457200" cy="53316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4724280"/>
            <a:ext cx="457200" cy="533520"/>
          </a:xfrm>
          <a:custGeom>
            <a:avLst/>
            <a:gdLst>
              <a:gd name="textAreaLeft" fmla="*/ 56880 w 457200"/>
              <a:gd name="textAreaRight" fmla="*/ 400320 w 4572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9280" y="2220840"/>
            <a:ext cx="546120" cy="3410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借助学习弥补不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24680" y="2666880"/>
            <a:ext cx="304920" cy="243864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1752480"/>
            <a:ext cx="2514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2514600"/>
            <a:ext cx="13716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276720"/>
            <a:ext cx="13716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81480" y="3962520"/>
            <a:ext cx="16765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4724280"/>
            <a:ext cx="17524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5715000"/>
            <a:ext cx="18288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2514600"/>
            <a:ext cx="18288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57600" y="3276720"/>
            <a:ext cx="18288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962520"/>
            <a:ext cx="15238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657600" y="4724280"/>
            <a:ext cx="19051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1752480"/>
            <a:ext cx="1676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68760" y="2514600"/>
            <a:ext cx="160020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68760" y="3276720"/>
            <a:ext cx="152388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63840" y="3962520"/>
            <a:ext cx="144792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63840" y="4724280"/>
            <a:ext cx="167652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84480" y="5715000"/>
            <a:ext cx="1981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404640" y="64548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9344-9843-4760-8FB0-4197865B00E9}" type="slidenum"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000"/>
                            </p:stCondLst>
                            <p:childTnLst>
                              <p:par>
                                <p:cTn id="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500"/>
                            </p:stCondLst>
                            <p:childTnLst>
                              <p:par>
                                <p:cTn id="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00"/>
                            </p:stCondLst>
                            <p:childTnLst>
                              <p:par>
                                <p:cTn id="9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2000"/>
                            </p:stCondLst>
                            <p:childTnLst>
                              <p:par>
                                <p:cTn id="9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9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124080" y="1295280"/>
            <a:ext cx="1524240" cy="3810240"/>
          </a:xfrm>
          <a:prstGeom prst="rect">
            <a:avLst/>
          </a:prstGeom>
          <a:solidFill>
            <a:srgbClr val="ffff66">
              <a:alpha val="50000"/>
            </a:srgbClr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1599840" y="1295280"/>
            <a:ext cx="3657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劝 学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6640" y="31521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学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6640" y="1094760"/>
            <a:ext cx="109476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劝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99072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作者以《劝学》为题目，勉励人们要</a:t>
            </a:r>
            <a:r>
              <a:rPr b="1" lang="zh-CN" sz="4200" spc="-1" strike="noStrike">
                <a:solidFill>
                  <a:srgbClr val="0000ff"/>
                </a:solidFill>
                <a:latin typeface="Arial"/>
                <a:ea typeface="隶书"/>
              </a:rPr>
              <a:t>不停止地坚持学习</a:t>
            </a:r>
            <a:r>
              <a:rPr b="1" lang="zh-CN" sz="4200" spc="-1" strike="noStrike">
                <a:solidFill>
                  <a:srgbClr val="000000"/>
                </a:solidFill>
                <a:latin typeface="Arial"/>
                <a:ea typeface="隶书"/>
              </a:rPr>
              <a:t>，只有这样才能增长知识，发展才能，培养高尚的品德。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676520" y="2133720"/>
            <a:ext cx="1434960" cy="35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689120" y="3911760"/>
            <a:ext cx="1434960" cy="3553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00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95280" y="1268280"/>
            <a:ext cx="647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49360"/>
            <a:ext cx="217440" cy="5688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148320 h 5688000"/>
              <a:gd name="textAreaBottom" fmla="*/ 553968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88000" y="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正面设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1295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1484280"/>
            <a:ext cx="99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反面设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40720" y="26028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015400" y="83664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59092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骐骥一跃，不能十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驽马十驾，功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28195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2708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396252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锲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之，朽木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锲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不舍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，金石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可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411480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541008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蚓无爪牙之利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心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一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蟹六跪而二螯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用心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56386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558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11280" y="260280"/>
            <a:ext cx="144720" cy="2016360"/>
          </a:xfrm>
          <a:custGeom>
            <a:avLst/>
            <a:gdLst>
              <a:gd name="textAreaLeft" fmla="*/ 92520 w 144720"/>
              <a:gd name="textAreaRight" fmla="*/ 145080 w 14472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92360" y="765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积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0" y="2852640"/>
            <a:ext cx="142920" cy="2160720"/>
          </a:xfrm>
          <a:custGeom>
            <a:avLst/>
            <a:gdLst>
              <a:gd name="textAreaLeft" fmla="*/ 91440 w 142920"/>
              <a:gd name="textAreaRight" fmla="*/ 143280 w 14292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429000"/>
            <a:ext cx="1033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坚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84360" y="558972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01120" y="5661000"/>
            <a:ext cx="911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专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189000"/>
            <a:ext cx="31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积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土成山，风雨兴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积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水成渊，蛟龙生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00360" y="1413000"/>
            <a:ext cx="34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不积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跬步，无以至千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不积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小流，无以成江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2000" y="33336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2000" y="1628640"/>
            <a:ext cx="72720" cy="720720"/>
          </a:xfrm>
          <a:custGeom>
            <a:avLst/>
            <a:gdLst>
              <a:gd name="textAreaLeft" fmla="*/ 0 w 72720"/>
              <a:gd name="textAreaRight" fmla="*/ 26280 w 7272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8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8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设喻说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１）以日常生活中常见的事情或现象作为喻体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（２）设喻方式多样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面设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反设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反复设喻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（３）设喻与说理结合紧密，形式十分灵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的是将道理隐含于比喻之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的先设喻，后引出道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的先设喻，引出道理后，再用另外的比喻进一步论证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6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一、学习要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了解荀子的生平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荀子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掌握下列词语的读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輮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óu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  螯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á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  槁暴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ù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参省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xǐ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木直中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òng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舆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     跂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  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知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h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明       锲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qi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而不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须臾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 舟楫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跬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ku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步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骐骥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jì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          金石可镂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òu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词汇积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通假字：  有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    暴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曝   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智   生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古今异义：参    闻    绝    步    寄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一词多义：绝    强    已    焉     一    利    之    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词类活用：直    利    日    上    下     高    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成语：    青出于蓝而胜于蓝   锲而不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典型的特殊句式和固定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了解文章的重要内容和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掌握本文设喻说理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 rot="5400000">
            <a:off x="-152280" y="3733920"/>
            <a:ext cx="30477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333300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作者简介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solidFill>
                <a:srgbClr val="333300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76212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荀子（约前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313-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前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238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）名况，字卿，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战国后期赵国人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，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著名的思想家、教育家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。他认为人类天生有欲求，有欲求必有争夺，任其天性发展，必做恶事，因此他提出“</a:t>
            </a:r>
            <a:r>
              <a:rPr b="0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性恶论</a:t>
            </a:r>
            <a:r>
              <a:rPr b="0" lang="zh-CN" sz="2800" spc="-1" strike="noStrike">
                <a:solidFill>
                  <a:srgbClr val="996600"/>
                </a:solidFill>
                <a:latin typeface="隶书"/>
                <a:ea typeface="隶书"/>
              </a:rPr>
              <a:t>”，强调发挥教育和礼法的作用，认为“今之人性恶，必将待师法然后正，得礼义然后治”。认为人和物都可以改变，能改造好，能“知明而行无过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4581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劝学》是《荀子》的第一篇，是荀子教学思想的专论，比较全面而系统地论述了他对教育和学习的一系列观点和主张。本文是节选原文前四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1701720" cy="15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9640" y="0"/>
            <a:ext cx="77724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二、重点解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荀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荀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先秦唯物主义思想的主要代表作之一，相传为战国时赵国人荀况所著。该书继承了春秋以来的唯物主义传统，吸收了儒家、墨家、法家的部分思想，内容比较完整，是集先秦唯物主义之大成的著作。全书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篇，其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天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天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非相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篇阐述了唯物主义自然观，提出“天行有常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物运动有客观的规律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“天地合，万物生”的思想，批判了天命观和迷信思想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解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名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篇阐述了唯物主义的认识论和逻辑思想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王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隆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篇提出了“隆礼重法”的政治理论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性恶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修身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劝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等篇阐述了社会伦理思想和教育思想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非十二子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则是对先秦诸子学求思想的批判性的总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词汇积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假字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虽有稿暴             （“有”同“又”，又）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虽有稿暴             （“暴”同“曝”，晒）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则知明而行无过矣     （“知”同“智”，智慧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君子生非异也         （“生”同“性”，资质，禀赋）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古今异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君子博学而日参省乎已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义：验，检查；今义：参加，加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闻者彰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义：用耳听；今义：用鼻嗅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③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而绝江河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义：长江；今义：泛指一切江流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④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积跬步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义：跨两脚为“步”；今义：跨出一脚为“步”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⑤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非鳝之穴无可寄托者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古义：寄居存身；今义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托付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把抽象的思想感情放在具体人身上或事物上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一词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假舟楫者，非能水也，而绝江河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横渡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群响毕绝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停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率妻子儿女来此绝境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隔断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佛印绝类弥勒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极，非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为妙绝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了极点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绝技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超，绝妙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j</cp:lastModifiedBy>
  <dcterms:modified xsi:type="dcterms:W3CDTF">2007-05-28T08:56:54Z</dcterms:modified>
  <cp:revision>49</cp:revision>
  <dc:subject/>
  <dc:title>PowerPoint Presentation</dc:title>
</cp:coreProperties>
</file>