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6.jpeg" ContentType="image/jpeg"/>
  <Override PartName="/ppt/media/image26.gif" ContentType="image/gif"/>
  <Override PartName="/ppt/media/image15.jpeg" ContentType="image/jpeg"/>
  <Override PartName="/ppt/media/image2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3.jpeg" ContentType="image/jpeg"/>
  <Override PartName="/ppt/media/image17.jpeg" ContentType="image/jpeg"/>
  <Override PartName="/ppt/media/image16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5E0C-3679-4DA0-88B4-7DE09A8F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AB6-8674-4595-8D3C-B69E6F0F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E70-2826-4247-A9B1-C4A69EBE1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6ED-170B-4190-BAD5-1B3BF90A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B80-F444-41A4-9EF7-85136D96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2A1-84F5-4E1A-8EAD-321B3941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93F-B71E-421F-A8B1-7E72022F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4F9-CB76-4FE3-A253-9299BA13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D74-D633-4FF1-A6C4-34ED1DF1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584-7487-40F2-B8AF-BE14A525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286-1CF0-46D3-9515-70D8D9F5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27F-7906-4B72-97E8-60B7A233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0C70-8B26-4F1C-9B9F-D4745DE041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garden.2118.com.cn/Hongri/jiayi/biane.jpg" TargetMode="External"/><Relationship Id="rId3" Type="http://schemas.openxmlformats.org/officeDocument/2006/relationships/image" Target="../media/image14.jpeg"/><Relationship Id="rId4" Type="http://schemas.openxmlformats.org/officeDocument/2006/relationships/slide" Target="slide1.xml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16.xml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51.xml"/><Relationship Id="rId3" Type="http://schemas.openxmlformats.org/officeDocument/2006/relationships/slide" Target="slide52.xml"/><Relationship Id="rId4" Type="http://schemas.openxmlformats.org/officeDocument/2006/relationships/slide" Target="slide54.xml"/><Relationship Id="rId5" Type="http://schemas.openxmlformats.org/officeDocument/2006/relationships/slide" Target="slide55.xml"/><Relationship Id="rId6" Type="http://schemas.openxmlformats.org/officeDocument/2006/relationships/slide" Target="slide59.xml"/><Relationship Id="rId7" Type="http://schemas.openxmlformats.org/officeDocument/2006/relationships/slide" Target="slide1.xml"/><Relationship Id="rId8" Type="http://schemas.openxmlformats.org/officeDocument/2006/relationships/slide" Target="slide63.xml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48.xml"/><Relationship Id="rId3" Type="http://schemas.openxmlformats.org/officeDocument/2006/relationships/image" Target="../media/image26.gif"/><Relationship Id="rId4" Type="http://schemas.openxmlformats.org/officeDocument/2006/relationships/slide" Target="slide48.xml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48.xml"/><Relationship Id="rId3" Type="http://schemas.openxmlformats.org/officeDocument/2006/relationships/image" Target="../media/image26.gif"/><Relationship Id="rId4" Type="http://schemas.openxmlformats.org/officeDocument/2006/relationships/slide" Target="slide48.xml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52.xml"/><Relationship Id="rId3" Type="http://schemas.openxmlformats.org/officeDocument/2006/relationships/slide" Target="slide48.xml"/><Relationship Id="rId4" Type="http://schemas.openxmlformats.org/officeDocument/2006/relationships/image" Target="../media/image26.gif"/><Relationship Id="rId5" Type="http://schemas.openxmlformats.org/officeDocument/2006/relationships/slide" Target="slide48.xm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27.gif"/><Relationship Id="rId3" Type="http://schemas.openxmlformats.org/officeDocument/2006/relationships/slide" Target="slide48.xml"/><Relationship Id="rId4" Type="http://schemas.openxmlformats.org/officeDocument/2006/relationships/image" Target="../media/image27.gif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27.gif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6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26.gif"/><Relationship Id="rId3" Type="http://schemas.openxmlformats.org/officeDocument/2006/relationships/slide" Target="slide28.xm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4572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1" lang="zh-CN" sz="9600" spc="-1" strike="noStrike">
                <a:solidFill>
                  <a:srgbClr val="cc0000"/>
                </a:solidFill>
                <a:latin typeface="方正姚体"/>
                <a:ea typeface="隶书"/>
              </a:rPr>
              <a:t>过 秦 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243828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ff"/>
                </a:solidFill>
                <a:latin typeface="Times New Roman"/>
                <a:ea typeface="隶书"/>
              </a:rPr>
              <a:t>   </a:t>
            </a:r>
            <a:r>
              <a:rPr b="1" lang="zh-CN" sz="6000" spc="-1" strike="noStrike">
                <a:solidFill>
                  <a:srgbClr val="00ccff"/>
                </a:solidFill>
                <a:latin typeface="Times New Roman"/>
                <a:ea typeface="华文行楷"/>
              </a:rPr>
              <a:t>贾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32160" y="67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267080"/>
            <a:ext cx="2286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历史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952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音频朗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267080"/>
            <a:ext cx="2286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4267080"/>
            <a:ext cx="2286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952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整体把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4952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翻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字词归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16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562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内容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4754520" y="2846520"/>
            <a:ext cx="7064280" cy="360"/>
            <a:chOff x="4754520" y="2846520"/>
            <a:chExt cx="7064280" cy="360"/>
          </a:xfrm>
        </p:grpSpPr>
        <p:sp>
          <p:nvSpPr>
            <p:cNvPr id="94" name=""/>
            <p:cNvSpPr/>
            <p:nvPr/>
          </p:nvSpPr>
          <p:spPr>
            <a:xfrm>
              <a:off x="4754520" y="284652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54520" y="284652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〔胆照华国树千台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照，肝胆相照。华国，即华夏，这里指汉王朝。树千台，指建立众多的诸侯国。汉制设立“三台”，即尚书为中台，御史为宪台，谒者为外台。建立众多的诸侯国则势将设立“千台”。贾谊主张加强中央集权，削弱诸侯王势力。他在《治安策》中指出，“欲天下之治安，莫若众建诸侯而少其力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9810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〔胆照华国树千台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照，肝胆相照。华国，即华夏，这里指汉王朝。树千台，指建立众多的诸侯国。汉制设立“三台”，即尚书为中台，御史为宪台，谒者为外台。建立众多的诸侯国则势将设立“千台”。贾谊主张加强中央集权，削弱诸侯王势力。他在《治安策》中指出，“欲天下之治安，莫若众建诸侯而少其力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267080"/>
            <a:ext cx="8915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〔空白汨罗步尘埃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空白，徒然说。汨罗，即汨罗江，在湖南省东北部。这里化用屈原自沉汨罗江的典故。步尘埃，即步后尘。贾谊虽没有投江而死，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提议改革政治，遭权贵嫉妒、毁谤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贬为长沙王太傅，不被重用。后转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梁怀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梁怀王堕马死而忧伤死去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“自伤为傅无状”，一年后也抑郁而死，年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于屈原的投江，还是步了后尘。尤其是屈贾的政治命运相同，都是因谗遭贬，壮志未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〔胆照华国树千台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照，肝胆相照。华国，即华夏，这里指汉王朝。树千台，指建立众多的诸侯国。汉制设立“三台”，即尚书为中台，御史为宪台，谒者为外台。建立众多的诸侯国则势将设立“千台”。贾谊主张加强中央集权，削弱诸侯王势力。他在《治安策》中指出，“欲天下之治安，莫若众建诸侯而少其力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贾谊年十八以能诵诗书、善属文闻名于郡中。年二十提出改革制度的主张，表现出卓越的政治才能，得到汉文帝的赏识，但却因此受到守旧派的诋毁，被贬为长沙王太傅。贬谪后，虽身居闲职，仍心系朝事，后为梁王太傅。正如毛泽东诗中所讲，梁王落马而死，贾谊以为是自己失职，哭泣岁余，抑郁而终，年仅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一颗璀璨夺目的巨星从此长逝历史天空。所著政论文以《过秦论》《陈政事疏》《论积贮疏》最为有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371600" y="838080"/>
            <a:ext cx="2057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贾谊井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19320" y="1539720"/>
            <a:ext cx="7010280" cy="531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0"/>
            <a:ext cx="3962520" cy="1630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9436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59120" y="79200"/>
            <a:ext cx="37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目标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1280" y="1447920"/>
            <a:ext cx="48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反复诵读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扫清文字障碍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逐步深入理解文章的内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4880" y="4038480"/>
            <a:ext cx="220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积累文中出现的文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现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34520" y="654696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7493"/>
                </a:moveTo>
                <a:lnTo>
                  <a:pt x="12707" y="7493"/>
                </a:lnTo>
                <a:lnTo>
                  <a:pt x="12707" y="12828"/>
                </a:lnTo>
                <a:cubicBezTo>
                  <a:pt x="12707" y="13751"/>
                  <a:pt x="13508" y="14482"/>
                  <a:pt x="14544" y="14482"/>
                </a:cubicBezTo>
                <a:lnTo>
                  <a:pt x="16206" y="14482"/>
                </a:lnTo>
                <a:cubicBezTo>
                  <a:pt x="17242" y="14482"/>
                  <a:pt x="18043" y="13751"/>
                  <a:pt x="18043" y="12828"/>
                </a:cubicBezTo>
                <a:lnTo>
                  <a:pt x="18043" y="7493"/>
                </a:lnTo>
                <a:lnTo>
                  <a:pt x="16206" y="7493"/>
                </a:lnTo>
                <a:lnTo>
                  <a:pt x="19714" y="3985"/>
                </a:lnTo>
                <a:lnTo>
                  <a:pt x="23387" y="7493"/>
                </a:lnTo>
                <a:lnTo>
                  <a:pt x="21550" y="7493"/>
                </a:lnTo>
                <a:lnTo>
                  <a:pt x="21550" y="12828"/>
                </a:lnTo>
                <a:cubicBezTo>
                  <a:pt x="21550" y="15596"/>
                  <a:pt x="18974" y="18155"/>
                  <a:pt x="16206" y="18155"/>
                </a:cubicBezTo>
                <a:lnTo>
                  <a:pt x="14544" y="18155"/>
                </a:lnTo>
                <a:cubicBezTo>
                  <a:pt x="11776" y="18155"/>
                  <a:pt x="9200" y="15596"/>
                  <a:pt x="9200" y="12828"/>
                </a:cubicBez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57400" y="2782440"/>
            <a:ext cx="606960" cy="20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听读课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610480" y="5943600"/>
            <a:ext cx="30492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5619240"/>
            <a:ext cx="604800" cy="994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隶书"/>
              </a:rPr>
              <a:t>返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40689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304920" y="289548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《过秦论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内容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5480" y="2438280"/>
            <a:ext cx="3124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兴亡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-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800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分析原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1447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3581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609480"/>
            <a:ext cx="1905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崛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发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2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274320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828800"/>
            <a:ext cx="75960" cy="1981080"/>
          </a:xfrm>
          <a:custGeom>
            <a:avLst/>
            <a:gdLst>
              <a:gd name="textAreaLeft" fmla="*/ 22320 w 75960"/>
              <a:gd name="textAreaRight" fmla="*/ 76320 w 7596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990720"/>
            <a:ext cx="75960" cy="1447560"/>
          </a:xfrm>
          <a:custGeom>
            <a:avLst/>
            <a:gdLst>
              <a:gd name="textAreaLeft" fmla="*/ 22320 w 75960"/>
              <a:gd name="textAreaRight" fmla="*/ 76320 w 75960"/>
              <a:gd name="textAreaTop" fmla="*/ 60120 h 1447560"/>
              <a:gd name="textAreaBottom" fmla="*/ 138744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3581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228600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34520" y="549360"/>
            <a:ext cx="609480" cy="57600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855" h="21600">
                <a:moveTo>
                  <a:pt x="0" y="0"/>
                </a:moveTo>
                <a:lnTo>
                  <a:pt x="22855" y="0"/>
                </a:lnTo>
                <a:lnTo>
                  <a:pt x="22855" y="21600"/>
                </a:lnTo>
                <a:lnTo>
                  <a:pt x="0" y="21600"/>
                </a:lnTo>
                <a:close/>
              </a:path>
              <a:path fill="lightenLess" w="22855" h="21600">
                <a:moveTo>
                  <a:pt x="0" y="0"/>
                </a:moveTo>
                <a:lnTo>
                  <a:pt x="22855" y="0"/>
                </a:lnTo>
                <a:lnTo>
                  <a:pt x="21455" y="1400"/>
                </a:lnTo>
                <a:lnTo>
                  <a:pt x="1400" y="1400"/>
                </a:lnTo>
                <a:close/>
              </a:path>
              <a:path fill="darken" w="22855" h="21600">
                <a:moveTo>
                  <a:pt x="22855" y="0"/>
                </a:moveTo>
                <a:lnTo>
                  <a:pt x="22855" y="21600"/>
                </a:lnTo>
                <a:lnTo>
                  <a:pt x="21455" y="20200"/>
                </a:lnTo>
                <a:lnTo>
                  <a:pt x="21455" y="1400"/>
                </a:lnTo>
                <a:close/>
              </a:path>
              <a:path fill="darkenLess" w="22855" h="21600">
                <a:moveTo>
                  <a:pt x="22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5" y="20200"/>
                </a:lnTo>
                <a:close/>
              </a:path>
              <a:path fill="lighten" w="22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5" h="21600">
                <a:moveTo>
                  <a:pt x="4421" y="3794"/>
                </a:moveTo>
                <a:lnTo>
                  <a:pt x="18434" y="10800"/>
                </a:lnTo>
                <a:lnTo>
                  <a:pt x="4421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534520" y="1484280"/>
            <a:ext cx="609480" cy="576360"/>
          </a:xfrm>
          <a:custGeom>
            <a:avLst/>
            <a:gdLst>
              <a:gd name="textAreaLeft" fmla="*/ 37080 w 609480"/>
              <a:gd name="textAreaRight" fmla="*/ 572400 w 6094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840" h="21600">
                <a:moveTo>
                  <a:pt x="0" y="0"/>
                </a:moveTo>
                <a:lnTo>
                  <a:pt x="22840" y="0"/>
                </a:lnTo>
                <a:lnTo>
                  <a:pt x="22840" y="21600"/>
                </a:lnTo>
                <a:lnTo>
                  <a:pt x="0" y="21600"/>
                </a:lnTo>
                <a:close/>
              </a:path>
              <a:path fill="lightenLess" w="22840" h="21600">
                <a:moveTo>
                  <a:pt x="0" y="0"/>
                </a:moveTo>
                <a:lnTo>
                  <a:pt x="22840" y="0"/>
                </a:lnTo>
                <a:lnTo>
                  <a:pt x="21440" y="1400"/>
                </a:lnTo>
                <a:lnTo>
                  <a:pt x="1400" y="1400"/>
                </a:lnTo>
                <a:close/>
              </a:path>
              <a:path fill="darken" w="22840" h="21600">
                <a:moveTo>
                  <a:pt x="22840" y="0"/>
                </a:moveTo>
                <a:lnTo>
                  <a:pt x="22840" y="21600"/>
                </a:lnTo>
                <a:lnTo>
                  <a:pt x="21440" y="20200"/>
                </a:lnTo>
                <a:lnTo>
                  <a:pt x="21440" y="1400"/>
                </a:lnTo>
                <a:close/>
              </a:path>
              <a:path fill="darkenLess" w="22840" h="21600">
                <a:moveTo>
                  <a:pt x="228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0" y="20200"/>
                </a:lnTo>
                <a:close/>
              </a:path>
              <a:path fill="lighten" w="228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40" h="21600">
                <a:moveTo>
                  <a:pt x="4414" y="3794"/>
                </a:moveTo>
                <a:lnTo>
                  <a:pt x="18427" y="10800"/>
                </a:lnTo>
                <a:lnTo>
                  <a:pt x="441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4520" y="2286000"/>
            <a:ext cx="609480" cy="495360"/>
          </a:xfrm>
          <a:custGeom>
            <a:avLst/>
            <a:gdLst>
              <a:gd name="textAreaLeft" fmla="*/ 32040 w 609480"/>
              <a:gd name="textAreaRight" fmla="*/ 577440 w 60948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6573" h="21600">
                <a:moveTo>
                  <a:pt x="0" y="0"/>
                </a:moveTo>
                <a:lnTo>
                  <a:pt x="26573" y="0"/>
                </a:lnTo>
                <a:lnTo>
                  <a:pt x="26573" y="21600"/>
                </a:lnTo>
                <a:lnTo>
                  <a:pt x="0" y="21600"/>
                </a:lnTo>
                <a:close/>
              </a:path>
              <a:path fill="lightenLess" w="26573" h="21600">
                <a:moveTo>
                  <a:pt x="0" y="0"/>
                </a:moveTo>
                <a:lnTo>
                  <a:pt x="26573" y="0"/>
                </a:lnTo>
                <a:lnTo>
                  <a:pt x="25173" y="1400"/>
                </a:lnTo>
                <a:lnTo>
                  <a:pt x="1400" y="1400"/>
                </a:lnTo>
                <a:close/>
              </a:path>
              <a:path fill="darken" w="26573" h="21600">
                <a:moveTo>
                  <a:pt x="26573" y="0"/>
                </a:moveTo>
                <a:lnTo>
                  <a:pt x="26573" y="21600"/>
                </a:lnTo>
                <a:lnTo>
                  <a:pt x="25173" y="20200"/>
                </a:lnTo>
                <a:lnTo>
                  <a:pt x="25173" y="1400"/>
                </a:lnTo>
                <a:close/>
              </a:path>
              <a:path fill="darkenLess" w="26573" h="21600">
                <a:moveTo>
                  <a:pt x="26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73" y="20200"/>
                </a:lnTo>
                <a:close/>
              </a:path>
              <a:path fill="lighten" w="26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73" h="21600">
                <a:moveTo>
                  <a:pt x="6280" y="3794"/>
                </a:moveTo>
                <a:lnTo>
                  <a:pt x="20293" y="10800"/>
                </a:lnTo>
                <a:lnTo>
                  <a:pt x="6280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00280"/>
            <a:ext cx="649080" cy="538200"/>
          </a:xfrm>
          <a:custGeom>
            <a:avLst/>
            <a:gdLst>
              <a:gd name="textAreaLeft" fmla="*/ 34560 w 649080"/>
              <a:gd name="textAreaRight" fmla="*/ 614520 w 649080"/>
              <a:gd name="textAreaTop" fmla="*/ 34560 h 538200"/>
              <a:gd name="textAreaBottom" fmla="*/ 503640 h 538200"/>
            </a:gdLst>
            <a:ahLst/>
            <a:rect l="textAreaLeft" t="textAreaTop" r="textAreaRight" b="textAreaBottom"/>
            <a:pathLst>
              <a:path w="26047" h="21600">
                <a:moveTo>
                  <a:pt x="0" y="0"/>
                </a:moveTo>
                <a:lnTo>
                  <a:pt x="26047" y="0"/>
                </a:lnTo>
                <a:lnTo>
                  <a:pt x="26047" y="21600"/>
                </a:lnTo>
                <a:lnTo>
                  <a:pt x="0" y="21600"/>
                </a:lnTo>
                <a:close/>
              </a:path>
              <a:path fill="lightenLess" w="26047" h="21600">
                <a:moveTo>
                  <a:pt x="0" y="0"/>
                </a:moveTo>
                <a:lnTo>
                  <a:pt x="26047" y="0"/>
                </a:lnTo>
                <a:lnTo>
                  <a:pt x="24647" y="1400"/>
                </a:lnTo>
                <a:lnTo>
                  <a:pt x="1400" y="1400"/>
                </a:lnTo>
                <a:close/>
              </a:path>
              <a:path fill="darken" w="26047" h="21600">
                <a:moveTo>
                  <a:pt x="26047" y="0"/>
                </a:moveTo>
                <a:lnTo>
                  <a:pt x="26047" y="21600"/>
                </a:lnTo>
                <a:lnTo>
                  <a:pt x="24647" y="20200"/>
                </a:lnTo>
                <a:lnTo>
                  <a:pt x="24647" y="1400"/>
                </a:lnTo>
                <a:close/>
              </a:path>
              <a:path fill="darkenLess" w="26047" h="21600">
                <a:moveTo>
                  <a:pt x="26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7" y="20200"/>
                </a:lnTo>
                <a:close/>
              </a:path>
              <a:path fill="lighten" w="26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7" h="21600">
                <a:moveTo>
                  <a:pt x="6017" y="3794"/>
                </a:moveTo>
                <a:lnTo>
                  <a:pt x="20030" y="10800"/>
                </a:lnTo>
                <a:lnTo>
                  <a:pt x="6017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4581360"/>
            <a:ext cx="763560" cy="600120"/>
          </a:xfrm>
          <a:custGeom>
            <a:avLst/>
            <a:gdLst>
              <a:gd name="textAreaLeft" fmla="*/ 38880 w 763560"/>
              <a:gd name="textAreaRight" fmla="*/ 724680 w 763560"/>
              <a:gd name="textAreaTop" fmla="*/ 38880 h 600120"/>
              <a:gd name="textAreaBottom" fmla="*/ 561240 h 600120"/>
            </a:gdLst>
            <a:ahLst/>
            <a:rect l="textAreaLeft" t="textAreaTop" r="textAreaRight" b="textAreaBottom"/>
            <a:pathLst>
              <a:path w="27479" h="21600">
                <a:moveTo>
                  <a:pt x="0" y="0"/>
                </a:moveTo>
                <a:lnTo>
                  <a:pt x="27479" y="0"/>
                </a:lnTo>
                <a:lnTo>
                  <a:pt x="27479" y="21600"/>
                </a:lnTo>
                <a:lnTo>
                  <a:pt x="0" y="21600"/>
                </a:lnTo>
                <a:close/>
              </a:path>
              <a:path fill="lightenLess" w="27479" h="21600">
                <a:moveTo>
                  <a:pt x="0" y="0"/>
                </a:moveTo>
                <a:lnTo>
                  <a:pt x="27479" y="0"/>
                </a:lnTo>
                <a:lnTo>
                  <a:pt x="26079" y="1400"/>
                </a:lnTo>
                <a:lnTo>
                  <a:pt x="1400" y="1400"/>
                </a:lnTo>
                <a:close/>
              </a:path>
              <a:path fill="darken" w="27479" h="21600">
                <a:moveTo>
                  <a:pt x="27479" y="0"/>
                </a:moveTo>
                <a:lnTo>
                  <a:pt x="27479" y="21600"/>
                </a:lnTo>
                <a:lnTo>
                  <a:pt x="26079" y="20200"/>
                </a:lnTo>
                <a:lnTo>
                  <a:pt x="26079" y="1400"/>
                </a:lnTo>
                <a:close/>
              </a:path>
              <a:path fill="darkenLess" w="27479" h="21600">
                <a:moveTo>
                  <a:pt x="2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79" y="20200"/>
                </a:lnTo>
                <a:close/>
              </a:path>
              <a:path fill="lighten" w="2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79" h="21600">
                <a:moveTo>
                  <a:pt x="6733" y="3794"/>
                </a:moveTo>
                <a:lnTo>
                  <a:pt x="20746" y="10800"/>
                </a:lnTo>
                <a:lnTo>
                  <a:pt x="6733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990720"/>
            <a:ext cx="8305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1" y="244"/>
                </a:ln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00" y="353880"/>
            <a:ext cx="9113760" cy="6139080"/>
          </a:xfrm>
          <a:custGeom>
            <a:avLst/>
            <a:gdLst/>
            <a:ahLst/>
            <a:rect l="l" t="t" r="r" b="b"/>
            <a:pathLst>
              <a:path w="5741" h="7735">
                <a:moveTo>
                  <a:pt x="142" y="0"/>
                </a:moveTo>
                <a:lnTo>
                  <a:pt x="5599" y="0"/>
                </a:lnTo>
                <a:lnTo>
                  <a:pt x="5741" y="149"/>
                </a:lnTo>
                <a:lnTo>
                  <a:pt x="5741" y="7584"/>
                </a:lnTo>
                <a:lnTo>
                  <a:pt x="5599" y="7735"/>
                </a:lnTo>
                <a:lnTo>
                  <a:pt x="142" y="7735"/>
                </a:lnTo>
                <a:lnTo>
                  <a:pt x="0" y="7584"/>
                </a:lnTo>
                <a:lnTo>
                  <a:pt x="0" y="149"/>
                </a:lnTo>
                <a:lnTo>
                  <a:pt x="142" y="0"/>
                </a:lnTo>
              </a:path>
            </a:pathLst>
          </a:cu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崛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836640"/>
            <a:ext cx="1600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地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6922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据……固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;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拥……地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;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君臣固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133720"/>
            <a:ext cx="55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隶书"/>
                <a:ea typeface="隶书"/>
              </a:rPr>
              <a:t>席卷；包举；囊括；并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429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政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64000" y="350028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隶书"/>
                <a:ea typeface="隶书"/>
              </a:rPr>
              <a:t>内……；外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92360" y="436572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450864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隶书"/>
                <a:ea typeface="隶书"/>
              </a:rPr>
              <a:t>拱手而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2133720"/>
            <a:ext cx="76320" cy="2361960"/>
          </a:xfrm>
          <a:custGeom>
            <a:avLst/>
            <a:gdLst>
              <a:gd name="textAreaLeft" fmla="*/ 22320 w 76320"/>
              <a:gd name="textAreaRight" fmla="*/ 76320 w 76320"/>
              <a:gd name="textAreaTop" fmla="*/ 98280 h 2361960"/>
              <a:gd name="textAreaBottom" fmla="*/ 226368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4724280"/>
            <a:ext cx="792360" cy="144720"/>
          </a:xfrm>
          <a:prstGeom prst="rightArrow">
            <a:avLst>
              <a:gd name="adj1" fmla="val 50000"/>
              <a:gd name="adj2" fmla="val 136878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7640" y="2276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雄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24922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119700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43280" y="3789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80360" y="579132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2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209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发 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762120"/>
            <a:ext cx="6629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秦：南取、西举、东割、北收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宰割、分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12193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1752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3352680"/>
            <a:ext cx="716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诸侯：才多、地广、师众、惨败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</a:t>
            </a: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请服，请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295280"/>
            <a:ext cx="76320" cy="2362320"/>
          </a:xfrm>
          <a:custGeom>
            <a:avLst/>
            <a:gdLst>
              <a:gd name="textAreaLeft" fmla="*/ 22320 w 76320"/>
              <a:gd name="textAreaRight" fmla="*/ 76320 w 763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7308720" y="1905120"/>
            <a:ext cx="145440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反衬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5334120"/>
            <a:ext cx="671400" cy="761760"/>
          </a:xfrm>
          <a:custGeom>
            <a:avLst/>
            <a:gdLst>
              <a:gd name="textAreaLeft" fmla="*/ 43200 w 671400"/>
              <a:gd name="textAreaRight" fmla="*/ 628200 w 671400"/>
              <a:gd name="textAreaTop" fmla="*/ 43200 h 761760"/>
              <a:gd name="textAreaBottom" fmla="*/ 718560 h 761760"/>
            </a:gdLst>
            <a:ahLst/>
            <a:rect l="textAreaLeft" t="textAreaTop" r="textAreaRight" b="textAreaBottom"/>
            <a:pathLst>
              <a:path w="21600" h="24505">
                <a:moveTo>
                  <a:pt x="0" y="0"/>
                </a:moveTo>
                <a:lnTo>
                  <a:pt x="21600" y="0"/>
                </a:lnTo>
                <a:lnTo>
                  <a:pt x="21600" y="24505"/>
                </a:lnTo>
                <a:lnTo>
                  <a:pt x="0" y="24505"/>
                </a:lnTo>
                <a:close/>
              </a:path>
              <a:path fill="lightenLess" w="21600" h="245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05">
                <a:moveTo>
                  <a:pt x="21600" y="0"/>
                </a:moveTo>
                <a:lnTo>
                  <a:pt x="21600" y="24505"/>
                </a:lnTo>
                <a:lnTo>
                  <a:pt x="20200" y="23105"/>
                </a:lnTo>
                <a:lnTo>
                  <a:pt x="20200" y="1400"/>
                </a:lnTo>
                <a:close/>
              </a:path>
              <a:path fill="darkenLess" w="21600" h="24505">
                <a:moveTo>
                  <a:pt x="21600" y="24505"/>
                </a:moveTo>
                <a:lnTo>
                  <a:pt x="0" y="24505"/>
                </a:lnTo>
                <a:lnTo>
                  <a:pt x="1400" y="23105"/>
                </a:lnTo>
                <a:lnTo>
                  <a:pt x="20200" y="23105"/>
                </a:lnTo>
                <a:close/>
              </a:path>
              <a:path fill="lighten" w="21600" h="24505">
                <a:moveTo>
                  <a:pt x="0" y="245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05"/>
                </a:lnTo>
                <a:close/>
              </a:path>
              <a:path fill="darken" w="21600" h="24505">
                <a:moveTo>
                  <a:pt x="3794" y="12253"/>
                </a:moveTo>
                <a:lnTo>
                  <a:pt x="17806" y="5246"/>
                </a:lnTo>
                <a:lnTo>
                  <a:pt x="17806" y="19259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137160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8954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69228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前期：奋余烈，履至尊，取百越，却匈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129528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304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1125360"/>
            <a:ext cx="217440" cy="4751640"/>
          </a:xfrm>
          <a:custGeom>
            <a:avLst/>
            <a:gdLst>
              <a:gd name="textAreaLeft" fmla="*/ 63720 w 217440"/>
              <a:gd name="textAreaRight" fmla="*/ 217800 w 217440"/>
              <a:gd name="textAreaTop" fmla="*/ 198000 h 4751640"/>
              <a:gd name="textAreaBottom" fmla="*/ 4554000 h 475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26370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后期：焚百家，杀豪杰，弱人民，严控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50864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隶书"/>
              </a:rPr>
              <a:t>设想：据高城；临深渊；守要害；传万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" action="ppaction://hlinksldjump"/>
          </p:cNvPr>
          <p:cNvSpPr/>
          <p:nvPr/>
        </p:nvSpPr>
        <p:spPr>
          <a:xfrm>
            <a:off x="7667640" y="5877000"/>
            <a:ext cx="936720" cy="691920"/>
          </a:xfrm>
          <a:custGeom>
            <a:avLst/>
            <a:gdLst>
              <a:gd name="textAreaLeft" fmla="*/ 44640 w 936720"/>
              <a:gd name="textAreaRight" fmla="*/ 892080 w 93672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29238" h="21600">
                <a:moveTo>
                  <a:pt x="0" y="0"/>
                </a:moveTo>
                <a:lnTo>
                  <a:pt x="29238" y="0"/>
                </a:lnTo>
                <a:lnTo>
                  <a:pt x="29238" y="21600"/>
                </a:lnTo>
                <a:lnTo>
                  <a:pt x="0" y="21600"/>
                </a:lnTo>
                <a:close/>
              </a:path>
              <a:path fill="lightenLess" w="29238" h="21600">
                <a:moveTo>
                  <a:pt x="0" y="0"/>
                </a:moveTo>
                <a:lnTo>
                  <a:pt x="29238" y="0"/>
                </a:lnTo>
                <a:lnTo>
                  <a:pt x="27838" y="1400"/>
                </a:lnTo>
                <a:lnTo>
                  <a:pt x="1400" y="1400"/>
                </a:lnTo>
                <a:close/>
              </a:path>
              <a:path fill="darken" w="29238" h="21600">
                <a:moveTo>
                  <a:pt x="29238" y="0"/>
                </a:moveTo>
                <a:lnTo>
                  <a:pt x="29238" y="21600"/>
                </a:lnTo>
                <a:lnTo>
                  <a:pt x="27838" y="20200"/>
                </a:lnTo>
                <a:lnTo>
                  <a:pt x="27838" y="1400"/>
                </a:lnTo>
                <a:close/>
              </a:path>
              <a:path fill="darkenLess" w="29238" h="21600">
                <a:moveTo>
                  <a:pt x="29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38" y="20200"/>
                </a:lnTo>
                <a:close/>
              </a:path>
              <a:path fill="lighten" w="29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38" h="21600">
                <a:moveTo>
                  <a:pt x="7613" y="10800"/>
                </a:moveTo>
                <a:lnTo>
                  <a:pt x="21626" y="3794"/>
                </a:lnTo>
                <a:lnTo>
                  <a:pt x="2162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163000" y="304920"/>
            <a:ext cx="549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34840" y="0"/>
            <a:ext cx="2009160" cy="6959520"/>
          </a:xfrm>
          <a:prstGeom prst="rect">
            <a:avLst/>
          </a:prstGeom>
          <a:solidFill>
            <a:srgbClr val="cc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战国时期的战争场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2514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灭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57200"/>
            <a:ext cx="607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始皇：余威震于殊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819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陈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762120"/>
            <a:ext cx="75960" cy="4190760"/>
          </a:xfrm>
          <a:custGeom>
            <a:avLst/>
            <a:gdLst>
              <a:gd name="textAreaLeft" fmla="*/ 22320 w 75960"/>
              <a:gd name="textAreaRight" fmla="*/ 76320 w 75960"/>
              <a:gd name="textAreaTop" fmla="*/ 174600 h 4190760"/>
              <a:gd name="textAreaBottom" fmla="*/ 401616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1600200"/>
            <a:ext cx="6013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出身氓隶之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才能不及中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兵力数百疲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武器斩木为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32000" y="5229360"/>
            <a:ext cx="7343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结果：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天下响应，并起亡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84360" y="1905120"/>
            <a:ext cx="182520" cy="2963880"/>
          </a:xfrm>
          <a:custGeom>
            <a:avLst/>
            <a:gdLst>
              <a:gd name="textAreaLeft" fmla="*/ 53640 w 182520"/>
              <a:gd name="textAreaRight" fmla="*/ 182880 w 182520"/>
              <a:gd name="textAreaTop" fmla="*/ 123480 h 2963880"/>
              <a:gd name="textAreaBottom" fmla="*/ 2840400 h 296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8317080" y="6165720"/>
            <a:ext cx="446040" cy="463680"/>
          </a:xfrm>
          <a:custGeom>
            <a:avLst/>
            <a:gdLst>
              <a:gd name="textAreaLeft" fmla="*/ 28800 w 446040"/>
              <a:gd name="textAreaRight" fmla="*/ 417240 w 446040"/>
              <a:gd name="textAreaTop" fmla="*/ 28800 h 463680"/>
              <a:gd name="textAreaBottom" fmla="*/ 434880 h 463680"/>
            </a:gdLst>
            <a:ahLst/>
            <a:rect l="textAreaLeft" t="textAreaTop" r="textAreaRight" b="textAreaBottom"/>
            <a:pathLst>
              <a:path w="21600" h="22454">
                <a:moveTo>
                  <a:pt x="0" y="0"/>
                </a:moveTo>
                <a:lnTo>
                  <a:pt x="21600" y="0"/>
                </a:lnTo>
                <a:lnTo>
                  <a:pt x="21600" y="22454"/>
                </a:lnTo>
                <a:lnTo>
                  <a:pt x="0" y="22454"/>
                </a:lnTo>
                <a:close/>
              </a:path>
              <a:path fill="lightenLess" w="21600" h="224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54">
                <a:moveTo>
                  <a:pt x="21600" y="0"/>
                </a:moveTo>
                <a:lnTo>
                  <a:pt x="21600" y="22454"/>
                </a:lnTo>
                <a:lnTo>
                  <a:pt x="20200" y="21054"/>
                </a:lnTo>
                <a:lnTo>
                  <a:pt x="20200" y="1400"/>
                </a:lnTo>
                <a:close/>
              </a:path>
              <a:path fill="darkenLess" w="21600" h="22454">
                <a:moveTo>
                  <a:pt x="21600" y="22454"/>
                </a:moveTo>
                <a:lnTo>
                  <a:pt x="0" y="22454"/>
                </a:lnTo>
                <a:lnTo>
                  <a:pt x="1400" y="21054"/>
                </a:lnTo>
                <a:lnTo>
                  <a:pt x="20200" y="21054"/>
                </a:lnTo>
                <a:close/>
              </a:path>
              <a:path fill="lighten" w="21600" h="22454">
                <a:moveTo>
                  <a:pt x="0" y="224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54"/>
                </a:lnTo>
                <a:close/>
              </a:path>
              <a:path fill="darken" w="21600" h="22454">
                <a:moveTo>
                  <a:pt x="3794" y="11227"/>
                </a:moveTo>
                <a:lnTo>
                  <a:pt x="17806" y="4220"/>
                </a:lnTo>
                <a:lnTo>
                  <a:pt x="17806" y="18233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57200" y="5867280"/>
            <a:ext cx="8305920" cy="762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0" y="2590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析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60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057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46483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3505320"/>
            <a:ext cx="1904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功业相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2971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066680"/>
            <a:ext cx="76320" cy="3962520"/>
          </a:xfrm>
          <a:custGeom>
            <a:avLst/>
            <a:gdLst>
              <a:gd name="textAreaLeft" fmla="*/ 22320 w 76320"/>
              <a:gd name="textAreaRight" fmla="*/ 76320 w 76320"/>
              <a:gd name="textAreaTop" fmla="*/ 164880 h 3962520"/>
              <a:gd name="textAreaBottom" fmla="*/ 379764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17524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1676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44956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22860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国力，天下非小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利，崤函自若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38280" y="160020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位非尊，武器非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兵力非抗，战术非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31240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致万乘势，百又余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六合为家，崤函为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57200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一夫作难，而七庙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身死人手，为天下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572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3276720"/>
            <a:ext cx="76320" cy="99036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09680" y="47242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533520"/>
            <a:ext cx="76320" cy="2209680"/>
          </a:xfrm>
          <a:custGeom>
            <a:avLst/>
            <a:gdLst>
              <a:gd name="textAreaLeft" fmla="*/ 0 w 76320"/>
              <a:gd name="textAreaRight" fmla="*/ 53640 w 7632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3352680"/>
            <a:ext cx="76320" cy="2286000"/>
          </a:xfrm>
          <a:custGeom>
            <a:avLst/>
            <a:gdLst>
              <a:gd name="textAreaLeft" fmla="*/ 0 w 76320"/>
              <a:gd name="textAreaRight" fmla="*/ 53640 w 7632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1447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成败异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29600" y="1752480"/>
            <a:ext cx="76320" cy="2895840"/>
          </a:xfrm>
          <a:custGeom>
            <a:avLst/>
            <a:gdLst>
              <a:gd name="textAreaLeft" fmla="*/ 0 w 76320"/>
              <a:gd name="textAreaRight" fmla="*/ 53640 w 76320"/>
              <a:gd name="textAreaTop" fmla="*/ 120600 h 2895840"/>
              <a:gd name="textAreaBottom" fmla="*/ 277524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 rot="5400000">
            <a:off x="6172200" y="28195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仁义不施而攻守之势异也</a:t>
            </a:r>
            <a:endParaRPr b="0" i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21337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①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秦创业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(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雄心勃勃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28195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②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秦日盛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(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所向披靡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3429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③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秦统一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(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势如破竹</a:t>
            </a: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幼圆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11480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④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秦灭亡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(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一败涂地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幼圆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2133720"/>
            <a:ext cx="75960" cy="2895480"/>
          </a:xfrm>
          <a:custGeom>
            <a:avLst/>
            <a:gdLst>
              <a:gd name="textAreaLeft" fmla="*/ 0 w 75960"/>
              <a:gd name="textAreaRight" fmla="*/ 53280 w 75960"/>
              <a:gd name="textAreaTop" fmla="*/ 120600 h 2895480"/>
              <a:gd name="textAreaBottom" fmla="*/ 277488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35812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1680" y="30481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幼圆"/>
                <a:ea typeface="幼圆"/>
              </a:rPr>
              <a:t>⑤</a:t>
            </a:r>
            <a:r>
              <a:rPr b="1" lang="zh-CN" sz="3600" spc="-1" strike="noStrike">
                <a:solidFill>
                  <a:srgbClr val="cc0000"/>
                </a:solidFill>
                <a:latin typeface="幼圆"/>
                <a:ea typeface="幼圆"/>
              </a:rPr>
              <a:t>秦教训</a:t>
            </a:r>
            <a:r>
              <a:rPr b="1" lang="zh-CN" sz="3600" spc="-1" strike="noStrike">
                <a:solidFill>
                  <a:srgbClr val="cc0000"/>
                </a:solidFill>
                <a:latin typeface="幼圆"/>
                <a:ea typeface="幼圆"/>
              </a:rPr>
              <a:t>(</a:t>
            </a:r>
            <a:r>
              <a:rPr b="1" lang="zh-CN" sz="3600" spc="-1" strike="noStrike">
                <a:solidFill>
                  <a:srgbClr val="cc0000"/>
                </a:solidFill>
                <a:latin typeface="幼圆"/>
                <a:ea typeface="幼圆"/>
              </a:rPr>
              <a:t>不施仁政</a:t>
            </a:r>
            <a:r>
              <a:rPr b="1" lang="zh-CN" sz="4000" spc="-1" strike="noStrike">
                <a:solidFill>
                  <a:srgbClr val="cc0000"/>
                </a:solidFill>
                <a:latin typeface="幼圆"/>
                <a:ea typeface="幼圆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295280"/>
            <a:ext cx="34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（叙事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0160" y="1295280"/>
            <a:ext cx="336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（议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62120" y="5029200"/>
            <a:ext cx="1904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论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48520" y="4648320"/>
            <a:ext cx="1143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论点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4" name=""/>
          <p:cNvSpPr txBox="1"/>
          <p:nvPr/>
        </p:nvSpPr>
        <p:spPr>
          <a:xfrm rot="21111000">
            <a:off x="2720520" y="5132160"/>
            <a:ext cx="5867640" cy="126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34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宋体"/>
              </a:rPr>
              <a:t>仁义不施而攻守之势异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宋体"/>
              <a:ea typeface="华文宋体"/>
            </a:endParaRPr>
          </a:p>
        </p:txBody>
      </p:sp>
      <p:sp>
        <p:nvSpPr>
          <p:cNvPr id="225" name="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726840" y="1752480"/>
            <a:ext cx="1642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理清全文思路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85800"/>
            <a:ext cx="0" cy="5791320"/>
          </a:xfrm>
          <a:prstGeom prst="line">
            <a:avLst/>
          </a:prstGeom>
          <a:ln w="5724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过秦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76920" y="457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（言秦之过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2825640"/>
            <a:ext cx="438120" cy="900360"/>
          </a:xfrm>
          <a:custGeom>
            <a:avLst/>
            <a:gdLst>
              <a:gd name="textAreaLeft" fmla="*/ 0 w 438120"/>
              <a:gd name="textAreaRight" fmla="*/ 158040 w 43812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3886200"/>
            <a:ext cx="222120" cy="900000"/>
          </a:xfrm>
          <a:custGeom>
            <a:avLst/>
            <a:gdLst>
              <a:gd name="textAreaLeft" fmla="*/ 0 w 222120"/>
              <a:gd name="textAreaRight" fmla="*/ 80280 w 22212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28954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67280" y="38862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秦孝公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据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崤函之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固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拥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雍州之地，君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固守以窥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周室，有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席卷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下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包举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宇内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囊括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四海之意，并吞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八荒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815200">
            <a:off x="1515960" y="4968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" y="1136520"/>
            <a:ext cx="790200" cy="703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依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815200">
            <a:off x="3390840" y="41904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54280" y="1136520"/>
            <a:ext cx="26190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形作名，险固地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7636400">
            <a:off x="5996880" y="208080"/>
            <a:ext cx="228600" cy="1617840"/>
          </a:xfrm>
          <a:prstGeom prst="downArrow">
            <a:avLst>
              <a:gd name="adj1" fmla="val 50000"/>
              <a:gd name="adj2" fmla="val 1769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99400" y="11113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拥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1000">
            <a:off x="533520" y="251424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8040" y="346860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牢固的守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5315400">
            <a:off x="1180440" y="2628720"/>
            <a:ext cx="685800" cy="304920"/>
          </a:xfrm>
          <a:custGeom>
            <a:avLst/>
            <a:gdLst>
              <a:gd name="textAreaLeft" fmla="*/ 228600 w 685800"/>
              <a:gd name="textAreaRight" fmla="*/ 587520 w 685800"/>
              <a:gd name="textAreaTop" fmla="*/ 175680 h 304920"/>
              <a:gd name="textAreaBottom" fmla="*/ 2613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8280" y="250812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表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6541800">
            <a:off x="2628360" y="3543120"/>
            <a:ext cx="1524240" cy="1143000"/>
          </a:xfrm>
          <a:prstGeom prst="wedgeRoundRectCallout">
            <a:avLst>
              <a:gd name="adj1" fmla="val -75148"/>
              <a:gd name="adj2" fmla="val 149787"/>
              <a:gd name="adj3" fmla="val 1666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50360" y="342252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815200">
            <a:off x="6756120" y="2262240"/>
            <a:ext cx="228600" cy="1295280"/>
          </a:xfrm>
          <a:prstGeom prst="downArrow">
            <a:avLst>
              <a:gd name="adj1" fmla="val 50000"/>
              <a:gd name="adj2" fmla="val 1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9658400">
            <a:off x="5083200" y="238896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6960" y="33163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并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51000">
            <a:off x="457200" y="518112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9520" y="58611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并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51000">
            <a:off x="5105520" y="518112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69760" y="6059520"/>
            <a:ext cx="35334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八方荒远之地，此指天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是时也，商君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佐之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内立法度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务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织，修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守战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具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外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连衡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斗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诸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于是秦人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拱手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取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西河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4138800">
            <a:off x="2297520" y="-332280"/>
            <a:ext cx="152280" cy="2652840"/>
          </a:xfrm>
          <a:prstGeom prst="downArrow">
            <a:avLst>
              <a:gd name="adj1" fmla="val 50000"/>
              <a:gd name="adj2" fmla="val 435520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 rot="14595600">
            <a:off x="3044160" y="2880"/>
            <a:ext cx="160200" cy="2423880"/>
          </a:xfrm>
          <a:prstGeom prst="downArrow">
            <a:avLst>
              <a:gd name="adj1" fmla="val 50000"/>
              <a:gd name="adj2" fmla="val 378258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9520" y="9079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辅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1440" y="1670040"/>
            <a:ext cx="23144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代词，指秦孝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 rot="14541600">
            <a:off x="4992480" y="464400"/>
            <a:ext cx="75960" cy="1143000"/>
          </a:xfrm>
          <a:prstGeom prst="downArrow">
            <a:avLst>
              <a:gd name="adj1" fmla="val 50000"/>
              <a:gd name="adj2" fmla="val 376185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17160" y="1136520"/>
            <a:ext cx="48564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 rot="13159200">
            <a:off x="5486760" y="457200"/>
            <a:ext cx="76320" cy="1143000"/>
          </a:xfrm>
          <a:prstGeom prst="downArrow">
            <a:avLst>
              <a:gd name="adj1" fmla="val 50000"/>
              <a:gd name="adj2" fmla="val 374410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07880" y="1212840"/>
            <a:ext cx="48564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 rot="13158600">
            <a:off x="6323760" y="532440"/>
            <a:ext cx="76320" cy="914400"/>
          </a:xfrm>
          <a:prstGeom prst="downArrow">
            <a:avLst>
              <a:gd name="adj1" fmla="val 50000"/>
              <a:gd name="adj2" fmla="val 299528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10480" y="1258920"/>
            <a:ext cx="79020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法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制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 flipV="1" rot="13158600">
            <a:off x="7695360" y="532440"/>
            <a:ext cx="76320" cy="914400"/>
          </a:xfrm>
          <a:prstGeom prst="downArrow">
            <a:avLst>
              <a:gd name="adj1" fmla="val 50000"/>
              <a:gd name="adj2" fmla="val 299528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24720" y="12891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从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 rot="13158600">
            <a:off x="1828440" y="3275280"/>
            <a:ext cx="76320" cy="533160"/>
          </a:xfrm>
          <a:prstGeom prst="downArrow">
            <a:avLst>
              <a:gd name="adj1" fmla="val 50000"/>
              <a:gd name="adj2" fmla="val 174646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5560" y="365112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防守和作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 rot="9803400">
            <a:off x="3429000" y="3351600"/>
            <a:ext cx="76320" cy="533880"/>
          </a:xfrm>
          <a:prstGeom prst="downArrow">
            <a:avLst>
              <a:gd name="adj1" fmla="val 50000"/>
              <a:gd name="adj2" fmla="val 174882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57640" y="38037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器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 rot="9803400">
            <a:off x="4647240" y="342792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29240" y="38797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对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 flipV="1" rot="9803400">
            <a:off x="6553080" y="3427920"/>
            <a:ext cx="76320" cy="533880"/>
          </a:xfrm>
          <a:prstGeom prst="downArrow">
            <a:avLst>
              <a:gd name="adj1" fmla="val 50000"/>
              <a:gd name="adj2" fmla="val 174882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24800" y="384984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使动用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 rot="9803400">
            <a:off x="2589840" y="518040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31120" y="5556240"/>
            <a:ext cx="35334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两手相合，形容毫不费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 rot="6969000">
            <a:off x="5752440" y="4762800"/>
            <a:ext cx="152640" cy="1447560"/>
          </a:xfrm>
          <a:prstGeom prst="downArrow">
            <a:avLst>
              <a:gd name="adj1" fmla="val 50000"/>
              <a:gd name="adj2" fmla="val 237087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48480" y="567864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黄河以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772080" y="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讨论：概括第一段主要内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676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秦王朝势力的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崛起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突出秦国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地利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据殽函之固、拥雍州之地）、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人和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君臣固守以窥周室）、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政通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内立法度，务耕织，修守战之具）等的优势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从注释中我们知道，“席卷”“包举”“囊括”都有“吞并”的意思，“宇内”“四海”“八荒”都有“天下”的意思。那么，我们把课文中“有……之意，……之心”句换成“有吞并天下之心”似乎也通，但作者为什么要舍简就繁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354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意在突出秦孝公吞并六国、独占天下的勃勃雄心以及秦对诸侯各国虎视耽耽的情态、咄咄逼人的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气势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同时也为后文写孝公之后的历代秦君的赫赫功业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张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为后文写秦一统天下之后的顷刻覆亡形成对比并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作了铺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总之，根据表达的需要，这里的繁笔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增加了气势；同义短语的叠用，又使叙述生动形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809880" y="3429000"/>
            <a:ext cx="76212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600200" y="1143000"/>
            <a:ext cx="6019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翻译第二三自然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91440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孝公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既没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惠文、武、昭襄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蒙故业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因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遗策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南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取汉中，西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举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巴蜀，东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割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膏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地，北收要害之郡。诸侯恐惧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会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谋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弱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秦，不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爱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珍器重宝肥饶之地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致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下之士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合从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缔交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相与为 一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3235200">
            <a:off x="563760" y="273600"/>
            <a:ext cx="76320" cy="1204920"/>
          </a:xfrm>
          <a:prstGeom prst="downArrow">
            <a:avLst>
              <a:gd name="adj1" fmla="val 50000"/>
              <a:gd name="adj2" fmla="val 394693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9520" y="10605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已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3235200">
            <a:off x="1659240" y="457200"/>
            <a:ext cx="98280" cy="799920"/>
          </a:xfrm>
          <a:prstGeom prst="downArrow">
            <a:avLst>
              <a:gd name="adj1" fmla="val 50000"/>
              <a:gd name="adj2" fmla="val 203480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02560" y="1060560"/>
            <a:ext cx="4856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rot="3235200">
            <a:off x="5658480" y="361080"/>
            <a:ext cx="74520" cy="1333440"/>
          </a:xfrm>
          <a:prstGeom prst="downArrow">
            <a:avLst>
              <a:gd name="adj1" fmla="val 50000"/>
              <a:gd name="adj2" fmla="val 447343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095720" y="10605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继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3235200">
            <a:off x="6608880" y="272880"/>
            <a:ext cx="87120" cy="1211040"/>
          </a:xfrm>
          <a:prstGeom prst="downArrow">
            <a:avLst>
              <a:gd name="adj1" fmla="val 50000"/>
              <a:gd name="adj2" fmla="val 347521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74760" y="106056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已有的基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1465000">
            <a:off x="8527680" y="60948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156520" y="10605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沿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1465000">
            <a:off x="612720" y="2436840"/>
            <a:ext cx="76320" cy="685800"/>
          </a:xfrm>
          <a:prstGeom prst="downArrow">
            <a:avLst>
              <a:gd name="adj1" fmla="val 50000"/>
              <a:gd name="adj2" fmla="val 224646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6960" y="304164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前代的策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 rot="7400400">
            <a:off x="2520360" y="2264760"/>
            <a:ext cx="103320" cy="982800"/>
          </a:xfrm>
          <a:prstGeom prst="downArrow">
            <a:avLst>
              <a:gd name="adj1" fmla="val 50000"/>
              <a:gd name="adj2" fmla="val 237805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14640" y="29354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向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1125200">
            <a:off x="4897440" y="243612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62560" y="28591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夺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 rot="11125200">
            <a:off x="7467480" y="251388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38920" y="29653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割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 rot="15696000">
            <a:off x="7719120" y="3620160"/>
            <a:ext cx="98280" cy="1665360"/>
          </a:xfrm>
          <a:prstGeom prst="downArrow">
            <a:avLst>
              <a:gd name="adj1" fmla="val 50000"/>
              <a:gd name="adj2" fmla="val 423626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16600" y="4265640"/>
            <a:ext cx="10342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开会结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7082000">
            <a:off x="1703880" y="4926240"/>
            <a:ext cx="74520" cy="914400"/>
          </a:xfrm>
          <a:prstGeom prst="downArrow">
            <a:avLst>
              <a:gd name="adj1" fmla="val 50000"/>
              <a:gd name="adj2" fmla="val 306763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29760" y="5180040"/>
            <a:ext cx="60732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使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7082000">
            <a:off x="4077360" y="4913640"/>
            <a:ext cx="74520" cy="914400"/>
          </a:xfrm>
          <a:prstGeom prst="downArrow">
            <a:avLst>
              <a:gd name="adj1" fmla="val 50000"/>
              <a:gd name="adj2" fmla="val 306763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97000" y="5103720"/>
            <a:ext cx="60732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吝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4009800">
            <a:off x="7887240" y="4914000"/>
            <a:ext cx="74520" cy="914400"/>
          </a:xfrm>
          <a:prstGeom prst="downArrow">
            <a:avLst>
              <a:gd name="adj1" fmla="val 50000"/>
              <a:gd name="adj2" fmla="val 306763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78080" y="5124600"/>
            <a:ext cx="60732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用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 rot="7199400">
            <a:off x="691920" y="5924160"/>
            <a:ext cx="76320" cy="609480"/>
          </a:xfrm>
          <a:prstGeom prst="downArrow">
            <a:avLst>
              <a:gd name="adj1" fmla="val 50000"/>
              <a:gd name="adj2" fmla="val 199646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00240" y="60739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招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 rot="13406400">
            <a:off x="3199320" y="60199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 rot="7199400">
            <a:off x="3962160" y="6018840"/>
            <a:ext cx="151920" cy="4572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33760" y="60595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联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48720" y="6116760"/>
            <a:ext cx="170496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通“纵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 rot="7199400">
            <a:off x="6324480" y="6095160"/>
            <a:ext cx="151920" cy="457200"/>
          </a:xfrm>
          <a:prstGeom prst="downArrow">
            <a:avLst>
              <a:gd name="adj1" fmla="val 50000"/>
              <a:gd name="adj2" fmla="val 75237"/>
            </a:avLst>
          </a:prstGeom>
          <a:solidFill>
            <a:srgbClr val="00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79720" y="6324480"/>
            <a:ext cx="485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隶书"/>
              </a:rPr>
              <a:t>互相结交，成为一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8991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当此之时，齐有孟尝，赵有平原，楚有春申魏有信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此四君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者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皆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明智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信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宽厚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爱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，尊贤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重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士，约从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离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衡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兼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韩、魏、燕、楚、齐、赵、宋、卫、中山之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众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4879200">
            <a:off x="4521600" y="824760"/>
            <a:ext cx="75960" cy="1204920"/>
          </a:xfrm>
          <a:prstGeom prst="downArrow">
            <a:avLst>
              <a:gd name="adj1" fmla="val 50000"/>
              <a:gd name="adj2" fmla="val 39656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73720" y="1441440"/>
            <a:ext cx="23144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语气词，表停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3546600">
            <a:off x="6067800" y="1002600"/>
            <a:ext cx="76320" cy="823680"/>
          </a:xfrm>
          <a:prstGeom prst="downArrow">
            <a:avLst>
              <a:gd name="adj1" fmla="val 50000"/>
              <a:gd name="adj2" fmla="val 269811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14840" y="14875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英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3546600">
            <a:off x="6829560" y="1078920"/>
            <a:ext cx="76320" cy="824040"/>
          </a:xfrm>
          <a:prstGeom prst="downArrow">
            <a:avLst>
              <a:gd name="adj1" fmla="val 50000"/>
              <a:gd name="adj2" fmla="val 26992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55720" y="167004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有智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488400">
            <a:off x="8147160" y="1185480"/>
            <a:ext cx="83880" cy="566640"/>
          </a:xfrm>
          <a:prstGeom prst="downArrow">
            <a:avLst>
              <a:gd name="adj1" fmla="val 50000"/>
              <a:gd name="adj2" fmla="val 16888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81920" y="16700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诚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1488400">
            <a:off x="304920" y="3047760"/>
            <a:ext cx="83880" cy="566640"/>
          </a:xfrm>
          <a:prstGeom prst="downArrow">
            <a:avLst>
              <a:gd name="adj1" fmla="val 50000"/>
              <a:gd name="adj2" fmla="val 16888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120" y="349884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讲信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21488400">
            <a:off x="2819520" y="3047760"/>
            <a:ext cx="83880" cy="566640"/>
          </a:xfrm>
          <a:prstGeom prst="downArrow">
            <a:avLst>
              <a:gd name="adj1" fmla="val 50000"/>
              <a:gd name="adj2" fmla="val 16888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66920" y="34988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爱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1488400">
            <a:off x="5943600" y="3047760"/>
            <a:ext cx="84240" cy="566640"/>
          </a:xfrm>
          <a:prstGeom prst="downArrow">
            <a:avLst>
              <a:gd name="adj1" fmla="val 50000"/>
              <a:gd name="adj2" fmla="val 168162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162760" y="35751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重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1488400">
            <a:off x="8458200" y="3047760"/>
            <a:ext cx="84240" cy="566640"/>
          </a:xfrm>
          <a:prstGeom prst="downArrow">
            <a:avLst>
              <a:gd name="adj1" fmla="val 50000"/>
              <a:gd name="adj2" fmla="val 168162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53320" y="35751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使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rot="21488400">
            <a:off x="1069560" y="4876560"/>
            <a:ext cx="76320" cy="838080"/>
          </a:xfrm>
          <a:prstGeom prst="downArrow">
            <a:avLst>
              <a:gd name="adj1" fmla="val 50000"/>
              <a:gd name="adj2" fmla="val 274528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1160" y="560232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兼并，集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8633000">
            <a:off x="3427200" y="5335560"/>
            <a:ext cx="79200" cy="838080"/>
          </a:xfrm>
          <a:prstGeom prst="downArrow">
            <a:avLst>
              <a:gd name="adj1" fmla="val 50000"/>
              <a:gd name="adj2" fmla="val 264545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33800" y="5907240"/>
            <a:ext cx="20095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部众，即军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920" y="0"/>
            <a:ext cx="9136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于是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国之士，有宁越、徐尚、苏秦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杜赫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之属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之谋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齐明、周最、陈轸、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滑、楼缓、翟景、苏厉、乐毅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之徒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通其意；吴起、孙膑、带佗、倪良、王廖、田忌、廉颇、赵奢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之伦制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其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18633000">
            <a:off x="836280" y="458280"/>
            <a:ext cx="79560" cy="838080"/>
          </a:xfrm>
          <a:prstGeom prst="downArrow">
            <a:avLst>
              <a:gd name="adj1" fmla="val 50000"/>
              <a:gd name="adj2" fmla="val 263348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4040" y="103032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在这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 rot="14145000">
            <a:off x="1296000" y="2284560"/>
            <a:ext cx="74880" cy="838080"/>
          </a:xfrm>
          <a:prstGeom prst="downArrow">
            <a:avLst>
              <a:gd name="adj1" fmla="val 50000"/>
              <a:gd name="adj2" fmla="val 279808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0040" y="2889360"/>
            <a:ext cx="6883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这一类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 rot="10794600">
            <a:off x="2893680" y="23623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33760" y="28591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代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 rot="7682400">
            <a:off x="3890160" y="2417760"/>
            <a:ext cx="114480" cy="876240"/>
          </a:xfrm>
          <a:prstGeom prst="downArrow">
            <a:avLst>
              <a:gd name="adj1" fmla="val 50000"/>
              <a:gd name="adj2" fmla="val 191352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57760" y="281304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出谋划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3209600">
            <a:off x="7278480" y="340812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475760" y="2660760"/>
            <a:ext cx="6883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这一类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2048400">
            <a:off x="4343040" y="548640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03760" y="6064200"/>
            <a:ext cx="6883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这一类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2048400">
            <a:off x="5181120" y="548604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9760" y="598320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统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56400">
            <a:off x="6324480" y="548640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34360" y="606420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军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尝以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十倍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于秦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地，百万之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众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叩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攻秦。秦人开关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延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敌，九国之师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逡巡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不敢进。秦无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亡矢遗镞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费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而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诸侯已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困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6400">
            <a:off x="228600" y="609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9160" y="11066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曾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8860400">
            <a:off x="1257120" y="57132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428840" y="11365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凭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56400">
            <a:off x="6629400" y="609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72240" y="12128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军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56400">
            <a:off x="7772400" y="609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57960" y="118260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敲，攻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10716000">
            <a:off x="4268160" y="144612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60160" y="60336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迎接，迎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6400">
            <a:off x="228600" y="31240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4000" y="3773520"/>
            <a:ext cx="140004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有顾虑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徘徊不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56400">
            <a:off x="5029200" y="31240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24000" y="3573360"/>
            <a:ext cx="547236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矢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箭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镞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箭头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丢失一枝箭，同义叠用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50240" y="32749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耗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56400">
            <a:off x="2362320" y="579132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8960" y="606420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困厄不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77080" y="3141720"/>
            <a:ext cx="790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93080" y="3068640"/>
            <a:ext cx="647640" cy="360360"/>
          </a:xfrm>
          <a:prstGeom prst="rightArrow">
            <a:avLst>
              <a:gd name="adj1" fmla="val 50000"/>
              <a:gd name="adj2" fmla="val 4493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91440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于是从散约败，争割地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赂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秦。秦有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力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制其弊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追亡逐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北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伏尸百万，流血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漂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橹；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因利乘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宰割天下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分裂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河。强国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请服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弱国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入朝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延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孝文王、庄襄王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享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国之日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浅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国家无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6400">
            <a:off x="5943600" y="6094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619960" y="11365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贿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9616800">
            <a:off x="1599840" y="159984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1440" y="603360"/>
            <a:ext cx="231444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因其弊而制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动补结构，通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9616800">
            <a:off x="4724280" y="144756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98320" y="450720"/>
            <a:ext cx="109512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溃败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军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28200">
            <a:off x="609120" y="3047760"/>
            <a:ext cx="76320" cy="533160"/>
          </a:xfrm>
          <a:prstGeom prst="downArrow">
            <a:avLst>
              <a:gd name="adj1" fmla="val 50000"/>
              <a:gd name="adj2" fmla="val 174646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47760" y="35449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使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28200">
            <a:off x="4038120" y="3047760"/>
            <a:ext cx="76320" cy="533160"/>
          </a:xfrm>
          <a:prstGeom prst="downArrow">
            <a:avLst>
              <a:gd name="adj1" fmla="val 50000"/>
              <a:gd name="adj2" fmla="val 174646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07640" y="3575160"/>
            <a:ext cx="23144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趁着有利的形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8200">
            <a:off x="8000640" y="3123720"/>
            <a:ext cx="76320" cy="533520"/>
          </a:xfrm>
          <a:prstGeom prst="downArrow">
            <a:avLst>
              <a:gd name="adj1" fmla="val 50000"/>
              <a:gd name="adj2" fmla="val 17476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981920" y="35751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划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1193600">
            <a:off x="2590560" y="4038120"/>
            <a:ext cx="75960" cy="533520"/>
          </a:xfrm>
          <a:prstGeom prst="downArrow">
            <a:avLst>
              <a:gd name="adj1" fmla="val 50000"/>
              <a:gd name="adj2" fmla="val 175592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62280" y="327024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请求屈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28200">
            <a:off x="5025600" y="4874760"/>
            <a:ext cx="76320" cy="1067040"/>
          </a:xfrm>
          <a:prstGeom prst="downArrow">
            <a:avLst>
              <a:gd name="adj1" fmla="val 50000"/>
              <a:gd name="adj2" fmla="val 349528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17560" y="586116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指向秦称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28200">
            <a:off x="3276720" y="5516280"/>
            <a:ext cx="150840" cy="609480"/>
          </a:xfrm>
          <a:prstGeom prst="downArrow">
            <a:avLst>
              <a:gd name="adj1" fmla="val 50000"/>
              <a:gd name="adj2" fmla="val 10101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65520" y="606420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占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rot="28200">
            <a:off x="4343040" y="54846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93480" y="5861160"/>
            <a:ext cx="4856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14200" y="27468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讨论：第二段写的是什么内容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主要是写秦惠文王、秦武王与秦昭襄王的功业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1523880"/>
            <a:ext cx="91440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第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行楷"/>
                <a:ea typeface="华文行楷"/>
              </a:rPr>
              <a:t>自然段的层次划分有下面几种意见，谈谈你的看法和理由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）分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4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：“孝公既没……要害之郡”是第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层，“诸侯恐惧……已困矣”是第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层，“于是从散……弱国入朝”是第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层，其余是第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（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）分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：“孝公既没……弱国入朝”是第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层，其余是第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）“弱国入朝”前是一段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可分三层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分法如第一种意见前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层的划分；“延及……国家无事”应单列一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971800" y="2438280"/>
            <a:ext cx="34290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学习第四段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及至始皇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奋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世之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余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振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长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策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御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宇内，吞二周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亡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诸侯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履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至尊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制六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执敲扑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鞭笞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下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威振四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3264000">
            <a:off x="2162520" y="346680"/>
            <a:ext cx="76320" cy="1204920"/>
          </a:xfrm>
          <a:prstGeom prst="downArrow">
            <a:avLst>
              <a:gd name="adj1" fmla="val 50000"/>
              <a:gd name="adj2" fmla="val 394693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120" y="1136520"/>
            <a:ext cx="109512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振作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振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3264000">
            <a:off x="4645800" y="330840"/>
            <a:ext cx="76320" cy="1280880"/>
          </a:xfrm>
          <a:prstGeom prst="downArrow">
            <a:avLst>
              <a:gd name="adj1" fmla="val 50000"/>
              <a:gd name="adj2" fmla="val 419575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5440" y="1212840"/>
            <a:ext cx="140004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遗留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功业成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3264000">
            <a:off x="5974200" y="425880"/>
            <a:ext cx="152640" cy="976320"/>
          </a:xfrm>
          <a:prstGeom prst="downArrow">
            <a:avLst>
              <a:gd name="adj1" fmla="val 50000"/>
              <a:gd name="adj2" fmla="val 159906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05560" y="1212840"/>
            <a:ext cx="79020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挥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挥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3264000">
            <a:off x="6813000" y="502200"/>
            <a:ext cx="152280" cy="976320"/>
          </a:xfrm>
          <a:prstGeom prst="downArrow">
            <a:avLst>
              <a:gd name="adj1" fmla="val 50000"/>
              <a:gd name="adj2" fmla="val 16028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179400" y="1289160"/>
            <a:ext cx="109512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竹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的马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63600">
            <a:off x="8034120" y="576000"/>
            <a:ext cx="120600" cy="717480"/>
          </a:xfrm>
          <a:prstGeom prst="downArrow">
            <a:avLst>
              <a:gd name="adj1" fmla="val 50000"/>
              <a:gd name="adj2" fmla="val 148731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696080" y="1371600"/>
            <a:ext cx="14479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驾驭统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4549800">
            <a:off x="3070080" y="2903400"/>
            <a:ext cx="104760" cy="1098720"/>
          </a:xfrm>
          <a:prstGeom prst="downArrow">
            <a:avLst>
              <a:gd name="adj1" fmla="val 50000"/>
              <a:gd name="adj2" fmla="val 262199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41520" y="36338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使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4549800">
            <a:off x="4825800" y="2916000"/>
            <a:ext cx="152280" cy="1403280"/>
          </a:xfrm>
          <a:prstGeom prst="downArrow">
            <a:avLst>
              <a:gd name="adj1" fmla="val 50000"/>
              <a:gd name="adj2" fmla="val 230378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68800" y="36338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到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4549800">
            <a:off x="7711920" y="2879640"/>
            <a:ext cx="152280" cy="1403280"/>
          </a:xfrm>
          <a:prstGeom prst="downArrow">
            <a:avLst>
              <a:gd name="adj1" fmla="val 50000"/>
              <a:gd name="adj2" fmla="val 230378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357960" y="372744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统治天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73200">
            <a:off x="838080" y="5181120"/>
            <a:ext cx="136800" cy="701640"/>
          </a:xfrm>
          <a:prstGeom prst="downArrow">
            <a:avLst>
              <a:gd name="adj1" fmla="val 50000"/>
              <a:gd name="adj2" fmla="val 128224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2600" y="583092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拿着刑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73200">
            <a:off x="3048120" y="5181120"/>
            <a:ext cx="136440" cy="701640"/>
          </a:xfrm>
          <a:prstGeom prst="downArrow">
            <a:avLst>
              <a:gd name="adj1" fmla="val 50000"/>
              <a:gd name="adj2" fmla="val 128562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14640" y="575460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抽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100090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南取百越之地，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以为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桂林、象郡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百越之君，俯首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系颈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委命下吏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乃使蒙恬北筑长城而守藩篱，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匈奴七百余里；胡人不敢南下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牧马，士不敢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弯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弓而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报怨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4567200">
            <a:off x="3875040" y="188640"/>
            <a:ext cx="136440" cy="1463760"/>
          </a:xfrm>
          <a:prstGeom prst="downArrow">
            <a:avLst>
              <a:gd name="adj1" fmla="val 50000"/>
              <a:gd name="adj2" fmla="val 268206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9680" y="75564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以之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4567200">
            <a:off x="3558960" y="1698480"/>
            <a:ext cx="136440" cy="1463760"/>
          </a:xfrm>
          <a:prstGeom prst="downArrow">
            <a:avLst>
              <a:gd name="adj1" fmla="val 50000"/>
              <a:gd name="adj2" fmla="val 268206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98720" y="226692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颈上系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3753600">
            <a:off x="5917320" y="200700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10240" y="22669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托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3753600">
            <a:off x="7669440" y="193140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86720" y="240984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下级官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3753600">
            <a:off x="7946280" y="487872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60480" y="521820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使退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9789600">
            <a:off x="3708000" y="558792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16880" y="502272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形作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9789600">
            <a:off x="6171840" y="586728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2240" y="50990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报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9" dur="indefinite" restart="never" nodeType="tmRoot">
          <p:childTnLst>
            <p:seq>
              <p:cTn id="1660" dur="indefinite" nodeType="mainSeq">
                <p:childTnLst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于是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始皇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先王之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道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焚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百家之言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愚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黔首；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隳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名城，杀豪杰；收天下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聚之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咸阳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销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锋镝，铸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以为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人十二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以弱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天下之民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然后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践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华为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因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河为池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据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亿丈之城，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临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测之渊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以为固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8277200">
            <a:off x="3250080" y="55908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57640" y="10605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废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3753600">
            <a:off x="5002920" y="48312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86360" y="106056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治世之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 rot="6776400">
            <a:off x="7043400" y="-94320"/>
            <a:ext cx="152280" cy="1904760"/>
          </a:xfrm>
          <a:prstGeom prst="downArrow">
            <a:avLst>
              <a:gd name="adj1" fmla="val 50000"/>
              <a:gd name="adj2" fmla="val 31270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184240" y="907920"/>
            <a:ext cx="4856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0456800">
            <a:off x="888480" y="147276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1440" y="8017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使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0456800">
            <a:off x="2666520" y="152352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95680" y="8017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毁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0456800">
            <a:off x="456840" y="297144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9520" y="23558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兵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0456800">
            <a:off x="4647960" y="289512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33960" y="232560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销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0456800">
            <a:off x="2057040" y="426672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14360" y="354492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用来削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0456800">
            <a:off x="6476760" y="411444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72160" y="357516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登，依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0456800">
            <a:off x="456840" y="533340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9520" y="47181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凭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0456800">
            <a:off x="2666520" y="533340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71840" y="48704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凭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0456800">
            <a:off x="5638320" y="533340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91360" y="47941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面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16800">
            <a:off x="1497600" y="619848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07360" y="6064200"/>
            <a:ext cx="29239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作为坚固的防御工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良将劲弩守要害之处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信臣精卒陈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利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谁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何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天下已定，始皇之心，自以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关中之固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金城千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子孙帝王万世之业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2025000">
            <a:off x="5105520" y="60912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48200" y="1060560"/>
            <a:ext cx="4140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可靠的官员、精锐的士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2025000">
            <a:off x="7467120" y="53316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41520" y="113652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置，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2025000">
            <a:off x="914040" y="236196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7280" y="2432160"/>
            <a:ext cx="4856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2025000">
            <a:off x="3352680" y="365724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88600" y="4260960"/>
            <a:ext cx="29239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方圆千里的铜墙铁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然段讲了秦始皇“攻”天下的业绩和“守”天下的措施。试指出文中哪些文字是写其“攻”的，哪些是写其“守”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自然段在写秦由“攻”转为“守”时从哪些方面写了其“守”的措施，为什么要写这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1752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楷体_GB2312"/>
              </a:rPr>
              <a:t>士不敢弯弓以报怨”句之后为“守”，“报怨”句和其前为“攻”。“南取百越”北“却匈奴”仍属其“井吞八荒”之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4952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  <a:ea typeface="楷体_GB2312"/>
              </a:rPr>
              <a:t>从政治、军事、文化、刑法、地理等方面写其以暴政来作为“守”的措施。写这些是为突出中心论点眼务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3" dur="indefinite" restart="never" nodeType="tmRoot">
          <p:childTnLst>
            <p:seq>
              <p:cTn id="1954" dur="indefinite" nodeType="mainSeq">
                <p:childTnLst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80000" y="50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3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3284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2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4149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27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522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2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72360" y="3500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2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1773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前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2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971800" y="2438280"/>
            <a:ext cx="34290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学习第五段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3726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始皇既没，余威震于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殊俗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然陈涉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牖绳枢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子，氓隶之人，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迁徙之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也；才能不及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中人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非有仲尼、墨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贤，陶朱、猗顿之富；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蹑足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行伍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间，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倔起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阡陌之中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18697800">
            <a:off x="5307840" y="63540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38680" y="838080"/>
            <a:ext cx="350532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不同的风俗，此指边远地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1244000">
            <a:off x="888840" y="162540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12160" y="603360"/>
            <a:ext cx="231444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用破瓮做窗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用草绳系户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3996600">
            <a:off x="6526440" y="246456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05120" y="2584440"/>
            <a:ext cx="26190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被迁谪戍边的卒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3996600">
            <a:off x="3174120" y="383616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31080" y="403236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平常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3996600">
            <a:off x="6450840" y="520776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03360" y="555624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插足，置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11244000">
            <a:off x="2362320" y="586728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40" y="5251320"/>
            <a:ext cx="26190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通崛，突起，突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9" dur="indefinite" restart="never" nodeType="tmRoot">
          <p:childTnLst>
            <p:seq>
              <p:cTn id="1980" dur="indefinite" nodeType="mainSeq">
                <p:childTnLst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0" y="0"/>
            <a:ext cx="914400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率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疲弊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卒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将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数百之众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转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秦；斩木为兵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揭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竿为旗，天下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集响应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赢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粮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景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。山东豪俊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并起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亡秦族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3996600">
            <a:off x="1268640" y="48348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8560" y="95400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疲劳困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rot="3996600">
            <a:off x="3631320" y="55944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14640" y="95400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率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3996600">
            <a:off x="6908040" y="48348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08000" y="98424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转过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3996600">
            <a:off x="4011840" y="254088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95880" y="293544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举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7979600">
            <a:off x="2564640" y="444528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926440" y="4794120"/>
            <a:ext cx="48564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3996600">
            <a:off x="4011840" y="452196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095720" y="494676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通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11244000">
            <a:off x="228600" y="571500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8880" y="4916520"/>
            <a:ext cx="6883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一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4339400">
            <a:off x="1141920" y="579204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19360" y="529740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起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3" dur="indefinite" restart="never" nodeType="tmRoot">
          <p:childTnLst>
            <p:seq>
              <p:cTn id="2054" dur="indefinite" nodeType="mainSeq">
                <p:childTnLst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1981080" y="5029200"/>
            <a:ext cx="4419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学习第六段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9144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且夫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天下非小弱也，雍州之地，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函之固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自若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也。陈涉之位，非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于齐、楚、燕、赵、韩、魏、宋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卫、中山之君也；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锄耰棘矜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，非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铦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于钩戟长铩也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3996600">
            <a:off x="659520" y="55944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34680" y="1060560"/>
            <a:ext cx="6883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另提一事，至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4339400">
            <a:off x="3846240" y="1455120"/>
            <a:ext cx="107640" cy="990720"/>
          </a:xfrm>
          <a:prstGeom prst="downArrow">
            <a:avLst>
              <a:gd name="adj1" fmla="val 50000"/>
              <a:gd name="adj2" fmla="val 2301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53920" y="1182600"/>
            <a:ext cx="6883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像以前一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 rot="14347800">
            <a:off x="4406400" y="4406400"/>
            <a:ext cx="76320" cy="1579320"/>
          </a:xfrm>
          <a:prstGeom prst="downArrow">
            <a:avLst>
              <a:gd name="adj1" fmla="val 50000"/>
              <a:gd name="adj2" fmla="val 517335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24400" y="552600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锄头棍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3996600">
            <a:off x="7974720" y="459828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053480" y="514512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锋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8" dur="indefinite" restart="never" nodeType="tmRoot">
          <p:childTnLst>
            <p:seq>
              <p:cTn id="2159" dur="indefinite" nodeType="mainSeq">
                <p:childTnLst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823040" y="0"/>
            <a:ext cx="55454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谪戍之众，非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抗于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九国之师也；深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远虑，行军用兵之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道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，非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及向时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之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也。然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成败异变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，功业相反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3996600">
            <a:off x="3326040" y="48348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9800" y="99072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高，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3996600">
            <a:off x="4240440" y="48348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597120" y="1036800"/>
            <a:ext cx="4856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rot="14339400">
            <a:off x="5241960" y="1463400"/>
            <a:ext cx="108000" cy="990720"/>
          </a:xfrm>
          <a:prstGeom prst="downArrow">
            <a:avLst>
              <a:gd name="adj1" fmla="val 50000"/>
              <a:gd name="adj2" fmla="val 229333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994280" y="103680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策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14339400">
            <a:off x="6842160" y="1463400"/>
            <a:ext cx="108000" cy="990720"/>
          </a:xfrm>
          <a:prstGeom prst="downArrow">
            <a:avLst>
              <a:gd name="adj1" fmla="val 50000"/>
              <a:gd name="adj2" fmla="val 229333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72320" y="96048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比得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3996600">
            <a:off x="7212240" y="254088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365880" y="309420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先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3996600">
            <a:off x="3326040" y="452196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54120" y="5227560"/>
            <a:ext cx="41432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条件好的失败，条件差的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8" dur="indefinite" restart="never" nodeType="tmRoot">
          <p:childTnLst>
            <p:seq>
              <p:cTn id="2209" dur="indefinite" nodeType="mainSeq">
                <p:childTnLst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fill="hold">
                      <p:stCondLst>
                        <p:cond delay="indefinite"/>
                      </p:stCondLst>
                      <p:childTnLst>
                        <p:par>
                          <p:cTn id="2217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4" fill="hold">
                      <p:stCondLst>
                        <p:cond delay="indefinite"/>
                      </p:stCondLst>
                      <p:childTnLst>
                        <p:par>
                          <p:cTn id="2235" fill="hold">
                            <p:stCondLst>
                              <p:cond delay="0"/>
                            </p:stCondLst>
                            <p:childTnLst>
                              <p:par>
                                <p:cTn id="2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900" spc="-1" strike="noStrike">
                <a:solidFill>
                  <a:srgbClr val="000000"/>
                </a:solidFill>
                <a:latin typeface="Times New Roman"/>
              </a:rPr>
              <a:t>板书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801080" y="0"/>
            <a:ext cx="5545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试使山东之国与陈涉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度长絜大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，比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量力，则不可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同年而语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矣。然秦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以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区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之地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致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万乘之势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序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八州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朝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列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，百有余年矣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3996600">
            <a:off x="5536440" y="48348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61120" y="960480"/>
            <a:ext cx="17046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比长短大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3996600">
            <a:off x="4393440" y="254088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73440" y="297180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相提并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3996600">
            <a:off x="7898040" y="254088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89760" y="312408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凭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8312600">
            <a:off x="430920" y="452196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57320" y="492300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形容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8312600">
            <a:off x="3097800" y="459828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82920" y="5181480"/>
            <a:ext cx="14000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造成获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8312600">
            <a:off x="6374520" y="459828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694480" y="5181480"/>
            <a:ext cx="79020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招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2016600">
            <a:off x="8757720" y="4597200"/>
            <a:ext cx="108000" cy="664920"/>
          </a:xfrm>
          <a:prstGeom prst="downArrow">
            <a:avLst>
              <a:gd name="adj1" fmla="val 50000"/>
              <a:gd name="adj2" fmla="val 153917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86720" y="5303880"/>
            <a:ext cx="1095120" cy="1312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使诸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来朝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2" dur="indefinite" restart="never" nodeType="tmRoot">
          <p:childTnLst>
            <p:seq>
              <p:cTn id="2283" dur="indefinite" nodeType="mainSeq">
                <p:childTnLst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4" fill="hold">
                      <p:stCondLst>
                        <p:cond delay="indefinite"/>
                      </p:stCondLst>
                      <p:childTnLst>
                        <p:par>
                          <p:cTn id="2345" fill="hold">
                            <p:stCondLst>
                              <p:cond delay="0"/>
                            </p:stCondLst>
                            <p:childTnLst>
                              <p:par>
                                <p:cTn id="2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然后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以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六合为家，崤函为宫；一夫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难而七庙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隳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，身死人手，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宋体"/>
                <a:ea typeface="楷体_GB2312"/>
              </a:rPr>
              <a:t>为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天下笑者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何也？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楷体_GB2312"/>
              </a:rPr>
              <a:t>仁义不施而攻守之势异也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4339400">
            <a:off x="3108240" y="2072880"/>
            <a:ext cx="108000" cy="990720"/>
          </a:xfrm>
          <a:prstGeom prst="downArrow">
            <a:avLst>
              <a:gd name="adj1" fmla="val 50000"/>
              <a:gd name="adj2" fmla="val 229333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93400" y="1746360"/>
            <a:ext cx="109512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使毁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4339400">
            <a:off x="6918120" y="1920960"/>
            <a:ext cx="108000" cy="990360"/>
          </a:xfrm>
          <a:prstGeom prst="downArrow">
            <a:avLst>
              <a:gd name="adj1" fmla="val 50000"/>
              <a:gd name="adj2" fmla="val 22925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574760" y="1365120"/>
            <a:ext cx="48564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2025000">
            <a:off x="1219320" y="685440"/>
            <a:ext cx="108000" cy="665280"/>
          </a:xfrm>
          <a:prstGeom prst="downArrow">
            <a:avLst>
              <a:gd name="adj1" fmla="val 50000"/>
              <a:gd name="adj2" fmla="val 154000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109880" y="1258920"/>
            <a:ext cx="790200" cy="703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凭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295280" y="1295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4339400">
            <a:off x="2727360" y="4739760"/>
            <a:ext cx="108000" cy="990720"/>
          </a:xfrm>
          <a:prstGeom prst="downArrow">
            <a:avLst>
              <a:gd name="adj1" fmla="val 50000"/>
              <a:gd name="adj2" fmla="val 229333"/>
            </a:avLst>
          </a:prstGeom>
          <a:solidFill>
            <a:srgbClr val="00cc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38280" y="3733920"/>
            <a:ext cx="5959440" cy="642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隶书"/>
              </a:rPr>
              <a:t>（就因为）不施行仁义，而攻守的形势就不同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4" dur="indefinite" restart="never" nodeType="tmRoot">
          <p:childTnLst>
            <p:seq>
              <p:cTn id="2375" dur="indefinite" nodeType="mainSeq">
                <p:childTnLst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39640" y="404640"/>
            <a:ext cx="815364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语言、文化知识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9880" y="1447920"/>
            <a:ext cx="121932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通假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56000" y="1773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92360" y="162864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11640" y="2421000"/>
            <a:ext cx="1427040" cy="1368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一词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古今异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词类活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62520" y="3886200"/>
            <a:ext cx="1600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见虚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24360" y="2637000"/>
            <a:ext cx="288720" cy="1008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492360" y="3141720"/>
            <a:ext cx="360360" cy="1800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84360" y="3789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4343400"/>
            <a:ext cx="1600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谦敬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962520" y="4800600"/>
            <a:ext cx="16002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成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76720" y="5229360"/>
            <a:ext cx="2057400" cy="51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文言文的翻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84360" y="5589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35280" y="1916280"/>
            <a:ext cx="576000" cy="3960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rId7" action="ppaction://hlinksldjump"/>
          </p:cNvPr>
          <p:cNvSpPr/>
          <p:nvPr/>
        </p:nvSpPr>
        <p:spPr>
          <a:xfrm>
            <a:off x="7812000" y="595008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10800"/>
                </a:moveTo>
                <a:lnTo>
                  <a:pt x="24005" y="3794"/>
                </a:lnTo>
                <a:lnTo>
                  <a:pt x="2400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76720" y="5950080"/>
            <a:ext cx="2057400" cy="5101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句式判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59280" y="5516640"/>
            <a:ext cx="217440" cy="649080"/>
          </a:xfrm>
          <a:custGeom>
            <a:avLst/>
            <a:gdLst>
              <a:gd name="textAreaLeft" fmla="*/ 138960 w 217440"/>
              <a:gd name="textAreaRight" fmla="*/ 217800 w 21744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字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hě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h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iá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ā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è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ǒ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音字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判断在具体语境中的读音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孝公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滑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à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俯首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践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城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u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弩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ì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hō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伍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á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百之众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ià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u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xi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权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力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ià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万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势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è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列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há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     一夫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à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759636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808000"/>
                </a:solidFill>
                <a:latin typeface="Times New Roman"/>
              </a:rPr>
              <a:t>一、历史回顾总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93680" y="838080"/>
            <a:ext cx="933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春秋战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群雄争霸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战乱纷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71280" y="1600200"/>
            <a:ext cx="62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争地以战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杀人盈野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;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争城以战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杀人盈城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71400" y="2133720"/>
            <a:ext cx="97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春秋五霸、战国七雄分别鼎足而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17600" y="2743200"/>
            <a:ext cx="663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秦国变法兴盛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六国合纵抗秦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82840" y="3429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天下大事分久必合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6680" y="4114800"/>
            <a:ext cx="55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秦始皇灭六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统一天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始称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1040" y="4724280"/>
            <a:ext cx="8269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陈胜起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秦朝二世而亡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zh-CN" sz="6600" spc="-1" strike="noStrike" u="sng">
                <a:solidFill>
                  <a:srgbClr val="000000"/>
                </a:solidFill>
                <a:uFillTx/>
                <a:latin typeface="Times New Roman"/>
              </a:rPr>
              <a:t>为什么</a:t>
            </a:r>
            <a:r>
              <a:rPr b="1" i="1" lang="zh-CN" sz="80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732640"/>
            <a:ext cx="1836720" cy="1125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5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500"/>
                            </p:stCondLst>
                            <p:childTnLst>
                              <p:par>
                                <p:cTn id="89" nodeType="afterEffect" fill="hold" presetClass="entr" presetID="23" presetSubtype="3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异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247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、破音异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人又叫“读破”、“破音”。他是用改变字（词）的通常读音来表示不同词性和意义的一种用法。如“王”、“骑”、“衣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4000" y="4221000"/>
            <a:ext cx="85183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、古音异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些专有名词，如人名、地名、官名、族名、器物名、姓氏等，因为专有，就有固定性，读时仍读保留下来的古音。如“会稽”、“燕”、“召”、“乐”、“翟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4000" y="2781360"/>
            <a:ext cx="851832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、通假异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是指甲字通假为乙字，即读乙字的音。“从”、“景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rId1" action="ppaction://hlinksldjump"/>
          </p:cNvPr>
          <p:cNvSpPr/>
          <p:nvPr/>
        </p:nvSpPr>
        <p:spPr>
          <a:xfrm>
            <a:off x="8028000" y="609300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10800"/>
                </a:moveTo>
                <a:lnTo>
                  <a:pt x="28553" y="3794"/>
                </a:lnTo>
                <a:lnTo>
                  <a:pt x="2855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762120" y="6095880"/>
            <a:ext cx="7596000" cy="108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914400" y="533520"/>
            <a:ext cx="759636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80880" y="304920"/>
            <a:ext cx="731520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通假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从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纵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衡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横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景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影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甿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氓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崛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棘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戟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又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没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殁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28600" y="2635200"/>
            <a:ext cx="746748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从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纵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：合纵之策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衡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横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：连横之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倔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崛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：突起；发动起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景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影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：影子；作状语，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影子一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一词多义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762120"/>
            <a:ext cx="4038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北 北收要害之郡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将军战河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480" y="114300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581280" y="609480"/>
            <a:ext cx="556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名词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     败逃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名词作状语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向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名词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     北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" y="2895480"/>
            <a:ext cx="4114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力乘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 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虎因喜，计之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38080" y="312408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33920" y="2819520"/>
            <a:ext cx="4038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介词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  趁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动词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   沿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介词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   因此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8600" y="4952880"/>
            <a:ext cx="4648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以致天下之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致 致万乘之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而致千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62120" y="4952880"/>
            <a:ext cx="152280" cy="1905120"/>
          </a:xfrm>
          <a:custGeom>
            <a:avLst/>
            <a:gdLst>
              <a:gd name="textAreaLeft" fmla="*/ 44640 w 152280"/>
              <a:gd name="textAreaRight" fmla="*/ 152640 w 152280"/>
              <a:gd name="textAreaTop" fmla="*/ 79200 h 1905120"/>
              <a:gd name="textAreaBottom" fmla="*/ 18259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733920" y="4903920"/>
            <a:ext cx="4647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动词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   招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动词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  达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动词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   到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80880" y="709560"/>
            <a:ext cx="3962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延及孝文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延 秦人开关延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余人各复延至其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101448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91120" y="70956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延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引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邀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57200" y="291924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振长策而御宇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4000" y="3112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314784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91120" y="2919240"/>
            <a:ext cx="3962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鞭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4443480"/>
            <a:ext cx="3048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弱 弱国入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不若孀妻弱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4672080"/>
            <a:ext cx="76320" cy="1295280"/>
          </a:xfrm>
          <a:custGeom>
            <a:avLst/>
            <a:gdLst>
              <a:gd name="textAreaLeft" fmla="*/ 22320 w 76320"/>
              <a:gd name="textAreaRight" fmla="*/ 76320 w 76320"/>
              <a:gd name="textAreaTop" fmla="*/ 53640 h 1295280"/>
              <a:gd name="textAreaBottom" fmla="*/ 12416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86200" y="4443480"/>
            <a:ext cx="4876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形容词的使动用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削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弱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年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rId1" action="ppaction://hlinksldjump"/>
          </p:cNvPr>
          <p:cNvSpPr/>
          <p:nvPr/>
        </p:nvSpPr>
        <p:spPr>
          <a:xfrm>
            <a:off x="8028000" y="6497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一词多义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66600"/>
            <a:ext cx="9144000" cy="66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古今异义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于是秦人拱手而取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西河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之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黄河以西一带       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今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河的西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2.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赢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粮而景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担负                      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今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输赢的“赢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山东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豪俊并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崤山以冬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即东方 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今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指山东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流血漂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盾牌                      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今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使船前进的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0"/>
            <a:ext cx="1836720" cy="112536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名词活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28600" y="687240"/>
          <a:ext cx="8686800" cy="5607360"/>
        </p:xfrm>
        <a:graphic>
          <a:graphicData uri="http://schemas.openxmlformats.org/drawingml/2006/table">
            <a:tbl>
              <a:tblPr/>
              <a:tblGrid>
                <a:gridCol w="3484800"/>
                <a:gridCol w="2083320"/>
                <a:gridCol w="31186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句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用类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释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席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卷、</a:t>
                      </a: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包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举、</a:t>
                      </a: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囊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括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词作状语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席子、包裹、布袋一样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下</a:t>
                      </a: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云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集</a:t>
                      </a: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响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应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词作状语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云一样、像声音一样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赢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粮而</a:t>
                      </a: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景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从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词作状语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像影子一样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内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立法度，</a:t>
                      </a: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南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取汉中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位词作状语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在国内、向南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序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八州而朝同列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词动用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招致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履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至尊而制六合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词动用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登上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然陈涉</a:t>
                      </a:r>
                      <a:r>
                        <a:rPr b="1" lang="zh-CN" sz="26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瓮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牖</a:t>
                      </a:r>
                      <a:r>
                        <a:rPr b="1" lang="zh-CN" sz="26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</a:rPr>
                        <a:t>绳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枢之子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词动用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用破瓮作   用草绳系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80880" y="457200"/>
            <a:ext cx="701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名词用作状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1680" y="160020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１）有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卷天下，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举宇内，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括四海之意，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２）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立法度，……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连横而斗诸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３）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取汉中，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举巴蜀，〔东〕割膏腴之地，〔并〕收要害之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４）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取百越之地，以为桂林、象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５）乃使蒙恬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筑长城而守藩篱，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６）胡人不敢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下而牧马，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７）天下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集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应，赢粮而〔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〕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335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66680" y="457200"/>
            <a:ext cx="5050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80880" y="457200"/>
            <a:ext cx="701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228600" y="1447920"/>
          <a:ext cx="8540640" cy="469260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句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用类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释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约从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离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衡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动用法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……离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序八州而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朝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动用法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……朝拜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连横而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斗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诸侯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动用法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……争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连横而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斗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诸侯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动用法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……争斗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山东豪俊遂并起而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亡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秦族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动用法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……灭亡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动词活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0120" y="53352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676520" y="53352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80880" y="457200"/>
            <a:ext cx="701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1680" y="2221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形容词活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301680" y="1593720"/>
          <a:ext cx="8540640" cy="454356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例句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用类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释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盟而谋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弱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使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……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弱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天下之民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使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……弱，削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以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愚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黔首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使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……愚蠢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且夫天下非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小弱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也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动用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变小，变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">
            <a:hlinkClick r:id="rId2" action="ppaction://hlinksldjump"/>
          </p:cNvPr>
          <p:cNvSpPr/>
          <p:nvPr/>
        </p:nvSpPr>
        <p:spPr>
          <a:xfrm>
            <a:off x="8101080" y="644688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0" h="21600">
                <a:moveTo>
                  <a:pt x="10274" y="10800"/>
                </a:moveTo>
                <a:lnTo>
                  <a:pt x="24286" y="3794"/>
                </a:lnTo>
                <a:lnTo>
                  <a:pt x="2428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0120" y="60948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676520" y="53352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52280" y="1523880"/>
            <a:ext cx="8839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……争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言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不及物动词的后边有宾语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种不及物动词大都是使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“斗”的后边带有宾语“诸侯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对外采取连衡的策略来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其他六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诸侯相互争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457200"/>
            <a:ext cx="7596360" cy="7632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457200" y="42670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连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相当于“因而”  “之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助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样一来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秦国就毫不费力地取得了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魏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黄河以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大片土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9480" y="6400800"/>
            <a:ext cx="7925040" cy="30492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304920" y="533520"/>
            <a:ext cx="2209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黑体"/>
                <a:ea typeface="黑体"/>
                <a:hlinkClick r:id="rId5" action="ppaction://hlinksldjump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难句译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" y="1066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连衡而斗诸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373392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是秦人拱手而取西河之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0" dur="indefinite" restart="never" nodeType="tmRoot">
          <p:childTnLst>
            <p:seq>
              <p:cTn id="2431" dur="indefinite" nodeType="mainSeq">
                <p:childTnLst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写作背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14800" y="0"/>
            <a:ext cx="5029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贾谊生活在西汉初年，此前历春秋战国、七雄争霸而秦统一天下，到楚汉相争，汉朝建立，五百年战乱破坏，因而西汉初期，社会经济凋敝，人口减少。为此，贾谊极力主张施行“仁政”以“安民”，民安方得维持汉王朝统治。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贾谊的《过秦论》正是针对这种现实而写。他希望汉统治者能吸取秦灭亡的教训，推行“仁政”以求经济发展，社会安定。即所谓“前事不忘后事之师”也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4048200" cy="647712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53452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28600" y="76212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盟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订立盟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言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用“而”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或动词短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和名词连接起来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种名词就用作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……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来谋划削弱秦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势力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6248520"/>
            <a:ext cx="7596360" cy="2286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3049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0880" y="3809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4267080"/>
            <a:ext cx="8534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逃亡的败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败逃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里指溃败的军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句用了互文的修辞手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”和“逐”为互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亡”和“北”为互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逐逃亡的败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rId3" action="ppaction://hlinksldjump"/>
          </p:cNvPr>
          <p:cNvSpPr/>
          <p:nvPr/>
        </p:nvSpPr>
        <p:spPr>
          <a:xfrm>
            <a:off x="8686800" y="5969160"/>
            <a:ext cx="457200" cy="8744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874440"/>
              <a:gd name="textAreaBottom" fmla="*/ 844920 h 874440"/>
            </a:gdLst>
            <a:ahLst/>
            <a:rect l="textAreaLeft" t="textAreaTop" r="textAreaRight" b="textAreaBottom"/>
            <a:pathLst>
              <a:path w="21600" h="41297">
                <a:moveTo>
                  <a:pt x="0" y="0"/>
                </a:moveTo>
                <a:lnTo>
                  <a:pt x="21600" y="0"/>
                </a:lnTo>
                <a:lnTo>
                  <a:pt x="21600" y="41297"/>
                </a:lnTo>
                <a:lnTo>
                  <a:pt x="0" y="41297"/>
                </a:lnTo>
                <a:close/>
              </a:path>
              <a:path fill="lightenLess" w="21600" h="41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297">
                <a:moveTo>
                  <a:pt x="21600" y="0"/>
                </a:moveTo>
                <a:lnTo>
                  <a:pt x="21600" y="41297"/>
                </a:lnTo>
                <a:lnTo>
                  <a:pt x="20200" y="39897"/>
                </a:lnTo>
                <a:lnTo>
                  <a:pt x="20200" y="1400"/>
                </a:lnTo>
                <a:close/>
              </a:path>
              <a:path fill="darkenLess" w="21600" h="41297">
                <a:moveTo>
                  <a:pt x="21600" y="41297"/>
                </a:moveTo>
                <a:lnTo>
                  <a:pt x="0" y="41297"/>
                </a:lnTo>
                <a:lnTo>
                  <a:pt x="1400" y="39897"/>
                </a:lnTo>
                <a:lnTo>
                  <a:pt x="20200" y="39897"/>
                </a:lnTo>
                <a:close/>
              </a:path>
              <a:path fill="lighten" w="21600" h="41297">
                <a:moveTo>
                  <a:pt x="0" y="41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39897"/>
                </a:lnTo>
                <a:close/>
              </a:path>
              <a:path fill="darken" w="21600" h="41297">
                <a:moveTo>
                  <a:pt x="3794" y="17341"/>
                </a:moveTo>
                <a:lnTo>
                  <a:pt x="7301" y="17341"/>
                </a:lnTo>
                <a:lnTo>
                  <a:pt x="7301" y="22676"/>
                </a:lnTo>
                <a:cubicBezTo>
                  <a:pt x="7301" y="23599"/>
                  <a:pt x="8102" y="24330"/>
                  <a:pt x="9138" y="24330"/>
                </a:cubicBezTo>
                <a:lnTo>
                  <a:pt x="10800" y="24330"/>
                </a:lnTo>
                <a:cubicBezTo>
                  <a:pt x="11836" y="24330"/>
                  <a:pt x="12636" y="23599"/>
                  <a:pt x="12636" y="22676"/>
                </a:cubicBezTo>
                <a:lnTo>
                  <a:pt x="12636" y="17341"/>
                </a:lnTo>
                <a:lnTo>
                  <a:pt x="10800" y="17341"/>
                </a:lnTo>
                <a:lnTo>
                  <a:pt x="14308" y="13833"/>
                </a:lnTo>
                <a:lnTo>
                  <a:pt x="17981" y="17341"/>
                </a:lnTo>
                <a:lnTo>
                  <a:pt x="16144" y="17341"/>
                </a:lnTo>
                <a:lnTo>
                  <a:pt x="16144" y="22676"/>
                </a:lnTo>
                <a:cubicBezTo>
                  <a:pt x="16144" y="25444"/>
                  <a:pt x="13568" y="28003"/>
                  <a:pt x="10800" y="28003"/>
                </a:cubicBezTo>
                <a:lnTo>
                  <a:pt x="9138" y="28003"/>
                </a:lnTo>
                <a:cubicBezTo>
                  <a:pt x="6370" y="28003"/>
                  <a:pt x="3794" y="25444"/>
                  <a:pt x="3794" y="22676"/>
                </a:cubicBez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6" dur="indefinite" restart="never" nodeType="tmRoot">
          <p:childTnLst>
            <p:seq>
              <p:cTn id="2457" dur="indefinite" nodeType="mainSeq">
                <p:childTnLst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28600" y="8380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信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可靠的大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布置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利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锐利的兵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而谁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“其谁奈之何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也就是“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阵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有谁敢惹他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用忠臣的臣子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带领精锐的士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着锐利的武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缉查盘问往来的人们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28600" y="228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(5)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信臣精卒陈利兵而谁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32004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斩木为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揭竿为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下云集响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赢粮而景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" y="3654360"/>
            <a:ext cx="8610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作“集”的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应译为“像云一样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像影子一样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砍伐树木作为武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举起竹竿作为旗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天下人像浮云一样聚集起来响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的号召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,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大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担着粮食像影子随形那样跟着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起来造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>
            <a:hlinkClick r:id="rId2" action="ppaction://hlinksldjump"/>
          </p:cNvPr>
          <p:cNvSpPr/>
          <p:nvPr/>
        </p:nvSpPr>
        <p:spPr>
          <a:xfrm>
            <a:off x="8763120" y="5969160"/>
            <a:ext cx="380880" cy="8744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874440"/>
              <a:gd name="textAreaBottom" fmla="*/ 849960 h 874440"/>
            </a:gdLst>
            <a:ahLst/>
            <a:rect l="textAreaLeft" t="textAreaTop" r="textAreaRight" b="textAreaBottom"/>
            <a:pathLst>
              <a:path w="21600" h="49564">
                <a:moveTo>
                  <a:pt x="0" y="0"/>
                </a:moveTo>
                <a:lnTo>
                  <a:pt x="21600" y="0"/>
                </a:lnTo>
                <a:lnTo>
                  <a:pt x="21600" y="49564"/>
                </a:lnTo>
                <a:lnTo>
                  <a:pt x="0" y="49564"/>
                </a:lnTo>
                <a:close/>
              </a:path>
              <a:path fill="lightenLess" w="21600" h="495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564">
                <a:moveTo>
                  <a:pt x="21600" y="0"/>
                </a:moveTo>
                <a:lnTo>
                  <a:pt x="21600" y="49564"/>
                </a:lnTo>
                <a:lnTo>
                  <a:pt x="20200" y="48164"/>
                </a:lnTo>
                <a:lnTo>
                  <a:pt x="20200" y="1400"/>
                </a:lnTo>
                <a:close/>
              </a:path>
              <a:path fill="darkenLess" w="21600" h="49564">
                <a:moveTo>
                  <a:pt x="21600" y="49564"/>
                </a:moveTo>
                <a:lnTo>
                  <a:pt x="0" y="49564"/>
                </a:lnTo>
                <a:lnTo>
                  <a:pt x="1400" y="48164"/>
                </a:lnTo>
                <a:lnTo>
                  <a:pt x="20200" y="48164"/>
                </a:lnTo>
                <a:close/>
              </a:path>
              <a:path fill="lighten" w="21600" h="49564">
                <a:moveTo>
                  <a:pt x="0" y="49564"/>
                </a:moveTo>
                <a:lnTo>
                  <a:pt x="0" y="0"/>
                </a:lnTo>
                <a:lnTo>
                  <a:pt x="1400" y="1400"/>
                </a:lnTo>
                <a:lnTo>
                  <a:pt x="1400" y="48164"/>
                </a:lnTo>
                <a:close/>
              </a:path>
              <a:path fill="darken" w="21600" h="49564">
                <a:moveTo>
                  <a:pt x="3794" y="21474"/>
                </a:moveTo>
                <a:lnTo>
                  <a:pt x="7301" y="21474"/>
                </a:lnTo>
                <a:lnTo>
                  <a:pt x="7301" y="26810"/>
                </a:lnTo>
                <a:cubicBezTo>
                  <a:pt x="7301" y="27732"/>
                  <a:pt x="8102" y="28464"/>
                  <a:pt x="9138" y="28464"/>
                </a:cubicBezTo>
                <a:lnTo>
                  <a:pt x="10800" y="28464"/>
                </a:lnTo>
                <a:cubicBezTo>
                  <a:pt x="11836" y="28464"/>
                  <a:pt x="12636" y="27732"/>
                  <a:pt x="12636" y="26810"/>
                </a:cubicBezTo>
                <a:lnTo>
                  <a:pt x="12636" y="21474"/>
                </a:lnTo>
                <a:lnTo>
                  <a:pt x="10800" y="21474"/>
                </a:lnTo>
                <a:lnTo>
                  <a:pt x="14308" y="17967"/>
                </a:lnTo>
                <a:lnTo>
                  <a:pt x="17981" y="21474"/>
                </a:lnTo>
                <a:lnTo>
                  <a:pt x="16144" y="21474"/>
                </a:lnTo>
                <a:lnTo>
                  <a:pt x="16144" y="26810"/>
                </a:lnTo>
                <a:cubicBezTo>
                  <a:pt x="16144" y="29578"/>
                  <a:pt x="13568" y="32136"/>
                  <a:pt x="10800" y="32136"/>
                </a:cubicBezTo>
                <a:lnTo>
                  <a:pt x="9138" y="32136"/>
                </a:lnTo>
                <a:cubicBezTo>
                  <a:pt x="6370" y="32136"/>
                  <a:pt x="3794" y="29578"/>
                  <a:pt x="3794" y="2681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2" dur="indefinite" restart="never" nodeType="tmRoot">
          <p:childTnLst>
            <p:seq>
              <p:cTn id="2483" dur="indefinite" nodeType="mainSeq">
                <p:childTnLst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33520" y="160020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介词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在形容词之后引出比较对象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相当于“比”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锄头 枪把并不比钩戟长矛更锋利呀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172200"/>
            <a:ext cx="505080" cy="50472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533520" y="762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7)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锄耰棘矜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非銛于钩戟长铩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式判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3520" y="1295280"/>
            <a:ext cx="792468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请分别说明下列各句的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然陈涉瓮牖绳枢之子，氓隶之人，而迁徙之徒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夫作难而七庙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陈利兵而谁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谪戌之众，非抗于九国之师也。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4000" y="5229360"/>
            <a:ext cx="8540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案：①判断句。②被动句。③宾语前置句。④介词结构后置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1" action="ppaction://hlinksldjump"/>
          </p:cNvPr>
          <p:cNvSpPr/>
          <p:nvPr/>
        </p:nvSpPr>
        <p:spPr>
          <a:xfrm>
            <a:off x="7956720" y="6165720"/>
            <a:ext cx="576000" cy="28764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7" h="21600">
                <a:moveTo>
                  <a:pt x="14607" y="10800"/>
                </a:moveTo>
                <a:lnTo>
                  <a:pt x="28620" y="3794"/>
                </a:lnTo>
                <a:lnTo>
                  <a:pt x="28620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28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练习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指出有通假字的一组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A.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秦有余力而制其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B.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倔起阡陌之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C.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序八州而朝同列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百有余年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D.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约从离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06760" y="3808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320" y="2895480"/>
            <a:ext cx="9067680" cy="72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判断正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1)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《过秦论》的作者是东汉贾谊。过，这里是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2).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外连衡而斗诸侯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译为“对外取用连横的策略使诸侯自相争斗。”其中“外”与“斗”都是名词活用做状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3)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《过秦论》的中心论点是全文最后一句“仁义不施而攻守之势异也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.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4).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身死人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为天下笑者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句中的“为”表被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,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然后以六合为家”句中的“为”是“变为”、“当作”的意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508" dur="indefinite" restart="never" nodeType="tmRoot">
          <p:childTnLst>
            <p:seq>
              <p:cTn id="2509" dur="indefinite" nodeType="mainSeq">
                <p:childTnLst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2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6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8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6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6" fill="hold">
                      <p:stCondLst>
                        <p:cond delay="indefinite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0"/>
            <a:ext cx="495324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</a:rPr>
              <a:t>宣室求贤访逐臣，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</a:rPr>
              <a:t>贾生才调更无论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</a:rPr>
              <a:t>可怜夜半虚前席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6600"/>
                </a:solidFill>
                <a:latin typeface="Times New Roman"/>
              </a:rPr>
              <a:t>不问苍生问鬼神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—</a:t>
            </a: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-------</a:t>
            </a: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李商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《贾生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191080" y="18936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5000" y="4319640"/>
            <a:ext cx="2221200" cy="2603520"/>
          </a:xfrm>
          <a:custGeom>
            <a:avLst/>
            <a:gdLst/>
            <a:ahLst/>
            <a:rect l="l" t="t" r="r" b="b"/>
            <a:pathLst>
              <a:path w="1399" h="1640">
                <a:moveTo>
                  <a:pt x="0" y="641"/>
                </a:moveTo>
                <a:cubicBezTo>
                  <a:pt x="12" y="593"/>
                  <a:pt x="24" y="556"/>
                  <a:pt x="47" y="512"/>
                </a:cubicBezTo>
                <a:cubicBezTo>
                  <a:pt x="74" y="377"/>
                  <a:pt x="154" y="249"/>
                  <a:pt x="247" y="147"/>
                </a:cubicBezTo>
                <a:cubicBezTo>
                  <a:pt x="273" y="118"/>
                  <a:pt x="292" y="75"/>
                  <a:pt x="329" y="65"/>
                </a:cubicBezTo>
                <a:cubicBezTo>
                  <a:pt x="388" y="50"/>
                  <a:pt x="361" y="58"/>
                  <a:pt x="411" y="41"/>
                </a:cubicBezTo>
                <a:cubicBezTo>
                  <a:pt x="596" y="49"/>
                  <a:pt x="790" y="0"/>
                  <a:pt x="882" y="183"/>
                </a:cubicBezTo>
                <a:cubicBezTo>
                  <a:pt x="938" y="480"/>
                  <a:pt x="892" y="790"/>
                  <a:pt x="858" y="1088"/>
                </a:cubicBezTo>
                <a:cubicBezTo>
                  <a:pt x="879" y="1528"/>
                  <a:pt x="740" y="1640"/>
                  <a:pt x="1058" y="1581"/>
                </a:cubicBezTo>
                <a:cubicBezTo>
                  <a:pt x="1093" y="1560"/>
                  <a:pt x="1136" y="1552"/>
                  <a:pt x="1164" y="1523"/>
                </a:cubicBezTo>
                <a:cubicBezTo>
                  <a:pt x="1190" y="1496"/>
                  <a:pt x="1183" y="1450"/>
                  <a:pt x="1199" y="1417"/>
                </a:cubicBezTo>
                <a:cubicBezTo>
                  <a:pt x="1237" y="1339"/>
                  <a:pt x="1295" y="1269"/>
                  <a:pt x="1340" y="1193"/>
                </a:cubicBezTo>
                <a:cubicBezTo>
                  <a:pt x="1367" y="1148"/>
                  <a:pt x="1362" y="1112"/>
                  <a:pt x="1399" y="10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51080" y="652320"/>
            <a:ext cx="4986360" cy="5226120"/>
          </a:xfrm>
          <a:custGeom>
            <a:avLst/>
            <a:gdLst/>
            <a:ahLst/>
            <a:rect l="l" t="t" r="r" b="b"/>
            <a:pathLst>
              <a:path w="3141" h="3292">
                <a:moveTo>
                  <a:pt x="113" y="3292"/>
                </a:moveTo>
                <a:cubicBezTo>
                  <a:pt x="105" y="3253"/>
                  <a:pt x="92" y="3214"/>
                  <a:pt x="89" y="3174"/>
                </a:cubicBezTo>
                <a:cubicBezTo>
                  <a:pt x="81" y="3057"/>
                  <a:pt x="66" y="2822"/>
                  <a:pt x="66" y="2822"/>
                </a:cubicBezTo>
                <a:cubicBezTo>
                  <a:pt x="73" y="2446"/>
                  <a:pt x="0" y="2064"/>
                  <a:pt x="254" y="1764"/>
                </a:cubicBezTo>
                <a:cubicBezTo>
                  <a:pt x="287" y="1726"/>
                  <a:pt x="421" y="1599"/>
                  <a:pt x="477" y="1587"/>
                </a:cubicBezTo>
                <a:cubicBezTo>
                  <a:pt x="601" y="1561"/>
                  <a:pt x="853" y="1540"/>
                  <a:pt x="853" y="1540"/>
                </a:cubicBezTo>
                <a:cubicBezTo>
                  <a:pt x="1228" y="1561"/>
                  <a:pt x="1235" y="1474"/>
                  <a:pt x="1382" y="1693"/>
                </a:cubicBezTo>
                <a:cubicBezTo>
                  <a:pt x="1454" y="2190"/>
                  <a:pt x="1394" y="1721"/>
                  <a:pt x="1418" y="2822"/>
                </a:cubicBezTo>
                <a:cubicBezTo>
                  <a:pt x="1420" y="2911"/>
                  <a:pt x="1501" y="3026"/>
                  <a:pt x="1594" y="3045"/>
                </a:cubicBezTo>
                <a:cubicBezTo>
                  <a:pt x="1648" y="3056"/>
                  <a:pt x="1704" y="3053"/>
                  <a:pt x="1759" y="3057"/>
                </a:cubicBezTo>
                <a:cubicBezTo>
                  <a:pt x="2027" y="3042"/>
                  <a:pt x="2272" y="2988"/>
                  <a:pt x="2534" y="2927"/>
                </a:cubicBezTo>
                <a:cubicBezTo>
                  <a:pt x="2686" y="2816"/>
                  <a:pt x="2893" y="2687"/>
                  <a:pt x="3005" y="2528"/>
                </a:cubicBezTo>
                <a:cubicBezTo>
                  <a:pt x="3044" y="2473"/>
                  <a:pt x="3052" y="2403"/>
                  <a:pt x="3075" y="2340"/>
                </a:cubicBezTo>
                <a:cubicBezTo>
                  <a:pt x="3091" y="2222"/>
                  <a:pt x="3141" y="2104"/>
                  <a:pt x="3122" y="1987"/>
                </a:cubicBezTo>
                <a:cubicBezTo>
                  <a:pt x="3056" y="1585"/>
                  <a:pt x="2936" y="1201"/>
                  <a:pt x="2817" y="812"/>
                </a:cubicBezTo>
                <a:cubicBezTo>
                  <a:pt x="2695" y="411"/>
                  <a:pt x="2816" y="788"/>
                  <a:pt x="2581" y="365"/>
                </a:cubicBezTo>
                <a:cubicBezTo>
                  <a:pt x="2549" y="307"/>
                  <a:pt x="2556" y="227"/>
                  <a:pt x="2511" y="177"/>
                </a:cubicBezTo>
                <a:cubicBezTo>
                  <a:pt x="2471" y="133"/>
                  <a:pt x="2401" y="130"/>
                  <a:pt x="2346" y="106"/>
                </a:cubicBezTo>
                <a:cubicBezTo>
                  <a:pt x="2275" y="33"/>
                  <a:pt x="2252" y="32"/>
                  <a:pt x="2158" y="0"/>
                </a:cubicBezTo>
                <a:cubicBezTo>
                  <a:pt x="1828" y="39"/>
                  <a:pt x="1537" y="96"/>
                  <a:pt x="1218" y="189"/>
                </a:cubicBezTo>
                <a:cubicBezTo>
                  <a:pt x="1106" y="281"/>
                  <a:pt x="1025" y="377"/>
                  <a:pt x="959" y="506"/>
                </a:cubicBezTo>
                <a:cubicBezTo>
                  <a:pt x="933" y="672"/>
                  <a:pt x="921" y="832"/>
                  <a:pt x="912" y="1000"/>
                </a:cubicBezTo>
                <a:cubicBezTo>
                  <a:pt x="917" y="1177"/>
                  <a:pt x="895" y="1532"/>
                  <a:pt x="983" y="1728"/>
                </a:cubicBezTo>
                <a:cubicBezTo>
                  <a:pt x="1057" y="1892"/>
                  <a:pt x="1347" y="2236"/>
                  <a:pt x="1500" y="2340"/>
                </a:cubicBezTo>
                <a:cubicBezTo>
                  <a:pt x="1548" y="2373"/>
                  <a:pt x="1610" y="2379"/>
                  <a:pt x="1665" y="2398"/>
                </a:cubicBezTo>
                <a:cubicBezTo>
                  <a:pt x="1780" y="2514"/>
                  <a:pt x="1742" y="2463"/>
                  <a:pt x="1794" y="2540"/>
                </a:cubicBezTo>
                <a:cubicBezTo>
                  <a:pt x="1613" y="2631"/>
                  <a:pt x="1742" y="2580"/>
                  <a:pt x="1418" y="2610"/>
                </a:cubicBezTo>
                <a:cubicBezTo>
                  <a:pt x="1119" y="2637"/>
                  <a:pt x="824" y="2678"/>
                  <a:pt x="524" y="2692"/>
                </a:cubicBezTo>
                <a:cubicBezTo>
                  <a:pt x="481" y="2680"/>
                  <a:pt x="434" y="2679"/>
                  <a:pt x="395" y="2657"/>
                </a:cubicBezTo>
                <a:cubicBezTo>
                  <a:pt x="368" y="2642"/>
                  <a:pt x="346" y="2616"/>
                  <a:pt x="336" y="2587"/>
                </a:cubicBezTo>
                <a:cubicBezTo>
                  <a:pt x="254" y="2350"/>
                  <a:pt x="192" y="2086"/>
                  <a:pt x="160" y="1834"/>
                </a:cubicBezTo>
                <a:cubicBezTo>
                  <a:pt x="148" y="1740"/>
                  <a:pt x="144" y="1646"/>
                  <a:pt x="136" y="1552"/>
                </a:cubicBezTo>
                <a:cubicBezTo>
                  <a:pt x="144" y="1221"/>
                  <a:pt x="71" y="594"/>
                  <a:pt x="442" y="4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1" dur="1" fill="hold"/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040" y="0"/>
            <a:ext cx="8474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[1]</a:t>
            </a:r>
            <a:r>
              <a:rPr b="0" lang="zh-CN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贾生，指贾谊；宣室，未央宫的正殿。贾谊在汉文帝时担任朝官还很年轻，因一些建议触犯权臣，被放逐。文帝在宣室祭神后接见了他，问鬼神的本源，贾谊说得头头是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[2]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不问苍生问鬼神”，诗的矛头直指崇佛媚道、服药求仙、不顾民生、不任贤才的封建统治者，有讽有慨，寓慨于讽，并发出怀才不遇的深沉感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长沙过贾谊宅诗画欣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咏贾谊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毛泽东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6172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少年倜傥廓庙才，壮志未酬事堪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胸罗文章兵百万，胆照华国树千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雄英无计倾圣主，高节终竟受疑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古同惜长沙傅，空白汩罗步尘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3429000"/>
            <a:ext cx="54100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〔少年倜傥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tìtǎn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替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廊庙才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句是说，贾谊年少有才，豪爽洒脱，是国家的栋梁之材。据《汉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贾谊传》载，贾谊十八岁时，以能诵读诗书，善文章，为郡人所称；二十多岁任博士，一年之内超迁为太中大夫。廊庙，指朝廷。廊庙才，指才能和才气可任朝廷要职的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02:43:13Z</dcterms:created>
  <dc:creator/>
  <dc:description/>
  <dc:language>en-US</dc:language>
  <cp:lastModifiedBy>T5810D</cp:lastModifiedBy>
  <dcterms:modified xsi:type="dcterms:W3CDTF">2005-06-24T12:02:39Z</dcterms:modified>
  <cp:revision>77</cp:revision>
  <dc:subject/>
  <dc:title>过秦论</dc:title>
</cp:coreProperties>
</file>