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217-92AC-47AD-8CE8-A321BC9F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1D0-E9CA-4065-8C80-B820B997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FC1-DE6B-4242-9952-3708DE3B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043-FE1E-4490-A73D-2BCEF803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FF98-53E6-4350-A9B5-4525A420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C54E-A52C-41AB-9FC8-E463EC35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B955-17A8-4066-AC38-C4D41FDB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3031-D38B-4FD9-809C-BEB2E859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1C3D-0539-42F8-9713-D0203B4D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EF1D-C3BE-465A-B8E8-3A79AFE3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91B2-F193-41EF-93E1-B24CDDC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A08-38AD-462A-86E0-8FB5CC9C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F23D-46C1-43CC-81EC-F40B2888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B236-FB6A-4CC4-8476-A3A91719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B05F-E801-4C48-A665-FE00056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856-B825-4D73-94B4-012F2154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70A9-3CD4-49D9-ACF2-897AE5C7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B01-CCB2-4ABD-AEA5-E8BADEA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EDF-F1AD-4C88-A69B-564A394C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194C-0898-491B-A180-02CA6BA0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681-2562-4BFA-9042-2E6CF89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AD6B-CE8D-49F6-9F31-2EAD189B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0BC-27CE-49FA-8C7A-A1CFBBC6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CF5F-1ACC-4989-A09D-B2EB5B52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FFDD-5618-4374-B4FD-9ADBEDAE95E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8005-0D8E-4009-9E54-B7C5C99D1B9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6920" y="115920"/>
            <a:ext cx="750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9600" spc="-1" strike="noStrike">
                <a:solidFill>
                  <a:srgbClr val="cc0000"/>
                </a:solidFill>
                <a:latin typeface="方正姚体"/>
                <a:ea typeface="隶书"/>
              </a:rPr>
              <a:t>过    秦    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26370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ff"/>
                </a:solidFill>
                <a:latin typeface="Times New Roman"/>
                <a:ea typeface="隶书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贾  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8243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5322960"/>
            <a:ext cx="8153640" cy="914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21034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413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实质：执敲扑而鞭笞天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12952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04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0720" y="189000"/>
            <a:ext cx="8153640" cy="792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258920" y="1628640"/>
            <a:ext cx="73080" cy="2737080"/>
          </a:xfrm>
          <a:custGeom>
            <a:avLst/>
            <a:gdLst>
              <a:gd name="textAreaLeft" fmla="*/ 21240 w 73080"/>
              <a:gd name="textAreaRight" fmla="*/ 73440 w 73080"/>
              <a:gd name="textAreaTop" fmla="*/ 113760 h 2737080"/>
              <a:gd name="textAreaBottom" fmla="*/ 262332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03280" y="3213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对内：焚百家；杀豪杰，弱人民；严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4005360"/>
            <a:ext cx="51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据高城；临深渊；守要害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3" action="ppaction://hlinksldjump"/>
          </p:cNvPr>
          <p:cNvSpPr/>
          <p:nvPr/>
        </p:nvSpPr>
        <p:spPr>
          <a:xfrm>
            <a:off x="8458200" y="6248520"/>
            <a:ext cx="152280" cy="7596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54450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53880" y="2276640"/>
            <a:ext cx="46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对外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: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南取百越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北筑长城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却匈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11280" y="1197000"/>
            <a:ext cx="7993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及至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始皇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世之余烈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策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吞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周而亡诸侯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履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至尊而制六合，执敲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鞭笞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下，威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海。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百越之地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林、象郡；百越之君，俯首系颈，委命下吏。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蒙恬北筑长城而守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黑体"/>
                <a:ea typeface="黑体"/>
              </a:rPr>
              <a:t>藩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匈奴七百余里；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不敢南下而牧马，士不敢弯弓而报怨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76500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同义复词，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9079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发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508720" y="83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举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765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驾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87640" y="220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通“震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22050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向南，名作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227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以之为，把……划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35002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使……退却，使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3429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比喻边疆上的屏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11640" y="155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2560" y="1052640"/>
            <a:ext cx="79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是废先王之道，焚百家之言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以愚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黔首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隳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，杀豪杰；收天下之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聚之咸阳，销锋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铸以为金人十二，以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下之民。然后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河为池，据亿丈之城，临不测之渊，以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固。良将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劲弩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守要害之处，信臣精卒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陈利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何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天下已定，始皇之心，自以为关中之固，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千里，子孙帝王万世之业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24360" y="692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目的连词，用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5636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形作使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7398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毁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14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兵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206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使动</a:t>
            </a: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使……削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3640" y="206064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登，引申为依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708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凭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436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通“呵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40720" y="39798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坚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90720" y="1371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619280" y="1052640"/>
          <a:ext cx="6357960" cy="4071960"/>
        </p:xfrm>
        <a:graphic>
          <a:graphicData uri="http://schemas.openxmlformats.org/drawingml/2006/table">
            <a:tbl>
              <a:tblPr/>
              <a:tblGrid>
                <a:gridCol w="838080"/>
                <a:gridCol w="1252800"/>
                <a:gridCol w="1143000"/>
                <a:gridCol w="1066680"/>
                <a:gridCol w="990720"/>
                <a:gridCol w="106668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地位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出身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军队数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军队素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武器状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地理条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陈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秦始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0720" y="1371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44560" y="1341360"/>
          <a:ext cx="7543800" cy="4071600"/>
        </p:xfrm>
        <a:graphic>
          <a:graphicData uri="http://schemas.openxmlformats.org/drawingml/2006/table">
            <a:tbl>
              <a:tblPr/>
              <a:tblGrid>
                <a:gridCol w="774720"/>
                <a:gridCol w="2349360"/>
                <a:gridCol w="1143000"/>
                <a:gridCol w="1143000"/>
                <a:gridCol w="1143000"/>
                <a:gridCol w="990720"/>
              </a:tblGrid>
              <a:tr h="136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      </a:t>
                      </a: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地位</a:t>
                      </a: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/</a:t>
                      </a: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出身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军队数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军队素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武器状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地理条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陈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秦始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      </a:t>
                      </a: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至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   </a:t>
                      </a: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诸侯之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万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良将信臣精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劲弩利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亿丈城不测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90720" y="13716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73280" y="1197000"/>
          <a:ext cx="7543800" cy="4048200"/>
        </p:xfrm>
        <a:graphic>
          <a:graphicData uri="http://schemas.openxmlformats.org/drawingml/2006/table">
            <a:tbl>
              <a:tblPr/>
              <a:tblGrid>
                <a:gridCol w="774360"/>
                <a:gridCol w="2349720"/>
                <a:gridCol w="1143000"/>
                <a:gridCol w="1143000"/>
                <a:gridCol w="1143000"/>
                <a:gridCol w="990720"/>
              </a:tblGrid>
              <a:tr h="136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      </a:t>
                      </a: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地位</a:t>
                      </a: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/</a:t>
                      </a: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出身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军队数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军队素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武器状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地理条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陈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Arial"/>
                          <a:ea typeface="幼圆"/>
                        </a:rPr>
                        <a:t>瓮牖绳枢之子甿隶之人              迁徙之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Arial"/>
                          <a:ea typeface="幼圆"/>
                        </a:rPr>
                        <a:t>数百之众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Arial"/>
                          <a:ea typeface="幼圆"/>
                        </a:rPr>
                        <a:t>疲弊之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Arial"/>
                          <a:ea typeface="幼圆"/>
                        </a:rPr>
                        <a:t>斩木为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Arial"/>
                          <a:ea typeface="幼圆"/>
                        </a:rPr>
                        <a:t>阡陌之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秦始皇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6633"/>
                          </a:solidFill>
                          <a:latin typeface="Arial"/>
                          <a:ea typeface="幼圆"/>
                        </a:rPr>
                        <a:t>      </a:t>
                      </a: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至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   </a:t>
                      </a: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诸侯之家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万乘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良将信臣精卒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劲弩利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ff"/>
                          </a:solidFill>
                          <a:latin typeface="Arial"/>
                          <a:ea typeface="幼圆"/>
                        </a:rPr>
                        <a:t>亿丈城不测渊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28720" y="1413000"/>
            <a:ext cx="770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始皇既没，余威震于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殊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然陈涉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瓮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牖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绳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子，氓隶之人，而迁徙之徒也；才能不及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非有仲尼、墨翟之贤，陶朱、猗顿之富；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足行伍之间，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阡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中，率疲弊之卒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数百之众，转而攻秦；斩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竿为旗，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集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应，赢粮而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。山东豪俊遂并起而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秦族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32000" y="3068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通“崛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3716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树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3716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兵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56360" y="3716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举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2720" y="4340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名作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43401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像回声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43401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像影子一样，名作状，通“影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981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不同的风俗，指边远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30430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田野，民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55640" y="1197000"/>
            <a:ext cx="7993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且夫天下非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小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，雍州之地，殽函之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若也。陈涉之位，非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尊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于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齐、楚、燕、赵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韩、魏、宋、卫、中山之君也；锄耰棘矜，非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钩戟长铩也；谪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非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九国之师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谋远虑，行军用兵之道，非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向时之士也。然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败异变，功业相反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40000" y="836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形作动，变小变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155736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介词，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155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885080" y="213372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锋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11640" y="285264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兵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55640" y="126828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试使山东之国与陈涉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度长絜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比权量力，则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可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同年而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矣。然秦以区区之地，致万乘之势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序八州而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同列，百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余年矣；然后以六合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家，崤函为宫；一夫作难而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Times New Roman"/>
                <a:ea typeface="黑体"/>
              </a:rPr>
              <a:t>七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隳，身死</a:t>
            </a:r>
            <a:r>
              <a:rPr b="0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人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为天下笑者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何也？</a:t>
            </a:r>
            <a:r>
              <a:rPr b="0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仁义不施而攻守之势异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67280" y="234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通“又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2276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使动，使……朝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62120" y="175248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7524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-36360" y="6237360"/>
            <a:ext cx="9144000" cy="382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08000" y="-27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幼圆"/>
              </a:rPr>
              <a:t>总结全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4479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幼圆"/>
              </a:rPr>
              <a:t>秦创业——雄心勃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2286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幼圆"/>
              </a:rPr>
              <a:t>秦日盛——所向披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3124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幼圆"/>
              </a:rPr>
              <a:t>秦统一——势如破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8862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幼圆"/>
              </a:rPr>
              <a:t>秦灭亡——一败涂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828800"/>
            <a:ext cx="75960" cy="2362320"/>
          </a:xfrm>
          <a:custGeom>
            <a:avLst/>
            <a:gdLst>
              <a:gd name="textAreaLeft" fmla="*/ 0 w 75960"/>
              <a:gd name="textAreaRight" fmla="*/ 53280 w 7596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8195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24382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秦教训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不施仁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48006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  <a:ea typeface="隶书"/>
              </a:rPr>
              <a:t>（叙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00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隶书"/>
              </a:rPr>
              <a:t>（议论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657600" y="4114800"/>
            <a:ext cx="50292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仁义不施而攻守之势异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2" name=""/>
          <p:cNvSpPr/>
          <p:nvPr/>
        </p:nvSpPr>
        <p:spPr>
          <a:xfrm>
            <a:off x="974880" y="4460760"/>
            <a:ext cx="131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68360" y="692280"/>
            <a:ext cx="79056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论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284720" y="765000"/>
            <a:ext cx="9144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论点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9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1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048120"/>
            <a:ext cx="3124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《过秦论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内容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2438280"/>
            <a:ext cx="312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兴亡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4800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析原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141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3581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81680" y="60948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崛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274320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b812f"/>
          </a:soli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1828800"/>
            <a:ext cx="75960" cy="1981080"/>
          </a:xfrm>
          <a:custGeom>
            <a:avLst/>
            <a:gdLst>
              <a:gd name="textAreaLeft" fmla="*/ 22320 w 75960"/>
              <a:gd name="textAreaRight" fmla="*/ 76320 w 759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b812f"/>
          </a:soli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990720"/>
            <a:ext cx="75960" cy="1447560"/>
          </a:xfrm>
          <a:custGeom>
            <a:avLst/>
            <a:gdLst>
              <a:gd name="textAreaLeft" fmla="*/ 22320 w 75960"/>
              <a:gd name="textAreaRight" fmla="*/ 76320 w 75960"/>
              <a:gd name="textAreaTop" fmla="*/ 60120 h 1447560"/>
              <a:gd name="textAreaBottom" fmla="*/ 138744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b812f"/>
          </a:solidFill>
          <a:ln w="9360">
            <a:solidFill>
              <a:srgbClr val="3b81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3581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72200" y="228600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136000" y="1484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01080" y="2349360"/>
            <a:ext cx="7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4724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仁义不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-3636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  <a:ea typeface="华文行楷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练习：判断正误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(1)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《过秦论》的作者是东汉贾谊。过，这里是动词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(2).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外连衡而斗诸侯”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译为“对外取用连横的策略使诸侯自相争斗。”其中“外”与“斗”都是名词活用做状语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(3)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《过秦论》的中心论点是全文最后一句“仁义不施而攻守之势异也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.”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(4).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身死人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为天下笑者”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句中的“为”表被动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,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华文行楷"/>
              </a:rPr>
              <a:t>然后以六合为家”句中的“为”是“变为”、“当作”的意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14920" y="134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8360" y="29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990720"/>
            <a:ext cx="8305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1" y="244"/>
                </a:ln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600" y="353880"/>
            <a:ext cx="9113760" cy="6139080"/>
          </a:xfrm>
          <a:custGeom>
            <a:avLst/>
            <a:gdLst/>
            <a:ahLst/>
            <a:rect l="l" t="t" r="r" b="b"/>
            <a:pathLst>
              <a:path w="5741" h="7735">
                <a:moveTo>
                  <a:pt x="142" y="0"/>
                </a:moveTo>
                <a:lnTo>
                  <a:pt x="5599" y="0"/>
                </a:lnTo>
                <a:lnTo>
                  <a:pt x="5741" y="149"/>
                </a:lnTo>
                <a:lnTo>
                  <a:pt x="5741" y="7584"/>
                </a:lnTo>
                <a:lnTo>
                  <a:pt x="5599" y="7735"/>
                </a:lnTo>
                <a:lnTo>
                  <a:pt x="142" y="7735"/>
                </a:lnTo>
                <a:lnTo>
                  <a:pt x="0" y="7584"/>
                </a:lnTo>
                <a:lnTo>
                  <a:pt x="0" y="149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108000" y="2871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崛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19731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隶书"/>
                <a:ea typeface="隶书"/>
              </a:rPr>
              <a:t>地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08160" y="19731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据……固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拥……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08160" y="3573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君臣固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44337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隶书"/>
                <a:ea typeface="隶书"/>
              </a:rPr>
              <a:t>政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08160" y="443376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内……；外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5760" y="2492280"/>
            <a:ext cx="9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成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83640" y="272268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拱手而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351160"/>
            <a:ext cx="73080" cy="2590560"/>
          </a:xfrm>
          <a:custGeom>
            <a:avLst/>
            <a:gdLst>
              <a:gd name="textAreaLeft" fmla="*/ 21240 w 73080"/>
              <a:gd name="textAreaRight" fmla="*/ 73440 w 73080"/>
              <a:gd name="textAreaTop" fmla="*/ 107640 h 2590560"/>
              <a:gd name="textAreaBottom" fmla="*/ 24829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80160" y="32050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451640" y="4653000"/>
            <a:ext cx="1465200" cy="1676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32000" y="35733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隶书"/>
                <a:ea typeface="隶书"/>
              </a:rPr>
              <a:t>人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86064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98680" y="227808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8680" y="466236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285264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隶书"/>
                <a:ea typeface="隶书"/>
              </a:rPr>
              <a:t>席卷；包举；囊括；并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32000" y="27813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隶书"/>
                <a:ea typeface="隶书"/>
              </a:rPr>
              <a:t>雄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70320" y="308628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1501920"/>
            <a:ext cx="8435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孝公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据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崤函之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拥雍州之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君臣固守以窥周室，有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席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卷天下，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包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举宇内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括四海之意，并吞八荒之心。当是时也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商君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佐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，</a:t>
            </a:r>
            <a:r>
              <a:rPr b="0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内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立法度，务耕织，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修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守战之具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连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衡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0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斗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诸侯。于是秦人</a:t>
            </a:r>
            <a:r>
              <a:rPr b="0" lang="zh-CN" sz="3200" spc="-1" strike="noStrike" u="sng">
                <a:solidFill>
                  <a:srgbClr val="ff5050"/>
                </a:solidFill>
                <a:uFillTx/>
                <a:latin typeface="黑体"/>
                <a:ea typeface="黑体"/>
              </a:rPr>
              <a:t>拱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取西</a:t>
            </a:r>
            <a:r>
              <a:rPr b="0" lang="zh-CN" sz="3200" spc="-1" strike="noStrike">
                <a:solidFill>
                  <a:srgbClr val="ff5050"/>
                </a:solidFill>
                <a:latin typeface="黑体"/>
                <a:ea typeface="黑体"/>
              </a:rPr>
              <a:t>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110016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险固地势</a:t>
            </a: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形容词作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48000" y="1959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名词作状语，像席子一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6240" y="414972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通“横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5640" y="1125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占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42900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辅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34290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修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298440"/>
            <a:ext cx="4302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33"/>
                </a:solidFill>
                <a:latin typeface="Garamond"/>
              </a:rPr>
              <a:t>1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342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在国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414972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使……争斗，使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92720" y="414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夸张的修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149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黄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8000" y="21924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发 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08200" y="11253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Times New Roman"/>
                <a:ea typeface="隶书"/>
              </a:rPr>
              <a:t>秦：南取、西举、东割、北收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3b812f"/>
                </a:solidFill>
                <a:latin typeface="Times New Roman"/>
                <a:ea typeface="隶书"/>
              </a:rPr>
              <a:t>宰割、分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654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94400" y="1752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60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31880" y="34876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隶书"/>
                <a:ea typeface="隶书"/>
              </a:rPr>
              <a:t>诸侯：才多、地广、师众、惨败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3b812f"/>
                </a:solidFill>
                <a:latin typeface="隶书"/>
                <a:ea typeface="隶书"/>
              </a:rPr>
              <a:t>请服，请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9600" y="1353960"/>
            <a:ext cx="76320" cy="2362320"/>
          </a:xfrm>
          <a:custGeom>
            <a:avLst/>
            <a:gdLst>
              <a:gd name="textAreaLeft" fmla="*/ 22320 w 76320"/>
              <a:gd name="textAreaRight" fmla="*/ 76320 w 763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020000" y="4508640"/>
            <a:ext cx="12366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反衬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33320" y="2203560"/>
            <a:ext cx="8159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孝公既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惠文、武、昭襄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蒙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故业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取汉中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西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举巴、蜀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割膏腴之地，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要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57680" y="1844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继承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97680" y="1844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沿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00" y="25304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名作状：向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60600" y="1909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通“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68360" y="1349280"/>
            <a:ext cx="8280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诸侯恐惧，会盟而谋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秦，不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珍器重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肥饶之地，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以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致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下之士，合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从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缔交，相与为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此之时，齐有孟尝，赵有平原，楚有春申，魏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信陵。此四君者，皆明智而忠信，宽厚而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爱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贤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重士，约从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离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衡，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韩、魏、燕、楚、齐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赵、宋、卫、中山之众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9558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形容词使动用法：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削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0526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吝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1700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招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86280" y="1730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通 “纵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00360" y="364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使</a:t>
            </a:r>
            <a:r>
              <a:rPr b="1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……离散，</a:t>
            </a: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使动用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17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连词，用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2997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爱护别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4365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同时掌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364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贤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95280" y="907920"/>
            <a:ext cx="8534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于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国之士，有宁越、徐尚、苏秦、杜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之属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之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齐明、周最、陈轸、召滑、楼缓、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景、苏厉、乐毅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之徒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意；吴起、孙膑、带佗、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良、王瘳、田忌、廉颇、赵奢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之伦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兵。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十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地，百万之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叩关而攻秦。秦人开关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延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敌，九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师，逡巡而不敢进。秦无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黑体"/>
                <a:ea typeface="黑体"/>
              </a:rPr>
              <a:t>亡矢遗镞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费，而天下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侯已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矣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13240" y="18921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沟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33920" y="25401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统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88000" y="3213000"/>
            <a:ext cx="23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迎接，指迎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5680" y="3174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军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450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疲惫不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62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在这时，介词短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126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出谋划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93080" y="2565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曾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1413000"/>
            <a:ext cx="8001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是从散约败，争割地而赂秦。秦有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力而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制其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追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逐</a:t>
            </a: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北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黑体"/>
                <a:ea typeface="黑体"/>
              </a:rPr>
              <a:t>伏尸百万，流血漂橹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利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乘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便，宰割天下，分裂山河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强国请服，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入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延及孝文王、庄襄王，享国之日浅，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无</a:t>
            </a:r>
            <a:r>
              <a:rPr b="0" lang="zh-CN" sz="2800" spc="-1" strike="noStrike">
                <a:solidFill>
                  <a:srgbClr val="ff5050"/>
                </a:solidFill>
                <a:latin typeface="黑体"/>
                <a:ea typeface="黑体"/>
              </a:rPr>
              <a:t>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00360" y="179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动作名：逃亡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58920" y="37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战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2421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形作名，有利形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306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b812f"/>
                </a:solidFill>
                <a:latin typeface="黑体"/>
                <a:ea typeface="黑体"/>
              </a:rPr>
              <a:t>动词，朝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2:23:39Z</dcterms:created>
  <dc:creator/>
  <dc:description/>
  <dc:language>en-US</dc:language>
  <cp:lastModifiedBy>hello</cp:lastModifiedBy>
  <dcterms:modified xsi:type="dcterms:W3CDTF">2005-03-04T13:48:58Z</dcterms:modified>
  <cp:revision>39</cp:revision>
  <dc:subject/>
  <dc:title>PowerPoint 演示文稿</dc:title>
</cp:coreProperties>
</file>