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gif" ContentType="image/gif"/>
  <Override PartName="/ppt/media/projctor.wav" ContentType="audio/x-wav"/>
  <Override PartName="/ppt/media/image8.wmf" ContentType="image/x-wmf"/>
  <Override PartName="/ppt/media/image6.gif" ContentType="image/gif"/>
  <Override PartName="/ppt/media/image7.gif" ContentType="image/gif"/>
  <Override PartName="/ppt/media/explod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E0FE-BED0-49E6-A94A-C2E27D95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D99-A3A5-4B89-8179-374A3960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F911-789A-4962-9008-7BFF5444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5C0F-164C-4C4A-9BE2-5D0B21BE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DB8-9AF6-4693-95CA-4968ADE6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B62-F9A3-4BF8-BCD5-A998CF31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B7A5-084F-4302-B978-7EE88A70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061-79E2-494E-B548-F6B62ADE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DB51-AFBB-42C4-B43C-6789443E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8E73-605D-45EB-BA08-FE76A4AC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E5D-C475-4599-9F44-1CE0D4D6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CB9A-097C-45D0-B3FD-0D62C998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98D6-5DFA-4F88-9361-25A1F2E0C9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audio" Target="../media/explode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4200"/>
            <a:ext cx="777240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66"/>
                </a:solidFill>
                <a:latin typeface="华文新魏"/>
                <a:ea typeface="华文新魏"/>
              </a:rPr>
              <a:t>祝      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鲁  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-34920" y="-264960"/>
            <a:ext cx="8925840" cy="6743160"/>
            <a:chOff x="-34920" y="-264960"/>
            <a:chExt cx="8925840" cy="6743160"/>
          </a:xfrm>
        </p:grpSpPr>
        <p:grpSp>
          <p:nvGrpSpPr>
            <p:cNvPr id="44" name=""/>
            <p:cNvGrpSpPr/>
            <p:nvPr/>
          </p:nvGrpSpPr>
          <p:grpSpPr>
            <a:xfrm>
              <a:off x="-34920" y="-264960"/>
              <a:ext cx="8925840" cy="6743160"/>
              <a:chOff x="-34920" y="-264960"/>
              <a:chExt cx="8925840" cy="6743160"/>
            </a:xfrm>
          </p:grpSpPr>
          <p:sp>
            <p:nvSpPr>
              <p:cNvPr id="45" name=""/>
              <p:cNvSpPr/>
              <p:nvPr/>
            </p:nvSpPr>
            <p:spPr>
              <a:xfrm>
                <a:off x="493920" y="-113760"/>
                <a:ext cx="839700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61960" y="381384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1114200" y="1227960"/>
              <a:ext cx="7742520" cy="4800240"/>
              <a:chOff x="1114200" y="1227960"/>
              <a:chExt cx="7742520" cy="4800240"/>
            </a:xfrm>
          </p:grpSpPr>
          <p:sp>
            <p:nvSpPr>
              <p:cNvPr id="48" name=""/>
              <p:cNvSpPr/>
              <p:nvPr/>
            </p:nvSpPr>
            <p:spPr>
              <a:xfrm>
                <a:off x="1114200" y="122796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114200" y="145656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114200" y="168480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14200" y="191340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114200" y="214236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114200" y="237060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114200" y="259920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114200" y="282816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114200" y="305640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200" y="328500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14200" y="351360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14200" y="374220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14200" y="397080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14200" y="419940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14200" y="442800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14200" y="465660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14200" y="488520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14200" y="511380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14200" y="534240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14200" y="557100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14200" y="579960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114200" y="602820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"/>
          <p:cNvSpPr/>
          <p:nvPr/>
        </p:nvSpPr>
        <p:spPr>
          <a:xfrm>
            <a:off x="1031760" y="84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31760" y="145584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94280" y="145584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祝福1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-900000" y="-631800"/>
            <a:ext cx="10729800" cy="74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55308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B57C-5C2A-4A07-9990-46BB7A92E24C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ˎ̥"/>
              </a:rPr>
              <a:t>&lt;number&gt;</a:t>
            </a:fld>
            <a:r>
              <a:rPr b="0" lang="zh-CN" sz="1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2411280" y="2781360"/>
            <a:ext cx="4392720" cy="1361880"/>
          </a:xfrm>
          <a:prstGeom prst="ellipse">
            <a:avLst/>
          </a:prstGeom>
          <a:solidFill>
            <a:srgbClr val="99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祥林嫂的形象及社会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63520" y="2057400"/>
            <a:ext cx="1752840" cy="914400"/>
          </a:xfrm>
          <a:prstGeom prst="rect">
            <a:avLst/>
          </a:prstGeom>
          <a:solidFill>
            <a:srgbClr val="b7f8a0"/>
          </a:solidFill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模样周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健壮耐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1052640"/>
            <a:ext cx="1752480" cy="990360"/>
          </a:xfrm>
          <a:prstGeom prst="rect">
            <a:avLst/>
          </a:prstGeom>
          <a:solidFill>
            <a:srgbClr val="b7f8a0"/>
          </a:solidFill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被迫改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强烈反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1989000"/>
            <a:ext cx="1752480" cy="990720"/>
          </a:xfrm>
          <a:prstGeom prst="rect">
            <a:avLst/>
          </a:prstGeom>
          <a:solidFill>
            <a:srgbClr val="b7f8a0"/>
          </a:solidFill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家破人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走投无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0240" y="4191120"/>
            <a:ext cx="1752480" cy="990360"/>
          </a:xfrm>
          <a:prstGeom prst="rect">
            <a:avLst/>
          </a:prstGeom>
          <a:solidFill>
            <a:srgbClr val="b7f8a0"/>
          </a:solidFill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失魂落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沦为乞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71880" y="5030640"/>
            <a:ext cx="1752480" cy="990720"/>
          </a:xfrm>
          <a:prstGeom prst="rect">
            <a:avLst/>
          </a:prstGeom>
          <a:solidFill>
            <a:srgbClr val="b7f8a0"/>
          </a:solidFill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活不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死不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90440" y="4149720"/>
            <a:ext cx="1752840" cy="990720"/>
          </a:xfrm>
          <a:prstGeom prst="rect">
            <a:avLst/>
          </a:prstGeom>
          <a:solidFill>
            <a:srgbClr val="b7f8a0"/>
          </a:solidFill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惨死雪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横遭辱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56000" y="1484280"/>
            <a:ext cx="122400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24360" y="1341360"/>
            <a:ext cx="1309680" cy="536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8036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24360" y="5229360"/>
            <a:ext cx="122400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819160" y="4800240"/>
            <a:ext cx="9903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39384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58c81"/>
                </a:solidFill>
                <a:latin typeface="Tahoma"/>
                <a:ea typeface="华文新魏"/>
              </a:rPr>
              <a:t>图解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7621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这篇小说的叙述的时间跨度有多大？具体地写了哪几个地点？作者是如何安排的，请找出相关语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200400"/>
            <a:ext cx="88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四十上下－－二十六七－－十四年左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11480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鲁镇    卫家山    贺家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49528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浓缩在旧历的年底的鲁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9640" y="1211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347200"/>
            <a:ext cx="82818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33"/>
                </a:solidFill>
                <a:latin typeface="隶书"/>
                <a:ea typeface="隶书"/>
              </a:rPr>
              <a:t>    </a:t>
            </a:r>
            <a:r>
              <a:rPr b="0" lang="zh-CN" sz="6600" spc="-1" strike="noStrike">
                <a:solidFill>
                  <a:srgbClr val="990033"/>
                </a:solidFill>
                <a:latin typeface="隶书"/>
                <a:ea typeface="隶书"/>
              </a:rPr>
              <a:t>要极俭省地画出一个人的特点，最好是画出他的眼睛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0033"/>
                </a:solidFill>
                <a:latin typeface="隶书"/>
                <a:ea typeface="隶书"/>
              </a:rPr>
              <a:t>       </a:t>
            </a:r>
            <a:r>
              <a:rPr b="0" lang="zh-CN" sz="5400" spc="-1" strike="noStrike">
                <a:solidFill>
                  <a:srgbClr val="990033"/>
                </a:solidFill>
                <a:latin typeface="隶书"/>
                <a:ea typeface="隶书"/>
              </a:rPr>
              <a:t>— </a:t>
            </a:r>
            <a:r>
              <a:rPr b="0" lang="zh-CN" sz="5400" spc="-1" strike="noStrike">
                <a:solidFill>
                  <a:srgbClr val="990033"/>
                </a:solidFill>
                <a:latin typeface="隶书"/>
                <a:ea typeface="隶书"/>
              </a:rPr>
              <a:t>鲁迅</a:t>
            </a:r>
            <a:r>
              <a:rPr b="1" lang="zh-CN" sz="6600" spc="-1" strike="noStrike">
                <a:solidFill>
                  <a:srgbClr val="00f6f0"/>
                </a:solidFill>
                <a:latin typeface="方正舒体"/>
                <a:ea typeface="方正舒体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71640" y="-10008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0066"/>
                </a:solidFill>
                <a:uFillTx/>
                <a:latin typeface="隶书"/>
                <a:ea typeface="隶书"/>
              </a:rPr>
              <a:t>找</a:t>
            </a:r>
            <a:r>
              <a:rPr b="1" lang="zh-CN" sz="4800" spc="-1" strike="noStrike" u="sng">
                <a:solidFill>
                  <a:srgbClr val="ff0066"/>
                </a:solidFill>
                <a:uFillTx/>
                <a:latin typeface="华文中宋"/>
                <a:ea typeface="华文中宋"/>
              </a:rPr>
              <a:t> </a:t>
            </a:r>
            <a:r>
              <a:rPr b="1" lang="zh-CN" sz="4000" spc="-1" strike="noStrike" u="sng">
                <a:solidFill>
                  <a:srgbClr val="f58c81"/>
                </a:solidFill>
                <a:uFillTx/>
                <a:latin typeface="方正舒体"/>
                <a:ea typeface="方正舒体"/>
              </a:rPr>
              <a:t>眼睛</a:t>
            </a:r>
            <a:r>
              <a:rPr b="1" lang="zh-CN" sz="4000" spc="-1" strike="noStrike">
                <a:solidFill>
                  <a:srgbClr val="f58c81"/>
                </a:solidFill>
                <a:latin typeface="方正舒体"/>
                <a:ea typeface="方正舒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9810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初到鲁镇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6000" y="183024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到鲁镇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62260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讲阿毛故事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34146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捐门槛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42782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不让祝福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50706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    乞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58626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问有无灵魂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91360" y="980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行楷"/>
              </a:rPr>
              <a:t>顺着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31840" y="990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1320" y="166356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华文行楷"/>
                <a:ea typeface="华文行楷"/>
              </a:rPr>
              <a:t>顺着眼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华文行楷"/>
                <a:ea typeface="华文行楷"/>
              </a:rPr>
              <a:t>眼角带着泪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10080" y="1676520"/>
            <a:ext cx="3529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受打击，内心痛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27800" y="2674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行楷"/>
              </a:rPr>
              <a:t>直着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34146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行楷"/>
              </a:rPr>
              <a:t>分外有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11280" y="42782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行楷"/>
              </a:rPr>
              <a:t>失神、窈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50706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行楷"/>
              </a:rPr>
              <a:t>眼珠间或一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 rot="10885200">
            <a:off x="2841120" y="5934960"/>
            <a:ext cx="22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华文行楷"/>
              </a:rPr>
              <a:t>忽然发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22280" y="2689200"/>
            <a:ext cx="155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精神有些麻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56080" y="3486240"/>
            <a:ext cx="20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有希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72680" y="420516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受打击，绝望</a:t>
            </a:r>
            <a:r>
              <a:rPr b="0" lang="zh-CN" sz="2800" spc="-1" strike="noStrike">
                <a:solidFill>
                  <a:srgbClr val="1609c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78400" y="4997520"/>
            <a:ext cx="14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麻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292720" y="586260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丝希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24360" y="-100080"/>
            <a:ext cx="31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0066"/>
                </a:solidFill>
                <a:uFillTx/>
                <a:latin typeface="Tahoma"/>
                <a:ea typeface="隶书"/>
              </a:rPr>
              <a:t>析 </a:t>
            </a:r>
            <a:r>
              <a:rPr b="1" lang="zh-CN" sz="4400" spc="-1" strike="noStrike" u="sng">
                <a:solidFill>
                  <a:srgbClr val="f58c81"/>
                </a:solidFill>
                <a:uFillTx/>
                <a:latin typeface="Tahoma"/>
                <a:ea typeface="方正舒体"/>
              </a:rPr>
              <a:t>性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1268280"/>
            <a:ext cx="8353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楷体_GB2312"/>
              </a:rPr>
              <a:t>初到鲁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头上扎着白头绳，乌裙，蓝夹袄，月白背心，脸色青黄，但两颊还是红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楷体_GB2312"/>
              </a:rPr>
              <a:t>再到鲁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头上扎着白头绳，乌裙，蓝夹袄，月白背心，脸色青黄，只是两颊上已经消失了血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楷体_GB2312"/>
              </a:rPr>
              <a:t>临死之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五年前花白的头发，  即今已经全白；脸上瘦削不堪，黄中带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393840"/>
            <a:ext cx="511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16360" y="0"/>
            <a:ext cx="37432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外  貌  变  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0"/>
            <a:ext cx="30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58c81"/>
                </a:solidFill>
                <a:latin typeface="Tahoma"/>
                <a:ea typeface="方正舒体"/>
              </a:rPr>
              <a:t>看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7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2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260280"/>
            <a:ext cx="770400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0033"/>
                </a:solidFill>
                <a:latin typeface="Arial"/>
                <a:ea typeface="华文新魏"/>
              </a:rPr>
              <a:t>祥林嫂外貌描写作用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710320" y="1600200"/>
            <a:ext cx="3433680" cy="4876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8600" y="167652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用白描手法概括了祥林嫂半生悲惨的历史，通过鲜明的对照深刻揭露了封建礼教对劳动妇女的摧残和迫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9640" y="3645000"/>
            <a:ext cx="8353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共性—</a:t>
            </a:r>
            <a:r>
              <a:rPr b="1" lang="zh-CN" sz="4400" spc="-1" strike="noStrike">
                <a:solidFill>
                  <a:srgbClr val="990033"/>
                </a:solidFill>
                <a:latin typeface="华文新魏"/>
                <a:ea typeface="华文新魏"/>
              </a:rPr>
              <a:t>勤劳、善良、</a:t>
            </a:r>
            <a:r>
              <a:rPr b="1" lang="zh-CN" sz="4400" spc="-1" strike="noStrike">
                <a:solidFill>
                  <a:srgbClr val="990033"/>
                </a:solidFill>
                <a:latin typeface="Tahoma"/>
                <a:ea typeface="华文新魏"/>
              </a:rPr>
              <a:t>质朴、</a:t>
            </a:r>
            <a:r>
              <a:rPr b="1" lang="zh-CN" sz="4400" spc="-1" strike="noStrike">
                <a:solidFill>
                  <a:srgbClr val="990033"/>
                </a:solidFill>
                <a:latin typeface="华文新魏"/>
                <a:ea typeface="华文新魏"/>
              </a:rPr>
              <a:t>安分、         愚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性—</a:t>
            </a:r>
            <a:r>
              <a:rPr b="1" lang="zh-CN" sz="4400" spc="-1" strike="noStrike">
                <a:solidFill>
                  <a:srgbClr val="990033"/>
                </a:solidFill>
                <a:latin typeface="华文新魏"/>
                <a:ea typeface="华文新魏"/>
              </a:rPr>
              <a:t>顽强、倔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134136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Tahoma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990033"/>
                </a:solidFill>
                <a:latin typeface="Tahoma"/>
                <a:ea typeface="楷体_GB2312"/>
              </a:rPr>
              <a:t>祥林嫂是旧中国农村劳动妇女的典型，是一个被践踏、被迫害、被愚弄、被鄙视的小人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2860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典型意义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方正舒体"/>
                <a:ea typeface="方正舒体"/>
              </a:rPr>
              <a:t>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方正舒体"/>
                <a:ea typeface="方正舒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4000" y="125280"/>
            <a:ext cx="854064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善 良 的 祥 林 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685800"/>
            <a:ext cx="7345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20000"/>
              </a:lnSpc>
              <a:spcBef>
                <a:spcPts val="901"/>
              </a:spcBef>
              <a:buClr>
                <a:srgbClr val="99cc00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以为辛勤劳作能安心生存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20000"/>
              </a:lnSpc>
              <a:spcBef>
                <a:spcPts val="901"/>
              </a:spcBef>
              <a:buClr>
                <a:srgbClr val="99cc00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以为丧夫失子能博得同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120000"/>
              </a:lnSpc>
              <a:spcBef>
                <a:spcPts val="799"/>
              </a:spcBef>
              <a:buClr>
                <a:srgbClr val="99cc00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以为捐得门槛能减去罪孽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ˎ̥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4724280"/>
            <a:ext cx="8028000" cy="1312920"/>
          </a:xfrm>
          <a:prstGeom prst="rect">
            <a:avLst/>
          </a:prstGeom>
          <a:gradFill rotWithShape="0">
            <a:gsLst>
              <a:gs pos="0">
                <a:srgbClr val="ccecff">
                  <a:alpha val="40000"/>
                </a:srgbClr>
              </a:gs>
              <a:gs pos="100000">
                <a:srgbClr val="e4f4fe">
                  <a:alpha val="8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ˎ̥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悲剧人物要使人怜悯，最重要之点，性格必须善良。 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亚里士多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2895480"/>
            <a:ext cx="8618400" cy="1739880"/>
          </a:xfrm>
          <a:prstGeom prst="rect">
            <a:avLst/>
          </a:prstGeom>
          <a:gradFill rotWithShape="0">
            <a:gsLst>
              <a:gs pos="0">
                <a:srgbClr val="bbe0e3">
                  <a:alpha val="40000"/>
                </a:srgbClr>
              </a:gs>
              <a:gs pos="100000">
                <a:srgbClr val="dceef0">
                  <a:alpha val="8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旧中国人民的命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想做奴隶而不得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暂时做稳了奴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鲁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88880" y="1143000"/>
            <a:ext cx="865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祥林嫂是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楷体_GB2312"/>
              </a:rPr>
              <a:t>旧中国劳动妇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典型，她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楷体_GB2312"/>
              </a:rPr>
              <a:t>勤劳善良，朴实顽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但在封建礼教和封建思想占统治地位的旧社会，她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楷体_GB2312"/>
              </a:rPr>
              <a:t>被践踏、被迫害、被摧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以至被旧社会所吞噬。封建礼教对她的种种迫害，她曾不断地挣扎与反抗，最后还是被社会压垮了。祥林嫂的悲剧深刻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楷体_GB2312"/>
              </a:rPr>
              <a:t>揭示了旧社会封建礼教对劳动妇女的摧残和迫害，控诉了封建礼教吃人的本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67000" y="1522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归纳祥林嫂这一人物形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1560" y="966960"/>
            <a:ext cx="79423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476280"/>
            <a:ext cx="8351640" cy="6092640"/>
          </a:xfrm>
          <a:prstGeom prst="rect">
            <a:avLst/>
          </a:prstGeom>
          <a:gradFill rotWithShape="0">
            <a:gsLst>
              <a:gs pos="0">
                <a:srgbClr val="ccecff">
                  <a:alpha val="33333"/>
                </a:srgbClr>
              </a:gs>
              <a:gs pos="100000">
                <a:srgbClr val="c4e2f5">
                  <a:alpha val="6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990033"/>
                </a:solidFill>
                <a:latin typeface="Arial"/>
                <a:ea typeface="华文新魏"/>
              </a:rPr>
              <a:t>祥林嫂是非死不行的，同情她的人和冷酷的人，自私的人，是一样把她往死里赶，是一样使她精神上增加痛苦。</a:t>
            </a:r>
            <a:r>
              <a:rPr b="1" lang="zh-CN" sz="4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Arial"/>
                <a:ea typeface="ˎ̥"/>
              </a:rPr>
              <a:t>                        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  <a:ea typeface="华文行楷"/>
              </a:rPr>
              <a:t>——</a:t>
            </a:r>
            <a:r>
              <a:rPr b="1" lang="zh-CN" sz="4000" spc="-1" strike="noStrike">
                <a:solidFill>
                  <a:srgbClr val="990033"/>
                </a:solidFill>
                <a:latin typeface="Arial"/>
                <a:ea typeface="华文行楷"/>
              </a:rPr>
              <a:t>丁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鲁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1881__1936</a:t>
            </a: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 u="sng">
                <a:solidFill>
                  <a:srgbClr val="990033"/>
                </a:solidFill>
                <a:uFillTx/>
                <a:latin typeface="楷体_GB2312"/>
                <a:ea typeface="楷体_GB2312"/>
              </a:rPr>
              <a:t>伟大的文学家、思想家、革命家。原名周树人，字豫才，鲁迅是笔名。</a:t>
            </a: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1898</a:t>
            </a: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年离家到南京学习，</a:t>
            </a: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1902</a:t>
            </a: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年留学日本，</a:t>
            </a: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1909</a:t>
            </a: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年回国，</a:t>
            </a: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1918</a:t>
            </a: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月发表《狂人日记》，奠定了新文学运动的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438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主要作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048120"/>
            <a:ext cx="83822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小说集：《呐喊》《彷徨》《故事新编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散文集：《朝花夕拾》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;      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散文诗集：《野草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杂文集：《坟》《热风》《而已集》《三闲集》《二心集》《伪自由书》《准风月谈》《南腔北调集》《花边文学》《华盖集》《华盖集续编》《且介亭杂文》《且介亭杂文二集》《且介亭杂文末编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44960" y="914400"/>
            <a:ext cx="11552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方正隶书简体"/>
              </a:rPr>
              <a:t>导致祥林嫂悲剧的根源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7238880" cy="60958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381880" y="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 flipH="1">
            <a:off x="1547640" y="981000"/>
            <a:ext cx="74880" cy="5051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838080" y="6248520"/>
            <a:ext cx="822600" cy="609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  <a:ea typeface="楷体_GB2312"/>
              </a:rPr>
              <a:t>封建思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贞节。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从宋代起，中国封建社会走向衰落，封建思想趋于保守、僵化、反动，反映这种趋势的理学出现了，代表人是程颐、朱熹。理学口号是“存天理，灭人欲”。夫权自然是“天理”，而寡妇再嫁，就是以正常的“人欲”破坏了这个“天理”。理学提倡妇女守节，“饿死事小，失节事大”，寡妇再嫁当然不可以，就连未婚夫死了，也要为他守一辈子。最后更残忍地提出妇女要为死去的丈夫或未婚夫自杀殉死，并为这样的妇女立牌坊。封建思想已经发展到灭绝人性的地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封建思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秩序。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封建思想的核心是维护封建秩序，提倡“三纲五常”。“三纲”即“君为臣纲，父为子纲，夫为妻纲”。纲，是居于支配地位的意思，就是臣要绝对服从君，子要绝对服从父，妻要绝对服从夫，不能破坏尊卑秩序。“五常”，也叫“五伦”，是封建礼教所规定的君臣、父子、夫妻、兄弟、朋友之间的关系，即“父子有亲，君臣有义，夫妇有别，长幼有序，朋友有信”。封建礼教就是封建统治阶级为了维护封建等级制度，根据儒家思想制定的，以三纲五常为基本内容的封建礼法条规和道德标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封建思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妇女的三从四德。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封建秩序对妇女的压迫尤为深重。妇女没有人身权利，没有独立的社会地位。在家从父，出嫁从夫，夫死从子，即“三从”。违背了这一秩序的妇女都被视为“罪人”。“四德”指妇德、妇言、妇容、妇功，即妇女的思想品德、言语举止、仪容态度以及家务劳动都要严格遵守封建礼教的约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796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封建思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祭祀。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对祖先的崇拜也是封建文化思想的一个方面。血缘制也是封建秩序的重要组成部分。所以鲁四老爷对祭祀非常重视，像已经是“罪人”的祥林嫂，不配在仪式中扮演哪怕是最小的角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00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609c3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609c3"/>
                </a:solidFill>
                <a:latin typeface="华文新魏"/>
                <a:ea typeface="华文新魏"/>
              </a:rPr>
              <a:t>（</a:t>
            </a:r>
            <a:r>
              <a:rPr b="0" lang="zh-CN" sz="4000" spc="-1" strike="noStrike">
                <a:solidFill>
                  <a:srgbClr val="1609c3"/>
                </a:solidFill>
                <a:latin typeface="华文新魏"/>
                <a:ea typeface="华文新魏"/>
              </a:rPr>
              <a:t>1</a:t>
            </a:r>
            <a:r>
              <a:rPr b="0" lang="zh-CN" sz="4000" spc="-1" strike="noStrike">
                <a:solidFill>
                  <a:srgbClr val="1609c3"/>
                </a:solidFill>
                <a:latin typeface="华文新魏"/>
                <a:ea typeface="华文新魏"/>
              </a:rPr>
              <a:t>）祥林嫂之死的根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封建伦理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旧文化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609c3"/>
                </a:solidFill>
                <a:latin typeface="Arial"/>
              </a:rPr>
              <a:t>●</a:t>
            </a:r>
            <a:r>
              <a:rPr b="0" lang="zh-CN" sz="3600" spc="-1" strike="noStrike">
                <a:solidFill>
                  <a:srgbClr val="1609c3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1609c3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1609c3"/>
                </a:solidFill>
                <a:latin typeface="华文新魏"/>
                <a:ea typeface="华文新魏"/>
              </a:rPr>
              <a:t>）解救办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摧毁旧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否定旧文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2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2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000"/>
                            </p:stCondLst>
                            <p:childTnLst>
                              <p:par>
                                <p:cTn id="5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2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6000"/>
                            </p:stCondLst>
                            <p:childTnLst>
                              <p:par>
                                <p:cTn id="58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8000"/>
                            </p:stCondLst>
                            <p:childTnLst>
                              <p:par>
                                <p:cTn id="59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2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2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2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Arial"/>
                <a:ea typeface="楷体_GB2312"/>
              </a:rPr>
              <a:t>祥林嫂悲剧形成的主观原因：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138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贞节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祥林嫂是普通的农村妇女，但是却深受封建思想的节烈观的影响。可见封建思想对中国人的毒害多么深重，不仅在鲁四老爷这样保守的乡绅头脑中根深蒂固，而且深入到社会最底层。祥林嫂对再嫁反抗越激烈，说明她受的毒害越深。不仅世人认为祥林嫂再嫁是罪恶，就连她自己也一直以再嫁为耻，精神萎靡，心怀恐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77821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②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迷信思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迷信也同样毒害着祥林嫂的心灵。如果她没有再嫁的罪恶感，也许对鬼神的恐惧不会那么强烈。因为有了这样的罪恶感，“怕暗夜，怕黑影”，她想摆脱，想赎罪，自然乞求于迷信。她捐了门槛，自以为摆脱了罪孽，却不被社会认可。于是“她有如在白天出穴游行的小鼠”，自绝于这个人的社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0440" y="27432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Arial"/>
                <a:ea typeface="楷体_GB2312"/>
              </a:rPr>
              <a:t>讨论：祥林嫂有没有反抗精神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7733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首先反抗的对象是什么？如果是封建思想和封建礼教，她一点反抗性都没有。祥林嫂是遵守封建道德的，她为了守节不惜以死抗争。再嫁后心理一直有很强的罪恶感。鲁家不让她参加祭祀，她没有一点不平和抗争，而是认为自己不干净去捐门槛，以求获得宽恕。她从未对压迫她的封建思想提出什么疑问，更不用说进行什么反抗，而是顺从地承认自己的“罪过”，希望得到饶恕。如果要说反抗，她反抗的只是自身的命运而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6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908000" y="620640"/>
            <a:ext cx="5688360" cy="1143000"/>
          </a:xfrm>
          <a:prstGeom prst="rect">
            <a:avLst/>
          </a:prstGeom>
          <a:solidFill>
            <a:srgbClr val="160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66"/>
                </a:solidFill>
                <a:latin typeface="Arial"/>
                <a:ea typeface="华文新魏"/>
              </a:rPr>
              <a:t>鲁  四  老  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16000" y="2060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是当时农村中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地主阶级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的代表人物。政治上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迂腐、保守，思想上守旧、反动，为人自私、冷酷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。他是造成祥林嫂悲剧的一个重要人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228600" y="152280"/>
            <a:ext cx="9220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祝福》写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是鲁迅短篇小说集《彷徨》的第一篇。最初发表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出版的上海《东方杂志》半月刊第二十一卷第六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鲁迅曾以极大的热情欢呼辛亥革命的爆发，可是，不久就失望了。他看到辛亥革命以后，帝制政权虽被推翻，但代之而起的却是地主阶级的军阀官僚的统治，封建社会的基础并没有被彻底摧毁。中国的广大人民，尤其是农民，日益贫困化，他们过着饥寒交迫的生活。宗法观念，封建礼教仍然是压在人民头上的精神枷锁。鲁迅在《祝福》里，深刻地展示了这一历史时期中国农村的真实面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一时期的鲁迅基本上还是一个革命民主主义者，还不可能用马克思主义来分析观察，有时就不免发生怀疑，感到失望。他把这一时期的小说集叫做《彷徨》，显然是反映了其时自己忧愤的心情。但鲁迅毕竟是个“真的猛士”“敢于直面惨淡的人生，敢于正视淋漓的鲜血”，他决不会畏缩、退避，而是积极奋斗，正如他在《彷徨》前面的题辞“路漫漫其修远兮，吾将上下而求索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46200" y="692280"/>
            <a:ext cx="5905440" cy="1143000"/>
          </a:xfrm>
          <a:prstGeom prst="rect">
            <a:avLst/>
          </a:prstGeom>
          <a:solidFill>
            <a:srgbClr val="160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66"/>
                </a:solidFill>
                <a:latin typeface="Arial"/>
                <a:ea typeface="华文新魏"/>
              </a:rPr>
              <a:t>柳         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2133720"/>
            <a:ext cx="5562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1916280"/>
            <a:ext cx="694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和祥林嫂一样是旧社会中受压迫的劳动妇女的形象，她虽然同情祥林嫂，但由于受封建礼教和封建迷信的</a:t>
            </a:r>
            <a:r>
              <a:rPr b="1" lang="zh-CN" sz="4400" spc="-1" strike="noStrike">
                <a:solidFill>
                  <a:srgbClr val="cc0000"/>
                </a:solidFill>
                <a:latin typeface="隶书"/>
                <a:ea typeface="隶书"/>
              </a:rPr>
              <a:t>毒害很深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，最终也造成了祥林嫂的悲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00000" y="2637000"/>
            <a:ext cx="7956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1609c3"/>
                </a:solidFill>
                <a:latin typeface="Times New Roman"/>
                <a:ea typeface="新宋体"/>
              </a:rPr>
              <a:t>        </a:t>
            </a:r>
            <a:r>
              <a:rPr b="1" lang="zh-CN" sz="54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具有进步思想的小资产阶级知识分子形象</a:t>
            </a:r>
            <a:r>
              <a:rPr b="1" lang="zh-CN" sz="54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善良，但却软弱，无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404640"/>
            <a:ext cx="5688360" cy="1143000"/>
          </a:xfrm>
          <a:prstGeom prst="rect">
            <a:avLst/>
          </a:prstGeom>
          <a:solidFill>
            <a:srgbClr val="160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66"/>
                </a:solidFill>
                <a:latin typeface="Arial"/>
                <a:ea typeface="华文新魏"/>
              </a:rPr>
              <a:t>       “</a:t>
            </a:r>
            <a:r>
              <a:rPr b="0" lang="zh-CN" sz="7200" spc="-1" strike="noStrike">
                <a:solidFill>
                  <a:srgbClr val="ffff66"/>
                </a:solidFill>
                <a:latin typeface="Arial"/>
                <a:ea typeface="华文新魏"/>
              </a:rPr>
              <a:t>我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908000" y="1413000"/>
            <a:ext cx="5857560" cy="4114800"/>
            <a:chOff x="1908000" y="1413000"/>
            <a:chExt cx="5857560" cy="4114800"/>
          </a:xfrm>
        </p:grpSpPr>
        <p:sp>
          <p:nvSpPr>
            <p:cNvPr id="188" name=""/>
            <p:cNvSpPr/>
            <p:nvPr/>
          </p:nvSpPr>
          <p:spPr>
            <a:xfrm>
              <a:off x="4301280" y="1413000"/>
              <a:ext cx="346428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封建迷信的毒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封建礼教的束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封闭的农村社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群众的淡薄冷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00"/>
                </a:spcBef>
                <a:buClr>
                  <a:srgbClr val="cc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鲁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旧历的年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39480" indent="-3394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雪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37760" y="1638360"/>
              <a:ext cx="141120" cy="1523880"/>
            </a:xfrm>
            <a:custGeom>
              <a:avLst/>
              <a:gdLst>
                <a:gd name="textAreaLeft" fmla="*/ 90360 w 141120"/>
                <a:gd name="textAreaRight" fmla="*/ 141480 w 14112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61760" y="1433880"/>
              <a:ext cx="546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</a:rPr>
                <a:t>社会环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96000" y="3933720"/>
              <a:ext cx="91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</a:rPr>
                <a:t>自然环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37760" y="4076640"/>
              <a:ext cx="70200" cy="1219320"/>
            </a:xfrm>
            <a:custGeom>
              <a:avLst/>
              <a:gdLst>
                <a:gd name="textAreaLeft" fmla="*/ 45000 w 70200"/>
                <a:gd name="textAreaRight" fmla="*/ 70560 w 702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189240" y="461016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3189600" y="247608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89600" y="2552760"/>
              <a:ext cx="2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71680" y="3390840"/>
              <a:ext cx="5493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08000" y="3213000"/>
              <a:ext cx="1098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748520" y="2565360"/>
            <a:ext cx="10947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环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895480" y="2286000"/>
            <a:ext cx="3353040" cy="28195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609c3"/>
                </a:solidFill>
                <a:latin typeface="Arial"/>
                <a:ea typeface="华文新魏"/>
              </a:rPr>
              <a:t>研读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773360"/>
            <a:ext cx="8586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新魏"/>
              </a:rPr>
              <a:t>   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新魏"/>
              </a:rPr>
              <a:t>、小说描写了几次“祝福”？在小说中起什么作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新魏"/>
              </a:rPr>
              <a:t>   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华文新魏"/>
              </a:rPr>
              <a:t>、小说为什么以“祝福”为题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环境描写——祝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  <a:ea typeface="华文行楷"/>
              </a:rPr>
              <a:t>祝福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  <a:ea typeface="华文行楷"/>
              </a:rPr>
              <a:t>：揭示祥林嫂悲剧的社会根源，预示悲剧的必然性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66"/>
                </a:solidFill>
                <a:latin typeface="Arial"/>
                <a:ea typeface="华文行楷"/>
              </a:rPr>
              <a:t>祝福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cc0066"/>
                </a:solidFill>
                <a:latin typeface="Arial"/>
                <a:ea typeface="华文行楷"/>
              </a:rPr>
              <a:t>：推动情节发展，增强人物形象的真实性和感染力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华文行楷"/>
              </a:rPr>
              <a:t>祝福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华文行楷"/>
              </a:rPr>
              <a:t>3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华文行楷"/>
              </a:rPr>
              <a:t>：首尾呼应，结构完善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华文行楷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华文行楷"/>
              </a:rPr>
              <a:t>形成对比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华文行楷"/>
              </a:rPr>
              <a:t>,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华文行楷"/>
              </a:rPr>
              <a:t>深化主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以“祝福”为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160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609c3"/>
                </a:solidFill>
                <a:latin typeface="Arial"/>
                <a:ea typeface="华文行楷"/>
              </a:rPr>
              <a:t>起于祝福，终于祝福，中间一再写到祝福，情节的发展与祝福密切相关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1609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609c3"/>
                </a:solidFill>
                <a:latin typeface="Arial"/>
                <a:ea typeface="华文行楷"/>
              </a:rPr>
              <a:t>祥林嫂的悲惨遭遇是在祝福的欢乐气氛中展开的，鲜明的对照深化了小说的主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7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  <a:ea typeface="华文新魏"/>
              </a:rPr>
              <a:t>总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6880" y="1677600"/>
            <a:ext cx="79282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《祝福》通过祥林嫂一生的悲惨遭遇，反映了辛亥革命以后中国的社会矛盾，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华文行楷"/>
              </a:rPr>
              <a:t>深刻地揭露了封建礼教吃人的本质，指出彻底反封建的必要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人世间的惨事，不惨在狼吃阿毛，而惨在</a:t>
            </a: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华文行楷"/>
              </a:rPr>
              <a:t>礼教吃掉了祥林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6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-31,-111,-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5627880" cy="1060560"/>
          </a:xfrm>
          <a:prstGeom prst="rect">
            <a:avLst/>
          </a:prstGeom>
          <a:noFill/>
          <a:ln w="0">
            <a:noFill/>
          </a:ln>
          <a:effectLst>
            <a:outerShdw dist="89808" dir="483908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cc00"/>
                </a:solidFill>
                <a:latin typeface="Arial"/>
                <a:ea typeface="华文新魏"/>
              </a:rPr>
              <a:t>小说三要素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4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人物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情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环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160020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外貌、语言、神态、动作、心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-----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3276720"/>
            <a:ext cx="64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开端—发展—高潮—结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80060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自然环境、社会环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4259160" cy="1268280"/>
          </a:xfrm>
          <a:prstGeom prst="rect">
            <a:avLst/>
          </a:prstGeom>
          <a:noFill/>
          <a:ln w="0">
            <a:noFill/>
          </a:ln>
          <a:effectLst>
            <a:outerShdw dist="104688" dir="20752092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58c81"/>
                </a:solidFill>
                <a:latin typeface="Arial"/>
                <a:ea typeface="华文新魏"/>
              </a:rPr>
              <a:t>整体感知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速读课文，概述故事情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阅读全文，按故事的“序幕—开端—发展—高潮—结局—尾声” 六部分，概括各部分的大意（内容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本文的记叙顺序是什么？采用这样的记叙顺序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58c81"/>
                </a:solidFill>
                <a:latin typeface="Arial"/>
                <a:ea typeface="华文新魏"/>
              </a:rPr>
              <a:t>情节——  内容   ——    顺序</a:t>
            </a:r>
            <a:r>
              <a:rPr b="0" lang="zh-CN" sz="4400" spc="-1" strike="noStrike">
                <a:solidFill>
                  <a:srgbClr val="ffff66"/>
                </a:solidFill>
                <a:latin typeface="Arial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2176560" cy="411480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99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100"/>
              </a:spcBef>
              <a:buClr>
                <a:srgbClr val="00f6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6f0"/>
                </a:solidFill>
                <a:latin typeface="Arial"/>
                <a:ea typeface="华文新魏"/>
              </a:rPr>
              <a:t>序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100"/>
              </a:spcBef>
              <a:buClr>
                <a:srgbClr val="00f6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6f0"/>
                </a:solidFill>
                <a:latin typeface="Arial"/>
                <a:ea typeface="华文新魏"/>
              </a:rPr>
              <a:t>结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100"/>
              </a:spcBef>
              <a:buClr>
                <a:srgbClr val="00f6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6f0"/>
                </a:solidFill>
                <a:latin typeface="Arial"/>
                <a:ea typeface="华文新魏"/>
              </a:rPr>
              <a:t>开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100"/>
              </a:spcBef>
              <a:buClr>
                <a:srgbClr val="00f6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6f0"/>
                </a:solidFill>
                <a:latin typeface="Arial"/>
                <a:ea typeface="华文新魏"/>
              </a:rPr>
              <a:t>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100"/>
              </a:spcBef>
              <a:buClr>
                <a:srgbClr val="00f6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6f0"/>
                </a:solidFill>
                <a:latin typeface="Arial"/>
                <a:ea typeface="华文新魏"/>
              </a:rPr>
              <a:t>高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1100"/>
              </a:spcBef>
              <a:buClr>
                <a:srgbClr val="00f6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6f0"/>
                </a:solidFill>
                <a:latin typeface="Arial"/>
                <a:ea typeface="华文新魏"/>
              </a:rPr>
              <a:t>尾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1676520"/>
            <a:ext cx="5916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祝福景象与鲁四老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祥林嫂凄然死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祥林嫂初到鲁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祥林嫂被迫改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祥林嫂再到鲁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祝福景象和我的感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77080" y="2708280"/>
            <a:ext cx="1295280" cy="2666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565560 h 2666880"/>
              <a:gd name="textAreaBottom" fmla="*/ 195696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164" stAng="-5400000" swAng="5400000"/>
                <a:lnTo>
                  <a:pt x="21600" y="11266"/>
                </a:lnTo>
                <a:arcTo wR="21600" hR="9164" stAng="0" swAng="3096674"/>
                <a:lnTo>
                  <a:pt x="6882" y="21122"/>
                </a:lnTo>
                <a:lnTo>
                  <a:pt x="0" y="19379"/>
                </a:lnTo>
                <a:lnTo>
                  <a:pt x="6882" y="16680"/>
                </a:lnTo>
                <a:lnTo>
                  <a:pt x="6882" y="17850"/>
                </a:lnTo>
                <a:arcTo wR="21600" hR="9164" stAng="3096674" swAng="-2928426"/>
                <a:lnTo>
                  <a:pt x="21457" y="10215"/>
                </a:lnTo>
                <a:arcTo wR="21600" hR="9164" stAng="-168248" swAng="-5231752"/>
                <a:close/>
              </a:path>
              <a:path fill="darkenLess" w="21600" h="21600">
                <a:moveTo>
                  <a:pt x="0" y="0"/>
                </a:moveTo>
                <a:arcTo wR="21600" hR="9164" stAng="-5400000" swAng="5400000"/>
                <a:lnTo>
                  <a:pt x="21600" y="11266"/>
                </a:lnTo>
                <a:arcTo wR="21600" hR="9164" stAng="0" swAng="-168248"/>
                <a:lnTo>
                  <a:pt x="21457" y="10215"/>
                </a:lnTo>
                <a:arcTo wR="21600" hR="9164" stAng="-168248" swAng="-5231752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44000" y="2924280"/>
            <a:ext cx="6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6f0"/>
                </a:solidFill>
                <a:latin typeface="Times New Roman"/>
                <a:ea typeface="华文新魏"/>
              </a:rPr>
              <a:t>倒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8360" cy="5562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92000" y="1052640"/>
            <a:ext cx="1523880" cy="3673440"/>
          </a:xfrm>
          <a:prstGeom prst="rect">
            <a:avLst/>
          </a:prstGeom>
          <a:noFill/>
          <a:ln w="0">
            <a:noFill/>
          </a:ln>
          <a:effectLst>
            <a:outerShdw dist="89808" dir="16683909" blurRad="0" rotWithShape="0">
              <a:srgbClr val="0000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f6f0"/>
                </a:solidFill>
                <a:latin typeface="方正舒体"/>
                <a:ea typeface="方正舒体"/>
              </a:rPr>
              <a:t>倒  叙作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43280" y="259920"/>
            <a:ext cx="6300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把祥林嫂悲惨的结局放在开头，巧妙地</a:t>
            </a:r>
            <a:r>
              <a:rPr b="1" lang="zh-CN" sz="4400" spc="-1" strike="noStrike">
                <a:solidFill>
                  <a:srgbClr val="f58c81"/>
                </a:solidFill>
                <a:latin typeface="Arial"/>
                <a:ea typeface="华文新魏"/>
              </a:rPr>
              <a:t>设置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了</a:t>
            </a:r>
            <a:r>
              <a:rPr b="1" lang="zh-CN" sz="4400" spc="-1" strike="noStrike">
                <a:solidFill>
                  <a:srgbClr val="f58c81"/>
                </a:solidFill>
                <a:latin typeface="Arial"/>
                <a:ea typeface="华文新魏"/>
              </a:rPr>
              <a:t>悬念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，使读者寄予探求事情的原委，有一定的吸引力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把祝福的景象和祥林嫂的死连在一起，</a:t>
            </a:r>
            <a:r>
              <a:rPr b="1" lang="zh-CN" sz="4400" spc="-1" strike="noStrike">
                <a:solidFill>
                  <a:srgbClr val="f58c81"/>
                </a:solidFill>
                <a:latin typeface="Arial"/>
                <a:ea typeface="华文新魏"/>
              </a:rPr>
              <a:t>形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强烈的</a:t>
            </a:r>
            <a:r>
              <a:rPr b="1" lang="zh-CN" sz="4400" spc="-1" strike="noStrike">
                <a:solidFill>
                  <a:srgbClr val="f58c81"/>
                </a:solidFill>
                <a:latin typeface="Arial"/>
                <a:ea typeface="华文新魏"/>
              </a:rPr>
              <a:t>对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，有震撼人心的力量，突出反封建的主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38163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58c81"/>
                </a:solidFill>
                <a:latin typeface="Arial"/>
                <a:ea typeface="方正舒体"/>
              </a:rPr>
              <a:t>研读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20908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、阅读课文，写出祥林嫂人生悲剧的情节提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61960" y="533160"/>
            <a:ext cx="511164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Arial"/>
                <a:ea typeface="华文新魏"/>
              </a:rPr>
              <a:t>（祥林嫂悲惨遭遇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外逃帮佣，初到鲁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被人劫回，被迫改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丧夫失子，再到鲁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捐献门槛，未能赎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逐出鲁家，沦为乞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祝福之夜，凄然死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3433680" cy="4876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0920" y="33336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0033"/>
                </a:solidFill>
                <a:latin typeface="Tahoma"/>
                <a:ea typeface="华文新魏"/>
              </a:rPr>
              <a:t>情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j</cp:lastModifiedBy>
  <dcterms:modified xsi:type="dcterms:W3CDTF">2007-05-25T00:46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