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jpeg" ContentType="image/jpeg"/>
  <Override PartName="/ppt/media/image4.wmf" ContentType="image/x-wmf"/>
  <Override PartName="/ppt/media/image2.jpeg" ContentType="image/jpeg"/>
  <Override PartName="/ppt/media/drumroll.wav" ContentType="audio/x-wav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3E33-D8E1-470A-B81A-3E6169D2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90A6-42E6-4FA5-A2C1-4A8AFBE7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898E-D503-4982-B984-8A76D2F5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085F-6E57-4BE6-B036-B7BDA23D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3A71-D580-439C-AA63-5FF3EBE1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6F5C-84AC-4F51-A4EA-05EE3033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C8B2-FC43-468A-B54B-7200FC8C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4641-2ADE-470E-9C7C-98EA11FD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AE73-2BD6-495E-85A7-9E18AEA5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5823-3413-4B30-8EFE-155731EE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91D3-BB78-4FC8-B469-A198AD0D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EDBB-69B1-4EF1-BDBE-CF6E90ED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0221-2ECB-4222-8416-363E2E9FC8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638680" y="0"/>
            <a:ext cx="3527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8120" y="955800"/>
            <a:ext cx="2191320" cy="53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寡人之于国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3640" y="3500280"/>
            <a:ext cx="100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老  吾  老  以  及  人  之  老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幼   吾  幼  以  及  人  之  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恻隐之心， 人皆有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天 将 降 大 任 于 斯 人 也 ， 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必 先 苦 其 心 志 ， 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劳 其 筋 骨 ， 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饿 其 体 肤 空 乏 其 身 ，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行 拂 乱 其 所 为 ， 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所 以 动 心 忍 性 ， 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增 益 其 所 不 能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男 女 授 受 不 亲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 rot="5400000">
            <a:off x="5878080" y="2046240"/>
            <a:ext cx="3886200" cy="1012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隶书"/>
              </a:rPr>
              <a:t>孟子名言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934320" y="4800600"/>
            <a:ext cx="14475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685800" y="-685800"/>
            <a:ext cx="10667880" cy="49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2640" rIns="1142640" tIns="914040" bIns="91404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时代背景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孟子是在梁惠王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35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年（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335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年）应邀来到魏国的。魏在战国初期曾是军事强国，但到梁惠王在位的后期却遭到一连串的失败，又畏秦之甚，于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31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年（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339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）将首都从安邑（今山西夏县西北）迁至大梁（今河南开封），盂子到来时，梁惠王曾对他说：“寡人不佞，兵三折于外，太子虏，上将死，国以空虚，以羞先君宗庙社稷，寡人甚丑之。叟不远千里，辱幸至敝邑之廷，将何以利吾国？”（引自《史记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魏世家》）从这段话可以看出梁惠王邀请孟子来魏的目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孟子在梁只住了一年多。第二年梁惠王死了，襄王继位，孟子对这个新君的印象很坏，不久离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56440" y="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给下列字注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6320" y="1371600"/>
            <a:ext cx="17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王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好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战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6800" y="13716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hà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71200" y="2209680"/>
            <a:ext cx="17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弃甲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曳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兵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94640" y="2209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y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9718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数罟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入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洿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池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93120" y="28954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cù g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26480" y="2895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w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1440" y="3733920"/>
            <a:ext cx="17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衣帛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8560" y="4495680"/>
            <a:ext cx="206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鸡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豚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狗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彘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9080" y="44956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tú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7880" y="44956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zh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1440" y="5229360"/>
            <a:ext cx="17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庠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序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42360" y="51577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xiá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9240" y="6021360"/>
            <a:ext cx="175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饿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莩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94280" y="5950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piǎ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5400" y="37339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Yì bo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55480" y="77760"/>
            <a:ext cx="4629240" cy="88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河内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凶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何东凶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亦然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察邻国之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政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寡人之民不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加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多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请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以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战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喻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6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填然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鼓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之：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是亦走也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则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无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望民之多与邻国也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45320" y="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荒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21200" y="685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也是这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06440" y="1557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政治，管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64440" y="236232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更、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33200" y="31240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请允许我；说明，打比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85480" y="38098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名词作动词，敲起鼓来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03760" y="4495680"/>
            <a:ext cx="245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这也是逃跑啊</a:t>
            </a:r>
            <a:r>
              <a:rPr b="0" i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1280" y="52578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通“毋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7543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295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五十步笑百步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已经成为人们经常使用的成语，含义是什么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?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 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2280" y="0"/>
            <a:ext cx="3657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816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想一想？</a:t>
            </a:r>
            <a:endParaRPr b="0" lang="en-US" sz="2400" spc="1" strike="noStrike">
              <a:ln w="3816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0" name=""/>
          <p:cNvSpPr/>
          <p:nvPr/>
        </p:nvSpPr>
        <p:spPr>
          <a:xfrm>
            <a:off x="1968840" y="3068640"/>
            <a:ext cx="5301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提示：比喻缺点或错误的性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相同（并无本质区别） ，只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情节轻或重的区别。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 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990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①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不违农时，谷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不可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胜食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10560" y="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找出实行“王道”的七种措施的句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88720" y="1600200"/>
            <a:ext cx="48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②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数罟不入洿池，鱼鳖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不可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胜食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78880" y="2209680"/>
            <a:ext cx="502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③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斧斤以时入山林，材木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不可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胜用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37640" y="2971800"/>
            <a:ext cx="56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④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五亩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之宅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，树之以桑，五十者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可以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衣帛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37640" y="3581280"/>
            <a:ext cx="562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⑤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鸡豚狗彘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之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，无失其时，七十者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可以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肉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矣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37640" y="4724280"/>
            <a:ext cx="562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⑥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百亩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之田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，勿夺其时，数口之家，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可以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饥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矣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5480" y="5667480"/>
            <a:ext cx="535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谨库序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之教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，申之以孝悌之义，颁白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不负戴于道路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矣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918800" y="457200"/>
            <a:ext cx="563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讨论：孟子否定了魏国及邻国之政，那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他的理想政治—“仁政”的具体内容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240" y="2952360"/>
            <a:ext cx="729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仁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242100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11480" y="22226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王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之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2057400"/>
            <a:ext cx="380880" cy="1676520"/>
          </a:xfrm>
          <a:custGeom>
            <a:avLst/>
            <a:gdLst>
              <a:gd name="textAreaLeft" fmla="*/ 243360 w 380880"/>
              <a:gd name="textAreaRight" fmla="*/ 381240 w 3808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68880" y="17654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不违农时（农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413520" y="2438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保护鱼类（渔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68880" y="31370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按时砍伐（林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11480" y="40514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王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之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396252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68880" y="37465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鼓励养蚕（纺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13520" y="4356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繁兴六畜（牧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13520" y="48895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生产粮食（农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42440" y="5423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兴办教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28000" y="1844640"/>
            <a:ext cx="69840" cy="1584360"/>
          </a:xfrm>
          <a:custGeom>
            <a:avLst/>
            <a:gdLst>
              <a:gd name="textAreaLeft" fmla="*/ 0 w 69840"/>
              <a:gd name="textAreaRight" fmla="*/ 25200 w 698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29960" y="19051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初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措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28000" y="3716280"/>
            <a:ext cx="201600" cy="2227320"/>
          </a:xfrm>
          <a:custGeom>
            <a:avLst/>
            <a:gdLst>
              <a:gd name="textAreaLeft" fmla="*/ 0 w 201600"/>
              <a:gd name="textAreaRight" fmla="*/ 72720 w 201600"/>
              <a:gd name="textAreaTop" fmla="*/ 57960 h 2227320"/>
              <a:gd name="textAreaBottom" fmla="*/ 2169360 h 222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29960" y="43434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根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措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191628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48360" y="1844640"/>
            <a:ext cx="358920" cy="3456000"/>
          </a:xfrm>
          <a:custGeom>
            <a:avLst/>
            <a:gdLst>
              <a:gd name="textAreaLeft" fmla="*/ 0 w 358920"/>
              <a:gd name="textAreaRight" fmla="*/ 129600 w 35892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87960" y="1614600"/>
            <a:ext cx="546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不可胜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312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不可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13040" y="300852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保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13040" y="5095800"/>
            <a:ext cx="60696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教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66680" y="5335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思考：孟子在最后一段旨在说明什么？用了什么说理方法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84640"/>
            <a:ext cx="6659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对比   狗彘食人食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贵族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涂有饿莩（百姓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比喻   涂有饿莩归罪于年成不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刺人而杀人归罪于武器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175104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旨在阐述统治者想使民加多应有的态度：不找客观原因，而应反省自己，清除虐政，施行仁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96000" y="3500280"/>
            <a:ext cx="152280" cy="1081080"/>
          </a:xfrm>
          <a:custGeom>
            <a:avLst/>
            <a:gdLst>
              <a:gd name="textAreaLeft" fmla="*/ 0 w 152280"/>
              <a:gd name="textAreaRight" fmla="*/ 55080 w 152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16720" y="4941720"/>
            <a:ext cx="152280" cy="1202040"/>
          </a:xfrm>
          <a:custGeom>
            <a:avLst/>
            <a:gdLst>
              <a:gd name="textAreaLeft" fmla="*/ 0 w 152280"/>
              <a:gd name="textAreaRight" fmla="*/ 55080 w 152280"/>
              <a:gd name="textAreaTop" fmla="*/ 31320 h 1202040"/>
              <a:gd name="textAreaBottom" fmla="*/ 1170720 h 120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72000" y="3716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施仁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48360" y="5229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除暴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956720" y="3933720"/>
            <a:ext cx="152280" cy="1800360"/>
          </a:xfrm>
          <a:custGeom>
            <a:avLst/>
            <a:gdLst>
              <a:gd name="textAreaLeft" fmla="*/ 0 w 152280"/>
              <a:gd name="textAreaRight" fmla="*/ 55080 w 152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47960" y="3386880"/>
            <a:ext cx="606960" cy="29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天下之民至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354760" y="1628640"/>
            <a:ext cx="470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孟子的仁政思想有何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现实意义？（古为今用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52280" y="0"/>
            <a:ext cx="2286000" cy="16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楷体_GB2312"/>
              </a:rPr>
              <a:t>讨论：</a:t>
            </a:r>
            <a:endParaRPr b="1" lang="en-US" sz="4800" spc="1" strike="noStrike">
              <a:ln w="0">
                <a:noFill/>
              </a:ln>
              <a:solidFill>
                <a:srgbClr val="ffff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64" name=""/>
          <p:cNvSpPr/>
          <p:nvPr/>
        </p:nvSpPr>
        <p:spPr>
          <a:xfrm>
            <a:off x="1972080" y="3586320"/>
            <a:ext cx="541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孟子的“王道”思想包括“温饱”和“教化”两部分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也就是今天的“物质文明”和“精神文明”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63720" y="4797360"/>
            <a:ext cx="342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开发自然资源，做到“不滥”、“不竭”，是今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的“可持续发展农业”的概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8916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 rot="5400000">
            <a:off x="-180360" y="764280"/>
            <a:ext cx="2735280" cy="17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隶书"/>
              </a:rPr>
              <a:t>孟子</a:t>
            </a:r>
            <a:endParaRPr b="1" lang="en-US" sz="66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通假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8920" y="1828440"/>
            <a:ext cx="799308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颁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白者不负戴于道路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颁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通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斑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隶书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涂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有饿殍而不知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涂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通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途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隶书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直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不百步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直通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只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隶书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4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）则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望民之多于邻国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通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毋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隶书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知识点归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7007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名词活用作动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846080"/>
            <a:ext cx="8785440" cy="50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）填然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隶书"/>
              </a:rPr>
              <a:t>鼓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之  </a:t>
            </a:r>
            <a:r>
              <a:rPr b="1" lang="zh-CN" sz="3600" spc="-1" strike="noStrike">
                <a:solidFill>
                  <a:srgbClr val="ccecff"/>
                </a:solidFill>
                <a:latin typeface="Times New Roman"/>
                <a:ea typeface="隶书"/>
              </a:rPr>
              <a:t>         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隶书"/>
              </a:rPr>
              <a:t>鼓：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打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）七十者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隶书"/>
              </a:rPr>
              <a:t>衣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帛食肉</a:t>
            </a:r>
            <a:r>
              <a:rPr b="1" lang="zh-CN" sz="3600" spc="-1" strike="noStrike">
                <a:solidFill>
                  <a:srgbClr val="ccecff"/>
                </a:solidFill>
                <a:latin typeface="Times New Roman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隶书"/>
              </a:rPr>
              <a:t>衣：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）黎民不饥不寒，然而不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隶书"/>
              </a:rPr>
              <a:t>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者，未之有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隶书"/>
              </a:rPr>
              <a:t>           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隶书"/>
              </a:rPr>
              <a:t>王：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为王、称王、统一天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ecff"/>
                </a:solidFill>
                <a:latin typeface="Times New Roman"/>
                <a:ea typeface="隶书"/>
              </a:rPr>
              <a:t>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4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）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隶书"/>
              </a:rPr>
              <a:t>树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之以桑</a:t>
            </a:r>
            <a:r>
              <a:rPr b="1" lang="zh-CN" sz="3600" spc="-1" strike="noStrike">
                <a:solidFill>
                  <a:srgbClr val="ccecff"/>
                </a:solidFill>
                <a:latin typeface="Times New Roman"/>
                <a:ea typeface="隶书"/>
              </a:rPr>
              <a:t>            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隶书"/>
              </a:rPr>
              <a:t>树：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种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）王无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隶书"/>
              </a:rPr>
              <a:t>罪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岁</a:t>
            </a:r>
            <a:r>
              <a:rPr b="1" lang="zh-CN" sz="3600" spc="-1" strike="noStrike">
                <a:solidFill>
                  <a:srgbClr val="ccecff"/>
                </a:solidFill>
                <a:latin typeface="Times New Roman"/>
                <a:ea typeface="隶书"/>
              </a:rPr>
              <a:t>            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隶书"/>
              </a:rPr>
              <a:t>罪：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归罪、归咎</a:t>
            </a:r>
            <a:r>
              <a:rPr b="1" lang="zh-CN" sz="3600" spc="-1" strike="noStrike">
                <a:solidFill>
                  <a:srgbClr val="ccecff"/>
                </a:solidFill>
                <a:latin typeface="Times New Roman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040" y="63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词类活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052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动词作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58280" y="1268280"/>
            <a:ext cx="258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请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战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喻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战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是使民养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丧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死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无憾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活着的人，死去的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581360"/>
            <a:ext cx="23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使动用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4653000"/>
            <a:ext cx="359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则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移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其民于河东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移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其粟于河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使…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迁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29242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形容词作动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3141720"/>
            <a:ext cx="47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谨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庠序之教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认真从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41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宾语前置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未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隶书"/>
              </a:rPr>
              <a:t>之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有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Times New Roman"/>
                <a:ea typeface="隶书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在否定句中，“之”作动词“有”的宾语，放在了“有”的前面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11592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特殊句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581360"/>
            <a:ext cx="33847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判断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59280" y="4292640"/>
            <a:ext cx="5808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是亦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也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，兵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、是使民养生丧死无憾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-3240" y="1020600"/>
            <a:ext cx="270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状语后置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907920"/>
            <a:ext cx="67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申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以孝悌之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树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以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则无望民之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于领国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206064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固定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5080" y="2708280"/>
            <a:ext cx="800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直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不百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耳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亦走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也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直……耳 ，是…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只是……罢了，那还是……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39000" y="3706920"/>
            <a:ext cx="546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百步而后止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五十步而后止     或…或…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有的…有的…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63280" y="4797360"/>
            <a:ext cx="5071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何异于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刺人而杀之，曰：“非 我也，兵也”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是何异于…       这与……有什么不同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古今异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河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凶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谷物收成不好，荒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常指人或运动        暴躁，心肠狠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邻国之民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少（更，再，副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常指增加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百步而后止（有人，有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选择连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兵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刃既接弃甲曳兵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走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兵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战士，士兵；逃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行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谷不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食也（尽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胜利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数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罟不入洿池（细、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数字或者数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树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之以桑（种植，动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常指较高大的林木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七十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可以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食肉矣（可以凭借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表同意认可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例题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、下列有关“以”的意义和用法不同于其他三项的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A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．树之以桑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B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．以五十步笑百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C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．请以战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D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．愿得补黑衣之数，以为王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5408640"/>
            <a:ext cx="23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答案：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例题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下列画线字解释正确的一项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．河内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</a:rPr>
              <a:t>凶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（有战乱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B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．邻国之民不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</a:rPr>
              <a:t>加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（增加）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C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．填然鼓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</a:rPr>
              <a:t>之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（代词，代“鼓”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．弃甲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</a:rPr>
              <a:t>曳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 （拖着）兵而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9280" y="5388120"/>
            <a:ext cx="137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答案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2" presetSubtype="4">
                                  <p:stCondLst>
                                    <p:cond delay="120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例题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下面画线字意义不同的一组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A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．涂有饿殍而不知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</a:rPr>
              <a:t>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春心莫共花争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</a:rPr>
              <a:t>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B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．弃甲曳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</a:rPr>
              <a:t>兵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而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斩木为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</a:rPr>
              <a:t>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C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．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</a:rPr>
              <a:t>或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五十步而后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人固有一死，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</a:rPr>
              <a:t>或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轻于鸿毛，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</a:rPr>
              <a:t>或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重于泰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D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．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</a:rPr>
              <a:t>是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亦走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  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隶书"/>
              </a:rPr>
              <a:t>是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使民养生丧死无憾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4600" y="55879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隶书"/>
              </a:rPr>
              <a:t>答案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隶书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2" presetSubtype="4">
                                  <p:stCondLst>
                                    <p:cond delay="120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例题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对下列各句中“之”的分类正确的一项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①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斯天下之民至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②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鸡豚狗彘之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树之以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④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未之有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⑤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邻国之民不加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A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．①②⑤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/ ③/ ④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B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．①③⑤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/ ②/ 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C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．①②④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/ ③⑤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D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． ①②⑤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/ ③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57240" y="55627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隶书"/>
              </a:rPr>
              <a:t>答案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  <a:ea typeface="隶书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2" presetSubtype="4">
                                  <p:stCondLst>
                                    <p:cond delay="120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24000" y="73080"/>
          <a:ext cx="6254640" cy="666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73080"/>
                    <a:ext cx="625464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 txBox="1"/>
          <p:nvPr/>
        </p:nvSpPr>
        <p:spPr>
          <a:xfrm rot="5400000">
            <a:off x="6480000" y="2385720"/>
            <a:ext cx="3097080" cy="144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孟子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例题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下列各句中有词类活用现象的一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．请以战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B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．寡人之于国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C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．王无罪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D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．是何异于刺人而杀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3320" y="5388120"/>
            <a:ext cx="137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答案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隶书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2" presetSubtype="4">
                                  <p:stCondLst>
                                    <p:cond delay="120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例题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98100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完成下列一词多义（补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29960" y="1700280"/>
            <a:ext cx="18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一、王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然而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王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梁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王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3600" y="1700280"/>
            <a:ext cx="479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为王、称王、统一天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wang4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名作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君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wang2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名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74400" y="2565360"/>
            <a:ext cx="16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二、食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谷不可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食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狗彘食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43320" y="2565360"/>
            <a:ext cx="128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吃       动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食物  名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3429000"/>
            <a:ext cx="19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三、时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不违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无失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77800" y="3429000"/>
            <a:ext cx="186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季节  名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机会、时机  名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-971640" y="4292640"/>
            <a:ext cx="56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四、以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请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战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无饥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时入山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申之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孝悌之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老臣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媪为长安君计短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87280" y="4292640"/>
            <a:ext cx="128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用       介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凭借   介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按照   介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把       介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认为    动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396800" y="189000"/>
            <a:ext cx="249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五、于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则无望民之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于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邻国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寡人之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于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国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颁白者不复戴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于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道路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05440" y="189000"/>
            <a:ext cx="96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比   介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   介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  介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2040" y="1413000"/>
            <a:ext cx="22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六、之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填然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王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始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五亩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申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以孝悌之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57480" y="1371600"/>
            <a:ext cx="297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音节助词   无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结构助词 主谓间取消独立性  无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结构助词    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代词    百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1000" y="2924280"/>
            <a:ext cx="264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七、然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河内凶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填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然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鼓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然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郑亡子亦有不利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太后曰：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然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82760" y="2924280"/>
            <a:ext cx="202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代词   这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助词   地、…的样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连词  然而、但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形容词  对的、认为…对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0360" y="4724280"/>
            <a:ext cx="406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八、则：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则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移其民于河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、人死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则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曰：“非我也，兵也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42560" y="4694400"/>
            <a:ext cx="149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顺接连词    就、那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转接连词     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 rot="5400000">
            <a:off x="-510480" y="1886400"/>
            <a:ext cx="3711600" cy="1468440"/>
          </a:xfrm>
          <a:prstGeom prst="rect">
            <a:avLst/>
          </a:prstGeom>
        </p:spPr>
        <p:txBody>
          <a:bodyPr wrap="none" lIns="90000" rIns="90000" tIns="46800" bIns="46800" anchor="b" vert="eaVert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84000"/>
                  </a:srgbClr>
                </a:solidFill>
                <a:latin typeface="隶书"/>
              </a:rPr>
              <a:t>千秋亚圣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84000"/>
                </a:srgbClr>
              </a:solidFill>
              <a:latin typeface="隶书"/>
              <a:ea typeface="隶书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544500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隶书"/>
              </a:rPr>
              <a:t>孟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60720" y="56674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约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4114800" cy="53337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419360" y="1066320"/>
            <a:ext cx="4724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孟 子 名 轲 ， 邹 人（ 今 山 东 邹 县 ）， 三 岁 时 父 亲 逝 世 ， 孟 子 便 与 母 亲 相 依 为 命 。 孟 母 非 常 疼 爱 自 己 的 儿 子 ， 曾 经 为 了 替 孟 子 找 一 个 舒 适 的 学 习 环 境 而 三 次 搬 家 。 孟 子 自 小 便 受 严 格 的 管 教， 据 说 他 自 从 搬 家以后 ， 便 十 分 认 真 读 书 ， 稍 大 一 点 ， 孟 子 变 得 十 分 贪 玩 。 孟 母 便 剪 断 织 机 上 的 麻 布 ， 她 要 孟 子 勤 奋 读 书 ， 要 不 然 将 会 像 那 块 麻 布 般 ， 变 成 一 团 废 物。 孟 子 牢 记 母 亲 的 教 诲 ， 立 志 成 材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64000" y="476280"/>
            <a:ext cx="1981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9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童年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09480" y="971640"/>
            <a:ext cx="3733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孟 子 长 大 后 ， 被 孔 子 的 儒 家 思 想 所 吸 引 ， 于 是 决 定 离 开 邹 国 到 孔 子 的 家 乡 鲁 国 深 造 ， 其 老 师 正 是 孔 子 的 孙 子 子 思 的 徒 弟 。 通 过 学 习 ， 孟 子 认 为 孔 子 是 有 人 类 以 来 最 伟 大 的人，于 是 他 立 志 发 展 孔 子 的 思 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19720" y="990720"/>
            <a:ext cx="4343400" cy="5029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987640" y="189000"/>
            <a:ext cx="32767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青少年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8381880" cy="58831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孟 子 醉 心 研 究 ， 终 于 名 声 大 噪 ， 邹 国 和 鲁 国 国 君 也 时 常 向 他 请 教  治 国 之 道 。可 惜 邹、 鲁 这 样 的 小 国 ， 很 难 实 施 孟 子“ 仁 政 ” 的 抱 负 。 他 决 定 带 着学 生 到 东 方大 国 齐 国 去 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但 是 齐 国 所 采 取 的 是 锻 炼 精 兵 使 国 家 更 为 富 强 的 政 策 ， 对 孟 子 的 思 想 毫 不 理 睬 。 最 后 ， 孟 子 来 到 膝 国 ， 膝 国 太 子 对 孟 子 的 “ 仁 政 ” 十 分 感 兴 趣 ， 于 是 孟 子 便 在 膝 国 实 行 他 “ 仁 政 ” 的 思 想 。 遗 憾 的 是 ， 膝 国 是 个 小 国 ， 时 时 有 被 灭 亡 的 危 险 ， 不 可 能 把 仁 政 推 行 天 下 。 孟 子 于 是 到 其 他 国 家 宣 扬 他 的 “ 仁 政 ” 思 想 。 可 是 没 有 一 位 君 主 愿 意 实 施 他 的 政 策 。 孟 子 放 弃 继 续 宣 扬 仁 政 的 念 头 ， 决 心 写 书 建 立 学 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666880" y="0"/>
            <a:ext cx="3600720" cy="7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ffcc"/>
                  </a:solidFill>
                  <a:miter/>
                </a:ln>
                <a:solidFill>
                  <a:srgbClr val="ff00ff"/>
                </a:solidFill>
                <a:latin typeface="隶书"/>
              </a:rPr>
              <a:t>成年与晚年时代</a:t>
            </a:r>
            <a:endParaRPr b="0" lang="en-US" sz="4000" spc="1" strike="noStrike">
              <a:ln w="9360">
                <a:solidFill>
                  <a:srgbClr val="ccffcc"/>
                </a:solidFill>
                <a:miter/>
              </a:ln>
              <a:solidFill>
                <a:srgbClr val="ff00ff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95280" y="4572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孟子的仁政思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12952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1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民本思想：民为贵，社稷次之，君为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邦国的主权在民：应由百姓决定立谁为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2514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3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民对不施仁政的暴君是可以不服从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30481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4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政事以民为归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36576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5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用人以民意为准：选拔、杀掉某些人，应以国人的意见为出发点，不能只听大臣、大夫之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47242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6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国君应以保民为职分：不扰民、与民同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58920" y="5486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7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施仁政应使百姓安居乐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58920" y="6095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8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反对不义的战争：得道者多助，失道者寡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rcRect l="0" t="0" r="0" b="7802"/>
          <a:stretch/>
        </p:blipFill>
        <p:spPr>
          <a:xfrm>
            <a:off x="0" y="0"/>
            <a:ext cx="39625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995640" y="0"/>
            <a:ext cx="5148360" cy="9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孟子名    ，字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时期邹国人，儒家学派代表人，后人把他与孔子合称     并尊称他为     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《孟子》是记录孟子      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                思想及其言行的一部著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60948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96360" y="62064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126828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40720" y="249228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59640" y="306864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426708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4267080"/>
            <a:ext cx="2133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2760" y="-57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16720" y="-57240"/>
            <a:ext cx="14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子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62064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战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96360" y="1844640"/>
            <a:ext cx="14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孔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16720" y="2421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亚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27640" y="3573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仁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00720" y="357336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民贵君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3T13:21:46Z</dcterms:created>
  <dc:creator>yws</dc:creator>
  <dc:description/>
  <dc:language>en-US</dc:language>
  <cp:lastModifiedBy>zxj</cp:lastModifiedBy>
  <dcterms:modified xsi:type="dcterms:W3CDTF">2007-05-28T03:32:37Z</dcterms:modified>
  <cp:revision>22</cp:revision>
  <dc:subject/>
  <dc:title>寡人之于国也</dc:title>
</cp:coreProperties>
</file>