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A52-5CEA-4A29-BE7E-25840D98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100E-B5AA-4842-9E74-9980FDFA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CBF6-7139-42F1-99FE-C0EBAB3F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8A1-BF40-4114-A3E9-88792275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4F0CD-8D5F-4C95-BD91-8E8AF37F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7CD6A-1089-4915-B4CB-C9713BC8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2C3EC-4B02-44A9-9109-9184A093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BD085-0B0B-4937-82F4-87771CC4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609EE-C78A-48FC-8BC9-97B811B7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1AA0A-69F2-45D8-8FFC-4EB49C8F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1EF05-CE6C-4132-A40E-48CB0132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37D-251F-4BC6-8D07-C45ED3FE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086B1-D83C-4167-ACCE-B55F57F1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E69CB-68F0-4D96-A459-5D30D4AA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A6D8B-E5F0-4724-B1CF-0738BCE2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5E377-A6E2-4B94-A158-D194026A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CD482-8363-4EBF-B034-63C38709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B3F5-6231-44E3-A3F0-2475C6E9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3B6-5F34-44AB-B3C8-D1ABE256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C950-FDE1-4F14-868B-47F48483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79D4-166B-4D5F-913D-CD97F8EA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D866-FF87-4E79-8957-2B220783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FAE-ADC0-4D68-9665-11F0AAD9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574-0C97-4AEE-8B65-2B93A92C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598C-FDFF-4EEF-A944-0F2B4A8DF61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B126-7C6B-4BA6-A7E4-26F71CE75DB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71640" y="1773360"/>
            <a:ext cx="701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Times New Roman"/>
              </a:rPr>
              <a:t>咏怀古迹（其三）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88000" y="342900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杜甫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920" y="1828800"/>
            <a:ext cx="84582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颔联对仗很工整，是如何体现的？效果如何？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" y="533520"/>
            <a:ext cx="8915400" cy="2837160"/>
          </a:xfrm>
          <a:prstGeom prst="rect">
            <a:avLst/>
          </a:prstGeom>
          <a:solidFill>
            <a:srgbClr val="ff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一去”对“独留”，将昭君生前的寥落、死后的孤寂，写得入木三分。！“紫台”对“青冢”，一个富丽繁华，一个荒凉冷落，对比悬殊！“连”对“向”，“朔漠”对“黄昏”，写出无边的大漠、笼罩四野的黄昏，是何等空旷凄清！天地无情，但青冢有恨！两句工整的对偶，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正面描写</a:t>
            </a:r>
            <a:r>
              <a:rPr b="1" lang="zh-CN" sz="36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，写出她生前的不幸与孤苦、死后的孤寂与冷落。一句话写尽了昭君一生的悲剧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205740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昭君远嫁对她个人来说，毕竟是一种不幸。这种不幸又是怎样造成的呢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0880" y="990720"/>
            <a:ext cx="8534520" cy="198324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颈联上句“画图省识春风面”对此做了回答。该句运用了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典故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，但诗人用事巧妙，仅以“省识春风面”五字带过，而隐去了历史事实，说明汉元帝的昏庸造成了昭君葬身塞外的悲剧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1219320"/>
            <a:ext cx="83818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环珮空归月夜魂”中的“空”字是这句的关键，如何理解？颈联两句和颔联两句有何联系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0880" y="380880"/>
            <a:ext cx="8534520" cy="1921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从字面上看，作者认为，既然大错已经铸成，你的魂灵归来也是徒然的。深入一想，昭君虽骨留青冢，但魂灵早已在月明之夜回到生她养她的故乡，可见其怀念故土之心是多么强烈啊！一个“空”字，将诗人的悲愤之情、伤悼之意传达得淋漓尽致。颈联两句与上两句前后呼应，正因为元帝“省识春风面”，才有昭君“一去紫台连朔漠”的悲剧；正因为昭君“空归月夜魂”，才有其“独留青冢向黄昏”的凄凉。总之，对昭君悲剧的根源做了明确揭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>
            <a:lum contras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14479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       “</a:t>
            </a: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千载琵琶作胡语，分明怨恨曲中论。”   尾联两句千古来被人吟唱，应如何理解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0880" y="685800"/>
            <a:ext cx="8534520" cy="264744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怨恨”两字点明全篇主旨。千百年来，琵琶所演奏的总是从匈奴传来的撩人愁思的胡乐，正是昭君在诉说着她的怨恨！这两句从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侧面烘托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昭君的形象，既有对她的赞扬，又有对她的同情。读到这里，我们的耳边好像又响起了那深沉、幽怨的琵琶声！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>
            <a:lum contrast="-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609480"/>
            <a:ext cx="86104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c600"/>
                </a:solidFill>
                <a:latin typeface="Times New Roman"/>
                <a:ea typeface="楷体_GB2312"/>
              </a:rPr>
              <a:t>《咏怀古迹（其三）》题为咏怀，可里面只写了昭君的怨恨，并无作者个人的情怀，这是不是与标题“咏怀”二字不符？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简介写作背景）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836640"/>
            <a:ext cx="8458200" cy="1800720"/>
          </a:xfrm>
          <a:prstGeom prst="rect">
            <a:avLst/>
          </a:prstGeom>
          <a:solidFill>
            <a:srgbClr val="0000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作者的遭遇和昭君太相似了：昭君入宫见妒，他入朝见妒；昭君“一去紫台连朔漠”，  他“漂泊西南天地间”；昭君思念故土，魂魄月夜归来；他思念长安，“每依北斗望京华”。怨恨之情当然充斥内心，但他不敢明说，所以借王昭君之事来抒写自己的悲愤，寄托自己的身世家国之情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7200" y="838080"/>
            <a:ext cx="838188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</a:rPr>
              <a:t>【教学目的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66ff33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66ff33"/>
                </a:solidFill>
                <a:latin typeface="Times New Roman"/>
              </a:rPr>
              <a:t>、感受诗歌的深沉感情，领会诗歌主旨。</a:t>
            </a:r>
            <a:br>
              <a:rPr sz="4000"/>
            </a:br>
            <a:r>
              <a:rPr b="1" lang="zh-CN" sz="4000" spc="-1" strike="noStrike">
                <a:solidFill>
                  <a:srgbClr val="66ff33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66ff33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66ff33"/>
                </a:solidFill>
                <a:latin typeface="Times New Roman"/>
              </a:rPr>
              <a:t>、赏析名句，体会杜甫沉郁顿挫的诗风。</a:t>
            </a:r>
            <a:br>
              <a:rPr sz="4000"/>
            </a:br>
            <a:r>
              <a:rPr b="1" lang="zh-CN" sz="4000" spc="-1" strike="noStrike">
                <a:solidFill>
                  <a:srgbClr val="66ff33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66ff33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66ff33"/>
                </a:solidFill>
                <a:latin typeface="Times New Roman"/>
              </a:rPr>
              <a:t>、通过讨论唤起学生对历史人物的关注及思考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905120" y="1447920"/>
            <a:ext cx="1676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讨论：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2565360"/>
            <a:ext cx="705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 Black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6600ff"/>
                </a:solidFill>
                <a:latin typeface="Arial Black"/>
                <a:ea typeface="楷体_GB2312"/>
              </a:rPr>
              <a:t>王昭君在你心目中是一个怎样的形象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9280" y="981000"/>
            <a:ext cx="8686800" cy="5029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华文中宋"/>
              </a:rPr>
              <a:t>咏怀古迹（其三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杜甫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群山万壑赴荆门，生长明妃尚有村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一去紫台连朔漠，独留青冢向黄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画图省识春风面，环珮空归月夜魂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千载琵琶作胡语，分明怨恨曲中论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520" y="380880"/>
            <a:ext cx="82296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ff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ffccff"/>
                </a:solidFill>
                <a:latin typeface="Times New Roman"/>
              </a:rPr>
              <a:t>饱含感情地朗读这首诗歌，找出其中点明作者感情的词语。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743200" y="4495680"/>
            <a:ext cx="30481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7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怨恨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9480" y="1066680"/>
            <a:ext cx="85345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ff"/>
                </a:solidFill>
                <a:latin typeface="Times New Roman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ff99ff"/>
                </a:solidFill>
                <a:latin typeface="Times New Roman"/>
                <a:ea typeface="楷体_GB2312"/>
              </a:rPr>
              <a:t>这首诗给我们塑造了一个什么样的人物形象？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276720" y="3352680"/>
            <a:ext cx="2666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7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王昭君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1371600"/>
            <a:ext cx="8686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首诗写的是昭君的怨恨，但首联一开始并没有写她的怨恨，那写的是什么？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>
            <a:lum contrast="-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685800"/>
            <a:ext cx="8534160" cy="1312920"/>
          </a:xfrm>
          <a:prstGeom prst="rect">
            <a:avLst/>
          </a:prstGeom>
          <a:solidFill>
            <a:srgbClr val="ff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写景。 “群山万壑赴荆门”，山是群山起伏，连绵不绝；水是万壑争流，奔腾不息，直赴荆门山。其中的“赴”字用了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拟人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的手法，把迤逦不绝的千山万壑陡然间写活了，既有飞动之势，又有变幻之姿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1523880"/>
            <a:ext cx="83818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开篇不写昭君，却描绘了这样一幅图画，目的何在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28600" y="457200"/>
            <a:ext cx="8915400" cy="703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引出歌咏的对象王昭君。正是因为有了如此雄奇的山水，钟灵毓秀，才孕育出昭君这样美貌的、不平凡的女子。诗人以雄伟的山川来侧面烘托王昭君这个“窈窕红颜”，把她写得惊天动地。同时也说明了在作者心目中，生长在这里的昭君决不只是一个明眸皓齿、秀发冰肌的弱女子，而是一位具有山川般坚强性格的奇伟女性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19:16:59Z</dcterms:created>
  <dc:creator/>
  <dc:description/>
  <dc:language>en-US</dc:language>
  <cp:lastModifiedBy>杨正华</cp:lastModifiedBy>
  <dcterms:modified xsi:type="dcterms:W3CDTF">2007-04-29T09:17:31Z</dcterms:modified>
  <cp:revision>0</cp:revision>
  <dc:subject/>
  <dc:title/>
</cp:coreProperties>
</file>