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EEF-8D36-482B-BA39-9EA990C8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8B0-8A5A-4211-ABDF-D41F68B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5D29-349F-4A4C-ADD3-5B35CCAF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0CE-9259-47D8-BDE6-A88A94A0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E90-B658-46F4-A90F-CED1A651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5D4-21F4-448C-8D2A-37249E40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0D7-E1DE-4F4A-AC93-11FFB577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B43-A604-4968-B0EC-A7B63C20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9F1-14C4-4626-956B-61FA15F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4E20-7685-4F8F-A717-28F5629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3289-7AEA-4DFD-AC0A-ED0F5263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E2A-E511-4756-9379-524BC75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126E-C4CF-49E5-9C73-36409A481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676908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单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说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科普类说明文之美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科学之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识之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明晰之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科普文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科学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实事求是的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文内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阅读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阅读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握对象—把握说明对象的特征和本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语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语段中找出事物的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②从文章中概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炼出事物的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清思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弄清楚说明的条理和说明的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间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逻辑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定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打比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数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比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图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摹状态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会语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语言的准确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明语言平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明的特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艺性说明文语言的生动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物游戏之谜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立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中国现代动物研究专家，科普作家，国际行为分析协会会员，曾任少年儿童出版社副总编辑。作品有《动物游戏之谜》，《会说话的动物》，《黑猩猩属于人科动物吗？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692280"/>
            <a:ext cx="8497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科学思维过程：提出问题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分析问题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——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解决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280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形式：　　总——分——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　　　　　演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自娱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动物为什么游戏　　　还有待更深入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学习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　　　锻炼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14000" y="620640"/>
            <a:ext cx="72900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现象　　——　　特征　　——　　原因　——　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404640"/>
            <a:ext cx="788508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１－４）举例说明动物的游戏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５－８）说明动物游戏的基本类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９－１４）概述动物游戏的目的性研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１５）说明要完全揭开动物游戏之谜还需要深入研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26920" y="765000"/>
            <a:ext cx="79218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明对象和说明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物科学家的研究结论，具体来说，就是动物为什么要进行游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章说明的重点是科学家对动物为什么要进行游戏的研究，在介绍说明每一种假说时，都介绍了各自支持假说的证据或理论分析。作者之所以称其为假说，是因为这些说法或观点尚有待实践的检验和证明，才能上升为理论，成为学说。“假说”一词的使用，表现出说明文的准确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1484280"/>
            <a:ext cx="77054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明方法举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例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类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定义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比喻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题目全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物游戏之谜”，是说这还是个谜，还需要研究；并不是说科学家已经揭开了动物游戏之谜，更不是说本文要揭开动物游戏之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19:40Z</dcterms:created>
  <dc:creator>PC</dc:creator>
  <dc:description/>
  <dc:language>en-US</dc:language>
  <cp:lastModifiedBy>zxj</cp:lastModifiedBy>
  <dcterms:modified xsi:type="dcterms:W3CDTF">2007-05-28T03:15:40Z</dcterms:modified>
  <cp:revision>11</cp:revision>
  <dc:subject/>
  <dc:title>幻灯片 1</dc:title>
</cp:coreProperties>
</file>