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1C31-C913-4A51-AD3B-207244F6894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解答第三题，引出第四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6148-AB3C-429C-85EB-242B8E2B7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F737-D5A9-4C64-B9D2-2B41F35D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6518-03D1-4B58-B956-F44520C5A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FCD6-6046-46CA-B952-80F9D74E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A9F7-7C18-49D6-9B99-14FDED9C3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2C50-6227-49C5-B988-C834B554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81B2-917D-4FAD-96E3-53DDD25D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CEB6-D775-4B8B-85B9-DB572CE8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F326-B724-4A64-A16B-99D0327D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FBDD-222A-4300-B209-FB7F6660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C293-F705-496A-BD35-63164E93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C3A8-2683-4842-A4EF-30C8DBD3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B8D6-E871-48B1-A5FD-10C384D6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94C8-7148-4758-97EA-D6AB5149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55E0-3A50-4707-A807-A15B1EAD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48B0-D832-4208-9DFE-FCB62DEA3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B3AE-C06A-43F4-B915-0E630D3B5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E9B6-0713-47B3-A196-3EBFBB61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1A7B-EBC0-4ABD-8A9A-C0589405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A867-ECF6-41BE-8C7F-3A814C6E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A467-41A0-4C79-92A9-CC28478B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359D-8D70-4F1B-ACDF-9D18BE35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BA00-B599-4190-9351-81A63C48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3003-DD83-4C60-A59B-EEE10696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01F2-A30C-4186-BE48-B89AF99AA2D0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9758-AB49-4EE6-935D-D42E60AB458C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5.xml"/><Relationship Id="rId6" Type="http://schemas.openxmlformats.org/officeDocument/2006/relationships/slide" Target="slide36.xm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228600"/>
            <a:ext cx="1981080" cy="76428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imes New Roman"/>
                <a:ea typeface="隶书"/>
              </a:rPr>
              <a:t>小故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304920"/>
            <a:ext cx="8686800" cy="29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2c4c0e"/>
                </a:solidFill>
                <a:latin typeface="Times New Roman"/>
                <a:ea typeface="华文彩云"/>
              </a:rPr>
              <a:t>半部论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半部论语治天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则成语常用来强调学习儒家经典的重要性。来源于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罗大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鹤林玉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北宋著名的政治家赵普，原先是后周当节度使的赵匡胤手下的推官。公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，赵匡胤率军北上，部队到达陈桥时，赵普为赵匡胤出谋划策，发动兵变。赵匡胤黄袍加身，做了皇帝。接着，赵普又辅佐宋太祖东征西讨，统一了全国。后来，宋太祖任命他为宰相。宋太祖死后，他的弟弟赵匡义继位，史称宋太宗。赵普仍然担任宰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一次宋太宗和赵普闲聊，宋太宗随便问道：“有人说你只读一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论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这是真的吗？”赵普老老实实地回答说：“臣所知道的，确实不超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论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部分。过去臣以半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论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辅助太祖平定天下，现在臣用半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论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辅助陛下，便天下太平。”后来赵普因为年老体衰病逝，家人打开他的书箧，里面果真只有一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论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普性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深沉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有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岸谷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虽多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忌克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而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能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以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天下事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己任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深沉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沉着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岸谷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严肃刚正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而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但是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忌克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忌妒刻薄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以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为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把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当作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1042920" y="3933720"/>
            <a:ext cx="712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42920" y="4022640"/>
            <a:ext cx="7489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赵普性情沉着而严肃刚正，尽管对人常忌妒刻薄，但能把天下事作为自己的责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宋初，在相位者多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龌龊循默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普刚毅果断，未有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其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比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42560" y="2060280"/>
            <a:ext cx="882036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黑体"/>
              </a:rPr>
              <a:t>龌龊：</a:t>
            </a:r>
            <a:r>
              <a:rPr b="0" lang="zh-CN" sz="3600" spc="-1" strike="noStrike">
                <a:solidFill>
                  <a:srgbClr val="0000ff"/>
                </a:solidFill>
                <a:latin typeface="Comic Sans MS"/>
                <a:ea typeface="黑体"/>
              </a:rPr>
              <a:t>过分谨慎</a:t>
            </a: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黑体"/>
              </a:rPr>
              <a:t>      其：</a:t>
            </a:r>
            <a:r>
              <a:rPr b="0" lang="zh-CN" sz="3600" spc="-1" strike="noStrike">
                <a:solidFill>
                  <a:srgbClr val="0000ff"/>
                </a:solidFill>
                <a:latin typeface="Comic Sans MS"/>
                <a:ea typeface="黑体"/>
              </a:rPr>
              <a:t>他，代赵普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黑体"/>
              </a:rPr>
              <a:t>循默：</a:t>
            </a:r>
            <a:r>
              <a:rPr b="0" lang="zh-CN" sz="3600" spc="-1" strike="noStrike">
                <a:solidFill>
                  <a:srgbClr val="0000ff"/>
                </a:solidFill>
                <a:latin typeface="Comic Sans MS"/>
                <a:ea typeface="黑体"/>
              </a:rPr>
              <a:t>按常规办事，不多言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826920" y="458136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71640" y="4076640"/>
            <a:ext cx="770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宋朝初年，在宰相职位的人大多拘谨且遇事沉默不语，赵普却刚毅果断，没有人能与他相比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尝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奏荐某人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某官，太祖不用。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Comic Sans MS"/>
                <a:ea typeface="华文新魏"/>
              </a:rPr>
              <a:t>普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明日复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Comic Sans MS"/>
                <a:ea typeface="华文新魏"/>
              </a:rPr>
              <a:t>奏其人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亦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不用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尝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曾经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为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担任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明日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第二天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复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又，再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亦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也，还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258920" y="4365720"/>
            <a:ext cx="640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58920" y="3745080"/>
            <a:ext cx="6842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（他）曾经奏秉皇上推荐某人担任某官，宋太祖没有用。赵普第二天又上奏（推荐）此人，太祖还是没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明日，普又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以其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人奏，太祖怒，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碎裂案牍掷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Comic Sans MS"/>
                <a:ea typeface="华文新魏"/>
              </a:rPr>
              <a:t>地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普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颜色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不变，跪而拾之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以归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。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9612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以：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将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    其：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那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     碎裂：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把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撕碎（使动用法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案牍：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奏章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        掷：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扔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       颜色：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面容颜色，脸色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以：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连词，不译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          归：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回家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826920" y="4221000"/>
            <a:ext cx="741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42920" y="4005360"/>
            <a:ext cx="7201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第三天，赵普还是将那个人奏荐给皇上，太祖生气了，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他的奏章撕碎了扔在地上，赵普面色不改，跪在地上把碎片拾起来带回了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他日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补缀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旧纸，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复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Comic Sans MS"/>
                <a:ea typeface="华文新魏"/>
              </a:rPr>
              <a:t>奏如初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。太祖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乃悟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卒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用其人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黑体"/>
              </a:rPr>
              <a:t>补缀：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  <a:ea typeface="黑体"/>
              </a:rPr>
              <a:t>修补连结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黑体"/>
              </a:rPr>
              <a:t>       复：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  <a:ea typeface="黑体"/>
              </a:rPr>
              <a:t>又，再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黑体"/>
              </a:rPr>
              <a:t>乃：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  <a:ea typeface="黑体"/>
              </a:rPr>
              <a:t>才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黑体"/>
              </a:rPr>
              <a:t>      悟：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  <a:ea typeface="黑体"/>
              </a:rPr>
              <a:t>醒悟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黑体"/>
              </a:rPr>
              <a:t>     卒：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  <a:ea typeface="黑体"/>
              </a:rPr>
              <a:t>终于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1187280" y="4581360"/>
            <a:ext cx="691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32000" y="4365720"/>
            <a:ext cx="7416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过些日子，（他）将旧纸片缝补好，再次像当初一样上奏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宋太祖才醒悟，终于任用了那个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50920" y="9079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赵普年轻时学习官吏（应处理）的事务，学问不多，等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做了宰相，太祖常劝说他要读书。赵普晚年读书勤奋，每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退朝后）回到自己的住宅，关上门打开书箱拿出书，整天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书。等到第二天处理政务，处决犯人如流水。他死后，家里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人打开书箱看到里面的书籍，原来是一部《论语》。赵普性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沉着且为人严肃刚正，虽然对人忌妒刻薄，但是他能够以天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大事作为自己的责任。宋朝初年，在宰相职位上的人，大多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质恶劣，按常规办事，不多言语，赵普却刚毅果断，没有谁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和他比的。他尝试上奏推荐某人担任某个官职，太祖不用这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人。赵普明天又上奏请用这个人（担任某官），太祖还是不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第三天，赵普又把这个人（担任某官的事）上奏太祖，太祖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怒了，把奏章撕碎了扔在地上，赵普脸色不变，跪在地上把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碎的奏章拾起来回到家。过了些日子赵普把撕碎的旧纸片修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连接起来，又像当初一样上奏。太祖这才清醒过来，终于任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了那个人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2" action="ppaction://hlinksldjump"/>
          </p:cNvPr>
          <p:cNvSpPr/>
          <p:nvPr/>
        </p:nvSpPr>
        <p:spPr>
          <a:xfrm>
            <a:off x="457200" y="0"/>
            <a:ext cx="6400800" cy="1143000"/>
          </a:xfrm>
          <a:custGeom>
            <a:avLst/>
            <a:gdLst>
              <a:gd name="textAreaLeft" fmla="*/ 73800 w 6400800"/>
              <a:gd name="textAreaRight" fmla="*/ 6327000 w 6400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120929" h="21600">
                <a:moveTo>
                  <a:pt x="0" y="0"/>
                </a:moveTo>
                <a:lnTo>
                  <a:pt x="120929" y="0"/>
                </a:lnTo>
                <a:lnTo>
                  <a:pt x="120929" y="21600"/>
                </a:lnTo>
                <a:lnTo>
                  <a:pt x="0" y="21600"/>
                </a:lnTo>
                <a:close/>
              </a:path>
              <a:path fill="lightenLess" w="120929" h="21600">
                <a:moveTo>
                  <a:pt x="0" y="0"/>
                </a:moveTo>
                <a:lnTo>
                  <a:pt x="120929" y="0"/>
                </a:lnTo>
                <a:lnTo>
                  <a:pt x="119529" y="1400"/>
                </a:lnTo>
                <a:lnTo>
                  <a:pt x="1400" y="1400"/>
                </a:lnTo>
                <a:close/>
              </a:path>
              <a:path fill="darken" w="120929" h="21600">
                <a:moveTo>
                  <a:pt x="120929" y="0"/>
                </a:moveTo>
                <a:lnTo>
                  <a:pt x="120929" y="21600"/>
                </a:lnTo>
                <a:lnTo>
                  <a:pt x="119529" y="20200"/>
                </a:lnTo>
                <a:lnTo>
                  <a:pt x="119529" y="1400"/>
                </a:lnTo>
                <a:close/>
              </a:path>
              <a:path fill="darkenLess" w="120929" h="21600">
                <a:moveTo>
                  <a:pt x="120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529" y="20200"/>
                </a:lnTo>
                <a:close/>
              </a:path>
              <a:path fill="lighten" w="120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rId3" action="ppaction://hlinksldjump"/>
          </p:cNvPr>
          <p:cNvSpPr/>
          <p:nvPr/>
        </p:nvSpPr>
        <p:spPr>
          <a:xfrm>
            <a:off x="3809880" y="1523880"/>
            <a:ext cx="3124440" cy="914400"/>
          </a:xfrm>
          <a:custGeom>
            <a:avLst/>
            <a:gdLst>
              <a:gd name="textAreaLeft" fmla="*/ 59040 w 3124440"/>
              <a:gd name="textAreaRight" fmla="*/ 3065400 w 31244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3785" h="21600">
                <a:moveTo>
                  <a:pt x="0" y="0"/>
                </a:moveTo>
                <a:lnTo>
                  <a:pt x="73785" y="0"/>
                </a:lnTo>
                <a:lnTo>
                  <a:pt x="73785" y="21600"/>
                </a:lnTo>
                <a:lnTo>
                  <a:pt x="0" y="21600"/>
                </a:lnTo>
                <a:close/>
              </a:path>
              <a:path fill="lightenLess" w="73785" h="21600">
                <a:moveTo>
                  <a:pt x="0" y="0"/>
                </a:moveTo>
                <a:lnTo>
                  <a:pt x="73785" y="0"/>
                </a:lnTo>
                <a:lnTo>
                  <a:pt x="72385" y="1400"/>
                </a:lnTo>
                <a:lnTo>
                  <a:pt x="1400" y="1400"/>
                </a:lnTo>
                <a:close/>
              </a:path>
              <a:path fill="darken" w="73785" h="21600">
                <a:moveTo>
                  <a:pt x="73785" y="0"/>
                </a:moveTo>
                <a:lnTo>
                  <a:pt x="73785" y="21600"/>
                </a:lnTo>
                <a:lnTo>
                  <a:pt x="72385" y="20200"/>
                </a:lnTo>
                <a:lnTo>
                  <a:pt x="72385" y="1400"/>
                </a:lnTo>
                <a:close/>
              </a:path>
              <a:path fill="darkenLess" w="73785" h="21600">
                <a:moveTo>
                  <a:pt x="737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385" y="20200"/>
                </a:lnTo>
                <a:close/>
              </a:path>
              <a:path fill="lighten" w="737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rId4" action="ppaction://hlinksldjump"/>
          </p:cNvPr>
          <p:cNvSpPr/>
          <p:nvPr/>
        </p:nvSpPr>
        <p:spPr>
          <a:xfrm>
            <a:off x="0" y="2895480"/>
            <a:ext cx="2971800" cy="914400"/>
          </a:xfrm>
          <a:custGeom>
            <a:avLst/>
            <a:gdLst>
              <a:gd name="textAreaLeft" fmla="*/ 59040 w 2971800"/>
              <a:gd name="textAreaRight" fmla="*/ 2912760 w 2971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rId5" action="ppaction://hlinksldjump"/>
          </p:cNvPr>
          <p:cNvSpPr/>
          <p:nvPr/>
        </p:nvSpPr>
        <p:spPr>
          <a:xfrm>
            <a:off x="6629400" y="3048120"/>
            <a:ext cx="2514600" cy="2743200"/>
          </a:xfrm>
          <a:custGeom>
            <a:avLst/>
            <a:gdLst>
              <a:gd name="textAreaLeft" fmla="*/ 162720 w 2514600"/>
              <a:gd name="textAreaRight" fmla="*/ 2351880 w 2514600"/>
              <a:gd name="textAreaTop" fmla="*/ 162720 h 2743200"/>
              <a:gd name="textAreaBottom" fmla="*/ 2580480 h 2743200"/>
            </a:gdLst>
            <a:ahLst/>
            <a:rect l="textAreaLeft" t="textAreaTop" r="textAreaRight" b="textAreaBottom"/>
            <a:pathLst>
              <a:path w="21600" h="23563">
                <a:moveTo>
                  <a:pt x="0" y="0"/>
                </a:moveTo>
                <a:lnTo>
                  <a:pt x="21600" y="0"/>
                </a:lnTo>
                <a:lnTo>
                  <a:pt x="21600" y="23563"/>
                </a:lnTo>
                <a:lnTo>
                  <a:pt x="0" y="23563"/>
                </a:lnTo>
                <a:close/>
              </a:path>
              <a:path fill="lightenLess" w="21600" h="235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63">
                <a:moveTo>
                  <a:pt x="21600" y="0"/>
                </a:moveTo>
                <a:lnTo>
                  <a:pt x="21600" y="23563"/>
                </a:lnTo>
                <a:lnTo>
                  <a:pt x="20200" y="22163"/>
                </a:lnTo>
                <a:lnTo>
                  <a:pt x="20200" y="1400"/>
                </a:lnTo>
                <a:close/>
              </a:path>
              <a:path fill="darkenLess" w="21600" h="23563">
                <a:moveTo>
                  <a:pt x="21600" y="23563"/>
                </a:moveTo>
                <a:lnTo>
                  <a:pt x="0" y="23563"/>
                </a:lnTo>
                <a:lnTo>
                  <a:pt x="1400" y="22163"/>
                </a:lnTo>
                <a:lnTo>
                  <a:pt x="20200" y="22163"/>
                </a:lnTo>
                <a:close/>
              </a:path>
              <a:path fill="lighten" w="21600" h="23563">
                <a:moveTo>
                  <a:pt x="0" y="235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6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6" action="ppaction://hlinksldjump"/>
          </p:cNvPr>
          <p:cNvSpPr/>
          <p:nvPr/>
        </p:nvSpPr>
        <p:spPr>
          <a:xfrm>
            <a:off x="1371600" y="3886200"/>
            <a:ext cx="2895480" cy="2971800"/>
          </a:xfrm>
          <a:custGeom>
            <a:avLst/>
            <a:gdLst>
              <a:gd name="textAreaLeft" fmla="*/ 187560 w 2895480"/>
              <a:gd name="textAreaRight" fmla="*/ 2707920 w 2895480"/>
              <a:gd name="textAreaTop" fmla="*/ 187560 h 2971800"/>
              <a:gd name="textAreaBottom" fmla="*/ 2784240 h 2971800"/>
            </a:gdLst>
            <a:ahLst/>
            <a:rect l="textAreaLeft" t="textAreaTop" r="textAreaRight" b="textAreaBottom"/>
            <a:pathLst>
              <a:path w="21600" h="22169">
                <a:moveTo>
                  <a:pt x="0" y="0"/>
                </a:moveTo>
                <a:lnTo>
                  <a:pt x="21600" y="0"/>
                </a:lnTo>
                <a:lnTo>
                  <a:pt x="21600" y="22169"/>
                </a:lnTo>
                <a:lnTo>
                  <a:pt x="0" y="22169"/>
                </a:lnTo>
                <a:close/>
              </a:path>
              <a:path fill="lightenLess" w="21600" h="221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69">
                <a:moveTo>
                  <a:pt x="21600" y="0"/>
                </a:moveTo>
                <a:lnTo>
                  <a:pt x="21600" y="22169"/>
                </a:lnTo>
                <a:lnTo>
                  <a:pt x="20200" y="20769"/>
                </a:lnTo>
                <a:lnTo>
                  <a:pt x="20200" y="1400"/>
                </a:lnTo>
                <a:close/>
              </a:path>
              <a:path fill="darkenLess" w="21600" h="22169">
                <a:moveTo>
                  <a:pt x="21600" y="22169"/>
                </a:moveTo>
                <a:lnTo>
                  <a:pt x="0" y="22169"/>
                </a:lnTo>
                <a:lnTo>
                  <a:pt x="1400" y="20769"/>
                </a:lnTo>
                <a:lnTo>
                  <a:pt x="20200" y="20769"/>
                </a:lnTo>
                <a:close/>
              </a:path>
              <a:path fill="lighten" w="21600" h="22169">
                <a:moveTo>
                  <a:pt x="0" y="221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6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61160" y="62024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走近赵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67840" y="279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检查译文，改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990720" y="0"/>
            <a:ext cx="70102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90920" y="3886200"/>
            <a:ext cx="9903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429000"/>
            <a:ext cx="6858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3048120"/>
            <a:ext cx="198144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77320" y="2743200"/>
            <a:ext cx="83808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1676520"/>
            <a:ext cx="19051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533520"/>
            <a:ext cx="6858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476200" y="476964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走近赵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533520"/>
            <a:ext cx="8534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赵普年轻时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熟悉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官吏（应处理）的事务，学问不多，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到做了宰相，太祖常劝说他要读书。赵普晚年读书勤奋，每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退朝后）回到自己的住宅，关上门打开书箱拿出书，整天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书。等到第二天处理政务，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处理决断很快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。他死后，家里的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打开书箱看到里面的书籍，原来是一部《论语》。赵普性情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着且为人严肃刚正，虽然对人忌妒刻薄，但是他能够以天下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事作为自己的责任。宋朝初年，在宰相职位上的人，大多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过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谨慎拘于小节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按常规办事，不多言语，赵普却刚毅果断，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有谁能和他比的。他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曾经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上奏推荐某人担任某个官职，太祖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用这个人。赵普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第二天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又上奏请这个人（担任某官），太祖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是不用。第三天，赵普又把这个人（担任某官的事）上奏太祖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太祖发怒了，把奏章撕碎了扔在地上，赵普脸色不变，跪在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上把撕碎的奏章拾起来回到家。过了些日子赵普把撕碎的旧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片修补连接起来，又像当初一样上奏。太祖这才清醒过来，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于任用了那个人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rcRect l="35004" t="23001" r="13000" b="25005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0" y="228600"/>
            <a:ext cx="9009000" cy="1052640"/>
            <a:chOff x="0" y="228600"/>
            <a:chExt cx="9009000" cy="1052640"/>
          </a:xfrm>
        </p:grpSpPr>
        <p:grpSp>
          <p:nvGrpSpPr>
            <p:cNvPr id="229" name=""/>
            <p:cNvGrpSpPr/>
            <p:nvPr/>
          </p:nvGrpSpPr>
          <p:grpSpPr>
            <a:xfrm>
              <a:off x="290520" y="336600"/>
              <a:ext cx="711360" cy="474840"/>
              <a:chOff x="290520" y="336600"/>
              <a:chExt cx="711360" cy="474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90520" y="336600"/>
                <a:ext cx="437400" cy="474840"/>
              </a:xfrm>
              <a:prstGeom prst="rect">
                <a:avLst/>
              </a:prstGeom>
              <a:solidFill>
                <a:srgbClr val="703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73560" y="3366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03d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414360" y="758880"/>
              <a:ext cx="737640" cy="474840"/>
              <a:chOff x="414360" y="758880"/>
              <a:chExt cx="737640" cy="474840"/>
            </a:xfrm>
          </p:grpSpPr>
          <p:sp>
            <p:nvSpPr>
              <p:cNvPr id="233" name=""/>
              <p:cNvSpPr/>
              <p:nvPr/>
            </p:nvSpPr>
            <p:spPr>
              <a:xfrm>
                <a:off x="414360" y="758880"/>
                <a:ext cx="421560" cy="47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83000" y="7588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0" y="6858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b2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35040" y="228600"/>
              <a:ext cx="31680" cy="1052640"/>
            </a:xfrm>
            <a:prstGeom prst="rect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316080" y="10508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b8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139840" y="372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重点字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90120" y="24861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1371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太祖常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读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23880" y="20574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能以天下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己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56960" y="2819520"/>
            <a:ext cx="14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以其人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33280" y="3581280"/>
            <a:ext cx="14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跪而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58920" y="1628640"/>
            <a:ext cx="380880" cy="2438640"/>
          </a:xfrm>
          <a:custGeom>
            <a:avLst/>
            <a:gdLst>
              <a:gd name="textAreaLeft" fmla="*/ 243360 w 380880"/>
              <a:gd name="textAreaRight" fmla="*/ 381240 w 38088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70400" y="49528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329560" y="58672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尝奏荐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某人为某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45880" y="4495680"/>
            <a:ext cx="82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53840" y="5181480"/>
            <a:ext cx="210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以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天下事为己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523880" y="449568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66280" y="13953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介词，拿，用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80560" y="2025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把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786920" y="287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把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42720" y="36050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连词，然后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60880" y="4464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担任，做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85360" y="5149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作为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46680" y="58356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担任，做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rcRect l="35004" t="23001" r="13000" b="25005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grpSp>
        <p:nvGrpSpPr>
          <p:cNvPr id="258" name=""/>
          <p:cNvGrpSpPr/>
          <p:nvPr/>
        </p:nvGrpSpPr>
        <p:grpSpPr>
          <a:xfrm>
            <a:off x="0" y="228600"/>
            <a:ext cx="9009000" cy="1052640"/>
            <a:chOff x="0" y="228600"/>
            <a:chExt cx="9009000" cy="1052640"/>
          </a:xfrm>
        </p:grpSpPr>
        <p:grpSp>
          <p:nvGrpSpPr>
            <p:cNvPr id="259" name=""/>
            <p:cNvGrpSpPr/>
            <p:nvPr/>
          </p:nvGrpSpPr>
          <p:grpSpPr>
            <a:xfrm>
              <a:off x="290520" y="336600"/>
              <a:ext cx="711360" cy="474840"/>
              <a:chOff x="290520" y="336600"/>
              <a:chExt cx="711360" cy="474840"/>
            </a:xfrm>
          </p:grpSpPr>
          <p:sp>
            <p:nvSpPr>
              <p:cNvPr id="260" name=""/>
              <p:cNvSpPr/>
              <p:nvPr/>
            </p:nvSpPr>
            <p:spPr>
              <a:xfrm>
                <a:off x="290520" y="336600"/>
                <a:ext cx="437400" cy="474840"/>
              </a:xfrm>
              <a:prstGeom prst="rect">
                <a:avLst/>
              </a:prstGeom>
              <a:solidFill>
                <a:srgbClr val="703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73560" y="3366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03d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414360" y="758880"/>
              <a:ext cx="737640" cy="474840"/>
              <a:chOff x="414360" y="758880"/>
              <a:chExt cx="737640" cy="474840"/>
            </a:xfrm>
          </p:grpSpPr>
          <p:sp>
            <p:nvSpPr>
              <p:cNvPr id="263" name=""/>
              <p:cNvSpPr/>
              <p:nvPr/>
            </p:nvSpPr>
            <p:spPr>
              <a:xfrm>
                <a:off x="414360" y="758880"/>
                <a:ext cx="421560" cy="47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83000" y="7588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0" y="6858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b2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5040" y="228600"/>
              <a:ext cx="31680" cy="1052640"/>
            </a:xfrm>
            <a:prstGeom prst="rect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16080" y="10508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b8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186640" y="320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古今异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02200" y="19051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１．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在相位者多龌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循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617840" y="40384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２．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普颜色不变，跪而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之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99320" y="4824360"/>
            <a:ext cx="184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这幅画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颜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92560" y="2635200"/>
            <a:ext cx="270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这乞丐衣衫褴褛，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龌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19320" y="20574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219320" y="41911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77920" y="19288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形容人过分谨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26680" y="2614680"/>
            <a:ext cx="77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形容不干净、肮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84400" y="3930480"/>
            <a:ext cx="14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面容神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546880" y="4800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色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rcRect l="35004" t="23001" r="13000" b="25005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grpSp>
        <p:nvGrpSpPr>
          <p:cNvPr id="280" name=""/>
          <p:cNvGrpSpPr/>
          <p:nvPr/>
        </p:nvGrpSpPr>
        <p:grpSpPr>
          <a:xfrm>
            <a:off x="0" y="228600"/>
            <a:ext cx="9009000" cy="1052640"/>
            <a:chOff x="0" y="228600"/>
            <a:chExt cx="9009000" cy="1052640"/>
          </a:xfrm>
        </p:grpSpPr>
        <p:grpSp>
          <p:nvGrpSpPr>
            <p:cNvPr id="281" name=""/>
            <p:cNvGrpSpPr/>
            <p:nvPr/>
          </p:nvGrpSpPr>
          <p:grpSpPr>
            <a:xfrm>
              <a:off x="290520" y="336600"/>
              <a:ext cx="711360" cy="474840"/>
              <a:chOff x="290520" y="336600"/>
              <a:chExt cx="711360" cy="474840"/>
            </a:xfrm>
          </p:grpSpPr>
          <p:sp>
            <p:nvSpPr>
              <p:cNvPr id="282" name=""/>
              <p:cNvSpPr/>
              <p:nvPr/>
            </p:nvSpPr>
            <p:spPr>
              <a:xfrm>
                <a:off x="290520" y="336600"/>
                <a:ext cx="437400" cy="474840"/>
              </a:xfrm>
              <a:prstGeom prst="rect">
                <a:avLst/>
              </a:prstGeom>
              <a:solidFill>
                <a:srgbClr val="703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73560" y="3366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03d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414360" y="758880"/>
              <a:ext cx="737640" cy="474840"/>
              <a:chOff x="414360" y="758880"/>
              <a:chExt cx="737640" cy="474840"/>
            </a:xfrm>
          </p:grpSpPr>
          <p:sp>
            <p:nvSpPr>
              <p:cNvPr id="285" name=""/>
              <p:cNvSpPr/>
              <p:nvPr/>
            </p:nvSpPr>
            <p:spPr>
              <a:xfrm>
                <a:off x="414360" y="758880"/>
                <a:ext cx="421560" cy="47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3000" y="7588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0" y="6858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b2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35040" y="228600"/>
              <a:ext cx="31680" cy="1052640"/>
            </a:xfrm>
            <a:prstGeom prst="rect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316080" y="10508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b8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2186640" y="320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古今异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87480" y="1744560"/>
            <a:ext cx="26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３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及次日临政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处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如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90720" y="1905120"/>
            <a:ext cx="304560" cy="1371600"/>
          </a:xfrm>
          <a:custGeom>
            <a:avLst/>
            <a:gdLst>
              <a:gd name="textAreaLeft" fmla="*/ 194760 w 304560"/>
              <a:gd name="textAreaRight" fmla="*/ 304920 w 30456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15200" y="2735280"/>
            <a:ext cx="37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这个罪大恶极的杀人犯今天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处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21680" y="17445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处理决断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97760" y="2781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枪毙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472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366080" y="5181480"/>
            <a:ext cx="89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《宋史》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371600" y="1447920"/>
            <a:ext cx="64008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赵普</a:t>
            </a:r>
            <a:endParaRPr b="0" lang="en-US" sz="7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split dir="in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990720" y="0"/>
            <a:ext cx="70102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21400" y="2637000"/>
            <a:ext cx="133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课文写了赵普的哪两件事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用简洁的语言说出来。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157240" y="-22464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探访赵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73280" y="3860640"/>
            <a:ext cx="46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你认为赵普是一个什么样的人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你的根据是什么？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3203640" y="260280"/>
            <a:ext cx="2376360" cy="23544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rcRect l="35004" t="23001" r="13000" b="25005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0" y="228600"/>
            <a:ext cx="9009000" cy="1052640"/>
            <a:chOff x="0" y="228600"/>
            <a:chExt cx="9009000" cy="1052640"/>
          </a:xfrm>
        </p:grpSpPr>
        <p:grpSp>
          <p:nvGrpSpPr>
            <p:cNvPr id="306" name=""/>
            <p:cNvGrpSpPr/>
            <p:nvPr/>
          </p:nvGrpSpPr>
          <p:grpSpPr>
            <a:xfrm>
              <a:off x="290520" y="336600"/>
              <a:ext cx="711360" cy="474840"/>
              <a:chOff x="290520" y="336600"/>
              <a:chExt cx="711360" cy="474840"/>
            </a:xfrm>
          </p:grpSpPr>
          <p:sp>
            <p:nvSpPr>
              <p:cNvPr id="307" name=""/>
              <p:cNvSpPr/>
              <p:nvPr/>
            </p:nvSpPr>
            <p:spPr>
              <a:xfrm>
                <a:off x="290520" y="336600"/>
                <a:ext cx="437400" cy="474840"/>
              </a:xfrm>
              <a:prstGeom prst="rect">
                <a:avLst/>
              </a:prstGeom>
              <a:solidFill>
                <a:srgbClr val="703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73560" y="3366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03d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414360" y="758880"/>
              <a:ext cx="737640" cy="474840"/>
              <a:chOff x="414360" y="758880"/>
              <a:chExt cx="737640" cy="474840"/>
            </a:xfrm>
          </p:grpSpPr>
          <p:sp>
            <p:nvSpPr>
              <p:cNvPr id="310" name=""/>
              <p:cNvSpPr/>
              <p:nvPr/>
            </p:nvSpPr>
            <p:spPr>
              <a:xfrm>
                <a:off x="414360" y="758880"/>
                <a:ext cx="421560" cy="47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3000" y="7588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0" y="6858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b2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35040" y="228600"/>
              <a:ext cx="31680" cy="1052640"/>
            </a:xfrm>
            <a:prstGeom prst="rect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6080" y="10508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b8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2186640" y="320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人物形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47480" y="14716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赵普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63040" y="220500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刻苦勤奋，为国读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08160" y="458136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毅力超人，意志坚定，刚毅果断执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65520" y="29242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事例１：为国勤奋读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9640" y="3716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培根“阅读使人充实，史鉴使人明智，诗歌使人巧慧，博物使人深沉，伦理之学使人庄重，逻辑与修辞使人善辩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65520" y="55688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事例２：为国奏荐人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rcRect l="35004" t="23001" r="13000" b="25005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有哪些精神可学习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晚年手不释卷”“阖户启箧”“读之竟日”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勤奋学习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处决如流”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学以致用（读书有效）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四奏”荐人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为国荐才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3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8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3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1979280" y="1125000"/>
            <a:ext cx="64040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韦编三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囊萤映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悬梁刺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凿壁偷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牛角挂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随月读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2050920" y="40464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Comic Sans MS"/>
              </a:rPr>
              <a:t>关于勤奋读书的成语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0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5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0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5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0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5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悬梁刺股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悬梁的故事发生在楚国一位名叫孙敬的贤士，到洛阳求学，为了勤於学习， 怕受睡眠困扰，因而把头发绑住悬於梁上，如果读书疲累，眼睛一合上，头低下 来，那悬在梁上的头发一拉，必定痛得醒过来，而后他苦读有成。 刺股的故事发生在战国苏秦身上。他在鬼谷子那儿学合纵连横之术，学成后 到秦国游说，不被采用。旅费用完只好回家，但家人皆不理他，他很羞愧难过， 於是发愤苦读。读累了打瞌睡，就拿一把锥子在腿上戳，把睡意赶跑，又继续苦 读。后来，再出发游说诸侯时，无不成功，身挂六国相印，好不威风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凿壁偷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古时有一个读书人名叫匡衡，家贫，买不起蜡烛，而隔壁人家却经常灯火辉 煌，他便偷偷凿穿墙壁，借隔壁透过来的光而读书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囊萤读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车胤，晋代南平人，年轻时就爱读书，好学不倦，但因家境贫苦，没钱买油 点灯。日子久了， 车胤觉得长久下去，将不知浪费多少宝贵时光，一定要想办法 解决才行。一晚，他见一群萤火虫， 一闪一闪的飞来飞去，立刻想到，如果捉十 几只萤火虫放在袋中，不就可以藉它们所发出的光来读书吗？此后，他就每晚靠 著萤火虫的光来读书，有时甚至看到天明。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映雪读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古时有一读书人名叫孙康，也因家贫，冬夜经常在雪地借助雪光返照来读书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牛角挂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隋朝时的李密非常专心向学，分秒不愿浪费，有次他要去绥山，怕途中耽搁 太多时间，出发之前他用蒲草编织鞍子放在牛背上，把要阅读的书挂在牛角上， 一边骑牛一边读书，十分专注。连当时大臣杨素经过，丝毫不觉。勤学专注之功 令人敬佩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随月读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南齐有一读书人叫江泌，他白天要作工，只有晚上有时间读书，但家贫买不 起灯，只好利用有月光的夜晚读书。他每当读到月光西斜时，就搬一张梯子搁在 墙脚下，站在梯上读，月光逐渐下坠，他也一级一级升高，一直爬到屋顶。有时 ，读累了，一不小心从梯上掉下来，他连忙爬起来，连身上的泥土也不拂掉，又 爬到梯上，继续读下去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26880" y="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走近赵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3733920"/>
            <a:ext cx="816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圈点生字，小组分工查阅，互相学习。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54440" y="5300640"/>
            <a:ext cx="159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0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读书，读准字音。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523880" y="1523880"/>
            <a:ext cx="64008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叩开生字之门</a:t>
            </a:r>
            <a:endParaRPr b="1" lang="en-US" sz="7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split dir="in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7619760" cy="56386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764640" y="893160"/>
            <a:ext cx="911880" cy="49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改革新法，富国强民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遭车裂而死的商鞅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2057400" y="228600"/>
            <a:ext cx="5143680" cy="624852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467000" y="838080"/>
            <a:ext cx="2617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长太息以掩涕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哀民生之多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93800" y="4842000"/>
            <a:ext cx="5461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屈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未知"/>
          <p:cNvSpPr/>
          <p:nvPr/>
        </p:nvSpPr>
        <p:spPr>
          <a:xfrm>
            <a:off x="2570040" y="4884840"/>
            <a:ext cx="538200" cy="811080"/>
          </a:xfrm>
          <a:custGeom>
            <a:avLst/>
            <a:gdLst/>
            <a:ahLst/>
            <a:rect l="l" t="t" r="r" b="b"/>
            <a:pathLst>
              <a:path w="339" h="511">
                <a:moveTo>
                  <a:pt x="60" y="182"/>
                </a:moveTo>
                <a:cubicBezTo>
                  <a:pt x="92" y="82"/>
                  <a:pt x="160" y="34"/>
                  <a:pt x="257" y="0"/>
                </a:cubicBezTo>
                <a:cubicBezTo>
                  <a:pt x="307" y="76"/>
                  <a:pt x="311" y="161"/>
                  <a:pt x="339" y="247"/>
                </a:cubicBezTo>
                <a:cubicBezTo>
                  <a:pt x="334" y="269"/>
                  <a:pt x="337" y="295"/>
                  <a:pt x="323" y="313"/>
                </a:cubicBezTo>
                <a:cubicBezTo>
                  <a:pt x="312" y="327"/>
                  <a:pt x="283" y="315"/>
                  <a:pt x="274" y="330"/>
                </a:cubicBezTo>
                <a:cubicBezTo>
                  <a:pt x="257" y="359"/>
                  <a:pt x="264" y="396"/>
                  <a:pt x="257" y="428"/>
                </a:cubicBezTo>
                <a:cubicBezTo>
                  <a:pt x="239" y="510"/>
                  <a:pt x="185" y="495"/>
                  <a:pt x="109" y="511"/>
                </a:cubicBezTo>
                <a:cubicBezTo>
                  <a:pt x="0" y="473"/>
                  <a:pt x="53" y="422"/>
                  <a:pt x="60" y="313"/>
                </a:cubicBezTo>
                <a:cubicBezTo>
                  <a:pt x="63" y="269"/>
                  <a:pt x="60" y="226"/>
                  <a:pt x="60" y="182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2514600" y="228600"/>
            <a:ext cx="4191120" cy="63244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6937560" y="-30600"/>
            <a:ext cx="850680" cy="54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三顾频频天下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49160" y="-30600"/>
            <a:ext cx="1521000" cy="54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两朝开济老臣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880240" y="458892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诸葛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未知"/>
          <p:cNvSpPr/>
          <p:nvPr/>
        </p:nvSpPr>
        <p:spPr>
          <a:xfrm>
            <a:off x="5791320" y="4808520"/>
            <a:ext cx="618840" cy="982800"/>
          </a:xfrm>
          <a:custGeom>
            <a:avLst/>
            <a:gdLst/>
            <a:ahLst/>
            <a:rect l="l" t="t" r="r" b="b"/>
            <a:pathLst>
              <a:path w="390" h="619">
                <a:moveTo>
                  <a:pt x="68" y="186"/>
                </a:moveTo>
                <a:cubicBezTo>
                  <a:pt x="104" y="55"/>
                  <a:pt x="173" y="45"/>
                  <a:pt x="283" y="0"/>
                </a:cubicBezTo>
                <a:cubicBezTo>
                  <a:pt x="365" y="106"/>
                  <a:pt x="352" y="159"/>
                  <a:pt x="384" y="272"/>
                </a:cubicBezTo>
                <a:cubicBezTo>
                  <a:pt x="378" y="301"/>
                  <a:pt x="384" y="370"/>
                  <a:pt x="368" y="394"/>
                </a:cubicBezTo>
                <a:cubicBezTo>
                  <a:pt x="355" y="412"/>
                  <a:pt x="390" y="369"/>
                  <a:pt x="379" y="389"/>
                </a:cubicBezTo>
                <a:cubicBezTo>
                  <a:pt x="360" y="427"/>
                  <a:pt x="343" y="418"/>
                  <a:pt x="335" y="460"/>
                </a:cubicBezTo>
                <a:cubicBezTo>
                  <a:pt x="315" y="568"/>
                  <a:pt x="210" y="598"/>
                  <a:pt x="123" y="619"/>
                </a:cubicBezTo>
                <a:cubicBezTo>
                  <a:pt x="0" y="569"/>
                  <a:pt x="60" y="502"/>
                  <a:pt x="68" y="359"/>
                </a:cubicBezTo>
                <a:cubicBezTo>
                  <a:pt x="71" y="301"/>
                  <a:pt x="68" y="244"/>
                  <a:pt x="68" y="186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2224080" y="609480"/>
            <a:ext cx="4694400" cy="59436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842400" y="27000"/>
            <a:ext cx="1399320" cy="50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华文新魏"/>
                <a:ea typeface="华文新魏"/>
              </a:rPr>
              <a:t>后天下之乐而乐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328800" y="27000"/>
            <a:ext cx="1399320" cy="50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华文新魏"/>
                <a:ea typeface="华文新魏"/>
              </a:rPr>
              <a:t>先天下之忧而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84800" y="535572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范仲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5562720"/>
            <a:ext cx="30456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1600200" y="228600"/>
            <a:ext cx="5791320" cy="64771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2061000" y="516600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文天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2590920" y="1143000"/>
            <a:ext cx="3962160" cy="51055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3247200" y="2286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为中华之崛起而读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1332000" y="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名人不能创造历史，但是，一位名人的业绩，可以推动历史的发展，甚至可以成就一个民族、成就一个国家；一位名人的风采，不仅是本民族的骄傲，甚至成为了人类文化遗产的重要内容！每一位名人的历史都可以成为我们的一部人生教科书，所以，让我们去走进历史，去走进名人，领略名人的风采，感受名人的魅力，丰富我们自己多彩的人生吧！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Comic Sans MS"/>
              </a:rPr>
              <a:t>字音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26920" y="1125360"/>
            <a:ext cx="22305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阖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箧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薨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龌龊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掷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缀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卒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2916360" y="1268280"/>
            <a:ext cx="26654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i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ō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ò  chu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h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hu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26880" y="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走近赵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057400" y="838080"/>
            <a:ext cx="5638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叩开词句之门</a:t>
            </a:r>
            <a:endParaRPr b="0" lang="en-US" sz="7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1916280"/>
            <a:ext cx="735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 结合注释，翻译全文，圈出不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懂的词语和句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32130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 小组内部互相交流学习不懂的词语和句子，圈出小组不懂的词语和句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5084640"/>
            <a:ext cx="77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 小组内部互译一遍，熟悉巩固文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619280" y="1628640"/>
            <a:ext cx="615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黑体"/>
              </a:rPr>
              <a:t>小组提出不懂的语句，全班交流学习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4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普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少习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吏事，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寡学术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及为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相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Comic Sans MS"/>
                <a:ea typeface="华文新魏"/>
              </a:rPr>
              <a:t>太祖常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劝以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Comic Sans MS"/>
                <a:ea typeface="华文新魏"/>
              </a:rPr>
              <a:t>读书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393336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黑体"/>
              </a:rPr>
              <a:t>赵普年轻时，熟悉官吏（处理的）事务，他学问不多，等到做了宰相，宋太祖常劝勉他读书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2060640"/>
            <a:ext cx="828036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少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年轻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熟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少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学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学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等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担任，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劝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拿，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ffff66"/>
                </a:solidFill>
                <a:latin typeface="Comic Sans MS"/>
              </a:rPr>
              <a:t>　　　　　　　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　　　　　　　　　　　　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0160" y="3655800"/>
            <a:ext cx="726768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黑体"/>
              </a:rPr>
              <a:t>（他）晚年读书很勤奋，每次回到自己的住宅，关上门，打开箱子取出书，整天读它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40464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晚年手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卷，每归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私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阖户启箧取书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读之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华文新魏"/>
              </a:rPr>
              <a:t>竟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773360"/>
            <a:ext cx="889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释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放下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私第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自己的住宅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阖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关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户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门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启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开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箧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书箱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竟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4920" y="60912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及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次日临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政，处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决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如流。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既薨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Comic Sans MS"/>
                <a:ea typeface="华文新魏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家人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发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箧视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之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则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论语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二十篇也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820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次日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第二天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临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办理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决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决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既：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……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以后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薨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死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 发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打开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之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它，代书箱里的东西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则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原来（是）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684360" y="4221000"/>
            <a:ext cx="7775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等到第二天办理政务，处理决断非常快。（他）死后，家里人打开书箱一看它，原来是一部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论语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09-12-23T00:46:43Z</dcterms:modified>
  <cp:revision>88</cp:revision>
  <dc:subject/>
  <dc:title>PowerPoint Presentation</dc:title>
</cp:coreProperties>
</file>