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D94F-01AE-43BE-8047-36B8855DCD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三题，引出第四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1F1-2224-489E-9E55-C276C742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14F-977C-475B-B488-DBEC3F88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14E-C177-4ABB-88CA-C746E7A1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D21-85F4-4E1E-B7E9-23CB2CB5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105D-962B-45F1-AF8A-94D9A5BA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B715-4AC5-4E13-B3F5-9C95F1BE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4152-7D46-4186-B80B-7491FB2E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160B-70A9-42CE-8562-52A51887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59C1-9A9C-400C-A991-EBBC146E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1A6-8DD1-48B1-90E0-B7D9234C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DF1D-8AC0-45CC-A2FB-267B63E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729-8A74-481C-9402-05BC0037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19BE-A59A-4BA9-9B80-E40F685B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48D0-2E51-44C8-8876-997CF9FB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418-F7B3-4179-A0E3-FF7B620C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5844-F2BB-4A9A-A98B-2DB86F45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050-841C-477A-8B06-EF6B9D4C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26F-EA43-4B43-868E-EAA491FA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C94-E0D4-4EC8-BF1E-BD3F3CEB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E64-34BE-4E36-AC90-D4E0FA7E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358-7DDF-4CD1-AE08-500D1C83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398-6591-4139-8853-E9B613BB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54A-3834-46ED-B25C-650638DE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9A3-53BF-4B38-977C-6F7F579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4CD7-6F76-402B-BE23-D3F46B8DC64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C843-EBED-473C-B2FD-DA92EA9D863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1981080" cy="76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4920"/>
            <a:ext cx="86868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c4c0e"/>
                </a:solidFill>
                <a:latin typeface="Times New Roman"/>
                <a:ea typeface="华文彩云"/>
              </a:rPr>
              <a:t>半部论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部论语治天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成语常用来强调学习儒家经典的重要性。来源于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大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鹤林玉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宋著名的政治家赵普，原先是后周当节度使的赵匡胤手下的推官。公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赵匡胤率军北上，部队到达陈桥时，赵普为赵匡胤出谋划策，发动兵变。赵匡胤黄袍加身，做了皇帝。接着，赵普又辅佐宋太祖东征西讨，统一了全国。后来，宋太祖任命他为宰相。宋太祖死后，他的弟弟赵匡义继位，史称宋太宗。赵普仍然担任宰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次宋太宗和赵普闲聊，宋太宗随便问道：“有人说你只读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是真的吗？”赵普老老实实地回答说：“臣所知道的，确实不超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部分。过去臣以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太祖平定天下，现在臣用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陛下，便天下太平。”后来赵普因为年老体衰病逝，家人打开他的书箧，里面果真只有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性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深沉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岸谷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虽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忌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天下事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己任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沉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沉着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岸谷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严肃刚正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而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但是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忌克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忌妒刻薄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当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393372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022640"/>
            <a:ext cx="74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赵普性情沉着而严肃刚正，尽管对人常忌妒刻薄，但能把天下事作为自己的责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宋初，在相位者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龌龊循默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刚毅果断，未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比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88203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龌龊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过分谨慎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      其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他，代赵普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循默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按常规办事，不多言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458136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4076640"/>
            <a:ext cx="77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宋朝初年，在宰相职位的人大多拘谨且遇事沉默不语，赵普却刚毅果断，没有人能与他相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奏荐某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某官，太祖不用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明日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其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用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尝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曾经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担任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日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复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又，再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亦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也，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36572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374508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他）曾经奏秉皇上推荐某人担任某官，宋太祖没有用。赵普第二天又上奏（推荐）此人，太祖还是没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明日，普又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人奏，太祖怒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碎裂案牍掷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地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颜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变，跪而拾之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61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将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其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那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碎裂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撕碎（使动用法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案牍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奏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掷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扔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颜色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面容颜色，脸色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连词，不译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  归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22100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00536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天，赵普还是将那个人奏荐给皇上，太祖生气了，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奏章撕碎了扔在地上，赵普面色不改，跪在地上把碎片拾起来带回了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他日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补缀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旧纸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如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太祖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乃悟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卒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用其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补缀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修补连结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复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又，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乃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才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悟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醒悟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卒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终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581360"/>
            <a:ext cx="69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436572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过些日子，（他）将旧纸片缝补好，再次像当初一样上奏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宋太祖才醒悟，终于任用了那个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907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学习官吏（应处理）的事务，学问不多，等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处决犯人如流水。他死后，家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打开书箱看到里面的书籍，原来是一部《论语》。赵普性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沉着且为人严肃刚正，虽然对人忌妒刻薄，但是他能够以天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事作为自己的责任。宋朝初年，在宰相职位上的人，大多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质恶劣，按常规办事，不多言语，赵普却刚毅果断，没有谁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他比的。他尝试上奏推荐某人担任某个官职，太祖不用这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。赵普明天又上奏请用这个人（担任某官），太祖还是不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天，赵普又把这个人（担任某官的事）上奏太祖，太祖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怒了，把奏章撕碎了扔在地上，赵普脸色不变，跪在地上把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碎的奏章拾起来回到家。过了些日子赵普把撕碎的旧纸片修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连接起来，又像当初一样上奏。太祖这才清醒过来，终于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457200" y="0"/>
            <a:ext cx="6400800" cy="1143000"/>
          </a:xfrm>
          <a:custGeom>
            <a:avLst/>
            <a:gdLst>
              <a:gd name="textAreaLeft" fmla="*/ 73800 w 6400800"/>
              <a:gd name="textAreaRight" fmla="*/ 6327000 w 640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20929" h="21600">
                <a:moveTo>
                  <a:pt x="0" y="0"/>
                </a:moveTo>
                <a:lnTo>
                  <a:pt x="120929" y="0"/>
                </a:lnTo>
                <a:lnTo>
                  <a:pt x="120929" y="21600"/>
                </a:lnTo>
                <a:lnTo>
                  <a:pt x="0" y="21600"/>
                </a:lnTo>
                <a:close/>
              </a:path>
              <a:path fill="lightenLess" w="120929" h="21600">
                <a:moveTo>
                  <a:pt x="0" y="0"/>
                </a:moveTo>
                <a:lnTo>
                  <a:pt x="120929" y="0"/>
                </a:lnTo>
                <a:lnTo>
                  <a:pt x="119529" y="1400"/>
                </a:lnTo>
                <a:lnTo>
                  <a:pt x="1400" y="1400"/>
                </a:lnTo>
                <a:close/>
              </a:path>
              <a:path fill="darken" w="120929" h="21600">
                <a:moveTo>
                  <a:pt x="120929" y="0"/>
                </a:moveTo>
                <a:lnTo>
                  <a:pt x="120929" y="21600"/>
                </a:lnTo>
                <a:lnTo>
                  <a:pt x="119529" y="20200"/>
                </a:lnTo>
                <a:lnTo>
                  <a:pt x="119529" y="1400"/>
                </a:lnTo>
                <a:close/>
              </a:path>
              <a:path fill="darkenLess" w="120929" h="21600">
                <a:moveTo>
                  <a:pt x="12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29" y="20200"/>
                </a:lnTo>
                <a:close/>
              </a:path>
              <a:path fill="lighten" w="12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3809880" y="1523880"/>
            <a:ext cx="3124440" cy="914400"/>
          </a:xfrm>
          <a:custGeom>
            <a:avLst/>
            <a:gdLst>
              <a:gd name="textAreaLeft" fmla="*/ 59040 w 3124440"/>
              <a:gd name="textAreaRight" fmla="*/ 3065400 w 3124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3785" h="21600">
                <a:moveTo>
                  <a:pt x="0" y="0"/>
                </a:moveTo>
                <a:lnTo>
                  <a:pt x="73785" y="0"/>
                </a:lnTo>
                <a:lnTo>
                  <a:pt x="73785" y="21600"/>
                </a:lnTo>
                <a:lnTo>
                  <a:pt x="0" y="21600"/>
                </a:lnTo>
                <a:close/>
              </a:path>
              <a:path fill="lightenLess" w="73785" h="21600">
                <a:moveTo>
                  <a:pt x="0" y="0"/>
                </a:moveTo>
                <a:lnTo>
                  <a:pt x="73785" y="0"/>
                </a:lnTo>
                <a:lnTo>
                  <a:pt x="72385" y="1400"/>
                </a:lnTo>
                <a:lnTo>
                  <a:pt x="1400" y="1400"/>
                </a:lnTo>
                <a:close/>
              </a:path>
              <a:path fill="darken" w="73785" h="21600">
                <a:moveTo>
                  <a:pt x="73785" y="0"/>
                </a:moveTo>
                <a:lnTo>
                  <a:pt x="73785" y="21600"/>
                </a:lnTo>
                <a:lnTo>
                  <a:pt x="72385" y="20200"/>
                </a:lnTo>
                <a:lnTo>
                  <a:pt x="72385" y="1400"/>
                </a:lnTo>
                <a:close/>
              </a:path>
              <a:path fill="darkenLess" w="73785" h="21600">
                <a:moveTo>
                  <a:pt x="73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385" y="20200"/>
                </a:lnTo>
                <a:close/>
              </a:path>
              <a:path fill="lighten" w="73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0" y="2895480"/>
            <a:ext cx="2971800" cy="914400"/>
          </a:xfrm>
          <a:custGeom>
            <a:avLst/>
            <a:gdLst>
              <a:gd name="textAreaLeft" fmla="*/ 59040 w 2971800"/>
              <a:gd name="textAreaRight" fmla="*/ 2912760 w 2971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5" action="ppaction://hlinksldjump"/>
          </p:cNvPr>
          <p:cNvSpPr/>
          <p:nvPr/>
        </p:nvSpPr>
        <p:spPr>
          <a:xfrm>
            <a:off x="6629400" y="3048120"/>
            <a:ext cx="2514600" cy="2743200"/>
          </a:xfrm>
          <a:custGeom>
            <a:avLst/>
            <a:gdLst>
              <a:gd name="textAreaLeft" fmla="*/ 162720 w 2514600"/>
              <a:gd name="textAreaRight" fmla="*/ 2351880 w 2514600"/>
              <a:gd name="textAreaTop" fmla="*/ 162720 h 2743200"/>
              <a:gd name="textAreaBottom" fmla="*/ 2580480 h 2743200"/>
            </a:gdLst>
            <a:ahLst/>
            <a:rect l="textAreaLeft" t="textAreaTop" r="textAreaRight" b="textAreaBottom"/>
            <a:pathLst>
              <a:path w="21600" h="23563">
                <a:moveTo>
                  <a:pt x="0" y="0"/>
                </a:moveTo>
                <a:lnTo>
                  <a:pt x="21600" y="0"/>
                </a:lnTo>
                <a:lnTo>
                  <a:pt x="21600" y="23563"/>
                </a:lnTo>
                <a:lnTo>
                  <a:pt x="0" y="23563"/>
                </a:lnTo>
                <a:close/>
              </a:path>
              <a:path fill="lightenLess" w="21600" h="235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3">
                <a:moveTo>
                  <a:pt x="21600" y="0"/>
                </a:moveTo>
                <a:lnTo>
                  <a:pt x="21600" y="23563"/>
                </a:lnTo>
                <a:lnTo>
                  <a:pt x="20200" y="22163"/>
                </a:lnTo>
                <a:lnTo>
                  <a:pt x="20200" y="1400"/>
                </a:lnTo>
                <a:close/>
              </a:path>
              <a:path fill="darkenLess" w="21600" h="23563">
                <a:moveTo>
                  <a:pt x="21600" y="23563"/>
                </a:moveTo>
                <a:lnTo>
                  <a:pt x="0" y="23563"/>
                </a:lnTo>
                <a:lnTo>
                  <a:pt x="1400" y="22163"/>
                </a:lnTo>
                <a:lnTo>
                  <a:pt x="20200" y="22163"/>
                </a:lnTo>
                <a:close/>
              </a:path>
              <a:path fill="lighten" w="21600" h="23563">
                <a:moveTo>
                  <a:pt x="0" y="235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6" action="ppaction://hlinksldjump"/>
          </p:cNvPr>
          <p:cNvSpPr/>
          <p:nvPr/>
        </p:nvSpPr>
        <p:spPr>
          <a:xfrm>
            <a:off x="1371600" y="3886200"/>
            <a:ext cx="2895480" cy="2971800"/>
          </a:xfrm>
          <a:custGeom>
            <a:avLst/>
            <a:gdLst>
              <a:gd name="textAreaLeft" fmla="*/ 187560 w 2895480"/>
              <a:gd name="textAreaRight" fmla="*/ 2707920 w 2895480"/>
              <a:gd name="textAreaTop" fmla="*/ 187560 h 2971800"/>
              <a:gd name="textAreaBottom" fmla="*/ 2784240 h 2971800"/>
            </a:gdLst>
            <a:ahLst/>
            <a:rect l="textAreaLeft" t="textAreaTop" r="textAreaRight" b="textAreaBottom"/>
            <a:pathLst>
              <a:path w="21600" h="22169">
                <a:moveTo>
                  <a:pt x="0" y="0"/>
                </a:moveTo>
                <a:lnTo>
                  <a:pt x="21600" y="0"/>
                </a:lnTo>
                <a:lnTo>
                  <a:pt x="21600" y="22169"/>
                </a:lnTo>
                <a:lnTo>
                  <a:pt x="0" y="22169"/>
                </a:lnTo>
                <a:close/>
              </a:path>
              <a:path fill="lightenLess" w="21600" h="221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69">
                <a:moveTo>
                  <a:pt x="21600" y="0"/>
                </a:moveTo>
                <a:lnTo>
                  <a:pt x="21600" y="22169"/>
                </a:lnTo>
                <a:lnTo>
                  <a:pt x="20200" y="20769"/>
                </a:lnTo>
                <a:lnTo>
                  <a:pt x="20200" y="1400"/>
                </a:lnTo>
                <a:close/>
              </a:path>
              <a:path fill="darkenLess" w="21600" h="22169">
                <a:moveTo>
                  <a:pt x="21600" y="22169"/>
                </a:moveTo>
                <a:lnTo>
                  <a:pt x="0" y="22169"/>
                </a:lnTo>
                <a:lnTo>
                  <a:pt x="1400" y="20769"/>
                </a:lnTo>
                <a:lnTo>
                  <a:pt x="20200" y="20769"/>
                </a:lnTo>
                <a:close/>
              </a:path>
              <a:path fill="lighten" w="21600" h="22169">
                <a:moveTo>
                  <a:pt x="0" y="221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61160" y="6202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67840" y="27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检查译文，改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3886200"/>
            <a:ext cx="9903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42900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048120"/>
            <a:ext cx="19814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2743200"/>
            <a:ext cx="8380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1676520"/>
            <a:ext cx="19051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53352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76200" y="4769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3352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熟悉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官吏（应处理）的事务，学问不多，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到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处理决断很快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他死后，家里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打开书箱看到里面的书籍，原来是一部《论语》。赵普性情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着且为人严肃刚正，虽然对人忌妒刻薄，但是他能够以天下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事作为自己的责任。宋朝初年，在宰相职位上的人，大多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过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谨慎拘于小节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按常规办事，不多言语，赵普却刚毅果断，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有谁能和他比的。他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曾经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奏推荐某人担任某个官职，太祖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用这个人。赵普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天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又上奏请这个人（担任某官），太祖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不用。第三天，赵普又把这个人（担任某官的事）上奏太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太祖发怒了，把奏章撕碎了扔在地上，赵普脸色不变，跪在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把撕碎的奏章拾起来回到家。过了些日子赵普把撕碎的旧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片修补连接起来，又像当初一样上奏。太祖这才清醒过来，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于任用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2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3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9840" y="37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0120" y="2486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371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太祖常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05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以天下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56960" y="281952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其人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33280" y="35812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628640"/>
            <a:ext cx="380880" cy="2438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0400" y="4952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29560" y="5867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尝奏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某人为某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45880" y="4495680"/>
            <a:ext cx="8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3840" y="518148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下事为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4956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6280" y="139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介词，拿，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80560" y="202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86920" y="287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2720" y="3605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连词，然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60880" y="4464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85360" y="514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作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46680" y="5835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6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6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2200" y="19051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１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相位者多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循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7840" y="40384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２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颜色不变，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9320" y="4824360"/>
            <a:ext cx="18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幅画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颜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92560" y="263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乞丐衣衫褴褛，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0574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4191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77920" y="1928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形容人过分谨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26680" y="261468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容不干净、肮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4400" y="39304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面容神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4688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色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81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82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7480" y="174456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及次日临政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05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5200" y="273528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罪大恶极的杀人犯今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21680" y="1744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处理决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97760" y="27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枪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66080" y="5181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宋史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144792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赵普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21400" y="2637000"/>
            <a:ext cx="13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赵普的哪两件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简洁的语言说出来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157240" y="-224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探访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73280" y="3860640"/>
            <a:ext cx="46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你认为赵普是一个什么样的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的根据是什么？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376360" cy="2354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306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307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310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人物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47480" y="1471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63040" y="220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刻苦勤奋，为国读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08160" y="4581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毅力超人，意志坚定，刚毅果断执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65520" y="2924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１：为国勤奋读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37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培根“阅读使人充实，史鉴使人明智，诗歌使人巧慧，博物使人深沉，伦理之学使人庄重，逻辑与修辞使人善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65520" y="55688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２：为国奏荐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哪些精神可学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晚年手不释卷”“阖户启箧”“读之竟日”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勤奋学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处决如流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学以致用（读书有效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四奏”荐人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为国荐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979280" y="1125000"/>
            <a:ext cx="6404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韦编三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囊萤映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悬梁刺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凿壁偷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牛角挂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随月读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2050920" y="40464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关于勤奋读书的成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悬梁刺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悬梁的故事发生在楚国一位名叫孙敬的贤士，到洛阳求学，为了勤於学习， 怕受睡眠困扰，因而把头发绑住悬於梁上，如果读书疲累，眼睛一合上，头低下 来，那悬在梁上的头发一拉，必定痛得醒过来，而后他苦读有成。 刺股的故事发生在战国苏秦身上。他在鬼谷子那儿学合纵连横之术，学成后 到秦国游说，不被采用。旅费用完只好回家，但家人皆不理他，他很羞愧难过， 於是发愤苦读。读累了打瞌睡，就拿一把锥子在腿上戳，把睡意赶跑，又继续苦 读。后来，再出发游说诸侯时，无不成功，身挂六国相印，好不威风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凿壁偷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个读书人名叫匡衡，家贫，买不起蜡烛，而隔壁人家却经常灯火辉 煌，他便偷偷凿穿墙壁，借隔壁透过来的光而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囊萤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车胤，晋代南平人，年轻时就爱读书，好学不倦，但因家境贫苦，没钱买油 点灯。日子久了， 车胤觉得长久下去，将不知浪费多少宝贵时光，一定要想办法 解决才行。一晚，他见一群萤火虫， 一闪一闪的飞来飞去，立刻想到，如果捉十 几只萤火虫放在袋中，不就可以藉它们所发出的光来读书吗？此后，他就每晚靠 著萤火虫的光来读书，有时甚至看到天明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映雪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读书人名叫孙康，也因家贫，冬夜经常在雪地借助雪光返照来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牛角挂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隋朝时的李密非常专心向学，分秒不愿浪费，有次他要去绥山，怕途中耽搁 太多时间，出发之前他用蒲草编织鞍子放在牛背上，把要阅读的书挂在牛角上， 一边骑牛一边读书，十分专注。连当时大臣杨素经过，丝毫不觉。勤学专注之功 令人敬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随月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南齐有一读书人叫江泌，他白天要作工，只有晚上有时间读书，但家贫买不 起灯，只好利用有月光的夜晚读书。他每当读到月光西斜时，就搬一张梯子搁在 墙脚下，站在梯上读，月光逐渐下坠，他也一级一级升高，一直爬到屋顶。有时 ，读累了，一不小心从梯上掉下来，他连忙爬起来，连身上的泥土也不拂掉，又 爬到梯上，继续读下去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733920"/>
            <a:ext cx="816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圈点生字，小组分工查阅，互相学习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4440" y="5300640"/>
            <a:ext cx="159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读书，读准字音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52388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生字之门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64640" y="893160"/>
            <a:ext cx="9118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革新法，富国强民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遭车裂而死的商鞅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143680" cy="6248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67000" y="838080"/>
            <a:ext cx="2617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长太息以掩涕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哀民生之多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3800" y="48420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屈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2570040" y="4884840"/>
            <a:ext cx="538200" cy="811080"/>
          </a:xfrm>
          <a:custGeom>
            <a:avLst/>
            <a:gdLst/>
            <a:ahLst/>
            <a:rect l="l" t="t" r="r" b="b"/>
            <a:pathLst>
              <a:path w="339" h="511">
                <a:moveTo>
                  <a:pt x="60" y="182"/>
                </a:moveTo>
                <a:cubicBezTo>
                  <a:pt x="92" y="82"/>
                  <a:pt x="160" y="34"/>
                  <a:pt x="257" y="0"/>
                </a:cubicBezTo>
                <a:cubicBezTo>
                  <a:pt x="307" y="76"/>
                  <a:pt x="311" y="161"/>
                  <a:pt x="339" y="247"/>
                </a:cubicBezTo>
                <a:cubicBezTo>
                  <a:pt x="334" y="269"/>
                  <a:pt x="337" y="295"/>
                  <a:pt x="323" y="313"/>
                </a:cubicBezTo>
                <a:cubicBezTo>
                  <a:pt x="312" y="327"/>
                  <a:pt x="283" y="315"/>
                  <a:pt x="274" y="330"/>
                </a:cubicBezTo>
                <a:cubicBezTo>
                  <a:pt x="257" y="359"/>
                  <a:pt x="264" y="396"/>
                  <a:pt x="257" y="428"/>
                </a:cubicBezTo>
                <a:cubicBezTo>
                  <a:pt x="239" y="510"/>
                  <a:pt x="185" y="495"/>
                  <a:pt x="109" y="511"/>
                </a:cubicBezTo>
                <a:cubicBezTo>
                  <a:pt x="0" y="473"/>
                  <a:pt x="53" y="422"/>
                  <a:pt x="60" y="313"/>
                </a:cubicBezTo>
                <a:cubicBezTo>
                  <a:pt x="63" y="269"/>
                  <a:pt x="60" y="226"/>
                  <a:pt x="60" y="182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937560" y="-3060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三顾频频天下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9160" y="-30600"/>
            <a:ext cx="152100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两朝开济老臣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80240" y="458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5791320" y="4808520"/>
            <a:ext cx="618840" cy="982800"/>
          </a:xfrm>
          <a:custGeom>
            <a:avLst/>
            <a:gdLst/>
            <a:ahLst/>
            <a:rect l="l" t="t" r="r" b="b"/>
            <a:pathLst>
              <a:path w="390" h="619">
                <a:moveTo>
                  <a:pt x="68" y="186"/>
                </a:moveTo>
                <a:cubicBezTo>
                  <a:pt x="104" y="55"/>
                  <a:pt x="173" y="45"/>
                  <a:pt x="283" y="0"/>
                </a:cubicBezTo>
                <a:cubicBezTo>
                  <a:pt x="365" y="106"/>
                  <a:pt x="352" y="159"/>
                  <a:pt x="384" y="272"/>
                </a:cubicBezTo>
                <a:cubicBezTo>
                  <a:pt x="378" y="301"/>
                  <a:pt x="384" y="370"/>
                  <a:pt x="368" y="394"/>
                </a:cubicBezTo>
                <a:cubicBezTo>
                  <a:pt x="355" y="412"/>
                  <a:pt x="390" y="369"/>
                  <a:pt x="379" y="389"/>
                </a:cubicBezTo>
                <a:cubicBezTo>
                  <a:pt x="360" y="427"/>
                  <a:pt x="343" y="418"/>
                  <a:pt x="335" y="460"/>
                </a:cubicBezTo>
                <a:cubicBezTo>
                  <a:pt x="315" y="568"/>
                  <a:pt x="210" y="598"/>
                  <a:pt x="123" y="619"/>
                </a:cubicBezTo>
                <a:cubicBezTo>
                  <a:pt x="0" y="569"/>
                  <a:pt x="60" y="502"/>
                  <a:pt x="68" y="359"/>
                </a:cubicBezTo>
                <a:cubicBezTo>
                  <a:pt x="71" y="301"/>
                  <a:pt x="68" y="244"/>
                  <a:pt x="68" y="186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224080" y="609480"/>
            <a:ext cx="4694400" cy="594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424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后天下之乐而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88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先天下之忧而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84800" y="53557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范仲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5562720"/>
            <a:ext cx="30456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5791320" cy="64771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061000" y="51660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文天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962160" cy="5105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24720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为中华之崛起而读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33200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名人不能创造历史，但是，一位名人的业绩，可以推动历史的发展，甚至可以成就一个民族、成就一个国家；一位名人的风采，不仅是本民族的骄傲，甚至成为了人类文化遗产的重要内容！每一位名人的历史都可以成为我们的一部人生教科书，所以，让我们去走进历史，去走进名人，领略名人的风采，感受名人的魅力，丰富我们自己多彩的人生吧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omic Sans MS"/>
              </a:rPr>
              <a:t>字音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22305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阖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箧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薨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龌龊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掷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缀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1268280"/>
            <a:ext cx="2665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ò  ch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57400" y="83808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词句之门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16280"/>
            <a:ext cx="73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结合注释，翻译全文，圈出不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21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相交流学习不懂的词语和句子，圈出小组不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7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译一遍，熟悉巩固文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628640"/>
            <a:ext cx="61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提出不懂的语句，全班交流学习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少习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吏事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寡学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及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相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太祖常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劝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读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赵普年轻时，熟悉官吏（处理的）事务，他学问不多，等到做了宰相，宋太祖常劝勉他读书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060640"/>
            <a:ext cx="8280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轻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学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等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担任，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劝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拿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Comic Sans MS"/>
              </a:rPr>
              <a:t>　　　　　　　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　　　　　　　　　　　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0160" y="3655800"/>
            <a:ext cx="72676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（他）晚年读书很勤奋，每次回到自己的住宅，关上门，打开箱子取出书，整天读它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04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晚年手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卷，每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私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阖户启箧取书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读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77336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释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放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私第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己的住宅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阖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户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门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启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箧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书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竟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及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次日临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政，处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决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如流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既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家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发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箧视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则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论语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十篇也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次日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临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办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决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决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既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薨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死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发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之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它，代书箱里的东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则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原来（是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22100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等到第二天办理政务，处理决断非常快。（他）死后，家里人打开书箱一看它，原来是一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论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12-23T00:46:43Z</dcterms:modified>
  <cp:revision>88</cp:revision>
  <dc:subject/>
  <dc:title>PowerPoint Presentation</dc:title>
</cp:coreProperties>
</file>