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gif" ContentType="image/gif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61A1-D3D0-4249-995B-5BAE92C66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2B67-E07E-41DD-B49E-3415785E9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1A68-1F35-414B-BEE4-EFEF037E6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61BC-8CD6-4666-8BD9-9B374DA6D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B8580-E574-40D9-A70F-B701DA176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1DFAE-D559-46A1-8EDC-120D21305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ED7C6-8A1B-4DF7-9387-BA9FC77CC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ED2FC-73DF-4706-BD10-BA29C697D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ECB43-A78F-4D65-AEA8-A69CBB509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3030A-6EC7-46C2-8302-FF3523FD5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3BDD0-2556-4AAF-902E-4C97F1A46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6289-5D0C-4DBF-A71E-06922C052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B9436-7D79-46B0-9893-2DBAD98BF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DB2B3-E95D-42C9-BDA0-6269F0E23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7EEBF-8481-44B3-A3E6-2862D252A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A3BE3-7D07-4FD1-9AD4-7B7C53BE4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31504-BE2C-4777-B57F-B7E4B0783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DBE5-A3F8-4F66-B23B-C81265EF2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C7EF-D2C1-405E-97DB-CE6BB7E0E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BE91-A082-4AAE-9C90-A2F25CC18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8780-60D4-4DD5-9400-8178040F0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51C7-5C89-48D5-8A01-A8ABD5F3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93C1-9A27-4A0D-BEC5-6BAD3FC9F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D494-65D0-41E7-A500-1497FFC2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F7D4E-8209-417C-A660-6E5BB8C4ECB9}" type="slidenum">
              <a:rPr b="0" lang="zh-CN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891ED-1D67-4916-854D-BAD8C191C83C}" type="slidenum">
              <a:rPr b="0" lang="zh-CN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86472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148360" y="4653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25956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特殊句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弗之怠。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又患无名师与游。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寓逆旅主人。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932360" y="1844640"/>
            <a:ext cx="24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宾语前置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076720" y="2997360"/>
            <a:ext cx="23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省略句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076720" y="42210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省略句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特殊句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今诸生学</a:t>
            </a:r>
            <a:r>
              <a:rPr b="1" lang="zh-CN" sz="3200" spc="-1" strike="noStrike" u="sng">
                <a:solidFill>
                  <a:srgbClr val="292929"/>
                </a:solidFill>
                <a:uFillTx/>
                <a:latin typeface="Arial"/>
              </a:rPr>
              <a:t>于太学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其业有不精，德有不成者，非天质之卑，则心不若余之专耳。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788000" y="1916280"/>
            <a:ext cx="239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状语后置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59280" y="443700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判断句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特殊句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自谓少时用心</a:t>
            </a:r>
            <a:r>
              <a:rPr b="1" lang="zh-CN" sz="3200" spc="-1" strike="noStrike" u="sng">
                <a:solidFill>
                  <a:srgbClr val="292929"/>
                </a:solidFill>
                <a:uFillTx/>
                <a:latin typeface="Arial"/>
              </a:rPr>
              <a:t>于学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甚劳。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撰长书以为贽。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940360" y="198900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状语后置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940360" y="306864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省略句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翻译句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26920" y="1412640"/>
            <a:ext cx="61437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  <a:ea typeface="楷体_GB2312"/>
              </a:rPr>
              <a:t>以中有足乐者，不知口体之奉不若人也。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  <a:ea typeface="楷体_GB2312"/>
              </a:rPr>
              <a:t>盖余之勤且艰若此。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84360" y="2637000"/>
            <a:ext cx="6192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92929"/>
                </a:solidFill>
                <a:latin typeface="Arial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因为心中有足以快乐的事，不觉得吃的穿的不如别人。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16000" y="5013360"/>
            <a:ext cx="633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大概我的辛勤且艰苦读书就像这样。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翻译句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26920" y="1700280"/>
            <a:ext cx="766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  <a:ea typeface="楷体_GB2312"/>
              </a:rPr>
              <a:t>其业有不精，德有不成者，非天质之卑，则心不若余之专耳。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  <a:ea typeface="楷体_GB2312"/>
              </a:rPr>
              <a:t>余朝京师，生以乡人子谒余。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239840" y="4154400"/>
            <a:ext cx="772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26920" y="2852640"/>
            <a:ext cx="72010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他们学业有不精通，品德没有养成的人，不是天资低下，而是用心没有我专一罢了。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42920" y="5734080"/>
            <a:ext cx="66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332000" y="5229360"/>
            <a:ext cx="800712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我进京朝见皇帝，马生凭同乡晚辈的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身份拜见我。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第一段主要写了什么内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71640" y="3645000"/>
            <a:ext cx="79200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第一段作者是从哪几个方面谈自己刻苦求学的经历？ 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00000" y="2349360"/>
            <a:ext cx="71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作者年轻时求学之难和用心之专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-108000" y="3357720"/>
            <a:ext cx="35276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999933"/>
                </a:solidFill>
                <a:uFillTx/>
                <a:latin typeface="Times New Roman"/>
              </a:rPr>
              <a:t>自身求学经历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987640" y="1916280"/>
            <a:ext cx="304920" cy="3581280"/>
          </a:xfrm>
          <a:custGeom>
            <a:avLst/>
            <a:gdLst>
              <a:gd name="textAreaLeft" fmla="*/ 194760 w 304920"/>
              <a:gd name="textAreaRight" fmla="*/ 305280 w 304920"/>
              <a:gd name="textAreaTop" fmla="*/ 93240 h 3581280"/>
              <a:gd name="textAreaBottom" fmla="*/ 3488040 h 358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76720" y="1484280"/>
            <a:ext cx="3959280" cy="448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、幼时抄书之艰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、成年叩问之难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、求师奔走之劳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、住读生活之苦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010280" y="0"/>
            <a:ext cx="213372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132000" y="5445000"/>
            <a:ext cx="352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76720" y="5229360"/>
            <a:ext cx="38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、总括：勤且艰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第二段主要写了哪些内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10920" y="414972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042920" y="184464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当今太学生优越的学习条件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971640" y="3141720"/>
            <a:ext cx="712764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写了哪些方面的优越条件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?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042920" y="443700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衣、食、行、求师、书籍等方面的优越条件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539280" y="1483920"/>
            <a:ext cx="77835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</a:rPr>
              <a:t>衣食</a:t>
            </a: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—”日有……岁有……”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                 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</a:rPr>
              <a:t>行</a:t>
            </a: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    —”无奔走之劳”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</a:rPr>
              <a:t>求师</a:t>
            </a: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—”未有问而不告……”              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4.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</a:rPr>
              <a:t>书</a:t>
            </a: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    —”凡所宜有之书……”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5.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</a:rPr>
              <a:t>结论</a:t>
            </a: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—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26920" y="1557360"/>
            <a:ext cx="831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                              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与”住读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生活之苦”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00000" y="2781360"/>
            <a:ext cx="871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                      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与”求师奔走之劳”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4360" y="3500280"/>
            <a:ext cx="36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与”成年叩问之难”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301080" y="4149720"/>
            <a:ext cx="225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与”幼时抄书之艰”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990880" y="5207040"/>
            <a:ext cx="494136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其业有不精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德有不成者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非天质之卑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则心不若余之专耳”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-176400" y="2637000"/>
            <a:ext cx="72900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ff"/>
                </a:solidFill>
                <a:latin typeface="Arial"/>
              </a:rPr>
              <a:t>比   诸    生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68360" y="1844640"/>
            <a:ext cx="216000" cy="3816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00000" y="76464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通过对比，作者想说明什么道理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042920" y="2492280"/>
            <a:ext cx="76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26920" y="2565360"/>
            <a:ext cx="770580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说明学习条件的好差，对学习效果并没有决定性的影响。学习条件不好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可以学有所成，学习条件优越，也会“业有不精，德有不成”。促使学习成功的重要因素是学者的态度：要“勤且艰”，要专心，要乐在其中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468360" y="1211760"/>
            <a:ext cx="8005680" cy="5646240"/>
            <a:chOff x="468360" y="1211760"/>
            <a:chExt cx="8005680" cy="5646240"/>
          </a:xfrm>
        </p:grpSpPr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5580000" y="2754360"/>
              <a:ext cx="2802960" cy="41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7" name=""/>
            <p:cNvGrpSpPr/>
            <p:nvPr/>
          </p:nvGrpSpPr>
          <p:grpSpPr>
            <a:xfrm>
              <a:off x="468360" y="1211760"/>
              <a:ext cx="8005680" cy="1938240"/>
              <a:chOff x="468360" y="1211760"/>
              <a:chExt cx="8005680" cy="1938240"/>
            </a:xfrm>
          </p:grpSpPr>
          <p:sp>
            <p:nvSpPr>
              <p:cNvPr id="98" name=""/>
              <p:cNvSpPr/>
              <p:nvPr/>
            </p:nvSpPr>
            <p:spPr>
              <a:xfrm>
                <a:off x="468360" y="1211760"/>
                <a:ext cx="8005680" cy="112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4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   </a:t>
                </a:r>
                <a:r>
                  <a:rPr b="1" lang="zh-CN" sz="34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宋濂</a:t>
                </a:r>
                <a:r>
                  <a:rPr b="1" lang="zh-CN" sz="3400" spc="-1" strike="noStrike">
                    <a:solidFill>
                      <a:srgbClr val="3333ff"/>
                    </a:solidFill>
                    <a:latin typeface="楷体_GB2312"/>
                    <a:ea typeface="楷体_GB2312"/>
                  </a:rPr>
                  <a:t>（</a:t>
                </a:r>
                <a:r>
                  <a:rPr b="1" lang="zh-CN" sz="3400" spc="-1" strike="noStrike">
                    <a:solidFill>
                      <a:srgbClr val="3333ff"/>
                    </a:solidFill>
                    <a:latin typeface="楷体_GB2312"/>
                    <a:ea typeface="楷体_GB2312"/>
                  </a:rPr>
                  <a:t>1310</a:t>
                </a:r>
                <a:r>
                  <a:rPr b="1" lang="zh-CN" sz="3400" spc="-1" strike="noStrike">
                    <a:solidFill>
                      <a:srgbClr val="3333ff"/>
                    </a:solidFill>
                    <a:latin typeface="楷体_GB2312"/>
                    <a:ea typeface="楷体_GB2312"/>
                  </a:rPr>
                  <a:t>～</a:t>
                </a:r>
                <a:r>
                  <a:rPr b="1" lang="zh-CN" sz="3400" spc="-1" strike="noStrike">
                    <a:solidFill>
                      <a:srgbClr val="3333ff"/>
                    </a:solidFill>
                    <a:latin typeface="楷体_GB2312"/>
                    <a:ea typeface="楷体_GB2312"/>
                  </a:rPr>
                  <a:t>1381</a:t>
                </a:r>
                <a:r>
                  <a:rPr b="1" lang="zh-CN" sz="3400" spc="-1" strike="noStrike">
                    <a:solidFill>
                      <a:srgbClr val="3333ff"/>
                    </a:solidFill>
                    <a:latin typeface="楷体_GB2312"/>
                    <a:ea typeface="楷体_GB2312"/>
                  </a:rPr>
                  <a:t>），字</a:t>
                </a:r>
                <a:r>
                  <a:rPr b="1" lang="zh-CN" sz="34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景濂，</a:t>
                </a:r>
                <a:r>
                  <a:rPr b="1" lang="zh-CN" sz="3400" spc="-1" strike="noStrike">
                    <a:solidFill>
                      <a:srgbClr val="3333ff"/>
                    </a:solidFill>
                    <a:latin typeface="楷体_GB2312"/>
                    <a:ea typeface="楷体_GB2312"/>
                  </a:rPr>
                  <a:t>号</a:t>
                </a:r>
                <a:r>
                  <a:rPr b="1" lang="zh-CN" sz="34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潜溪，</a:t>
                </a:r>
                <a:r>
                  <a:rPr b="1" lang="zh-CN" sz="3400" spc="-1" strike="noStrike">
                    <a:solidFill>
                      <a:srgbClr val="3333ff"/>
                    </a:solidFill>
                    <a:latin typeface="楷体_GB2312"/>
                    <a:ea typeface="楷体_GB2312"/>
                  </a:rPr>
                  <a:t>谥</a:t>
                </a:r>
                <a:r>
                  <a:rPr b="1" lang="zh-CN" sz="34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文宪，</a:t>
                </a:r>
                <a:r>
                  <a:rPr b="1" lang="zh-CN" sz="3400" spc="-1" strike="noStrike">
                    <a:solidFill>
                      <a:srgbClr val="3333ff"/>
                    </a:solidFill>
                    <a:latin typeface="楷体_GB2312"/>
                    <a:ea typeface="楷体_GB2312"/>
                  </a:rPr>
                  <a:t>浙江浦江人，明初著名散文家。他生活在元末明初，少时家贫，勤</a:t>
                </a:r>
                <a:endParaRPr b="0" lang="en-US" sz="3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68360" y="2538360"/>
                <a:ext cx="5040000" cy="61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400" spc="-1" strike="noStrike">
                    <a:solidFill>
                      <a:srgbClr val="3333ff"/>
                    </a:solidFill>
                    <a:latin typeface="楷体_GB2312"/>
                    <a:ea typeface="楷体_GB2312"/>
                  </a:rPr>
                  <a:t>奋好学。从文治方面对明朝的建立和巩固做出了贡献，被推为“</a:t>
                </a:r>
                <a:r>
                  <a:rPr b="1" lang="zh-CN" sz="34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开国文臣之首</a:t>
                </a:r>
                <a:r>
                  <a:rPr b="1" lang="zh-CN" sz="3400" spc="-1" strike="noStrike">
                    <a:solidFill>
                      <a:srgbClr val="3333ff"/>
                    </a:solidFill>
                    <a:latin typeface="楷体_GB2312"/>
                    <a:ea typeface="楷体_GB2312"/>
                  </a:rPr>
                  <a:t>”。生平著作很多，有</a:t>
                </a:r>
                <a:r>
                  <a:rPr b="1" lang="zh-CN" sz="34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《宋学士文集》</a:t>
                </a:r>
                <a:r>
                  <a:rPr b="1" lang="zh-CN" sz="3400" spc="-1" strike="noStrike">
                    <a:solidFill>
                      <a:srgbClr val="3333ff"/>
                    </a:solidFill>
                    <a:latin typeface="楷体_GB2312"/>
                    <a:ea typeface="楷体_GB2312"/>
                  </a:rPr>
                  <a:t>。</a:t>
                </a:r>
                <a:endParaRPr b="0" lang="en-US" sz="3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</p:grp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948360" y="6288120"/>
            <a:ext cx="2195640" cy="569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116000" y="62028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作者写这篇赠序的原因是什么？ 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9640" y="2005560"/>
            <a:ext cx="7991640" cy="36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⑴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马君则在太学已二年，流辈甚称其贤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⑵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同乡关系，“以乡人子谒余”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⑶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撰长书，辞甚畅达，与之论辩，言和而色夷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总之，“是可谓善学者”。“其将归见其亲”，“故道为学之难”来勉励他。 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6948360" y="6288120"/>
            <a:ext cx="2195640" cy="569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1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8" dur="1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5" dur="1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2" dur="10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468360" y="3141720"/>
            <a:ext cx="640872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说明太学生学习条件之优越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68360" y="162864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作者年轻时求学之难和用心之专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32000" y="76500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第一段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332000" y="2565360"/>
            <a:ext cx="189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第二段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258920" y="4508640"/>
            <a:ext cx="197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第三段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68360" y="5229360"/>
            <a:ext cx="63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点明作者的写作意图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948360" y="6288120"/>
            <a:ext cx="2195640" cy="5698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7451640" y="1916280"/>
            <a:ext cx="144720" cy="1800000"/>
          </a:xfrm>
          <a:custGeom>
            <a:avLst/>
            <a:gdLst>
              <a:gd name="textAreaLeft" fmla="*/ 0 w 144720"/>
              <a:gd name="textAreaRight" fmla="*/ 52200 w 144720"/>
              <a:gd name="textAreaTop" fmla="*/ 46800 h 1800000"/>
              <a:gd name="textAreaBottom" fmla="*/ 1753200 h 18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524720" y="24606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对比）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4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684360" y="2365560"/>
            <a:ext cx="7705440" cy="21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本文作者生动地叙述了自己年轻时在买书、求师不易的条件下，刻苦学习的艰苦经历，语重心长地劝勉青年一代应当专心向学，刻苦用功，千万不要辜负良好的条件，浪费大好的时光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6948360" y="6288120"/>
            <a:ext cx="2195640" cy="569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0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971640" y="247896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学了这篇文章，联系自身，谈谈你受到的启发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6948360" y="6288120"/>
            <a:ext cx="2195640" cy="5698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187280" y="765000"/>
            <a:ext cx="23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讨论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84360" y="902520"/>
            <a:ext cx="7920000" cy="51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   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⒈</a:t>
            </a: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下面句子朗读节奏有误的一项是（    ）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A</a:t>
            </a: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．余／因得／遍观群书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B</a:t>
            </a: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．尝趋百里外／从乡之先达／执经叩问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C</a:t>
            </a: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．又患／无硕师／名人与游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D</a:t>
            </a: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．不知／口体之奉／不若人也。 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76360" y="1989000"/>
            <a:ext cx="86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C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63640" y="332640"/>
            <a:ext cx="8280360" cy="1084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练习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  </a:t>
            </a:r>
            <a:endParaRPr b="0" lang="en-US" sz="25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996840" y="1413000"/>
            <a:ext cx="4727520" cy="45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弗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之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怠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走送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之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益慕圣贤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之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道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当余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之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从师也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盖余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之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勤且艰若此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2240" y="1413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之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00720" y="2133720"/>
            <a:ext cx="612108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（代“抄书”    宾语前置）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092920" y="2854440"/>
            <a:ext cx="225036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（代词，指“书”）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152320" y="3645000"/>
            <a:ext cx="213156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（结构助词，的）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404680" y="4437000"/>
            <a:ext cx="310680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（主谓间取消句子独立性）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150520" y="5877000"/>
            <a:ext cx="223668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（结构助词，的 ）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116000" y="642960"/>
            <a:ext cx="41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92929"/>
                </a:solidFill>
                <a:latin typeface="Arial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292929"/>
                </a:solidFill>
                <a:latin typeface="Arial"/>
                <a:ea typeface="楷体_GB2312"/>
              </a:rPr>
              <a:t>、一字多义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26920" y="2205000"/>
            <a:ext cx="144720" cy="3529080"/>
          </a:xfrm>
          <a:custGeom>
            <a:avLst/>
            <a:gdLst>
              <a:gd name="textAreaLeft" fmla="*/ 92520 w 144720"/>
              <a:gd name="textAreaRight" fmla="*/ 145080 w 144720"/>
              <a:gd name="textAreaTop" fmla="*/ 91800 h 3529080"/>
              <a:gd name="textAreaBottom" fmla="*/ 3437280 h 352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603360" y="1267920"/>
            <a:ext cx="854064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以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衾拥覆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生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以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乡人子谒余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家贫，无从致书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以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俯身倾耳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以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请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以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中有足乐者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以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是人多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以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书假余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258920" y="620640"/>
            <a:ext cx="345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以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287960" y="1341360"/>
            <a:ext cx="128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介词， 用。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420520" y="198900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介词，凭借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362640" y="2637000"/>
            <a:ext cx="229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连词，表目的，来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8560" y="3284640"/>
            <a:ext cx="250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连词，表修饰关系。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02360" y="3933720"/>
            <a:ext cx="281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连词，表原因， 因为。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247120" y="5445000"/>
            <a:ext cx="510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前一“以”，因为，同“是”组合，相当于“因此”；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后一 “以”是介词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,“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把”或“拿”。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95280" y="1628640"/>
            <a:ext cx="144360" cy="3600720"/>
          </a:xfrm>
          <a:custGeom>
            <a:avLst/>
            <a:gdLst>
              <a:gd name="textAreaLeft" fmla="*/ 92160 w 144360"/>
              <a:gd name="textAreaRight" fmla="*/ 144360 w 144360"/>
              <a:gd name="textAreaTop" fmla="*/ 93600 h 3600720"/>
              <a:gd name="textAreaBottom" fmla="*/ 3507120 h 360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2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258920" y="-36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⒉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古今异义 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55640" y="829440"/>
            <a:ext cx="7993080" cy="57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汤    媵人持汤沃灌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古义：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今义：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走    走送之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古义：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今义：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趋    尝趋百里外从乡之先达执经叩问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古义：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今义：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484360" y="148428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热水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411280" y="213372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食物等煮后所得的汁水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29000" y="3363840"/>
            <a:ext cx="125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跑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484360" y="4076640"/>
            <a:ext cx="19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行走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425680" y="530064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快步走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411280" y="5950080"/>
            <a:ext cx="144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趋势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42920" y="1844640"/>
            <a:ext cx="73080" cy="720720"/>
          </a:xfrm>
          <a:custGeom>
            <a:avLst/>
            <a:gdLst>
              <a:gd name="textAreaLeft" fmla="*/ 46800 w 73080"/>
              <a:gd name="textAreaRight" fmla="*/ 73440 w 7308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042920" y="3716280"/>
            <a:ext cx="73080" cy="865080"/>
          </a:xfrm>
          <a:custGeom>
            <a:avLst/>
            <a:gdLst>
              <a:gd name="textAreaLeft" fmla="*/ 46800 w 73080"/>
              <a:gd name="textAreaRight" fmla="*/ 73440 w 7308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042920" y="5589720"/>
            <a:ext cx="71640" cy="792000"/>
          </a:xfrm>
          <a:custGeom>
            <a:avLst/>
            <a:gdLst>
              <a:gd name="textAreaLeft" fmla="*/ 45720 w 71640"/>
              <a:gd name="textAreaRight" fmla="*/ 72000 w 7164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6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3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0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7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4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1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826920" y="2880"/>
            <a:ext cx="60501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或    或遇其叱咄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古义：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今义：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卒    卒获有所闻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古义：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今义：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遗    父母岁有裘葛之遗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古义：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今义：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假    以是人多以书假余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古义：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今义：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411280" y="54936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有时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11280" y="1125360"/>
            <a:ext cx="198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或者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48000" y="2139840"/>
            <a:ext cx="15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最终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11280" y="2716200"/>
            <a:ext cx="166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士兵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35400" y="3860640"/>
            <a:ext cx="177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赠送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11280" y="437184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遗失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84360" y="5516640"/>
            <a:ext cx="144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借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84360" y="6093000"/>
            <a:ext cx="35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虚假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与真相反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6948360" y="6288120"/>
            <a:ext cx="2195640" cy="5698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1116000" y="765000"/>
            <a:ext cx="71280" cy="792360"/>
          </a:xfrm>
          <a:custGeom>
            <a:avLst/>
            <a:gdLst>
              <a:gd name="textAreaLeft" fmla="*/ 45720 w 71280"/>
              <a:gd name="textAreaRight" fmla="*/ 71640 w 7128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042920" y="2492280"/>
            <a:ext cx="73080" cy="720720"/>
          </a:xfrm>
          <a:custGeom>
            <a:avLst/>
            <a:gdLst>
              <a:gd name="textAreaLeft" fmla="*/ 46800 w 73080"/>
              <a:gd name="textAreaRight" fmla="*/ 73440 w 7308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6000" y="4149720"/>
            <a:ext cx="71280" cy="719280"/>
          </a:xfrm>
          <a:custGeom>
            <a:avLst/>
            <a:gdLst>
              <a:gd name="textAreaLeft" fmla="*/ 45720 w 71280"/>
              <a:gd name="textAreaRight" fmla="*/ 71640 w 7128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116000" y="5805360"/>
            <a:ext cx="71280" cy="719280"/>
          </a:xfrm>
          <a:custGeom>
            <a:avLst/>
            <a:gdLst>
              <a:gd name="textAreaLeft" fmla="*/ 45720 w 71280"/>
              <a:gd name="textAreaRight" fmla="*/ 71640 w 7128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作业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(1)</a:t>
            </a: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完成</a:t>
            </a: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&lt;&lt;</a:t>
            </a: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导学与同步训练</a:t>
            </a: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&gt;&gt;</a:t>
            </a: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及</a:t>
            </a: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&lt;&lt;</a:t>
            </a: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学习指导用书</a:t>
            </a: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&gt;&gt;</a:t>
            </a: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相关内容。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(2)</a:t>
            </a: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课后整理好词类活用、通假字、一字多义、古今异义、特殊句式等。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39640" y="2614680"/>
            <a:ext cx="817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解题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本文写于洪武十一年（</a:t>
            </a: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1378</a:t>
            </a: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）。这一年，辞官归里的宋濂又从家乡到应天府（今江苏省南京市，当时是国都）朝见朱元璋。他的同乡晚辈马君则来拜见他，他便写了这篇“赠序”送给东阳马生。东阳，在今浙江省，当时与浦江、义乌等县同属金华府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赠序，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是古代的一种文体，有临别赠言性质，内容多为推重、赞许或勉励之辞。 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948360" y="6288120"/>
            <a:ext cx="2195640" cy="569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8604360" y="6524640"/>
            <a:ext cx="539640" cy="333360"/>
          </a:xfrm>
          <a:custGeom>
            <a:avLst/>
            <a:gdLst>
              <a:gd name="textAreaLeft" fmla="*/ 21600 w 539640"/>
              <a:gd name="textAreaRight" fmla="*/ 518040 w 5396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4951" h="21600">
                <a:moveTo>
                  <a:pt x="0" y="0"/>
                </a:moveTo>
                <a:lnTo>
                  <a:pt x="34951" y="0"/>
                </a:lnTo>
                <a:lnTo>
                  <a:pt x="34951" y="21600"/>
                </a:lnTo>
                <a:lnTo>
                  <a:pt x="0" y="21600"/>
                </a:lnTo>
                <a:close/>
              </a:path>
              <a:path fill="lightenLess" w="34951" h="21600">
                <a:moveTo>
                  <a:pt x="0" y="0"/>
                </a:moveTo>
                <a:lnTo>
                  <a:pt x="34951" y="0"/>
                </a:lnTo>
                <a:lnTo>
                  <a:pt x="33551" y="1400"/>
                </a:lnTo>
                <a:lnTo>
                  <a:pt x="1400" y="1400"/>
                </a:lnTo>
                <a:close/>
              </a:path>
              <a:path fill="darken" w="34951" h="21600">
                <a:moveTo>
                  <a:pt x="34951" y="0"/>
                </a:moveTo>
                <a:lnTo>
                  <a:pt x="34951" y="21600"/>
                </a:lnTo>
                <a:lnTo>
                  <a:pt x="33551" y="20200"/>
                </a:lnTo>
                <a:lnTo>
                  <a:pt x="33551" y="1400"/>
                </a:lnTo>
                <a:close/>
              </a:path>
              <a:path fill="darkenLess" w="34951" h="21600">
                <a:moveTo>
                  <a:pt x="349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551" y="20200"/>
                </a:lnTo>
                <a:close/>
              </a:path>
              <a:path fill="lighten" w="349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951" h="21600">
                <a:moveTo>
                  <a:pt x="10469" y="8406"/>
                </a:moveTo>
                <a:lnTo>
                  <a:pt x="14899" y="8406"/>
                </a:lnTo>
                <a:lnTo>
                  <a:pt x="19321" y="3794"/>
                </a:lnTo>
                <a:lnTo>
                  <a:pt x="19321" y="17806"/>
                </a:lnTo>
                <a:lnTo>
                  <a:pt x="14899" y="13194"/>
                </a:lnTo>
                <a:lnTo>
                  <a:pt x="10469" y="13194"/>
                </a:lnTo>
                <a:close/>
              </a:path>
              <a:path fill="darken" w="34951" h="21600">
                <a:moveTo>
                  <a:pt x="20975" y="10800"/>
                </a:moveTo>
                <a:lnTo>
                  <a:pt x="24482" y="10800"/>
                </a:lnTo>
              </a:path>
              <a:path fill="darken" w="34951" h="21600">
                <a:moveTo>
                  <a:pt x="20975" y="8406"/>
                </a:moveTo>
                <a:lnTo>
                  <a:pt x="24482" y="5639"/>
                </a:lnTo>
              </a:path>
              <a:path fill="darken" w="34951" h="21600">
                <a:moveTo>
                  <a:pt x="20975" y="13194"/>
                </a:moveTo>
                <a:lnTo>
                  <a:pt x="24482" y="15961"/>
                </a:lnTo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39640" y="-2409480"/>
            <a:ext cx="7777440" cy="119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嗜（       ）                硕（          ）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叱咄（              ）     俟（          ）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负箧（      ）曳（      ）屣（      ）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皲（      ）裂             媵（         ）人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衾（       ）                绮（        ）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容臭（       ）            烨（         ）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裘（      ）葛（     ）缊（         ）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冻馁（       ）             谒（         ）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撰（          ）             贽（          ） 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08000" y="620640"/>
            <a:ext cx="95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shì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332000" y="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读准字音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68360" y="1268280"/>
            <a:ext cx="223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chì duō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84720" y="627120"/>
            <a:ext cx="145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shuò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227640" y="1268280"/>
            <a:ext cx="14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sì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95640" y="1916280"/>
            <a:ext cx="154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qiè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56000" y="1989000"/>
            <a:ext cx="160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yè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607080" y="1916280"/>
            <a:ext cx="13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xǐ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63640" y="2637000"/>
            <a:ext cx="15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jūn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084720" y="2637000"/>
            <a:ext cx="139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yìng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227640" y="3284640"/>
            <a:ext cx="128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qǐ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35280" y="3213000"/>
            <a:ext cx="137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qīn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40000" y="39402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xiù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156360" y="3933720"/>
            <a:ext cx="123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yè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63640" y="4581360"/>
            <a:ext cx="130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qiú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24360" y="4581360"/>
            <a:ext cx="116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gé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458136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yùn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68360" y="5229360"/>
            <a:ext cx="152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něi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227640" y="5229360"/>
            <a:ext cx="165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yè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00720" y="587700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zhì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63640" y="588312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zhuàn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948360" y="6288120"/>
            <a:ext cx="2195640" cy="569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11280" y="1330560"/>
            <a:ext cx="4824360" cy="55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〖</a:t>
            </a:r>
            <a:r>
              <a:rPr b="1" lang="zh-CN" sz="3600" spc="-1" strike="noStrike" u="sng">
                <a:solidFill>
                  <a:srgbClr val="292929"/>
                </a:solidFill>
                <a:uFillTx/>
                <a:latin typeface="Arial"/>
                <a:ea typeface="楷体_GB2312"/>
              </a:rPr>
              <a:t>嗜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学〗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〖</a:t>
            </a:r>
            <a:r>
              <a:rPr b="1" lang="zh-CN" sz="3600" spc="-1" strike="noStrike" u="sng">
                <a:solidFill>
                  <a:srgbClr val="292929"/>
                </a:solidFill>
                <a:uFillTx/>
                <a:latin typeface="Arial"/>
                <a:ea typeface="楷体_GB2312"/>
              </a:rPr>
              <a:t>每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假借于〗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〖手自</a:t>
            </a:r>
            <a:r>
              <a:rPr b="1" lang="zh-CN" sz="3600" spc="-1" strike="noStrike" u="sng">
                <a:solidFill>
                  <a:srgbClr val="292929"/>
                </a:solidFill>
                <a:uFillTx/>
                <a:latin typeface="Arial"/>
                <a:ea typeface="楷体_GB2312"/>
              </a:rPr>
              <a:t>笔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录〗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〖</a:t>
            </a:r>
            <a:r>
              <a:rPr b="1" lang="zh-CN" sz="3600" spc="-1" strike="noStrike" u="sng">
                <a:solidFill>
                  <a:srgbClr val="292929"/>
                </a:solidFill>
                <a:uFillTx/>
                <a:latin typeface="Arial"/>
                <a:ea typeface="楷体_GB2312"/>
              </a:rPr>
              <a:t>走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送之〗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〖尝</a:t>
            </a:r>
            <a:r>
              <a:rPr b="1" lang="zh-CN" sz="3600" spc="-1" strike="noStrike" u="sng">
                <a:solidFill>
                  <a:srgbClr val="292929"/>
                </a:solidFill>
                <a:uFillTx/>
                <a:latin typeface="Arial"/>
                <a:ea typeface="楷体_GB2312"/>
              </a:rPr>
              <a:t>趋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百里外〗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140360" y="1628640"/>
            <a:ext cx="337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喜欢，爱好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11640" y="2492280"/>
            <a:ext cx="207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常常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140360" y="4292640"/>
            <a:ext cx="56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跑着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动词作状语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211640" y="5229360"/>
            <a:ext cx="390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快步走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11640" y="335772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用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名词作状语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16000" y="69228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92929"/>
                </a:solidFill>
                <a:latin typeface="Arial"/>
              </a:rPr>
              <a:t>解释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95280" y="1106280"/>
            <a:ext cx="3960720" cy="40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〖余</a:t>
            </a:r>
            <a:r>
              <a:rPr b="1" lang="zh-CN" sz="3600" spc="-1" strike="noStrike" u="sng">
                <a:solidFill>
                  <a:srgbClr val="292929"/>
                </a:solidFill>
                <a:uFillTx/>
                <a:latin typeface="Arial"/>
                <a:ea typeface="楷体_GB2312"/>
              </a:rPr>
              <a:t>立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侍左右〗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〖德隆望尊〗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〖</a:t>
            </a:r>
            <a:r>
              <a:rPr b="1" lang="zh-CN" sz="3600" spc="-1" strike="noStrike" u="sng">
                <a:solidFill>
                  <a:srgbClr val="292929"/>
                </a:solidFill>
                <a:uFillTx/>
                <a:latin typeface="Arial"/>
                <a:ea typeface="楷体_GB2312"/>
              </a:rPr>
              <a:t>填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其室〗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〖</a:t>
            </a:r>
            <a:r>
              <a:rPr b="1" lang="zh-CN" sz="3600" spc="-1" strike="noStrike" u="sng">
                <a:solidFill>
                  <a:srgbClr val="292929"/>
                </a:solidFill>
                <a:uFillTx/>
                <a:latin typeface="Arial"/>
                <a:ea typeface="楷体_GB2312"/>
              </a:rPr>
              <a:t>或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遇其叱咄〗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708360" y="2421000"/>
            <a:ext cx="373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道德高声望高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492360" y="3500280"/>
            <a:ext cx="324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充满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067280" y="4437000"/>
            <a:ext cx="23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有时。 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95640" y="141300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站立着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动词作状语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95280" y="1188720"/>
            <a:ext cx="4032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〖</a:t>
            </a:r>
            <a:r>
              <a:rPr b="1" lang="zh-CN" sz="3600" spc="-1" strike="noStrike" u="sng">
                <a:solidFill>
                  <a:srgbClr val="292929"/>
                </a:solidFill>
                <a:uFillTx/>
                <a:latin typeface="Arial"/>
                <a:ea typeface="楷体_GB2312"/>
              </a:rPr>
              <a:t>卒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获有所闻〗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〖四</a:t>
            </a:r>
            <a:r>
              <a:rPr b="1" lang="zh-CN" sz="3600" spc="-1" strike="noStrike" u="sng">
                <a:solidFill>
                  <a:srgbClr val="292929"/>
                </a:solidFill>
                <a:uFillTx/>
                <a:latin typeface="Arial"/>
                <a:ea typeface="楷体_GB2312"/>
              </a:rPr>
              <a:t>支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僵劲〗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〖持</a:t>
            </a:r>
            <a:r>
              <a:rPr b="1" lang="zh-CN" sz="3600" spc="-1" strike="noStrike" u="sng">
                <a:solidFill>
                  <a:srgbClr val="292929"/>
                </a:solidFill>
                <a:uFillTx/>
                <a:latin typeface="Arial"/>
                <a:ea typeface="楷体_GB2312"/>
              </a:rPr>
              <a:t>汤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沃</a:t>
            </a:r>
            <a:r>
              <a:rPr b="1" lang="zh-CN" sz="3600" spc="-1" strike="noStrike" u="sng">
                <a:solidFill>
                  <a:srgbClr val="292929"/>
                </a:solidFill>
                <a:uFillTx/>
                <a:latin typeface="Arial"/>
                <a:ea typeface="楷体_GB2312"/>
              </a:rPr>
              <a:t>灌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〗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〖日</a:t>
            </a:r>
            <a:r>
              <a:rPr b="1" lang="zh-CN" sz="3600" spc="-1" strike="noStrike" u="sng">
                <a:solidFill>
                  <a:srgbClr val="292929"/>
                </a:solidFill>
                <a:uFillTx/>
                <a:latin typeface="Arial"/>
                <a:ea typeface="楷体_GB2312"/>
              </a:rPr>
              <a:t>再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食〗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〖</a:t>
            </a:r>
            <a:r>
              <a:rPr b="1" lang="zh-CN" sz="3600" spc="-1" strike="noStrike" u="sng">
                <a:solidFill>
                  <a:srgbClr val="292929"/>
                </a:solidFill>
                <a:uFillTx/>
                <a:latin typeface="Arial"/>
                <a:ea typeface="楷体_GB2312"/>
              </a:rPr>
              <a:t>被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绮绣〗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〖</a:t>
            </a:r>
            <a:r>
              <a:rPr b="1" lang="zh-CN" sz="3600" spc="-1" strike="noStrike" u="sng">
                <a:solidFill>
                  <a:srgbClr val="292929"/>
                </a:solidFill>
                <a:uFillTx/>
                <a:latin typeface="Arial"/>
                <a:ea typeface="楷体_GB2312"/>
              </a:rPr>
              <a:t>腰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白玉之环〗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067280" y="1341360"/>
            <a:ext cx="19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最终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780000" y="2060640"/>
            <a:ext cx="31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通”肢”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肢体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51280" y="2852640"/>
            <a:ext cx="52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热水。      通”盥”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洗手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51280" y="3500280"/>
            <a:ext cx="28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两次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51280" y="429264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通“披”，穿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948360" y="6288120"/>
            <a:ext cx="2195640" cy="5698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067280" y="501336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名词作动词，挂在腰间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1316520"/>
            <a:ext cx="7488360" cy="47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〖</a:t>
            </a:r>
            <a:r>
              <a:rPr b="1" lang="zh-CN" sz="3600" spc="-1" strike="noStrike" u="sng">
                <a:solidFill>
                  <a:srgbClr val="292929"/>
                </a:solidFill>
                <a:uFillTx/>
                <a:latin typeface="Arial"/>
                <a:ea typeface="楷体_GB2312"/>
              </a:rPr>
              <a:t>日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有</a:t>
            </a:r>
            <a:r>
              <a:rPr b="1" lang="zh-CN" sz="2000" spc="-1" strike="noStrike">
                <a:solidFill>
                  <a:srgbClr val="292929"/>
                </a:solidFill>
                <a:latin typeface="Arial"/>
              </a:rPr>
              <a:t>……</a:t>
            </a:r>
            <a:r>
              <a:rPr b="1" lang="zh-CN" sz="3600" spc="-1" strike="noStrike" u="sng">
                <a:solidFill>
                  <a:srgbClr val="292929"/>
                </a:solidFill>
                <a:uFillTx/>
                <a:latin typeface="Arial"/>
                <a:ea typeface="楷体_GB2312"/>
              </a:rPr>
              <a:t>岁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有〗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〖裘葛之</a:t>
            </a:r>
            <a:r>
              <a:rPr b="1" lang="zh-CN" sz="3600" spc="-1" strike="noStrike" u="sng">
                <a:solidFill>
                  <a:srgbClr val="292929"/>
                </a:solidFill>
                <a:uFillTx/>
                <a:latin typeface="Arial"/>
                <a:ea typeface="楷体_GB2312"/>
              </a:rPr>
              <a:t>遗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（</a:t>
            </a:r>
            <a:r>
              <a:rPr b="1" i="1" lang="zh-CN" sz="3600" spc="-1" strike="noStrike">
                <a:solidFill>
                  <a:srgbClr val="292929"/>
                </a:solidFill>
                <a:latin typeface="华文细黑"/>
                <a:ea typeface="华文细黑"/>
              </a:rPr>
              <a:t>wèi</a:t>
            </a: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)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〗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〖博士〗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〖余之</a:t>
            </a:r>
            <a:r>
              <a:rPr b="1" lang="zh-CN" sz="3600" spc="-1" strike="noStrike" u="sng">
                <a:solidFill>
                  <a:srgbClr val="292929"/>
                </a:solidFill>
                <a:uFillTx/>
                <a:latin typeface="Arial"/>
                <a:ea typeface="楷体_GB2312"/>
              </a:rPr>
              <a:t>手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录〗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〖假</a:t>
            </a:r>
            <a:r>
              <a:rPr b="1" lang="zh-CN" sz="3600" spc="-1" strike="noStrike" u="sng">
                <a:solidFill>
                  <a:srgbClr val="292929"/>
                </a:solidFill>
                <a:uFillTx/>
                <a:latin typeface="Arial"/>
                <a:ea typeface="楷体_GB2312"/>
              </a:rPr>
              <a:t>诸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人而后见也〗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〖</a:t>
            </a:r>
            <a:r>
              <a:rPr b="1" lang="zh-CN" sz="3600" spc="-1" strike="noStrike" u="sng">
                <a:solidFill>
                  <a:srgbClr val="292929"/>
                </a:solidFill>
                <a:uFillTx/>
                <a:latin typeface="Arial"/>
                <a:ea typeface="楷体_GB2312"/>
              </a:rPr>
              <a:t>非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天质之卑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,</a:t>
            </a:r>
            <a:r>
              <a:rPr b="1" lang="zh-CN" sz="3600" spc="-1" strike="noStrike" u="sng">
                <a:solidFill>
                  <a:srgbClr val="292929"/>
                </a:solidFill>
                <a:uFillTx/>
                <a:latin typeface="Arial"/>
                <a:ea typeface="楷体_GB2312"/>
              </a:rPr>
              <a:t>则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心不若余之专耳〗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932360" y="2205000"/>
            <a:ext cx="57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赠送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84720" y="4581360"/>
            <a:ext cx="642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之于”。之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书。于，向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987640" y="5877000"/>
            <a:ext cx="60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表选择，不是……而是…… 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948360" y="6288120"/>
            <a:ext cx="2195640" cy="5698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995640" y="148428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每天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每年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名词作状语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427640" y="2930400"/>
            <a:ext cx="333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48000" y="299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国子监的老师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19640" y="3716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用手，名词作状语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5T15:08:50Z</dcterms:created>
  <dc:creator>汤蓉</dc:creator>
  <dc:description/>
  <dc:language>en-US</dc:language>
  <cp:lastModifiedBy> </cp:lastModifiedBy>
  <dcterms:modified xsi:type="dcterms:W3CDTF">2007-01-17T02:24:03Z</dcterms:modified>
  <cp:revision>86</cp:revision>
  <dc:subject/>
  <dc:title>送东阳马生序</dc:title>
</cp:coreProperties>
</file>