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gif" ContentType="image/gif"/>
  <Override PartName="/ppt/media/image12.jpeg" ContentType="image/jpeg"/>
  <Override PartName="/ppt/media/image16.jpeg" ContentType="image/jpeg"/>
  <Override PartName="/ppt/media/image14.png" ContentType="image/pn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15.gif" ContentType="image/gi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D6F26-7D8F-4E32-BF3E-DB4D0605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12EBE-E8CC-4F88-917C-F172BFD1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A5F7D-054A-4C5C-B061-376C44284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9AE16-49D5-4AC9-A649-09E5F011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0238-2F66-4DD4-916C-BA2DB292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CEBE-031C-4DEE-8597-32A5CFA5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BC3B-8E6F-4F58-8CC4-594A2568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F4CB-E074-4DFD-8D8B-24EB928A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640E-CA92-45B2-A179-BC3B567E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7B77E-63BE-4F11-A3D3-5DA8C03D5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C3A38-F23D-4872-A748-628FB366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E80E1-5EAD-40A8-AAFE-A4B3B080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CA828-5EE2-4713-B007-6CA16ADB4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F483E-9A42-4703-A3B4-96E6DFF0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8429F-A15D-44D4-A036-170554F1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2C87E-04AE-4CB4-BADA-F582B269B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E661-01C0-46D3-A00C-F7C7B003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33476-3DE9-4B41-B8DE-CB82A1FD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068C4-92F0-458F-9712-D3EE6985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9EC60-69F0-4177-97F5-2C490ED0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115CF-BA02-4E10-B481-99295F1A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BE64F-69FE-4D24-86B5-79FA70E5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3FCA2-D170-4350-9C39-6F9893A3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7E6CF-8168-4CB4-9DA9-F9639C79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4760-C466-4673-8C2D-78D30CD01096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390F-8E5A-4F52-A835-A9673ED1B96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cnpic.com/user/User_Templet/3/magnify.php?userid=107827&amp;img_id=107827-0052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cnpic.com/user/User_Templet/3/magnify.php?userid=107827&amp;img_id=107827-00525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hinaculture.org/gb/cn_madeinchina/2005-11/28/content_76383.htm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218.4.203.36/student/plog/blog.asp?name=shenyuchuan&amp;page=1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250920" y="0"/>
            <a:ext cx="85690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母亲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阎维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入学的新书包有人给你拿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雨中的花折伞有人给你打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爱吃的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三鲜馅有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你包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委屈的泪花有人给你擦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人就是娘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人就是妈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个人给了我生命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给我一个家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管你走多远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论你在干啥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什么时候也离不开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咱的妈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身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乡住有人在牵挂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回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家里边有人沏热茶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躺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病床上有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掉眼泪 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你露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笑容时有人乐开花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不管你多富有 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无论你官多大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到什么时候也不能忘 ！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812000" y="5877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709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788000" y="170028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cc"/>
                </a:solidFill>
                <a:latin typeface="Arial"/>
                <a:ea typeface="楷体_GB2312"/>
              </a:rPr>
              <a:t>我们也来说说母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76244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38840" y="2060640"/>
            <a:ext cx="38523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Arial"/>
              </a:rPr>
              <a:t>例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母亲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是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413760" y="32655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413760" y="39132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幼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88000" y="907920"/>
            <a:ext cx="47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99cc"/>
                </a:solidFill>
                <a:latin typeface="Arial"/>
                <a:ea typeface="楷体_GB2312"/>
              </a:rPr>
              <a:t>我们也来写写母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651640" y="4508640"/>
            <a:ext cx="29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除了你，谁能滋润我干枯的心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36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71640" y="907920"/>
            <a:ext cx="75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42920" y="1844640"/>
            <a:ext cx="71294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们也爱母亲，却和母亲爱我们不一样，我们的爱是溪流，母亲的爱是海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------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汪国真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5"/>
          <p:cNvSpPr/>
          <p:nvPr/>
        </p:nvSpPr>
        <p:spPr>
          <a:xfrm rot="20980200">
            <a:off x="3760920" y="863640"/>
            <a:ext cx="39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99cc"/>
                </a:solidFill>
                <a:latin typeface="Tahoma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 rot="21145800">
            <a:off x="398160" y="0"/>
            <a:ext cx="1941480" cy="1625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2195640" y="692280"/>
            <a:ext cx="5327640" cy="2849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请在“生活”、“幸福</a:t>
            </a:r>
            <a:r>
              <a:rPr b="0" lang="zh-CN" sz="4000" spc="-1" strike="noStrike">
                <a:solidFill>
                  <a:srgbClr val="9933ff"/>
                </a:solidFill>
                <a:latin typeface="Arial"/>
              </a:rPr>
              <a:t>”、“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</a:rPr>
              <a:t>爱心”中任选一词，并以这个词为中心，扩展成一段文字。要求运用比喻、排比两种修辞手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41680" y="1773360"/>
            <a:ext cx="85068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4c2f"/>
                </a:solidFill>
                <a:latin typeface="Arial"/>
              </a:rPr>
              <a:t>课外练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6"/>
          <p:cNvSpPr/>
          <p:nvPr/>
        </p:nvSpPr>
        <p:spPr>
          <a:xfrm>
            <a:off x="0" y="45720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0" y="243828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-567360" y="765000"/>
            <a:ext cx="22550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99cc"/>
                </a:solidFill>
                <a:latin typeface="Tahoma"/>
              </a:rPr>
              <a:t>阅读推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40000" y="0"/>
            <a:ext cx="5545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课外阅读冰心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繁星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了解冰心对母爱、童真和大自然的歌颂，同时也体会寄情于物写法的妙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2430360" cy="3095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003640" y="2924280"/>
            <a:ext cx="265140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-304920" y="-458640"/>
            <a:ext cx="9753840" cy="75452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627280" y="260280"/>
            <a:ext cx="547380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6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544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0" y="-100080"/>
            <a:ext cx="10186920" cy="6958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-324000" y="4508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666699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2843280" y="2133720"/>
            <a:ext cx="655308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160143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60143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014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79280" y="3284640"/>
            <a:ext cx="8785440" cy="3384360"/>
          </a:xfrm>
          <a:prstGeom prst="rect">
            <a:avLst/>
          </a:prstGeom>
          <a:ln w="28440">
            <a:solidFill>
              <a:srgbClr val="666699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11280" y="76500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繁星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》《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春水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阅读分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00000" y="17002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向同学们推荐自己最喜欢的一首小诗，并说说推荐理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11640" y="549360"/>
            <a:ext cx="2057400" cy="58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9900"/>
                </a:solidFill>
                <a:latin typeface="Arial"/>
              </a:rPr>
              <a:t>荷叶   母亲</a:t>
            </a:r>
            <a:br>
              <a:rPr sz="4000"/>
            </a:b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                     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冰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4651560" cy="57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33360"/>
            <a:ext cx="3598920" cy="38163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140360" y="549360"/>
            <a:ext cx="468144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冰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00—1999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现代散文家、诗人、儿童文学作家。原名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谢婉莹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代表作有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繁星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春水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寄小读者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4292640"/>
            <a:ext cx="8569080" cy="1068840"/>
          </a:xfrm>
          <a:prstGeom prst="rect">
            <a:avLst/>
          </a:prstGeom>
          <a:noFill/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繁星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春水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内容大致包括：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母爱、童真、自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个方面。诗歌的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形式短小而意味深长；语言清新淡雅而又晶莹明丽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具有独特的艺术魅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360" y="333360"/>
            <a:ext cx="35989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21080" cy="5791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716360" y="2276640"/>
            <a:ext cx="46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你眼前出现一幅怎样的图景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-541440" y="-674640"/>
            <a:ext cx="10226880" cy="8136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908000" y="1628640"/>
            <a:ext cx="590400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朵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红莲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908000" y="2421000"/>
            <a:ext cx="590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是一片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</a:t>
            </a:r>
            <a:r>
              <a:rPr b="1" lang="zh-CN" sz="4400" spc="-1" strike="noStrike">
                <a:solidFill>
                  <a:srgbClr val="33cc33"/>
                </a:solidFill>
                <a:latin typeface="楷体_GB2312"/>
                <a:ea typeface="楷体_GB2312"/>
              </a:rPr>
              <a:t>荷叶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7596360" y="5445000"/>
            <a:ext cx="79200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207308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732720" y="1484280"/>
            <a:ext cx="934920" cy="43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荷叶护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-396720" y="0"/>
            <a:ext cx="9540720" cy="6827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761080" y="836640"/>
            <a:ext cx="3382920" cy="344556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母亲啊！你是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荷叶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我是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红莲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心中的雨点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来了，除了你，谁是我在无遮拦天空下的荫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333360"/>
            <a:ext cx="4681440" cy="32947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亲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天上的风雨来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鸟儿躲到它的巢里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心中的风雨来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只躲到你的怀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08360" y="3716280"/>
            <a:ext cx="5040360" cy="272628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母亲啊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撇开你的忧愁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容我沉酣在你的怀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只有你是我灵魂的安顿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000" y="333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99cc"/>
                </a:solidFill>
                <a:latin typeface="楷体_GB2312"/>
                <a:ea typeface="楷体_GB2312"/>
              </a:rPr>
              <a:t>冰心的母亲杨福慈</a:t>
            </a:r>
            <a:r>
              <a:rPr b="1" lang="zh-CN" sz="2800" spc="-1" strike="noStrike">
                <a:solidFill>
                  <a:srgbClr val="9999cc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052640"/>
            <a:ext cx="8642160" cy="2128320"/>
          </a:xfrm>
          <a:prstGeom prst="rect">
            <a:avLst/>
          </a:prstGeom>
          <a:solidFill>
            <a:srgbClr val="ffffff"/>
          </a:solidFill>
          <a:ln w="936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辛亥革命爆发之前，母亲常帮助几位是同盟会会员的舅舅传寄同盟会进步刊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天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成了同盟会传递消息、收发信件的义务联络员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辛亥革命爆发之后，母亲又将仅有的一点首饰换成洋钱，捐给了起义的军队。受母亲的影响，冰心将自己多年积攒起来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块压岁钱也捐给了起义军队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冰心的眼里，母亲是一位极为温柔娴静的女性。她从不打骂孩子，总是用温言软语劝说孩子，用讲故事的方法启发孩子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在母亲的引导下，冰心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几乎看完了中国著名的古典小说，这为冰心以后走上文学创作的道路奠定了坚实的基础。当冰心开始文学创作后，母亲又成了冰心文章的第一位读者和批评者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00360" y="260280"/>
            <a:ext cx="57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勇敢慈怜的荷叶母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3:08:56Z</dcterms:created>
  <dc:creator>微软用户</dc:creator>
  <dc:description/>
  <cp:keywords/>
  <dc:language>en-US</dc:language>
  <cp:lastModifiedBy>微软用户</cp:lastModifiedBy>
  <cp:lastPrinted>1899-12-30T00:00:00Z</cp:lastPrinted>
  <dcterms:modified xsi:type="dcterms:W3CDTF">2010-11-02T08:39:17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5.0.1966</vt:lpwstr>
  </property>
</Properties>
</file>