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68B-7244-4F15-8F8A-CE77F6A8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2F1-B974-4C18-BE7C-AD45A6D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855-C942-4A23-87D0-BA43F0CF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554-61D2-47BA-B3AB-1C7793EC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C300-FF85-4C3B-ACD0-6811AE95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5403-AEE0-4768-BBAE-8497443B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148-9569-48F8-A417-A63F128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B9F-95F5-4125-A492-FC0135F9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97C7-4611-4C73-8DC9-ED3FB55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D4DC-F997-442E-88DA-9A04DAE7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9F28-EE27-4CD7-9A62-A16F2DB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8C9-2C57-45EB-BE51-854DBEEA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E592-48FB-4279-BB2A-5534E0B3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26B-60E9-43A3-801C-1E1DC54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02CB-F2AA-4F2D-AB41-6A98F2F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0981-EF7C-4A49-9060-27579B59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6ED-6F4C-4175-9C14-880C6ECC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2BE-76A6-4246-A405-ECF5D3D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726-7B41-4DF2-9DF9-E88F896A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26B-92E6-450B-973F-0B95074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80C-D49C-42DD-8E13-4646AC8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132-6FB2-49E0-9D51-1EE182C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7F5-E877-4EFB-9313-D603977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3CE-4B75-444C-99F6-3350EA48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09A-03CD-41D4-AC2F-8ADE156CC70E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ECC6-11CC-4595-B002-60DAB9329817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9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弗之怠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又患无名师与游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寓逆旅主人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宾语前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99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42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今诸生学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太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91628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437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判断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自谓少时用心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甚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撰长书以为贽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06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6143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以中有足乐者，不知口体之奉不若人也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盖余之勤且艰若此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637000"/>
            <a:ext cx="61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因为心中有足以快乐的事，不觉得吃的穿的不如别人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013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概我的辛勤且艰苦读书就像这样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余朝京师，生以乡人子谒余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39840" y="41544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852640"/>
            <a:ext cx="720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们学业有不精通，品德没有养成的人，不是天资低下，而是用心没有我专一罢了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57340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5229360"/>
            <a:ext cx="800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进京朝见皇帝，马生凭同乡晚辈的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身份拜见我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主要写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645000"/>
            <a:ext cx="7920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作者是从哪几个方面谈自己刻苦求学的经历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349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108000" y="3357720"/>
            <a:ext cx="352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9933"/>
                </a:solidFill>
                <a:uFillTx/>
                <a:latin typeface="Times New Roman"/>
              </a:rPr>
              <a:t>自身求学经历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191628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484280"/>
            <a:ext cx="39592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544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22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总括：勤且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二段主要写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4149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今太学生优越的学习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141720"/>
            <a:ext cx="7127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写了哪些方面的优越条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衣、食、行、求师、书籍等方面的优越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783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衣食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日有……岁有…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无奔走之劳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求师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未有问而不告……”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凡所宜有之书……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结论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住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之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78136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求师奔走之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3500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成年叩问之难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1080" y="4149720"/>
            <a:ext cx="22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幼时抄书之艰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0880" y="5207040"/>
            <a:ext cx="494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业有不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德有不成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天质之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则心不若余之专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76400" y="2637000"/>
            <a:ext cx="729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比   诸    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84464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对比，作者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492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学习条件的好差，对学习效果并没有决定性的影响。学习条件不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学有所成，学习条件优越，也会“业有不精，德有不成”。促使学习成功的重要因素是学者的态度：要“勤且艰”，要专心，要乐在其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1211760"/>
            <a:ext cx="8005680" cy="5646240"/>
            <a:chOff x="468360" y="1211760"/>
            <a:chExt cx="8005680" cy="56462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580000" y="2754360"/>
              <a:ext cx="280296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68360" y="1211760"/>
              <a:ext cx="8005680" cy="1938240"/>
              <a:chOff x="468360" y="1211760"/>
              <a:chExt cx="8005680" cy="1938240"/>
            </a:xfrm>
          </p:grpSpPr>
          <p:sp>
            <p:nvSpPr>
              <p:cNvPr id="98" name=""/>
              <p:cNvSpPr/>
              <p:nvPr/>
            </p:nvSpPr>
            <p:spPr>
              <a:xfrm>
                <a:off x="468360" y="1211760"/>
                <a:ext cx="800568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），字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景濂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号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潜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谥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文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浙江浦江人，明初著名散文家。他生活在元末明初，少时家贫，勤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8360" y="2538360"/>
                <a:ext cx="5040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奋好学。从文治方面对明朝的建立和巩固做出了贡献，被推为“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开国文臣之首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”。生平著作很多，有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《宋学士文集》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62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作者写这篇赠序的原因是什么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005560"/>
            <a:ext cx="7991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君则在太学已二年，流辈甚称其贤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乡关系，“以乡人子谒余”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撰长书，辞甚畅达，与之论辩，言和而色夷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之，“是可谓善学者”。“其将归见其亲”，“故道为学之难”来勉励他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3141720"/>
            <a:ext cx="640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太学生学习条件之优越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76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256536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三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522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明作者的写作意图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51640" y="191628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460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对比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2365560"/>
            <a:ext cx="770544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作者生动地叙述了自己年轻时在买书、求师不易的条件下，刻苦学习的艰苦经历，语重心长地劝勉青年一代应当专心向学，刻苦用功，千万不要辜负良好的条件，浪费大好的时光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1640" y="2478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这篇文章，联系自身，谈谈你受到的启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87280" y="76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讨论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902520"/>
            <a:ext cx="7920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19890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3640" y="332640"/>
            <a:ext cx="828036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练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6840" y="1413000"/>
            <a:ext cx="4727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益慕圣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师也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盖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勤且艰若此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224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133720"/>
            <a:ext cx="61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“抄书”    宾语前置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2920" y="2854440"/>
            <a:ext cx="22503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词，指“书”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2320" y="3645000"/>
            <a:ext cx="2131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4680" y="4437000"/>
            <a:ext cx="3106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主谓间取消句子独立性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520" y="5877000"/>
            <a:ext cx="223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 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6429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、一字多义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205000"/>
            <a:ext cx="144720" cy="352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3360" y="12679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衾拥覆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乡人子谒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贫，无从致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俯身倾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有足乐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人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7960" y="1341360"/>
            <a:ext cx="12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 用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0520" y="198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凭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62640" y="263700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目的，来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8560" y="3284640"/>
            <a:ext cx="25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修饰关系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2360" y="39337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原因， 因为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120" y="5445000"/>
            <a:ext cx="51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一“以”，因为，同“是”组合，相当于“因此”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后一 “以”是介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把”或“拿”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628640"/>
            <a:ext cx="144360" cy="360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58920" y="-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今异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29440"/>
            <a:ext cx="7993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汤    媵人持汤沃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走    走送之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趋    尝趋百里外从乡之先达执经叩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14842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1280" y="21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等煮后所得的汁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9000" y="336384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407664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行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53006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5950080"/>
            <a:ext cx="14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趋势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71628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558972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26920" y="2880"/>
            <a:ext cx="6050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或    或遇其叱咄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卒    卒获有所闻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遗    父母岁有裘葛之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    以是人多以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12536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8000" y="213984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271620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5400" y="3860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43718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遗失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516640"/>
            <a:ext cx="14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6093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虚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与真相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16000" y="765000"/>
            <a:ext cx="71280" cy="79236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249228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414972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导学与同步训练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学习指导用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相关内容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课后整理好词类活用、通假字、一字多义、古今异义、特殊句式等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614680"/>
            <a:ext cx="81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解题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“赠序”送给东阳马生。东阳，在今浙江省，当时与浦江、义乌等县同属金华府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赠序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古代的一种文体，有临别赠言性质，内容多为推重、赞许或勉励之辞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8406"/>
                </a:moveTo>
                <a:lnTo>
                  <a:pt x="14899" y="8406"/>
                </a:lnTo>
                <a:lnTo>
                  <a:pt x="19321" y="3794"/>
                </a:lnTo>
                <a:lnTo>
                  <a:pt x="19321" y="17806"/>
                </a:lnTo>
                <a:lnTo>
                  <a:pt x="14899" y="13194"/>
                </a:lnTo>
                <a:lnTo>
                  <a:pt x="10469" y="13194"/>
                </a:lnTo>
                <a:close/>
              </a:path>
              <a:path fill="darken" w="34951" h="21600">
                <a:moveTo>
                  <a:pt x="20975" y="10800"/>
                </a:moveTo>
                <a:lnTo>
                  <a:pt x="24482" y="10800"/>
                </a:lnTo>
              </a:path>
              <a:path fill="darken" w="34951" h="21600">
                <a:moveTo>
                  <a:pt x="20975" y="8406"/>
                </a:moveTo>
                <a:lnTo>
                  <a:pt x="24482" y="5639"/>
                </a:lnTo>
              </a:path>
              <a:path fill="darken" w="34951" h="21600">
                <a:moveTo>
                  <a:pt x="20975" y="13194"/>
                </a:moveTo>
                <a:lnTo>
                  <a:pt x="24482" y="15961"/>
                </a:ln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-2409480"/>
            <a:ext cx="7777440" cy="11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撰（          ）             贽（          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62064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读准字音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68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du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62712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268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9162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198900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7080" y="19162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63700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6370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328464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2130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94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58136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5813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é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22936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522936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87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5883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330560"/>
            <a:ext cx="48243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嗜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学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借于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手自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笔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送之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尝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百里外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628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4922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29264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5229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357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解释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106280"/>
            <a:ext cx="396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侍左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德隆望尊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其室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遇其叱咄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21000"/>
            <a:ext cx="37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道德高声望高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3500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4370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14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站立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18872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获有所闻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四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支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僵劲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持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汤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沃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日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绮绣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白玉之环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34136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060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”肢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肢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8526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      通”盥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洗手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0028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429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“披”，穿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5013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动词，挂在腰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316520"/>
            <a:ext cx="74883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岁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裘葛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（</a:t>
            </a:r>
            <a:r>
              <a:rPr b="1" i="1" lang="zh-CN" sz="3600" spc="-1" strike="noStrike">
                <a:solidFill>
                  <a:srgbClr val="292929"/>
                </a:solidFill>
                <a:latin typeface="华文细黑"/>
                <a:ea typeface="华文细黑"/>
              </a:rPr>
              <a:t>wèi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博士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假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诸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人而后见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非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天质之卑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则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心不若余之专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45813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之于”。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书。于，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87700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选择，不是……而是……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8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93040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9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国子监的老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手，名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5:08:50Z</dcterms:created>
  <dc:creator>汤蓉</dc:creator>
  <dc:description/>
  <dc:language>en-US</dc:language>
  <cp:lastModifiedBy> </cp:lastModifiedBy>
  <dcterms:modified xsi:type="dcterms:W3CDTF">2007-01-17T02:24:03Z</dcterms:modified>
  <cp:revision>86</cp:revision>
  <dc:subject/>
  <dc:title>送东阳马生序</dc:title>
</cp:coreProperties>
</file>