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1BD2-B430-4B94-B6F4-81F25CF5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9CEA-BA24-464E-BBCD-5A0FA64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AD9B-3310-4BDF-8502-63FBE620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12B2-14D8-4A70-8A30-B069122F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527-EA12-4D5D-A466-2AA4B7BF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DC6-D34B-4876-B9B1-E002498D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47B-B55A-4BE2-90BD-7785BF1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59D9-B909-4900-A065-F37A5B7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3A2-72D4-49B9-839E-5F247D1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188-F3D0-46E3-96B8-622D463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2CB-3675-4117-9AC1-F56CCD2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6C9F-5017-4670-B9CA-67EE732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DE7C-4322-4D43-9FDF-48A4299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3D6-FB2B-4B97-99EF-6EDC0CA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A5EA-DB7A-4646-8350-AA4B32D4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C5A-74E0-4C7A-AED8-174813A1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CE4-263E-4A2E-9227-A359642E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C259-1C65-486C-AE68-043A351A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0F27-42B0-467D-9DBC-0A90C86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E7A0-D5A3-4947-B478-54A512EF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9EE3-CC4C-4DB7-A1D6-449911D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B0B8-CE80-472E-9653-3C6C682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D344-471B-48C4-A130-65C35DA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AACE-0B60-4698-B20B-8627F69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5E6C-42C0-4EDB-A9EF-57254B23ADE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85C-0F7C-4BB9-9E8B-82A0B909C96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inaculture.org/gb/cn_madeinchina/2005-11/28/content_7638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218.4.203.36/student/plog/blog.asp?name=shenyuchuan&amp;page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0"/>
            <a:ext cx="856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阎维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入学的新书包有人给你拿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雨中的花折伞有人给你打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爱吃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鲜馅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包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委屈的泪花有人给你擦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娘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给了我生命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一个家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走多远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在干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离不开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咱的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身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乡住有人在牵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回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里边有人沏热茶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床上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掉眼泪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露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容时有人乐开花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多富有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官多大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不能忘 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170028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说说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8840" y="2060640"/>
            <a:ext cx="385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3760" y="326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3760" y="391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90792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写写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450864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除了你，谁能滋润我干枯的心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9079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844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也爱母亲，却和母亲爱我们不一样，我们的爱是溪流，母亲的爱是海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 rot="20980200">
            <a:off x="3760920" y="863640"/>
            <a:ext cx="39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cc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21145800">
            <a:off x="398160" y="0"/>
            <a:ext cx="194148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95640" y="692280"/>
            <a:ext cx="5327640" cy="284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请在“生活”、“幸福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</a:rPr>
              <a:t>”、“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爱心”中任选一词，并以这个词为中心，扩展成一段文字。要求运用比喻、排比两种修辞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1680" y="1773360"/>
            <a:ext cx="8506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4c2f"/>
                </a:solidFill>
                <a:latin typeface="Arial"/>
              </a:rPr>
              <a:t>课外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457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2438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567360" y="765000"/>
            <a:ext cx="225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cc"/>
                </a:solidFill>
                <a:latin typeface="Tahoma"/>
              </a:rPr>
              <a:t>阅读推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0"/>
            <a:ext cx="55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阅读冰心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繁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了解冰心对母爱、童真和大自然的歌颂，同时也体会寄情于物写法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243036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651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54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627280" y="260280"/>
            <a:ext cx="547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-100080"/>
            <a:ext cx="1018692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24000" y="450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6666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6014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143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014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785440" cy="3384360"/>
          </a:xfrm>
          <a:prstGeom prst="rect">
            <a:avLst/>
          </a:prstGeom>
          <a:ln w="28440">
            <a:solidFill>
              <a:srgbClr val="66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11280" y="76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繁星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春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阅读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同学们推荐自己最喜欢的一首小诗，并说说推荐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1640" y="549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荷叶   母亲</a:t>
            </a:r>
            <a:br>
              <a:rPr sz="4000"/>
            </a:b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59892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0360" y="549360"/>
            <a:ext cx="4681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0—199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代散文家、诗人、儿童文学作家。原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谢婉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代表作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292640"/>
            <a:ext cx="8569080" cy="106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容大致包括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母爱、童真、自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方面。诗歌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式短小而意味深长；语言清新淡雅而又晶莹明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独特的艺术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33360"/>
            <a:ext cx="35989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79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276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眼前出现一幅怎样的图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541440" y="-674640"/>
            <a:ext cx="10226880" cy="813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8000" y="1628640"/>
            <a:ext cx="590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朵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莲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2421000"/>
            <a:ext cx="590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片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荷叶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730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484280"/>
            <a:ext cx="93492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荷叶护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2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61080" y="836640"/>
            <a:ext cx="338292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母亲啊！你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荷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我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红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心中的雨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来了，除了你，谁是我在无遮拦天空下的荫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333360"/>
            <a:ext cx="4681440" cy="3294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儿躲到它的巢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中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只躲到你的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3716280"/>
            <a:ext cx="504036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撇开你的忧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容我沉酣在你的怀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你是我灵魂的安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3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冰心的母亲杨福慈</a:t>
            </a:r>
            <a:r>
              <a:rPr b="1" lang="zh-CN" sz="28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52640"/>
            <a:ext cx="864216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前，母亲常帮助几位是同盟会会员的舅舅传寄同盟会进步刊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了同盟会传递消息、收发信件的义务联络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后，母亲又将仅有的一点首饰换成洋钱，捐给了起义的军队。受母亲的影响，冰心将自己多年积攒起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压岁钱也捐给了起义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冰心的眼里，母亲是一位极为温柔娴静的女性。她从不打骂孩子，总是用温言软语劝说孩子，用讲故事的方法启发孩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母亲的引导下，冰心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几乎看完了中国著名的古典小说，这为冰心以后走上文学创作的道路奠定了坚实的基础。当冰心开始文学创作后，母亲又成了冰心文章的第一位读者和批评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0360" y="26028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勇敢慈怜的荷叶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08:56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0-11-02T08:39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