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61207-8C6C-4AA6-AE4B-7B9D3A82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EE464-1059-4F85-A78D-529AA063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C8DFE-358E-49E6-941B-FFD00D5C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0B1F6-DF0E-4A36-85C1-E14D9770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DE8F-8C8B-473B-8530-BE652C92D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78D8-359F-4DEB-BDD3-E8CB85F8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C653-B735-44F6-AEA4-932960A3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A808-DA4F-44F9-A32B-4A0384FE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131B-C9DD-4D28-830C-DED1DB24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1403-A1A5-4F64-922A-B84F683D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EC1E-7397-4B5D-9441-592BE425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3A75D-245C-4047-A44F-74AA0807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1E31-EF65-4255-9D12-C609A606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09C7-332E-4A59-8F81-11B4BEFF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6B6B-74C6-46BD-9808-3122B990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CE2F-73F6-4AA8-8B8E-1BCAE0FC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2AC8-ADBB-49B7-A878-60460D95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EEFA0-E536-44FA-B71F-A9547849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6EC99-3786-4830-BB1D-3B3ED075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CE510-06C9-4606-9AE6-A3B4A4FD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A5460-E58C-4C60-B847-E11AC985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80464-6AE3-4966-A9FB-23AF1163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0BD93-29EC-47D9-B179-00D97D6F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321D8-3B9D-4CE1-AD10-B93594A1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E98F-25E1-4247-9CB6-1B2267614988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F8BA-E2B1-47FE-A139-AE4EE0A8341C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cnpic.com/user/User_Templet/3/magnify.php?userid=107827&amp;img_id=107827-0052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cnpic.com/user/User_Templet/3/magnify.php?userid=107827&amp;img_id=107827-0052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hinaculture.org/gb/cn_madeinchina/2005-11/28/content_76383.htm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218.4.203.36/student/plog/blog.asp?name=shenyuchuan&amp;page=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0"/>
            <a:ext cx="85690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母亲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阎维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入学的新书包有人给你拿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雨中的花折伞有人给你打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爱吃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鲜馅有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给你包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委屈的泪花有人给你擦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个人就是娘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个人就是妈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个人给了我生命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给我一个家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管你走多远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论你在干啥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什么时候也离不开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咱的妈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身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乡住有人在牵挂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回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里边有人沏热茶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躺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病床上有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掉眼泪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露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笑容时有人乐开花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管你多富有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论你官多大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什么时候也不能忘 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812000" y="587700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709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788000" y="1700280"/>
            <a:ext cx="47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cc"/>
                </a:solidFill>
                <a:latin typeface="Arial"/>
                <a:ea typeface="楷体_GB2312"/>
              </a:rPr>
              <a:t>我们也来说说母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38840" y="2060640"/>
            <a:ext cx="385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例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母亲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13760" y="3265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春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13760" y="391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幼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907920"/>
            <a:ext cx="47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cc"/>
                </a:solidFill>
                <a:latin typeface="Arial"/>
                <a:ea typeface="楷体_GB2312"/>
              </a:rPr>
              <a:t>我们也来写写母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4508640"/>
            <a:ext cx="29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除了你，谁能滋润我干枯的心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907920"/>
            <a:ext cx="75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1844640"/>
            <a:ext cx="7129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也爱母亲，却和母亲爱我们不一样，我们的爱是溪流，母亲的爱是海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汪国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 rot="20980200">
            <a:off x="3760920" y="863640"/>
            <a:ext cx="39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99cc"/>
                </a:solidFill>
                <a:latin typeface="Tahoma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 rot="21145800">
            <a:off x="398160" y="0"/>
            <a:ext cx="1941480" cy="1625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195640" y="692280"/>
            <a:ext cx="5327640" cy="2849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请在“生活”、“幸福</a:t>
            </a:r>
            <a:r>
              <a:rPr b="0" lang="zh-CN" sz="4000" spc="-1" strike="noStrike">
                <a:solidFill>
                  <a:srgbClr val="9933ff"/>
                </a:solidFill>
                <a:latin typeface="Arial"/>
              </a:rPr>
              <a:t>”、“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爱心”中任选一词，并以这个词为中心，扩展成一段文字。要求运用比喻、排比两种修辞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41680" y="1773360"/>
            <a:ext cx="8506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4c2f"/>
                </a:solidFill>
                <a:latin typeface="Arial"/>
              </a:rPr>
              <a:t>课外练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6"/>
          <p:cNvSpPr/>
          <p:nvPr/>
        </p:nvSpPr>
        <p:spPr>
          <a:xfrm>
            <a:off x="0" y="457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0" y="24382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567360" y="765000"/>
            <a:ext cx="22550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99cc"/>
                </a:solidFill>
                <a:latin typeface="Tahoma"/>
              </a:rPr>
              <a:t>阅读推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0"/>
            <a:ext cx="554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外阅读冰心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繁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了解冰心对母爱、童真和大自然的歌颂，同时也体会寄情于物写法的妙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2430360" cy="3095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26514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304920" y="-458640"/>
            <a:ext cx="9753840" cy="7545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2627280" y="260280"/>
            <a:ext cx="54738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！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544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-100080"/>
            <a:ext cx="10186920" cy="6958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324000" y="4508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6666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2843280" y="2133720"/>
            <a:ext cx="6553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60143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0143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60143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785440" cy="3384360"/>
          </a:xfrm>
          <a:prstGeom prst="rect">
            <a:avLst/>
          </a:prstGeom>
          <a:ln w="28440">
            <a:solidFill>
              <a:srgbClr val="666699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11280" y="76500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繁星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》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春水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阅读分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170028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同学们推荐自己最喜欢的一首小诗，并说说推荐理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11640" y="54936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Arial"/>
              </a:rPr>
              <a:t>荷叶   母亲</a:t>
            </a:r>
            <a:br>
              <a:rPr sz="4000"/>
            </a:b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 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冰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4651560" cy="57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3598920" cy="3816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140360" y="549360"/>
            <a:ext cx="46814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冰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0—199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代散文家、诗人、儿童文学作家。原名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谢婉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代表作有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繁星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春水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寄小读者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4292640"/>
            <a:ext cx="8569080" cy="106884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繁星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春水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内容大致包括：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母爱、童真、自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个方面。诗歌的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形式短小而意味深长；语言清新淡雅而又晶莹明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具有独特的艺术魅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333360"/>
            <a:ext cx="35989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321080" cy="5791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16360" y="227664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眼前出现一幅怎样的图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541440" y="-674640"/>
            <a:ext cx="10226880" cy="8136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08000" y="1628640"/>
            <a:ext cx="59040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朵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红莲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2421000"/>
            <a:ext cx="590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片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44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荷叶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596360" y="544500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0730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1484280"/>
            <a:ext cx="934920" cy="43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荷叶护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27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761080" y="836640"/>
            <a:ext cx="3382920" cy="34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母亲啊！你是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荷叶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我是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红莲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心中的雨点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来了，除了你，谁是我在无遮拦天空下的荫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333360"/>
            <a:ext cx="4681440" cy="3294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母亲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上的风雨来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鸟儿躲到它的巢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中的风雨来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只躲到你的怀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08360" y="3716280"/>
            <a:ext cx="5040360" cy="27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母亲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撇开你的忧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容我沉酣在你的怀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只有你是我灵魂的安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333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cc"/>
                </a:solidFill>
                <a:latin typeface="楷体_GB2312"/>
                <a:ea typeface="楷体_GB2312"/>
              </a:rPr>
              <a:t>冰心的母亲杨福慈</a:t>
            </a:r>
            <a:r>
              <a:rPr b="1" lang="zh-CN" sz="2800" spc="-1" strike="noStrike">
                <a:solidFill>
                  <a:srgbClr val="9999c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052640"/>
            <a:ext cx="864216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辛亥革命爆发之前，母亲常帮助几位是同盟会会员的舅舅传寄同盟会进步刊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成了同盟会传递消息、收发信件的义务联络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辛亥革命爆发之后，母亲又将仅有的一点首饰换成洋钱，捐给了起义的军队。受母亲的影响，冰心将自己多年积攒起来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块压岁钱也捐给了起义军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冰心的眼里，母亲是一位极为温柔娴静的女性。她从不打骂孩子，总是用温言软语劝说孩子，用讲故事的方法启发孩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母亲的引导下，冰心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时几乎看完了中国著名的古典小说，这为冰心以后走上文学创作的道路奠定了坚实的基础。当冰心开始文学创作后，母亲又成了冰心文章的第一位读者和批评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0360" y="260280"/>
            <a:ext cx="57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勇敢慈怜的荷叶母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3:08:56Z</dcterms:created>
  <dc:creator>微软用户</dc:creator>
  <dc:description/>
  <cp:keywords/>
  <dc:language>en-US</dc:language>
  <cp:lastModifiedBy>微软用户</cp:lastModifiedBy>
  <cp:lastPrinted>1899-12-30T00:00:00Z</cp:lastPrinted>
  <dcterms:modified xsi:type="dcterms:W3CDTF">2010-11-02T08:39:17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