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C7F-5549-4C72-84A2-69704CBE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0BA-3766-4B1E-B5AC-54363AEB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B66-5642-4483-9341-610AE9CC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F87-8D36-44AA-ADBA-B749D371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74B-B97E-47B0-BF29-AA0ADF53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2EC-59CE-4835-B477-1D4872B6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F92-2C7C-487C-AC72-D1C8F0F8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3E8-3CB8-4B34-A658-4DAC4223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5C3-9FCD-4DA2-BB85-2769F22E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749-AF2E-427A-8733-2DAF3EEF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4C6-21B3-4243-B20A-BD52BEA3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6E0-B956-43E0-A736-E1FAD00D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287F-1E57-47C6-A72C-6513CEE7ED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" Target="slide8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04000" y="1125360"/>
            <a:ext cx="2340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3cdcb"/>
                </a:solidFill>
                <a:latin typeface="Arial"/>
              </a:rPr>
              <a:t>我叫王宜、合川人。</a:t>
            </a:r>
            <a:r>
              <a:rPr b="1" lang="zh-CN" sz="2400" spc="-1" strike="noStrike">
                <a:solidFill>
                  <a:srgbClr val="d3cdcb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d3cdcb"/>
                </a:solidFill>
                <a:latin typeface="Arial"/>
              </a:rPr>
              <a:t>年毕业于重庆文理学院，现于开县铁桥中学从事初二、高二语文教学。这个课件创建于长江师范学院“换岗培训”，用于结业试课。请大家批评指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8920" y="2565000"/>
            <a:ext cx="316872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烤白薯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热乎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2943360" cy="415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5640" y="765000"/>
            <a:ext cx="3311640" cy="1016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59280" y="765000"/>
            <a:ext cx="3311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烤白薯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6477120"/>
            <a:ext cx="1219320" cy="152280"/>
          </a:xfrm>
          <a:custGeom>
            <a:avLst/>
            <a:gdLst>
              <a:gd name="textAreaLeft" fmla="*/ 9720 w 1219320"/>
              <a:gd name="textAreaRight" fmla="*/ 1209600 w 12193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172596" h="21600">
                <a:moveTo>
                  <a:pt x="0" y="0"/>
                </a:moveTo>
                <a:lnTo>
                  <a:pt x="172596" y="0"/>
                </a:lnTo>
                <a:lnTo>
                  <a:pt x="172596" y="21600"/>
                </a:lnTo>
                <a:lnTo>
                  <a:pt x="0" y="21600"/>
                </a:lnTo>
                <a:close/>
              </a:path>
              <a:path fill="lightenLess" w="172596" h="21600">
                <a:moveTo>
                  <a:pt x="0" y="0"/>
                </a:moveTo>
                <a:lnTo>
                  <a:pt x="172596" y="0"/>
                </a:lnTo>
                <a:lnTo>
                  <a:pt x="171196" y="1400"/>
                </a:lnTo>
                <a:lnTo>
                  <a:pt x="1400" y="1400"/>
                </a:lnTo>
                <a:close/>
              </a:path>
              <a:path fill="darken" w="172596" h="21600">
                <a:moveTo>
                  <a:pt x="172596" y="0"/>
                </a:moveTo>
                <a:lnTo>
                  <a:pt x="172596" y="21600"/>
                </a:lnTo>
                <a:lnTo>
                  <a:pt x="171196" y="20200"/>
                </a:lnTo>
                <a:lnTo>
                  <a:pt x="171196" y="1400"/>
                </a:lnTo>
                <a:close/>
              </a:path>
              <a:path fill="darkenLess" w="172596" h="21600">
                <a:moveTo>
                  <a:pt x="172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96" y="20200"/>
                </a:lnTo>
                <a:close/>
              </a:path>
              <a:path fill="lighten" w="172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96" h="21600">
                <a:moveTo>
                  <a:pt x="79292" y="8406"/>
                </a:moveTo>
                <a:lnTo>
                  <a:pt x="83722" y="8406"/>
                </a:lnTo>
                <a:lnTo>
                  <a:pt x="88143" y="3794"/>
                </a:lnTo>
                <a:lnTo>
                  <a:pt x="88143" y="17806"/>
                </a:lnTo>
                <a:lnTo>
                  <a:pt x="83722" y="13194"/>
                </a:lnTo>
                <a:lnTo>
                  <a:pt x="79292" y="13194"/>
                </a:lnTo>
                <a:close/>
              </a:path>
              <a:path fill="darken" w="172596" h="21600">
                <a:moveTo>
                  <a:pt x="89797" y="10800"/>
                </a:moveTo>
                <a:lnTo>
                  <a:pt x="93305" y="10800"/>
                </a:lnTo>
              </a:path>
              <a:path fill="darken" w="172596" h="21600">
                <a:moveTo>
                  <a:pt x="89797" y="8406"/>
                </a:moveTo>
                <a:lnTo>
                  <a:pt x="93305" y="5639"/>
                </a:lnTo>
              </a:path>
              <a:path fill="darken" w="172596" h="21600">
                <a:moveTo>
                  <a:pt x="89797" y="13194"/>
                </a:moveTo>
                <a:lnTo>
                  <a:pt x="93305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2095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3311640" cy="101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153280" y="63244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10800"/>
                </a:moveTo>
                <a:lnTo>
                  <a:pt x="44692" y="3794"/>
                </a:lnTo>
                <a:lnTo>
                  <a:pt x="446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37000"/>
            <a:ext cx="4968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一大小 呃小金鱼儿来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唔哎嗨 大小 呃小金鱼儿来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哎 仨大一条啊 俩大一条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您别拿我们当卖 黄瓜的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是卖 大小呃 小金鱼儿来呦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765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300720" y="69228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卖金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1700280"/>
            <a:ext cx="2953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59280" y="1628640"/>
            <a:ext cx="33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1844640"/>
            <a:ext cx="2952720" cy="4540680"/>
          </a:xfrm>
          <a:prstGeom prst="rect">
            <a:avLst/>
          </a:prstGeom>
          <a:solidFill>
            <a:srgbClr val="d5c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272200" y="2114640"/>
            <a:ext cx="2790720" cy="3495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6093000"/>
            <a:ext cx="449280" cy="448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5561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31128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012000" y="692280"/>
            <a:ext cx="2500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7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宋体"/>
              </a:rPr>
              <a:t>卖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2363760"/>
            <a:ext cx="3744720" cy="4540680"/>
          </a:xfrm>
          <a:prstGeom prst="rect">
            <a:avLst/>
          </a:prstGeom>
          <a:solidFill>
            <a:srgbClr val="d5c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2962080" cy="2867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2565360"/>
            <a:ext cx="35276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栽花呀 栽花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芍药花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行尖呀哎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荷秧儿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兰花呀哎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茉莉花呀哎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75640" y="6237360"/>
            <a:ext cx="468360" cy="62064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620640"/>
              <a:gd name="textAreaBottom" fmla="*/ 590400 h 620640"/>
            </a:gdLst>
            <a:ahLst/>
            <a:rect l="textAreaLeft" t="textAreaTop" r="textAreaRight" b="textAreaBottom"/>
            <a:pathLst>
              <a:path w="21600" h="28618">
                <a:moveTo>
                  <a:pt x="0" y="0"/>
                </a:moveTo>
                <a:lnTo>
                  <a:pt x="21600" y="0"/>
                </a:lnTo>
                <a:lnTo>
                  <a:pt x="21600" y="28618"/>
                </a:lnTo>
                <a:lnTo>
                  <a:pt x="0" y="28618"/>
                </a:lnTo>
                <a:close/>
              </a:path>
              <a:path fill="lightenLess" w="21600" h="28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18">
                <a:moveTo>
                  <a:pt x="21600" y="0"/>
                </a:moveTo>
                <a:lnTo>
                  <a:pt x="21600" y="28618"/>
                </a:lnTo>
                <a:lnTo>
                  <a:pt x="20200" y="27218"/>
                </a:lnTo>
                <a:lnTo>
                  <a:pt x="20200" y="1400"/>
                </a:lnTo>
                <a:close/>
              </a:path>
              <a:path fill="darkenLess" w="21600" h="28618">
                <a:moveTo>
                  <a:pt x="21600" y="28618"/>
                </a:moveTo>
                <a:lnTo>
                  <a:pt x="0" y="28618"/>
                </a:lnTo>
                <a:lnTo>
                  <a:pt x="1400" y="27218"/>
                </a:lnTo>
                <a:lnTo>
                  <a:pt x="20200" y="27218"/>
                </a:lnTo>
                <a:close/>
              </a:path>
              <a:path fill="lighten" w="21600" h="28618">
                <a:moveTo>
                  <a:pt x="0" y="28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18"/>
                </a:lnTo>
                <a:close/>
              </a:path>
              <a:path fill="darken" w="21600" h="28618">
                <a:moveTo>
                  <a:pt x="3794" y="14309"/>
                </a:moveTo>
                <a:lnTo>
                  <a:pt x="17806" y="7302"/>
                </a:lnTo>
                <a:lnTo>
                  <a:pt x="17806" y="213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6021360"/>
            <a:ext cx="555480" cy="5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31556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58920" y="184464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向我们介绍了上个世纪二、三十年代老北京城 里的种种吆喝，作者难忘的只是这诸多的叫卖声吗？作者对北京的吆喝怀有怎样的感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1280" y="692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议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3731400" y="399096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喜欢、怀念、遗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26920" y="836640"/>
            <a:ext cx="2459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喊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2997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家乡还有哪些熟悉的吆喝声或类似的口头文化？请放开喉咙吆喝一下。（可以自己创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373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29000" y="304920"/>
            <a:ext cx="525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505320" cy="3619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3049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640" y="189000"/>
            <a:ext cx="2087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结语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1916280"/>
            <a:ext cx="619272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要让我们的后人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到外国去看我们 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文化遗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尤其是无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文化遗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685800"/>
            <a:ext cx="7696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作 业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己为一种商品创造一则吆喝广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在街头做生意的人吆喝时的外貌、动作、神态、语言等，作一个片段描写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0—3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314000" cy="8050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-252360" y="0"/>
            <a:ext cx="28083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2997360"/>
            <a:ext cx="6193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谢谢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祝大家生活愉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810108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1341360"/>
            <a:ext cx="594360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990000"/>
                </a:solidFill>
                <a:latin typeface="Arial"/>
              </a:rPr>
              <a:t>吆喝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萧   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4920" y="-27000"/>
          <a:ext cx="9001080" cy="6769080"/>
        </p:xfrm>
        <a:graphic>
          <a:graphicData uri="http://schemas.openxmlformats.org/drawingml/2006/table">
            <a:tbl>
              <a:tblPr/>
              <a:tblGrid>
                <a:gridCol w="2233440"/>
                <a:gridCol w="5832720"/>
                <a:gridCol w="9349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1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826920" y="90792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5554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馄饨喂——开锅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112536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好的——老爷——太（哎）太”——“有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剩饭——剩菜——赏我点吃吧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太太（那个）真行好，给个饽饽吃不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屋里瞧（那么）西屋里看，没有饽饽赏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饭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836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硬面——饽饽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24271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喝了蜜的大柿子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270828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葫芦儿——刚蘸得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葫芦儿——冰塔儿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就剩两挂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6920" y="35672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烤白薯哇真热乎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385452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玩儿赛活的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4149720"/>
            <a:ext cx="482436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蒸而又炸呀，油儿又白搭。面的包儿来，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葫芦的馅儿啊，蒸而又炸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卤煮喂，炸豆腐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01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栗子味儿的白薯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5300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萝卜赛过梨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又不糠来又不辣，两捆萝卜一个大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58705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包糖来”——“荷叶糕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60865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哟”——“荞麦皮耶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冰棍儿——三分嘞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8428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49520"/>
            <a:ext cx="212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馄饨、饽饽、乞丐、柿子、糖葫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烤白薯、玩具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食、白薯、萝卜、卖荷叶糕、冰棍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卖荞麦皮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46640" y="1484280"/>
            <a:ext cx="729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早————————————————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510040" y="1484280"/>
            <a:ext cx="4546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春————————————————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7440" y="5414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馄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03040" y="843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饽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乞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柿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314172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糖葫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20160" y="3506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烤白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23480" y="3808440"/>
            <a:ext cx="8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玩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6000" y="458136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吃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03040" y="5018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白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03040" y="552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萝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0960" y="574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荷叶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20160" y="6026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荞麦皮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03040" y="638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冰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36360" y="3645000"/>
            <a:ext cx="246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米粥、油炸果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买青菜、买花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唱话匣子、算灵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卖大小金鱼、西瓜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卖蛤蟆骨朵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雪花酪、海棠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76360" y="2205000"/>
            <a:ext cx="60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“我喜欢” 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这句吆喝，因为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句式说说你喜欢的原因，并根据自己的理解试着吆喝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640" y="7650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品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4282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听吆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2205000"/>
            <a:ext cx="60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“我喜欢” 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这句吆喝，因为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句式说说你喜欢的原因，并根据自己的理解试着吆喝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50799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齐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1—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，说说吆喝作为一种广告，商贩们是如何变法儿吸引顾客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7650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品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4282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听吆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9640" y="189000"/>
            <a:ext cx="228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听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1800" y="2335320"/>
            <a:ext cx="18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哎 这斗大的西瓜 你就船这么大的个块儿咧 吃了呗呶快来哎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润嗓子 甜嘞   这两个 大俩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311280" cy="468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588000" y="0"/>
            <a:ext cx="15433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西瓜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41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3311640" cy="101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628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2978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838080"/>
            <a:ext cx="3311640" cy="101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952880" y="990720"/>
            <a:ext cx="3086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卖糖葫芦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029200" y="2743200"/>
            <a:ext cx="3578400" cy="35672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8153280" y="63244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10800"/>
                </a:moveTo>
                <a:lnTo>
                  <a:pt x="44692" y="3794"/>
                </a:lnTo>
                <a:lnTo>
                  <a:pt x="446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70828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774880"/>
            <a:ext cx="50403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葫芦儿 葫芦儿冰糖多呵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大糖葫芦儿呵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蜜来哎 葫芦儿 冰糖儿多呀哎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葫芦儿 冰糖儿多呀哎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哎 大糖葫芦儿呵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哎 扛串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哎 小朋友 扛串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大糖葫芦儿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6308640"/>
            <a:ext cx="39528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4856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2923560"/>
            <a:ext cx="2808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硬面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饽饽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708360" y="2492280"/>
            <a:ext cx="4826160" cy="3389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836640"/>
            <a:ext cx="3311280" cy="101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648320" y="838080"/>
            <a:ext cx="38145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9999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硬面饽饽</a:t>
            </a:r>
            <a:endParaRPr b="0" lang="en-US" sz="1800" spc="1" strike="noStrike">
              <a:ln w="25560">
                <a:solidFill>
                  <a:srgbClr val="009999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79280" y="6093000"/>
            <a:ext cx="520920" cy="448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965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5:01:39Z</dcterms:created>
  <dc:creator>微软用户</dc:creator>
  <dc:description/>
  <dc:language>en-US</dc:language>
  <cp:lastModifiedBy>微软用户</cp:lastModifiedBy>
  <dcterms:modified xsi:type="dcterms:W3CDTF">2009-12-27T07:53:06Z</dcterms:modified>
  <cp:revision>40</cp:revision>
  <dc:subject/>
  <dc:title>幻灯片 1</dc:title>
</cp:coreProperties>
</file>