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whoosh.wav" ContentType="audio/x-wav"/>
  <Override PartName="/ppt/media/image9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3B4-61A8-4C39-9CDF-F5B7C76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1AC-E611-41C2-92DF-A1220415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A07-DFCC-4834-A9BD-CD6CCDA1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C10-6B9E-4108-A668-1E799B7B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F33-E23D-46A6-9BD4-218EBA80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4B5-7D32-4775-83CD-B497593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D598-85CA-4302-8421-EA2E37AE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9932-4F35-40F3-9DD9-001B692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6AD7-9E7A-4CCD-8978-8E6A4BE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990-1E97-4A6B-A7F8-02F84662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6BF0-47E8-4CE7-813F-D1B1BDA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D97-3952-41F9-BF54-085E57D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3AC-D4DA-42DE-A572-2BC693E8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EA61-192F-4562-BE50-B77DE8A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E8DA-E180-44C5-ACFF-7159CBC6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52BB-BA91-447B-930F-22B4955A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1C4-FE84-440E-8E7E-6D7E3DD1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AA3-BF6C-4567-9C6D-753B2F7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0AC-38E0-4840-BFEA-CF12552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EFE-09B6-4488-92AC-1915C005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4B8-8EBF-4F71-B0E7-AB19892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E66-A85C-4D81-8F4B-AA3F741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D04-36CC-4EAA-A2C2-573B6A5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0A4-354E-4E99-B48C-32B0182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5D2B-B5D2-4254-B88F-7BC081F78E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C692-BEA6-46F6-A73D-2DF3DC147B0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71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961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鲁迅的作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都收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鲁迅全集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呐喊》《彷徨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野草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371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76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裁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散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990720"/>
            <a:ext cx="6095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3300"/>
                </a:solidFill>
                <a:latin typeface="Times New Roman"/>
              </a:rPr>
              <a:t>导语：</a:t>
            </a:r>
            <a:r>
              <a:rPr b="1" lang="zh-CN" sz="4700" spc="-1" strike="noStrike">
                <a:solidFill>
                  <a:srgbClr val="000000"/>
                </a:solidFill>
                <a:latin typeface="Times New Roman"/>
              </a:rPr>
              <a:t> 同学们，他是谁？上学期我们一起学习了他所写的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映手足亲情的散文，大家还记得吗？这学期我们来学习他所写的一篇反映童年生活的散文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从百草园到三味书屋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87692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五、教学流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一：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攒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7160" y="2514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371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uánă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219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áo 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桑葚臃肿蝉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āng shè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ōng zhŏng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án t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2193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371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ài  Su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195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宜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塾 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447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í shú b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952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人迹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至            人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ăn d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9"/>
                </a:lnTo>
                <a:cubicBezTo>
                  <a:pt x="10800" y="9129"/>
                  <a:pt x="5400" y="10029"/>
                  <a:pt x="0" y="10029"/>
                </a:cubicBezTo>
                <a:cubicBezTo>
                  <a:pt x="5400" y="10029"/>
                  <a:pt x="10800" y="10929"/>
                  <a:pt x="10800" y="118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27672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29"/>
                </a:lnTo>
                <a:cubicBezTo>
                  <a:pt x="10800" y="10929"/>
                  <a:pt x="5400" y="11829"/>
                  <a:pt x="0" y="11829"/>
                </a:cubicBezTo>
                <a:cubicBezTo>
                  <a:pt x="5400" y="11829"/>
                  <a:pt x="10800" y="12729"/>
                  <a:pt x="10800" y="136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1240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6765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25780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6002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838080"/>
            <a:ext cx="2286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凿：菜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吟：  轻捷：攒：      机关：  鉴赏：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方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确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4479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菜地。畦，有土埂围着的一块块长方形田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长声鸣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276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轻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凑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495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是秘密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1814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鉴定和欣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19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正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2819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迹罕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秕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838080"/>
            <a:ext cx="6324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少有人来。迹，足迹、脚印。罕，稀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666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长得不饱满的谷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971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没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6576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人声喧闹。沸，水开。鼎沸，本意是锅里的水烧开了，发出响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425520" y="0"/>
            <a:ext cx="95695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193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~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5638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渡段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百草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三味书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4647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百草园是我的乐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72428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6483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152388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352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1460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三味书屋追求新知的生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68580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00200"/>
            <a:ext cx="10591920" cy="1051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1197000"/>
            <a:ext cx="7010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了解文章的背景，整体把握课文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结合自己的经历和体验，深入体味文中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注意学习文章的表达技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8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、本单元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133720"/>
            <a:ext cx="3352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8108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92468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一百草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61048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第一段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介绍了百草园的名称、归属及“我”对百草园的印象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文中哪句话可以表明作者对“百草园”的生活的感受？体现了作者什么样的感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但那时却是我的乐园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91440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体现了作者对百草园的热爱怀念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819520"/>
            <a:ext cx="86868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“但那时却是我的乐园”与下文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3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是下文的总括句，下文内容是对这句话的具体描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文中“现在是早已并屋子一起卖给朱文公的子孙了，连那最末次的相见也已经隔了七八年，其中似乎确凿只有一些野草。”其中“似乎”和“确凿”是否相矛盾？应如何理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3498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表面上看，这两个词相矛盾，其实不然，它表达了两种意思：“似乎”表示不确定，“确凿”表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示十分肯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Tahoma"/>
                <a:ea typeface="黑体"/>
              </a:rPr>
              <a:t>之所以不确定是因为“连那最末次的相见也已经隔了七八年”，印象已经淡薄了。之所以肯定是因为追忆儿童时的生活，往事又记忆犹新，历历在目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为什么百草园是“我”童年时的乐园呢？作者写了百草园那些季节的趣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黑体"/>
              </a:rPr>
              <a:t>作者写了百草园春夏秋冬四季的趣事，中间还插叙了美女蛇的故事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局部揣摩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914400"/>
            <a:ext cx="7391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绘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描绘了百草园的美丽景色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在园中享受到的无限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详写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05520"/>
            <a:ext cx="9144000" cy="149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、“不必说……也不必说……单是……”中哪个内容是强调的重点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单是”以后的内容是作者强调的重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18080"/>
            <a:ext cx="9448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905120"/>
            <a:ext cx="861048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注：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“单是周围的短短泥墙根一带，就有无限趣味。”这句话从结构上看，是本段的过渡句；从内容上看，是本段的中心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写了哪些景物？分别抓住景物的什么特征来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所写的景物有：菜畦、石井栏皂荚树、桑葚、蝉、黄蜂、叫天子、油蛉、蟋蟀、斑蝥、何首乌、木莲、覆盆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抓住景物的颜色、质地、形状、声音、味道等多方面的特征进行描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14600"/>
            <a:ext cx="9144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颜色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碧绿、紫红、黄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         质地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光滑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 ；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形状：</a:t>
            </a:r>
            <a:r>
              <a:rPr b="1" lang="zh-CN" sz="4900" spc="-1" strike="noStrike">
                <a:solidFill>
                  <a:srgbClr val="ff3300"/>
                </a:solidFill>
                <a:latin typeface="Tahoma"/>
                <a:ea typeface="黑体"/>
              </a:rPr>
              <a:t>高大、肥胖、轻捷、臃肿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声音：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长吟、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低唱、弹琴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；    味道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又酸又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105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光滑的石井栏”中“光滑”一词说明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3880"/>
            <a:ext cx="91440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石井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之所以“光滑”，是因为井经过长年累月的使用，之所以知道它“光滑”，是因为童年的鲁迅多次好奇地摸过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-228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480"/>
            <a:ext cx="5715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扫清字词障碍，积累好词句。                 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学习抓住景物特征，运用准确生动的语言对环境作具体真切的描写的写法。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0481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不但写出这种鸟儿的机灵轻捷，还表现出儿童的羡慕之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理解“轻捷的叫天子忽然从草间直窜向云霄里去了”中“窜”字用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油蛉在这里低唱，蟋蟀在这里弹琴”中“这里”指什么？这句话的修辞及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938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里”指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泥墙根一带。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句话的修辞是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拟人，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赋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油蛉、蟋蟀的动作和行为，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表达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了作者的喜爱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、作者描写这些景物是按什么顺序、从哪些角度来写的？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48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）这里采用了多种顺序进行组织，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整体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局部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的顺序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时间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顺序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）说明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先用两句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百草园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整体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再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泥墙根一带。这是一种顺序。第一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第二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，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这又是一种顺序。整体部分从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，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分从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这又是一种顺序。这里的景物实际上包括了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三个季节的，桑葚、菜花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末的，蝉鸣在盛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蟋蟀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才叫；这与后文写到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冬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百草园和起来成为完整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四季图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从视觉、听觉、味觉、触觉等多种角度绘声绘色，绘形绘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3828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说明：菜畦的“碧绿”、桑葚的“紫红”、菜花和蜂的“黄”，是写颜色，“肥胖”“高大”“臃肿”“像小珊瑚珠攒成的小球”是写形状，这两者都从视觉上写；鸣蝉的“长吟”、蟋蟀的“弹琴”，是从听觉上写；覆盆子“又酸又甜”写的是味觉；石井栏的“光滑”写的是触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作者笔下的百草园景物有什么特点？“我”是一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002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百草园的特点是：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美丽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充满生机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“我”是一个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天真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好奇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热爱自然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自由快乐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从第二段文字描写中，对于写景你受到哪些启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想要把景物写好，必须多观察、写具体，抓住景物各自的特征，安排好描写的顺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第三段有几句话？它在结构上有什么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828800"/>
            <a:ext cx="914400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第三段只有一句话。      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：过渡段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起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承上启下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。由相传这园里有一条很大的赤练蛇，引出美女蛇的故事，过渡巧妙自然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美女蛇的故事并不是发生在百草园，作者为什么要把它穿插在中间讲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因为相传百草园长草里有赤练蛇，这就使作者很自然地想起长妈妈讲的“美女蛇”的故事。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个故事在文中属于插叙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给百草园增添了神秘感，使“我”得到一些教训，悟出一些道理，丰富了百草园作为儿童乐园的情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7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默读第七自然段，然后思考作者写了百草园春夏秋三季的美景趣事，冬天的百草园又有什么有趣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冬天的百草园主要有</a:t>
            </a: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黑体"/>
              </a:rPr>
              <a:t>雪地捕鸟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之乐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36200" cy="80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8380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理清文章结构，理解文章主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有关作家、作品的文学常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8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“冬天的百草园 比较的无味，雪一下，可就两样了。拍雪人和塑雪罗汉需要人们鉴赏，这是荒园，人迹罕至，所以不相宜，只好来捕鸟”中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无味”、“可就” 、“只好”分别表达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7672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无味”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寂寞无奈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 </a:t>
            </a:r>
            <a:r>
              <a:rPr b="1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“可就”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急切盼望欣慰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“只好”表达了作者因无人鉴赏的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遗憾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心情。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9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冬天捕鸟需要的两个自然条件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26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一是“积雪盖了地面一两天”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二是“鸟雀们久已无处觅食的时候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、作者是怎样来描写“捕鸟”这个细节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用“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扫    露    支    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系    牵    看    拉    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”九个动词准确生动地描绘出捕鸟的全过程，也从捕鸟的活动中写出儿童的兴奋、惊喜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9143280" y="2743200"/>
            <a:ext cx="141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352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1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4600" spc="-1" strike="noStrike">
                <a:solidFill>
                  <a:srgbClr val="ff3300"/>
                </a:solidFill>
                <a:latin typeface="宋体"/>
              </a:rPr>
              <a:t>在写百草园和三味书屋的内容之间，穿插了第九段。这一段在全文结构和内容上各起什么作用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362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全文结构看，这是一个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过渡段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，起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承上启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的作用。从内容上看，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反复猜测去书塾的原因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体现了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“我”对百草园深深的依恋之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（”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“到底知道不知道被送到私塾去的原因呢？你是从哪些词语看出来的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我”不知道被送到私塾的原因，因为说到原因时用表示猜测语气的“也许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这段中的三个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也许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”表达了“我”怎样的情感？能否删去，为什么？                                    （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）这段中的省略号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-228600"/>
            <a:ext cx="9448920" cy="2745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）三个“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也许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”表达了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作者对家中让他去书塾的无奈和对百草园的依恋，突出了疑问和无可奈何的语气。若删掉“也许是”则由猜测变成肯定，既改变了原意，又与“都无从知道”相矛盾，且也无法把鲁迅先生对百草园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依不舍的情感和失望的心情表现出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省略了其他关于离开百草园的原因的列举，耐人寻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这一段末尾用了两个德语单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别了）有何用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00200"/>
            <a:ext cx="9144000" cy="249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两个德语单词，读起来新颖、有趣，表达了作者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对百草园依依不舍的情感和失望的心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为什么在“蟋蟀”、“覆盆子”、“木莲”前面加上“我的”，再后边加上“们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765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加上“我的”表示与“蟋蟀”、“覆盆子”和“木莲”的亲密关系，加上“们”是拟人化的用法，而且表示数量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09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三、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百草园生活的描写方法及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276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难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41911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三味书屋的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快速阅读课文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段，用简洁的语句概括这部分所写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敬慕老师的渊博，喜欢提问，愿意了解新知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一有机会便跑出去玩，寻找读书以外的乐趣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趁老师读书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神，在座位上做各种游戏、画画儿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四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师生共同诵书的场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文章第九段中说三味书屋是“全城中称为最严厉的书塾”，这里的先生真的很“严厉”吗？少年鲁迅的感受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我”背完生书向先生询问“怪哉”是怎么一回事，虽然先生似乎很不高兴，脸上还有怒色了，但“我”并没有怪罪先生的想法，而是“知道做学生是不该问这些事的”，先生“决不至于不知道”，“乃是不愿意说”。我们到书塾后面的小园里去玩，先生也并不一概禁止，只是去的人“太多”“太久”不行，即使如此，先生也只是“大叫”“人都到哪里去了”。“他有一条戒尺，但是不常用，也有罚跪的规则，单也不常用”，“只不过瞪几眼”。这些描写都表现出鲁迅对先生的感受：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严而不厉，可亲可敬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28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童年鲁迅对本文所提到的先生是什么态度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3204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主要是敬慕先生，对他渊博的知识感到信服。同时也很爱他，因为学生虽然很调皮，很贪玩，但先生很少体罚他们，通常总不过瞪瞪眼睛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9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味书屋中的读书生活在作者心目中留下了怎样的记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7160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三味书屋中除了上生书、对课以外，那“捉了苍蝇喂蚂蚁”的事便是“最好的工作”，那在“先生读书入神的时候”描画绣像的成绩，都给相对比较单调的读书生活带来了许多情趣。由此可见，三味书屋的读书生活在少年鲁迅的心目中是充满趣味、难以忘怀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30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本文多处运用联想，请找出几例加以说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00200"/>
            <a:ext cx="883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写何首乌而联想到成仙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传说的赤练蛇联想到长妈妈将美女蛇的故事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捕鸟便提到闰土的父亲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学生读书而提到先生读书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本文运用联想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这些必要的联想，使文章放得开，富有情趣，又收得拢，为表现中心服务，也是文章更加生动活泼，多姿多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（四）文章主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通过对百草园和三味书屋的回忆，表现作者儿童时代对自然的热爱，对知识的追求，以及天真、幼稚、欢乐的心理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（五）写作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891540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、写景精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既抓住事物的特点，又符合儿童的心理。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形、声、味俱全，春、夏、秋景皆备。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层次井然，条理分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善于联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819720" y="0"/>
            <a:ext cx="1826280" cy="3276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语言特色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04920"/>
            <a:ext cx="4952880" cy="109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准确生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228600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准确生动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的形容事物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妙传神地表述动作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当灵活的选用句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文题“从百草园到三味书屋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体现了作者的写作顺序。先写“百草园”的乐趣，再写“三味书屋”的新奇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并且“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”的句式体现了时间的推移和空间的变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533412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四、文题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56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（六）课后作业：              一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表示文章大致包括两部分，同时也告诉我们前后两部分的内容。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略。     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三种说法都有一定道理。第一种说法，根据是鲁迅在不止一篇文章中批判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建私塾教育的陈腐，扼杀儿童天性。即使在本文中，也写到私塾生活的呆板、枯燥。第二种说法，是对第一种说法的修正，比第一种说法合理些。第三种说法，更易为现在的人们接受，似乎最为合理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472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单是”以后的内容是作者强调的重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“我”不知道被送到私塾的原因，因为说到原因时用表示猜测语气的“也许”。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、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160020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ahoma"/>
                <a:ea typeface="隶书"/>
              </a:rPr>
              <a:t>再见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495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黑体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9144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味”的含义。关于“三味”的含义，说法不一。一般认为其取意于“读经味如稻粟，读史味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肴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áo`zhuà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味菜肴），读诸子百家味如醯醢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`hă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腊肉酱）”，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即认为“三味”是指“经书之味，史书之味，子书之味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作者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9144000" cy="286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Times New Roman"/>
              </a:rPr>
              <a:t>鲁迅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原名周树人，字豫才，浙江绍兴人。我国现代伟大的文学家、思想家和革命家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9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出生于一个逐渐没落的封建家庭。从小受过传统文化教育，但也读过很多富有民主思想和爱国精神的书。还常随母亲去农村，了解农民的疾苦和他们勤劳、纯朴的性格。这些对他后来的思想发展和创作都产生了深刻影响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横眉冷对千夫指，俯首甘为孺子牛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鲁迅精神的光辉写照。他光辉的一生得到党和人民的崇高评价。毛泽东同志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迅的骨头是最硬的。他没有丝毫的奴颜媚骨，这是殖民地半殖民地人民最可宝贵的性格。鲁迅是在文化战线上，代表全民族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多数，向着敌人冲锋陷阵的最正确、最勇敢、最坚决、最忠实、最热忱的空前的民族英雄。鲁迅的方向，就是中华民族新文化的方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上海病逝。他为我们留下了八百多万字的文学巨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3-23T10:22:22Z</dcterms:modified>
  <cp:revision>377</cp:revision>
  <dc:subject/>
  <dc:title>PowerPoint Presentation</dc:title>
</cp:coreProperties>
</file>