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F70-48F8-4D85-882D-BF120C64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A07-4F1E-44B3-B77C-3CCDA665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BFF-0B70-41EE-8524-871EDCB6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CC9-B626-43C5-9F4F-87A4E4E6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D531-15DA-4AC2-9297-17FCD821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6EA4-E16B-4004-B9E5-0A256B59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A3A6-53E1-4E29-8B8E-121CEABC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19C5-9397-4DE6-B5CA-2520CD3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342-435E-4F12-B6B3-0857078F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35D1-C58C-4DDF-B39F-CB2D28D3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78D9-7B69-4498-820F-839BD80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6D5-90AB-44F7-B6EF-29CE3628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8F3D-C9E9-44FC-A85D-FDD06433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5F72-0CEA-4989-8D5E-E7634788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6C8F-CDE8-4E41-AFFA-48428009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D06D-1E5F-4160-B247-97EE129D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01EB-9F24-4EC7-ACE8-C9DC6CEC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CA3-114E-45C5-A1CC-735F49F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075-B8CA-4246-BF37-784B4920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8DA-2E77-4E6F-9462-EC971B55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4DA-8DCF-43EF-9316-5E5D1CFF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2D5-98DE-4562-A470-072E4922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78A-B92C-455B-8B85-D53C4302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121-1BE1-4310-A5E8-F95CD98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61DF-0496-41FD-AB36-FE3278EDC3E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C5C9-DEB2-4AC5-86EE-AE04ADF3E9E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情势危急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26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魏兵来速快，出乎意料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忽然”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气势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蜂拥而来”，“尘土冲天”，“分两路望西城县杀来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双方力量极其悬殊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司马懿引大军十五万”，“孔明身边别无大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只剩二千五百军在城中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589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众官表情侧面烘托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从官尽皆失色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课文的发展部分与高潮部分都写到“空城计”，是否重复？为什么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重复。这两次写空城计，虽内容大体相同，但描写时有区别。第一次是写孔明传令，是孔明的具体部署，突出他的大智大勇。而第二次是司马懿眼中看到的，更加入了一些生动的细节描写。如：孔明“笑容可掬”；“旁若无人”，这些描写渲染了一种安闲、镇定的气氛，使得“空城计“的场面更加生动、逼真。使得司马懿”大疑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70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司马懿和孔明都对空城计做了解释，叙说的内容一致，甚至用词也多有相同，作者这样描写的用意是什么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86421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司马懿对空城计的解释：“亮平生谨慎，不曾弄险”说明司马懿十分的了解诸葛亮，所以退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孔明对空城计的解释：“此人料吾平生谨慎，必不弄险”，说明孔明了解自己，又了解司马懿，更知道司马懿对自己的认识，可谓是“知己知彼”。他正是利用了司马懿对自己平时的认识，施“空城计”，解了西城之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讨论：诸葛亮弄险成功，主要原因是什么？司马懿失败原因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诸葛亮弄险成功的原因包括两方面，但主要原因在于诸葛亮知己知彼，他对司马懿可以说是了如指掌，甚至对司马懿见到空城之后怎么想、怎么说、怎么做都事先想到了，故此能险中取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司马懿虽是魏之名将，并与诸葛亮打过多次交道，了解诸葛亮的性格，但他对诸葛亮的了解不够全面，加上他刚愎自用，导致他中计失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3280" y="981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空城计之险让人惊叹，诸葛亮之智让人折服。毛主席曾说：“生子如仲谋，交友如鲁达，信心如唐僧，读书就读四大名著”。让我们多一些阅读，这样会还给我们更多的感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介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三国演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国演义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是我国四大名著之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是我国第一部长篇小说作品。主要写了魏、蜀、吴三国的兴衰历程，塑造了一系列生动鲜明的人物形象。在中国文学史上和人民生活中具有不可估量的影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作者罗贯中，元末明初小说家、戏曲家。名本，字贯中，号湖海散人。山西太原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922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在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众多的人物中，你最喜欢谁？喜欢他的什么？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说三要素：人物     情节    环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  节：  开端  发展  高潮  结局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阅读小说的主要方法：通过环境、情节的分析来理解和把握人物形象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312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75d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用一句话                              概括这篇课文的主要内容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28640"/>
            <a:ext cx="2895480" cy="792360"/>
          </a:xfrm>
          <a:prstGeom prst="wedgeEllipseCallout">
            <a:avLst>
              <a:gd name="adj1" fmla="val -44625"/>
              <a:gd name="adj2" fmla="val 12915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方法指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3141720"/>
          <a:ext cx="8381880" cy="1843200"/>
        </p:xfrm>
        <a:graphic>
          <a:graphicData uri="http://schemas.openxmlformats.org/drawingml/2006/table">
            <a:tbl>
              <a:tblPr/>
              <a:tblGrid>
                <a:gridCol w="2209680"/>
                <a:gridCol w="312408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谁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干什么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怎么样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主页</a:t>
            </a:r>
            <a:endParaRPr b="0" lang="en-US" sz="1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分析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找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提炼压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2286000" cy="4495680"/>
          </a:xfrm>
          <a:prstGeom prst="wedgeEllipseCallout">
            <a:avLst>
              <a:gd name="adj1" fmla="val 36597"/>
              <a:gd name="adj2" fmla="val -5572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司马懿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十五万大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望西城而来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孔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只剩二千五百人在城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590920"/>
            <a:ext cx="3124440" cy="1828800"/>
          </a:xfrm>
          <a:prstGeom prst="wedgeRoundRectCallout">
            <a:avLst>
              <a:gd name="adj1" fmla="val -28861"/>
              <a:gd name="adj2" fmla="val -92537"/>
              <a:gd name="adj3" fmla="val 1666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司马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十五万大军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981080"/>
            <a:ext cx="1219320" cy="3353040"/>
          </a:xfrm>
          <a:prstGeom prst="wedgeEllipseCallout">
            <a:avLst>
              <a:gd name="adj1" fmla="val -39194"/>
              <a:gd name="adj2" fmla="val -60462"/>
            </a:avLst>
          </a:prstGeom>
          <a:solidFill>
            <a:srgbClr val="75df7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04920"/>
            <a:ext cx="1447920" cy="914400"/>
          </a:xfrm>
          <a:prstGeom prst="wedgeEllipseCallout">
            <a:avLst>
              <a:gd name="adj1" fmla="val -151865"/>
              <a:gd name="adj2" fmla="val 4566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724280"/>
            <a:ext cx="29718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55736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4560" y="1557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兵临城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24210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临危施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352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3-4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司马中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365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5-6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孔明释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分析故事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70028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诸葛亮为何施用空城计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411280" cy="147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从何处看出当时的情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十分的危急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番茄花园</cp:lastModifiedBy>
  <dcterms:modified xsi:type="dcterms:W3CDTF">2010-05-07T06:24:02Z</dcterms:modified>
  <cp:revision>1</cp:revision>
  <dc:subject>www.dearedu.com</dc:subject>
  <dc:title>www.dearedu.com</dc:title>
</cp:coreProperties>
</file>