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8FB1-6C74-415E-A20E-76C5300ED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09A0-C718-4C52-BEB5-8A1226FF3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143B-4126-4F35-82CF-378708D05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A4F8-C045-4FE7-B6AA-56CAD373B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86760-4A9E-4E15-8D7B-EBE42CBE5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2071A-0D4F-43B8-8561-6BA28F3B0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076E9-6EBD-414B-815E-481FCB7B1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DFF61-1653-4E96-BB6F-FCBB49720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30BE7-D75E-474A-8F5F-D53CA1800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2EF07-4C48-4B67-99BB-89955F700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83EA2-7BE4-4E25-9E41-968C6063D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0DDC-6CE0-412C-A4BF-242B917AE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F3C91-9B73-4424-A54E-11192834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03FB9-D5CC-4132-8F2E-F337DBF4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CF72D-419D-41A8-A6A2-C55C0587F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41582-6489-4F5C-A806-F568B0648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69898-D9EA-4551-8BD3-808F5AAB3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5185-2B5D-4FE9-8367-56F4B59C1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D812-9EE7-40CE-89B6-A86102B02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EDBC-8E3F-4DB2-8800-7006C7617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881B-4903-4478-8FEB-9E2BF7948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15A6-CD70-467C-8562-F032C6E4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C874-BD2A-4344-96A8-565A1CE6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E44B-2A4D-4342-8EDE-DCF890FF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97578-1525-41AD-9DDD-FC4AD1477BE0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DF0B9-8439-424F-BF03-7CA8A198E2C3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" Target="slide13.xm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352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Arial"/>
              </a:rPr>
              <a:t>情势危急</a:t>
            </a:r>
            <a:r>
              <a:rPr b="0" lang="zh-CN" sz="5400" spc="-1" strike="noStrike">
                <a:solidFill>
                  <a:srgbClr val="cc0000"/>
                </a:solidFill>
                <a:latin typeface="Arial"/>
              </a:rPr>
              <a:t>：</a:t>
            </a:r>
            <a:endParaRPr b="0" lang="en-US" sz="5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5280" y="1268280"/>
            <a:ext cx="87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魏兵来速快，出乎意料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：“忽然”；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气势盛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：“蜂拥而来”，“尘土冲天”，“分两路望西城县杀来”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335772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双方力量极其悬殊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：“司马懿引大军十五万”，“孔明身边别无大将</a:t>
            </a: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…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只剩二千五百军在城中”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4000" y="5589720"/>
            <a:ext cx="81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众官表情侧面烘托</a:t>
            </a:r>
            <a:r>
              <a:rPr b="1" lang="zh-CN" sz="3600" spc="-1" strike="noStrike">
                <a:solidFill>
                  <a:srgbClr val="007a77"/>
                </a:solidFill>
                <a:latin typeface="黑体"/>
                <a:ea typeface="黑体"/>
              </a:rPr>
              <a:t>：“从官尽皆失色”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79280" y="3333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Arial"/>
              </a:rPr>
              <a:t>课文的发展部分与高潮部分都写到“空城计”，是否重复？为什么？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989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    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不重复。这两次写空城计，虽内容大体相同，但描写时有区别。第一次是写孔明传令，是孔明的具体部署，突出他的大智大勇。而第二次是司马懿眼中看到的，更加入了一些生动的细节描写。如：孔明“笑容可掬”；“旁若无人”，这些描写渲染了一种安闲、镇定的气氛，使得“空城计“的场面更加生动、逼真。使得司马懿”大疑“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87280" y="1700280"/>
            <a:ext cx="756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99"/>
                </a:solidFill>
                <a:latin typeface="Arial"/>
                <a:ea typeface="黑体"/>
              </a:rPr>
              <a:t>司马懿和孔明都对空城计做了解释，叙说的内容一致，甚至用词也多有相同，作者这样描写的用意是什么？</a:t>
            </a:r>
            <a:endParaRPr b="0" lang="en-US" sz="5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166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50920" y="549360"/>
            <a:ext cx="864216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司马懿对空城计的解释：“亮平生谨慎，不曾弄险”说明司马懿十分的了解诸葛亮，所以退兵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孔明对空城计的解释：“此人料吾平生谨慎，必不弄险”，说明孔明了解自己，又了解司马懿，更知道司马懿对自己的认识，可谓是“知己知彼”。他正是利用了司马懿对自己平时的认识，施“空城计”，解了西城之围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Arial"/>
              </a:rPr>
              <a:t>讨论：诸葛亮弄险成功，主要原因是什么？司马懿失败原因是什么？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诸葛亮弄险成功的原因包括两方面，但主要原因在于诸葛亮知己知彼，他对司马懿可以说是了如指掌，甚至对司马懿见到空城之后怎么想、怎么说、怎么做都事先想到了，故此能险中取胜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司马懿虽是魏之名将，并与诸葛亮打过多次交道，了解诸葛亮的性格，但他对诸葛亮的了解不够全面，加上他刚愎自用，导致他中计失败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9072720" cy="59468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403280" y="981000"/>
            <a:ext cx="648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    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空城计之险让人惊叹，诸葛亮之智让人折服。毛主席曾说：“生子如仲谋，交友如鲁达，信心如唐僧，读书就读四大名著”。让我们多一些阅读，这样会还给我们更多的感动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  <a:ea typeface="黑体"/>
              </a:rPr>
              <a:t>介绍</a:t>
            </a:r>
            <a:r>
              <a:rPr b="1" lang="en-US" sz="4400" spc="-1" strike="noStrike">
                <a:solidFill>
                  <a:srgbClr val="007a77"/>
                </a:solidFill>
                <a:latin typeface="Arial"/>
                <a:ea typeface="黑体"/>
              </a:rPr>
              <a:t>《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  <a:ea typeface="黑体"/>
              </a:rPr>
              <a:t>三国演义</a:t>
            </a:r>
            <a:r>
              <a:rPr b="1" lang="en-US" sz="4400" spc="-1" strike="noStrike">
                <a:solidFill>
                  <a:srgbClr val="007a77"/>
                </a:solidFill>
                <a:latin typeface="Arial"/>
                <a:ea typeface="黑体"/>
              </a:rPr>
              <a:t>》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华文行楷"/>
                <a:ea typeface="华文行楷"/>
              </a:rPr>
              <a:t>《</a:t>
            </a:r>
            <a:r>
              <a:rPr b="1" lang="zh-CN" sz="4000" spc="-1" strike="noStrike">
                <a:solidFill>
                  <a:srgbClr val="cc0000"/>
                </a:solidFill>
                <a:latin typeface="华文行楷"/>
                <a:ea typeface="华文行楷"/>
              </a:rPr>
              <a:t>三国演义</a:t>
            </a:r>
            <a:r>
              <a:rPr b="1" lang="en-US" sz="4000" spc="-1" strike="noStrike">
                <a:solidFill>
                  <a:srgbClr val="cc0000"/>
                </a:solidFill>
                <a:latin typeface="华文行楷"/>
                <a:ea typeface="华文行楷"/>
              </a:rPr>
              <a:t>》</a:t>
            </a:r>
            <a:r>
              <a:rPr b="1" lang="zh-CN" sz="4000" spc="-1" strike="noStrike">
                <a:solidFill>
                  <a:srgbClr val="cc0000"/>
                </a:solidFill>
                <a:latin typeface="华文行楷"/>
                <a:ea typeface="华文行楷"/>
              </a:rPr>
              <a:t>是我国四大名著之一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，是我国第一部长篇小说作品。主要写了魏、蜀、吴三国的兴衰历程，塑造了一系列生动鲜明的人物形象。在中国文学史上和人民生活中具有不可估量的影响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作者罗贯中，元末明初小说家、戏曲家。名本，字贯中，号湖海散人。山西太原人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1125360"/>
            <a:ext cx="9226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66ff"/>
                </a:solidFill>
                <a:latin typeface="黑体"/>
                <a:ea typeface="黑体"/>
              </a:rPr>
              <a:t>    </a:t>
            </a:r>
            <a:r>
              <a:rPr b="1" lang="zh-CN" sz="7200" spc="-1" strike="noStrike">
                <a:solidFill>
                  <a:srgbClr val="3366ff"/>
                </a:solidFill>
                <a:latin typeface="黑体"/>
                <a:ea typeface="黑体"/>
              </a:rPr>
              <a:t>在</a:t>
            </a:r>
            <a:r>
              <a:rPr b="1" lang="en-US" sz="7200" spc="-1" strike="noStrike">
                <a:solidFill>
                  <a:srgbClr val="3366ff"/>
                </a:solidFill>
                <a:latin typeface="黑体"/>
                <a:ea typeface="黑体"/>
              </a:rPr>
              <a:t>《</a:t>
            </a:r>
            <a:r>
              <a:rPr b="1" lang="zh-CN" sz="7200" spc="-1" strike="noStrike">
                <a:solidFill>
                  <a:srgbClr val="3366ff"/>
                </a:solidFill>
                <a:latin typeface="黑体"/>
                <a:ea typeface="黑体"/>
              </a:rPr>
              <a:t>三国演义</a:t>
            </a:r>
            <a:r>
              <a:rPr b="1" lang="en-US" sz="7200" spc="-1" strike="noStrike">
                <a:solidFill>
                  <a:srgbClr val="3366ff"/>
                </a:solidFill>
                <a:latin typeface="黑体"/>
                <a:ea typeface="黑体"/>
              </a:rPr>
              <a:t>》</a:t>
            </a:r>
            <a:r>
              <a:rPr b="1" lang="zh-CN" sz="7200" spc="-1" strike="noStrike">
                <a:solidFill>
                  <a:srgbClr val="3366ff"/>
                </a:solidFill>
                <a:latin typeface="黑体"/>
                <a:ea typeface="黑体"/>
              </a:rPr>
              <a:t>众多的人物中，你最喜欢谁？喜欢他的什么？</a:t>
            </a:r>
            <a:endParaRPr b="0" lang="en-US" sz="72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95280" y="692280"/>
            <a:ext cx="1019160" cy="1371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692280"/>
            <a:ext cx="9144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微软雅黑"/>
                <a:ea typeface="微软雅黑"/>
              </a:rPr>
              <a:t>小说三要素：人物     情节    环境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微软雅黑"/>
                <a:ea typeface="微软雅黑"/>
              </a:rPr>
              <a:t>  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微软雅黑"/>
                <a:ea typeface="微软雅黑"/>
              </a:rPr>
              <a:t>情  节：  开端  发展  高潮  结局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微软雅黑"/>
                <a:ea typeface="微软雅黑"/>
              </a:rPr>
              <a:t>阅读小说的主要方法：通过环境、情节的分析来理解和把握人物形象</a:t>
            </a:r>
            <a:r>
              <a:rPr b="1" lang="zh-CN" sz="1800" spc="-1" strike="noStrike">
                <a:solidFill>
                  <a:srgbClr val="0000ff"/>
                </a:solidFill>
                <a:latin typeface="微软雅黑"/>
                <a:ea typeface="微软雅黑"/>
              </a:rPr>
              <a:t>。     </a:t>
            </a:r>
            <a:endParaRPr b="0" lang="en-US" sz="18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743120" y="1633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75df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请用一句话                              概括这篇课文的主要内容。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1628640"/>
            <a:ext cx="2895480" cy="792360"/>
          </a:xfrm>
          <a:prstGeom prst="wedgeEllipseCallout">
            <a:avLst>
              <a:gd name="adj1" fmla="val -44625"/>
              <a:gd name="adj2" fmla="val 129157"/>
            </a:avLst>
          </a:pr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方法指点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68360" y="3141720"/>
          <a:ext cx="8381880" cy="1843200"/>
        </p:xfrm>
        <a:graphic>
          <a:graphicData uri="http://schemas.openxmlformats.org/drawingml/2006/table">
            <a:tbl>
              <a:tblPr/>
              <a:tblGrid>
                <a:gridCol w="2209680"/>
                <a:gridCol w="3124080"/>
                <a:gridCol w="304812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7a77"/>
                          </a:solidFill>
                          <a:latin typeface="Times New Roman"/>
                        </a:rPr>
                        <a:t>谁？</a:t>
                      </a:r>
                      <a:endParaRPr b="0" lang="en-US" sz="40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7a77"/>
                          </a:solidFill>
                          <a:latin typeface="Times New Roman"/>
                        </a:rPr>
                        <a:t>干什么？</a:t>
                      </a:r>
                      <a:endParaRPr b="0" lang="en-US" sz="40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7a77"/>
                          </a:solidFill>
                          <a:latin typeface="Times New Roman"/>
                        </a:rPr>
                        <a:t>怎么样？</a:t>
                      </a:r>
                      <a:endParaRPr b="0" lang="en-US" sz="40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</a:tr>
              <a:tr h="11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7a7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">
            <a:hlinkClick r:id="" action="ppaction://hlinkshowjump?jump=nextslide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3794"/>
                </a:moveTo>
                <a:lnTo>
                  <a:pt x="19242" y="10800"/>
                </a:lnTo>
                <a:lnTo>
                  <a:pt x="5229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02800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主页</a:t>
            </a:r>
            <a:endParaRPr b="0" lang="en-US" sz="1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6094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分析情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219320"/>
            <a:ext cx="937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找出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关键词句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组合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关键词句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再行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提炼压缩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905120"/>
            <a:ext cx="2286000" cy="4495680"/>
          </a:xfrm>
          <a:prstGeom prst="wedgeEllipseCallout">
            <a:avLst>
              <a:gd name="adj1" fmla="val 36597"/>
              <a:gd name="adj2" fmla="val -55722"/>
            </a:avLst>
          </a:pr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司马懿、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十五万大军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、望西城而来、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孔明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、只剩二千五百人在城中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24080" y="2590920"/>
            <a:ext cx="3124440" cy="1828800"/>
          </a:xfrm>
          <a:prstGeom prst="wedgeRoundRectCallout">
            <a:avLst>
              <a:gd name="adj1" fmla="val -28861"/>
              <a:gd name="adj2" fmla="val -92537"/>
              <a:gd name="adj3" fmla="val 16667"/>
            </a:avLst>
          </a:pr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司马懿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十五万大军兵临西城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467480" y="1981080"/>
            <a:ext cx="1219320" cy="3353040"/>
          </a:xfrm>
          <a:prstGeom prst="wedgeEllipseCallout">
            <a:avLst>
              <a:gd name="adj1" fmla="val -39194"/>
              <a:gd name="adj2" fmla="val -60462"/>
            </a:avLst>
          </a:prstGeom>
          <a:solidFill>
            <a:srgbClr val="75df7d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兵临西城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09680" y="3581280"/>
            <a:ext cx="8384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248520" y="3505320"/>
            <a:ext cx="12189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257800" y="304920"/>
            <a:ext cx="1447920" cy="914400"/>
          </a:xfrm>
          <a:prstGeom prst="wedgeEllipseCallout">
            <a:avLst>
              <a:gd name="adj1" fmla="val -151865"/>
              <a:gd name="adj2" fmla="val 45662"/>
            </a:avLst>
          </a:pr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方法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92360" y="4724280"/>
            <a:ext cx="2971800" cy="1219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6600"/>
                </a:solidFill>
                <a:latin typeface="Times New Roman"/>
              </a:rPr>
              <a:t>例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第一部分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3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3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3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55640" y="1557360"/>
            <a:ext cx="73915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Times New Roman"/>
              </a:rPr>
              <a:t>开端：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Times New Roman"/>
              </a:rPr>
              <a:t>发展：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Times New Roman"/>
              </a:rPr>
              <a:t>高潮：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Times New Roman"/>
              </a:rPr>
              <a:t>结局：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914560" y="155736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3399"/>
                </a:solidFill>
                <a:latin typeface="Times New Roman"/>
              </a:rPr>
              <a:t>（</a:t>
            </a:r>
            <a:r>
              <a:rPr b="1" i="1" lang="en-US" sz="4000" spc="-1" strike="noStrike">
                <a:solidFill>
                  <a:srgbClr val="003399"/>
                </a:solidFill>
                <a:latin typeface="Times New Roman"/>
              </a:rPr>
              <a:t>1</a:t>
            </a:r>
            <a:r>
              <a:rPr b="1" i="1" lang="zh-CN" sz="4000" spc="-1" strike="noStrike">
                <a:solidFill>
                  <a:srgbClr val="003399"/>
                </a:solidFill>
                <a:latin typeface="Times New Roman"/>
              </a:rPr>
              <a:t>）兵临城下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7432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14560" y="242100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3399"/>
                </a:solidFill>
                <a:latin typeface="Times New Roman"/>
              </a:rPr>
              <a:t>（</a:t>
            </a:r>
            <a:r>
              <a:rPr b="1" i="1" lang="en-US" sz="4000" spc="-1" strike="noStrike">
                <a:solidFill>
                  <a:srgbClr val="003399"/>
                </a:solidFill>
                <a:latin typeface="Times New Roman"/>
              </a:rPr>
              <a:t>2</a:t>
            </a:r>
            <a:r>
              <a:rPr b="1" i="1" lang="zh-CN" sz="4000" spc="-1" strike="noStrike">
                <a:solidFill>
                  <a:srgbClr val="003399"/>
                </a:solidFill>
                <a:latin typeface="Times New Roman"/>
              </a:rPr>
              <a:t>）临危施计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60560" y="335268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3399"/>
                </a:solidFill>
                <a:latin typeface="Times New Roman"/>
              </a:rPr>
              <a:t>（</a:t>
            </a:r>
            <a:r>
              <a:rPr b="1" i="1" lang="en-US" sz="4000" spc="-1" strike="noStrike">
                <a:solidFill>
                  <a:srgbClr val="003399"/>
                </a:solidFill>
                <a:latin typeface="Times New Roman"/>
              </a:rPr>
              <a:t>3-4</a:t>
            </a:r>
            <a:r>
              <a:rPr b="1" i="1" lang="zh-CN" sz="4000" spc="-1" strike="noStrike">
                <a:solidFill>
                  <a:srgbClr val="003399"/>
                </a:solidFill>
                <a:latin typeface="Times New Roman"/>
              </a:rPr>
              <a:t>）司马中计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43280" y="436572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3399"/>
                </a:solidFill>
                <a:latin typeface="Times New Roman"/>
              </a:rPr>
              <a:t>（</a:t>
            </a:r>
            <a:r>
              <a:rPr b="1" i="1" lang="en-US" sz="4000" spc="-1" strike="noStrike">
                <a:solidFill>
                  <a:srgbClr val="003399"/>
                </a:solidFill>
                <a:latin typeface="Times New Roman"/>
              </a:rPr>
              <a:t>5-6</a:t>
            </a:r>
            <a:r>
              <a:rPr b="1" i="1" lang="zh-CN" sz="4000" spc="-1" strike="noStrike">
                <a:solidFill>
                  <a:srgbClr val="003399"/>
                </a:solidFill>
                <a:latin typeface="Times New Roman"/>
              </a:rPr>
              <a:t>）孔明释计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8360" y="260280"/>
            <a:ext cx="59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Times New Roman"/>
              </a:rPr>
              <a:t>分析故事情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1700280"/>
            <a:ext cx="896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Arial"/>
                <a:ea typeface="黑体"/>
              </a:rPr>
              <a:t> </a:t>
            </a:r>
            <a:r>
              <a:rPr b="1" lang="zh-CN" sz="6000" spc="-1" strike="noStrike">
                <a:solidFill>
                  <a:srgbClr val="cc0000"/>
                </a:solidFill>
                <a:latin typeface="Arial"/>
                <a:ea typeface="黑体"/>
              </a:rPr>
              <a:t>诸葛亮为何施用空城计？</a:t>
            </a:r>
            <a:endParaRPr b="0" lang="en-US" sz="60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2411280" cy="14749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68360" y="3357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280200" y="1130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3141720"/>
            <a:ext cx="813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Arial"/>
                <a:ea typeface="黑体"/>
              </a:rPr>
              <a:t>从何处看出当时的情势</a:t>
            </a:r>
            <a:endParaRPr b="0" lang="en-US" sz="6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Arial"/>
                <a:ea typeface="黑体"/>
              </a:rPr>
              <a:t>十分的危急？</a:t>
            </a:r>
            <a:endParaRPr b="0" lang="en-US" sz="6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w.dearedu.com</dc:creator>
  <dc:description>www.dearedu.com</dc:description>
  <cp:keywords>www.dearedu.com</cp:keywords>
  <dc:language>en-US</dc:language>
  <cp:lastModifiedBy>番茄花园</cp:lastModifiedBy>
  <dcterms:modified xsi:type="dcterms:W3CDTF">2010-05-07T06:24:02Z</dcterms:modified>
  <cp:revision>1</cp:revision>
  <dc:subject>www.dearedu.com</dc:subject>
  <dc:title>www.dearedu.com</dc:title>
</cp:coreProperties>
</file>