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whoosh.wav" ContentType="audio/x-wav"/>
  <Override PartName="/ppt/media/image9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4F5-2C7A-4C21-8613-75705A21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B0A7-632B-4505-BDA3-B7DFEBA9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D2F-92AF-47BF-8397-BF641873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560-455E-40D3-9794-8C53FE0A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2A35-6A05-43B6-80D3-3B4F6097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4FC2-5CD0-4E52-89F2-DEE957A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ED65-D4C6-407A-AD46-E5A5B86C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7548-4EB6-4201-84B7-3F4C9609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7D4C-3AB2-450C-83DC-6E46187B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2B5A-FC6F-4A5B-BB26-F5466B66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BA20-5481-43D0-9083-0BADE732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781-47A9-4D76-9F3C-C6DE084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A9C4-7B10-4007-B5FE-4D0CA9ED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924B-FAB5-4CCC-A264-803DB8E0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C804-A9F3-4CC6-9337-84E8A3B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BAF6-9C35-48CE-A6EF-BF79D02F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9D8A-DE9F-42D7-9F0C-D1D2CA57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BE9-D6CA-4B00-8774-A98B9F78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CEC-C154-4F51-AEF8-327D1184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77D-D1D7-4638-BA66-A9BF5578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1BA-D655-4751-A9F2-2789B1D0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D33-3729-4557-A764-7B0ECA1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CF5-2E74-429D-BD72-9675BA91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50E-DFB5-4393-9D37-A511EC9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865-F296-443F-B119-C08764C1A8D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146-D54C-4FD2-AB50-8F2A6B0B6C9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066680" y="12193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从百草园到三味书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718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作者：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鲁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8769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79617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、鲁迅的作品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都收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鲁迅全集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小说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呐喊》《彷徨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散文诗集：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《野草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13716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出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228600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《朝花夕拾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27672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裁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散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5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400800" y="22860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990720"/>
            <a:ext cx="60958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3300"/>
                </a:solidFill>
                <a:latin typeface="Times New Roman"/>
              </a:rPr>
              <a:t>导语：</a:t>
            </a:r>
            <a:r>
              <a:rPr b="1" lang="zh-CN" sz="4700" spc="-1" strike="noStrike">
                <a:solidFill>
                  <a:srgbClr val="000000"/>
                </a:solidFill>
                <a:latin typeface="Times New Roman"/>
              </a:rPr>
              <a:t> 同学们，他是谁？上学期我们一起学习了他所写的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767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反映手足亲情的散文，大家还记得吗？这学期我们来学习他所写的一篇反映童年生活的散文《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从百草园到三味书屋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87692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五、教学流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477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一：字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2193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攒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7160" y="2514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37160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uánă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1219320"/>
            <a:ext cx="14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确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凿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菜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áo q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74320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桑葚臃肿蝉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8195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āng shèn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ōng zhŏng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hán t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2193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蟋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3716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huài  Su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8195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相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宜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塾 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学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2895480"/>
            <a:ext cx="1447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Yí shú b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9528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人迹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罕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至            人声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95288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ăn dĭ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523880"/>
            <a:ext cx="457200" cy="1067040"/>
          </a:xfrm>
          <a:custGeom>
            <a:avLst/>
            <a:gdLst>
              <a:gd name="textAreaLeft" fmla="*/ 292320 w 457200"/>
              <a:gd name="textAreaRight" fmla="*/ 45756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9"/>
                </a:lnTo>
                <a:cubicBezTo>
                  <a:pt x="10800" y="9129"/>
                  <a:pt x="5400" y="10029"/>
                  <a:pt x="0" y="10029"/>
                </a:cubicBezTo>
                <a:cubicBezTo>
                  <a:pt x="5400" y="10029"/>
                  <a:pt x="10800" y="10929"/>
                  <a:pt x="10800" y="118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27672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029"/>
                </a:lnTo>
                <a:cubicBezTo>
                  <a:pt x="10800" y="10929"/>
                  <a:pt x="5400" y="11829"/>
                  <a:pt x="0" y="11829"/>
                </a:cubicBezTo>
                <a:cubicBezTo>
                  <a:pt x="5400" y="11829"/>
                  <a:pt x="10800" y="12729"/>
                  <a:pt x="10800" y="136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124080"/>
            <a:ext cx="457200" cy="25909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67652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257800"/>
            <a:ext cx="381240" cy="1066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160020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924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838080"/>
            <a:ext cx="228600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确凿：菜畦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长吟：  轻捷：攒：      机关：  鉴赏：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方正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68580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确实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44792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菜地。畦，有土埂围着的一块块长方形田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2666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长声鸣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3276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轻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凑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4956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这里是秘密的意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51814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鉴定和欣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601992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正派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一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积累之二：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解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838080"/>
            <a:ext cx="2819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迹罕至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秕谷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无从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838080"/>
            <a:ext cx="63244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少有人来。迹，足迹、脚印。罕，稀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266688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5120" y="213372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长得不饱满的谷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2971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没办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65760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形容人声喧闹。沸，水开。鼎沸，本意是锅里的水烧开了，发出响声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-425520" y="0"/>
            <a:ext cx="95695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219320" y="12193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~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343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962520"/>
            <a:ext cx="56386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渡段—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百草园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三味书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2057400"/>
            <a:ext cx="4647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百草园是我的乐园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472428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46483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5280" y="152388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二）文章的结构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352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514600"/>
            <a:ext cx="426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写三味书屋追求新知的生活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05920" y="685800"/>
            <a:ext cx="3504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1600200"/>
            <a:ext cx="10591920" cy="10515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1197000"/>
            <a:ext cx="7010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了解文章的背景，整体把握课文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结合自己的经历和体验，深入体味文中的情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注意学习文章的表达技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286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、本单元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62120" y="2133720"/>
            <a:ext cx="3352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981080"/>
            <a:ext cx="4724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572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28600"/>
            <a:ext cx="792468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一百草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143000"/>
            <a:ext cx="861048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第一段主要写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0574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介绍了百草园的名称、归属及“我”对百草园的印象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19112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文中哪句话可以表明作者对“百草园”的生活的感受？体现了作者什么样的感情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0"/>
            <a:ext cx="85341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但那时却是我的乐园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91440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体现了作者对百草园的热爱怀念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2819520"/>
            <a:ext cx="86868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“但那时却是我的乐园”与下文有什么关系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95680"/>
            <a:ext cx="937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是下文的总括句，下文内容是对这句话的具体描述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文中“现在是早已并屋子一起卖给朱文公的子孙了，连那最末次的相见也已经隔了七八年，其中似乎确凿只有一些野草。”其中“似乎”和“确凿”是否相矛盾？应如何理解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34980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表面上看，这两个词相矛盾，其实不然，它表达了两种意思：“似乎”表示不确定，“确凿”表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示十分肯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3300"/>
                </a:solidFill>
                <a:latin typeface="Tahoma"/>
                <a:ea typeface="黑体"/>
              </a:rPr>
              <a:t>之所以不确定是因为“连那最末次的相见也已经隔了七八年”，印象已经淡薄了。之所以肯定是因为追忆儿童时的生活，往事又记忆犹新，历历在目。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为什么百草园是“我”童年时的乐园呢？作者写了百草园那些季节的趣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ahoma"/>
                <a:ea typeface="黑体"/>
              </a:rPr>
              <a:t>作者写了百草园春夏秋冬四季的趣事，中间还插叙了美女蛇的故事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局部揣摩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914400"/>
            <a:ext cx="739152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绘了什么内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描绘了百草园的美丽景色和</a:t>
            </a:r>
            <a:r>
              <a:rPr b="1" lang="zh-CN" sz="5400" spc="-1" strike="noStrike" u="sng">
                <a:solidFill>
                  <a:srgbClr val="ff3300"/>
                </a:solidFill>
                <a:uFillTx/>
                <a:latin typeface="Tahoma"/>
                <a:ea typeface="黑体"/>
              </a:rPr>
              <a:t>在园中享受到的无限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详写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趣味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105520"/>
            <a:ext cx="9144000" cy="149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600" spc="-1" strike="noStrike">
                <a:solidFill>
                  <a:srgbClr val="000000"/>
                </a:solidFill>
                <a:latin typeface="宋体"/>
              </a:rPr>
              <a:t>、“不必说……也不必说……单是……”中哪个内容是强调的重点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0"/>
            <a:ext cx="89154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单是”以后的内容是作者强调的重点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718080"/>
            <a:ext cx="9448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905120"/>
            <a:ext cx="861048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注：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“单是周围的短短泥墙根一带，就有无限趣味。”这句话从结构上看，是本段的过渡句；从内容上看，是本段的中心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齐读第二段，思考：这一段作者描写了哪些景物？分别抓住景物的什么特征来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895480"/>
            <a:ext cx="9144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所写的景物有：菜畦、石井栏皂荚树、桑葚、蝉、黄蜂、叫天子、油蛉、蟋蟀、斑蝥、何首乌、木莲、覆盆子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抓住景物的颜色、质地、形状、声音、味道等多方面的特征进行描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514600"/>
            <a:ext cx="914400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颜色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碧绿、紫红、黄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         质地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光滑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 ；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形状：</a:t>
            </a:r>
            <a:r>
              <a:rPr b="1" lang="zh-CN" sz="4900" spc="-1" strike="noStrike">
                <a:solidFill>
                  <a:srgbClr val="ff3300"/>
                </a:solidFill>
                <a:latin typeface="Tahoma"/>
                <a:ea typeface="黑体"/>
              </a:rPr>
              <a:t>高大、肥胖、轻捷、臃肿</a:t>
            </a:r>
            <a:r>
              <a:rPr b="1" lang="zh-CN" sz="5000" spc="-1" strike="noStrike">
                <a:solidFill>
                  <a:srgbClr val="000000"/>
                </a:solidFill>
                <a:latin typeface="Tahoma"/>
                <a:ea typeface="黑体"/>
              </a:rPr>
              <a:t>；  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声音：</a:t>
            </a:r>
            <a:r>
              <a:rPr b="1" lang="zh-CN" sz="5000" spc="-1" strike="noStrike">
                <a:solidFill>
                  <a:srgbClr val="ff3300"/>
                </a:solidFill>
                <a:latin typeface="Times New Roman"/>
                <a:ea typeface="黑体"/>
              </a:rPr>
              <a:t>长吟、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低唱、弹琴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；    味道：</a:t>
            </a:r>
            <a:r>
              <a:rPr b="1" lang="zh-CN" sz="5000" spc="-1" strike="noStrike">
                <a:solidFill>
                  <a:srgbClr val="ff3300"/>
                </a:solidFill>
                <a:latin typeface="Tahoma"/>
                <a:ea typeface="黑体"/>
              </a:rPr>
              <a:t>又酸又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1055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光滑的石井栏”中“光滑”一词说明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3880"/>
            <a:ext cx="9144000" cy="31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石井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之所以“光滑”，是因为井经过长年累月的使用，之所以知道它“光滑”，是因为童年的鲁迅多次好奇地摸过它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-2286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16002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609480"/>
            <a:ext cx="5715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扫清字词障碍，积累好词句。                                    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200" spc="-1" strike="noStrike">
                <a:solidFill>
                  <a:srgbClr val="000000"/>
                </a:solidFill>
                <a:latin typeface="Times New Roman"/>
              </a:rPr>
              <a:t>、学习抓住景物特征，运用准确生动的语言对环境作具体真切的描写的写法。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304812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不但写出这种鸟儿的机灵轻捷，还表现出儿童的羡慕之意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理解“轻捷的叫天子忽然从草间直窜向云霄里去了”中“窜”字用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“油蛉在这里低唱，蟋蟀在这里弹琴”中“这里”指什么？这句话的修辞及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9384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里”指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泥墙根一带。           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这句话的修辞是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拟人，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它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赋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油蛉、蟋蟀的动作和行为，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表达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了作者的喜爱之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</a:rPr>
              <a:t>、作者描写这些景物是按什么顺序、从哪些角度来写的？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52480"/>
            <a:ext cx="9144000" cy="48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）这里采用了多种顺序进行组织，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整体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局部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低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由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再到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的顺序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时间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顺序等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）说明：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先用两句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Tahoma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百草园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整体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再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泥墙根一带。这是一种顺序。第一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第二个“不必说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 ，由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高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低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物，这又是一种顺序。整体部分从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写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，局部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部分从写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动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植物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这又是一种顺序。这里的景物实际上包括了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三个季节的，桑葚、菜花是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末的，蝉鸣在盛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夏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，蟋蟀到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秋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才叫；这与后文写到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冬天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的百草园和起来成为完整的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四季图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从视觉、听觉、味觉、触觉等多种角度绘声绘色，绘形绘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43828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说明：菜畦的“碧绿”、桑葚的“紫红”、菜花和蜂的“黄”，是写颜色，“肥胖”“高大”“臃肿”“像小珊瑚珠攒成的小球”是写形状，这两者都从视觉上写；鸣蝉的“长吟”、蟋蟀的“弹琴”，是从听觉上写；覆盆子“又酸又甜”写的是味觉；石井栏的“光滑”写的是触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作者笔下的百草园景物有什么特点？“我”是一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600200"/>
            <a:ext cx="914400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百草园的特点是：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美丽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充满生机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733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“我”是一个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天真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好奇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热爱自然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、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自由快乐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的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1932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从第二段文字描写中，对于写景你受到哪些启发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057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752480"/>
            <a:ext cx="9144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想要把景物写好，必须多观察、写具体，抓住景物各自的特征，安排好描写的顺序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、第三段有几句话？它在结构上有什么作用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828800"/>
            <a:ext cx="9144000" cy="18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第三段只有一句话。      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：过渡段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，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起</a:t>
            </a:r>
            <a:r>
              <a:rPr b="1" lang="zh-CN" sz="5800" spc="-1" strike="noStrike">
                <a:solidFill>
                  <a:srgbClr val="ff3300"/>
                </a:solidFill>
                <a:latin typeface="Tahoma"/>
                <a:ea typeface="黑体"/>
              </a:rPr>
              <a:t>承上启下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作用。由相传这园里有一条很大的赤练蛇，引出美女蛇的故事，过渡巧妙自然。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6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美女蛇的故事并不是发生在百草园，作者为什么要把它穿插在中间讲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34936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因为相传百草园长草里有赤练蛇，这就使作者很自然地想起长妈妈讲的“美女蛇”的故事。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个故事在文中属于插叙，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给百草园增添了神秘感，使“我”得到一些教训，悟出一些道理，丰富了百草园作为儿童乐园的情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7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默读第七自然段，然后思考作者写了百草园春夏秋三季的美景趣事，冬天的百草园又有什么有趣的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048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冬天的百草园主要有</a:t>
            </a:r>
            <a:r>
              <a:rPr b="1" lang="zh-CN" sz="8000" spc="-1" strike="noStrike">
                <a:solidFill>
                  <a:srgbClr val="ff3300"/>
                </a:solidFill>
                <a:latin typeface="Tahoma"/>
                <a:ea typeface="黑体"/>
              </a:rPr>
              <a:t>雪地捕鸟</a:t>
            </a:r>
            <a:r>
              <a:rPr b="1" lang="zh-CN" sz="8000" spc="-1" strike="noStrike">
                <a:solidFill>
                  <a:srgbClr val="000000"/>
                </a:solidFill>
                <a:latin typeface="Tahoma"/>
                <a:ea typeface="黑体"/>
              </a:rPr>
              <a:t>之乐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36200" cy="80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3880" y="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8380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二本课教学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90512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理清文章结构，理解文章主题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掌握有关作家、作品的文学常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20440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18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“冬天的百草园 比较的无味，雪一下，可就两样了。拍雪人和塑雪罗汉需要人们鉴赏，这是荒园，人迹罕至，所以不相宜，只好来捕鸟”中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无味”、“可就” 、“只好”分别表达作者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7672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无味”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寂寞无奈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 </a:t>
            </a:r>
            <a:r>
              <a:rPr b="1" lang="zh-CN" sz="5200" spc="-1" strike="noStrike">
                <a:solidFill>
                  <a:srgbClr val="000000"/>
                </a:solidFill>
                <a:latin typeface="黑体"/>
                <a:ea typeface="黑体"/>
              </a:rPr>
              <a:t>“可就”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表达了作者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急切盼望欣慰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的心情；“只好”表达了作者因无人鉴赏的</a:t>
            </a:r>
            <a:r>
              <a:rPr b="1" lang="zh-CN" sz="5200" spc="-1" strike="noStrike">
                <a:solidFill>
                  <a:srgbClr val="ff3300"/>
                </a:solidFill>
                <a:latin typeface="Tahoma"/>
                <a:ea typeface="黑体"/>
              </a:rPr>
              <a:t>遗憾</a:t>
            </a:r>
            <a:r>
              <a:rPr b="1" lang="zh-CN" sz="5200" spc="-1" strike="noStrike">
                <a:solidFill>
                  <a:srgbClr val="000000"/>
                </a:solidFill>
                <a:latin typeface="Tahoma"/>
                <a:ea typeface="黑体"/>
              </a:rPr>
              <a:t>心情。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9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冬天捕鸟需要的两个自然条件是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26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一是“积雪盖了地面一两天”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二是“鸟雀们久已无处觅食的时候”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20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、作者是怎样来描写“捕鸟”这个细节的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作者用“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扫    露    支    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系    牵    看    拉    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”九个动词准确生动地描绘出捕鸟的全过程，也从捕鸟的活动中写出儿童的兴奋、惊喜之情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9143280" y="2743200"/>
            <a:ext cx="141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9810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2133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209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3526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150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1</a:t>
            </a:r>
            <a:r>
              <a:rPr b="1" lang="zh-CN" sz="4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4600" spc="-1" strike="noStrike">
                <a:solidFill>
                  <a:srgbClr val="ff3300"/>
                </a:solidFill>
                <a:latin typeface="宋体"/>
              </a:rPr>
              <a:t>在写百草园和三味书屋的内容之间，穿插了第九段。这一段在全文结构和内容上各起什么作用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3623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从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全文结构看，这是一个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过渡段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，起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承上启下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的作用。从内容上看，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反复猜测去书塾的原因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体现了</a:t>
            </a:r>
            <a:r>
              <a:rPr b="1" lang="zh-CN" sz="5400" spc="-1" strike="noStrike">
                <a:solidFill>
                  <a:srgbClr val="ff3300"/>
                </a:solidFill>
                <a:latin typeface="宋体"/>
                <a:ea typeface="黑体"/>
              </a:rPr>
              <a:t>“我”对百草园深深的依恋之情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2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</a:t>
            </a:r>
            <a:r>
              <a:rPr b="1" lang="en-US" sz="4400" spc="-1" strike="noStrike">
                <a:solidFill>
                  <a:srgbClr val="ff3300"/>
                </a:solidFill>
                <a:latin typeface="黑体"/>
                <a:ea typeface="黑体"/>
              </a:rPr>
              <a:t>（”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我“到底知道不知道被送到私塾去的原因呢？你是从哪些词语看出来的？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299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我”不知道被送到私塾的原因，因为说到原因时用表示猜测语气的“也许”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23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也许是因为拔何首乌毁了泥墙吧，也许是因为将砖头抛到间壁的梁家去了吧，也许是因为站在石井栏上跳了下来吧……                   （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这段中的三个“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也许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”表达了“我”怎样的情感？能否删去，为什么？                                    （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）这段中的省略号的作用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-228600"/>
            <a:ext cx="9448920" cy="2745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）三个“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也许</a:t>
            </a:r>
            <a:r>
              <a:rPr b="1" lang="zh-CN" sz="5800" spc="-1" strike="noStrike">
                <a:solidFill>
                  <a:srgbClr val="000000"/>
                </a:solidFill>
                <a:latin typeface="Tahoma"/>
                <a:ea typeface="黑体"/>
              </a:rPr>
              <a:t>”表达了</a:t>
            </a:r>
            <a:r>
              <a:rPr b="1" lang="zh-CN" sz="5800" spc="-1" strike="noStrike">
                <a:solidFill>
                  <a:srgbClr val="000000"/>
                </a:solidFill>
                <a:latin typeface="黑体"/>
                <a:ea typeface="黑体"/>
              </a:rPr>
              <a:t>作者对家中让他去书塾的无奈和对百草园的依恋，突出了疑问和无可奈何的语气。若删掉“也许是”则由猜测变成肯定，既改变了原意，又与“都无从知道”相矛盾，且也无法把鲁迅先生对百草园依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依不舍的情感和失望的心情表现出来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黑体"/>
              </a:rPr>
              <a:t>）省略了其他关于离开百草园的原因的列举，耐人寻味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这一段末尾用了两个德语单词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d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别了）有何用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600200"/>
            <a:ext cx="9144000" cy="249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两个德语单词，读起来新颖、有趣，表达了作者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对百草园依依不舍的情感和失望的心情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2668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5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为什么在“蟋蟀”、“覆盆子”、“木莲”前面加上“我的”，再后边加上“们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765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加上“我的”表示与“蟋蟀”、“覆盆子”和“木莲”的亲密关系，加上“们”是拟人化的用法，而且表示数量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6094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三、重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5238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百草园生活的描写方法及其作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327672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难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419112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对三味书屋的描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（三）局部揣摩之二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三味书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99072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快速阅读课文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10~24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段，用简洁的语句概括这部分所写的事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敬慕老师的渊博，喜欢提问，愿意了解新知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一有机会便跑出去玩，寻找读书以外的乐趣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趁老师读书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神，在座位上做各种游戏、画画儿；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四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是师生共同诵书的场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743200"/>
            <a:ext cx="9144000" cy="155628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27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、文章第九段中说三味书屋是“全城中称为最严厉的书塾”，这里的先生真的很“严厉”吗？少年鲁迅的感受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我”背完生书向先生询问“怪哉”是怎么一回事，虽然先生似乎很不高兴，脸上还有怒色了，但“我”并没有怪罪先生的想法，而是“知道做学生是不该问这些事的”，先生“决不至于不知道”，“乃是不愿意说”。我们到书塾后面的小园里去玩，先生也并不一概禁止，只是去的人“太多”“太久”不行，即使如此，先生也只是“大叫”“人都到哪里去了”。“他有一条戒尺，但是不常用，也有罚跪的规则，单也不常用”，“只不过瞪几眼”。这些描写都表现出鲁迅对先生的感受：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黑体"/>
              </a:rPr>
              <a:t>严而不厉，可亲可敬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28</a:t>
            </a:r>
            <a:r>
              <a:rPr b="1" lang="zh-CN" sz="60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</a:rPr>
              <a:t>童年鲁迅对本文所提到的先生是什么态度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832040"/>
            <a:ext cx="8915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主要是敬慕先生，对他渊博的知识感到信服。同时也很爱他，因为学生虽然很调皮，很贪玩，但先生很少体罚他们，通常总不过瞪瞪眼睛而已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9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味书屋中的读书生活在作者心目中留下了怎样的记忆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37160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黑体"/>
              </a:rPr>
              <a:t>三味书屋中除了上生书、对课以外，那“捉了苍蝇喂蚂蚁”的事便是“最好的工作”，那在“先生读书入神的时候”描画绣像的成绩，都给相对比较单调的读书生活带来了许多情趣。由此可见，三味书屋的读书生活在少年鲁迅的心目中是充满趣味、难以忘怀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30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本文多处运用联想，请找出几例加以说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600200"/>
            <a:ext cx="88390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作者写何首乌而联想到成仙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传说的赤练蛇联想到长妈妈将美女蛇的故事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捕鸟便提到闰土的父亲；（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）写学生读书而提到先生读书等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本文运用联想的妙处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这些必要的联想，使文章放得开，富有情趣，又收得拢，为表现中心服务，也是文章更加生动活泼，多姿多彩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（四）文章主题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14400"/>
            <a:ext cx="9144000" cy="1099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通过对百草园和三味书屋的回忆，表现作者儿童时代对自然的热爱，对知识的追求，以及天真、幼稚、欢乐的心理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ahoma"/>
                <a:ea typeface="隶书"/>
              </a:rPr>
              <a:t>（五）写作特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38080"/>
            <a:ext cx="891540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一、写景精彩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。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既抓住事物的特点，又符合儿童的心理。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形、声、味俱全，春、夏、秋景皆备。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、层次井然，条理分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善于联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819720" y="0"/>
            <a:ext cx="1826280" cy="3276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语言特色</a:t>
            </a:r>
            <a:r>
              <a:rPr b="1" lang="zh-CN" sz="4800" spc="-1" strike="noStrike">
                <a:solidFill>
                  <a:srgbClr val="ff3300"/>
                </a:solidFill>
                <a:latin typeface="Tahoma"/>
                <a:ea typeface="黑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304920"/>
            <a:ext cx="4952880" cy="1099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ahoma"/>
                <a:ea typeface="黑体"/>
              </a:rPr>
              <a:t>准确生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2286000"/>
            <a:ext cx="7848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准确生动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的形容事物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妙传神地表述动作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、精当灵活的选用句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45720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54864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752480"/>
            <a:ext cx="9144000" cy="38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文题“从百草园到三味书屋”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体现了作者的写作顺序。先写“百草园”的乐趣，再写“三味书屋”的新奇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并且“从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到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……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”的句式体现了时间的推移和空间的变换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5334120" cy="100836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 </a:t>
            </a:r>
            <a:r>
              <a:rPr b="0" lang="zh-CN" sz="6000" spc="-1" strike="noStrike">
                <a:solidFill>
                  <a:srgbClr val="ff3300"/>
                </a:solidFill>
                <a:latin typeface="Tahoma"/>
                <a:ea typeface="黑体"/>
              </a:rPr>
              <a:t>四、文题全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756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（六）课后作业：              一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表示文章大致包括两部分，同时也告诉我们前后两部分的内容。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略。                           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3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这三种说法都有一定道理。第一种说法，根据是鲁迅在不止一篇文章中批判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9475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建私塾教育的陈腐，扼杀儿童天性。即使在本文中，也写到私塾生活的呆板、枯燥。第二种说法，是对第一种说法的修正，比第一种说法合理些。第三种说法，更易为现在的人们接受，似乎最为合理。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47293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二、（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“单是”以后的内容是作者强调的重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（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）答：</a:t>
            </a:r>
            <a:r>
              <a:rPr b="1" lang="zh-CN" sz="5600" spc="-1" strike="noStrike">
                <a:solidFill>
                  <a:srgbClr val="000000"/>
                </a:solidFill>
                <a:latin typeface="Tahoma"/>
                <a:ea typeface="黑体"/>
              </a:rPr>
              <a:t>“我”不知道被送到私塾的原因，因为说到原因时用表示猜测语气的“也许”。</a:t>
            </a:r>
            <a:r>
              <a:rPr b="1" lang="zh-CN" sz="5600" spc="-1" strike="noStrike">
                <a:solidFill>
                  <a:srgbClr val="ff3300"/>
                </a:solidFill>
                <a:latin typeface="Tahoma"/>
                <a:ea typeface="黑体"/>
              </a:rPr>
              <a:t>                             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  <a:ea typeface="黑体"/>
              </a:rPr>
              <a:t>三、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866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809880" y="1600200"/>
            <a:ext cx="426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0" spc="-1" strike="noStrike">
                <a:solidFill>
                  <a:srgbClr val="3333cc"/>
                </a:solidFill>
                <a:latin typeface="Tahoma"/>
                <a:ea typeface="隶书"/>
              </a:rPr>
              <a:t>再见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44956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ahoma"/>
                <a:ea typeface="黑体"/>
              </a:rPr>
              <a:t>制作人：申禹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9144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味”的含义。关于“三味”的含义，说法不一。一般认为其取意于“读经味如稻粟，读史味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肴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áo`zhuàn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美味菜肴），读诸子百家味如醯醢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`hăi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腊肉酱）”，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即认为“三味”是指“经书之味，史书之味，子书之味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题目解说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作者简介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990720"/>
            <a:ext cx="9144000" cy="286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 u="sng">
                <a:solidFill>
                  <a:srgbClr val="000000"/>
                </a:solidFill>
                <a:uFillTx/>
                <a:latin typeface="Times New Roman"/>
              </a:rPr>
              <a:t>鲁迅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1881—1936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原名周树人，字豫才，浙江绍兴人。我国现代伟大的文学家、思想家和革命家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19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出生于一个逐渐没落的封建家庭。从小受过传统文化教育，但也读过很多富有民主思想和爱国精神的书。还常随母亲去农村，了解农民的疾苦和他们勤劳、纯朴的性格。这些对他后来的思想发展和创作都产生了深刻影响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“横眉冷对千夫指，俯首甘为孺子牛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是鲁迅精神的光辉写照。他光辉的一生得到党和人民的崇高评价。毛泽东同志说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鲁迅的骨头是最硬的。他没有丝毫的奴颜媚骨，这是殖民地半殖民地人民最可宝贵的性格。鲁迅是在文化战线上，代表全民族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大多数，向着敌人冲锋陷阵的最正确、最勇敢、最坚决、最忠实、最热忱的空前的民族英雄。鲁迅的方向，就是中华民族新文化的方向。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在上海病逝。他为我们留下了八百多万字的文学巨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9-03-23T10:22:22Z</dcterms:modified>
  <cp:revision>377</cp:revision>
  <dc:subject/>
  <dc:title>PowerPoint Presentation</dc:title>
</cp:coreProperties>
</file>