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20.gif" ContentType="image/gif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918A-2BD4-430B-AB4D-63805C06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B391-4564-4DA4-8C00-C7959CDE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72F0-2054-4DD5-AD45-F052A228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0624-B242-4776-9E80-32A7118A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559E-0579-400D-BB0D-F47BC2A4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6926-A724-4A5F-8805-14EDB51E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0889-A9EB-48D6-B146-0BE45576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1766-C7B8-49EE-B7E1-E1BF766F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4DA0-B2B9-4A19-BFA1-5297CF83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76A4-357B-4559-B6BB-98C125A3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5531-7D0C-407C-B580-82E52183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7179-2479-4D0D-B228-9AA7C3B1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C258-06F3-4534-86F4-DEC7D5C0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34DC-67A1-4545-920B-6EF2F4F5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7EF0-6357-4C4F-A65A-771C9A49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7A4C-02F7-4F45-BD75-B57BF3B1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9271-FBF6-420D-B64D-9270B394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62581-57C2-408A-8BFD-1A8D1EE0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71F6D-3242-48D4-8EFC-B6CF00CF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97E78-4D33-464E-A1B9-C3A9933E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22D12-3911-4DD0-8C40-809B1D32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5E6B8E-D026-41E5-800D-132A8C08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9CE-0BC2-4434-A739-D063D3D9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5F3199-9126-44A5-9848-77F68557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29A194-B46C-46FF-841C-44266821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EDDD9-A1B6-46DA-A9E0-DD32DC1B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17FFC-2766-45B4-ACF4-A20AA59D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9FED7-40CA-41D9-A66F-BE39D84D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0CF064-6221-4868-8698-0DF7C8A0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F9837-BD99-481A-BAA4-B13D9184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06411-86AB-4838-8F85-D8A01FE7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E8A71-B9D3-4098-B275-D6088FFB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02129-8077-4F87-86A9-598233B4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7443-68B9-43B2-A573-6EE92CBE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EBFCF-78DD-4359-A6D8-E470440B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9F5E8-27E9-407B-AFB1-4DBACEEE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ED760-DAAE-44CB-BC63-EFE0D562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B8AC4-8AA5-4AD4-8CEF-0B61E1E5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9E413-708D-4ED0-8B81-39CBDAE5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DBA5C-71E0-4799-8659-23F2C9F7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DCA31-9AF1-46BC-A17D-6DFF0512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E50AC-811D-4BE8-879A-EB54D8AA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8E36C-B60F-40A4-BDFA-D6E76227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025D62-9C46-4523-981E-3D63FCA3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D0AA-64D5-4BFC-BB06-1956DCB1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30FE26-2931-42A2-8BD7-01F06BA5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C454FF-08FD-4AEF-B7F4-6BC05C95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11E04E-7148-45A9-A958-8A928945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9964D-8FC7-42B8-972D-229FA94C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6DF4BC-6DE4-4CB7-9F5A-50A81A02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49987D-446D-4DBF-B2ED-F4E40AC4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6271C9-1AE1-412E-A440-F12893A3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9936E7-9848-4981-A307-AA056B6E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ADB021-7079-4FC4-AC56-56130B92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179056-C79D-422C-8FFF-1165B429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A8D4-9CCC-4294-8B4D-57F3700C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C4CD2-9377-4861-A2DD-2A0C2408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E157E-44C3-4518-B49E-0CB48576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594ED-83E5-4714-B8D4-E8A3D896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52952-73CC-4F0F-999C-D1AFB4C1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D5D4C-92F8-40D4-B316-24B92697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38A53-2AC0-4DE6-AB41-8F6810CA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A1846-01E6-4EF9-91C3-7B5A7F88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6534C-9EAB-4851-A3FE-09247496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10A34-C1BC-4279-8BB1-C0914B29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B3162-D80B-4945-A38E-EFB51051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DF2D-529D-4752-8EC2-AA4AAD4F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9B068-F45C-4E6D-AC5F-290F1D73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A1A22-A0EF-4805-81B6-F52FEF38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EB5EE-B8C8-484D-B1FC-BA19D2DF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BC9B3-0086-4059-BEA2-8BA152A5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F6C64-2609-4931-B887-EF25A6D9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B70B8-6A84-46C2-9D76-8B04F1D9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CD262-F674-476A-8B63-F885E394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18A2F-1538-45B8-BA11-8D4C1807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ED690-52CC-4170-A987-48102328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F337A-CC2D-4792-803B-57899516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9C48-94BF-42F1-901B-99F98776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2B6C5-E501-4701-B9E1-AC7C4ED3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DB14E-F11F-4196-927C-DF95E4E4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CE4A9-0EC2-4AA0-BB52-02AE9FC8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3662F-2CA2-4F3D-BBEF-517E81DD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D3753-5E03-47FB-A80A-391F4653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8313-3128-4251-9016-138D00F6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144F-D6F7-4523-B238-E7B8B4879E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8490-464B-4CA1-AFF4-A444B7A1588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7C08-1CA2-4F4C-964B-ADBA118CBB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6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6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FDE1-E71F-4CE8-B90A-DE5977E802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2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2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3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2883-45B0-487C-8F34-D3A69AF692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CD51-D081-4C60-A5D9-0F345D9D784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3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3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3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1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CCC5-5B89-4AB2-8F03-B745540551B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 rot="275400">
            <a:off x="2031480" y="5730840"/>
            <a:ext cx="3976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执教：先进初中 方维国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85" name=""/>
          <p:cNvSpPr/>
          <p:nvPr/>
        </p:nvSpPr>
        <p:spPr>
          <a:xfrm>
            <a:off x="3132000" y="263700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</a:rPr>
              <a:t>周素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627280" y="981000"/>
            <a:ext cx="3529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第一次真好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8839080" y="479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2045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301680" y="0"/>
            <a:ext cx="8842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嗅出柚子的味道了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140360" y="620640"/>
            <a:ext cx="5003640" cy="5092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宋体"/>
              </a:rPr>
              <a:t>5</a:t>
            </a: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宋体"/>
              </a:rPr>
              <a:t>、你能嗅出语言的味道了吗？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（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）沉甸甸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Times New Roman"/>
                <a:ea typeface="宋体"/>
              </a:rPr>
              <a:t>垂吊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在枝头（能换成“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宋体"/>
              </a:rPr>
              <a:t>挂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”吗？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（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）秋日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Times New Roman"/>
                <a:ea typeface="宋体"/>
              </a:rPr>
              <a:t>风情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宋体"/>
              </a:rPr>
              <a:t>画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（能换成“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宋体"/>
              </a:rPr>
              <a:t>风景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”吗？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84720" y="2060640"/>
            <a:ext cx="431640" cy="431640"/>
          </a:xfrm>
          <a:custGeom>
            <a:avLst/>
            <a:gdLst>
              <a:gd name="textAreaLeft" fmla="*/ 204120 w 431640"/>
              <a:gd name="textAreaRight" fmla="*/ 227520 w 431640"/>
              <a:gd name="textAreaTop" fmla="*/ 204120 h 431640"/>
              <a:gd name="textAreaBottom" fmla="*/ 2275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224" y="10224"/>
                </a:lnTo>
                <a:lnTo>
                  <a:pt x="10800" y="0"/>
                </a:lnTo>
                <a:lnTo>
                  <a:pt x="11376" y="10224"/>
                </a:lnTo>
                <a:lnTo>
                  <a:pt x="21600" y="10800"/>
                </a:lnTo>
                <a:lnTo>
                  <a:pt x="11376" y="11376"/>
                </a:lnTo>
                <a:lnTo>
                  <a:pt x="10800" y="21600"/>
                </a:lnTo>
                <a:lnTo>
                  <a:pt x="10224" y="11376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400" bIns="-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84720" y="5157720"/>
            <a:ext cx="504720" cy="360360"/>
          </a:xfrm>
          <a:custGeom>
            <a:avLst/>
            <a:gdLst>
              <a:gd name="textAreaLeft" fmla="*/ 178920 w 504720"/>
              <a:gd name="textAreaRight" fmla="*/ 325800 w 504720"/>
              <a:gd name="textAreaTop" fmla="*/ 127800 h 360360"/>
              <a:gd name="textAreaBottom" fmla="*/ 2325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59" y="7659"/>
                </a:lnTo>
                <a:lnTo>
                  <a:pt x="10800" y="0"/>
                </a:lnTo>
                <a:lnTo>
                  <a:pt x="13941" y="7659"/>
                </a:lnTo>
                <a:lnTo>
                  <a:pt x="21600" y="10800"/>
                </a:lnTo>
                <a:lnTo>
                  <a:pt x="13941" y="13941"/>
                </a:lnTo>
                <a:lnTo>
                  <a:pt x="10800" y="21600"/>
                </a:lnTo>
                <a:lnTo>
                  <a:pt x="7659" y="13941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84720" y="3141720"/>
            <a:ext cx="504720" cy="647640"/>
          </a:xfrm>
          <a:custGeom>
            <a:avLst/>
            <a:gdLst>
              <a:gd name="textAreaLeft" fmla="*/ 207720 w 504720"/>
              <a:gd name="textAreaRight" fmla="*/ 297000 w 504720"/>
              <a:gd name="textAreaTop" fmla="*/ 266400 h 647640"/>
              <a:gd name="textAreaBottom" fmla="*/ 3812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88" y="8888"/>
                </a:lnTo>
                <a:lnTo>
                  <a:pt x="10800" y="0"/>
                </a:lnTo>
                <a:lnTo>
                  <a:pt x="12712" y="8888"/>
                </a:lnTo>
                <a:lnTo>
                  <a:pt x="21600" y="10800"/>
                </a:lnTo>
                <a:lnTo>
                  <a:pt x="12712" y="12712"/>
                </a:lnTo>
                <a:lnTo>
                  <a:pt x="10800" y="21600"/>
                </a:lnTo>
                <a:lnTo>
                  <a:pt x="8888" y="1271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611280" y="26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彩云"/>
              </a:rPr>
              <a:t>合  作  探  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59236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96268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）你能说说“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</a:rPr>
              <a:t>雏形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”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</a:rPr>
              <a:t>具体而微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”的区别吗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"/>
              </a:rPr>
              <a:t>（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"/>
              </a:rPr>
              <a:t>4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"/>
              </a:rPr>
              <a:t>）眼巴巴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地等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（能换用其它词吗？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(5)“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我喜爱他们又甚于那些老鸟”一句表达了作者怎样的思想感情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5940360" y="0"/>
            <a:ext cx="320364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11280" y="333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彩云"/>
              </a:rPr>
              <a:t>合  作  探  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5923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250920" y="600120"/>
            <a:ext cx="2233440" cy="30780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332000" y="1866240"/>
            <a:ext cx="698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任选其中三个词语写成一段话（顺序可变）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不可磨灭　玲珑剔透　硕果累累  回味无穷　多姿多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68360" y="-17712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发挥想象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st" descr="st.jpg (14773 bytes)"/>
          <p:cNvPicPr/>
          <p:nvPr/>
        </p:nvPicPr>
        <p:blipFill>
          <a:blip r:embed="rId3"/>
          <a:stretch/>
        </p:blipFill>
        <p:spPr>
          <a:xfrm>
            <a:off x="395280" y="5229360"/>
            <a:ext cx="374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 rot="317400">
            <a:off x="539280" y="259920"/>
            <a:ext cx="3672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彩云"/>
              </a:rPr>
              <a:t>体验与反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彩云"/>
              <a:ea typeface="华文彩云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468360" y="1440000"/>
            <a:ext cx="4608360" cy="47628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68360" y="2708280"/>
            <a:ext cx="84866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为什么第一次的经验不一定都愉快？感觉不愉快的第一次就不能尝试吗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回忆你有哪些难忘的第一次经历，谈谈它对你后来的发展产生了怎样的影响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6156360" y="260280"/>
            <a:ext cx="2736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295280" y="914400"/>
            <a:ext cx="5181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228600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4360" y="2924280"/>
            <a:ext cx="78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你现在最想尝试的第一次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什么样的第一次不能尝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68360" y="260280"/>
            <a:ext cx="22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ahoma"/>
                <a:ea typeface="方正姚体"/>
              </a:rPr>
              <a:t>拓展迁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250920" y="846000"/>
            <a:ext cx="2305080" cy="27936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7367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103640" cy="36036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736720" cy="18003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684360" y="619920"/>
            <a:ext cx="338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b800b8"/>
                </a:solidFill>
                <a:latin typeface="Times New Roman"/>
              </a:rPr>
              <a:t>探究学法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79640" y="3553560"/>
            <a:ext cx="51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800b8"/>
                </a:solidFill>
                <a:latin typeface="Times New Roman"/>
              </a:rPr>
              <a:t>整体感知抓文眼　　　品味情理抓关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800b8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b800b8"/>
                </a:solidFill>
                <a:latin typeface="Times New Roman"/>
              </a:rPr>
              <a:t>悟读散文贵有“我”　形散神聚抓特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2195640" cy="2305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684360" y="47628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结束语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611280" y="1341360"/>
            <a:ext cx="2808360" cy="4320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755640" y="39394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同学们：生命中每个人确实有许多第一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一次是令人难忘的，刻骨铭心的，给我们带来了莫大的新奇和刺激，使我们至今回味无穷。第一个吃螃蟹的人，被誉为具有改革和创新的人而载入史册。今后，有益的第一次我们要寻找机会、大胆尝试；不可预料的第一次我们要勇敢地面对；有害的、消极的第一次我们要主动地避免。愿同学们努力去尝试生命中有益的第一次，让万紫千红的第一次，织成我们五彩斑斓的人生，给社会带来进步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103640" cy="3603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395280" y="656280"/>
            <a:ext cx="54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课外兴趣题：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68360" y="2826360"/>
            <a:ext cx="813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．积累词语（抄写、注音、造句）。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．回家后，听妈妈讲自己小时侯的第一次故事，然后写成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００字的课外练笔。</a:t>
            </a:r>
            <a:br>
              <a:rPr sz="3600"/>
            </a:br>
            <a:br>
              <a:rPr sz="3600"/>
            </a:br>
            <a:br>
              <a:rPr sz="6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53080" y="404640"/>
            <a:ext cx="78984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800b8"/>
                </a:solidFill>
                <a:latin typeface="华文新魏"/>
                <a:ea typeface="华文新魏"/>
              </a:rPr>
              <a:t>学步幼儿  第一次勇敢迈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3429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0" y="3498840"/>
            <a:ext cx="4356000" cy="33526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788000" y="493560"/>
            <a:ext cx="403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1969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月，阿姆斯特朗代表人类第一次登上了月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306864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感言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这一小步，对一个人来说，是小小的一步；对整个人类来说，是巨大的飞跃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58000" y="549360"/>
            <a:ext cx="2286000" cy="30502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国首位宇航员登上太空的感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是祖国历史上辉煌的一页，也是我生命中最伟大一天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0072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0" y="0"/>
            <a:ext cx="52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800b8"/>
                </a:solidFill>
                <a:latin typeface="Times New Roman"/>
              </a:rPr>
              <a:t>中国人的骄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80880" y="404640"/>
            <a:ext cx="843912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宋体"/>
              </a:rPr>
              <a:t>雏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形        丰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硕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稀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疏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霎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时          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孵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鸟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姊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妹     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柚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子        沉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甸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甸     结实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累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累  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玲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珑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剔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透</a:t>
            </a:r>
            <a:r>
              <a:rPr b="1" lang="zh-CN" sz="2400" spc="-1" strike="noStrike">
                <a:solidFill>
                  <a:srgbClr val="33cccc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cc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358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0880" y="3581280"/>
            <a:ext cx="4114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弄懂下列词语的意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玲珑剔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具体而微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不可磨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回味无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多姿多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09680" y="44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03200" y="106668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081520" y="10666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81720" y="10666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00320" y="1066680"/>
            <a:ext cx="5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81760" y="1066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0240" y="22096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28880" y="2209680"/>
            <a:ext cx="6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80640" y="213372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51640" y="2133720"/>
            <a:ext cx="5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16720" y="2133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 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924680" y="213372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9640" y="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检查字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43280" y="4437000"/>
            <a:ext cx="630072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形容器物精致通明，结构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整个形体都已具备了，只是比较微小而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指事迹言论等将始终保留在人们的记忆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比喻回想某一事物，越想越觉得有意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文指生活丰富而充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03200" y="106668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81520" y="10666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681720" y="10666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00320" y="1066680"/>
            <a:ext cx="5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81760" y="1066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0240" y="22096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28880" y="2209680"/>
            <a:ext cx="6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80640" y="213372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651640" y="2133720"/>
            <a:ext cx="5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16720" y="2133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 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200" y="106668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81520" y="10666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681720" y="10666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00320" y="1066680"/>
            <a:ext cx="5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81760" y="1066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0240" y="22096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28880" y="2209680"/>
            <a:ext cx="6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80640" y="213372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651640" y="2133720"/>
            <a:ext cx="5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516720" y="2133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 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5280" y="105264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53440" y="1052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673800" y="1066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4520" y="10526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73480" y="1066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9080" y="220500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29240" y="2209680"/>
            <a:ext cx="6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681720" y="21337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647680" y="21337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516720" y="213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g 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             ——</a:t>
            </a:r>
            <a:r>
              <a:rPr b="1" lang="zh-CN" sz="3700" spc="-1" strike="noStrike">
                <a:solidFill>
                  <a:srgbClr val="333300"/>
                </a:solidFill>
                <a:latin typeface="Arial"/>
              </a:rPr>
              <a:t>读懂文意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333300"/>
                </a:solidFill>
                <a:latin typeface="Arial"/>
              </a:rPr>
              <a:t>                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             ——</a:t>
            </a:r>
            <a:r>
              <a:rPr b="1" lang="zh-CN" sz="3700" spc="-1" strike="noStrike">
                <a:solidFill>
                  <a:srgbClr val="333300"/>
                </a:solidFill>
                <a:latin typeface="Arial"/>
              </a:rPr>
              <a:t>读清布局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             ——</a:t>
            </a:r>
            <a:r>
              <a:rPr b="1" lang="zh-CN" sz="3700" spc="-1" strike="noStrike">
                <a:solidFill>
                  <a:srgbClr val="333300"/>
                </a:solidFill>
                <a:latin typeface="Arial"/>
              </a:rPr>
              <a:t>读出意境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692360" y="195840"/>
            <a:ext cx="5904000" cy="151524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  <a:ea typeface="楷体_GB2312"/>
              </a:rPr>
              <a:t>朗读课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  <a:ea typeface="楷体_GB2312"/>
              </a:rPr>
              <a:t>初步感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0" y="6093000"/>
            <a:ext cx="9144000" cy="711000"/>
          </a:xfrm>
          <a:prstGeom prst="rect">
            <a:avLst/>
          </a:prstGeom>
          <a:solidFill>
            <a:srgbClr val="339933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0" y="6093000"/>
            <a:ext cx="9143280" cy="765000"/>
            <a:chOff x="0" y="6093000"/>
            <a:chExt cx="9143280" cy="765000"/>
          </a:xfrm>
        </p:grpSpPr>
        <p:sp>
          <p:nvSpPr>
            <p:cNvPr id="450" name=""/>
            <p:cNvSpPr/>
            <p:nvPr/>
          </p:nvSpPr>
          <p:spPr>
            <a:xfrm>
              <a:off x="0" y="6093000"/>
              <a:ext cx="9143280" cy="765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1" name="" descr=""/>
            <p:cNvPicPr/>
            <p:nvPr/>
          </p:nvPicPr>
          <p:blipFill>
            <a:blip r:embed="rId2"/>
            <a:stretch/>
          </p:blipFill>
          <p:spPr>
            <a:xfrm>
              <a:off x="222120" y="6121080"/>
              <a:ext cx="8697600" cy="708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012000" y="3357720"/>
            <a:ext cx="313200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1042920" y="162864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为什么说第一次真好，好在哪里？“文眼”是哪句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作者写了她的哪些“第一次”经历？感受如何？（请划出原文词语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这些第一次，作者是如何安排详略的？为什么要这样安排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9640" y="0"/>
            <a:ext cx="2160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ahoma"/>
                <a:ea typeface="方正姚体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2087640" cy="28728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8172360" y="4581360"/>
            <a:ext cx="12589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08000" y="1562040"/>
            <a:ext cx="45720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第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次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  <a:ea typeface="华文新魏"/>
              </a:rPr>
              <a:t>看柚子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  <a:ea typeface="华文新魏"/>
              </a:rPr>
              <a:t>看孵小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去露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动手做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坐火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坐飞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看见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看到自已的作品用铅字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           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出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32000" y="679320"/>
            <a:ext cx="20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00b8"/>
                </a:solidFill>
                <a:latin typeface="Arial"/>
                <a:ea typeface="隶书"/>
              </a:rPr>
              <a:t>观察对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00b8"/>
                </a:solidFill>
                <a:latin typeface="Arial"/>
                <a:ea typeface="隶书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48000" y="1628640"/>
            <a:ext cx="1368360" cy="19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  <a:ea typeface="华文新魏"/>
              </a:rPr>
              <a:t>植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  <a:ea typeface="华文新魏"/>
              </a:rPr>
              <a:t>动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08720" y="765000"/>
            <a:ext cx="180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00b8"/>
                </a:solidFill>
                <a:latin typeface="Times New Roman"/>
                <a:ea typeface="隶书"/>
              </a:rPr>
              <a:t>当时感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19640" y="37162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284720" y="1628640"/>
            <a:ext cx="3887280" cy="576360"/>
            <a:chOff x="4284720" y="1628640"/>
            <a:chExt cx="3887280" cy="576360"/>
          </a:xfrm>
        </p:grpSpPr>
        <p:sp>
          <p:nvSpPr>
            <p:cNvPr id="465" name=""/>
            <p:cNvSpPr/>
            <p:nvPr/>
          </p:nvSpPr>
          <p:spPr>
            <a:xfrm>
              <a:off x="4284720" y="1773360"/>
              <a:ext cx="750240" cy="215640"/>
            </a:xfrm>
            <a:prstGeom prst="rightArrow">
              <a:avLst>
                <a:gd name="adj1" fmla="val 50000"/>
                <a:gd name="adj2" fmla="val 86978"/>
              </a:avLst>
            </a:prstGeom>
            <a:solidFill>
              <a:srgbClr val="66ff33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102280" y="1628640"/>
              <a:ext cx="3069720" cy="576360"/>
            </a:xfrm>
            <a:prstGeom prst="flowChartAlternateProcess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华文新魏"/>
                </a:rPr>
                <a:t>喜悦与新奇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静态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4284720" y="2421000"/>
            <a:ext cx="3960360" cy="2087640"/>
            <a:chOff x="4284720" y="2421000"/>
            <a:chExt cx="3960360" cy="2087640"/>
          </a:xfrm>
        </p:grpSpPr>
        <p:sp>
          <p:nvSpPr>
            <p:cNvPr id="468" name=""/>
            <p:cNvSpPr/>
            <p:nvPr/>
          </p:nvSpPr>
          <p:spPr>
            <a:xfrm>
              <a:off x="4284720" y="2565360"/>
              <a:ext cx="751320" cy="216000"/>
            </a:xfrm>
            <a:prstGeom prst="rightArrow">
              <a:avLst>
                <a:gd name="adj1" fmla="val 50000"/>
                <a:gd name="adj2" fmla="val 86958"/>
              </a:avLst>
            </a:prstGeom>
            <a:solidFill>
              <a:srgbClr val="66ff33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03360" y="2421000"/>
              <a:ext cx="3141720" cy="2087640"/>
            </a:xfrm>
            <a:prstGeom prst="flowChartAlternateProcess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华文新魏"/>
                </a:rPr>
                <a:t>眼巴巴地等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华文新魏"/>
                </a:rPr>
                <a:t>惊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华文新魏"/>
                </a:rPr>
                <a:t>吃不下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华文新魏"/>
                </a:rPr>
                <a:t>喜爱</a:t>
              </a:r>
              <a:r>
                <a:rPr b="1" lang="zh-CN" sz="2400" spc="-1" strike="noStrike">
                  <a:solidFill>
                    <a:srgbClr val="ff99cc"/>
                  </a:solidFill>
                  <a:latin typeface="Times New Roman"/>
                </a:rPr>
                <a:t>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动态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8244000" y="1844640"/>
            <a:ext cx="360360" cy="1562040"/>
          </a:xfrm>
          <a:custGeom>
            <a:avLst/>
            <a:gdLst>
              <a:gd name="textAreaLeft" fmla="*/ 0 w 360360"/>
              <a:gd name="textAreaRight" fmla="*/ 129960 w 360360"/>
              <a:gd name="textAreaTop" fmla="*/ 40680 h 1562040"/>
              <a:gd name="textAreaBottom" fmla="*/ 1521360 h 15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16360" y="3645000"/>
            <a:ext cx="513000" cy="2519280"/>
          </a:xfrm>
          <a:custGeom>
            <a:avLst/>
            <a:gdLst>
              <a:gd name="textAreaLeft" fmla="*/ 0 w 513000"/>
              <a:gd name="textAreaRight" fmla="*/ 185040 w 513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8461440" y="2421000"/>
            <a:ext cx="68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8748000" y="3213000"/>
            <a:ext cx="144360" cy="1295640"/>
          </a:xfrm>
          <a:prstGeom prst="downArrow">
            <a:avLst>
              <a:gd name="adj1" fmla="val 50000"/>
              <a:gd name="adj2" fmla="val 2243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932360" y="479736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Times New Roman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6699"/>
                </a:solidFill>
                <a:latin typeface="Times New Roman"/>
                <a:ea typeface="宋体"/>
              </a:rPr>
              <a:t>详写是为了更好地突出中心；略写部分是对详写部分的补充，旨在以小见大地表现“第一次真好”的普遍意义，同时，使文章内容更加充实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9640" y="0"/>
            <a:ext cx="2160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方正姚体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324000" y="569880"/>
            <a:ext cx="259236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978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0" y="5084640"/>
            <a:ext cx="9144000" cy="1852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珍重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第一次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让生命多姿多彩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不断向新的领域进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87640" y="9810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8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文中最后一句说“第一次愈多，生命愈益多姿多彩。愿你珍重第一次”的含义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2592360" cy="2872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539640" y="0"/>
            <a:ext cx="2160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方正姚体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5T11:54:36Z</dcterms:created>
  <dc:creator>fj</dc:creator>
  <dc:description/>
  <dc:language>en-US</dc:language>
  <cp:lastModifiedBy>jufeng</cp:lastModifiedBy>
  <dcterms:modified xsi:type="dcterms:W3CDTF">2010-11-12T07:50:06Z</dcterms:modified>
  <cp:revision>152</cp:revision>
  <dc:subject/>
  <dc:title>第一次真好</dc:title>
</cp:coreProperties>
</file>