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3.gif" ContentType="image/gif"/>
  <Override PartName="/ppt/media/image8.jpeg" ContentType="image/jpeg"/>
  <Override PartName="/ppt/media/image5.png" ContentType="image/png"/>
  <Override PartName="/ppt/media/image29.jpeg" ContentType="image/jpeg"/>
  <Override PartName="/ppt/media/image28.jpeg" ContentType="image/jpeg"/>
  <Override PartName="/ppt/media/image7.jpeg" ContentType="image/jpeg"/>
  <Override PartName="/ppt/media/image4.png" ContentType="image/png"/>
  <Override PartName="/ppt/media/image12.jpeg" ContentType="image/jpeg"/>
  <Override PartName="/ppt/media/image19.jpeg" ContentType="image/jpeg"/>
  <Override PartName="/ppt/media/image25.gif" ContentType="image/gif"/>
  <Override PartName="/ppt/media/image6.jpeg" ContentType="image/jpeg"/>
  <Override PartName="/ppt/media/chimes.wav" ContentType="audio/x-wav"/>
  <Override PartName="/ppt/media/image23.gif" ContentType="image/gif"/>
  <Override PartName="/ppt/media/image16.png" ContentType="image/png"/>
  <Override PartName="/ppt/media/image30.jpeg" ContentType="image/jpeg"/>
  <Override PartName="/ppt/media/image11.png" ContentType="image/png"/>
  <Override PartName="/ppt/media/image9.jpeg" ContentType="image/jpeg"/>
  <Override PartName="/ppt/media/image2.png" ContentType="image/png"/>
  <Override PartName="/ppt/media/image22.gif" ContentType="image/gif"/>
  <Override PartName="/ppt/media/image10.png" ContentType="image/png"/>
  <Override PartName="/ppt/media/image1.jpeg" ContentType="image/jpeg"/>
  <Override PartName="/ppt/media/image13.jpeg" ContentType="image/jpeg"/>
  <Override PartName="/ppt/media/image18.gif" ContentType="image/gif"/>
  <Override PartName="/ppt/media/image14.jpeg" ContentType="image/jpeg"/>
  <Override PartName="/ppt/media/image15.jpeg" ContentType="image/jpeg"/>
  <Override PartName="/ppt/media/image27.jpeg" ContentType="image/jpeg"/>
  <Override PartName="/ppt/media/image17.gif" ContentType="image/gif"/>
  <Override PartName="/ppt/media/image26.gif" ContentType="image/gif"/>
  <Override PartName="/ppt/media/image20.jpeg" ContentType="image/jpeg"/>
  <Override PartName="/ppt/media/image21.gif" ContentType="image/gif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43FC-C87F-4155-A4A8-D3FED3F80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1482-7EEF-4C23-A27F-150D3B2A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43518B-B58F-49DA-8B63-288B4452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F14AF-E0F6-4D9C-BCA6-3772D917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817C7-EA12-4689-971C-55B32D13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6158C-66AD-4794-B954-7D8E2EF1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2132CD-B410-4B1E-840A-FCBDCB2B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CD3921-B18E-474C-88C5-95F6999B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7A3635-D47E-4438-8E64-A68B96A6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4E5353-8F71-4440-A176-F92E5A4DF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1D64D3-743D-4ED0-BE2B-4DA4A9B09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7DE162-BB38-46DF-9EC4-F3AE48BFC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1F69-C1D7-4DE5-928F-9B99A2C8E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BAF627-F9ED-4445-A3C4-920DEAF6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977C80-7351-4951-9C94-652316FE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C1F312-6A75-4D92-95B7-86F18458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2BCC7B-0D02-4948-838B-6224E81F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9CFC13-545B-4B2F-8982-CD4481B1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6A2D2A-2DEF-4FF3-8156-B2E528DA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99E4BA-0620-4CAB-A93D-B8D69AB3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3F8196-8937-42ED-B97B-A3C871BD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D95CF0-9F94-4621-9446-A4C1C57B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8FDAC5-7CD4-4381-94CD-365651C4E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3483-BF3E-4C3C-9085-02419D034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922E22-54ED-427F-8C3D-BA034CF96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30F4-6385-46FE-82A3-0132A9021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C1D67-6675-49CB-8652-76174EE9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CACE0-F0D2-4F35-9954-0391B2BE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6A011-56B7-4566-B768-0A36A530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831D-F009-4C96-86F4-C3D0486A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3D03-8FCE-4376-AEDD-38603EDA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8970-530F-475D-A39B-287B4482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3252-ED31-4C40-9AE3-0FE9A542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CEE5-14F0-4520-A686-A741BE66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C987-AD84-40C4-B386-36344F34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3A81-1A4E-4323-B7B5-FE94E864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3EA8-66ED-4E29-9958-D6FB274C1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7DAA-63E3-4484-B9BA-475FDA049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904E4-389C-4461-BD63-E5697AC21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A0AC9-C7F8-4F1C-AA00-17D52EB6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2EA4B-4766-48E1-9143-2C71B6EC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3A3DB-172C-45D1-AAFC-94F9B392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7AC84-211D-4AFE-85A6-ADEF2774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BA12-87AE-408D-9120-D5051697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4DD6D-3966-45C6-8EE1-41C7C412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22BB5-F427-4AAC-B7E7-D1A95C1B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78F78-ED89-4D89-813F-F87AA74E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BB1D6-9A6D-430C-B9ED-9F9D162F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6A67A-695C-4795-A422-73403E7B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C409A-4466-4ECE-8080-FCFA76D2C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C5DAE-21C4-423C-9EBC-6536ECE58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8BC6F-9E27-4492-9EB0-62DEAA35C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8B7B3-2D3F-44AB-8282-B82AD3AA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A5B2A-1BD5-4A2E-BD52-A94DDD5D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E63C-1BFB-435C-9006-A3BC6EB2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DC53B-BC4F-42B3-ABC1-B1CB3B77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E95FA-4ECC-475B-A98C-B15A1894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B85C0-8BBC-4BD5-B8DB-694DE91D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98EA5-6A36-4D69-AA72-EB9B8F98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76AD9-6BC2-4CED-B3EC-1B6AB36D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25C90-89A0-4097-B4BF-87066911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F3FC3-8F2B-4472-AC87-FE2F6EC3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5325F-F2E1-4B05-8593-7E1A426DE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9F00A-85FF-4048-A6E5-AC7F2D395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31BBA-2862-4A79-9EC5-4176CAC89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ACDA-C960-47B2-8DDA-27763747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B5FD0-E486-444C-97BE-43E4DB8D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12D81-3897-406D-BD8B-664B018D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BC768-057B-4233-9483-7B40985D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0319B-CE11-4176-890F-1AF333D2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A6C34-C0D6-4C0F-8E9A-3ED04D9D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B142E-217A-4E48-BB79-EE4BC99E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55BA4-A524-4787-8F3C-87F99381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C8D2A-054B-41DD-86E8-8837FFCB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F0291-A998-47E7-8249-95A2C8BF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0BD96-3011-410A-A783-733EF24A8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59B2-5DFD-423F-8B79-10C72DD8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4EB39-477E-4D9B-87A9-2600569BF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40816-9D68-4609-9F5E-2E6933306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58FE1-A646-4609-9243-E3FCC840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9E2CB-F267-42E0-A83B-00F370AF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CBCCA-7375-4E54-9456-824DA4AF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ABB00-70CF-4708-BC18-188E9C07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8D498-71C1-4626-8035-10D39175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0B7AE-5AC7-4A72-A5AE-267DCB6B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1C9C63-E47C-4799-8281-EEF8672D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5D1B2-9BC5-4FE6-8F8D-B8E3ECCA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8278-A58F-4847-8D01-500F4292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221E0-85E0-4036-BAA3-C67C223B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851ED-4546-4240-B20B-DFB3D50EA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8177D-BB11-4500-8778-6EAFC67E7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2595B-C3C6-4BC3-9D40-2B4DAE3DE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E5F53-4E0C-4B8F-8A52-E4C579F2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F9F00-18FC-4E46-8D59-2841FD48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A2749-B89A-4210-BD05-E82D7600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C9C42-9AC9-4A60-A3AB-B98172B7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BC8E0-5B99-4C0A-BAC6-369D9832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88671-8E5E-4FFB-AC62-ABD13647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A005-EB7F-4587-9929-64D364EA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2EC30-B944-45F6-BCB8-773E5154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4AD4D-E945-4CBA-87A4-EAA35979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F70A8-CD7F-4EA9-82A6-07A5C15B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3E2B1-0AE7-4EA9-A149-D10DBA693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ECDBB-287C-44BC-9786-77220658E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DA086-7DD6-491D-B546-61717E1B3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BD4E6-CF94-4FD9-8A37-3F29F16F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F92BA-898E-4E88-A878-93A7FCF6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80F55-F049-418D-92A2-89A1C68A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F8120-D529-41A9-8EEC-9D589412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42D0-BDCB-406F-914F-E34CCD58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42710-BD4A-46AA-BE41-0D223BA9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8D948-EF59-4249-B634-3A95AB69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F1B48-34F5-43E2-A0C3-096C5EC1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E8AD7-4D31-4FDB-AE35-B35CFC02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20E9B-BC4E-4D8F-8CFE-7592EFA7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AE1A4-9BB8-4FDC-8F46-C8304BC3B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27A3C-07C9-49AA-B108-CF9D9489D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84BF1B-CE0C-47E5-9A1C-4DEE587CE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080E12-ABC5-4ECF-9AEA-75E633C1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AFF961-4A0A-4539-8983-D8D797AA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8EE7-2D82-4C1C-8950-BCAE0D16A1D0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86F7-8797-4964-A1FD-D4D64C24F19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DB830-F6FF-4968-A5CB-860186CE7522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67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8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199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7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8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9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663B-0D6B-4600-BCCB-4728C50DBF04}" type="slidenum">
              <a:rPr b="0" lang="zh-CN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265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266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grpSp>
              <p:nvGrpSpPr>
                <p:cNvPr id="275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4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295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304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12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1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332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7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0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49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350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351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9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360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369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7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378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86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387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6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5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4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23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424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425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3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434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7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9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0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2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443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9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1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452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60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2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473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479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86B6-8AF9-4DF9-BE64-F64961231E84}" type="slidenum">
              <a:rPr b="0" lang="zh-CN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3"/>
          <a:stretch/>
        </p:blipFill>
        <p:spPr>
          <a:xfrm>
            <a:off x="4429080" y="3352680"/>
            <a:ext cx="324000" cy="32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" descr=""/>
          <p:cNvPicPr/>
          <p:nvPr/>
        </p:nvPicPr>
        <p:blipFill>
          <a:blip r:embed="rId3"/>
          <a:stretch/>
        </p:blipFill>
        <p:spPr>
          <a:xfrm>
            <a:off x="117360" y="11592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DC94-0ED2-441F-97C4-78F2D2731F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820800" y="847800"/>
            <a:ext cx="7505640" cy="516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3"/>
          <a:stretch/>
        </p:blipFill>
        <p:spPr>
          <a:xfrm>
            <a:off x="762120" y="4038480"/>
            <a:ext cx="1374480" cy="2008440"/>
          </a:xfrm>
          <a:prstGeom prst="rect">
            <a:avLst/>
          </a:prstGeom>
          <a:ln w="0">
            <a:noFill/>
          </a:ln>
        </p:spPr>
      </p:pic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55CB-5B11-4BAE-BABF-E565E53F77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ffff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15B7-3899-4F8A-BF3D-73643C3E25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9318-7108-421E-B28E-548537D05F6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ffff"/>
              </a:buClr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E1F6-BBDF-4B12-BA07-0F9BE01F317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6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7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7.jpeg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slide" Target="slide35.xml"/><Relationship Id="rId7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7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4479840" y="3048120"/>
            <a:ext cx="2530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1360"/>
          </a:xfrm>
          <a:prstGeom prst="rect">
            <a:avLst/>
          </a:prstGeom>
          <a:ln w="0">
            <a:noFill/>
          </a:ln>
        </p:spPr>
      </p:pic>
      <p:sp>
        <p:nvSpPr>
          <p:cNvPr id="794" name=""/>
          <p:cNvSpPr/>
          <p:nvPr/>
        </p:nvSpPr>
        <p:spPr>
          <a:xfrm>
            <a:off x="1371600" y="1752480"/>
            <a:ext cx="6934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义务教育课程标准实验教科书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600200" y="3733920"/>
            <a:ext cx="396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2743200" y="2438280"/>
            <a:ext cx="3313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语文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97" name=""/>
          <p:cNvSpPr/>
          <p:nvPr/>
        </p:nvSpPr>
        <p:spPr>
          <a:xfrm>
            <a:off x="2895480" y="37339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七年级下册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700360" y="486900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制作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8435880" cy="66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00cc00"/>
                </a:solidFill>
                <a:latin typeface="隶书"/>
                <a:ea typeface="隶书"/>
              </a:rPr>
              <a:t>、第一段写了件什么事？体现了包拯的什么性格？在写法上有何特点？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Verdana"/>
              </a:rPr>
              <a:t>   </a:t>
            </a:r>
            <a:r>
              <a:rPr b="1" lang="zh-CN" sz="3600" spc="-1" strike="noStrike">
                <a:solidFill>
                  <a:srgbClr val="00cc00"/>
                </a:solidFill>
                <a:latin typeface="方正姚体"/>
                <a:ea typeface="方正姚体"/>
              </a:rPr>
              <a:t>任知县时破获的一起割他人牛舌案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方正姚体"/>
                <a:ea typeface="方正姚体"/>
              </a:rPr>
              <a:t>   </a:t>
            </a:r>
            <a:r>
              <a:rPr b="1" lang="zh-CN" sz="3600" spc="-1" strike="noStrike">
                <a:solidFill>
                  <a:srgbClr val="00cc00"/>
                </a:solidFill>
                <a:latin typeface="方正姚体"/>
                <a:ea typeface="方正姚体"/>
              </a:rPr>
              <a:t>聪明机智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方正姚体"/>
                <a:ea typeface="方正姚体"/>
              </a:rPr>
              <a:t>   </a:t>
            </a:r>
            <a:r>
              <a:rPr b="1" lang="zh-CN" sz="3600" spc="-1" strike="noStrike">
                <a:solidFill>
                  <a:srgbClr val="00cc00"/>
                </a:solidFill>
                <a:latin typeface="方正姚体"/>
                <a:ea typeface="方正姚体"/>
              </a:rPr>
              <a:t>语言简洁，运用语言描写体现人物性格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00cc00"/>
                </a:solidFill>
                <a:latin typeface="隶书"/>
                <a:ea typeface="隶书"/>
              </a:rPr>
              <a:t>、语言描写写出了他办事的什么特点？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Verdana"/>
              </a:rPr>
              <a:t>   </a:t>
            </a:r>
            <a:r>
              <a:rPr b="1" lang="zh-CN" sz="3600" spc="-1" strike="noStrike">
                <a:solidFill>
                  <a:srgbClr val="00cc00"/>
                </a:solidFill>
                <a:latin typeface="宋体"/>
              </a:rPr>
              <a:t>第一句：表现出包拯成竹在胸；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cc00"/>
                </a:solidFill>
                <a:latin typeface="宋体"/>
              </a:rPr>
              <a:t>第二句：写他看穿盗贼伎俩，并先发制人，使其惊恐万分，顺利破案</a:t>
            </a:r>
            <a:r>
              <a:rPr b="1" lang="zh-CN" sz="2400" spc="-1" strike="noStrike">
                <a:solidFill>
                  <a:srgbClr val="00cc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Verdana"/>
                <a:ea typeface="方正姚体"/>
              </a:rPr>
              <a:t>古判断句的形式，翻译时加判断词“是”。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90000"/>
              </a:lnSpc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包拯字希仁，是庐州合肥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今安徽合肥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人。……当天长县知县。有个盗贼割了别人家耕牛的舌头，牛主人来到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县衙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告状。包拯说：“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你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只管回家去，杀了牛卖了它。”不久又有一人来到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县衙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告别人私自宰杀耕牛，包拯说：“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你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为什么割了别人家耕牛的舌头，又来告他的状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?”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这个盗贼感到很震惊，也很服气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310000"/>
              </a:lnSpc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徙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知端州，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迁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殿中丞。端土产砚，前守缘贡率取数十倍以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遗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权贵。拯命制者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才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足贡数，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岁满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不持一砚归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-324000" y="1916280"/>
            <a:ext cx="2087640" cy="431640"/>
          </a:xfrm>
          <a:prstGeom prst="wedgeRoundRectCallout">
            <a:avLst>
              <a:gd name="adj1" fmla="val 1101"/>
              <a:gd name="adj2" fmla="val -20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调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516720" y="1989000"/>
            <a:ext cx="1081080" cy="432000"/>
          </a:xfrm>
          <a:prstGeom prst="wedgeRoundRectCallout">
            <a:avLst>
              <a:gd name="adj1" fmla="val 48680"/>
              <a:gd name="adj2" fmla="val -20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趁着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300720" y="404640"/>
            <a:ext cx="1081080" cy="432000"/>
          </a:xfrm>
          <a:prstGeom prst="wedgeRoundRectCallout">
            <a:avLst>
              <a:gd name="adj1" fmla="val 149263"/>
              <a:gd name="adj2" fmla="val 10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大都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556000" y="3357720"/>
            <a:ext cx="1081080" cy="431640"/>
          </a:xfrm>
          <a:prstGeom prst="wedgeRoundRectCallout">
            <a:avLst>
              <a:gd name="adj1" fmla="val -63800"/>
              <a:gd name="adj2" fmla="val -145953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赠送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435640" y="3573360"/>
            <a:ext cx="2233440" cy="432000"/>
          </a:xfrm>
          <a:prstGeom prst="wedgeRoundRectCallout">
            <a:avLst>
              <a:gd name="adj1" fmla="val 49361"/>
              <a:gd name="adj2" fmla="val -20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当政满一年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708360" y="4005360"/>
            <a:ext cx="1513080" cy="360360"/>
          </a:xfrm>
          <a:prstGeom prst="wedgeRoundRectCallout">
            <a:avLst>
              <a:gd name="adj1" fmla="val 63115"/>
              <a:gd name="adj2" fmla="val -360574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仅仅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包拯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转到端州当知府，升为殿中丞。端州出产砚台，此前的知府趁着进贡大都敛取是贡数几十倍的砚台，来赠送给当朝权贵。包拯命令制造的砚台仅仅满足贡数，当政满一年没拿一方砚台回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/>
          </p:nvPr>
        </p:nvSpPr>
        <p:spPr>
          <a:xfrm>
            <a:off x="755280" y="260280"/>
            <a:ext cx="799308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1</a:t>
            </a: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、第二段写了件什么事？和第一段比较，本段有何特点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写他在端州任职期间严格控制上贡端砚的数量，并没有接受一方砚台的馈赠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写得比较概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2</a:t>
            </a: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、包拯为官廉洁表现在哪两个方面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他坚决、有效地堵死了官吏用来趋炎附势的源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、“从我做起”“岁满不持一砚归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90000"/>
              </a:lnSpc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使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契丹，契丹令典客谓拯曰：“雄州新开便门，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乃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欲诱我叛人，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以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刺疆事耶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?”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拯曰：“涿州亦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尝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开门矣，刺疆事何必开便门哉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?”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其人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遂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无以对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50920" y="2060640"/>
            <a:ext cx="1944720" cy="431640"/>
          </a:xfrm>
          <a:prstGeom prst="wedgeRoundRectCallout">
            <a:avLst>
              <a:gd name="adj1" fmla="val -21018"/>
              <a:gd name="adj2" fmla="val -20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出使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708360" y="1989000"/>
            <a:ext cx="1584360" cy="432000"/>
          </a:xfrm>
          <a:prstGeom prst="wedgeRoundRectCallout">
            <a:avLst>
              <a:gd name="adj1" fmla="val 26453"/>
              <a:gd name="adj2" fmla="val -226472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对…说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39640" y="3500280"/>
            <a:ext cx="1081080" cy="432000"/>
          </a:xfrm>
          <a:prstGeom prst="wedgeRoundRectCallout">
            <a:avLst>
              <a:gd name="adj1" fmla="val 48680"/>
              <a:gd name="adj2" fmla="val -20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就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95280" y="5157720"/>
            <a:ext cx="1081080" cy="432000"/>
          </a:xfrm>
          <a:prstGeom prst="wedgeRoundRectCallout">
            <a:avLst>
              <a:gd name="adj1" fmla="val 142657"/>
              <a:gd name="adj2" fmla="val -223162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曾今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124000" y="4724280"/>
            <a:ext cx="1871640" cy="432000"/>
          </a:xfrm>
          <a:prstGeom prst="wedgeRoundRectCallout">
            <a:avLst>
              <a:gd name="adj1" fmla="val -69930"/>
              <a:gd name="adj2" fmla="val 263236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于是，就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708360" y="3645000"/>
            <a:ext cx="1081080" cy="431640"/>
          </a:xfrm>
          <a:prstGeom prst="wedgeRoundRectCallout">
            <a:avLst>
              <a:gd name="adj1" fmla="val 48680"/>
              <a:gd name="adj2" fmla="val -20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来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5" dur="2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0" dur="2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5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0" dur="2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5" dur="2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包拯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出使契丹，契丹命令典客对包拯说：“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你们国家的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雄州城最近开了便门，就是想引诱我国的叛徒，以便刺探边疆的情报吧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?”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包拯说：“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你们国家的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涿州城曾经也开过便门，刺探边疆的情报为何一定要开便门呢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?”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那个人便无言以对了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/>
          </p:nvPr>
        </p:nvSpPr>
        <p:spPr>
          <a:xfrm>
            <a:off x="468000" y="1412640"/>
            <a:ext cx="8064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隶书"/>
              </a:rPr>
              <a:t>这段写了件什么事？与前两段相比，本段有何特点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写他奉命出使契丹，驳倒契丹的荒谬论点，写出了他</a:t>
            </a:r>
            <a:r>
              <a:rPr b="1" i="1" lang="zh-CN" sz="3600" spc="-1" strike="noStrike">
                <a:solidFill>
                  <a:srgbClr val="ffffff"/>
                </a:solidFill>
                <a:latin typeface="Arial"/>
              </a:rPr>
              <a:t>巧言善辩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i="1" lang="zh-CN" sz="3600" spc="-1" strike="noStrike">
                <a:solidFill>
                  <a:srgbClr val="ffffff"/>
                </a:solidFill>
                <a:latin typeface="Arial"/>
              </a:rPr>
              <a:t>不辱使命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的爱国之心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写法上与第一段相同，描写具体，通过人物语言突出人物性格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060720" y="49860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华文琥珀"/>
                <a:ea typeface="华文琥珀"/>
              </a:rPr>
              <a:t>阅读第三段</a:t>
            </a:r>
            <a:endParaRPr b="0" lang="en-US" sz="5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70000"/>
              </a:lnSpc>
              <a:spcBef>
                <a:spcPts val="700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召权知开封府，迁右司郎中。拯立朝刚毅，贵戚宦官为之敛手，闻者皆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惮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之。人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以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包拯笑比黄河清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童稚妇女，亦知其名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，呼日“包待制”。京师为之语曰：“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关节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不到，有阎罗包老。”旧制，凡讼诉不得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径造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庭下。拯开正门，使得至前陈曲直，吏不敢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979640" y="2492280"/>
            <a:ext cx="1081080" cy="432000"/>
          </a:xfrm>
          <a:prstGeom prst="wedgeRoundRectCallout">
            <a:avLst>
              <a:gd name="adj1" fmla="val 48680"/>
              <a:gd name="adj2" fmla="val -15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畏惧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635280" y="2708280"/>
            <a:ext cx="1081080" cy="360360"/>
          </a:xfrm>
          <a:prstGeom prst="wedgeRoundRectCallout">
            <a:avLst>
              <a:gd name="adj1" fmla="val 35462"/>
              <a:gd name="adj2" fmla="val -22180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把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708360" y="3645000"/>
            <a:ext cx="3168720" cy="431640"/>
          </a:xfrm>
          <a:prstGeom prst="wedgeRoundRectCallout">
            <a:avLst>
              <a:gd name="adj1" fmla="val 101402"/>
              <a:gd name="adj2" fmla="val -142648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暗中行贿串通关系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364000" y="4724280"/>
            <a:ext cx="1657440" cy="432000"/>
          </a:xfrm>
          <a:prstGeom prst="wedgeRoundRectCallout">
            <a:avLst>
              <a:gd name="adj1" fmla="val 36782"/>
              <a:gd name="adj2" fmla="val -11286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直接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380360" y="5013360"/>
            <a:ext cx="1081080" cy="431640"/>
          </a:xfrm>
          <a:prstGeom prst="wedgeRoundRectCallout">
            <a:avLst>
              <a:gd name="adj1" fmla="val -58370"/>
              <a:gd name="adj2" fmla="val -1974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-181080" y="1413000"/>
            <a:ext cx="1081080" cy="431640"/>
          </a:xfrm>
          <a:prstGeom prst="wedgeRoundRectCallout">
            <a:avLst>
              <a:gd name="adj1" fmla="val 17986"/>
              <a:gd name="adj2" fmla="val -144486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下诏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700360" y="189000"/>
            <a:ext cx="2050920" cy="360360"/>
          </a:xfrm>
          <a:prstGeom prst="wedgeRoundRectCallout">
            <a:avLst>
              <a:gd name="adj1" fmla="val -134828"/>
              <a:gd name="adj2" fmla="val 152643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暂时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859280" y="2637000"/>
            <a:ext cx="2954520" cy="360360"/>
          </a:xfrm>
          <a:prstGeom prst="wedgeRoundRectCallout">
            <a:avLst>
              <a:gd name="adj1" fmla="val 56879"/>
              <a:gd name="adj2" fmla="val -242069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成语：妇孺皆知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2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9" dur="2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4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4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9" dur="2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4" dur="2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包拯被朝廷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召令暂时代理开封府尹，升为右司郎中。包拯在朝廷为人刚强坚毅，贵戚宦官因此而大为收敛，听说的人都很害怕他。人们把包拯笑比做黄河水清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一样极难发生的事情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。小孩和妇女，也知道他的名声，叫他“包待制”。京城里的人因此说：“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暗中行贿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疏不通关系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的人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，有阎罗王和包老头。”按旧规矩，凡是诉讼都不能直接到官署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递交状子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。包拯打开官署正门，使告状的人能够到跟前陈述是非，办事小吏因此不敢欺瞒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900000" y="692280"/>
            <a:ext cx="66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ffff"/>
                </a:solidFill>
                <a:latin typeface="Arial"/>
              </a:rPr>
              <a:t>27 </a:t>
            </a:r>
            <a:r>
              <a:rPr b="1" lang="zh-CN" sz="6000" spc="-1" strike="noStrike">
                <a:solidFill>
                  <a:srgbClr val="00ffff"/>
                </a:solidFill>
                <a:latin typeface="Arial"/>
              </a:rPr>
              <a:t>．</a:t>
            </a:r>
            <a:r>
              <a:rPr b="1" lang="zh-CN" sz="8000" spc="-1" strike="noStrike">
                <a:solidFill>
                  <a:srgbClr val="00ffff"/>
                </a:solidFill>
                <a:latin typeface="Arial"/>
              </a:rPr>
              <a:t>包  拯</a:t>
            </a:r>
            <a:endParaRPr b="0" lang="en-US" sz="8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2"/>
          <a:stretch/>
        </p:blipFill>
        <p:spPr>
          <a:xfrm>
            <a:off x="0" y="2610000"/>
            <a:ext cx="4716360" cy="424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325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30000"/>
              </a:lnSpc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拯性峭直，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恶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吏苛刻，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务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敦厚，虽甚嫉恶，而未尝不推以忠恕也。与人不苟合，不伪辞色悦人，平居无私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书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，故人、亲党皆绝之。虽贵，衣服、器用、饮食如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布衣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时。尝曰：“后世子孙仕宦，有犯赃者，不得放归本家，死不得葬大茔中。不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从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吾志，非吾子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若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孙也。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468360" y="1341360"/>
            <a:ext cx="2160720" cy="432000"/>
          </a:xfrm>
          <a:prstGeom prst="wedgeRoundRectCallout">
            <a:avLst>
              <a:gd name="adj1" fmla="val 39935"/>
              <a:gd name="adj2" fmla="val -159189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憎恶，讨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635280" y="1413000"/>
            <a:ext cx="1081080" cy="431640"/>
          </a:xfrm>
          <a:prstGeom prst="wedgeRoundRectCallout">
            <a:avLst>
              <a:gd name="adj1" fmla="val 48680"/>
              <a:gd name="adj2" fmla="val -15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追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187280" y="5734080"/>
            <a:ext cx="1081080" cy="431640"/>
          </a:xfrm>
          <a:prstGeom prst="wedgeRoundRectCallout">
            <a:avLst>
              <a:gd name="adj1" fmla="val 140013"/>
              <a:gd name="adj2" fmla="val 58453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885080" y="6426360"/>
            <a:ext cx="1081080" cy="431640"/>
          </a:xfrm>
          <a:prstGeom prst="wedgeRoundRectCallout">
            <a:avLst>
              <a:gd name="adj1" fmla="val 42217"/>
              <a:gd name="adj2" fmla="val -294486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听从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1258920" y="3429000"/>
            <a:ext cx="1081080" cy="431640"/>
          </a:xfrm>
          <a:prstGeom prst="wedgeRoundRectCallout">
            <a:avLst>
              <a:gd name="adj1" fmla="val 48680"/>
              <a:gd name="adj2" fmla="val -15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信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3419640" y="3357720"/>
            <a:ext cx="1081080" cy="431640"/>
          </a:xfrm>
          <a:prstGeom prst="wedgeRoundRectCallout">
            <a:avLst>
              <a:gd name="adj1" fmla="val 264537"/>
              <a:gd name="adj2" fmla="val -94851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虽然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2268360" y="4653000"/>
            <a:ext cx="1081440" cy="431640"/>
          </a:xfrm>
          <a:prstGeom prst="wedgeRoundRectCallout">
            <a:avLst>
              <a:gd name="adj1" fmla="val 48680"/>
              <a:gd name="adj2" fmla="val -15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平名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1" dur="2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6" dur="2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2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1" dur="2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6" dur="2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1" dur="2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包拯性情严峻刚直，憎恶办事小吏苛杂刻薄，务求忠诚厚道，虽然非常憎恨厌恶，但从来没有不施行忠恕之道的。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他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跟人交往不随意附和，不以巧言令色取悦人，平常没有私人信件，连朋友、亲戚也断绝往来。虽然地位高贵，但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穿的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衣服、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用的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器物、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吃的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饮食跟当百姓时一样。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他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曾经说：“后代子孙当官从政，假若贪赃枉法，不得放回老家，死了不得葬入家族墓地。假若不听从我的意志，就不是我的子孙。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286760"/>
          </a:xfrm>
          <a:prstGeom prst="rect">
            <a:avLst/>
          </a:prstGeom>
          <a:ln w="0">
            <a:noFill/>
          </a:ln>
        </p:spPr>
      </p:pic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01680" y="345960"/>
            <a:ext cx="85406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琥珀"/>
                <a:ea typeface="华文琥珀"/>
              </a:rPr>
              <a:t>阅读 第 </a:t>
            </a:r>
            <a:r>
              <a:rPr b="0" lang="zh-CN" sz="5400" spc="-1" strike="noStrike">
                <a:solidFill>
                  <a:srgbClr val="ffffff"/>
                </a:solidFill>
                <a:latin typeface="华文琥珀"/>
                <a:ea typeface="华文琥珀"/>
              </a:rPr>
              <a:t>4-5</a:t>
            </a:r>
            <a:r>
              <a:rPr b="0" lang="zh-CN" sz="5400" spc="-1" strike="noStrike">
                <a:solidFill>
                  <a:srgbClr val="ffffff"/>
                </a:solidFill>
                <a:latin typeface="华文琥珀"/>
                <a:ea typeface="华文琥珀"/>
              </a:rPr>
              <a:t>段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20560" y="1666440"/>
            <a:ext cx="82994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隶书"/>
              </a:rPr>
              <a:t>这两段分别写了什么内容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第四段：写人们对他的看法和评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第五段：写他</a:t>
            </a:r>
            <a:r>
              <a:rPr b="1" i="1" lang="zh-CN" sz="3600" spc="-1" strike="noStrike">
                <a:solidFill>
                  <a:srgbClr val="ff0066"/>
                </a:solidFill>
                <a:latin typeface="Arial"/>
              </a:rPr>
              <a:t>为官刚直不阿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，不巧言令色，对亲人朋友</a:t>
            </a:r>
            <a:r>
              <a:rPr b="1" i="1" lang="zh-CN" sz="3600" spc="-1" strike="noStrike">
                <a:solidFill>
                  <a:srgbClr val="ff0066"/>
                </a:solidFill>
                <a:latin typeface="Arial"/>
              </a:rPr>
              <a:t>不结党营私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，在生活上从不奢侈，</a:t>
            </a:r>
            <a:r>
              <a:rPr b="1" i="1" lang="zh-CN" sz="3600" spc="-1" strike="noStrike">
                <a:solidFill>
                  <a:srgbClr val="ff0066"/>
                </a:solidFill>
                <a:latin typeface="Arial"/>
              </a:rPr>
              <a:t>保持朴素之风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，最后写他对后世子孙的训诫。言语中肯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/>
          <p:cNvSpPr/>
          <p:nvPr/>
        </p:nvSpPr>
        <p:spPr>
          <a:xfrm>
            <a:off x="685800" y="91440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99"/>
                </a:solidFill>
                <a:latin typeface="Arial"/>
                <a:ea typeface="华文琥珀"/>
              </a:rPr>
              <a:t>二、品读感悟</a:t>
            </a:r>
            <a:endParaRPr b="0" lang="en-US" sz="5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143000" y="2743200"/>
            <a:ext cx="70866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99"/>
                </a:solidFill>
                <a:latin typeface="Arial"/>
                <a:ea typeface="华文行楷"/>
              </a:rPr>
              <a:t>     </a:t>
            </a:r>
            <a:r>
              <a:rPr b="0" lang="zh-CN" sz="5400" spc="-1" strike="noStrike">
                <a:solidFill>
                  <a:srgbClr val="006699"/>
                </a:solidFill>
                <a:latin typeface="华文行楷"/>
                <a:ea typeface="华文行楷"/>
              </a:rPr>
              <a:t>文章记叙了包拯的哪几件事？分别体现了包拯的什么品质</a:t>
            </a:r>
            <a:r>
              <a:rPr b="0" lang="zh-CN" sz="5400" spc="-1" strike="noStrike">
                <a:solidFill>
                  <a:srgbClr val="006699"/>
                </a:solidFill>
                <a:latin typeface="华文行楷"/>
                <a:ea typeface="华文行楷"/>
              </a:rPr>
              <a:t>?</a:t>
            </a:r>
            <a:endParaRPr b="0" lang="en-US" sz="5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874" name="" descr=""/>
          <p:cNvPicPr/>
          <p:nvPr/>
        </p:nvPicPr>
        <p:blipFill>
          <a:blip r:embed="rId1"/>
          <a:stretch/>
        </p:blipFill>
        <p:spPr>
          <a:xfrm>
            <a:off x="7236000" y="765000"/>
            <a:ext cx="190800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971640" y="304920"/>
            <a:ext cx="79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小结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: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文章写了包拯的哪几件事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?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分别体现了包拯的什么品质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?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11280" y="1773360"/>
            <a:ext cx="365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、智断割牛舌案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1403280" y="378936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3276720" y="38098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4572000" y="1773360"/>
            <a:ext cx="441972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机智、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为官清廉、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巧言善辩，不辱使命、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为官刚正、执法严峻、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克己奉公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457200" y="30481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、出使契丹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-533520" y="3809880"/>
            <a:ext cx="5321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251"/>
              </a:spcBef>
              <a:buClr>
                <a:srgbClr val="ffffcc"/>
              </a:buClr>
              <a:buFont typeface="Arial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、不畏权贵</a:t>
            </a: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体恤百姓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80880" y="55627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、家教严格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380880" y="2438280"/>
            <a:ext cx="366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、不持一砚归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884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12240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/>
          <p:nvPr/>
        </p:nvSpPr>
        <p:spPr>
          <a:xfrm flipH="1">
            <a:off x="7236000" y="1413000"/>
            <a:ext cx="142560" cy="3673440"/>
          </a:xfrm>
          <a:custGeom>
            <a:avLst/>
            <a:gdLst>
              <a:gd name="textAreaLeft" fmla="*/ 91080 w 142560"/>
              <a:gd name="textAreaRight" fmla="*/ 142920 w 1425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55640" y="1341360"/>
            <a:ext cx="43210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知天长县  断盗割牛舌案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任端州府  做官不持一砚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出使契丹  辩驳典客诘难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知开封府  除弊“阎罗包老”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平日为人 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5580000" y="1484280"/>
            <a:ext cx="216000" cy="1368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539640" y="1484280"/>
            <a:ext cx="216000" cy="3457440"/>
          </a:xfrm>
          <a:custGeom>
            <a:avLst/>
            <a:gdLst>
              <a:gd name="textAreaLeft" fmla="*/ 137880 w 216000"/>
              <a:gd name="textAreaRight" fmla="*/ 216360 w 216000"/>
              <a:gd name="textAreaTop" fmla="*/ 90000 h 3457440"/>
              <a:gd name="textAreaBottom" fmla="*/ 3367440 h 34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556000" y="4292640"/>
            <a:ext cx="144360" cy="863640"/>
          </a:xfrm>
          <a:custGeom>
            <a:avLst/>
            <a:gdLst>
              <a:gd name="textAreaLeft" fmla="*/ 92160 w 144360"/>
              <a:gd name="textAreaRight" fmla="*/ 144360 w 14436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012000" y="170028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正面描写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6084720" y="2997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侧面描写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5651640" y="4292640"/>
            <a:ext cx="71280" cy="863640"/>
          </a:xfrm>
          <a:custGeom>
            <a:avLst/>
            <a:gdLst>
              <a:gd name="textAreaLeft" fmla="*/ 45720 w 71280"/>
              <a:gd name="textAreaRight" fmla="*/ 71640 w 71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5796000" y="4365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正面描写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7308720" y="1268280"/>
            <a:ext cx="16192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机智聪明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公正廉洁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不辱使命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铁面无私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克己奉公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700360" y="4149720"/>
            <a:ext cx="237636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80808"/>
                </a:solidFill>
                <a:latin typeface="Arial"/>
                <a:ea typeface="楷体_GB2312"/>
              </a:rPr>
              <a:t>对人对己</a:t>
            </a: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80808"/>
                </a:solidFill>
                <a:latin typeface="Arial"/>
                <a:ea typeface="楷体_GB2312"/>
              </a:rPr>
              <a:t>对后世子孙</a:t>
            </a: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811040" y="1413000"/>
            <a:ext cx="99180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详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略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详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略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略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7" name="">
            <a:hlinkClick r:id="" action="ppaction://hlinkshowjump?jump=previousslide"/>
          </p:cNvPr>
          <p:cNvSpPr/>
          <p:nvPr/>
        </p:nvSpPr>
        <p:spPr>
          <a:xfrm>
            <a:off x="5796000" y="1557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8" name="">
            <a:hlinkClick r:id="" action="ppaction://hlinkshowjump?jump=previousslide"/>
          </p:cNvPr>
          <p:cNvSpPr/>
          <p:nvPr/>
        </p:nvSpPr>
        <p:spPr>
          <a:xfrm>
            <a:off x="5796000" y="2205000"/>
            <a:ext cx="217440" cy="216000"/>
          </a:xfrm>
          <a:custGeom>
            <a:avLst/>
            <a:gdLst>
              <a:gd name="textAreaLeft" fmla="*/ 13680 w 217440"/>
              <a:gd name="textAreaRight" fmla="*/ 203760 w 217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744" h="21600">
                <a:moveTo>
                  <a:pt x="0" y="0"/>
                </a:moveTo>
                <a:lnTo>
                  <a:pt x="21744" y="0"/>
                </a:lnTo>
                <a:lnTo>
                  <a:pt x="21744" y="21600"/>
                </a:lnTo>
                <a:lnTo>
                  <a:pt x="0" y="21600"/>
                </a:lnTo>
                <a:close/>
              </a:path>
              <a:path fill="lightenLess" w="21744" h="21600">
                <a:moveTo>
                  <a:pt x="0" y="0"/>
                </a:moveTo>
                <a:lnTo>
                  <a:pt x="21744" y="0"/>
                </a:lnTo>
                <a:lnTo>
                  <a:pt x="20344" y="1400"/>
                </a:lnTo>
                <a:lnTo>
                  <a:pt x="1400" y="1400"/>
                </a:lnTo>
                <a:close/>
              </a:path>
              <a:path fill="darken" w="21744" h="21600">
                <a:moveTo>
                  <a:pt x="21744" y="0"/>
                </a:moveTo>
                <a:lnTo>
                  <a:pt x="21744" y="21600"/>
                </a:lnTo>
                <a:lnTo>
                  <a:pt x="20344" y="20200"/>
                </a:lnTo>
                <a:lnTo>
                  <a:pt x="20344" y="1400"/>
                </a:lnTo>
                <a:close/>
              </a:path>
              <a:path fill="darkenLess" w="21744" h="21600">
                <a:moveTo>
                  <a:pt x="21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44" y="20200"/>
                </a:lnTo>
                <a:close/>
              </a:path>
              <a:path fill="lighten" w="21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9" name="">
            <a:hlinkClick r:id="" action="ppaction://hlinkshowjump?jump=previousslide"/>
          </p:cNvPr>
          <p:cNvSpPr/>
          <p:nvPr/>
        </p:nvSpPr>
        <p:spPr>
          <a:xfrm>
            <a:off x="5796000" y="2781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0" name="">
            <a:hlinkClick r:id="" action="ppaction://hlinkshowjump?jump=previousslide"/>
          </p:cNvPr>
          <p:cNvSpPr/>
          <p:nvPr/>
        </p:nvSpPr>
        <p:spPr>
          <a:xfrm>
            <a:off x="5796000" y="342900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1" name="">
            <a:hlinkClick r:id="" action="ppaction://hlinkshowjump?jump=previousslide"/>
          </p:cNvPr>
          <p:cNvSpPr/>
          <p:nvPr/>
        </p:nvSpPr>
        <p:spPr>
          <a:xfrm>
            <a:off x="5796000" y="436572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500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8" dur="500"/>
                                        <p:tgtEl>
                                          <p:spTgt spid="8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3" dur="500"/>
                                        <p:tgtEl>
                                          <p:spTgt spid="8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6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/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4" dur="500"/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7" dur="500"/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8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3" dur="500"/>
                                        <p:tgtEl>
                                          <p:spTgt spid="8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8" dur="500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1" dur="500"/>
                                        <p:tgtEl>
                                          <p:spTgt spid="8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4" dur="500"/>
                                        <p:tgtEl>
                                          <p:spTgt spid="8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7" dur="500"/>
                                        <p:tgtEl>
                                          <p:spTgt spid="8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0" dur="500"/>
                                        <p:tgtEl>
                                          <p:spTgt spid="8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5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8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1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/>
          <p:nvPr/>
        </p:nvSpPr>
        <p:spPr>
          <a:xfrm>
            <a:off x="395280" y="3213000"/>
            <a:ext cx="806616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236fa"/>
                </a:solidFill>
                <a:latin typeface="Arial"/>
              </a:rPr>
              <a:t>要求</a:t>
            </a:r>
            <a:r>
              <a:rPr b="0" lang="zh-CN" sz="4000" spc="-1" strike="noStrike">
                <a:solidFill>
                  <a:srgbClr val="5236fa"/>
                </a:solidFill>
                <a:latin typeface="Arial"/>
              </a:rPr>
              <a:t>:1</a:t>
            </a:r>
            <a:r>
              <a:rPr b="0" lang="zh-CN" sz="4000" spc="-1" strike="noStrike">
                <a:solidFill>
                  <a:srgbClr val="5236fa"/>
                </a:solidFill>
                <a:latin typeface="Arial"/>
              </a:rPr>
              <a:t>、语言符合人物的身份</a:t>
            </a:r>
            <a:r>
              <a:rPr b="0" lang="zh-CN" sz="4000" spc="-1" strike="noStrike">
                <a:solidFill>
                  <a:srgbClr val="5236fa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236fa"/>
                </a:solidFill>
                <a:latin typeface="Arial"/>
              </a:rPr>
              <a:t>          </a:t>
            </a:r>
            <a:r>
              <a:rPr b="0" lang="zh-CN" sz="4000" spc="-1" strike="noStrike">
                <a:solidFill>
                  <a:srgbClr val="5236fa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5236fa"/>
                </a:solidFill>
                <a:latin typeface="Arial"/>
              </a:rPr>
              <a:t>、动作神态体现人物的特点 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236fa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2124000" y="765000"/>
            <a:ext cx="4680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课本剧表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04" name="" descr=""/>
          <p:cNvPicPr/>
          <p:nvPr/>
        </p:nvPicPr>
        <p:blipFill>
          <a:blip r:embed="rId2"/>
          <a:stretch/>
        </p:blipFill>
        <p:spPr>
          <a:xfrm>
            <a:off x="6300720" y="5229360"/>
            <a:ext cx="936720" cy="1296720"/>
          </a:xfrm>
          <a:prstGeom prst="rect">
            <a:avLst/>
          </a:prstGeom>
          <a:ln w="0">
            <a:noFill/>
          </a:ln>
        </p:spPr>
      </p:pic>
      <p:pic>
        <p:nvPicPr>
          <p:cNvPr id="905" name="" descr=""/>
          <p:cNvPicPr/>
          <p:nvPr/>
        </p:nvPicPr>
        <p:blipFill>
          <a:blip r:embed="rId3"/>
          <a:stretch/>
        </p:blipFill>
        <p:spPr>
          <a:xfrm>
            <a:off x="395280" y="765000"/>
            <a:ext cx="1512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0" y="1676520"/>
            <a:ext cx="883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6699"/>
                </a:solidFill>
                <a:latin typeface="华文行楷"/>
                <a:ea typeface="华文行楷"/>
              </a:rPr>
              <a:t>      </a:t>
            </a:r>
            <a:r>
              <a:rPr b="0" lang="zh-CN" sz="6600" spc="-1" strike="noStrike">
                <a:solidFill>
                  <a:srgbClr val="006699"/>
                </a:solidFill>
                <a:latin typeface="华文行楷"/>
                <a:ea typeface="华文行楷"/>
              </a:rPr>
              <a:t>作者 怎样塑造包拯这个人物形象的？</a:t>
            </a:r>
            <a:endParaRPr b="0" lang="en-US" sz="6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0" y="3733920"/>
            <a:ext cx="4038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正面描写：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侧面描写：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3352680" y="3733920"/>
            <a:ext cx="40388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（ 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5 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657600" y="45720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（ 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4 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533520" y="380880"/>
            <a:ext cx="30319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b2b2b2">
                    <a:alpha val="84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二、问题探究</a:t>
            </a:r>
            <a:endParaRPr b="0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b2b2b2">
                  <a:alpha val="84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11" name=""/>
          <p:cNvSpPr/>
          <p:nvPr/>
        </p:nvSpPr>
        <p:spPr>
          <a:xfrm>
            <a:off x="609480" y="5334120"/>
            <a:ext cx="289584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概括描写：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具体描写：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505320" y="5410080"/>
            <a:ext cx="41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（ 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、 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4 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5 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971800" y="62164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（ 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914" name="" descr=""/>
          <p:cNvPicPr/>
          <p:nvPr/>
        </p:nvPicPr>
        <p:blipFill>
          <a:blip r:embed="rId1"/>
          <a:stretch/>
        </p:blipFill>
        <p:spPr>
          <a:xfrm>
            <a:off x="8317080" y="620640"/>
            <a:ext cx="4759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/>
          </p:nvPr>
        </p:nvSpPr>
        <p:spPr>
          <a:xfrm>
            <a:off x="-305280" y="404640"/>
            <a:ext cx="9448920" cy="691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黑体"/>
              </a:rPr>
              <a:t>纵观全文，看一看作者在结构安排和表现方法上有什么特点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隶书"/>
              </a:rPr>
              <a:t>结构：全文共五段，每段重点写人物的一个性格特点，有详有略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隶书"/>
              </a:rPr>
              <a:t>概括描写：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（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、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4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5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隶书"/>
              </a:rPr>
              <a:t>具体描写     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（ 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3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隶书"/>
              </a:rPr>
              <a:t>表现方法：从不同的角度刻画人物鲜明性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隶书"/>
              </a:rPr>
              <a:t>正面描写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隶书"/>
              </a:rPr>
              <a:t>侧面描写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ahoma"/>
                <a:ea typeface="方正舒体"/>
              </a:rPr>
              <a:t>          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方正舒体"/>
              </a:rPr>
              <a:t>相互配合，富于变化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"/>
          <p:cNvSpPr/>
          <p:nvPr/>
        </p:nvSpPr>
        <p:spPr>
          <a:xfrm>
            <a:off x="3490920" y="3040200"/>
            <a:ext cx="10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590920" y="502920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5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2971800" y="556272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897" fill="hold"/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897" fill="hold"/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9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9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897" fill="hold"/>
                                        <p:tgtEl>
                                          <p:spTgt spid="9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9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9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897" fill="hold"/>
                                        <p:tgtEl>
                                          <p:spTgt spid="9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9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9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897" fill="hold"/>
                                        <p:tgtEl>
                                          <p:spTgt spid="9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9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9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897" fill="hold"/>
                                        <p:tgtEl>
                                          <p:spTgt spid="9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9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9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897" fill="hold"/>
                                        <p:tgtEl>
                                          <p:spTgt spid="9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/>
          </p:nvPr>
        </p:nvSpPr>
        <p:spPr>
          <a:xfrm>
            <a:off x="468000" y="907920"/>
            <a:ext cx="8280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隶书"/>
              </a:rPr>
              <a:t>说说下列语句表现了人物的哪种性格特征或优秀品质？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（</a:t>
            </a:r>
            <a:r>
              <a:rPr b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1</a:t>
            </a:r>
            <a:r>
              <a:rPr b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）拯命制者才足贡数，岁满不持一砚归。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（</a:t>
            </a:r>
            <a:r>
              <a:rPr b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2</a:t>
            </a:r>
            <a:r>
              <a:rPr b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）京师为之语曰：“关节不到，有阎罗包老”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（</a:t>
            </a:r>
            <a:r>
              <a:rPr b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3</a:t>
            </a:r>
            <a:r>
              <a:rPr b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）虽贵，衣服、器用、饮食如布衣时。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348000" y="314172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为官廉洁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4067280" y="4365720"/>
            <a:ext cx="388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为官刚正，执法严峻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700360" y="5805360"/>
            <a:ext cx="32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克己奉公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352680" y="228600"/>
            <a:ext cx="2667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随堂练习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684360" y="1557360"/>
            <a:ext cx="806436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200" spc="-1" strike="noStrike">
                <a:solidFill>
                  <a:srgbClr val="006699"/>
                </a:solidFill>
                <a:latin typeface="Arial"/>
                <a:ea typeface="华文隶书"/>
              </a:rPr>
              <a:t>        </a:t>
            </a:r>
            <a:r>
              <a:rPr b="1" lang="zh-CN" sz="6600" spc="-1" strike="noStrike">
                <a:solidFill>
                  <a:srgbClr val="00cc00"/>
                </a:solidFill>
                <a:latin typeface="宋体"/>
              </a:rPr>
              <a:t>廉者，民之表也；贪者，民之贼也。</a:t>
            </a:r>
            <a:endParaRPr b="0" lang="en-US" sz="6600" spc="-1" strike="noStrike">
              <a:solidFill>
                <a:srgbClr val="006699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200" spc="-1" strike="noStrike">
                <a:solidFill>
                  <a:srgbClr val="00cc00"/>
                </a:solidFill>
                <a:latin typeface="宋体"/>
              </a:rPr>
              <a:t>                     </a:t>
            </a:r>
            <a:r>
              <a:rPr b="1" lang="zh-CN" sz="5000" spc="-1" strike="noStrike">
                <a:solidFill>
                  <a:srgbClr val="00cc00"/>
                </a:solidFill>
                <a:latin typeface="宋体"/>
              </a:rPr>
              <a:t>——</a:t>
            </a:r>
            <a:r>
              <a:rPr b="1" lang="zh-CN" sz="5000" spc="-1" strike="noStrike">
                <a:solidFill>
                  <a:srgbClr val="00cc00"/>
                </a:solidFill>
                <a:latin typeface="宋体"/>
              </a:rPr>
              <a:t>包拯</a:t>
            </a:r>
            <a:endParaRPr b="0" lang="en-US" sz="5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179280" y="2421000"/>
            <a:ext cx="865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00"/>
                </a:solidFill>
                <a:latin typeface="Arial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包拯作为历史上有名的清官，他能做到别人所不能，为什么包拯会这样做？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2700360" y="228600"/>
            <a:ext cx="484344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b2b2b2">
                    <a:alpha val="84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三、合作探究，深化理解</a:t>
            </a:r>
            <a:endParaRPr b="0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b2b2b2">
                  <a:alpha val="84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26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1224000" cy="1368360"/>
          </a:xfrm>
          <a:prstGeom prst="rect">
            <a:avLst/>
          </a:prstGeom>
          <a:ln w="0">
            <a:noFill/>
          </a:ln>
        </p:spPr>
      </p:pic>
      <p:pic>
        <p:nvPicPr>
          <p:cNvPr id="927" name="" descr=""/>
          <p:cNvPicPr/>
          <p:nvPr/>
        </p:nvPicPr>
        <p:blipFill>
          <a:blip r:embed="rId3"/>
          <a:stretch/>
        </p:blipFill>
        <p:spPr>
          <a:xfrm>
            <a:off x="7308720" y="4437000"/>
            <a:ext cx="76212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/>
          </p:nvPr>
        </p:nvSpPr>
        <p:spPr>
          <a:xfrm>
            <a:off x="380880" y="1700280"/>
            <a:ext cx="876312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还知道古今中外有哪些清官</a:t>
            </a:r>
            <a:r>
              <a:rPr b="0" lang="zh-CN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r>
              <a:rPr b="0" lang="zh-CN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说说他们的事迹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228600" y="0"/>
            <a:ext cx="32004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b2b2b2">
                    <a:alpha val="84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四、语文活动</a:t>
            </a:r>
            <a:endParaRPr b="0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b2b2b2">
                  <a:alpha val="84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pull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 txBox="1"/>
          <p:nvPr/>
        </p:nvSpPr>
        <p:spPr>
          <a:xfrm>
            <a:off x="990720" y="533520"/>
            <a:ext cx="685800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历史上的清官</a:t>
            </a:r>
            <a:endParaRPr b="0" lang="en-US" sz="6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31" name=""/>
          <p:cNvSpPr/>
          <p:nvPr/>
        </p:nvSpPr>
        <p:spPr>
          <a:xfrm>
            <a:off x="755640" y="4581360"/>
            <a:ext cx="35053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海瑞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971800" y="4648320"/>
            <a:ext cx="28954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于成龙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6248520" y="4648320"/>
            <a:ext cx="28954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耶律楚材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5" name=""/>
          <p:cNvSpPr/>
          <p:nvPr/>
        </p:nvSpPr>
        <p:spPr>
          <a:xfrm>
            <a:off x="826920" y="0"/>
            <a:ext cx="756144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明朝时候的海瑞是中国历史上有名的清官。他铁面无私，明察秋毫，人称“海青天”。一天，他带着几个衙役微服出巡，在街上看见一群人慌慌张张地走过来，两个身强力壮的小伙子用一块木板抬着一个人，身上盖着被子，插着珠钗的头露在被子外面。另几个男人在旁边跟着，不时有人去掖掖被子。走了一会儿，他们在路旁休息一会儿，再换两个人抬着木板走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海瑞觉得蹊跷，便上去攀谈，得知是这家的妹妹身染恶疾，特地找来几个同村的小伙子抬她去外地看医生的。海瑞派一个衙役暗中跟踪，看到这群人来到一个村子最西头的房屋前，两个人把他们接了过去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海瑞回府后迅速派人去将那伙人抓了起来，从那间屋里搜出了大量金银财宝，后来经审讯得知他们是一伙强盗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7" name=""/>
          <p:cNvSpPr/>
          <p:nvPr/>
        </p:nvSpPr>
        <p:spPr>
          <a:xfrm>
            <a:off x="826920" y="54936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于成龙，字北溟，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1617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年生于我县下昔乡来堡村。清顺治十八年（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1661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），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45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岁的于成龙以副榜贡生出任广西罗城县令，后迁任知州、知府、巡抚、两江总督等职。在二十多年的宦海生涯中，他关心百姓疾苦，敢于为民请命，生活清苦，廉政勤政，深受百姓爱戴和康熙皇帝赞誉，三次被举“卓异”，成为清初廉政官员的典范。康熙二十三（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1684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），于成龙在两江总督任上病逝，江南民众“巷哭罢市，绘像祀之”。康熙亲撰碑文，称他为“天下廉吏第一”。作为封建官吏，于成龙的思想道德、人生信条固然有着历史的局限性，但他清正廉明、关怀民众的事迹，到今天仍有着重要的借鉴和教育意义。</a:t>
            </a:r>
            <a:br>
              <a:rPr sz="2800"/>
            </a:b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9" name=""/>
          <p:cNvSpPr/>
          <p:nvPr/>
        </p:nvSpPr>
        <p:spPr>
          <a:xfrm>
            <a:off x="826920" y="0"/>
            <a:ext cx="756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684360" y="339840"/>
            <a:ext cx="72738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耶律楚材是历史上有名的清官。成吉思汗攻打西夏时，将领们纷纷抢夺金玉财宝，他却收集、保存了许多文集和大量的药材。后来军中疫病流行，这些药材救活了好几万人。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1227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年，他奉命到燕京整顿秩序。当时京畿之内，许多权势人家的子弟，一到黄昏便驾着牛车出来结伙抢劫，行凶杀人。耶律楚材不畏强暴，不为利害所动，秉公而断，公开斩了十六名这类罪犯，为社会除了大害。他病死后，有人诬陷他藏有私囊，检查以后，发现除了琴阮书画金石遗文之外，别无所有，足见他的清廉。</a:t>
            </a:r>
            <a:br>
              <a:rPr sz="2400"/>
            </a:b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826920" y="3860640"/>
            <a:ext cx="55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如果你做了官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你会做个什么样的官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900000" y="1628640"/>
            <a:ext cx="47516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2232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假如我做了官……</a:t>
            </a:r>
            <a:endParaRPr b="0" i="1" lang="en-US" sz="1800" spc="1" strike="noStrike">
              <a:ln w="2232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/>
          </p:nvPr>
        </p:nvSpPr>
        <p:spPr>
          <a:xfrm>
            <a:off x="324000" y="2421000"/>
            <a:ext cx="834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　　　　　　　　　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为题写一篇小作文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要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1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充分发挥想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详略得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层次分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字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2627280" y="549360"/>
            <a:ext cx="3745080" cy="10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8892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作　业</a:t>
            </a:r>
            <a:endParaRPr b="0" lang="en-US" sz="1800" spc="1" strike="noStrike">
              <a:ln w="8892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1042920" y="2492280"/>
            <a:ext cx="3392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假如我当了官……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800" spc="-1" strike="noStrike">
                <a:solidFill>
                  <a:srgbClr val="ff0000"/>
                </a:solidFill>
                <a:latin typeface="Arial"/>
                <a:ea typeface="华文琥珀"/>
              </a:rPr>
              <a:t>包拯知多少？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042920" y="2781360"/>
            <a:ext cx="777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042920" y="1413000"/>
            <a:ext cx="6408720" cy="61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开封有个包青天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铁面无私辨忠奸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江湖豪杰来相助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王朝和马汉在身边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钻天鼠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身轻如燕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彻地鼠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是条好汉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穿山鼠铁臂神拳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翻江鼠身手不凡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锦毛鼠一身是胆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这五鼠义结金兰侠和五义</a:t>
            </a:r>
            <a:br>
              <a:rPr sz="2800"/>
            </a:b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留传在民间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80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evt="onClick">
                    <p:tgtEl>
                      <p:spTgt spid="805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805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85891" fill="hold"/>
                                        <p:tgtEl>
                                          <p:spTgt spid="8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6" name="" descr=""/>
          <p:cNvPicPr/>
          <p:nvPr/>
        </p:nvPicPr>
        <p:blipFill>
          <a:blip r:embed="rId1"/>
          <a:stretch/>
        </p:blipFill>
        <p:spPr>
          <a:xfrm>
            <a:off x="3132000" y="1628640"/>
            <a:ext cx="3183120" cy="3961080"/>
          </a:xfrm>
          <a:prstGeom prst="rect">
            <a:avLst/>
          </a:prstGeom>
          <a:ln w="0">
            <a:noFill/>
          </a:ln>
        </p:spPr>
      </p:pic>
      <p:pic>
        <p:nvPicPr>
          <p:cNvPr id="807" name="" descr=""/>
          <p:cNvPicPr/>
          <p:nvPr/>
        </p:nvPicPr>
        <p:blipFill>
          <a:blip r:embed="rId2"/>
          <a:stretch/>
        </p:blipFill>
        <p:spPr>
          <a:xfrm>
            <a:off x="-252360" y="2997360"/>
            <a:ext cx="3200400" cy="3860640"/>
          </a:xfrm>
          <a:prstGeom prst="rect">
            <a:avLst/>
          </a:prstGeom>
          <a:ln w="0">
            <a:noFill/>
          </a:ln>
        </p:spPr>
      </p:pic>
      <p:sp>
        <p:nvSpPr>
          <p:cNvPr id="808" name=""/>
          <p:cNvSpPr/>
          <p:nvPr/>
        </p:nvSpPr>
        <p:spPr>
          <a:xfrm>
            <a:off x="395280" y="44280"/>
            <a:ext cx="2376360" cy="336600"/>
          </a:xfrm>
          <a:prstGeom prst="rect">
            <a:avLst/>
          </a:prstGeom>
          <a:solidFill>
            <a:srgbClr val="ccffcc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809" name="" descr=""/>
          <p:cNvPicPr/>
          <p:nvPr/>
        </p:nvPicPr>
        <p:blipFill>
          <a:blip r:embed="rId3"/>
          <a:stretch/>
        </p:blipFill>
        <p:spPr>
          <a:xfrm>
            <a:off x="-757080" y="0"/>
            <a:ext cx="9685080" cy="3436920"/>
          </a:xfrm>
          <a:prstGeom prst="rect">
            <a:avLst/>
          </a:prstGeom>
          <a:ln w="0">
            <a:noFill/>
          </a:ln>
        </p:spPr>
      </p:pic>
      <p:pic>
        <p:nvPicPr>
          <p:cNvPr id="810" name="" descr=""/>
          <p:cNvPicPr/>
          <p:nvPr/>
        </p:nvPicPr>
        <p:blipFill>
          <a:blip r:embed="rId4"/>
          <a:stretch/>
        </p:blipFill>
        <p:spPr>
          <a:xfrm>
            <a:off x="3780000" y="3537000"/>
            <a:ext cx="4427280" cy="3321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evt="end">
                                        <p:tn val="26"/>
                                      </p:cond>
                                    </p:stCondLst>
                                  </p:cTn>
                                  <p:tgtEl>
                                    <p:spTgt spid="8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" dur="3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2" presetSubtype="6" repeatCount="indefinite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000"/>
                            </p:stCondLst>
                            <p:childTnLst>
                              <p:par>
                                <p:cTn id="44" nodeType="afterEffect" fill="hold" presetClass="entr" presetID="3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3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0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4650"/>
                            </p:stCondLst>
                            <p:childTnLst>
                              <p:par>
                                <p:cTn id="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150"/>
                            </p:stCondLst>
                            <p:childTnLst>
                              <p:par>
                                <p:cTn id="55" nodeType="afterEffect" fill="hold" presetClass="entr" presetID="31" repeatCount="indefinite">
                                  <p:stCondLst>
                                    <p:cond delay="1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1150"/>
                            </p:stCondLst>
                            <p:childTnLst>
                              <p:par>
                                <p:cTn id="62" nodeType="afterEffect" fill="hold" presetClass="entr" presetID="17" presetSubtype="1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evt="end">
                                        <p:tn val="62"/>
                                      </p:cond>
                                    </p:stCondLst>
                                  </p:cTn>
                                  <p:tgtEl>
                                    <p:spTgt spid="8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0" y="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包拯（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999-1062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）自希仁，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庐州合肥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人（安徽合肥），北宋天圣五年（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1027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）进士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        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中进士后，因父母年事已高，不忍远去为官，直到双亲相继去世，守孝完毕，才在亲友的劝说下为官，期间长达十年之久，故以孝闻于乡里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201924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嘉佑元年（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1056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）年十二月，朝廷任包拯权知开封府，他于次年三月正式上任，至三年六月离任，前后只有一年有余。但在这短短的时间内，把号称难治的开封府，治理得井井有条。敢于惩治权贵们的不法行为，坚决抑制开封府吏的骄横之势，并能够及时惩办诬赖刁民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        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由于包拯在开封府执法严明，铁面无私，敢于碰硬，贵戚宦官也不得不有所收敛，听到包拯的名字就感到害怕。儿童妇孺们都知道包拯之名，亲切称呼他为「包待制」。开封府广泛流传着这样的话「关节不到，有阎罗包老。」用阎罗比喻包拯的铁面无私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        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宋嘉佑六年（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1061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），他官至枢密副使，次年五月病逝，「京师吏民，莫不感伤，叹息之声，大街小巷都可听得到。」</a:t>
            </a: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朝廷赠官吏部上书，有「奏仪」十五卷传于世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cc00"/>
                </a:solidFill>
                <a:latin typeface="Arial"/>
                <a:ea typeface="华文隶书"/>
              </a:rPr>
              <a:t>生字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-360" y="981000"/>
            <a:ext cx="24368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惮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356000" y="907920"/>
            <a:ext cx="2521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稚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讼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恶吏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嫉恶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苟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赃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茔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124000" y="1052640"/>
            <a:ext cx="2232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y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ù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ǐ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y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à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w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è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i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zhu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ō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hu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à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à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7308720" y="981000"/>
            <a:ext cx="208764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zh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ì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s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ò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ng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w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ù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è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g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ǒ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u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z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ā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ng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y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í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ng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8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8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8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8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684360" y="0"/>
            <a:ext cx="6912000" cy="718560"/>
          </a:xfrm>
          <a:prstGeom prst="rect">
            <a:avLst/>
          </a:prstGeom>
          <a:solidFill>
            <a:srgbClr val="7499d0">
              <a:alpha val="5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    </a:t>
            </a:r>
            <a:r>
              <a:rPr b="1" lang="zh-CN" sz="41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“</a:t>
            </a:r>
            <a:r>
              <a:rPr b="1" lang="zh-CN" sz="41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传”：是正史的重要组成部分。主要叙述传主的生卒、地望、官职、生平事迹内容。</a:t>
            </a:r>
            <a:endParaRPr b="0" lang="en-US" sz="41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340000" y="4221000"/>
            <a:ext cx="58323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cc00"/>
                </a:solidFill>
                <a:latin typeface="Arial"/>
                <a:ea typeface="楷体_GB2312"/>
              </a:rPr>
              <a:t>自传  ——自述生平</a:t>
            </a:r>
            <a:endParaRPr b="0" lang="en-US" sz="3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cc00"/>
                </a:solidFill>
                <a:latin typeface="Arial"/>
                <a:ea typeface="楷体_GB2312"/>
              </a:rPr>
              <a:t>传、评传  ——由别人撰写</a:t>
            </a:r>
            <a:endParaRPr b="0" lang="en-US" sz="3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411280" y="4365720"/>
            <a:ext cx="144720" cy="595080"/>
          </a:xfrm>
          <a:custGeom>
            <a:avLst/>
            <a:gdLst>
              <a:gd name="textAreaLeft" fmla="*/ 92520 w 144720"/>
              <a:gd name="textAreaRight" fmla="*/ 145080 w 144720"/>
              <a:gd name="textAreaTop" fmla="*/ 15480 h 595080"/>
              <a:gd name="textAreaBottom" fmla="*/ 579600 h 59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631880" y="43657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cc00"/>
                </a:solidFill>
                <a:latin typeface="Arial"/>
                <a:ea typeface="楷体_GB2312"/>
              </a:rPr>
              <a:t>传记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330000"/>
              </a:lnSpc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包拯字希仁，庐州合肥人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也</a:t>
            </a: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。……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知</a:t>
            </a: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天长县。有盗割人牛舌者，主来诉。拯曰：“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第</a:t>
            </a: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归，杀而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鬻</a:t>
            </a: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之”。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寻</a:t>
            </a: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复有来告私杀牛者，拯曰：“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何为</a:t>
            </a: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割牛舌而又告之</a:t>
            </a: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?”</a:t>
            </a: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盗惊服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95280" y="1916280"/>
            <a:ext cx="3025800" cy="431640"/>
          </a:xfrm>
          <a:prstGeom prst="wedgeRoundRectCallout">
            <a:avLst>
              <a:gd name="adj1" fmla="val 106347"/>
              <a:gd name="adj2" fmla="val -202203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判断句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580000" y="1700280"/>
            <a:ext cx="1944720" cy="431640"/>
          </a:xfrm>
          <a:prstGeom prst="wedgeRoundRectCallout">
            <a:avLst>
              <a:gd name="adj1" fmla="val 12694"/>
              <a:gd name="adj2" fmla="val -165074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主持，掌管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076720" y="3716280"/>
            <a:ext cx="1800360" cy="432000"/>
          </a:xfrm>
          <a:prstGeom prst="wedgeRoundRectCallout">
            <a:avLst>
              <a:gd name="adj1" fmla="val 21074"/>
              <a:gd name="adj2" fmla="val -240074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但，只管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8062920" y="3716280"/>
            <a:ext cx="1081080" cy="432000"/>
          </a:xfrm>
          <a:prstGeom prst="wedgeRoundRectCallout">
            <a:avLst>
              <a:gd name="adj1" fmla="val 1541"/>
              <a:gd name="adj2" fmla="val -240074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卖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95280" y="5157720"/>
            <a:ext cx="1081080" cy="432000"/>
          </a:xfrm>
          <a:prstGeom prst="wedgeRoundRectCallout">
            <a:avLst>
              <a:gd name="adj1" fmla="val 48680"/>
              <a:gd name="adj2" fmla="val -20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不久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659640" y="6021360"/>
            <a:ext cx="1585800" cy="432000"/>
          </a:xfrm>
          <a:prstGeom prst="wedgeRoundRectCallout">
            <a:avLst>
              <a:gd name="adj1" fmla="val -15166"/>
              <a:gd name="adj2" fmla="val -407351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为什么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0T12:56:54Z</dcterms:created>
  <dc:creator>教师</dc:creator>
  <dc:description/>
  <dc:language>en-US</dc:language>
  <cp:lastModifiedBy>MC SYSTEM</cp:lastModifiedBy>
  <dcterms:modified xsi:type="dcterms:W3CDTF">2010-05-04T05:57:51Z</dcterms:modified>
  <cp:revision>81</cp:revision>
  <dc:subject/>
  <dc:title>幻灯片 1</dc:title>
</cp:coreProperties>
</file>