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20.gif" ContentType="image/gif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D24-6894-46DD-8ABD-773FC4F0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BB5-2752-4356-A2A7-F766877B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AAB-C9B8-4B71-A04C-0D59BF8B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4FA6-E5F8-4806-B8FA-4C34A4CE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ACD3-4158-4F05-8811-C163286F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F046-81D5-41C8-8F28-7FB9FC57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EB7A-037E-4CFA-84A7-34B2432C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ECFB-C68E-44BB-B0BE-810BAC99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145B-AD7E-4952-A0E1-DA9A9413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A794-EFD1-4FE8-B9FD-3F99DC98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6F47-D5F4-4DE2-BD69-45238544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996-853D-4308-ADDF-B395DD91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86AF-100E-4FBF-A761-8FDDD3BA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11A1-6F6A-4023-B7B4-7A16F64D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617B-E36F-4C8C-8666-AA706E7B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6BEC-770B-42D8-B95F-E8B810C3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B54F-A302-45F3-B5C0-A697A2B9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189F3-2893-47AB-BB54-55CD391C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A73C9-12A4-4DAD-9EAD-926A6255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E60F3-B6A1-4164-80B9-75391201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FCBBA-A99A-4D48-8963-09130F9D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56C34-87E0-4E42-936B-09996097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6C3-3B46-4176-B67C-05F4FDD0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F362F-E7AE-4477-B350-0D461159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8ECE4-F4CB-4C64-8547-4B10569D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4625B-BC75-407E-9202-2702DF2C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2A718-9CDD-49CF-B5A4-539488AB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7FFE9-A3A3-4A4C-8B90-645764BC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C9C63-8EB9-4892-8AAF-BB6BA314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1DCD0-912E-480C-8763-EA568324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6531C-C593-414D-BD65-925D0626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4D15F-B0C5-4494-8483-6EA622E9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2CFB7-1B55-4A79-93C8-BA2672B4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6AE-F89F-4D51-B74B-5916CDA8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5D372-E104-4CAA-9188-9378EB64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4400D-BBA8-4233-B9D8-2BBDE8B9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B5D6E-FBC4-4338-A997-F4271C37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9195D-0B42-4B17-AB8F-EB93B14B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9F224-2248-496E-9EBC-2A1235D7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636EE-6F68-4C45-AE2A-C82CF927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E6CCF-D370-4AF9-9DBC-B456BD17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CAB99-BB7D-4E01-AF63-BF6DBC66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9252F-4DD3-4856-AC74-9510DE4F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69595-4717-4EAB-822E-8C3825F0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3C7-89D0-442C-9200-709BEA77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C97DB-41B6-42BD-8663-D90FF168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D43BC5-64CB-4654-93A2-4DE7CC9B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65F54-DA8F-4A78-90C4-2B924C00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5C5DB-9DF5-4A6E-8A73-E8850D1F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E6BED-2DCA-4986-A916-FA05C568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CC31D-17FB-4307-8623-5CFBD14A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24967-8A71-451B-9878-4AF23057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163CAE-BE27-4B0B-B89F-F732573E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D54C47-6646-43BC-9D70-FB37669F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872A4-0C8D-4304-A727-A7C189BD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5FE-F3B8-43BB-BCB5-AE9EE6B3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EC4DC4-EE8B-4EC2-9F85-AD5DCA00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14966-E162-4751-B984-8892CE36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15A88-7E7F-4C95-851C-C300747B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0321B-3C08-4876-8BE6-DF9CB476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D3EB1-5E18-4A44-BE75-C3DFEEDC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80BF8-7713-463C-A810-133E29F2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135FE-6E82-445D-A9C1-86EC7038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FF2EF-C33F-4EE8-B2A0-9DE28630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901DB-F272-4429-B349-8329E0E5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29B99-8890-425F-A89F-12899D27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815-1AB8-498B-86E9-725D8611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C6656-4A5E-4D63-982B-87B68086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99115-9E1D-4E0C-874D-51E46E90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33EC6-6EE1-41A4-998B-B47E10CA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23C06-6EF9-4E79-8885-CEE92693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EFB77-4B83-47BF-A464-A7A122E9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CC494-6B4D-463E-8C29-C0760C32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6208D-920C-4666-99A6-A2DDB5B2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821C1-3417-45F6-862E-EEC35C57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91EB2-2698-4C5E-87E4-37F2DDF5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DF09A-C300-4A90-8789-A99B1C6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A44-066D-4C88-9D87-031DFF46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2ABAA-C9AE-42A7-89F2-EE46D96D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C47C6-6CD4-4697-8739-955C574B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F96A2-1D15-4E7B-8E35-AD09C2DA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99E10-9955-47C0-8308-C10FDF7C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D452E-DAC4-4D28-ACBE-0F26670E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119-A108-4DD0-A83C-DAE0C76E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57ED-38E5-4C7E-B1C5-8A2F8FF70D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AC29-E096-4515-A2B2-B64B2F0527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A5C5-6DF3-48C2-93E9-F28F755107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6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B61F-5BC8-4068-8A5F-7282D80179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2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2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C19F-1C04-40A0-9944-A52FC51254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512F-6FE3-4AC2-B3BF-057F7E4B721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3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3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3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477F-A3FC-46D1-8C8B-FBB978D1CEC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 rot="275400">
            <a:off x="2031480" y="5730840"/>
            <a:ext cx="3976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执教：先进初中 方维国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85" name=""/>
          <p:cNvSpPr/>
          <p:nvPr/>
        </p:nvSpPr>
        <p:spPr>
          <a:xfrm>
            <a:off x="3132000" y="2637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周素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627280" y="981000"/>
            <a:ext cx="352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一次真好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883908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045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842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嗅出柚子的味道了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40360" y="620640"/>
            <a:ext cx="5003640" cy="5092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宋体"/>
              </a:rPr>
              <a:t>5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宋体"/>
              </a:rPr>
              <a:t>、你能嗅出语言的味道了吗？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）沉甸甸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Times New Roman"/>
                <a:ea typeface="宋体"/>
              </a:rPr>
              <a:t>垂吊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在枝头（能换成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挂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”吗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）秋日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Times New Roman"/>
                <a:ea typeface="宋体"/>
              </a:rPr>
              <a:t>风情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画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（能换成“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风景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”吗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84720" y="2060640"/>
            <a:ext cx="431640" cy="431640"/>
          </a:xfrm>
          <a:custGeom>
            <a:avLst/>
            <a:gdLst>
              <a:gd name="textAreaLeft" fmla="*/ 204120 w 431640"/>
              <a:gd name="textAreaRight" fmla="*/ 227520 w 431640"/>
              <a:gd name="textAreaTop" fmla="*/ 204120 h 431640"/>
              <a:gd name="textAreaBottom" fmla="*/ 2275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224" y="10224"/>
                </a:lnTo>
                <a:lnTo>
                  <a:pt x="10800" y="0"/>
                </a:lnTo>
                <a:lnTo>
                  <a:pt x="11376" y="10224"/>
                </a:lnTo>
                <a:lnTo>
                  <a:pt x="21600" y="10800"/>
                </a:lnTo>
                <a:lnTo>
                  <a:pt x="11376" y="11376"/>
                </a:lnTo>
                <a:lnTo>
                  <a:pt x="10800" y="21600"/>
                </a:lnTo>
                <a:lnTo>
                  <a:pt x="10224" y="11376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84720" y="5157720"/>
            <a:ext cx="504720" cy="360360"/>
          </a:xfrm>
          <a:custGeom>
            <a:avLst/>
            <a:gdLst>
              <a:gd name="textAreaLeft" fmla="*/ 178920 w 504720"/>
              <a:gd name="textAreaRight" fmla="*/ 325800 w 504720"/>
              <a:gd name="textAreaTop" fmla="*/ 127800 h 360360"/>
              <a:gd name="textAreaBottom" fmla="*/ 2325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59" y="7659"/>
                </a:lnTo>
                <a:lnTo>
                  <a:pt x="10800" y="0"/>
                </a:lnTo>
                <a:lnTo>
                  <a:pt x="13941" y="7659"/>
                </a:lnTo>
                <a:lnTo>
                  <a:pt x="21600" y="10800"/>
                </a:lnTo>
                <a:lnTo>
                  <a:pt x="13941" y="13941"/>
                </a:lnTo>
                <a:lnTo>
                  <a:pt x="10800" y="21600"/>
                </a:lnTo>
                <a:lnTo>
                  <a:pt x="7659" y="13941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3141720"/>
            <a:ext cx="504720" cy="647640"/>
          </a:xfrm>
          <a:custGeom>
            <a:avLst/>
            <a:gdLst>
              <a:gd name="textAreaLeft" fmla="*/ 207720 w 504720"/>
              <a:gd name="textAreaRight" fmla="*/ 297000 w 504720"/>
              <a:gd name="textAreaTop" fmla="*/ 266400 h 647640"/>
              <a:gd name="textAreaBottom" fmla="*/ 3812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88" y="8888"/>
                </a:lnTo>
                <a:lnTo>
                  <a:pt x="10800" y="0"/>
                </a:lnTo>
                <a:lnTo>
                  <a:pt x="12712" y="8888"/>
                </a:lnTo>
                <a:lnTo>
                  <a:pt x="21600" y="10800"/>
                </a:lnTo>
                <a:lnTo>
                  <a:pt x="12712" y="12712"/>
                </a:lnTo>
                <a:lnTo>
                  <a:pt x="10800" y="21600"/>
                </a:lnTo>
                <a:lnTo>
                  <a:pt x="8888" y="1271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611280" y="26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彩云"/>
              </a:rPr>
              <a:t>合  作  探  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5923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96268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）你能说说“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雏形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”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具体而微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”的区别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（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）眼巴巴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地等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（能换用其它词吗？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(5)“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我喜爱他们又甚于那些老鸟”一句表达了作者怎样的思想感情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11280" y="333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彩云"/>
              </a:rPr>
              <a:t>合  作  探  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5923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50920" y="600120"/>
            <a:ext cx="2233440" cy="3078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332000" y="186624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任选其中三个词语写成一段话（顺序可变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不可磨灭　玲珑剔透　硕果累累  回味无穷　多姿多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8360" y="-1771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发挥想象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st" descr="st.jpg (14773 bytes)"/>
          <p:cNvPicPr/>
          <p:nvPr/>
        </p:nvPicPr>
        <p:blipFill>
          <a:blip r:embed="rId3"/>
          <a:stretch/>
        </p:blipFill>
        <p:spPr>
          <a:xfrm>
            <a:off x="395280" y="5229360"/>
            <a:ext cx="374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 rot="317400">
            <a:off x="539280" y="259920"/>
            <a:ext cx="367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体验与反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68360" y="1440000"/>
            <a:ext cx="4608360" cy="4762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84866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为什么第一次的经验不一定都愉快？感觉不愉快的第一次就不能尝试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回忆你有哪些难忘的第一次经历，谈谈它对你后来的发展产生了怎样的影响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6156360" y="260280"/>
            <a:ext cx="2736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295280" y="914400"/>
            <a:ext cx="518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228600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4360" y="2924280"/>
            <a:ext cx="78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你现在最想尝试的第一次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什么样的第一次不能尝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8360" y="260280"/>
            <a:ext cx="22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ahoma"/>
                <a:ea typeface="方正姚体"/>
              </a:rPr>
              <a:t>拓展迁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250920" y="846000"/>
            <a:ext cx="2305080" cy="2793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103640" cy="36036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18003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84360" y="619920"/>
            <a:ext cx="338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800b8"/>
                </a:solidFill>
                <a:latin typeface="Times New Roman"/>
              </a:rPr>
              <a:t>探究学法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79640" y="3553560"/>
            <a:ext cx="51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00b8"/>
                </a:solidFill>
                <a:latin typeface="Times New Roman"/>
              </a:rPr>
              <a:t>整体感知抓文眼　　　品味情理抓关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00b8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b800b8"/>
                </a:solidFill>
                <a:latin typeface="Times New Roman"/>
              </a:rPr>
              <a:t>悟读散文贵有“我”　形散神聚抓特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2195640" cy="2305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684360" y="47628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结束语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2808360" cy="432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755640" y="39394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学们：生命中每个人确实有许多第一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一次是令人难忘的，刻骨铭心的，给我们带来了莫大的新奇和刺激，使我们至今回味无穷。第一个吃螃蟹的人，被誉为具有改革和创新的人而载入史册。今后，有益的第一次我们要寻找机会、大胆尝试；不可预料的第一次我们要勇敢地面对；有害的、消极的第一次我们要主动地避免。愿同学们努力去尝试生命中有益的第一次，让万紫千红的第一次，织成我们五彩斑斓的人生，给社会带来进步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103640" cy="3603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95280" y="656280"/>
            <a:ext cx="54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课外兴趣题：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68360" y="282636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．积累词语（抄写、注音、造句）。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．回家后，听妈妈讲自己小时侯的第一次故事，然后写成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００字的课外练笔。</a:t>
            </a:r>
            <a:br>
              <a:rPr sz="3600"/>
            </a:br>
            <a:br>
              <a:rPr sz="3600"/>
            </a:b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53080" y="404640"/>
            <a:ext cx="7898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00b8"/>
                </a:solidFill>
                <a:latin typeface="华文新魏"/>
                <a:ea typeface="华文新魏"/>
              </a:rPr>
              <a:t>学步幼儿  第一次勇敢迈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429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0" y="3498840"/>
            <a:ext cx="4356000" cy="3352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788000" y="493560"/>
            <a:ext cx="403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1969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月，阿姆斯特朗代表人类第一次登上了月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06864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感言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这一小步，对一个人来说，是小小的一步；对整个人类来说，是巨大的飞跃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0" y="549360"/>
            <a:ext cx="2286000" cy="3050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国首位宇航员登上太空的感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是祖国历史上辉煌的一页，也是我生命中最伟大一天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0"/>
            <a:ext cx="52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800b8"/>
                </a:solidFill>
                <a:latin typeface="Times New Roman"/>
              </a:rPr>
              <a:t>中国人的骄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80880" y="404640"/>
            <a:ext cx="843912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</a:rPr>
              <a:t>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形        丰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硕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稀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时     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孵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鸟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妹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柚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子        沉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甸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甸     结实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累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累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玲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珑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剔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透</a:t>
            </a:r>
            <a:r>
              <a:rPr b="1" lang="zh-CN" sz="2400" spc="-1" strike="noStrike">
                <a:solidFill>
                  <a:srgbClr val="33cccc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cc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358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3581280"/>
            <a:ext cx="4114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弄懂下列词语的意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玲珑剔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具体而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不可磨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回味无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多姿多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0968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3200" y="1066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81520" y="1066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81720" y="1066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00320" y="1066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81760" y="1066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0240" y="22096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8880" y="2209680"/>
            <a:ext cx="6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80640" y="2133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51640" y="213372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1672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924680" y="21337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检查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43280" y="4437000"/>
            <a:ext cx="630072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形容器物精致通明，结构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整个形体都已具备了，只是比较微小而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指事迹言论等将始终保留在人们的记忆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比喻回想某一事物，越想越觉得有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文指生活丰富而充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3200" y="1066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81520" y="1066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81720" y="1066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00320" y="1066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81760" y="1066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240" y="22096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28880" y="2209680"/>
            <a:ext cx="6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80640" y="2133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51640" y="213372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1672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200" y="1066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81520" y="1066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81720" y="1066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00320" y="1066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81760" y="1066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0240" y="22096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28880" y="2209680"/>
            <a:ext cx="6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80640" y="2133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51640" y="213372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51672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280" y="10526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3440" y="1052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73800" y="1066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4520" y="10526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7348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9080" y="22050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29240" y="2209680"/>
            <a:ext cx="6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681720" y="2133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47680" y="2133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16720" y="213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      ——</a:t>
            </a: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读懂文意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          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      ——</a:t>
            </a: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读清布局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      ——</a:t>
            </a: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读出意境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692360" y="195840"/>
            <a:ext cx="5904000" cy="15152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  <a:ea typeface="楷体_GB2312"/>
              </a:rPr>
              <a:t>朗读课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  <a:ea typeface="楷体_GB2312"/>
              </a:rPr>
              <a:t>初步感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0" y="6093000"/>
            <a:ext cx="9144000" cy="711000"/>
          </a:xfrm>
          <a:prstGeom prst="rect">
            <a:avLst/>
          </a:prstGeom>
          <a:solidFill>
            <a:srgbClr val="339933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0" y="6093000"/>
            <a:ext cx="9143280" cy="765000"/>
            <a:chOff x="0" y="6093000"/>
            <a:chExt cx="9143280" cy="765000"/>
          </a:xfrm>
        </p:grpSpPr>
        <p:sp>
          <p:nvSpPr>
            <p:cNvPr id="450" name=""/>
            <p:cNvSpPr/>
            <p:nvPr/>
          </p:nvSpPr>
          <p:spPr>
            <a:xfrm>
              <a:off x="0" y="6093000"/>
              <a:ext cx="9143280" cy="765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1" name="" descr=""/>
            <p:cNvPicPr/>
            <p:nvPr/>
          </p:nvPicPr>
          <p:blipFill>
            <a:blip r:embed="rId2"/>
            <a:stretch/>
          </p:blipFill>
          <p:spPr>
            <a:xfrm>
              <a:off x="222120" y="6121080"/>
              <a:ext cx="8697600" cy="70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012000" y="3357720"/>
            <a:ext cx="3132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042920" y="162864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为什么说第一次真好，好在哪里？“文眼”是哪句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作者写了她的哪些“第一次”经历？感受如何？（请划出原文词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这些第一次，作者是如何安排详略的？为什么要这样安排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0"/>
            <a:ext cx="216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ahoma"/>
                <a:ea typeface="方正姚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2087640" cy="2872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8172360" y="4581360"/>
            <a:ext cx="12589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08000" y="1562040"/>
            <a:ext cx="45720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第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次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华文新魏"/>
              </a:rPr>
              <a:t>看柚子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华文新魏"/>
              </a:rPr>
              <a:t>看孵小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去露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动手做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坐火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坐飞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看见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看到自已的作品用铅字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出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32000" y="67932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00b8"/>
                </a:solidFill>
                <a:latin typeface="Arial"/>
                <a:ea typeface="隶书"/>
              </a:rPr>
              <a:t>观察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00b8"/>
                </a:solidFill>
                <a:latin typeface="Arial"/>
                <a:ea typeface="隶书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48000" y="1628640"/>
            <a:ext cx="136836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新魏"/>
              </a:rPr>
              <a:t>植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新魏"/>
              </a:rPr>
              <a:t>动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08720" y="765000"/>
            <a:ext cx="180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00b8"/>
                </a:solidFill>
                <a:latin typeface="Times New Roman"/>
                <a:ea typeface="隶书"/>
              </a:rPr>
              <a:t>当时感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19640" y="37162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284720" y="1628640"/>
            <a:ext cx="3887280" cy="576360"/>
            <a:chOff x="4284720" y="1628640"/>
            <a:chExt cx="3887280" cy="576360"/>
          </a:xfrm>
        </p:grpSpPr>
        <p:sp>
          <p:nvSpPr>
            <p:cNvPr id="465" name=""/>
            <p:cNvSpPr/>
            <p:nvPr/>
          </p:nvSpPr>
          <p:spPr>
            <a:xfrm>
              <a:off x="4284720" y="1773360"/>
              <a:ext cx="750240" cy="215640"/>
            </a:xfrm>
            <a:prstGeom prst="rightArrow">
              <a:avLst>
                <a:gd name="adj1" fmla="val 50000"/>
                <a:gd name="adj2" fmla="val 86978"/>
              </a:avLst>
            </a:prstGeom>
            <a:solidFill>
              <a:srgbClr val="66ff33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02280" y="1628640"/>
              <a:ext cx="3069720" cy="576360"/>
            </a:xfrm>
            <a:prstGeom prst="flowChartAlternateProcess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喜悦与新奇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静态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284720" y="2421000"/>
            <a:ext cx="3960360" cy="2087640"/>
            <a:chOff x="4284720" y="2421000"/>
            <a:chExt cx="3960360" cy="2087640"/>
          </a:xfrm>
        </p:grpSpPr>
        <p:sp>
          <p:nvSpPr>
            <p:cNvPr id="468" name=""/>
            <p:cNvSpPr/>
            <p:nvPr/>
          </p:nvSpPr>
          <p:spPr>
            <a:xfrm>
              <a:off x="4284720" y="2565360"/>
              <a:ext cx="751320" cy="216000"/>
            </a:xfrm>
            <a:prstGeom prst="rightArrow">
              <a:avLst>
                <a:gd name="adj1" fmla="val 50000"/>
                <a:gd name="adj2" fmla="val 86958"/>
              </a:avLst>
            </a:prstGeom>
            <a:solidFill>
              <a:srgbClr val="66ff33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03360" y="2421000"/>
              <a:ext cx="3141720" cy="2087640"/>
            </a:xfrm>
            <a:prstGeom prst="flowChartAlternateProcess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眼巴巴地等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吃不下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喜爱</a:t>
              </a:r>
              <a:r>
                <a:rPr b="1" lang="zh-CN" sz="2400" spc="-1" strike="noStrike">
                  <a:solidFill>
                    <a:srgbClr val="ff99cc"/>
                  </a:solidFill>
                  <a:latin typeface="Times New Roman"/>
                </a:rPr>
                <a:t>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动态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8244000" y="1844640"/>
            <a:ext cx="360360" cy="1562040"/>
          </a:xfrm>
          <a:custGeom>
            <a:avLst/>
            <a:gdLst>
              <a:gd name="textAreaLeft" fmla="*/ 0 w 360360"/>
              <a:gd name="textAreaRight" fmla="*/ 129960 w 360360"/>
              <a:gd name="textAreaTop" fmla="*/ 40680 h 1562040"/>
              <a:gd name="textAreaBottom" fmla="*/ 1521360 h 15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16360" y="3645000"/>
            <a:ext cx="513000" cy="2519280"/>
          </a:xfrm>
          <a:custGeom>
            <a:avLst/>
            <a:gdLst>
              <a:gd name="textAreaLeft" fmla="*/ 0 w 513000"/>
              <a:gd name="textAreaRight" fmla="*/ 185040 w 513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8461440" y="2421000"/>
            <a:ext cx="68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8748000" y="3213000"/>
            <a:ext cx="144360" cy="1295640"/>
          </a:xfrm>
          <a:prstGeom prst="downArrow">
            <a:avLst>
              <a:gd name="adj1" fmla="val 50000"/>
              <a:gd name="adj2" fmla="val 2243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32360" y="479736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Times New Roman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6699"/>
                </a:solidFill>
                <a:latin typeface="Times New Roman"/>
                <a:ea typeface="宋体"/>
              </a:rPr>
              <a:t>详写是为了更好地突出中心；略写部分是对详写部分的补充，旨在以小见大地表现“第一次真好”的普遍意义，同时，使文章内容更加充实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0"/>
            <a:ext cx="216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方正姚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324000" y="569880"/>
            <a:ext cx="25923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78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0" y="5084640"/>
            <a:ext cx="9144000" cy="1852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珍重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第一次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让生命多姿多彩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不断向新的领域进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87640" y="981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文中最后一句说“第一次愈多，生命愈益多姿多彩。愿你珍重第一次”的含义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2592360" cy="287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539640" y="0"/>
            <a:ext cx="216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方正姚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11:54:36Z</dcterms:created>
  <dc:creator>fj</dc:creator>
  <dc:description/>
  <dc:language>en-US</dc:language>
  <cp:lastModifiedBy>jufeng</cp:lastModifiedBy>
  <dcterms:modified xsi:type="dcterms:W3CDTF">2010-11-12T07:50:06Z</dcterms:modified>
  <cp:revision>152</cp:revision>
  <dc:subject/>
  <dc:title>第一次真好</dc:title>
</cp:coreProperties>
</file>