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EB4-C2AC-4EEF-8626-E60B4F07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B1E-759A-4099-84C0-DCCD04A9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F4C7-6ACA-4F39-A7BF-775BC32B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999-5255-498C-8B4F-86C6A86A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DBD2-378A-4AD5-B65F-9681BF98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E30B-B0EF-4B15-A5D7-4A320DA6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BDCE-69F7-4B2A-8FC0-61056626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06E0-A05A-4138-9ACA-6D691150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AE02-9579-4C9F-9827-33B5A05A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8F09-D004-47EC-9522-52D861BC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44CD-9B0D-49AB-B4B5-1677CF1C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ACA-172F-41AA-8D38-3EE1629E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448D-607F-47C0-869E-D8D53A7C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9C95-2746-4492-962A-42EB2E6B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A114-B469-48D8-9BD2-A222A721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305A-5280-41E1-A3E9-C4960C49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7F09-6404-4B0F-85ED-C4CBEB5A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98A-E120-4E75-A14D-87BCFE30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FB6-D1A0-4E71-A70D-C1F3DC77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2928-A17C-479F-BF34-A482A9C1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3CC-7665-4273-A314-C11541D5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F3C-A31C-45AC-8735-80ECF5B4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0B0-5E72-402A-8444-7B098C18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094-D81D-475F-99EA-EC18FD37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2623-E3D7-4911-9767-AB450F646F1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8B64-5CB5-4BA1-AAE7-ADD0D50A06F9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13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情势危急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2682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魏兵来速快，出乎意料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忽然”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气势盛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蜂拥而来”，“尘土冲天”，“分两路望西城县杀来”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357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双方力量极其悬殊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司马懿引大军十五万”，“孔明身边别无大将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…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只剩二千五百军在城中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58972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众官表情侧面烘托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从官尽皆失色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3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课文的发展部分与高潮部分都写到“空城计”，是否重复？为什么？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9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不重复。这两次写空城计，虽内容大体相同，但描写时有区别。第一次是写孔明传令，是孔明的具体部署，突出他的大智大勇。而第二次是司马懿眼中看到的，更加入了一些生动的细节描写。如：孔明“笑容可掬”；“旁若无人”，这些描写渲染了一种安闲、镇定的气氛，使得“空城计“的场面更加生动、逼真。使得司马懿”大疑“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700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黑体"/>
              </a:rPr>
              <a:t>司马懿和孔明都对空城计做了解释，叙说的内容一致，甚至用词也多有相同，作者这样描写的用意是什么？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549360"/>
            <a:ext cx="86421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司马懿对空城计的解释：“亮平生谨慎，不曾弄险”说明司马懿十分的了解诸葛亮，所以退兵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孔明对空城计的解释：“此人料吾平生谨慎，必不弄险”，说明孔明了解自己，又了解司马懿，更知道司马懿对自己的认识，可谓是“知己知彼”。他正是利用了司马懿对自己平时的认识，施“空城计”，解了西城之围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讨论：诸葛亮弄险成功，主要原因是什么？司马懿失败原因是什么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诸葛亮弄险成功的原因包括两方面，但主要原因在于诸葛亮知己知彼，他对司马懿可以说是了如指掌，甚至对司马懿见到空城之后怎么想、怎么说、怎么做都事先想到了，故此能险中取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司马懿虽是魏之名将，并与诸葛亮打过多次交道，了解诸葛亮的性格，但他对诸葛亮的了解不够全面，加上他刚愎自用，导致他中计失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072720" cy="5946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03280" y="981000"/>
            <a:ext cx="64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空城计之险让人惊叹，诸葛亮之智让人折服。毛主席曾说：“生子如仲谋，交友如鲁达，信心如唐僧，读书就读四大名著”。让我们多一些阅读，这样会还给我们更多的感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介绍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《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三国演义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》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《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三国演义</a:t>
            </a: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》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是我国四大名著之一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，是我国第一部长篇小说作品。主要写了魏、蜀、吴三国的兴衰历程，塑造了一系列生动鲜明的人物形象。在中国文学史上和人民生活中具有不可估量的影响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作者罗贯中，元末明初小说家、戏曲家。名本，字贯中，号湖海散人。山西太原人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125360"/>
            <a:ext cx="922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在</a:t>
            </a:r>
            <a:r>
              <a:rPr b="1" lang="en-US" sz="7200" spc="-1" strike="noStrike">
                <a:solidFill>
                  <a:srgbClr val="3366ff"/>
                </a:solidFill>
                <a:latin typeface="黑体"/>
                <a:ea typeface="黑体"/>
              </a:rPr>
              <a:t>《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三国演义</a:t>
            </a:r>
            <a:r>
              <a:rPr b="1" lang="en-US" sz="7200" spc="-1" strike="noStrike">
                <a:solidFill>
                  <a:srgbClr val="3366ff"/>
                </a:solidFill>
                <a:latin typeface="黑体"/>
                <a:ea typeface="黑体"/>
              </a:rPr>
              <a:t>》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众多的人物中，你最喜欢谁？喜欢他的什么？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692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小说三要素：人物     情节    环境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情  节：  开端  发展  高潮  结局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阅读小说的主要方法：通过环境、情节的分析来理解和把握人物形象</a:t>
            </a: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。    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43120" y="1633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75d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请用一句话                              概括这篇课文的主要内容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628640"/>
            <a:ext cx="2895480" cy="792360"/>
          </a:xfrm>
          <a:prstGeom prst="wedgeEllipseCallout">
            <a:avLst>
              <a:gd name="adj1" fmla="val -44625"/>
              <a:gd name="adj2" fmla="val 129157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方法指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3141720"/>
          <a:ext cx="8381880" cy="1843200"/>
        </p:xfrm>
        <a:graphic>
          <a:graphicData uri="http://schemas.openxmlformats.org/drawingml/2006/table">
            <a:tbl>
              <a:tblPr/>
              <a:tblGrid>
                <a:gridCol w="2209680"/>
                <a:gridCol w="3124080"/>
                <a:gridCol w="3048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谁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干什么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怎么样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02800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主页</a:t>
            </a:r>
            <a:endParaRPr b="0" lang="en-US" sz="1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分析情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2193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找出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关键词句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组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关键词句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再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提炼压缩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05120"/>
            <a:ext cx="2286000" cy="4495680"/>
          </a:xfrm>
          <a:prstGeom prst="wedgeEllipseCallout">
            <a:avLst>
              <a:gd name="adj1" fmla="val 36597"/>
              <a:gd name="adj2" fmla="val -55722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司马懿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十五万大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望西城而来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孔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只剩二千五百人在城中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590920"/>
            <a:ext cx="3124440" cy="1828800"/>
          </a:xfrm>
          <a:prstGeom prst="wedgeRoundRectCallout">
            <a:avLst>
              <a:gd name="adj1" fmla="val -28861"/>
              <a:gd name="adj2" fmla="val -92537"/>
              <a:gd name="adj3" fmla="val 16667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司马懿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十五万大军兵临西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1981080"/>
            <a:ext cx="1219320" cy="3353040"/>
          </a:xfrm>
          <a:prstGeom prst="wedgeEllipseCallout">
            <a:avLst>
              <a:gd name="adj1" fmla="val -39194"/>
              <a:gd name="adj2" fmla="val -60462"/>
            </a:avLst>
          </a:prstGeom>
          <a:solidFill>
            <a:srgbClr val="75df7d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兵临西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581280"/>
            <a:ext cx="838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505320"/>
            <a:ext cx="12189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304920"/>
            <a:ext cx="1447920" cy="914400"/>
          </a:xfrm>
          <a:prstGeom prst="wedgeEllipseCallout">
            <a:avLst>
              <a:gd name="adj1" fmla="val -151865"/>
              <a:gd name="adj2" fmla="val 45662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方法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4724280"/>
            <a:ext cx="297180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第一部分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557360"/>
            <a:ext cx="7391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开端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发展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高潮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结局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14560" y="1557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兵临城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7432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4560" y="24210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临危施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60560" y="3352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3-4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司马中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43657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5-6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孔明释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6028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分析故事情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70028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诸葛亮为何施用空城计？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411280" cy="147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80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141720"/>
            <a:ext cx="81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从何处看出当时的情势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十分的危急？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edu.com</dc:creator>
  <dc:description>www.dearedu.com</dc:description>
  <cp:keywords>www.dearedu.com</cp:keywords>
  <dc:language>en-US</dc:language>
  <cp:lastModifiedBy>番茄花园</cp:lastModifiedBy>
  <dcterms:modified xsi:type="dcterms:W3CDTF">2010-05-07T06:24:02Z</dcterms:modified>
  <cp:revision>1</cp:revision>
  <dc:subject>www.dearedu.com</dc:subject>
  <dc:title>www.dearedu.com</dc:title>
</cp:coreProperties>
</file>